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5989-918D-4DDF-9CEA-2637D974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8911-932C-46E3-A74D-39DF4F03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AE26-D770-4881-936B-FFCF2C0EF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8C49-9A96-44FC-956E-BD5EFDC2C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8D34-A36B-4B48-8622-1093B118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75BD-70DD-4EAC-92B0-406C238B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559A-79E5-43B8-B840-88332982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C36A-0300-49E8-B450-4B980B24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540A-775C-4E51-B0FE-23A734EA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2980-C9EF-4C9C-82FB-3F4650D0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1F02-9E91-4FB1-9D0C-1C12D219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0BD8-F9BC-4A96-A6EC-A320B087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175D-3914-4429-BC8B-BBD8191A67D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13.wmf"/><Relationship Id="rId7" Type="http://schemas.openxmlformats.org/officeDocument/2006/relationships/image" Target="../media/image26.wmf"/><Relationship Id="rId8" Type="http://schemas.openxmlformats.org/officeDocument/2006/relationships/image" Target="../media/image32.wmf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image" Target="../media/image15.wmf"/><Relationship Id="rId1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1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-468360"/>
            <a:ext cx="6858000" cy="9612360"/>
            <a:chOff x="0" y="-468360"/>
            <a:chExt cx="6858000" cy="961236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08720" y="-45720"/>
              <a:ext cx="6749280" cy="918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" name=""/>
            <p:cNvGrpSpPr/>
            <p:nvPr/>
          </p:nvGrpSpPr>
          <p:grpSpPr>
            <a:xfrm>
              <a:off x="0" y="-468360"/>
              <a:ext cx="6546240" cy="9013320"/>
              <a:chOff x="0" y="-468360"/>
              <a:chExt cx="6546240" cy="9013320"/>
            </a:xfrm>
          </p:grpSpPr>
          <p:grpSp>
            <p:nvGrpSpPr>
              <p:cNvPr id="44" name=""/>
              <p:cNvGrpSpPr/>
              <p:nvPr/>
            </p:nvGrpSpPr>
            <p:grpSpPr>
              <a:xfrm>
                <a:off x="0" y="904680"/>
                <a:ext cx="6546240" cy="7640280"/>
                <a:chOff x="0" y="904680"/>
                <a:chExt cx="6546240" cy="7640280"/>
              </a:xfrm>
            </p:grpSpPr>
            <p:grpSp>
              <p:nvGrpSpPr>
                <p:cNvPr id="45" name=""/>
                <p:cNvGrpSpPr/>
                <p:nvPr/>
              </p:nvGrpSpPr>
              <p:grpSpPr>
                <a:xfrm>
                  <a:off x="1632600" y="904680"/>
                  <a:ext cx="4913640" cy="7605000"/>
                  <a:chOff x="1632600" y="904680"/>
                  <a:chExt cx="4913640" cy="7605000"/>
                </a:xfrm>
              </p:grpSpPr>
              <p:grpSp>
                <p:nvGrpSpPr>
                  <p:cNvPr id="46" name=""/>
                  <p:cNvGrpSpPr/>
                  <p:nvPr/>
                </p:nvGrpSpPr>
                <p:grpSpPr>
                  <a:xfrm>
                    <a:off x="1632600" y="904680"/>
                    <a:ext cx="4913640" cy="633600"/>
                    <a:chOff x="1632600" y="904680"/>
                    <a:chExt cx="4913640" cy="633600"/>
                  </a:xfrm>
                </p:grpSpPr>
                <p:sp>
                  <p:nvSpPr>
                    <p:cNvPr id="47" name=""/>
                    <p:cNvSpPr/>
                    <p:nvPr/>
                  </p:nvSpPr>
                  <p:spPr>
                    <a:xfrm>
                      <a:off x="5322960" y="904680"/>
                      <a:ext cx="1223280" cy="633600"/>
                    </a:xfrm>
                    <a:prstGeom prst="rect">
                      <a:avLst/>
                    </a:prstGeom>
                    <a:solidFill>
                      <a:srgbClr val="ffffff">
                        <a:alpha val="40000"/>
                      </a:srgbClr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حر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" name=""/>
                    <p:cNvSpPr/>
                    <p:nvPr/>
                  </p:nvSpPr>
                  <p:spPr>
                    <a:xfrm>
                      <a:off x="4079520" y="904680"/>
                      <a:ext cx="1223640" cy="633600"/>
                    </a:xfrm>
                    <a:prstGeom prst="rect">
                      <a:avLst/>
                    </a:prstGeom>
                    <a:solidFill>
                      <a:srgbClr val="ffffff">
                        <a:alpha val="40000"/>
                      </a:srgbClr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فت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" name=""/>
                    <p:cNvSpPr/>
                    <p:nvPr/>
                  </p:nvSpPr>
                  <p:spPr>
                    <a:xfrm>
                      <a:off x="2855880" y="904680"/>
                      <a:ext cx="1223640" cy="633600"/>
                    </a:xfrm>
                    <a:prstGeom prst="rect">
                      <a:avLst/>
                    </a:prstGeom>
                    <a:solidFill>
                      <a:srgbClr val="ffffff">
                        <a:alpha val="40000"/>
                      </a:srgbClr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ض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" name=""/>
                    <p:cNvSpPr/>
                    <p:nvPr/>
                  </p:nvSpPr>
                  <p:spPr>
                    <a:xfrm>
                      <a:off x="1632600" y="904680"/>
                      <a:ext cx="1223280" cy="633600"/>
                    </a:xfrm>
                    <a:prstGeom prst="rect">
                      <a:avLst/>
                    </a:prstGeom>
                    <a:solidFill>
                      <a:srgbClr val="ffffff">
                        <a:alpha val="40000"/>
                      </a:srgbClr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</a:t>
                      </a:r>
                      <a:r>
                        <a:rPr b="0" lang="ar-AE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كس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" name=""/>
                  <p:cNvGrpSpPr/>
                  <p:nvPr/>
                </p:nvGrpSpPr>
                <p:grpSpPr>
                  <a:xfrm>
                    <a:off x="1632600" y="1749600"/>
                    <a:ext cx="4913640" cy="6760080"/>
                    <a:chOff x="1632600" y="1749600"/>
                    <a:chExt cx="4913640" cy="6760080"/>
                  </a:xfrm>
                </p:grpSpPr>
                <p:grpSp>
                  <p:nvGrpSpPr>
                    <p:cNvPr id="52" name=""/>
                    <p:cNvGrpSpPr/>
                    <p:nvPr/>
                  </p:nvGrpSpPr>
                  <p:grpSpPr>
                    <a:xfrm>
                      <a:off x="1632600" y="1749600"/>
                      <a:ext cx="4913640" cy="3380040"/>
                      <a:chOff x="1632600" y="1749600"/>
                      <a:chExt cx="4913640" cy="3380040"/>
                    </a:xfrm>
                  </p:grpSpPr>
                  <p:grpSp>
                    <p:nvGrpSpPr>
                      <p:cNvPr id="53" name=""/>
                      <p:cNvGrpSpPr/>
                      <p:nvPr/>
                    </p:nvGrpSpPr>
                    <p:grpSpPr>
                      <a:xfrm>
                        <a:off x="1632600" y="1749600"/>
                        <a:ext cx="4913640" cy="482760"/>
                        <a:chOff x="1632600" y="1749600"/>
                        <a:chExt cx="4913640" cy="482760"/>
                      </a:xfrm>
                    </p:grpSpPr>
                    <p:sp>
                      <p:nvSpPr>
                        <p:cNvPr id="54" name=""/>
                        <p:cNvSpPr/>
                        <p:nvPr/>
                      </p:nvSpPr>
                      <p:spPr>
                        <a:xfrm>
                          <a:off x="5322960" y="1749600"/>
                          <a:ext cx="122328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ar-SA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cs typeface="Times New Roman"/>
                            </a:rPr>
                            <a:t>أ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" name=""/>
                        <p:cNvSpPr/>
                        <p:nvPr/>
                      </p:nvSpPr>
                      <p:spPr>
                        <a:xfrm>
                          <a:off x="4079520" y="1749600"/>
                          <a:ext cx="122364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ar-SA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cs typeface="Times New Roman"/>
                            </a:rPr>
                            <a:t>أ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" name=""/>
                        <p:cNvSpPr/>
                        <p:nvPr/>
                      </p:nvSpPr>
                      <p:spPr>
                        <a:xfrm>
                          <a:off x="2855880" y="1749600"/>
                          <a:ext cx="122364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ar-SA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cs typeface="Times New Roman"/>
                            </a:rPr>
                            <a:t>أ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" name=""/>
                        <p:cNvSpPr/>
                        <p:nvPr/>
                      </p:nvSpPr>
                      <p:spPr>
                        <a:xfrm>
                          <a:off x="1632600" y="1749600"/>
                          <a:ext cx="122328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ar-AE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cs typeface="Times New Roman"/>
                            </a:rPr>
                            <a:t>إ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8" name=""/>
                      <p:cNvGrpSpPr/>
                      <p:nvPr/>
                    </p:nvGrpSpPr>
                    <p:grpSpPr>
                      <a:xfrm>
                        <a:off x="1632600" y="2232360"/>
                        <a:ext cx="4913640" cy="482760"/>
                        <a:chOff x="1632600" y="2232360"/>
                        <a:chExt cx="4913640" cy="482760"/>
                      </a:xfrm>
                    </p:grpSpPr>
                    <p:sp>
                      <p:nvSpPr>
                        <p:cNvPr id="59" name=""/>
                        <p:cNvSpPr/>
                        <p:nvPr/>
                      </p:nvSpPr>
                      <p:spPr>
                        <a:xfrm>
                          <a:off x="5322960" y="2232360"/>
                          <a:ext cx="122328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ar-SA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cs typeface="Times New Roman"/>
                            </a:rPr>
                            <a:t>ب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" name=""/>
                        <p:cNvSpPr/>
                        <p:nvPr/>
                      </p:nvSpPr>
                      <p:spPr>
                        <a:xfrm>
                          <a:off x="4079520" y="2232360"/>
                          <a:ext cx="122364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" name=""/>
                        <p:cNvSpPr/>
                        <p:nvPr/>
                      </p:nvSpPr>
                      <p:spPr>
                        <a:xfrm>
                          <a:off x="2855880" y="2232360"/>
                          <a:ext cx="122364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>
                          <a:off x="1632600" y="2232360"/>
                          <a:ext cx="122328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3" name=""/>
                      <p:cNvGrpSpPr/>
                      <p:nvPr/>
                    </p:nvGrpSpPr>
                    <p:grpSpPr>
                      <a:xfrm>
                        <a:off x="1632600" y="2715120"/>
                        <a:ext cx="4913640" cy="482760"/>
                        <a:chOff x="1632600" y="2715120"/>
                        <a:chExt cx="4913640" cy="482760"/>
                      </a:xfrm>
                    </p:grpSpPr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>
                          <a:off x="5322960" y="2715120"/>
                          <a:ext cx="122328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ar-SA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cs typeface="Times New Roman"/>
                            </a:rPr>
                            <a:t>ت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>
                          <a:off x="4079520" y="2715120"/>
                          <a:ext cx="122364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>
                          <a:off x="2855880" y="2715120"/>
                          <a:ext cx="122364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>
                          <a:off x="1632600" y="2715120"/>
                          <a:ext cx="122328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8" name=""/>
                      <p:cNvGrpSpPr/>
                      <p:nvPr/>
                    </p:nvGrpSpPr>
                    <p:grpSpPr>
                      <a:xfrm>
                        <a:off x="1632600" y="3198240"/>
                        <a:ext cx="4913640" cy="482760"/>
                        <a:chOff x="1632600" y="3198240"/>
                        <a:chExt cx="4913640" cy="482760"/>
                      </a:xfrm>
                    </p:grpSpPr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>
                          <a:off x="5322960" y="3198240"/>
                          <a:ext cx="122328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ar-SA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cs typeface="Times New Roman"/>
                            </a:rPr>
                            <a:t>ث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>
                          <a:off x="4079520" y="3198240"/>
                          <a:ext cx="122364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>
                          <a:off x="2855880" y="3198240"/>
                          <a:ext cx="122364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>
                          <a:off x="1632600" y="3198240"/>
                          <a:ext cx="122328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3" name=""/>
                      <p:cNvGrpSpPr/>
                      <p:nvPr/>
                    </p:nvGrpSpPr>
                    <p:grpSpPr>
                      <a:xfrm>
                        <a:off x="1632600" y="3681000"/>
                        <a:ext cx="4913640" cy="482760"/>
                        <a:chOff x="1632600" y="3681000"/>
                        <a:chExt cx="4913640" cy="482760"/>
                      </a:xfrm>
                    </p:grpSpPr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5322960" y="3681000"/>
                          <a:ext cx="122328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ar-SA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cs typeface="Times New Roman"/>
                            </a:rPr>
                            <a:t>ج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>
                          <a:off x="4079520" y="3681000"/>
                          <a:ext cx="122364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>
                          <a:off x="2855880" y="3681000"/>
                          <a:ext cx="122364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>
                          <a:off x="1632600" y="3681000"/>
                          <a:ext cx="122328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8" name=""/>
                      <p:cNvGrpSpPr/>
                      <p:nvPr/>
                    </p:nvGrpSpPr>
                    <p:grpSpPr>
                      <a:xfrm>
                        <a:off x="1632600" y="4164120"/>
                        <a:ext cx="4913640" cy="482760"/>
                        <a:chOff x="1632600" y="4164120"/>
                        <a:chExt cx="4913640" cy="482760"/>
                      </a:xfrm>
                    </p:grpSpPr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>
                          <a:off x="5322960" y="4164120"/>
                          <a:ext cx="122328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ar-SA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cs typeface="Times New Roman"/>
                            </a:rPr>
                            <a:t>ح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>
                          <a:off x="4079520" y="4164120"/>
                          <a:ext cx="122364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>
                          <a:off x="2855880" y="4164120"/>
                          <a:ext cx="122364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>
                          <a:off x="1632600" y="4164120"/>
                          <a:ext cx="122328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83" name=""/>
                      <p:cNvGrpSpPr/>
                      <p:nvPr/>
                    </p:nvGrpSpPr>
                    <p:grpSpPr>
                      <a:xfrm>
                        <a:off x="1632600" y="4646880"/>
                        <a:ext cx="4913640" cy="482760"/>
                        <a:chOff x="1632600" y="4646880"/>
                        <a:chExt cx="4913640" cy="482760"/>
                      </a:xfrm>
                    </p:grpSpPr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>
                          <a:off x="5322960" y="4646880"/>
                          <a:ext cx="122328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ar-SA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cs typeface="Times New Roman"/>
                            </a:rPr>
                            <a:t>خ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>
                          <a:off x="4079520" y="4646880"/>
                          <a:ext cx="122364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>
                          <a:off x="2855880" y="4646880"/>
                          <a:ext cx="122364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>
                          <a:off x="1632600" y="4646880"/>
                          <a:ext cx="122328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8" name=""/>
                    <p:cNvGrpSpPr/>
                    <p:nvPr/>
                  </p:nvGrpSpPr>
                  <p:grpSpPr>
                    <a:xfrm>
                      <a:off x="1632600" y="5129640"/>
                      <a:ext cx="4913640" cy="3380040"/>
                      <a:chOff x="1632600" y="5129640"/>
                      <a:chExt cx="4913640" cy="3380040"/>
                    </a:xfrm>
                  </p:grpSpPr>
                  <p:grpSp>
                    <p:nvGrpSpPr>
                      <p:cNvPr id="89" name=""/>
                      <p:cNvGrpSpPr/>
                      <p:nvPr/>
                    </p:nvGrpSpPr>
                    <p:grpSpPr>
                      <a:xfrm>
                        <a:off x="1632600" y="5129640"/>
                        <a:ext cx="4913640" cy="482760"/>
                        <a:chOff x="1632600" y="5129640"/>
                        <a:chExt cx="4913640" cy="482760"/>
                      </a:xfrm>
                    </p:grpSpPr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>
                          <a:off x="5322960" y="5129640"/>
                          <a:ext cx="122328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ar-SA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cs typeface="Times New Roman"/>
                            </a:rPr>
                            <a:t>د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>
                          <a:off x="4079520" y="5129640"/>
                          <a:ext cx="122364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>
                          <a:off x="2855880" y="5129640"/>
                          <a:ext cx="122364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>
                          <a:off x="1632600" y="5129640"/>
                          <a:ext cx="122328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4" name=""/>
                      <p:cNvGrpSpPr/>
                      <p:nvPr/>
                    </p:nvGrpSpPr>
                    <p:grpSpPr>
                      <a:xfrm>
                        <a:off x="1632600" y="5612400"/>
                        <a:ext cx="4913640" cy="482760"/>
                        <a:chOff x="1632600" y="5612400"/>
                        <a:chExt cx="4913640" cy="482760"/>
                      </a:xfrm>
                    </p:grpSpPr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>
                          <a:off x="5322960" y="5612400"/>
                          <a:ext cx="122328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ar-SA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cs typeface="Times New Roman"/>
                            </a:rPr>
                            <a:t>ذ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>
                          <a:off x="4079520" y="5612400"/>
                          <a:ext cx="122364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>
                          <a:off x="2855880" y="5612400"/>
                          <a:ext cx="122364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" name=""/>
                        <p:cNvSpPr/>
                        <p:nvPr/>
                      </p:nvSpPr>
                      <p:spPr>
                        <a:xfrm>
                          <a:off x="1632600" y="5612400"/>
                          <a:ext cx="122328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9" name=""/>
                      <p:cNvGrpSpPr/>
                      <p:nvPr/>
                    </p:nvGrpSpPr>
                    <p:grpSpPr>
                      <a:xfrm>
                        <a:off x="1632600" y="6095160"/>
                        <a:ext cx="4913640" cy="482760"/>
                        <a:chOff x="1632600" y="6095160"/>
                        <a:chExt cx="4913640" cy="482760"/>
                      </a:xfrm>
                    </p:grpSpPr>
                    <p:sp>
                      <p:nvSpPr>
                        <p:cNvPr id="100" name=""/>
                        <p:cNvSpPr/>
                        <p:nvPr/>
                      </p:nvSpPr>
                      <p:spPr>
                        <a:xfrm>
                          <a:off x="5322960" y="6095160"/>
                          <a:ext cx="122328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ar-SA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cs typeface="Times New Roman"/>
                            </a:rPr>
                            <a:t>ر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" name=""/>
                        <p:cNvSpPr/>
                        <p:nvPr/>
                      </p:nvSpPr>
                      <p:spPr>
                        <a:xfrm>
                          <a:off x="4079520" y="6095160"/>
                          <a:ext cx="122364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" name=""/>
                        <p:cNvSpPr/>
                        <p:nvPr/>
                      </p:nvSpPr>
                      <p:spPr>
                        <a:xfrm>
                          <a:off x="2855880" y="6095160"/>
                          <a:ext cx="122364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" name=""/>
                        <p:cNvSpPr/>
                        <p:nvPr/>
                      </p:nvSpPr>
                      <p:spPr>
                        <a:xfrm>
                          <a:off x="1632600" y="6095160"/>
                          <a:ext cx="122328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4" name=""/>
                      <p:cNvGrpSpPr/>
                      <p:nvPr/>
                    </p:nvGrpSpPr>
                    <p:grpSpPr>
                      <a:xfrm>
                        <a:off x="1632600" y="6578280"/>
                        <a:ext cx="4913640" cy="482760"/>
                        <a:chOff x="1632600" y="6578280"/>
                        <a:chExt cx="4913640" cy="482760"/>
                      </a:xfrm>
                    </p:grpSpPr>
                    <p:sp>
                      <p:nvSpPr>
                        <p:cNvPr id="105" name=""/>
                        <p:cNvSpPr/>
                        <p:nvPr/>
                      </p:nvSpPr>
                      <p:spPr>
                        <a:xfrm>
                          <a:off x="5322960" y="6578280"/>
                          <a:ext cx="122328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ar-SA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cs typeface="Times New Roman"/>
                            </a:rPr>
                            <a:t>ز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" name=""/>
                        <p:cNvSpPr/>
                        <p:nvPr/>
                      </p:nvSpPr>
                      <p:spPr>
                        <a:xfrm>
                          <a:off x="4079520" y="6578280"/>
                          <a:ext cx="122364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" name=""/>
                        <p:cNvSpPr/>
                        <p:nvPr/>
                      </p:nvSpPr>
                      <p:spPr>
                        <a:xfrm>
                          <a:off x="2855880" y="6578280"/>
                          <a:ext cx="122364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" name=""/>
                        <p:cNvSpPr/>
                        <p:nvPr/>
                      </p:nvSpPr>
                      <p:spPr>
                        <a:xfrm>
                          <a:off x="1632600" y="6578280"/>
                          <a:ext cx="122328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09" name=""/>
                      <p:cNvGrpSpPr/>
                      <p:nvPr/>
                    </p:nvGrpSpPr>
                    <p:grpSpPr>
                      <a:xfrm>
                        <a:off x="1632600" y="7061040"/>
                        <a:ext cx="4913640" cy="482760"/>
                        <a:chOff x="1632600" y="7061040"/>
                        <a:chExt cx="4913640" cy="482760"/>
                      </a:xfrm>
                    </p:grpSpPr>
                    <p:sp>
                      <p:nvSpPr>
                        <p:cNvPr id="110" name=""/>
                        <p:cNvSpPr/>
                        <p:nvPr/>
                      </p:nvSpPr>
                      <p:spPr>
                        <a:xfrm>
                          <a:off x="5322960" y="7061040"/>
                          <a:ext cx="122328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ar-SA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cs typeface="Times New Roman"/>
                            </a:rPr>
                            <a:t>س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"/>
                        <p:cNvSpPr/>
                        <p:nvPr/>
                      </p:nvSpPr>
                      <p:spPr>
                        <a:xfrm>
                          <a:off x="4079520" y="7061040"/>
                          <a:ext cx="122364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"/>
                        <p:cNvSpPr/>
                        <p:nvPr/>
                      </p:nvSpPr>
                      <p:spPr>
                        <a:xfrm>
                          <a:off x="2855880" y="7061040"/>
                          <a:ext cx="122364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"/>
                        <p:cNvSpPr/>
                        <p:nvPr/>
                      </p:nvSpPr>
                      <p:spPr>
                        <a:xfrm>
                          <a:off x="1632600" y="7061040"/>
                          <a:ext cx="122328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14" name=""/>
                      <p:cNvGrpSpPr/>
                      <p:nvPr/>
                    </p:nvGrpSpPr>
                    <p:grpSpPr>
                      <a:xfrm>
                        <a:off x="1632600" y="7544160"/>
                        <a:ext cx="4913640" cy="482760"/>
                        <a:chOff x="1632600" y="7544160"/>
                        <a:chExt cx="4913640" cy="482760"/>
                      </a:xfrm>
                    </p:grpSpPr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>
                          <a:off x="5322960" y="7544160"/>
                          <a:ext cx="122328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ar-SA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cs typeface="Times New Roman"/>
                            </a:rPr>
                            <a:t>ش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>
                          <a:off x="4079520" y="7544160"/>
                          <a:ext cx="122364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2855880" y="7544160"/>
                          <a:ext cx="122364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"/>
                        <p:cNvSpPr/>
                        <p:nvPr/>
                      </p:nvSpPr>
                      <p:spPr>
                        <a:xfrm>
                          <a:off x="1632600" y="7544160"/>
                          <a:ext cx="122328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19" name=""/>
                      <p:cNvGrpSpPr/>
                      <p:nvPr/>
                    </p:nvGrpSpPr>
                    <p:grpSpPr>
                      <a:xfrm>
                        <a:off x="1632600" y="8026920"/>
                        <a:ext cx="4913640" cy="482760"/>
                        <a:chOff x="1632600" y="8026920"/>
                        <a:chExt cx="4913640" cy="482760"/>
                      </a:xfrm>
                    </p:grpSpPr>
                    <p:sp>
                      <p:nvSpPr>
                        <p:cNvPr id="120" name=""/>
                        <p:cNvSpPr/>
                        <p:nvPr/>
                      </p:nvSpPr>
                      <p:spPr>
                        <a:xfrm>
                          <a:off x="5322960" y="8026920"/>
                          <a:ext cx="122328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ar-SA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cs typeface="Times New Roman"/>
                            </a:rPr>
                            <a:t>ص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"/>
                        <p:cNvSpPr/>
                        <p:nvPr/>
                      </p:nvSpPr>
                      <p:spPr>
                        <a:xfrm>
                          <a:off x="4079520" y="8026920"/>
                          <a:ext cx="122364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"/>
                        <p:cNvSpPr/>
                        <p:nvPr/>
                      </p:nvSpPr>
                      <p:spPr>
                        <a:xfrm>
                          <a:off x="2855880" y="8026920"/>
                          <a:ext cx="122364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"/>
                        <p:cNvSpPr/>
                        <p:nvPr/>
                      </p:nvSpPr>
                      <p:spPr>
                        <a:xfrm>
                          <a:off x="1632600" y="8026920"/>
                          <a:ext cx="1223280" cy="48276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24" name=""/>
                  <p:cNvGrpSpPr/>
                  <p:nvPr/>
                </p:nvGrpSpPr>
                <p:grpSpPr>
                  <a:xfrm>
                    <a:off x="2453040" y="1314360"/>
                    <a:ext cx="3116880" cy="658800"/>
                    <a:chOff x="2453040" y="1314360"/>
                    <a:chExt cx="3116880" cy="658800"/>
                  </a:xfrm>
                </p:grpSpPr>
                <p:sp>
                  <p:nvSpPr>
                    <p:cNvPr id="125" name=""/>
                    <p:cNvSpPr/>
                    <p:nvPr/>
                  </p:nvSpPr>
                  <p:spPr>
                    <a:xfrm rot="5249400">
                      <a:off x="4945320" y="1349280"/>
                      <a:ext cx="633600" cy="588240"/>
                    </a:xfrm>
                    <a:prstGeom prst="blockArc">
                      <a:avLst>
                        <a:gd name="adj1" fmla="val 10800000"/>
                        <a:gd name="adj2" fmla="val 0"/>
                        <a:gd name="adj3" fmla="val 25000"/>
                      </a:avLst>
                    </a:pr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 rot="5249400">
                      <a:off x="3694320" y="1349280"/>
                      <a:ext cx="633600" cy="588240"/>
                    </a:xfrm>
                    <a:prstGeom prst="blockArc">
                      <a:avLst>
                        <a:gd name="adj1" fmla="val 10800000"/>
                        <a:gd name="adj2" fmla="val 0"/>
                        <a:gd name="adj3" fmla="val 25000"/>
                      </a:avLst>
                    </a:pr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 rot="5249400">
                      <a:off x="2443680" y="1349280"/>
                      <a:ext cx="633600" cy="588240"/>
                    </a:xfrm>
                    <a:prstGeom prst="blockArc">
                      <a:avLst>
                        <a:gd name="adj1" fmla="val 10800000"/>
                        <a:gd name="adj2" fmla="val 0"/>
                        <a:gd name="adj3" fmla="val 25000"/>
                      </a:avLst>
                    </a:pr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pic>
              <p:nvPicPr>
                <p:cNvPr id="12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5024160"/>
                  <a:ext cx="1748160" cy="3520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17440" y="1644120"/>
                  <a:ext cx="2136960" cy="2957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0" name=""/>
              <p:cNvGrpSpPr/>
              <p:nvPr/>
            </p:nvGrpSpPr>
            <p:grpSpPr>
              <a:xfrm>
                <a:off x="979560" y="-468360"/>
                <a:ext cx="5509800" cy="1373040"/>
                <a:chOff x="979560" y="-468360"/>
                <a:chExt cx="5509800" cy="13730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979560" y="59760"/>
                  <a:ext cx="4572000" cy="527760"/>
                </a:xfrm>
                <a:prstGeom prst="rect">
                  <a:avLst/>
                </a:prstGeom>
                <a:solidFill>
                  <a:srgbClr val="ffffff">
                    <a:alpha val="40000"/>
                  </a:srgbClr>
                </a:solidFill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هيا يا صغيرتي نكتب الحروف الهجائية مع حركاتها</a:t>
                  </a:r>
                  <a:r>
                    <a:rPr b="0" lang="ar-SA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ar-SA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3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333760" y="-468360"/>
                  <a:ext cx="1155600" cy="1373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5" name="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pic>
          <p:nvPicPr>
            <p:cNvPr id="111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0" cy="914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7" name=""/>
            <p:cNvGrpSpPr/>
            <p:nvPr/>
          </p:nvGrpSpPr>
          <p:grpSpPr>
            <a:xfrm>
              <a:off x="331920" y="0"/>
              <a:ext cx="6083640" cy="8738640"/>
              <a:chOff x="331920" y="0"/>
              <a:chExt cx="6083640" cy="8738640"/>
            </a:xfrm>
          </p:grpSpPr>
          <p:sp>
            <p:nvSpPr>
              <p:cNvPr id="1118" name=""/>
              <p:cNvSpPr/>
              <p:nvPr/>
            </p:nvSpPr>
            <p:spPr>
              <a:xfrm>
                <a:off x="808920" y="0"/>
                <a:ext cx="5606640" cy="1155960"/>
              </a:xfrm>
              <a:prstGeom prst="wedgeEllipseCallout">
                <a:avLst>
                  <a:gd name="adj1" fmla="val -6560"/>
                  <a:gd name="adj2" fmla="val 101967"/>
                </a:avLst>
              </a:prstGeom>
              <a:gradFill rotWithShape="0">
                <a:gsLst>
                  <a:gs pos="0">
                    <a:srgbClr val="dfffd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1047240" y="209880"/>
                <a:ext cx="5027400" cy="63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0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كون كلمات فيها (ال) شمسية و (ال) قمرية من هذه الحرو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1643760" y="525240"/>
                <a:ext cx="4158000" cy="5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0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ق  -  ع  -  م  -  ش  -  ص  -  ر  -  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"/>
              <p:cNvGrpSpPr/>
              <p:nvPr/>
            </p:nvGrpSpPr>
            <p:grpSpPr>
              <a:xfrm>
                <a:off x="689400" y="2943000"/>
                <a:ext cx="5248800" cy="4309200"/>
                <a:chOff x="689400" y="2943000"/>
                <a:chExt cx="5248800" cy="4309200"/>
              </a:xfrm>
            </p:grpSpPr>
            <p:pic>
              <p:nvPicPr>
                <p:cNvPr id="112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552480" y="2943000"/>
                  <a:ext cx="2385720" cy="430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9400" y="2943000"/>
                  <a:ext cx="2385720" cy="43092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24" name=""/>
                <p:cNvGrpSpPr/>
                <p:nvPr/>
              </p:nvGrpSpPr>
              <p:grpSpPr>
                <a:xfrm>
                  <a:off x="4029480" y="3363120"/>
                  <a:ext cx="1550880" cy="3468240"/>
                  <a:chOff x="4029480" y="3363120"/>
                  <a:chExt cx="1550880" cy="3468240"/>
                </a:xfrm>
              </p:grpSpPr>
              <p:sp>
                <p:nvSpPr>
                  <p:cNvPr id="1125" name=""/>
                  <p:cNvSpPr/>
                  <p:nvPr/>
                </p:nvSpPr>
                <p:spPr>
                  <a:xfrm>
                    <a:off x="4029480" y="3363120"/>
                    <a:ext cx="1550880" cy="525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(</a:t>
                    </a:r>
                    <a:r>
                      <a:rPr b="0" lang="ar-SA" sz="22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ال</a:t>
                    </a:r>
                    <a:r>
                      <a:rPr b="0" lang="ar-SA" sz="2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) </a:t>
                    </a:r>
                    <a:r>
                      <a:rPr b="0" lang="ar-SA" sz="22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شمسية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26" name=""/>
                  <p:cNvGrpSpPr/>
                  <p:nvPr/>
                </p:nvGrpSpPr>
                <p:grpSpPr>
                  <a:xfrm>
                    <a:off x="4029480" y="4098600"/>
                    <a:ext cx="1550880" cy="2732760"/>
                    <a:chOff x="4029480" y="4098600"/>
                    <a:chExt cx="1550880" cy="2732760"/>
                  </a:xfrm>
                </p:grpSpPr>
                <p:sp>
                  <p:nvSpPr>
                    <p:cNvPr id="1127" name=""/>
                    <p:cNvSpPr/>
                    <p:nvPr/>
                  </p:nvSpPr>
                  <p:spPr>
                    <a:xfrm>
                      <a:off x="4029480" y="4098600"/>
                      <a:ext cx="1550880" cy="525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8" name=""/>
                    <p:cNvSpPr/>
                    <p:nvPr/>
                  </p:nvSpPr>
                  <p:spPr>
                    <a:xfrm>
                      <a:off x="4029480" y="4834080"/>
                      <a:ext cx="1550880" cy="5256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9" name=""/>
                    <p:cNvSpPr/>
                    <p:nvPr/>
                  </p:nvSpPr>
                  <p:spPr>
                    <a:xfrm>
                      <a:off x="4029480" y="5569920"/>
                      <a:ext cx="1550880" cy="5256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0" name=""/>
                    <p:cNvSpPr/>
                    <p:nvPr/>
                  </p:nvSpPr>
                  <p:spPr>
                    <a:xfrm>
                      <a:off x="4029480" y="6305760"/>
                      <a:ext cx="1550880" cy="5256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31" name=""/>
                <p:cNvGrpSpPr/>
                <p:nvPr/>
              </p:nvGrpSpPr>
              <p:grpSpPr>
                <a:xfrm>
                  <a:off x="1047240" y="3363120"/>
                  <a:ext cx="1550880" cy="3468240"/>
                  <a:chOff x="1047240" y="3363120"/>
                  <a:chExt cx="1550880" cy="3468240"/>
                </a:xfrm>
              </p:grpSpPr>
              <p:sp>
                <p:nvSpPr>
                  <p:cNvPr id="1132" name=""/>
                  <p:cNvSpPr/>
                  <p:nvPr/>
                </p:nvSpPr>
                <p:spPr>
                  <a:xfrm>
                    <a:off x="1047240" y="3363120"/>
                    <a:ext cx="1550880" cy="525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(</a:t>
                    </a:r>
                    <a:r>
                      <a:rPr b="0" lang="ar-SA" sz="22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ال</a:t>
                    </a:r>
                    <a:r>
                      <a:rPr b="0" lang="ar-SA" sz="2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) </a:t>
                    </a:r>
                    <a:r>
                      <a:rPr b="0" lang="ar-SA" sz="22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قمرية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33" name=""/>
                  <p:cNvGrpSpPr/>
                  <p:nvPr/>
                </p:nvGrpSpPr>
                <p:grpSpPr>
                  <a:xfrm>
                    <a:off x="1047240" y="4098600"/>
                    <a:ext cx="1550880" cy="2732760"/>
                    <a:chOff x="1047240" y="4098600"/>
                    <a:chExt cx="1550880" cy="2732760"/>
                  </a:xfrm>
                </p:grpSpPr>
                <p:sp>
                  <p:nvSpPr>
                    <p:cNvPr id="1134" name=""/>
                    <p:cNvSpPr/>
                    <p:nvPr/>
                  </p:nvSpPr>
                  <p:spPr>
                    <a:xfrm>
                      <a:off x="1047240" y="4098600"/>
                      <a:ext cx="1550880" cy="525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5" name=""/>
                    <p:cNvSpPr/>
                    <p:nvPr/>
                  </p:nvSpPr>
                  <p:spPr>
                    <a:xfrm>
                      <a:off x="1047240" y="4834080"/>
                      <a:ext cx="1550880" cy="5256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>
                      <a:off x="1047240" y="5569920"/>
                      <a:ext cx="1550880" cy="5256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>
                      <a:off x="1047240" y="6305760"/>
                      <a:ext cx="1550880" cy="5256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............................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pic>
            <p:nvPicPr>
              <p:cNvPr id="113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626360" y="7252200"/>
                <a:ext cx="1550520" cy="120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9" name="" descr=""/>
              <p:cNvPicPr/>
              <p:nvPr/>
            </p:nvPicPr>
            <p:blipFill>
              <a:blip r:embed="rId5"/>
              <a:stretch/>
            </p:blipFill>
            <p:spPr>
              <a:xfrm rot="328200">
                <a:off x="1150560" y="1545480"/>
                <a:ext cx="2986920" cy="229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0" name="" descr=""/>
              <p:cNvPicPr/>
              <p:nvPr/>
            </p:nvPicPr>
            <p:blipFill>
              <a:blip r:embed="rId6"/>
              <a:stretch/>
            </p:blipFill>
            <p:spPr>
              <a:xfrm rot="267000">
                <a:off x="4149000" y="1366200"/>
                <a:ext cx="1789200" cy="151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928080" y="1681560"/>
                <a:ext cx="1550520" cy="1237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31920" y="6831720"/>
                <a:ext cx="4413600" cy="1906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214200" y="401760"/>
              <a:ext cx="6643800" cy="8742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5" name=""/>
            <p:cNvGrpSpPr/>
            <p:nvPr/>
          </p:nvGrpSpPr>
          <p:grpSpPr>
            <a:xfrm>
              <a:off x="0" y="0"/>
              <a:ext cx="6444000" cy="8778600"/>
              <a:chOff x="0" y="0"/>
              <a:chExt cx="6444000" cy="877860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0" y="1359720"/>
                <a:ext cx="6444000" cy="7418880"/>
                <a:chOff x="0" y="1359720"/>
                <a:chExt cx="6444000" cy="7418880"/>
              </a:xfrm>
            </p:grpSpPr>
            <p:grpSp>
              <p:nvGrpSpPr>
                <p:cNvPr id="137" name=""/>
                <p:cNvGrpSpPr/>
                <p:nvPr/>
              </p:nvGrpSpPr>
              <p:grpSpPr>
                <a:xfrm>
                  <a:off x="1607040" y="1359720"/>
                  <a:ext cx="4836960" cy="7228080"/>
                  <a:chOff x="1607040" y="1359720"/>
                  <a:chExt cx="4836960" cy="7228080"/>
                </a:xfrm>
              </p:grpSpPr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1607040" y="2163600"/>
                    <a:ext cx="4836960" cy="6424200"/>
                    <a:chOff x="1607040" y="2163600"/>
                    <a:chExt cx="4836960" cy="6424200"/>
                  </a:xfrm>
                </p:grpSpPr>
                <p:grpSp>
                  <p:nvGrpSpPr>
                    <p:cNvPr id="139" name=""/>
                    <p:cNvGrpSpPr/>
                    <p:nvPr/>
                  </p:nvGrpSpPr>
                  <p:grpSpPr>
                    <a:xfrm>
                      <a:off x="1607040" y="2163600"/>
                      <a:ext cx="4836960" cy="3211920"/>
                      <a:chOff x="1607040" y="2163600"/>
                      <a:chExt cx="4836960" cy="3211920"/>
                    </a:xfrm>
                  </p:grpSpPr>
                  <p:grpSp>
                    <p:nvGrpSpPr>
                      <p:cNvPr id="140" name=""/>
                      <p:cNvGrpSpPr/>
                      <p:nvPr/>
                    </p:nvGrpSpPr>
                    <p:grpSpPr>
                      <a:xfrm>
                        <a:off x="1607040" y="2163600"/>
                        <a:ext cx="4836960" cy="458640"/>
                        <a:chOff x="1607040" y="2163600"/>
                        <a:chExt cx="4836960" cy="458640"/>
                      </a:xfrm>
                    </p:grpSpPr>
                    <p:sp>
                      <p:nvSpPr>
                        <p:cNvPr id="141" name=""/>
                        <p:cNvSpPr/>
                        <p:nvPr/>
                      </p:nvSpPr>
                      <p:spPr>
                        <a:xfrm>
                          <a:off x="5239800" y="2163600"/>
                          <a:ext cx="120420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ar-AE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cs typeface="Times New Roman"/>
                            </a:rPr>
                            <a:t>ض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2" name=""/>
                        <p:cNvSpPr/>
                        <p:nvPr/>
                      </p:nvSpPr>
                      <p:spPr>
                        <a:xfrm>
                          <a:off x="4015800" y="2163600"/>
                          <a:ext cx="120456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" name=""/>
                        <p:cNvSpPr/>
                        <p:nvPr/>
                      </p:nvSpPr>
                      <p:spPr>
                        <a:xfrm>
                          <a:off x="2811240" y="2163600"/>
                          <a:ext cx="120456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" name=""/>
                        <p:cNvSpPr/>
                        <p:nvPr/>
                      </p:nvSpPr>
                      <p:spPr>
                        <a:xfrm>
                          <a:off x="1607040" y="2163600"/>
                          <a:ext cx="120420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45" name=""/>
                      <p:cNvGrpSpPr/>
                      <p:nvPr/>
                    </p:nvGrpSpPr>
                    <p:grpSpPr>
                      <a:xfrm>
                        <a:off x="1607040" y="2622240"/>
                        <a:ext cx="4836960" cy="458640"/>
                        <a:chOff x="1607040" y="2622240"/>
                        <a:chExt cx="4836960" cy="458640"/>
                      </a:xfrm>
                    </p:grpSpPr>
                    <p:sp>
                      <p:nvSpPr>
                        <p:cNvPr id="146" name=""/>
                        <p:cNvSpPr/>
                        <p:nvPr/>
                      </p:nvSpPr>
                      <p:spPr>
                        <a:xfrm>
                          <a:off x="5239800" y="2622240"/>
                          <a:ext cx="120420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ar-AE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cs typeface="Times New Roman"/>
                            </a:rPr>
                            <a:t>ط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" name=""/>
                        <p:cNvSpPr/>
                        <p:nvPr/>
                      </p:nvSpPr>
                      <p:spPr>
                        <a:xfrm>
                          <a:off x="4015800" y="2622240"/>
                          <a:ext cx="120456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" name=""/>
                        <p:cNvSpPr/>
                        <p:nvPr/>
                      </p:nvSpPr>
                      <p:spPr>
                        <a:xfrm>
                          <a:off x="2811240" y="2622240"/>
                          <a:ext cx="120456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" name=""/>
                        <p:cNvSpPr/>
                        <p:nvPr/>
                      </p:nvSpPr>
                      <p:spPr>
                        <a:xfrm>
                          <a:off x="1607040" y="2622240"/>
                          <a:ext cx="120420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0" name=""/>
                      <p:cNvGrpSpPr/>
                      <p:nvPr/>
                    </p:nvGrpSpPr>
                    <p:grpSpPr>
                      <a:xfrm>
                        <a:off x="1607040" y="3081240"/>
                        <a:ext cx="4836960" cy="458640"/>
                        <a:chOff x="1607040" y="3081240"/>
                        <a:chExt cx="4836960" cy="458640"/>
                      </a:xfrm>
                    </p:grpSpPr>
                    <p:sp>
                      <p:nvSpPr>
                        <p:cNvPr id="151" name=""/>
                        <p:cNvSpPr/>
                        <p:nvPr/>
                      </p:nvSpPr>
                      <p:spPr>
                        <a:xfrm>
                          <a:off x="5239800" y="3081240"/>
                          <a:ext cx="120420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ar-AE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cs typeface="Times New Roman"/>
                            </a:rPr>
                            <a:t>ظ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" name=""/>
                        <p:cNvSpPr/>
                        <p:nvPr/>
                      </p:nvSpPr>
                      <p:spPr>
                        <a:xfrm>
                          <a:off x="4015800" y="3081240"/>
                          <a:ext cx="120456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" name=""/>
                        <p:cNvSpPr/>
                        <p:nvPr/>
                      </p:nvSpPr>
                      <p:spPr>
                        <a:xfrm>
                          <a:off x="2811240" y="3081240"/>
                          <a:ext cx="120456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4" name=""/>
                        <p:cNvSpPr/>
                        <p:nvPr/>
                      </p:nvSpPr>
                      <p:spPr>
                        <a:xfrm>
                          <a:off x="1607040" y="3081240"/>
                          <a:ext cx="120420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55" name=""/>
                      <p:cNvGrpSpPr/>
                      <p:nvPr/>
                    </p:nvGrpSpPr>
                    <p:grpSpPr>
                      <a:xfrm>
                        <a:off x="1607040" y="3540240"/>
                        <a:ext cx="4836960" cy="458640"/>
                        <a:chOff x="1607040" y="3540240"/>
                        <a:chExt cx="4836960" cy="458640"/>
                      </a:xfrm>
                    </p:grpSpPr>
                    <p:sp>
                      <p:nvSpPr>
                        <p:cNvPr id="156" name=""/>
                        <p:cNvSpPr/>
                        <p:nvPr/>
                      </p:nvSpPr>
                      <p:spPr>
                        <a:xfrm>
                          <a:off x="5239800" y="3540240"/>
                          <a:ext cx="120420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ar-AE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cs typeface="Times New Roman"/>
                            </a:rPr>
                            <a:t>ع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" name=""/>
                        <p:cNvSpPr/>
                        <p:nvPr/>
                      </p:nvSpPr>
                      <p:spPr>
                        <a:xfrm>
                          <a:off x="4015800" y="3540240"/>
                          <a:ext cx="120456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" name=""/>
                        <p:cNvSpPr/>
                        <p:nvPr/>
                      </p:nvSpPr>
                      <p:spPr>
                        <a:xfrm>
                          <a:off x="2811240" y="3540240"/>
                          <a:ext cx="120456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" name=""/>
                        <p:cNvSpPr/>
                        <p:nvPr/>
                      </p:nvSpPr>
                      <p:spPr>
                        <a:xfrm>
                          <a:off x="1607040" y="3540240"/>
                          <a:ext cx="120420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0" name=""/>
                      <p:cNvGrpSpPr/>
                      <p:nvPr/>
                    </p:nvGrpSpPr>
                    <p:grpSpPr>
                      <a:xfrm>
                        <a:off x="1607040" y="3999240"/>
                        <a:ext cx="4836960" cy="458640"/>
                        <a:chOff x="1607040" y="3999240"/>
                        <a:chExt cx="4836960" cy="458640"/>
                      </a:xfrm>
                    </p:grpSpPr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>
                          <a:off x="5239800" y="3999240"/>
                          <a:ext cx="120420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ar-AE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cs typeface="Times New Roman"/>
                            </a:rPr>
                            <a:t>غ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" name=""/>
                        <p:cNvSpPr/>
                        <p:nvPr/>
                      </p:nvSpPr>
                      <p:spPr>
                        <a:xfrm>
                          <a:off x="4015800" y="3999240"/>
                          <a:ext cx="120456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>
                          <a:off x="2811240" y="3999240"/>
                          <a:ext cx="120456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>
                          <a:off x="1607040" y="3999240"/>
                          <a:ext cx="120420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65" name=""/>
                      <p:cNvGrpSpPr/>
                      <p:nvPr/>
                    </p:nvGrpSpPr>
                    <p:grpSpPr>
                      <a:xfrm>
                        <a:off x="1607040" y="4458240"/>
                        <a:ext cx="4836960" cy="458640"/>
                        <a:chOff x="1607040" y="4458240"/>
                        <a:chExt cx="4836960" cy="458640"/>
                      </a:xfrm>
                    </p:grpSpPr>
                    <p:sp>
                      <p:nvSpPr>
                        <p:cNvPr id="166" name=""/>
                        <p:cNvSpPr/>
                        <p:nvPr/>
                      </p:nvSpPr>
                      <p:spPr>
                        <a:xfrm>
                          <a:off x="5239800" y="4458240"/>
                          <a:ext cx="120420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ar-AE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cs typeface="Times New Roman"/>
                            </a:rPr>
                            <a:t>ف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>
                          <a:off x="4015800" y="4458240"/>
                          <a:ext cx="120456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" name=""/>
                        <p:cNvSpPr/>
                        <p:nvPr/>
                      </p:nvSpPr>
                      <p:spPr>
                        <a:xfrm>
                          <a:off x="2811240" y="4458240"/>
                          <a:ext cx="120456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>
                          <a:off x="1607040" y="4458240"/>
                          <a:ext cx="120420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70" name=""/>
                      <p:cNvGrpSpPr/>
                      <p:nvPr/>
                    </p:nvGrpSpPr>
                    <p:grpSpPr>
                      <a:xfrm>
                        <a:off x="1607040" y="4916880"/>
                        <a:ext cx="4836960" cy="458640"/>
                        <a:chOff x="1607040" y="4916880"/>
                        <a:chExt cx="4836960" cy="458640"/>
                      </a:xfrm>
                    </p:grpSpPr>
                    <p:sp>
                      <p:nvSpPr>
                        <p:cNvPr id="171" name=""/>
                        <p:cNvSpPr/>
                        <p:nvPr/>
                      </p:nvSpPr>
                      <p:spPr>
                        <a:xfrm>
                          <a:off x="5239800" y="4916880"/>
                          <a:ext cx="120420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ar-AE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cs typeface="Times New Roman"/>
                            </a:rPr>
                            <a:t>ق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>
                          <a:off x="4015800" y="4916880"/>
                          <a:ext cx="120456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>
                          <a:off x="2811240" y="4916880"/>
                          <a:ext cx="120456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" name=""/>
                        <p:cNvSpPr/>
                        <p:nvPr/>
                      </p:nvSpPr>
                      <p:spPr>
                        <a:xfrm>
                          <a:off x="1607040" y="4916880"/>
                          <a:ext cx="120420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1607040" y="5375880"/>
                      <a:ext cx="4836960" cy="3211920"/>
                      <a:chOff x="1607040" y="5375880"/>
                      <a:chExt cx="4836960" cy="3211920"/>
                    </a:xfrm>
                  </p:grpSpPr>
                  <p:grpSp>
                    <p:nvGrpSpPr>
                      <p:cNvPr id="176" name=""/>
                      <p:cNvGrpSpPr/>
                      <p:nvPr/>
                    </p:nvGrpSpPr>
                    <p:grpSpPr>
                      <a:xfrm>
                        <a:off x="1607040" y="5375880"/>
                        <a:ext cx="4836960" cy="458640"/>
                        <a:chOff x="1607040" y="5375880"/>
                        <a:chExt cx="4836960" cy="458640"/>
                      </a:xfrm>
                    </p:grpSpPr>
                    <p:sp>
                      <p:nvSpPr>
                        <p:cNvPr id="177" name=""/>
                        <p:cNvSpPr/>
                        <p:nvPr/>
                      </p:nvSpPr>
                      <p:spPr>
                        <a:xfrm>
                          <a:off x="5239800" y="5375880"/>
                          <a:ext cx="120420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ar-SA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cs typeface="Times New Roman"/>
                            </a:rPr>
                            <a:t>ك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>
                          <a:off x="4015800" y="5375880"/>
                          <a:ext cx="120456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>
                          <a:off x="2811240" y="5375880"/>
                          <a:ext cx="120456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>
                          <a:off x="1607040" y="5375880"/>
                          <a:ext cx="120420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81" name=""/>
                      <p:cNvGrpSpPr/>
                      <p:nvPr/>
                    </p:nvGrpSpPr>
                    <p:grpSpPr>
                      <a:xfrm>
                        <a:off x="1607040" y="5834520"/>
                        <a:ext cx="4836960" cy="458640"/>
                        <a:chOff x="1607040" y="5834520"/>
                        <a:chExt cx="4836960" cy="458640"/>
                      </a:xfrm>
                    </p:grpSpPr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>
                          <a:off x="5239800" y="5834520"/>
                          <a:ext cx="120420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ar-SA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cs typeface="Times New Roman"/>
                            </a:rPr>
                            <a:t>ل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>
                          <a:off x="4015800" y="5834520"/>
                          <a:ext cx="120456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>
                          <a:off x="2811240" y="5834520"/>
                          <a:ext cx="120456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>
                          <a:off x="1607040" y="5834520"/>
                          <a:ext cx="120420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86" name=""/>
                      <p:cNvGrpSpPr/>
                      <p:nvPr/>
                    </p:nvGrpSpPr>
                    <p:grpSpPr>
                      <a:xfrm>
                        <a:off x="1607040" y="6293520"/>
                        <a:ext cx="4836960" cy="458640"/>
                        <a:chOff x="1607040" y="6293520"/>
                        <a:chExt cx="4836960" cy="458640"/>
                      </a:xfrm>
                    </p:grpSpPr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>
                          <a:off x="5239800" y="6293520"/>
                          <a:ext cx="120420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ar-SA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cs typeface="Times New Roman"/>
                            </a:rPr>
                            <a:t>م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>
                          <a:off x="4015800" y="6293520"/>
                          <a:ext cx="120456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>
                          <a:off x="2811240" y="6293520"/>
                          <a:ext cx="120456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1607040" y="6293520"/>
                          <a:ext cx="120420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91" name=""/>
                      <p:cNvGrpSpPr/>
                      <p:nvPr/>
                    </p:nvGrpSpPr>
                    <p:grpSpPr>
                      <a:xfrm>
                        <a:off x="1607040" y="6752520"/>
                        <a:ext cx="4836960" cy="458640"/>
                        <a:chOff x="1607040" y="6752520"/>
                        <a:chExt cx="4836960" cy="458640"/>
                      </a:xfrm>
                    </p:grpSpPr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>
                          <a:off x="5239800" y="6752520"/>
                          <a:ext cx="120420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ar-SA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cs typeface="Times New Roman"/>
                            </a:rPr>
                            <a:t>ن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4015800" y="6752520"/>
                          <a:ext cx="120456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2811240" y="6752520"/>
                          <a:ext cx="120456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1607040" y="6752520"/>
                          <a:ext cx="120420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96" name=""/>
                      <p:cNvGrpSpPr/>
                      <p:nvPr/>
                    </p:nvGrpSpPr>
                    <p:grpSpPr>
                      <a:xfrm>
                        <a:off x="1607040" y="7211520"/>
                        <a:ext cx="4836960" cy="458640"/>
                        <a:chOff x="1607040" y="7211520"/>
                        <a:chExt cx="4836960" cy="458640"/>
                      </a:xfrm>
                    </p:grpSpPr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5239800" y="7211520"/>
                          <a:ext cx="120420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ar-SA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cs typeface="Times New Roman"/>
                            </a:rPr>
                            <a:t>هـ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4015800" y="7211520"/>
                          <a:ext cx="120456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811240" y="7211520"/>
                          <a:ext cx="120456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1607040" y="7211520"/>
                          <a:ext cx="120420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01" name=""/>
                      <p:cNvGrpSpPr/>
                      <p:nvPr/>
                    </p:nvGrpSpPr>
                    <p:grpSpPr>
                      <a:xfrm>
                        <a:off x="1607040" y="7670520"/>
                        <a:ext cx="4836960" cy="458640"/>
                        <a:chOff x="1607040" y="7670520"/>
                        <a:chExt cx="4836960" cy="458640"/>
                      </a:xfrm>
                    </p:grpSpPr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5239800" y="7670520"/>
                          <a:ext cx="120420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ar-SA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cs typeface="Times New Roman"/>
                            </a:rPr>
                            <a:t>و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4015800" y="7670520"/>
                          <a:ext cx="120456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811240" y="7670520"/>
                          <a:ext cx="120456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1607040" y="7670520"/>
                          <a:ext cx="120420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06" name=""/>
                      <p:cNvGrpSpPr/>
                      <p:nvPr/>
                    </p:nvGrpSpPr>
                    <p:grpSpPr>
                      <a:xfrm>
                        <a:off x="1607040" y="8129160"/>
                        <a:ext cx="4836960" cy="458640"/>
                        <a:chOff x="1607040" y="8129160"/>
                        <a:chExt cx="4836960" cy="458640"/>
                      </a:xfrm>
                    </p:grpSpPr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5239800" y="8129160"/>
                          <a:ext cx="120420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ar-SA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cs typeface="Times New Roman"/>
                            </a:rPr>
                            <a:t>ي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4015800" y="8129160"/>
                          <a:ext cx="120456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811240" y="8129160"/>
                          <a:ext cx="120456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1607040" y="8129160"/>
                          <a:ext cx="1204200" cy="458640"/>
                        </a:xfrm>
                        <a:prstGeom prst="rect">
                          <a:avLst/>
                        </a:prstGeom>
                        <a:solidFill>
                          <a:srgbClr val="ffffff">
                            <a:alpha val="40000"/>
                          </a:srgbClr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1607040" y="1359720"/>
                    <a:ext cx="4836960" cy="603000"/>
                    <a:chOff x="1607040" y="1359720"/>
                    <a:chExt cx="4836960" cy="60300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5239800" y="1359720"/>
                      <a:ext cx="1204200" cy="603000"/>
                    </a:xfrm>
                    <a:prstGeom prst="rect">
                      <a:avLst/>
                    </a:prstGeom>
                    <a:solidFill>
                      <a:srgbClr val="ffffff">
                        <a:alpha val="40000"/>
                      </a:srgbClr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حر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015800" y="1359720"/>
                      <a:ext cx="1204560" cy="603000"/>
                    </a:xfrm>
                    <a:prstGeom prst="rect">
                      <a:avLst/>
                    </a:prstGeom>
                    <a:solidFill>
                      <a:srgbClr val="ffffff">
                        <a:alpha val="40000"/>
                      </a:srgbClr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فت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2811240" y="1359720"/>
                      <a:ext cx="1204560" cy="603000"/>
                    </a:xfrm>
                    <a:prstGeom prst="rect">
                      <a:avLst/>
                    </a:prstGeom>
                    <a:solidFill>
                      <a:srgbClr val="ffffff">
                        <a:alpha val="40000"/>
                      </a:srgbClr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ض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1607040" y="1359720"/>
                      <a:ext cx="1204200" cy="603000"/>
                    </a:xfrm>
                    <a:prstGeom prst="rect">
                      <a:avLst/>
                    </a:prstGeom>
                    <a:solidFill>
                      <a:srgbClr val="ffffff">
                        <a:alpha val="40000"/>
                      </a:srgbClr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</a:t>
                      </a:r>
                      <a:r>
                        <a:rPr b="0" lang="ar-AE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كس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415240" y="1749240"/>
                    <a:ext cx="3066840" cy="627840"/>
                    <a:chOff x="2415240" y="1749240"/>
                    <a:chExt cx="3066840" cy="62784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rot="5249400">
                      <a:off x="4878000" y="1773360"/>
                      <a:ext cx="603000" cy="578880"/>
                    </a:xfrm>
                    <a:prstGeom prst="blockArc">
                      <a:avLst>
                        <a:gd name="adj1" fmla="val 10800000"/>
                        <a:gd name="adj2" fmla="val 0"/>
                        <a:gd name="adj3" fmla="val 25000"/>
                      </a:avLst>
                    </a:prstGeom>
                    <a:solidFill>
                      <a:srgbClr val="00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rot="5249400">
                      <a:off x="3646800" y="1773360"/>
                      <a:ext cx="603000" cy="578880"/>
                    </a:xfrm>
                    <a:prstGeom prst="blockArc">
                      <a:avLst>
                        <a:gd name="adj1" fmla="val 10800000"/>
                        <a:gd name="adj2" fmla="val 0"/>
                        <a:gd name="adj3" fmla="val 25000"/>
                      </a:avLst>
                    </a:prstGeom>
                    <a:solidFill>
                      <a:srgbClr val="00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 rot="5249400">
                      <a:off x="2415600" y="1773360"/>
                      <a:ext cx="603000" cy="578880"/>
                    </a:xfrm>
                    <a:prstGeom prst="blockArc">
                      <a:avLst>
                        <a:gd name="adj1" fmla="val 10800000"/>
                        <a:gd name="adj2" fmla="val 0"/>
                        <a:gd name="adj3" fmla="val 25000"/>
                      </a:avLst>
                    </a:prstGeom>
                    <a:solidFill>
                      <a:srgbClr val="00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pic>
              <p:nvPicPr>
                <p:cNvPr id="22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4675680"/>
                  <a:ext cx="1714320" cy="4102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28520" y="1661040"/>
                  <a:ext cx="1371600" cy="3215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2" name=""/>
              <p:cNvGrpSpPr/>
              <p:nvPr/>
            </p:nvGrpSpPr>
            <p:grpSpPr>
              <a:xfrm>
                <a:off x="964080" y="0"/>
                <a:ext cx="5423760" cy="1306080"/>
                <a:chOff x="964080" y="0"/>
                <a:chExt cx="5423760" cy="13060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964080" y="502200"/>
                  <a:ext cx="4500360" cy="5022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هيا يا صغيرتي نكتب الحروف الهجائية مع حركاتها</a:t>
                  </a:r>
                  <a:r>
                    <a:rPr b="0" lang="ar-SA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ar-SA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2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250240" y="0"/>
                  <a:ext cx="1137600" cy="1306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0" cy="914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0" y="0"/>
              <a:ext cx="6526080" cy="8302680"/>
              <a:chOff x="0" y="0"/>
              <a:chExt cx="6526080" cy="8302680"/>
            </a:xfrm>
          </p:grpSpPr>
          <p:sp>
            <p:nvSpPr>
              <p:cNvPr id="228" name=""/>
              <p:cNvSpPr/>
              <p:nvPr/>
            </p:nvSpPr>
            <p:spPr>
              <a:xfrm>
                <a:off x="110520" y="5045040"/>
                <a:ext cx="6415560" cy="315288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774360" y="4204080"/>
                <a:ext cx="4977360" cy="1037520"/>
                <a:chOff x="774360" y="4204080"/>
                <a:chExt cx="4977360" cy="1037520"/>
              </a:xfrm>
            </p:grpSpPr>
            <p:pic>
              <p:nvPicPr>
                <p:cNvPr id="23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84880" y="4519440"/>
                  <a:ext cx="4866840" cy="722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1" name=""/>
                <p:cNvSpPr/>
                <p:nvPr/>
              </p:nvSpPr>
              <p:spPr>
                <a:xfrm>
                  <a:off x="1769760" y="4624200"/>
                  <a:ext cx="3318120" cy="420120"/>
                </a:xfrm>
                <a:prstGeom prst="rect">
                  <a:avLst/>
                </a:prstGeom>
                <a:solidFill>
                  <a:srgbClr val="ffffff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2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أدخل تنوين الفتح على الكلمات التالية</a:t>
                  </a:r>
                  <a:r>
                    <a:rPr b="0" lang="ar-SA" sz="20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3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74360" y="4204080"/>
                  <a:ext cx="2838960" cy="638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3" name=""/>
              <p:cNvGrpSpPr/>
              <p:nvPr/>
            </p:nvGrpSpPr>
            <p:grpSpPr>
              <a:xfrm>
                <a:off x="2654640" y="5675400"/>
                <a:ext cx="3097080" cy="2311920"/>
                <a:chOff x="2654640" y="5675400"/>
                <a:chExt cx="3097080" cy="231192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4512960" y="5675400"/>
                  <a:ext cx="1238760" cy="577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المعلم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512960" y="6542640"/>
                  <a:ext cx="1238760" cy="577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العسل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512960" y="7409520"/>
                  <a:ext cx="1238760" cy="577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الحقيبة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54640" y="5675400"/>
                  <a:ext cx="1393560" cy="577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......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654640" y="6542640"/>
                  <a:ext cx="1393560" cy="577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......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654640" y="7409520"/>
                  <a:ext cx="1393560" cy="577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......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4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5360040"/>
                <a:ext cx="2433240" cy="294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110520" y="735480"/>
                <a:ext cx="6415560" cy="315288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774360" y="0"/>
                <a:ext cx="4977000" cy="1037520"/>
                <a:chOff x="774360" y="0"/>
                <a:chExt cx="4977000" cy="1037520"/>
              </a:xfrm>
            </p:grpSpPr>
            <p:pic>
              <p:nvPicPr>
                <p:cNvPr id="24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84520" y="315360"/>
                  <a:ext cx="4866840" cy="722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4" name=""/>
                <p:cNvSpPr/>
                <p:nvPr/>
              </p:nvSpPr>
              <p:spPr>
                <a:xfrm>
                  <a:off x="1880280" y="420120"/>
                  <a:ext cx="2891880" cy="420120"/>
                </a:xfrm>
                <a:prstGeom prst="rect">
                  <a:avLst/>
                </a:prstGeom>
                <a:solidFill>
                  <a:srgbClr val="ffffff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2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أكتب اسم الصورة بتنوين الفتح</a:t>
                  </a:r>
                  <a:r>
                    <a:rPr b="0" lang="ar-SA" sz="20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4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74360" y="0"/>
                  <a:ext cx="2838960" cy="638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6" name=""/>
              <p:cNvGrpSpPr/>
              <p:nvPr/>
            </p:nvGrpSpPr>
            <p:grpSpPr>
              <a:xfrm>
                <a:off x="331920" y="1471320"/>
                <a:ext cx="5972760" cy="2101680"/>
                <a:chOff x="331920" y="1471320"/>
                <a:chExt cx="5972760" cy="2101680"/>
              </a:xfrm>
            </p:grpSpPr>
            <p:grpSp>
              <p:nvGrpSpPr>
                <p:cNvPr id="247" name=""/>
                <p:cNvGrpSpPr/>
                <p:nvPr/>
              </p:nvGrpSpPr>
              <p:grpSpPr>
                <a:xfrm>
                  <a:off x="4811400" y="1471320"/>
                  <a:ext cx="1493280" cy="1051200"/>
                  <a:chOff x="4811400" y="1471320"/>
                  <a:chExt cx="1493280" cy="105120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4811400" y="1471320"/>
                    <a:ext cx="1493280" cy="1051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24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909680" y="1749240"/>
                    <a:ext cx="1263600" cy="7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250" name=""/>
                <p:cNvSpPr/>
                <p:nvPr/>
              </p:nvSpPr>
              <p:spPr>
                <a:xfrm>
                  <a:off x="4811400" y="2999880"/>
                  <a:ext cx="1493280" cy="573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..........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1" name=""/>
                <p:cNvGrpSpPr/>
                <p:nvPr/>
              </p:nvGrpSpPr>
              <p:grpSpPr>
                <a:xfrm>
                  <a:off x="331920" y="1471320"/>
                  <a:ext cx="1492920" cy="1051200"/>
                  <a:chOff x="331920" y="1471320"/>
                  <a:chExt cx="1492920" cy="105120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>
                    <a:off x="331920" y="1471320"/>
                    <a:ext cx="1492920" cy="1051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3" name=""/>
                  <p:cNvGrpSpPr/>
                  <p:nvPr/>
                </p:nvGrpSpPr>
                <p:grpSpPr>
                  <a:xfrm>
                    <a:off x="438480" y="1471320"/>
                    <a:ext cx="1173600" cy="1051200"/>
                    <a:chOff x="438480" y="1471320"/>
                    <a:chExt cx="1173600" cy="1051200"/>
                  </a:xfrm>
                </p:grpSpPr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872280" y="1831320"/>
                      <a:ext cx="366120" cy="34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2" h="523">
                          <a:moveTo>
                            <a:pt x="10" y="245"/>
                          </a:moveTo>
                          <a:lnTo>
                            <a:pt x="10" y="242"/>
                          </a:lnTo>
                          <a:lnTo>
                            <a:pt x="7" y="234"/>
                          </a:lnTo>
                          <a:lnTo>
                            <a:pt x="4" y="222"/>
                          </a:lnTo>
                          <a:lnTo>
                            <a:pt x="2" y="207"/>
                          </a:lnTo>
                          <a:lnTo>
                            <a:pt x="0" y="189"/>
                          </a:lnTo>
                          <a:lnTo>
                            <a:pt x="0" y="169"/>
                          </a:lnTo>
                          <a:lnTo>
                            <a:pt x="2" y="148"/>
                          </a:lnTo>
                          <a:lnTo>
                            <a:pt x="7" y="127"/>
                          </a:lnTo>
                          <a:lnTo>
                            <a:pt x="14" y="104"/>
                          </a:lnTo>
                          <a:lnTo>
                            <a:pt x="26" y="84"/>
                          </a:lnTo>
                          <a:lnTo>
                            <a:pt x="26" y="83"/>
                          </a:lnTo>
                          <a:lnTo>
                            <a:pt x="27" y="81"/>
                          </a:lnTo>
                          <a:lnTo>
                            <a:pt x="30" y="77"/>
                          </a:lnTo>
                          <a:lnTo>
                            <a:pt x="34" y="71"/>
                          </a:lnTo>
                          <a:lnTo>
                            <a:pt x="39" y="65"/>
                          </a:lnTo>
                          <a:lnTo>
                            <a:pt x="46" y="58"/>
                          </a:lnTo>
                          <a:lnTo>
                            <a:pt x="52" y="51"/>
                          </a:lnTo>
                          <a:lnTo>
                            <a:pt x="62" y="43"/>
                          </a:lnTo>
                          <a:lnTo>
                            <a:pt x="74" y="36"/>
                          </a:lnTo>
                          <a:lnTo>
                            <a:pt x="86" y="29"/>
                          </a:lnTo>
                          <a:lnTo>
                            <a:pt x="95" y="24"/>
                          </a:lnTo>
                          <a:lnTo>
                            <a:pt x="104" y="21"/>
                          </a:lnTo>
                          <a:lnTo>
                            <a:pt x="115" y="16"/>
                          </a:lnTo>
                          <a:lnTo>
                            <a:pt x="127" y="13"/>
                          </a:lnTo>
                          <a:lnTo>
                            <a:pt x="139" y="10"/>
                          </a:lnTo>
                          <a:lnTo>
                            <a:pt x="152" y="8"/>
                          </a:lnTo>
                          <a:lnTo>
                            <a:pt x="166" y="6"/>
                          </a:lnTo>
                          <a:lnTo>
                            <a:pt x="182" y="6"/>
                          </a:lnTo>
                          <a:lnTo>
                            <a:pt x="198" y="6"/>
                          </a:lnTo>
                          <a:lnTo>
                            <a:pt x="214" y="6"/>
                          </a:lnTo>
                          <a:lnTo>
                            <a:pt x="287" y="2"/>
                          </a:lnTo>
                          <a:lnTo>
                            <a:pt x="290" y="2"/>
                          </a:lnTo>
                          <a:lnTo>
                            <a:pt x="299" y="0"/>
                          </a:lnTo>
                          <a:lnTo>
                            <a:pt x="311" y="0"/>
                          </a:lnTo>
                          <a:lnTo>
                            <a:pt x="328" y="0"/>
                          </a:lnTo>
                          <a:lnTo>
                            <a:pt x="347" y="0"/>
                          </a:lnTo>
                          <a:lnTo>
                            <a:pt x="368" y="2"/>
                          </a:lnTo>
                          <a:lnTo>
                            <a:pt x="391" y="5"/>
                          </a:lnTo>
                          <a:lnTo>
                            <a:pt x="414" y="10"/>
                          </a:lnTo>
                          <a:lnTo>
                            <a:pt x="436" y="17"/>
                          </a:lnTo>
                          <a:lnTo>
                            <a:pt x="456" y="25"/>
                          </a:lnTo>
                          <a:lnTo>
                            <a:pt x="459" y="26"/>
                          </a:lnTo>
                          <a:lnTo>
                            <a:pt x="463" y="28"/>
                          </a:lnTo>
                          <a:lnTo>
                            <a:pt x="471" y="31"/>
                          </a:lnTo>
                          <a:lnTo>
                            <a:pt x="480" y="35"/>
                          </a:lnTo>
                          <a:lnTo>
                            <a:pt x="490" y="41"/>
                          </a:lnTo>
                          <a:lnTo>
                            <a:pt x="502" y="48"/>
                          </a:lnTo>
                          <a:lnTo>
                            <a:pt x="512" y="57"/>
                          </a:lnTo>
                          <a:lnTo>
                            <a:pt x="523" y="68"/>
                          </a:lnTo>
                          <a:lnTo>
                            <a:pt x="531" y="81"/>
                          </a:lnTo>
                          <a:lnTo>
                            <a:pt x="539" y="96"/>
                          </a:lnTo>
                          <a:lnTo>
                            <a:pt x="539" y="97"/>
                          </a:lnTo>
                          <a:lnTo>
                            <a:pt x="540" y="101"/>
                          </a:lnTo>
                          <a:lnTo>
                            <a:pt x="542" y="107"/>
                          </a:lnTo>
                          <a:lnTo>
                            <a:pt x="544" y="115"/>
                          </a:lnTo>
                          <a:lnTo>
                            <a:pt x="546" y="123"/>
                          </a:lnTo>
                          <a:lnTo>
                            <a:pt x="548" y="134"/>
                          </a:lnTo>
                          <a:lnTo>
                            <a:pt x="550" y="143"/>
                          </a:lnTo>
                          <a:lnTo>
                            <a:pt x="551" y="154"/>
                          </a:lnTo>
                          <a:lnTo>
                            <a:pt x="551" y="165"/>
                          </a:lnTo>
                          <a:lnTo>
                            <a:pt x="550" y="173"/>
                          </a:lnTo>
                          <a:lnTo>
                            <a:pt x="551" y="253"/>
                          </a:lnTo>
                          <a:lnTo>
                            <a:pt x="552" y="254"/>
                          </a:lnTo>
                          <a:lnTo>
                            <a:pt x="552" y="257"/>
                          </a:lnTo>
                          <a:lnTo>
                            <a:pt x="554" y="261"/>
                          </a:lnTo>
                          <a:lnTo>
                            <a:pt x="555" y="267"/>
                          </a:lnTo>
                          <a:lnTo>
                            <a:pt x="556" y="274"/>
                          </a:lnTo>
                          <a:lnTo>
                            <a:pt x="559" y="283"/>
                          </a:lnTo>
                          <a:lnTo>
                            <a:pt x="559" y="293"/>
                          </a:lnTo>
                          <a:lnTo>
                            <a:pt x="560" y="304"/>
                          </a:lnTo>
                          <a:lnTo>
                            <a:pt x="562" y="316"/>
                          </a:lnTo>
                          <a:lnTo>
                            <a:pt x="560" y="329"/>
                          </a:lnTo>
                          <a:lnTo>
                            <a:pt x="560" y="337"/>
                          </a:lnTo>
                          <a:lnTo>
                            <a:pt x="559" y="345"/>
                          </a:lnTo>
                          <a:lnTo>
                            <a:pt x="559" y="355"/>
                          </a:lnTo>
                          <a:lnTo>
                            <a:pt x="556" y="363"/>
                          </a:lnTo>
                          <a:lnTo>
                            <a:pt x="555" y="372"/>
                          </a:lnTo>
                          <a:lnTo>
                            <a:pt x="552" y="382"/>
                          </a:lnTo>
                          <a:lnTo>
                            <a:pt x="550" y="392"/>
                          </a:lnTo>
                          <a:lnTo>
                            <a:pt x="546" y="402"/>
                          </a:lnTo>
                          <a:lnTo>
                            <a:pt x="542" y="411"/>
                          </a:lnTo>
                          <a:lnTo>
                            <a:pt x="538" y="422"/>
                          </a:lnTo>
                          <a:lnTo>
                            <a:pt x="536" y="422"/>
                          </a:lnTo>
                          <a:lnTo>
                            <a:pt x="535" y="425"/>
                          </a:lnTo>
                          <a:lnTo>
                            <a:pt x="534" y="430"/>
                          </a:lnTo>
                          <a:lnTo>
                            <a:pt x="530" y="435"/>
                          </a:lnTo>
                          <a:lnTo>
                            <a:pt x="526" y="442"/>
                          </a:lnTo>
                          <a:lnTo>
                            <a:pt x="520" y="449"/>
                          </a:lnTo>
                          <a:lnTo>
                            <a:pt x="514" y="457"/>
                          </a:lnTo>
                          <a:lnTo>
                            <a:pt x="506" y="465"/>
                          </a:lnTo>
                          <a:lnTo>
                            <a:pt x="496" y="473"/>
                          </a:lnTo>
                          <a:lnTo>
                            <a:pt x="486" y="481"/>
                          </a:lnTo>
                          <a:lnTo>
                            <a:pt x="480" y="484"/>
                          </a:lnTo>
                          <a:lnTo>
                            <a:pt x="474" y="487"/>
                          </a:lnTo>
                          <a:lnTo>
                            <a:pt x="468" y="490"/>
                          </a:lnTo>
                          <a:lnTo>
                            <a:pt x="462" y="493"/>
                          </a:lnTo>
                          <a:lnTo>
                            <a:pt x="455" y="495"/>
                          </a:lnTo>
                          <a:lnTo>
                            <a:pt x="448" y="497"/>
                          </a:lnTo>
                          <a:lnTo>
                            <a:pt x="442" y="500"/>
                          </a:lnTo>
                          <a:lnTo>
                            <a:pt x="434" y="501"/>
                          </a:lnTo>
                          <a:lnTo>
                            <a:pt x="426" y="503"/>
                          </a:lnTo>
                          <a:lnTo>
                            <a:pt x="418" y="504"/>
                          </a:lnTo>
                          <a:lnTo>
                            <a:pt x="416" y="504"/>
                          </a:lnTo>
                          <a:lnTo>
                            <a:pt x="410" y="506"/>
                          </a:lnTo>
                          <a:lnTo>
                            <a:pt x="402" y="507"/>
                          </a:lnTo>
                          <a:lnTo>
                            <a:pt x="391" y="508"/>
                          </a:lnTo>
                          <a:lnTo>
                            <a:pt x="378" y="509"/>
                          </a:lnTo>
                          <a:lnTo>
                            <a:pt x="364" y="510"/>
                          </a:lnTo>
                          <a:lnTo>
                            <a:pt x="351" y="510"/>
                          </a:lnTo>
                          <a:lnTo>
                            <a:pt x="338" y="510"/>
                          </a:lnTo>
                          <a:lnTo>
                            <a:pt x="326" y="508"/>
                          </a:lnTo>
                          <a:lnTo>
                            <a:pt x="316" y="506"/>
                          </a:lnTo>
                          <a:lnTo>
                            <a:pt x="314" y="507"/>
                          </a:lnTo>
                          <a:lnTo>
                            <a:pt x="310" y="508"/>
                          </a:lnTo>
                          <a:lnTo>
                            <a:pt x="303" y="510"/>
                          </a:lnTo>
                          <a:lnTo>
                            <a:pt x="294" y="513"/>
                          </a:lnTo>
                          <a:lnTo>
                            <a:pt x="282" y="515"/>
                          </a:lnTo>
                          <a:lnTo>
                            <a:pt x="268" y="519"/>
                          </a:lnTo>
                          <a:lnTo>
                            <a:pt x="252" y="521"/>
                          </a:lnTo>
                          <a:lnTo>
                            <a:pt x="235" y="522"/>
                          </a:lnTo>
                          <a:lnTo>
                            <a:pt x="216" y="523"/>
                          </a:lnTo>
                          <a:lnTo>
                            <a:pt x="196" y="523"/>
                          </a:lnTo>
                          <a:lnTo>
                            <a:pt x="186" y="522"/>
                          </a:lnTo>
                          <a:lnTo>
                            <a:pt x="174" y="522"/>
                          </a:lnTo>
                          <a:lnTo>
                            <a:pt x="163" y="520"/>
                          </a:lnTo>
                          <a:lnTo>
                            <a:pt x="151" y="519"/>
                          </a:lnTo>
                          <a:lnTo>
                            <a:pt x="139" y="516"/>
                          </a:lnTo>
                          <a:lnTo>
                            <a:pt x="127" y="513"/>
                          </a:lnTo>
                          <a:lnTo>
                            <a:pt x="114" y="509"/>
                          </a:lnTo>
                          <a:lnTo>
                            <a:pt x="102" y="504"/>
                          </a:lnTo>
                          <a:lnTo>
                            <a:pt x="90" y="500"/>
                          </a:lnTo>
                          <a:lnTo>
                            <a:pt x="78" y="494"/>
                          </a:lnTo>
                          <a:lnTo>
                            <a:pt x="75" y="493"/>
                          </a:lnTo>
                          <a:lnTo>
                            <a:pt x="71" y="489"/>
                          </a:lnTo>
                          <a:lnTo>
                            <a:pt x="63" y="484"/>
                          </a:lnTo>
                          <a:lnTo>
                            <a:pt x="55" y="476"/>
                          </a:lnTo>
                          <a:lnTo>
                            <a:pt x="46" y="467"/>
                          </a:lnTo>
                          <a:lnTo>
                            <a:pt x="36" y="454"/>
                          </a:lnTo>
                          <a:lnTo>
                            <a:pt x="27" y="438"/>
                          </a:lnTo>
                          <a:lnTo>
                            <a:pt x="19" y="421"/>
                          </a:lnTo>
                          <a:lnTo>
                            <a:pt x="14" y="399"/>
                          </a:lnTo>
                          <a:lnTo>
                            <a:pt x="11" y="376"/>
                          </a:lnTo>
                          <a:lnTo>
                            <a:pt x="11" y="373"/>
                          </a:lnTo>
                          <a:lnTo>
                            <a:pt x="11" y="369"/>
                          </a:lnTo>
                          <a:lnTo>
                            <a:pt x="12" y="362"/>
                          </a:lnTo>
                          <a:lnTo>
                            <a:pt x="12" y="351"/>
                          </a:lnTo>
                          <a:lnTo>
                            <a:pt x="14" y="340"/>
                          </a:lnTo>
                          <a:lnTo>
                            <a:pt x="15" y="329"/>
                          </a:lnTo>
                          <a:lnTo>
                            <a:pt x="18" y="316"/>
                          </a:lnTo>
                          <a:lnTo>
                            <a:pt x="20" y="304"/>
                          </a:lnTo>
                          <a:lnTo>
                            <a:pt x="24" y="293"/>
                          </a:lnTo>
                          <a:lnTo>
                            <a:pt x="28" y="284"/>
                          </a:lnTo>
                          <a:lnTo>
                            <a:pt x="10" y="245"/>
                          </a:lnTo>
                          <a:close/>
                        </a:path>
                      </a:pathLst>
                    </a:custGeom>
                    <a:solidFill>
                      <a:srgbClr val="e8fe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918720" y="1873800"/>
                      <a:ext cx="273600" cy="25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0" h="393">
                          <a:moveTo>
                            <a:pt x="7" y="183"/>
                          </a:moveTo>
                          <a:lnTo>
                            <a:pt x="7" y="182"/>
                          </a:lnTo>
                          <a:lnTo>
                            <a:pt x="4" y="176"/>
                          </a:lnTo>
                          <a:lnTo>
                            <a:pt x="3" y="168"/>
                          </a:lnTo>
                          <a:lnTo>
                            <a:pt x="1" y="156"/>
                          </a:lnTo>
                          <a:lnTo>
                            <a:pt x="0" y="142"/>
                          </a:lnTo>
                          <a:lnTo>
                            <a:pt x="0" y="128"/>
                          </a:lnTo>
                          <a:lnTo>
                            <a:pt x="1" y="111"/>
                          </a:lnTo>
                          <a:lnTo>
                            <a:pt x="4" y="95"/>
                          </a:lnTo>
                          <a:lnTo>
                            <a:pt x="9" y="79"/>
                          </a:lnTo>
                          <a:lnTo>
                            <a:pt x="19" y="64"/>
                          </a:lnTo>
                          <a:lnTo>
                            <a:pt x="19" y="63"/>
                          </a:lnTo>
                          <a:lnTo>
                            <a:pt x="20" y="61"/>
                          </a:lnTo>
                          <a:lnTo>
                            <a:pt x="21" y="58"/>
                          </a:lnTo>
                          <a:lnTo>
                            <a:pt x="24" y="53"/>
                          </a:lnTo>
                          <a:lnTo>
                            <a:pt x="28" y="49"/>
                          </a:lnTo>
                          <a:lnTo>
                            <a:pt x="33" y="44"/>
                          </a:lnTo>
                          <a:lnTo>
                            <a:pt x="39" y="38"/>
                          </a:lnTo>
                          <a:lnTo>
                            <a:pt x="45" y="33"/>
                          </a:lnTo>
                          <a:lnTo>
                            <a:pt x="53" y="28"/>
                          </a:lnTo>
                          <a:lnTo>
                            <a:pt x="63" y="22"/>
                          </a:lnTo>
                          <a:lnTo>
                            <a:pt x="71" y="18"/>
                          </a:lnTo>
                          <a:lnTo>
                            <a:pt x="77" y="16"/>
                          </a:lnTo>
                          <a:lnTo>
                            <a:pt x="85" y="12"/>
                          </a:lnTo>
                          <a:lnTo>
                            <a:pt x="95" y="10"/>
                          </a:lnTo>
                          <a:lnTo>
                            <a:pt x="104" y="9"/>
                          </a:lnTo>
                          <a:lnTo>
                            <a:pt x="113" y="6"/>
                          </a:lnTo>
                          <a:lnTo>
                            <a:pt x="124" y="5"/>
                          </a:lnTo>
                          <a:lnTo>
                            <a:pt x="135" y="5"/>
                          </a:lnTo>
                          <a:lnTo>
                            <a:pt x="147" y="5"/>
                          </a:lnTo>
                          <a:lnTo>
                            <a:pt x="160" y="5"/>
                          </a:lnTo>
                          <a:lnTo>
                            <a:pt x="215" y="2"/>
                          </a:lnTo>
                          <a:lnTo>
                            <a:pt x="217" y="2"/>
                          </a:lnTo>
                          <a:lnTo>
                            <a:pt x="223" y="2"/>
                          </a:lnTo>
                          <a:lnTo>
                            <a:pt x="233" y="0"/>
                          </a:lnTo>
                          <a:lnTo>
                            <a:pt x="245" y="0"/>
                          </a:lnTo>
                          <a:lnTo>
                            <a:pt x="260" y="0"/>
                          </a:lnTo>
                          <a:lnTo>
                            <a:pt x="276" y="2"/>
                          </a:lnTo>
                          <a:lnTo>
                            <a:pt x="292" y="4"/>
                          </a:lnTo>
                          <a:lnTo>
                            <a:pt x="309" y="7"/>
                          </a:lnTo>
                          <a:lnTo>
                            <a:pt x="327" y="13"/>
                          </a:lnTo>
                          <a:lnTo>
                            <a:pt x="341" y="19"/>
                          </a:lnTo>
                          <a:lnTo>
                            <a:pt x="343" y="20"/>
                          </a:lnTo>
                          <a:lnTo>
                            <a:pt x="347" y="22"/>
                          </a:lnTo>
                          <a:lnTo>
                            <a:pt x="352" y="24"/>
                          </a:lnTo>
                          <a:lnTo>
                            <a:pt x="359" y="26"/>
                          </a:lnTo>
                          <a:lnTo>
                            <a:pt x="367" y="31"/>
                          </a:lnTo>
                          <a:lnTo>
                            <a:pt x="375" y="37"/>
                          </a:lnTo>
                          <a:lnTo>
                            <a:pt x="383" y="43"/>
                          </a:lnTo>
                          <a:lnTo>
                            <a:pt x="391" y="51"/>
                          </a:lnTo>
                          <a:lnTo>
                            <a:pt x="397" y="61"/>
                          </a:lnTo>
                          <a:lnTo>
                            <a:pt x="403" y="72"/>
                          </a:lnTo>
                          <a:lnTo>
                            <a:pt x="404" y="74"/>
                          </a:lnTo>
                          <a:lnTo>
                            <a:pt x="404" y="76"/>
                          </a:lnTo>
                          <a:lnTo>
                            <a:pt x="405" y="81"/>
                          </a:lnTo>
                          <a:lnTo>
                            <a:pt x="407" y="87"/>
                          </a:lnTo>
                          <a:lnTo>
                            <a:pt x="409" y="94"/>
                          </a:lnTo>
                          <a:lnTo>
                            <a:pt x="411" y="101"/>
                          </a:lnTo>
                          <a:lnTo>
                            <a:pt x="412" y="108"/>
                          </a:lnTo>
                          <a:lnTo>
                            <a:pt x="412" y="116"/>
                          </a:lnTo>
                          <a:lnTo>
                            <a:pt x="412" y="123"/>
                          </a:lnTo>
                          <a:lnTo>
                            <a:pt x="412" y="130"/>
                          </a:lnTo>
                          <a:lnTo>
                            <a:pt x="413" y="190"/>
                          </a:lnTo>
                          <a:lnTo>
                            <a:pt x="413" y="192"/>
                          </a:lnTo>
                          <a:lnTo>
                            <a:pt x="413" y="193"/>
                          </a:lnTo>
                          <a:lnTo>
                            <a:pt x="415" y="196"/>
                          </a:lnTo>
                          <a:lnTo>
                            <a:pt x="416" y="201"/>
                          </a:lnTo>
                          <a:lnTo>
                            <a:pt x="417" y="206"/>
                          </a:lnTo>
                          <a:lnTo>
                            <a:pt x="417" y="213"/>
                          </a:lnTo>
                          <a:lnTo>
                            <a:pt x="419" y="220"/>
                          </a:lnTo>
                          <a:lnTo>
                            <a:pt x="420" y="228"/>
                          </a:lnTo>
                          <a:lnTo>
                            <a:pt x="420" y="238"/>
                          </a:lnTo>
                          <a:lnTo>
                            <a:pt x="420" y="247"/>
                          </a:lnTo>
                          <a:lnTo>
                            <a:pt x="420" y="253"/>
                          </a:lnTo>
                          <a:lnTo>
                            <a:pt x="419" y="260"/>
                          </a:lnTo>
                          <a:lnTo>
                            <a:pt x="417" y="266"/>
                          </a:lnTo>
                          <a:lnTo>
                            <a:pt x="417" y="273"/>
                          </a:lnTo>
                          <a:lnTo>
                            <a:pt x="415" y="280"/>
                          </a:lnTo>
                          <a:lnTo>
                            <a:pt x="413" y="287"/>
                          </a:lnTo>
                          <a:lnTo>
                            <a:pt x="411" y="294"/>
                          </a:lnTo>
                          <a:lnTo>
                            <a:pt x="408" y="301"/>
                          </a:lnTo>
                          <a:lnTo>
                            <a:pt x="405" y="310"/>
                          </a:lnTo>
                          <a:lnTo>
                            <a:pt x="403" y="317"/>
                          </a:lnTo>
                          <a:lnTo>
                            <a:pt x="401" y="317"/>
                          </a:lnTo>
                          <a:lnTo>
                            <a:pt x="401" y="319"/>
                          </a:lnTo>
                          <a:lnTo>
                            <a:pt x="399" y="323"/>
                          </a:lnTo>
                          <a:lnTo>
                            <a:pt x="397" y="327"/>
                          </a:lnTo>
                          <a:lnTo>
                            <a:pt x="393" y="332"/>
                          </a:lnTo>
                          <a:lnTo>
                            <a:pt x="389" y="337"/>
                          </a:lnTo>
                          <a:lnTo>
                            <a:pt x="384" y="343"/>
                          </a:lnTo>
                          <a:lnTo>
                            <a:pt x="379" y="350"/>
                          </a:lnTo>
                          <a:lnTo>
                            <a:pt x="371" y="356"/>
                          </a:lnTo>
                          <a:lnTo>
                            <a:pt x="363" y="362"/>
                          </a:lnTo>
                          <a:lnTo>
                            <a:pt x="359" y="364"/>
                          </a:lnTo>
                          <a:lnTo>
                            <a:pt x="355" y="366"/>
                          </a:lnTo>
                          <a:lnTo>
                            <a:pt x="351" y="367"/>
                          </a:lnTo>
                          <a:lnTo>
                            <a:pt x="345" y="370"/>
                          </a:lnTo>
                          <a:lnTo>
                            <a:pt x="341" y="372"/>
                          </a:lnTo>
                          <a:lnTo>
                            <a:pt x="336" y="373"/>
                          </a:lnTo>
                          <a:lnTo>
                            <a:pt x="331" y="376"/>
                          </a:lnTo>
                          <a:lnTo>
                            <a:pt x="325" y="377"/>
                          </a:lnTo>
                          <a:lnTo>
                            <a:pt x="319" y="378"/>
                          </a:lnTo>
                          <a:lnTo>
                            <a:pt x="313" y="378"/>
                          </a:lnTo>
                          <a:lnTo>
                            <a:pt x="311" y="379"/>
                          </a:lnTo>
                          <a:lnTo>
                            <a:pt x="307" y="379"/>
                          </a:lnTo>
                          <a:lnTo>
                            <a:pt x="300" y="380"/>
                          </a:lnTo>
                          <a:lnTo>
                            <a:pt x="292" y="382"/>
                          </a:lnTo>
                          <a:lnTo>
                            <a:pt x="283" y="383"/>
                          </a:lnTo>
                          <a:lnTo>
                            <a:pt x="272" y="383"/>
                          </a:lnTo>
                          <a:lnTo>
                            <a:pt x="263" y="383"/>
                          </a:lnTo>
                          <a:lnTo>
                            <a:pt x="252" y="383"/>
                          </a:lnTo>
                          <a:lnTo>
                            <a:pt x="244" y="382"/>
                          </a:lnTo>
                          <a:lnTo>
                            <a:pt x="236" y="380"/>
                          </a:lnTo>
                          <a:lnTo>
                            <a:pt x="235" y="380"/>
                          </a:lnTo>
                          <a:lnTo>
                            <a:pt x="232" y="382"/>
                          </a:lnTo>
                          <a:lnTo>
                            <a:pt x="227" y="383"/>
                          </a:lnTo>
                          <a:lnTo>
                            <a:pt x="219" y="385"/>
                          </a:lnTo>
                          <a:lnTo>
                            <a:pt x="211" y="388"/>
                          </a:lnTo>
                          <a:lnTo>
                            <a:pt x="200" y="389"/>
                          </a:lnTo>
                          <a:lnTo>
                            <a:pt x="188" y="391"/>
                          </a:lnTo>
                          <a:lnTo>
                            <a:pt x="176" y="392"/>
                          </a:lnTo>
                          <a:lnTo>
                            <a:pt x="161" y="393"/>
                          </a:lnTo>
                          <a:lnTo>
                            <a:pt x="147" y="393"/>
                          </a:lnTo>
                          <a:lnTo>
                            <a:pt x="139" y="392"/>
                          </a:lnTo>
                          <a:lnTo>
                            <a:pt x="129" y="392"/>
                          </a:lnTo>
                          <a:lnTo>
                            <a:pt x="121" y="391"/>
                          </a:lnTo>
                          <a:lnTo>
                            <a:pt x="112" y="389"/>
                          </a:lnTo>
                          <a:lnTo>
                            <a:pt x="103" y="388"/>
                          </a:lnTo>
                          <a:lnTo>
                            <a:pt x="93" y="385"/>
                          </a:lnTo>
                          <a:lnTo>
                            <a:pt x="85" y="382"/>
                          </a:lnTo>
                          <a:lnTo>
                            <a:pt x="76" y="379"/>
                          </a:lnTo>
                          <a:lnTo>
                            <a:pt x="67" y="375"/>
                          </a:lnTo>
                          <a:lnTo>
                            <a:pt x="57" y="371"/>
                          </a:lnTo>
                          <a:lnTo>
                            <a:pt x="56" y="370"/>
                          </a:lnTo>
                          <a:lnTo>
                            <a:pt x="52" y="367"/>
                          </a:lnTo>
                          <a:lnTo>
                            <a:pt x="47" y="364"/>
                          </a:lnTo>
                          <a:lnTo>
                            <a:pt x="40" y="358"/>
                          </a:lnTo>
                          <a:lnTo>
                            <a:pt x="33" y="350"/>
                          </a:lnTo>
                          <a:lnTo>
                            <a:pt x="27" y="341"/>
                          </a:lnTo>
                          <a:lnTo>
                            <a:pt x="19" y="330"/>
                          </a:lnTo>
                          <a:lnTo>
                            <a:pt x="13" y="316"/>
                          </a:lnTo>
                          <a:lnTo>
                            <a:pt x="9" y="300"/>
                          </a:lnTo>
                          <a:lnTo>
                            <a:pt x="8" y="282"/>
                          </a:lnTo>
                          <a:lnTo>
                            <a:pt x="8" y="281"/>
                          </a:lnTo>
                          <a:lnTo>
                            <a:pt x="8" y="277"/>
                          </a:lnTo>
                          <a:lnTo>
                            <a:pt x="8" y="272"/>
                          </a:lnTo>
                          <a:lnTo>
                            <a:pt x="8" y="264"/>
                          </a:lnTo>
                          <a:lnTo>
                            <a:pt x="9" y="255"/>
                          </a:lnTo>
                          <a:lnTo>
                            <a:pt x="11" y="247"/>
                          </a:lnTo>
                          <a:lnTo>
                            <a:pt x="12" y="238"/>
                          </a:lnTo>
                          <a:lnTo>
                            <a:pt x="15" y="228"/>
                          </a:lnTo>
                          <a:lnTo>
                            <a:pt x="17" y="221"/>
                          </a:lnTo>
                          <a:lnTo>
                            <a:pt x="20" y="214"/>
                          </a:lnTo>
                          <a:lnTo>
                            <a:pt x="7" y="185"/>
                          </a:lnTo>
                          <a:lnTo>
                            <a:pt x="7" y="18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699120" y="1668600"/>
                      <a:ext cx="912600" cy="85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1" h="1307">
                          <a:moveTo>
                            <a:pt x="1182" y="26"/>
                          </a:moveTo>
                          <a:lnTo>
                            <a:pt x="1182" y="29"/>
                          </a:lnTo>
                          <a:lnTo>
                            <a:pt x="1181" y="35"/>
                          </a:lnTo>
                          <a:lnTo>
                            <a:pt x="1178" y="43"/>
                          </a:lnTo>
                          <a:lnTo>
                            <a:pt x="1176" y="54"/>
                          </a:lnTo>
                          <a:lnTo>
                            <a:pt x="1173" y="65"/>
                          </a:lnTo>
                          <a:lnTo>
                            <a:pt x="1170" y="77"/>
                          </a:lnTo>
                          <a:lnTo>
                            <a:pt x="1168" y="89"/>
                          </a:lnTo>
                          <a:lnTo>
                            <a:pt x="1165" y="100"/>
                          </a:lnTo>
                          <a:lnTo>
                            <a:pt x="1164" y="108"/>
                          </a:lnTo>
                          <a:lnTo>
                            <a:pt x="1162" y="115"/>
                          </a:lnTo>
                          <a:lnTo>
                            <a:pt x="1161" y="120"/>
                          </a:lnTo>
                          <a:lnTo>
                            <a:pt x="1158" y="123"/>
                          </a:lnTo>
                          <a:lnTo>
                            <a:pt x="1153" y="128"/>
                          </a:lnTo>
                          <a:lnTo>
                            <a:pt x="1149" y="131"/>
                          </a:lnTo>
                          <a:lnTo>
                            <a:pt x="1144" y="134"/>
                          </a:lnTo>
                          <a:lnTo>
                            <a:pt x="1140" y="136"/>
                          </a:lnTo>
                          <a:lnTo>
                            <a:pt x="1134" y="139"/>
                          </a:lnTo>
                          <a:lnTo>
                            <a:pt x="1132" y="140"/>
                          </a:lnTo>
                          <a:lnTo>
                            <a:pt x="1129" y="141"/>
                          </a:lnTo>
                          <a:lnTo>
                            <a:pt x="1128" y="141"/>
                          </a:lnTo>
                          <a:lnTo>
                            <a:pt x="1125" y="141"/>
                          </a:lnTo>
                          <a:lnTo>
                            <a:pt x="1120" y="142"/>
                          </a:lnTo>
                          <a:lnTo>
                            <a:pt x="1112" y="143"/>
                          </a:lnTo>
                          <a:lnTo>
                            <a:pt x="1101" y="146"/>
                          </a:lnTo>
                          <a:lnTo>
                            <a:pt x="1089" y="148"/>
                          </a:lnTo>
                          <a:lnTo>
                            <a:pt x="1077" y="151"/>
                          </a:lnTo>
                          <a:lnTo>
                            <a:pt x="1065" y="155"/>
                          </a:lnTo>
                          <a:lnTo>
                            <a:pt x="1053" y="160"/>
                          </a:lnTo>
                          <a:lnTo>
                            <a:pt x="1042" y="164"/>
                          </a:lnTo>
                          <a:lnTo>
                            <a:pt x="1034" y="170"/>
                          </a:lnTo>
                          <a:lnTo>
                            <a:pt x="1026" y="180"/>
                          </a:lnTo>
                          <a:lnTo>
                            <a:pt x="1012" y="195"/>
                          </a:lnTo>
                          <a:lnTo>
                            <a:pt x="994" y="215"/>
                          </a:lnTo>
                          <a:lnTo>
                            <a:pt x="973" y="240"/>
                          </a:lnTo>
                          <a:lnTo>
                            <a:pt x="952" y="267"/>
                          </a:lnTo>
                          <a:lnTo>
                            <a:pt x="929" y="294"/>
                          </a:lnTo>
                          <a:lnTo>
                            <a:pt x="906" y="323"/>
                          </a:lnTo>
                          <a:lnTo>
                            <a:pt x="886" y="349"/>
                          </a:lnTo>
                          <a:lnTo>
                            <a:pt x="869" y="372"/>
                          </a:lnTo>
                          <a:lnTo>
                            <a:pt x="854" y="392"/>
                          </a:lnTo>
                          <a:lnTo>
                            <a:pt x="850" y="401"/>
                          </a:lnTo>
                          <a:lnTo>
                            <a:pt x="836" y="424"/>
                          </a:lnTo>
                          <a:lnTo>
                            <a:pt x="814" y="460"/>
                          </a:lnTo>
                          <a:lnTo>
                            <a:pt x="786" y="503"/>
                          </a:lnTo>
                          <a:lnTo>
                            <a:pt x="753" y="552"/>
                          </a:lnTo>
                          <a:lnTo>
                            <a:pt x="716" y="602"/>
                          </a:lnTo>
                          <a:lnTo>
                            <a:pt x="676" y="651"/>
                          </a:lnTo>
                          <a:lnTo>
                            <a:pt x="634" y="694"/>
                          </a:lnTo>
                          <a:lnTo>
                            <a:pt x="593" y="729"/>
                          </a:lnTo>
                          <a:lnTo>
                            <a:pt x="552" y="752"/>
                          </a:lnTo>
                          <a:lnTo>
                            <a:pt x="546" y="756"/>
                          </a:lnTo>
                          <a:lnTo>
                            <a:pt x="530" y="768"/>
                          </a:lnTo>
                          <a:lnTo>
                            <a:pt x="505" y="784"/>
                          </a:lnTo>
                          <a:lnTo>
                            <a:pt x="473" y="804"/>
                          </a:lnTo>
                          <a:lnTo>
                            <a:pt x="437" y="828"/>
                          </a:lnTo>
                          <a:lnTo>
                            <a:pt x="397" y="851"/>
                          </a:lnTo>
                          <a:lnTo>
                            <a:pt x="356" y="874"/>
                          </a:lnTo>
                          <a:lnTo>
                            <a:pt x="316" y="894"/>
                          </a:lnTo>
                          <a:lnTo>
                            <a:pt x="278" y="909"/>
                          </a:lnTo>
                          <a:lnTo>
                            <a:pt x="244" y="919"/>
                          </a:lnTo>
                          <a:lnTo>
                            <a:pt x="240" y="920"/>
                          </a:lnTo>
                          <a:lnTo>
                            <a:pt x="230" y="923"/>
                          </a:lnTo>
                          <a:lnTo>
                            <a:pt x="214" y="929"/>
                          </a:lnTo>
                          <a:lnTo>
                            <a:pt x="196" y="936"/>
                          </a:lnTo>
                          <a:lnTo>
                            <a:pt x="174" y="943"/>
                          </a:lnTo>
                          <a:lnTo>
                            <a:pt x="153" y="952"/>
                          </a:lnTo>
                          <a:lnTo>
                            <a:pt x="130" y="960"/>
                          </a:lnTo>
                          <a:lnTo>
                            <a:pt x="112" y="967"/>
                          </a:lnTo>
                          <a:lnTo>
                            <a:pt x="96" y="974"/>
                          </a:lnTo>
                          <a:lnTo>
                            <a:pt x="85" y="980"/>
                          </a:lnTo>
                          <a:lnTo>
                            <a:pt x="76" y="986"/>
                          </a:lnTo>
                          <a:lnTo>
                            <a:pt x="68" y="995"/>
                          </a:lnTo>
                          <a:lnTo>
                            <a:pt x="60" y="1006"/>
                          </a:lnTo>
                          <a:lnTo>
                            <a:pt x="53" y="1017"/>
                          </a:lnTo>
                          <a:lnTo>
                            <a:pt x="46" y="1028"/>
                          </a:lnTo>
                          <a:lnTo>
                            <a:pt x="40" y="1040"/>
                          </a:lnTo>
                          <a:lnTo>
                            <a:pt x="34" y="1052"/>
                          </a:lnTo>
                          <a:lnTo>
                            <a:pt x="30" y="1061"/>
                          </a:lnTo>
                          <a:lnTo>
                            <a:pt x="28" y="1069"/>
                          </a:lnTo>
                          <a:lnTo>
                            <a:pt x="25" y="1073"/>
                          </a:lnTo>
                          <a:lnTo>
                            <a:pt x="24" y="1077"/>
                          </a:lnTo>
                          <a:lnTo>
                            <a:pt x="24" y="1083"/>
                          </a:lnTo>
                          <a:lnTo>
                            <a:pt x="22" y="1089"/>
                          </a:lnTo>
                          <a:lnTo>
                            <a:pt x="21" y="1097"/>
                          </a:lnTo>
                          <a:lnTo>
                            <a:pt x="20" y="1105"/>
                          </a:lnTo>
                          <a:lnTo>
                            <a:pt x="18" y="1112"/>
                          </a:lnTo>
                          <a:lnTo>
                            <a:pt x="16" y="1121"/>
                          </a:lnTo>
                          <a:lnTo>
                            <a:pt x="13" y="1128"/>
                          </a:lnTo>
                          <a:lnTo>
                            <a:pt x="9" y="1133"/>
                          </a:lnTo>
                          <a:lnTo>
                            <a:pt x="5" y="1139"/>
                          </a:lnTo>
                          <a:lnTo>
                            <a:pt x="2" y="1144"/>
                          </a:lnTo>
                          <a:lnTo>
                            <a:pt x="0" y="1150"/>
                          </a:lnTo>
                          <a:lnTo>
                            <a:pt x="0" y="1156"/>
                          </a:lnTo>
                          <a:lnTo>
                            <a:pt x="1" y="1163"/>
                          </a:lnTo>
                          <a:lnTo>
                            <a:pt x="2" y="1169"/>
                          </a:lnTo>
                          <a:lnTo>
                            <a:pt x="4" y="1176"/>
                          </a:lnTo>
                          <a:lnTo>
                            <a:pt x="6" y="1181"/>
                          </a:lnTo>
                          <a:lnTo>
                            <a:pt x="8" y="1185"/>
                          </a:lnTo>
                          <a:lnTo>
                            <a:pt x="9" y="1188"/>
                          </a:lnTo>
                          <a:lnTo>
                            <a:pt x="10" y="1189"/>
                          </a:lnTo>
                          <a:lnTo>
                            <a:pt x="10" y="1189"/>
                          </a:lnTo>
                          <a:lnTo>
                            <a:pt x="14" y="1189"/>
                          </a:lnTo>
                          <a:lnTo>
                            <a:pt x="18" y="1189"/>
                          </a:lnTo>
                          <a:lnTo>
                            <a:pt x="24" y="1190"/>
                          </a:lnTo>
                          <a:lnTo>
                            <a:pt x="30" y="1190"/>
                          </a:lnTo>
                          <a:lnTo>
                            <a:pt x="37" y="1191"/>
                          </a:lnTo>
                          <a:lnTo>
                            <a:pt x="45" y="1194"/>
                          </a:lnTo>
                          <a:lnTo>
                            <a:pt x="52" y="1196"/>
                          </a:lnTo>
                          <a:lnTo>
                            <a:pt x="58" y="1200"/>
                          </a:lnTo>
                          <a:lnTo>
                            <a:pt x="65" y="1204"/>
                          </a:lnTo>
                          <a:lnTo>
                            <a:pt x="73" y="1211"/>
                          </a:lnTo>
                          <a:lnTo>
                            <a:pt x="84" y="1218"/>
                          </a:lnTo>
                          <a:lnTo>
                            <a:pt x="98" y="1226"/>
                          </a:lnTo>
                          <a:lnTo>
                            <a:pt x="113" y="1234"/>
                          </a:lnTo>
                          <a:lnTo>
                            <a:pt x="128" y="1242"/>
                          </a:lnTo>
                          <a:lnTo>
                            <a:pt x="144" y="1250"/>
                          </a:lnTo>
                          <a:lnTo>
                            <a:pt x="156" y="1256"/>
                          </a:lnTo>
                          <a:lnTo>
                            <a:pt x="166" y="1262"/>
                          </a:lnTo>
                          <a:lnTo>
                            <a:pt x="174" y="1266"/>
                          </a:lnTo>
                          <a:lnTo>
                            <a:pt x="177" y="1267"/>
                          </a:lnTo>
                          <a:lnTo>
                            <a:pt x="178" y="1268"/>
                          </a:lnTo>
                          <a:lnTo>
                            <a:pt x="181" y="1270"/>
                          </a:lnTo>
                          <a:lnTo>
                            <a:pt x="188" y="1275"/>
                          </a:lnTo>
                          <a:lnTo>
                            <a:pt x="196" y="1280"/>
                          </a:lnTo>
                          <a:lnTo>
                            <a:pt x="208" y="1286"/>
                          </a:lnTo>
                          <a:lnTo>
                            <a:pt x="222" y="1292"/>
                          </a:lnTo>
                          <a:lnTo>
                            <a:pt x="240" y="1298"/>
                          </a:lnTo>
                          <a:lnTo>
                            <a:pt x="261" y="1302"/>
                          </a:lnTo>
                          <a:lnTo>
                            <a:pt x="285" y="1305"/>
                          </a:lnTo>
                          <a:lnTo>
                            <a:pt x="313" y="1307"/>
                          </a:lnTo>
                          <a:lnTo>
                            <a:pt x="332" y="1307"/>
                          </a:lnTo>
                          <a:lnTo>
                            <a:pt x="352" y="1306"/>
                          </a:lnTo>
                          <a:lnTo>
                            <a:pt x="374" y="1305"/>
                          </a:lnTo>
                          <a:lnTo>
                            <a:pt x="397" y="1301"/>
                          </a:lnTo>
                          <a:lnTo>
                            <a:pt x="421" y="1298"/>
                          </a:lnTo>
                          <a:lnTo>
                            <a:pt x="448" y="1293"/>
                          </a:lnTo>
                          <a:lnTo>
                            <a:pt x="474" y="1286"/>
                          </a:lnTo>
                          <a:lnTo>
                            <a:pt x="504" y="1279"/>
                          </a:lnTo>
                          <a:lnTo>
                            <a:pt x="534" y="1269"/>
                          </a:lnTo>
                          <a:lnTo>
                            <a:pt x="566" y="1257"/>
                          </a:lnTo>
                          <a:lnTo>
                            <a:pt x="585" y="1253"/>
                          </a:lnTo>
                          <a:lnTo>
                            <a:pt x="636" y="1235"/>
                          </a:lnTo>
                          <a:lnTo>
                            <a:pt x="713" y="1205"/>
                          </a:lnTo>
                          <a:lnTo>
                            <a:pt x="806" y="1161"/>
                          </a:lnTo>
                          <a:lnTo>
                            <a:pt x="912" y="1100"/>
                          </a:lnTo>
                          <a:lnTo>
                            <a:pt x="1021" y="1023"/>
                          </a:lnTo>
                          <a:lnTo>
                            <a:pt x="1126" y="926"/>
                          </a:lnTo>
                          <a:lnTo>
                            <a:pt x="1222" y="809"/>
                          </a:lnTo>
                          <a:lnTo>
                            <a:pt x="1298" y="671"/>
                          </a:lnTo>
                          <a:lnTo>
                            <a:pt x="1352" y="510"/>
                          </a:lnTo>
                          <a:lnTo>
                            <a:pt x="1352" y="506"/>
                          </a:lnTo>
                          <a:lnTo>
                            <a:pt x="1356" y="490"/>
                          </a:lnTo>
                          <a:lnTo>
                            <a:pt x="1360" y="468"/>
                          </a:lnTo>
                          <a:lnTo>
                            <a:pt x="1364" y="438"/>
                          </a:lnTo>
                          <a:lnTo>
                            <a:pt x="1366" y="402"/>
                          </a:lnTo>
                          <a:lnTo>
                            <a:pt x="1368" y="360"/>
                          </a:lnTo>
                          <a:lnTo>
                            <a:pt x="1366" y="316"/>
                          </a:lnTo>
                          <a:lnTo>
                            <a:pt x="1361" y="267"/>
                          </a:lnTo>
                          <a:lnTo>
                            <a:pt x="1352" y="218"/>
                          </a:lnTo>
                          <a:lnTo>
                            <a:pt x="1336" y="168"/>
                          </a:lnTo>
                          <a:lnTo>
                            <a:pt x="1337" y="167"/>
                          </a:lnTo>
                          <a:lnTo>
                            <a:pt x="1341" y="163"/>
                          </a:lnTo>
                          <a:lnTo>
                            <a:pt x="1346" y="159"/>
                          </a:lnTo>
                          <a:lnTo>
                            <a:pt x="1353" y="153"/>
                          </a:lnTo>
                          <a:lnTo>
                            <a:pt x="1361" y="144"/>
                          </a:lnTo>
                          <a:lnTo>
                            <a:pt x="1369" y="135"/>
                          </a:lnTo>
                          <a:lnTo>
                            <a:pt x="1377" y="126"/>
                          </a:lnTo>
                          <a:lnTo>
                            <a:pt x="1385" y="114"/>
                          </a:lnTo>
                          <a:lnTo>
                            <a:pt x="1392" y="102"/>
                          </a:lnTo>
                          <a:lnTo>
                            <a:pt x="1397" y="90"/>
                          </a:lnTo>
                          <a:lnTo>
                            <a:pt x="1398" y="84"/>
                          </a:lnTo>
                          <a:lnTo>
                            <a:pt x="1400" y="79"/>
                          </a:lnTo>
                          <a:lnTo>
                            <a:pt x="1401" y="74"/>
                          </a:lnTo>
                          <a:lnTo>
                            <a:pt x="1401" y="69"/>
                          </a:lnTo>
                          <a:lnTo>
                            <a:pt x="1401" y="63"/>
                          </a:lnTo>
                          <a:lnTo>
                            <a:pt x="1401" y="57"/>
                          </a:lnTo>
                          <a:lnTo>
                            <a:pt x="1400" y="52"/>
                          </a:lnTo>
                          <a:lnTo>
                            <a:pt x="1398" y="46"/>
                          </a:lnTo>
                          <a:lnTo>
                            <a:pt x="1396" y="42"/>
                          </a:lnTo>
                          <a:lnTo>
                            <a:pt x="1393" y="36"/>
                          </a:lnTo>
                          <a:lnTo>
                            <a:pt x="1312" y="0"/>
                          </a:lnTo>
                          <a:lnTo>
                            <a:pt x="1308" y="0"/>
                          </a:lnTo>
                          <a:lnTo>
                            <a:pt x="1298" y="2"/>
                          </a:lnTo>
                          <a:lnTo>
                            <a:pt x="1284" y="3"/>
                          </a:lnTo>
                          <a:lnTo>
                            <a:pt x="1266" y="5"/>
                          </a:lnTo>
                          <a:lnTo>
                            <a:pt x="1246" y="7"/>
                          </a:lnTo>
                          <a:lnTo>
                            <a:pt x="1228" y="10"/>
                          </a:lnTo>
                          <a:lnTo>
                            <a:pt x="1210" y="13"/>
                          </a:lnTo>
                          <a:lnTo>
                            <a:pt x="1196" y="17"/>
                          </a:lnTo>
                          <a:lnTo>
                            <a:pt x="1186" y="22"/>
                          </a:lnTo>
                          <a:lnTo>
                            <a:pt x="1182" y="26"/>
                          </a:lnTo>
                          <a:close/>
                        </a:path>
                      </a:pathLst>
                    </a:custGeom>
                    <a:solidFill>
                      <a:srgbClr val="ffd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700200" y="2386800"/>
                      <a:ext cx="54000" cy="5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" h="82">
                          <a:moveTo>
                            <a:pt x="15" y="0"/>
                          </a:moveTo>
                          <a:lnTo>
                            <a:pt x="15" y="3"/>
                          </a:lnTo>
                          <a:lnTo>
                            <a:pt x="15" y="5"/>
                          </a:lnTo>
                          <a:lnTo>
                            <a:pt x="14" y="9"/>
                          </a:lnTo>
                          <a:lnTo>
                            <a:pt x="14" y="12"/>
                          </a:lnTo>
                          <a:lnTo>
                            <a:pt x="12" y="16"/>
                          </a:lnTo>
                          <a:lnTo>
                            <a:pt x="11" y="19"/>
                          </a:lnTo>
                          <a:lnTo>
                            <a:pt x="10" y="23"/>
                          </a:lnTo>
                          <a:lnTo>
                            <a:pt x="10" y="25"/>
                          </a:lnTo>
                          <a:lnTo>
                            <a:pt x="8" y="29"/>
                          </a:lnTo>
                          <a:lnTo>
                            <a:pt x="8" y="30"/>
                          </a:lnTo>
                          <a:lnTo>
                            <a:pt x="8" y="32"/>
                          </a:lnTo>
                          <a:lnTo>
                            <a:pt x="7" y="34"/>
                          </a:lnTo>
                          <a:lnTo>
                            <a:pt x="6" y="37"/>
                          </a:lnTo>
                          <a:lnTo>
                            <a:pt x="4" y="40"/>
                          </a:lnTo>
                          <a:lnTo>
                            <a:pt x="3" y="43"/>
                          </a:lnTo>
                          <a:lnTo>
                            <a:pt x="2" y="46"/>
                          </a:lnTo>
                          <a:lnTo>
                            <a:pt x="0" y="50"/>
                          </a:lnTo>
                          <a:lnTo>
                            <a:pt x="0" y="53"/>
                          </a:lnTo>
                          <a:lnTo>
                            <a:pt x="0" y="57"/>
                          </a:lnTo>
                          <a:lnTo>
                            <a:pt x="2" y="60"/>
                          </a:lnTo>
                          <a:lnTo>
                            <a:pt x="4" y="63"/>
                          </a:lnTo>
                          <a:lnTo>
                            <a:pt x="6" y="66"/>
                          </a:lnTo>
                          <a:lnTo>
                            <a:pt x="7" y="70"/>
                          </a:lnTo>
                          <a:lnTo>
                            <a:pt x="10" y="72"/>
                          </a:lnTo>
                          <a:lnTo>
                            <a:pt x="11" y="75"/>
                          </a:lnTo>
                          <a:lnTo>
                            <a:pt x="14" y="77"/>
                          </a:lnTo>
                          <a:lnTo>
                            <a:pt x="15" y="79"/>
                          </a:lnTo>
                          <a:lnTo>
                            <a:pt x="18" y="81"/>
                          </a:lnTo>
                          <a:lnTo>
                            <a:pt x="20" y="82"/>
                          </a:lnTo>
                          <a:lnTo>
                            <a:pt x="23" y="82"/>
                          </a:lnTo>
                          <a:lnTo>
                            <a:pt x="26" y="82"/>
                          </a:lnTo>
                          <a:lnTo>
                            <a:pt x="30" y="82"/>
                          </a:lnTo>
                          <a:lnTo>
                            <a:pt x="34" y="81"/>
                          </a:lnTo>
                          <a:lnTo>
                            <a:pt x="38" y="81"/>
                          </a:lnTo>
                          <a:lnTo>
                            <a:pt x="42" y="81"/>
                          </a:lnTo>
                          <a:lnTo>
                            <a:pt x="47" y="79"/>
                          </a:lnTo>
                          <a:lnTo>
                            <a:pt x="51" y="79"/>
                          </a:lnTo>
                          <a:lnTo>
                            <a:pt x="55" y="78"/>
                          </a:lnTo>
                          <a:lnTo>
                            <a:pt x="58" y="77"/>
                          </a:lnTo>
                          <a:lnTo>
                            <a:pt x="62" y="76"/>
                          </a:lnTo>
                          <a:lnTo>
                            <a:pt x="64" y="75"/>
                          </a:lnTo>
                          <a:lnTo>
                            <a:pt x="67" y="72"/>
                          </a:lnTo>
                          <a:lnTo>
                            <a:pt x="71" y="71"/>
                          </a:lnTo>
                          <a:lnTo>
                            <a:pt x="74" y="69"/>
                          </a:lnTo>
                          <a:lnTo>
                            <a:pt x="76" y="68"/>
                          </a:lnTo>
                          <a:lnTo>
                            <a:pt x="79" y="65"/>
                          </a:lnTo>
                          <a:lnTo>
                            <a:pt x="82" y="63"/>
                          </a:lnTo>
                          <a:lnTo>
                            <a:pt x="83" y="60"/>
                          </a:lnTo>
                          <a:lnTo>
                            <a:pt x="83" y="58"/>
                          </a:lnTo>
                          <a:lnTo>
                            <a:pt x="83" y="56"/>
                          </a:lnTo>
                          <a:lnTo>
                            <a:pt x="82" y="53"/>
                          </a:lnTo>
                          <a:lnTo>
                            <a:pt x="79" y="51"/>
                          </a:lnTo>
                          <a:lnTo>
                            <a:pt x="78" y="50"/>
                          </a:lnTo>
                          <a:lnTo>
                            <a:pt x="75" y="49"/>
                          </a:lnTo>
                          <a:lnTo>
                            <a:pt x="72" y="47"/>
                          </a:lnTo>
                          <a:lnTo>
                            <a:pt x="70" y="46"/>
                          </a:lnTo>
                          <a:lnTo>
                            <a:pt x="66" y="44"/>
                          </a:lnTo>
                          <a:lnTo>
                            <a:pt x="63" y="43"/>
                          </a:lnTo>
                          <a:lnTo>
                            <a:pt x="60" y="40"/>
                          </a:lnTo>
                          <a:lnTo>
                            <a:pt x="58" y="38"/>
                          </a:lnTo>
                          <a:lnTo>
                            <a:pt x="55" y="34"/>
                          </a:lnTo>
                          <a:lnTo>
                            <a:pt x="51" y="31"/>
                          </a:lnTo>
                          <a:lnTo>
                            <a:pt x="46" y="26"/>
                          </a:lnTo>
                          <a:lnTo>
                            <a:pt x="39" y="20"/>
                          </a:lnTo>
                          <a:lnTo>
                            <a:pt x="34" y="16"/>
                          </a:lnTo>
                          <a:lnTo>
                            <a:pt x="28" y="11"/>
                          </a:lnTo>
                          <a:lnTo>
                            <a:pt x="23" y="7"/>
                          </a:lnTo>
                          <a:lnTo>
                            <a:pt x="19" y="4"/>
                          </a:lnTo>
                          <a:lnTo>
                            <a:pt x="16" y="1"/>
                          </a:lnTo>
                          <a:lnTo>
                            <a:pt x="15" y="0"/>
                          </a:lnTo>
                          <a:close/>
                        </a:path>
                      </a:pathLst>
                    </a:custGeom>
                    <a:solidFill>
                      <a:srgbClr val="7f3b0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1474560" y="1667160"/>
                      <a:ext cx="11700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0" h="93">
                          <a:moveTo>
                            <a:pt x="0" y="20"/>
                          </a:moveTo>
                          <a:lnTo>
                            <a:pt x="2" y="19"/>
                          </a:lnTo>
                          <a:lnTo>
                            <a:pt x="3" y="19"/>
                          </a:lnTo>
                          <a:lnTo>
                            <a:pt x="4" y="18"/>
                          </a:lnTo>
                          <a:lnTo>
                            <a:pt x="7" y="17"/>
                          </a:lnTo>
                          <a:lnTo>
                            <a:pt x="10" y="17"/>
                          </a:lnTo>
                          <a:lnTo>
                            <a:pt x="14" y="17"/>
                          </a:lnTo>
                          <a:lnTo>
                            <a:pt x="18" y="15"/>
                          </a:lnTo>
                          <a:lnTo>
                            <a:pt x="23" y="15"/>
                          </a:lnTo>
                          <a:lnTo>
                            <a:pt x="27" y="15"/>
                          </a:lnTo>
                          <a:lnTo>
                            <a:pt x="34" y="17"/>
                          </a:lnTo>
                          <a:lnTo>
                            <a:pt x="39" y="17"/>
                          </a:lnTo>
                          <a:lnTo>
                            <a:pt x="43" y="17"/>
                          </a:lnTo>
                          <a:lnTo>
                            <a:pt x="48" y="15"/>
                          </a:lnTo>
                          <a:lnTo>
                            <a:pt x="52" y="15"/>
                          </a:lnTo>
                          <a:lnTo>
                            <a:pt x="55" y="14"/>
                          </a:lnTo>
                          <a:lnTo>
                            <a:pt x="59" y="14"/>
                          </a:lnTo>
                          <a:lnTo>
                            <a:pt x="63" y="13"/>
                          </a:lnTo>
                          <a:lnTo>
                            <a:pt x="66" y="12"/>
                          </a:lnTo>
                          <a:lnTo>
                            <a:pt x="70" y="11"/>
                          </a:lnTo>
                          <a:lnTo>
                            <a:pt x="75" y="9"/>
                          </a:lnTo>
                          <a:lnTo>
                            <a:pt x="79" y="8"/>
                          </a:lnTo>
                          <a:lnTo>
                            <a:pt x="84" y="7"/>
                          </a:lnTo>
                          <a:lnTo>
                            <a:pt x="88" y="5"/>
                          </a:lnTo>
                          <a:lnTo>
                            <a:pt x="94" y="4"/>
                          </a:lnTo>
                          <a:lnTo>
                            <a:pt x="98" y="2"/>
                          </a:lnTo>
                          <a:lnTo>
                            <a:pt x="102" y="1"/>
                          </a:lnTo>
                          <a:lnTo>
                            <a:pt x="106" y="0"/>
                          </a:lnTo>
                          <a:lnTo>
                            <a:pt x="108" y="0"/>
                          </a:lnTo>
                          <a:lnTo>
                            <a:pt x="112" y="0"/>
                          </a:lnTo>
                          <a:lnTo>
                            <a:pt x="114" y="1"/>
                          </a:lnTo>
                          <a:lnTo>
                            <a:pt x="116" y="4"/>
                          </a:lnTo>
                          <a:lnTo>
                            <a:pt x="119" y="6"/>
                          </a:lnTo>
                          <a:lnTo>
                            <a:pt x="123" y="8"/>
                          </a:lnTo>
                          <a:lnTo>
                            <a:pt x="127" y="11"/>
                          </a:lnTo>
                          <a:lnTo>
                            <a:pt x="131" y="14"/>
                          </a:lnTo>
                          <a:lnTo>
                            <a:pt x="135" y="17"/>
                          </a:lnTo>
                          <a:lnTo>
                            <a:pt x="139" y="19"/>
                          </a:lnTo>
                          <a:lnTo>
                            <a:pt x="143" y="21"/>
                          </a:lnTo>
                          <a:lnTo>
                            <a:pt x="146" y="24"/>
                          </a:lnTo>
                          <a:lnTo>
                            <a:pt x="150" y="25"/>
                          </a:lnTo>
                          <a:lnTo>
                            <a:pt x="152" y="26"/>
                          </a:lnTo>
                          <a:lnTo>
                            <a:pt x="155" y="27"/>
                          </a:lnTo>
                          <a:lnTo>
                            <a:pt x="159" y="28"/>
                          </a:lnTo>
                          <a:lnTo>
                            <a:pt x="162" y="30"/>
                          </a:lnTo>
                          <a:lnTo>
                            <a:pt x="166" y="30"/>
                          </a:lnTo>
                          <a:lnTo>
                            <a:pt x="170" y="31"/>
                          </a:lnTo>
                          <a:lnTo>
                            <a:pt x="172" y="32"/>
                          </a:lnTo>
                          <a:lnTo>
                            <a:pt x="175" y="32"/>
                          </a:lnTo>
                          <a:lnTo>
                            <a:pt x="176" y="33"/>
                          </a:lnTo>
                          <a:lnTo>
                            <a:pt x="178" y="33"/>
                          </a:lnTo>
                          <a:lnTo>
                            <a:pt x="178" y="34"/>
                          </a:lnTo>
                          <a:lnTo>
                            <a:pt x="178" y="34"/>
                          </a:lnTo>
                          <a:lnTo>
                            <a:pt x="179" y="34"/>
                          </a:lnTo>
                          <a:lnTo>
                            <a:pt x="179" y="35"/>
                          </a:lnTo>
                          <a:lnTo>
                            <a:pt x="179" y="35"/>
                          </a:lnTo>
                          <a:lnTo>
                            <a:pt x="180" y="37"/>
                          </a:lnTo>
                          <a:lnTo>
                            <a:pt x="180" y="37"/>
                          </a:lnTo>
                          <a:lnTo>
                            <a:pt x="180" y="38"/>
                          </a:lnTo>
                          <a:lnTo>
                            <a:pt x="180" y="38"/>
                          </a:lnTo>
                          <a:lnTo>
                            <a:pt x="180" y="39"/>
                          </a:lnTo>
                          <a:lnTo>
                            <a:pt x="180" y="41"/>
                          </a:lnTo>
                          <a:lnTo>
                            <a:pt x="179" y="44"/>
                          </a:lnTo>
                          <a:lnTo>
                            <a:pt x="178" y="47"/>
                          </a:lnTo>
                          <a:lnTo>
                            <a:pt x="176" y="52"/>
                          </a:lnTo>
                          <a:lnTo>
                            <a:pt x="175" y="57"/>
                          </a:lnTo>
                          <a:lnTo>
                            <a:pt x="174" y="61"/>
                          </a:lnTo>
                          <a:lnTo>
                            <a:pt x="171" y="66"/>
                          </a:lnTo>
                          <a:lnTo>
                            <a:pt x="168" y="71"/>
                          </a:lnTo>
                          <a:lnTo>
                            <a:pt x="167" y="74"/>
                          </a:lnTo>
                          <a:lnTo>
                            <a:pt x="164" y="77"/>
                          </a:lnTo>
                          <a:lnTo>
                            <a:pt x="160" y="79"/>
                          </a:lnTo>
                          <a:lnTo>
                            <a:pt x="158" y="81"/>
                          </a:lnTo>
                          <a:lnTo>
                            <a:pt x="155" y="84"/>
                          </a:lnTo>
                          <a:lnTo>
                            <a:pt x="151" y="86"/>
                          </a:lnTo>
                          <a:lnTo>
                            <a:pt x="148" y="89"/>
                          </a:lnTo>
                          <a:lnTo>
                            <a:pt x="144" y="90"/>
                          </a:lnTo>
                          <a:lnTo>
                            <a:pt x="142" y="92"/>
                          </a:lnTo>
                          <a:lnTo>
                            <a:pt x="139" y="92"/>
                          </a:lnTo>
                          <a:lnTo>
                            <a:pt x="136" y="93"/>
                          </a:lnTo>
                          <a:lnTo>
                            <a:pt x="134" y="92"/>
                          </a:lnTo>
                          <a:lnTo>
                            <a:pt x="132" y="92"/>
                          </a:lnTo>
                          <a:lnTo>
                            <a:pt x="131" y="91"/>
                          </a:lnTo>
                          <a:lnTo>
                            <a:pt x="128" y="90"/>
                          </a:lnTo>
                          <a:lnTo>
                            <a:pt x="127" y="89"/>
                          </a:lnTo>
                          <a:lnTo>
                            <a:pt x="124" y="87"/>
                          </a:lnTo>
                          <a:lnTo>
                            <a:pt x="122" y="86"/>
                          </a:lnTo>
                          <a:lnTo>
                            <a:pt x="118" y="84"/>
                          </a:lnTo>
                          <a:lnTo>
                            <a:pt x="115" y="83"/>
                          </a:lnTo>
                          <a:lnTo>
                            <a:pt x="110" y="80"/>
                          </a:lnTo>
                          <a:lnTo>
                            <a:pt x="104" y="79"/>
                          </a:lnTo>
                          <a:lnTo>
                            <a:pt x="99" y="77"/>
                          </a:lnTo>
                          <a:lnTo>
                            <a:pt x="94" y="74"/>
                          </a:lnTo>
                          <a:lnTo>
                            <a:pt x="87" y="72"/>
                          </a:lnTo>
                          <a:lnTo>
                            <a:pt x="82" y="70"/>
                          </a:lnTo>
                          <a:lnTo>
                            <a:pt x="76" y="67"/>
                          </a:lnTo>
                          <a:lnTo>
                            <a:pt x="70" y="65"/>
                          </a:lnTo>
                          <a:lnTo>
                            <a:pt x="66" y="63"/>
                          </a:lnTo>
                          <a:lnTo>
                            <a:pt x="60" y="60"/>
                          </a:lnTo>
                          <a:lnTo>
                            <a:pt x="56" y="58"/>
                          </a:lnTo>
                          <a:lnTo>
                            <a:pt x="54" y="56"/>
                          </a:lnTo>
                          <a:lnTo>
                            <a:pt x="50" y="53"/>
                          </a:lnTo>
                          <a:lnTo>
                            <a:pt x="44" y="50"/>
                          </a:lnTo>
                          <a:lnTo>
                            <a:pt x="38" y="46"/>
                          </a:lnTo>
                          <a:lnTo>
                            <a:pt x="30" y="41"/>
                          </a:lnTo>
                          <a:lnTo>
                            <a:pt x="23" y="37"/>
                          </a:lnTo>
                          <a:lnTo>
                            <a:pt x="16" y="33"/>
                          </a:lnTo>
                          <a:lnTo>
                            <a:pt x="10" y="28"/>
                          </a:lnTo>
                          <a:lnTo>
                            <a:pt x="4" y="25"/>
                          </a:lnTo>
                          <a:lnTo>
                            <a:pt x="2" y="22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802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83000" y="1843560"/>
                      <a:ext cx="706680" cy="58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5" h="897">
                          <a:moveTo>
                            <a:pt x="981" y="0"/>
                          </a:moveTo>
                          <a:lnTo>
                            <a:pt x="965" y="2"/>
                          </a:lnTo>
                          <a:lnTo>
                            <a:pt x="952" y="4"/>
                          </a:lnTo>
                          <a:lnTo>
                            <a:pt x="940" y="7"/>
                          </a:lnTo>
                          <a:lnTo>
                            <a:pt x="929" y="15"/>
                          </a:lnTo>
                          <a:lnTo>
                            <a:pt x="921" y="23"/>
                          </a:lnTo>
                          <a:lnTo>
                            <a:pt x="913" y="35"/>
                          </a:lnTo>
                          <a:lnTo>
                            <a:pt x="907" y="50"/>
                          </a:lnTo>
                          <a:lnTo>
                            <a:pt x="900" y="69"/>
                          </a:lnTo>
                          <a:lnTo>
                            <a:pt x="892" y="91"/>
                          </a:lnTo>
                          <a:lnTo>
                            <a:pt x="885" y="117"/>
                          </a:lnTo>
                          <a:lnTo>
                            <a:pt x="875" y="153"/>
                          </a:lnTo>
                          <a:lnTo>
                            <a:pt x="860" y="197"/>
                          </a:lnTo>
                          <a:lnTo>
                            <a:pt x="841" y="248"/>
                          </a:lnTo>
                          <a:lnTo>
                            <a:pt x="820" y="304"/>
                          </a:lnTo>
                          <a:lnTo>
                            <a:pt x="795" y="362"/>
                          </a:lnTo>
                          <a:lnTo>
                            <a:pt x="768" y="417"/>
                          </a:lnTo>
                          <a:lnTo>
                            <a:pt x="739" y="469"/>
                          </a:lnTo>
                          <a:lnTo>
                            <a:pt x="709" y="515"/>
                          </a:lnTo>
                          <a:lnTo>
                            <a:pt x="679" y="552"/>
                          </a:lnTo>
                          <a:lnTo>
                            <a:pt x="648" y="575"/>
                          </a:lnTo>
                          <a:lnTo>
                            <a:pt x="613" y="596"/>
                          </a:lnTo>
                          <a:lnTo>
                            <a:pt x="571" y="621"/>
                          </a:lnTo>
                          <a:lnTo>
                            <a:pt x="521" y="650"/>
                          </a:lnTo>
                          <a:lnTo>
                            <a:pt x="469" y="680"/>
                          </a:lnTo>
                          <a:lnTo>
                            <a:pt x="416" y="710"/>
                          </a:lnTo>
                          <a:lnTo>
                            <a:pt x="364" y="738"/>
                          </a:lnTo>
                          <a:lnTo>
                            <a:pt x="316" y="763"/>
                          </a:lnTo>
                          <a:lnTo>
                            <a:pt x="275" y="783"/>
                          </a:lnTo>
                          <a:lnTo>
                            <a:pt x="241" y="796"/>
                          </a:lnTo>
                          <a:lnTo>
                            <a:pt x="219" y="801"/>
                          </a:lnTo>
                          <a:lnTo>
                            <a:pt x="199" y="801"/>
                          </a:lnTo>
                          <a:lnTo>
                            <a:pt x="173" y="802"/>
                          </a:lnTo>
                          <a:lnTo>
                            <a:pt x="143" y="804"/>
                          </a:lnTo>
                          <a:lnTo>
                            <a:pt x="109" y="808"/>
                          </a:lnTo>
                          <a:lnTo>
                            <a:pt x="77" y="812"/>
                          </a:lnTo>
                          <a:lnTo>
                            <a:pt x="48" y="817"/>
                          </a:lnTo>
                          <a:lnTo>
                            <a:pt x="24" y="823"/>
                          </a:lnTo>
                          <a:lnTo>
                            <a:pt x="7" y="830"/>
                          </a:lnTo>
                          <a:lnTo>
                            <a:pt x="0" y="838"/>
                          </a:lnTo>
                          <a:lnTo>
                            <a:pt x="4" y="847"/>
                          </a:lnTo>
                          <a:lnTo>
                            <a:pt x="16" y="856"/>
                          </a:lnTo>
                          <a:lnTo>
                            <a:pt x="28" y="864"/>
                          </a:lnTo>
                          <a:lnTo>
                            <a:pt x="40" y="871"/>
                          </a:lnTo>
                          <a:lnTo>
                            <a:pt x="52" y="878"/>
                          </a:lnTo>
                          <a:lnTo>
                            <a:pt x="64" y="883"/>
                          </a:lnTo>
                          <a:lnTo>
                            <a:pt x="76" y="888"/>
                          </a:lnTo>
                          <a:lnTo>
                            <a:pt x="87" y="893"/>
                          </a:lnTo>
                          <a:lnTo>
                            <a:pt x="99" y="895"/>
                          </a:lnTo>
                          <a:lnTo>
                            <a:pt x="111" y="896"/>
                          </a:lnTo>
                          <a:lnTo>
                            <a:pt x="123" y="897"/>
                          </a:lnTo>
                          <a:lnTo>
                            <a:pt x="149" y="893"/>
                          </a:lnTo>
                          <a:lnTo>
                            <a:pt x="203" y="880"/>
                          </a:lnTo>
                          <a:lnTo>
                            <a:pt x="277" y="855"/>
                          </a:lnTo>
                          <a:lnTo>
                            <a:pt x="369" y="818"/>
                          </a:lnTo>
                          <a:lnTo>
                            <a:pt x="473" y="769"/>
                          </a:lnTo>
                          <a:lnTo>
                            <a:pt x="587" y="704"/>
                          </a:lnTo>
                          <a:lnTo>
                            <a:pt x="703" y="622"/>
                          </a:lnTo>
                          <a:lnTo>
                            <a:pt x="817" y="523"/>
                          </a:lnTo>
                          <a:lnTo>
                            <a:pt x="927" y="404"/>
                          </a:lnTo>
                          <a:lnTo>
                            <a:pt x="1025" y="265"/>
                          </a:lnTo>
                          <a:lnTo>
                            <a:pt x="1029" y="258"/>
                          </a:lnTo>
                          <a:lnTo>
                            <a:pt x="1040" y="238"/>
                          </a:lnTo>
                          <a:lnTo>
                            <a:pt x="1055" y="209"/>
                          </a:lnTo>
                          <a:lnTo>
                            <a:pt x="1069" y="174"/>
                          </a:lnTo>
                          <a:lnTo>
                            <a:pt x="1080" y="135"/>
                          </a:lnTo>
                          <a:lnTo>
                            <a:pt x="1085" y="96"/>
                          </a:lnTo>
                          <a:lnTo>
                            <a:pt x="1081" y="61"/>
                          </a:lnTo>
                          <a:lnTo>
                            <a:pt x="1065" y="30"/>
                          </a:lnTo>
                          <a:lnTo>
                            <a:pt x="1033" y="10"/>
                          </a:lnTo>
                          <a:lnTo>
                            <a:pt x="981" y="2"/>
                          </a:lnTo>
                          <a:lnTo>
                            <a:pt x="981" y="0"/>
                          </a:lnTo>
                          <a:close/>
                        </a:path>
                      </a:pathLst>
                    </a:custGeom>
                    <a:solidFill>
                      <a:srgbClr val="ffd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25480" y="1873080"/>
                      <a:ext cx="649080" cy="53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6" h="822">
                          <a:moveTo>
                            <a:pt x="900" y="0"/>
                          </a:moveTo>
                          <a:lnTo>
                            <a:pt x="886" y="0"/>
                          </a:lnTo>
                          <a:lnTo>
                            <a:pt x="874" y="3"/>
                          </a:lnTo>
                          <a:lnTo>
                            <a:pt x="863" y="6"/>
                          </a:lnTo>
                          <a:lnTo>
                            <a:pt x="854" y="12"/>
                          </a:lnTo>
                          <a:lnTo>
                            <a:pt x="846" y="20"/>
                          </a:lnTo>
                          <a:lnTo>
                            <a:pt x="839" y="31"/>
                          </a:lnTo>
                          <a:lnTo>
                            <a:pt x="832" y="44"/>
                          </a:lnTo>
                          <a:lnTo>
                            <a:pt x="826" y="62"/>
                          </a:lnTo>
                          <a:lnTo>
                            <a:pt x="819" y="83"/>
                          </a:lnTo>
                          <a:lnTo>
                            <a:pt x="812" y="106"/>
                          </a:lnTo>
                          <a:lnTo>
                            <a:pt x="803" y="138"/>
                          </a:lnTo>
                          <a:lnTo>
                            <a:pt x="790" y="180"/>
                          </a:lnTo>
                          <a:lnTo>
                            <a:pt x="772" y="227"/>
                          </a:lnTo>
                          <a:lnTo>
                            <a:pt x="752" y="278"/>
                          </a:lnTo>
                          <a:lnTo>
                            <a:pt x="730" y="329"/>
                          </a:lnTo>
                          <a:lnTo>
                            <a:pt x="706" y="381"/>
                          </a:lnTo>
                          <a:lnTo>
                            <a:pt x="679" y="429"/>
                          </a:lnTo>
                          <a:lnTo>
                            <a:pt x="651" y="471"/>
                          </a:lnTo>
                          <a:lnTo>
                            <a:pt x="624" y="504"/>
                          </a:lnTo>
                          <a:lnTo>
                            <a:pt x="596" y="527"/>
                          </a:lnTo>
                          <a:lnTo>
                            <a:pt x="564" y="545"/>
                          </a:lnTo>
                          <a:lnTo>
                            <a:pt x="524" y="568"/>
                          </a:lnTo>
                          <a:lnTo>
                            <a:pt x="479" y="594"/>
                          </a:lnTo>
                          <a:lnTo>
                            <a:pt x="431" y="622"/>
                          </a:lnTo>
                          <a:lnTo>
                            <a:pt x="383" y="649"/>
                          </a:lnTo>
                          <a:lnTo>
                            <a:pt x="335" y="675"/>
                          </a:lnTo>
                          <a:lnTo>
                            <a:pt x="291" y="698"/>
                          </a:lnTo>
                          <a:lnTo>
                            <a:pt x="252" y="717"/>
                          </a:lnTo>
                          <a:lnTo>
                            <a:pt x="223" y="728"/>
                          </a:lnTo>
                          <a:lnTo>
                            <a:pt x="203" y="732"/>
                          </a:lnTo>
                          <a:lnTo>
                            <a:pt x="184" y="733"/>
                          </a:lnTo>
                          <a:lnTo>
                            <a:pt x="160" y="734"/>
                          </a:lnTo>
                          <a:lnTo>
                            <a:pt x="132" y="737"/>
                          </a:lnTo>
                          <a:lnTo>
                            <a:pt x="102" y="739"/>
                          </a:lnTo>
                          <a:lnTo>
                            <a:pt x="72" y="744"/>
                          </a:lnTo>
                          <a:lnTo>
                            <a:pt x="46" y="748"/>
                          </a:lnTo>
                          <a:lnTo>
                            <a:pt x="23" y="753"/>
                          </a:lnTo>
                          <a:lnTo>
                            <a:pt x="7" y="760"/>
                          </a:lnTo>
                          <a:lnTo>
                            <a:pt x="0" y="767"/>
                          </a:lnTo>
                          <a:lnTo>
                            <a:pt x="6" y="776"/>
                          </a:lnTo>
                          <a:lnTo>
                            <a:pt x="16" y="784"/>
                          </a:lnTo>
                          <a:lnTo>
                            <a:pt x="27" y="791"/>
                          </a:lnTo>
                          <a:lnTo>
                            <a:pt x="38" y="798"/>
                          </a:lnTo>
                          <a:lnTo>
                            <a:pt x="48" y="804"/>
                          </a:lnTo>
                          <a:lnTo>
                            <a:pt x="60" y="809"/>
                          </a:lnTo>
                          <a:lnTo>
                            <a:pt x="71" y="813"/>
                          </a:lnTo>
                          <a:lnTo>
                            <a:pt x="82" y="817"/>
                          </a:lnTo>
                          <a:lnTo>
                            <a:pt x="92" y="819"/>
                          </a:lnTo>
                          <a:lnTo>
                            <a:pt x="103" y="820"/>
                          </a:lnTo>
                          <a:lnTo>
                            <a:pt x="114" y="822"/>
                          </a:lnTo>
                          <a:lnTo>
                            <a:pt x="138" y="818"/>
                          </a:lnTo>
                          <a:lnTo>
                            <a:pt x="187" y="805"/>
                          </a:lnTo>
                          <a:lnTo>
                            <a:pt x="255" y="783"/>
                          </a:lnTo>
                          <a:lnTo>
                            <a:pt x="340" y="750"/>
                          </a:lnTo>
                          <a:lnTo>
                            <a:pt x="436" y="704"/>
                          </a:lnTo>
                          <a:lnTo>
                            <a:pt x="539" y="645"/>
                          </a:lnTo>
                          <a:lnTo>
                            <a:pt x="646" y="569"/>
                          </a:lnTo>
                          <a:lnTo>
                            <a:pt x="751" y="478"/>
                          </a:lnTo>
                          <a:lnTo>
                            <a:pt x="851" y="370"/>
                          </a:lnTo>
                          <a:lnTo>
                            <a:pt x="942" y="242"/>
                          </a:lnTo>
                          <a:lnTo>
                            <a:pt x="946" y="235"/>
                          </a:lnTo>
                          <a:lnTo>
                            <a:pt x="955" y="217"/>
                          </a:lnTo>
                          <a:lnTo>
                            <a:pt x="968" y="190"/>
                          </a:lnTo>
                          <a:lnTo>
                            <a:pt x="982" y="158"/>
                          </a:lnTo>
                          <a:lnTo>
                            <a:pt x="992" y="123"/>
                          </a:lnTo>
                          <a:lnTo>
                            <a:pt x="996" y="86"/>
                          </a:lnTo>
                          <a:lnTo>
                            <a:pt x="994" y="54"/>
                          </a:lnTo>
                          <a:lnTo>
                            <a:pt x="978" y="26"/>
                          </a:lnTo>
                          <a:lnTo>
                            <a:pt x="948" y="7"/>
                          </a:lnTo>
                          <a:lnTo>
                            <a:pt x="902" y="0"/>
                          </a:lnTo>
                          <a:lnTo>
                            <a:pt x="900" y="0"/>
                          </a:lnTo>
                          <a:close/>
                        </a:path>
                      </a:pathLst>
                    </a:custGeom>
                    <a:solidFill>
                      <a:srgbClr val="ffdb1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69040" y="1901880"/>
                      <a:ext cx="589680" cy="48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5" h="747">
                          <a:moveTo>
                            <a:pt x="819" y="0"/>
                          </a:moveTo>
                          <a:lnTo>
                            <a:pt x="805" y="0"/>
                          </a:lnTo>
                          <a:lnTo>
                            <a:pt x="793" y="2"/>
                          </a:lnTo>
                          <a:lnTo>
                            <a:pt x="784" y="6"/>
                          </a:lnTo>
                          <a:lnTo>
                            <a:pt x="776" y="10"/>
                          </a:lnTo>
                          <a:lnTo>
                            <a:pt x="768" y="18"/>
                          </a:lnTo>
                          <a:lnTo>
                            <a:pt x="763" y="28"/>
                          </a:lnTo>
                          <a:lnTo>
                            <a:pt x="756" y="40"/>
                          </a:lnTo>
                          <a:lnTo>
                            <a:pt x="751" y="55"/>
                          </a:lnTo>
                          <a:lnTo>
                            <a:pt x="745" y="74"/>
                          </a:lnTo>
                          <a:lnTo>
                            <a:pt x="739" y="97"/>
                          </a:lnTo>
                          <a:lnTo>
                            <a:pt x="729" y="126"/>
                          </a:lnTo>
                          <a:lnTo>
                            <a:pt x="717" y="163"/>
                          </a:lnTo>
                          <a:lnTo>
                            <a:pt x="703" y="205"/>
                          </a:lnTo>
                          <a:lnTo>
                            <a:pt x="684" y="252"/>
                          </a:lnTo>
                          <a:lnTo>
                            <a:pt x="663" y="300"/>
                          </a:lnTo>
                          <a:lnTo>
                            <a:pt x="641" y="347"/>
                          </a:lnTo>
                          <a:lnTo>
                            <a:pt x="617" y="389"/>
                          </a:lnTo>
                          <a:lnTo>
                            <a:pt x="592" y="428"/>
                          </a:lnTo>
                          <a:lnTo>
                            <a:pt x="567" y="458"/>
                          </a:lnTo>
                          <a:lnTo>
                            <a:pt x="541" y="478"/>
                          </a:lnTo>
                          <a:lnTo>
                            <a:pt x="512" y="496"/>
                          </a:lnTo>
                          <a:lnTo>
                            <a:pt x="476" y="517"/>
                          </a:lnTo>
                          <a:lnTo>
                            <a:pt x="436" y="540"/>
                          </a:lnTo>
                          <a:lnTo>
                            <a:pt x="392" y="565"/>
                          </a:lnTo>
                          <a:lnTo>
                            <a:pt x="348" y="590"/>
                          </a:lnTo>
                          <a:lnTo>
                            <a:pt x="304" y="614"/>
                          </a:lnTo>
                          <a:lnTo>
                            <a:pt x="264" y="635"/>
                          </a:lnTo>
                          <a:lnTo>
                            <a:pt x="229" y="651"/>
                          </a:lnTo>
                          <a:lnTo>
                            <a:pt x="201" y="662"/>
                          </a:lnTo>
                          <a:lnTo>
                            <a:pt x="184" y="666"/>
                          </a:lnTo>
                          <a:lnTo>
                            <a:pt x="167" y="667"/>
                          </a:lnTo>
                          <a:lnTo>
                            <a:pt x="145" y="668"/>
                          </a:lnTo>
                          <a:lnTo>
                            <a:pt x="120" y="669"/>
                          </a:lnTo>
                          <a:lnTo>
                            <a:pt x="92" y="671"/>
                          </a:lnTo>
                          <a:lnTo>
                            <a:pt x="65" y="675"/>
                          </a:lnTo>
                          <a:lnTo>
                            <a:pt x="41" y="680"/>
                          </a:lnTo>
                          <a:lnTo>
                            <a:pt x="20" y="684"/>
                          </a:lnTo>
                          <a:lnTo>
                            <a:pt x="7" y="690"/>
                          </a:lnTo>
                          <a:lnTo>
                            <a:pt x="0" y="697"/>
                          </a:lnTo>
                          <a:lnTo>
                            <a:pt x="5" y="704"/>
                          </a:lnTo>
                          <a:lnTo>
                            <a:pt x="15" y="712"/>
                          </a:lnTo>
                          <a:lnTo>
                            <a:pt x="24" y="719"/>
                          </a:lnTo>
                          <a:lnTo>
                            <a:pt x="35" y="725"/>
                          </a:lnTo>
                          <a:lnTo>
                            <a:pt x="44" y="730"/>
                          </a:lnTo>
                          <a:lnTo>
                            <a:pt x="53" y="735"/>
                          </a:lnTo>
                          <a:lnTo>
                            <a:pt x="64" y="739"/>
                          </a:lnTo>
                          <a:lnTo>
                            <a:pt x="73" y="742"/>
                          </a:lnTo>
                          <a:lnTo>
                            <a:pt x="84" y="745"/>
                          </a:lnTo>
                          <a:lnTo>
                            <a:pt x="93" y="746"/>
                          </a:lnTo>
                          <a:lnTo>
                            <a:pt x="103" y="747"/>
                          </a:lnTo>
                          <a:lnTo>
                            <a:pt x="125" y="743"/>
                          </a:lnTo>
                          <a:lnTo>
                            <a:pt x="169" y="732"/>
                          </a:lnTo>
                          <a:lnTo>
                            <a:pt x="232" y="712"/>
                          </a:lnTo>
                          <a:lnTo>
                            <a:pt x="308" y="681"/>
                          </a:lnTo>
                          <a:lnTo>
                            <a:pt x="396" y="640"/>
                          </a:lnTo>
                          <a:lnTo>
                            <a:pt x="489" y="585"/>
                          </a:lnTo>
                          <a:lnTo>
                            <a:pt x="587" y="518"/>
                          </a:lnTo>
                          <a:lnTo>
                            <a:pt x="683" y="434"/>
                          </a:lnTo>
                          <a:lnTo>
                            <a:pt x="773" y="336"/>
                          </a:lnTo>
                          <a:lnTo>
                            <a:pt x="856" y="219"/>
                          </a:lnTo>
                          <a:lnTo>
                            <a:pt x="859" y="213"/>
                          </a:lnTo>
                          <a:lnTo>
                            <a:pt x="868" y="197"/>
                          </a:lnTo>
                          <a:lnTo>
                            <a:pt x="880" y="173"/>
                          </a:lnTo>
                          <a:lnTo>
                            <a:pt x="892" y="144"/>
                          </a:lnTo>
                          <a:lnTo>
                            <a:pt x="901" y="111"/>
                          </a:lnTo>
                          <a:lnTo>
                            <a:pt x="905" y="79"/>
                          </a:lnTo>
                          <a:lnTo>
                            <a:pt x="903" y="49"/>
                          </a:lnTo>
                          <a:lnTo>
                            <a:pt x="888" y="25"/>
                          </a:lnTo>
                          <a:lnTo>
                            <a:pt x="861" y="7"/>
                          </a:lnTo>
                          <a:lnTo>
                            <a:pt x="819" y="0"/>
                          </a:lnTo>
                          <a:close/>
                        </a:path>
                      </a:pathLst>
                    </a:custGeom>
                    <a:solidFill>
                      <a:srgbClr val="ffdf2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911520" y="1930680"/>
                      <a:ext cx="530640" cy="43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5" h="671">
                          <a:moveTo>
                            <a:pt x="736" y="0"/>
                          </a:moveTo>
                          <a:lnTo>
                            <a:pt x="724" y="0"/>
                          </a:lnTo>
                          <a:lnTo>
                            <a:pt x="715" y="2"/>
                          </a:lnTo>
                          <a:lnTo>
                            <a:pt x="706" y="4"/>
                          </a:lnTo>
                          <a:lnTo>
                            <a:pt x="698" y="9"/>
                          </a:lnTo>
                          <a:lnTo>
                            <a:pt x="692" y="16"/>
                          </a:lnTo>
                          <a:lnTo>
                            <a:pt x="686" y="24"/>
                          </a:lnTo>
                          <a:lnTo>
                            <a:pt x="680" y="36"/>
                          </a:lnTo>
                          <a:lnTo>
                            <a:pt x="675" y="50"/>
                          </a:lnTo>
                          <a:lnTo>
                            <a:pt x="671" y="67"/>
                          </a:lnTo>
                          <a:lnTo>
                            <a:pt x="664" y="87"/>
                          </a:lnTo>
                          <a:lnTo>
                            <a:pt x="656" y="113"/>
                          </a:lnTo>
                          <a:lnTo>
                            <a:pt x="646" y="146"/>
                          </a:lnTo>
                          <a:lnTo>
                            <a:pt x="632" y="185"/>
                          </a:lnTo>
                          <a:lnTo>
                            <a:pt x="615" y="226"/>
                          </a:lnTo>
                          <a:lnTo>
                            <a:pt x="596" y="270"/>
                          </a:lnTo>
                          <a:lnTo>
                            <a:pt x="576" y="311"/>
                          </a:lnTo>
                          <a:lnTo>
                            <a:pt x="555" y="350"/>
                          </a:lnTo>
                          <a:lnTo>
                            <a:pt x="532" y="384"/>
                          </a:lnTo>
                          <a:lnTo>
                            <a:pt x="510" y="411"/>
                          </a:lnTo>
                          <a:lnTo>
                            <a:pt x="487" y="430"/>
                          </a:lnTo>
                          <a:lnTo>
                            <a:pt x="460" y="446"/>
                          </a:lnTo>
                          <a:lnTo>
                            <a:pt x="428" y="465"/>
                          </a:lnTo>
                          <a:lnTo>
                            <a:pt x="392" y="486"/>
                          </a:lnTo>
                          <a:lnTo>
                            <a:pt x="352" y="508"/>
                          </a:lnTo>
                          <a:lnTo>
                            <a:pt x="312" y="531"/>
                          </a:lnTo>
                          <a:lnTo>
                            <a:pt x="274" y="552"/>
                          </a:lnTo>
                          <a:lnTo>
                            <a:pt x="238" y="571"/>
                          </a:lnTo>
                          <a:lnTo>
                            <a:pt x="207" y="586"/>
                          </a:lnTo>
                          <a:lnTo>
                            <a:pt x="182" y="596"/>
                          </a:lnTo>
                          <a:lnTo>
                            <a:pt x="166" y="599"/>
                          </a:lnTo>
                          <a:lnTo>
                            <a:pt x="151" y="599"/>
                          </a:lnTo>
                          <a:lnTo>
                            <a:pt x="131" y="600"/>
                          </a:lnTo>
                          <a:lnTo>
                            <a:pt x="107" y="603"/>
                          </a:lnTo>
                          <a:lnTo>
                            <a:pt x="83" y="605"/>
                          </a:lnTo>
                          <a:lnTo>
                            <a:pt x="59" y="607"/>
                          </a:lnTo>
                          <a:lnTo>
                            <a:pt x="36" y="612"/>
                          </a:lnTo>
                          <a:lnTo>
                            <a:pt x="19" y="616"/>
                          </a:lnTo>
                          <a:lnTo>
                            <a:pt x="6" y="622"/>
                          </a:lnTo>
                          <a:lnTo>
                            <a:pt x="0" y="627"/>
                          </a:lnTo>
                          <a:lnTo>
                            <a:pt x="4" y="633"/>
                          </a:lnTo>
                          <a:lnTo>
                            <a:pt x="14" y="640"/>
                          </a:lnTo>
                          <a:lnTo>
                            <a:pt x="22" y="646"/>
                          </a:lnTo>
                          <a:lnTo>
                            <a:pt x="31" y="652"/>
                          </a:lnTo>
                          <a:lnTo>
                            <a:pt x="40" y="657"/>
                          </a:lnTo>
                          <a:lnTo>
                            <a:pt x="48" y="662"/>
                          </a:lnTo>
                          <a:lnTo>
                            <a:pt x="58" y="665"/>
                          </a:lnTo>
                          <a:lnTo>
                            <a:pt x="67" y="668"/>
                          </a:lnTo>
                          <a:lnTo>
                            <a:pt x="75" y="670"/>
                          </a:lnTo>
                          <a:lnTo>
                            <a:pt x="84" y="671"/>
                          </a:lnTo>
                          <a:lnTo>
                            <a:pt x="92" y="671"/>
                          </a:lnTo>
                          <a:lnTo>
                            <a:pt x="112" y="669"/>
                          </a:lnTo>
                          <a:lnTo>
                            <a:pt x="152" y="658"/>
                          </a:lnTo>
                          <a:lnTo>
                            <a:pt x="208" y="640"/>
                          </a:lnTo>
                          <a:lnTo>
                            <a:pt x="278" y="613"/>
                          </a:lnTo>
                          <a:lnTo>
                            <a:pt x="356" y="576"/>
                          </a:lnTo>
                          <a:lnTo>
                            <a:pt x="440" y="527"/>
                          </a:lnTo>
                          <a:lnTo>
                            <a:pt x="528" y="466"/>
                          </a:lnTo>
                          <a:lnTo>
                            <a:pt x="614" y="391"/>
                          </a:lnTo>
                          <a:lnTo>
                            <a:pt x="696" y="302"/>
                          </a:lnTo>
                          <a:lnTo>
                            <a:pt x="770" y="198"/>
                          </a:lnTo>
                          <a:lnTo>
                            <a:pt x="774" y="192"/>
                          </a:lnTo>
                          <a:lnTo>
                            <a:pt x="782" y="178"/>
                          </a:lnTo>
                          <a:lnTo>
                            <a:pt x="792" y="155"/>
                          </a:lnTo>
                          <a:lnTo>
                            <a:pt x="803" y="129"/>
                          </a:lnTo>
                          <a:lnTo>
                            <a:pt x="811" y="100"/>
                          </a:lnTo>
                          <a:lnTo>
                            <a:pt x="815" y="70"/>
                          </a:lnTo>
                          <a:lnTo>
                            <a:pt x="812" y="43"/>
                          </a:lnTo>
                          <a:lnTo>
                            <a:pt x="800" y="22"/>
                          </a:lnTo>
                          <a:lnTo>
                            <a:pt x="775" y="5"/>
                          </a:lnTo>
                          <a:lnTo>
                            <a:pt x="736" y="0"/>
                          </a:lnTo>
                          <a:close/>
                        </a:path>
                      </a:pathLst>
                    </a:custGeom>
                    <a:solidFill>
                      <a:srgbClr val="ffe43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955080" y="1958400"/>
                      <a:ext cx="471600" cy="38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4" h="597">
                          <a:moveTo>
                            <a:pt x="655" y="0"/>
                          </a:moveTo>
                          <a:lnTo>
                            <a:pt x="644" y="1"/>
                          </a:lnTo>
                          <a:lnTo>
                            <a:pt x="635" y="3"/>
                          </a:lnTo>
                          <a:lnTo>
                            <a:pt x="627" y="5"/>
                          </a:lnTo>
                          <a:lnTo>
                            <a:pt x="620" y="8"/>
                          </a:lnTo>
                          <a:lnTo>
                            <a:pt x="615" y="14"/>
                          </a:lnTo>
                          <a:lnTo>
                            <a:pt x="609" y="23"/>
                          </a:lnTo>
                          <a:lnTo>
                            <a:pt x="605" y="33"/>
                          </a:lnTo>
                          <a:lnTo>
                            <a:pt x="600" y="45"/>
                          </a:lnTo>
                          <a:lnTo>
                            <a:pt x="596" y="60"/>
                          </a:lnTo>
                          <a:lnTo>
                            <a:pt x="591" y="78"/>
                          </a:lnTo>
                          <a:lnTo>
                            <a:pt x="584" y="102"/>
                          </a:lnTo>
                          <a:lnTo>
                            <a:pt x="573" y="131"/>
                          </a:lnTo>
                          <a:lnTo>
                            <a:pt x="561" y="165"/>
                          </a:lnTo>
                          <a:lnTo>
                            <a:pt x="547" y="202"/>
                          </a:lnTo>
                          <a:lnTo>
                            <a:pt x="531" y="240"/>
                          </a:lnTo>
                          <a:lnTo>
                            <a:pt x="512" y="278"/>
                          </a:lnTo>
                          <a:lnTo>
                            <a:pt x="493" y="313"/>
                          </a:lnTo>
                          <a:lnTo>
                            <a:pt x="473" y="342"/>
                          </a:lnTo>
                          <a:lnTo>
                            <a:pt x="453" y="367"/>
                          </a:lnTo>
                          <a:lnTo>
                            <a:pt x="433" y="384"/>
                          </a:lnTo>
                          <a:lnTo>
                            <a:pt x="409" y="397"/>
                          </a:lnTo>
                          <a:lnTo>
                            <a:pt x="381" y="413"/>
                          </a:lnTo>
                          <a:lnTo>
                            <a:pt x="348" y="432"/>
                          </a:lnTo>
                          <a:lnTo>
                            <a:pt x="313" y="452"/>
                          </a:lnTo>
                          <a:lnTo>
                            <a:pt x="277" y="472"/>
                          </a:lnTo>
                          <a:lnTo>
                            <a:pt x="243" y="491"/>
                          </a:lnTo>
                          <a:lnTo>
                            <a:pt x="211" y="508"/>
                          </a:lnTo>
                          <a:lnTo>
                            <a:pt x="184" y="522"/>
                          </a:lnTo>
                          <a:lnTo>
                            <a:pt x="161" y="530"/>
                          </a:lnTo>
                          <a:lnTo>
                            <a:pt x="147" y="534"/>
                          </a:lnTo>
                          <a:lnTo>
                            <a:pt x="133" y="534"/>
                          </a:lnTo>
                          <a:lnTo>
                            <a:pt x="116" y="535"/>
                          </a:lnTo>
                          <a:lnTo>
                            <a:pt x="95" y="536"/>
                          </a:lnTo>
                          <a:lnTo>
                            <a:pt x="73" y="538"/>
                          </a:lnTo>
                          <a:lnTo>
                            <a:pt x="52" y="541"/>
                          </a:lnTo>
                          <a:lnTo>
                            <a:pt x="32" y="544"/>
                          </a:lnTo>
                          <a:lnTo>
                            <a:pt x="16" y="548"/>
                          </a:lnTo>
                          <a:lnTo>
                            <a:pt x="5" y="553"/>
                          </a:lnTo>
                          <a:lnTo>
                            <a:pt x="0" y="558"/>
                          </a:lnTo>
                          <a:lnTo>
                            <a:pt x="4" y="564"/>
                          </a:lnTo>
                          <a:lnTo>
                            <a:pt x="12" y="570"/>
                          </a:lnTo>
                          <a:lnTo>
                            <a:pt x="19" y="576"/>
                          </a:lnTo>
                          <a:lnTo>
                            <a:pt x="27" y="581"/>
                          </a:lnTo>
                          <a:lnTo>
                            <a:pt x="35" y="584"/>
                          </a:lnTo>
                          <a:lnTo>
                            <a:pt x="43" y="589"/>
                          </a:lnTo>
                          <a:lnTo>
                            <a:pt x="51" y="592"/>
                          </a:lnTo>
                          <a:lnTo>
                            <a:pt x="59" y="595"/>
                          </a:lnTo>
                          <a:lnTo>
                            <a:pt x="67" y="596"/>
                          </a:lnTo>
                          <a:lnTo>
                            <a:pt x="75" y="597"/>
                          </a:lnTo>
                          <a:lnTo>
                            <a:pt x="83" y="597"/>
                          </a:lnTo>
                          <a:lnTo>
                            <a:pt x="100" y="595"/>
                          </a:lnTo>
                          <a:lnTo>
                            <a:pt x="136" y="586"/>
                          </a:lnTo>
                          <a:lnTo>
                            <a:pt x="185" y="570"/>
                          </a:lnTo>
                          <a:lnTo>
                            <a:pt x="247" y="546"/>
                          </a:lnTo>
                          <a:lnTo>
                            <a:pt x="316" y="512"/>
                          </a:lnTo>
                          <a:lnTo>
                            <a:pt x="392" y="469"/>
                          </a:lnTo>
                          <a:lnTo>
                            <a:pt x="469" y="414"/>
                          </a:lnTo>
                          <a:lnTo>
                            <a:pt x="545" y="348"/>
                          </a:lnTo>
                          <a:lnTo>
                            <a:pt x="619" y="269"/>
                          </a:lnTo>
                          <a:lnTo>
                            <a:pt x="684" y="176"/>
                          </a:lnTo>
                          <a:lnTo>
                            <a:pt x="687" y="171"/>
                          </a:lnTo>
                          <a:lnTo>
                            <a:pt x="695" y="158"/>
                          </a:lnTo>
                          <a:lnTo>
                            <a:pt x="704" y="139"/>
                          </a:lnTo>
                          <a:lnTo>
                            <a:pt x="713" y="115"/>
                          </a:lnTo>
                          <a:lnTo>
                            <a:pt x="721" y="90"/>
                          </a:lnTo>
                          <a:lnTo>
                            <a:pt x="724" y="64"/>
                          </a:lnTo>
                          <a:lnTo>
                            <a:pt x="721" y="39"/>
                          </a:lnTo>
                          <a:lnTo>
                            <a:pt x="711" y="20"/>
                          </a:lnTo>
                          <a:lnTo>
                            <a:pt x="689" y="6"/>
                          </a:lnTo>
                          <a:lnTo>
                            <a:pt x="655" y="0"/>
                          </a:lnTo>
                          <a:close/>
                        </a:path>
                      </a:pathLst>
                    </a:custGeom>
                    <a:solidFill>
                      <a:srgbClr val="ffe84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998640" y="1987200"/>
                      <a:ext cx="412920" cy="34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4" h="523">
                          <a:moveTo>
                            <a:pt x="572" y="0"/>
                          </a:moveTo>
                          <a:lnTo>
                            <a:pt x="564" y="1"/>
                          </a:lnTo>
                          <a:lnTo>
                            <a:pt x="556" y="2"/>
                          </a:lnTo>
                          <a:lnTo>
                            <a:pt x="549" y="5"/>
                          </a:lnTo>
                          <a:lnTo>
                            <a:pt x="542" y="8"/>
                          </a:lnTo>
                          <a:lnTo>
                            <a:pt x="537" y="13"/>
                          </a:lnTo>
                          <a:lnTo>
                            <a:pt x="533" y="20"/>
                          </a:lnTo>
                          <a:lnTo>
                            <a:pt x="529" y="28"/>
                          </a:lnTo>
                          <a:lnTo>
                            <a:pt x="525" y="39"/>
                          </a:lnTo>
                          <a:lnTo>
                            <a:pt x="521" y="53"/>
                          </a:lnTo>
                          <a:lnTo>
                            <a:pt x="517" y="68"/>
                          </a:lnTo>
                          <a:lnTo>
                            <a:pt x="510" y="88"/>
                          </a:lnTo>
                          <a:lnTo>
                            <a:pt x="502" y="114"/>
                          </a:lnTo>
                          <a:lnTo>
                            <a:pt x="492" y="144"/>
                          </a:lnTo>
                          <a:lnTo>
                            <a:pt x="478" y="177"/>
                          </a:lnTo>
                          <a:lnTo>
                            <a:pt x="464" y="210"/>
                          </a:lnTo>
                          <a:lnTo>
                            <a:pt x="448" y="243"/>
                          </a:lnTo>
                          <a:lnTo>
                            <a:pt x="432" y="274"/>
                          </a:lnTo>
                          <a:lnTo>
                            <a:pt x="414" y="300"/>
                          </a:lnTo>
                          <a:lnTo>
                            <a:pt x="396" y="321"/>
                          </a:lnTo>
                          <a:lnTo>
                            <a:pt x="378" y="335"/>
                          </a:lnTo>
                          <a:lnTo>
                            <a:pt x="358" y="347"/>
                          </a:lnTo>
                          <a:lnTo>
                            <a:pt x="333" y="362"/>
                          </a:lnTo>
                          <a:lnTo>
                            <a:pt x="304" y="379"/>
                          </a:lnTo>
                          <a:lnTo>
                            <a:pt x="274" y="396"/>
                          </a:lnTo>
                          <a:lnTo>
                            <a:pt x="242" y="413"/>
                          </a:lnTo>
                          <a:lnTo>
                            <a:pt x="213" y="430"/>
                          </a:lnTo>
                          <a:lnTo>
                            <a:pt x="185" y="445"/>
                          </a:lnTo>
                          <a:lnTo>
                            <a:pt x="160" y="455"/>
                          </a:lnTo>
                          <a:lnTo>
                            <a:pt x="141" y="464"/>
                          </a:lnTo>
                          <a:lnTo>
                            <a:pt x="128" y="466"/>
                          </a:lnTo>
                          <a:lnTo>
                            <a:pt x="117" y="467"/>
                          </a:lnTo>
                          <a:lnTo>
                            <a:pt x="101" y="467"/>
                          </a:lnTo>
                          <a:lnTo>
                            <a:pt x="84" y="468"/>
                          </a:lnTo>
                          <a:lnTo>
                            <a:pt x="64" y="471"/>
                          </a:lnTo>
                          <a:lnTo>
                            <a:pt x="45" y="473"/>
                          </a:lnTo>
                          <a:lnTo>
                            <a:pt x="28" y="477"/>
                          </a:lnTo>
                          <a:lnTo>
                            <a:pt x="14" y="480"/>
                          </a:lnTo>
                          <a:lnTo>
                            <a:pt x="4" y="484"/>
                          </a:lnTo>
                          <a:lnTo>
                            <a:pt x="0" y="489"/>
                          </a:lnTo>
                          <a:lnTo>
                            <a:pt x="2" y="493"/>
                          </a:lnTo>
                          <a:lnTo>
                            <a:pt x="10" y="499"/>
                          </a:lnTo>
                          <a:lnTo>
                            <a:pt x="17" y="504"/>
                          </a:lnTo>
                          <a:lnTo>
                            <a:pt x="24" y="507"/>
                          </a:lnTo>
                          <a:lnTo>
                            <a:pt x="30" y="512"/>
                          </a:lnTo>
                          <a:lnTo>
                            <a:pt x="37" y="514"/>
                          </a:lnTo>
                          <a:lnTo>
                            <a:pt x="44" y="518"/>
                          </a:lnTo>
                          <a:lnTo>
                            <a:pt x="52" y="520"/>
                          </a:lnTo>
                          <a:lnTo>
                            <a:pt x="58" y="522"/>
                          </a:lnTo>
                          <a:lnTo>
                            <a:pt x="65" y="523"/>
                          </a:lnTo>
                          <a:lnTo>
                            <a:pt x="72" y="523"/>
                          </a:lnTo>
                          <a:lnTo>
                            <a:pt x="88" y="520"/>
                          </a:lnTo>
                          <a:lnTo>
                            <a:pt x="118" y="512"/>
                          </a:lnTo>
                          <a:lnTo>
                            <a:pt x="162" y="498"/>
                          </a:lnTo>
                          <a:lnTo>
                            <a:pt x="216" y="477"/>
                          </a:lnTo>
                          <a:lnTo>
                            <a:pt x="277" y="448"/>
                          </a:lnTo>
                          <a:lnTo>
                            <a:pt x="342" y="411"/>
                          </a:lnTo>
                          <a:lnTo>
                            <a:pt x="410" y="362"/>
                          </a:lnTo>
                          <a:lnTo>
                            <a:pt x="477" y="304"/>
                          </a:lnTo>
                          <a:lnTo>
                            <a:pt x="541" y="236"/>
                          </a:lnTo>
                          <a:lnTo>
                            <a:pt x="598" y="154"/>
                          </a:lnTo>
                          <a:lnTo>
                            <a:pt x="601" y="150"/>
                          </a:lnTo>
                          <a:lnTo>
                            <a:pt x="608" y="138"/>
                          </a:lnTo>
                          <a:lnTo>
                            <a:pt x="616" y="121"/>
                          </a:lnTo>
                          <a:lnTo>
                            <a:pt x="624" y="100"/>
                          </a:lnTo>
                          <a:lnTo>
                            <a:pt x="630" y="78"/>
                          </a:lnTo>
                          <a:lnTo>
                            <a:pt x="634" y="55"/>
                          </a:lnTo>
                          <a:lnTo>
                            <a:pt x="632" y="34"/>
                          </a:lnTo>
                          <a:lnTo>
                            <a:pt x="621" y="18"/>
                          </a:lnTo>
                          <a:lnTo>
                            <a:pt x="602" y="6"/>
                          </a:lnTo>
                          <a:lnTo>
                            <a:pt x="573" y="0"/>
                          </a:lnTo>
                          <a:lnTo>
                            <a:pt x="572" y="0"/>
                          </a:lnTo>
                          <a:close/>
                        </a:path>
                      </a:pathLst>
                    </a:custGeom>
                    <a:solidFill>
                      <a:srgbClr val="ffed6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1041480" y="2016000"/>
                      <a:ext cx="354240" cy="29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4" h="448">
                          <a:moveTo>
                            <a:pt x="491" y="0"/>
                          </a:moveTo>
                          <a:lnTo>
                            <a:pt x="483" y="1"/>
                          </a:lnTo>
                          <a:lnTo>
                            <a:pt x="476" y="2"/>
                          </a:lnTo>
                          <a:lnTo>
                            <a:pt x="471" y="3"/>
                          </a:lnTo>
                          <a:lnTo>
                            <a:pt x="466" y="7"/>
                          </a:lnTo>
                          <a:lnTo>
                            <a:pt x="462" y="11"/>
                          </a:lnTo>
                          <a:lnTo>
                            <a:pt x="458" y="17"/>
                          </a:lnTo>
                          <a:lnTo>
                            <a:pt x="454" y="24"/>
                          </a:lnTo>
                          <a:lnTo>
                            <a:pt x="451" y="34"/>
                          </a:lnTo>
                          <a:lnTo>
                            <a:pt x="447" y="44"/>
                          </a:lnTo>
                          <a:lnTo>
                            <a:pt x="443" y="59"/>
                          </a:lnTo>
                          <a:lnTo>
                            <a:pt x="439" y="76"/>
                          </a:lnTo>
                          <a:lnTo>
                            <a:pt x="431" y="98"/>
                          </a:lnTo>
                          <a:lnTo>
                            <a:pt x="422" y="123"/>
                          </a:lnTo>
                          <a:lnTo>
                            <a:pt x="411" y="152"/>
                          </a:lnTo>
                          <a:lnTo>
                            <a:pt x="398" y="180"/>
                          </a:lnTo>
                          <a:lnTo>
                            <a:pt x="384" y="208"/>
                          </a:lnTo>
                          <a:lnTo>
                            <a:pt x="371" y="234"/>
                          </a:lnTo>
                          <a:lnTo>
                            <a:pt x="355" y="257"/>
                          </a:lnTo>
                          <a:lnTo>
                            <a:pt x="340" y="275"/>
                          </a:lnTo>
                          <a:lnTo>
                            <a:pt x="326" y="288"/>
                          </a:lnTo>
                          <a:lnTo>
                            <a:pt x="308" y="297"/>
                          </a:lnTo>
                          <a:lnTo>
                            <a:pt x="286" y="310"/>
                          </a:lnTo>
                          <a:lnTo>
                            <a:pt x="262" y="324"/>
                          </a:lnTo>
                          <a:lnTo>
                            <a:pt x="235" y="339"/>
                          </a:lnTo>
                          <a:lnTo>
                            <a:pt x="208" y="355"/>
                          </a:lnTo>
                          <a:lnTo>
                            <a:pt x="183" y="369"/>
                          </a:lnTo>
                          <a:lnTo>
                            <a:pt x="159" y="381"/>
                          </a:lnTo>
                          <a:lnTo>
                            <a:pt x="138" y="390"/>
                          </a:lnTo>
                          <a:lnTo>
                            <a:pt x="122" y="397"/>
                          </a:lnTo>
                          <a:lnTo>
                            <a:pt x="111" y="400"/>
                          </a:lnTo>
                          <a:lnTo>
                            <a:pt x="100" y="400"/>
                          </a:lnTo>
                          <a:lnTo>
                            <a:pt x="87" y="401"/>
                          </a:lnTo>
                          <a:lnTo>
                            <a:pt x="72" y="402"/>
                          </a:lnTo>
                          <a:lnTo>
                            <a:pt x="56" y="403"/>
                          </a:lnTo>
                          <a:lnTo>
                            <a:pt x="39" y="406"/>
                          </a:lnTo>
                          <a:lnTo>
                            <a:pt x="24" y="408"/>
                          </a:lnTo>
                          <a:lnTo>
                            <a:pt x="12" y="411"/>
                          </a:lnTo>
                          <a:lnTo>
                            <a:pt x="4" y="415"/>
                          </a:lnTo>
                          <a:lnTo>
                            <a:pt x="0" y="419"/>
                          </a:lnTo>
                          <a:lnTo>
                            <a:pt x="3" y="423"/>
                          </a:lnTo>
                          <a:lnTo>
                            <a:pt x="10" y="427"/>
                          </a:lnTo>
                          <a:lnTo>
                            <a:pt x="15" y="432"/>
                          </a:lnTo>
                          <a:lnTo>
                            <a:pt x="20" y="435"/>
                          </a:lnTo>
                          <a:lnTo>
                            <a:pt x="27" y="439"/>
                          </a:lnTo>
                          <a:lnTo>
                            <a:pt x="32" y="441"/>
                          </a:lnTo>
                          <a:lnTo>
                            <a:pt x="39" y="443"/>
                          </a:lnTo>
                          <a:lnTo>
                            <a:pt x="44" y="446"/>
                          </a:lnTo>
                          <a:lnTo>
                            <a:pt x="51" y="447"/>
                          </a:lnTo>
                          <a:lnTo>
                            <a:pt x="56" y="448"/>
                          </a:lnTo>
                          <a:lnTo>
                            <a:pt x="63" y="448"/>
                          </a:lnTo>
                          <a:lnTo>
                            <a:pt x="75" y="446"/>
                          </a:lnTo>
                          <a:lnTo>
                            <a:pt x="102" y="440"/>
                          </a:lnTo>
                          <a:lnTo>
                            <a:pt x="139" y="427"/>
                          </a:lnTo>
                          <a:lnTo>
                            <a:pt x="186" y="409"/>
                          </a:lnTo>
                          <a:lnTo>
                            <a:pt x="238" y="384"/>
                          </a:lnTo>
                          <a:lnTo>
                            <a:pt x="294" y="351"/>
                          </a:lnTo>
                          <a:lnTo>
                            <a:pt x="352" y="311"/>
                          </a:lnTo>
                          <a:lnTo>
                            <a:pt x="410" y="260"/>
                          </a:lnTo>
                          <a:lnTo>
                            <a:pt x="464" y="201"/>
                          </a:lnTo>
                          <a:lnTo>
                            <a:pt x="514" y="132"/>
                          </a:lnTo>
                          <a:lnTo>
                            <a:pt x="516" y="128"/>
                          </a:lnTo>
                          <a:lnTo>
                            <a:pt x="522" y="119"/>
                          </a:lnTo>
                          <a:lnTo>
                            <a:pt x="528" y="103"/>
                          </a:lnTo>
                          <a:lnTo>
                            <a:pt x="535" y="86"/>
                          </a:lnTo>
                          <a:lnTo>
                            <a:pt x="542" y="67"/>
                          </a:lnTo>
                          <a:lnTo>
                            <a:pt x="544" y="48"/>
                          </a:lnTo>
                          <a:lnTo>
                            <a:pt x="542" y="29"/>
                          </a:lnTo>
                          <a:lnTo>
                            <a:pt x="534" y="15"/>
                          </a:lnTo>
                          <a:lnTo>
                            <a:pt x="518" y="4"/>
                          </a:lnTo>
                          <a:lnTo>
                            <a:pt x="492" y="1"/>
                          </a:lnTo>
                          <a:lnTo>
                            <a:pt x="491" y="0"/>
                          </a:lnTo>
                          <a:close/>
                        </a:path>
                      </a:pathLst>
                    </a:custGeom>
                    <a:solidFill>
                      <a:srgbClr val="fff17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1085400" y="2044080"/>
                      <a:ext cx="295200" cy="24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3" h="374">
                          <a:moveTo>
                            <a:pt x="409" y="0"/>
                          </a:moveTo>
                          <a:lnTo>
                            <a:pt x="403" y="1"/>
                          </a:lnTo>
                          <a:lnTo>
                            <a:pt x="397" y="1"/>
                          </a:lnTo>
                          <a:lnTo>
                            <a:pt x="392" y="4"/>
                          </a:lnTo>
                          <a:lnTo>
                            <a:pt x="388" y="6"/>
                          </a:lnTo>
                          <a:lnTo>
                            <a:pt x="384" y="10"/>
                          </a:lnTo>
                          <a:lnTo>
                            <a:pt x="381" y="14"/>
                          </a:lnTo>
                          <a:lnTo>
                            <a:pt x="379" y="21"/>
                          </a:lnTo>
                          <a:lnTo>
                            <a:pt x="376" y="29"/>
                          </a:lnTo>
                          <a:lnTo>
                            <a:pt x="372" y="38"/>
                          </a:lnTo>
                          <a:lnTo>
                            <a:pt x="369" y="50"/>
                          </a:lnTo>
                          <a:lnTo>
                            <a:pt x="365" y="64"/>
                          </a:lnTo>
                          <a:lnTo>
                            <a:pt x="359" y="83"/>
                          </a:lnTo>
                          <a:lnTo>
                            <a:pt x="351" y="104"/>
                          </a:lnTo>
                          <a:lnTo>
                            <a:pt x="343" y="127"/>
                          </a:lnTo>
                          <a:lnTo>
                            <a:pt x="332" y="151"/>
                          </a:lnTo>
                          <a:lnTo>
                            <a:pt x="320" y="174"/>
                          </a:lnTo>
                          <a:lnTo>
                            <a:pt x="308" y="196"/>
                          </a:lnTo>
                          <a:lnTo>
                            <a:pt x="296" y="215"/>
                          </a:lnTo>
                          <a:lnTo>
                            <a:pt x="284" y="230"/>
                          </a:lnTo>
                          <a:lnTo>
                            <a:pt x="271" y="240"/>
                          </a:lnTo>
                          <a:lnTo>
                            <a:pt x="256" y="248"/>
                          </a:lnTo>
                          <a:lnTo>
                            <a:pt x="239" y="259"/>
                          </a:lnTo>
                          <a:lnTo>
                            <a:pt x="217" y="271"/>
                          </a:lnTo>
                          <a:lnTo>
                            <a:pt x="196" y="283"/>
                          </a:lnTo>
                          <a:lnTo>
                            <a:pt x="173" y="296"/>
                          </a:lnTo>
                          <a:lnTo>
                            <a:pt x="152" y="308"/>
                          </a:lnTo>
                          <a:lnTo>
                            <a:pt x="132" y="318"/>
                          </a:lnTo>
                          <a:lnTo>
                            <a:pt x="115" y="326"/>
                          </a:lnTo>
                          <a:lnTo>
                            <a:pt x="101" y="332"/>
                          </a:lnTo>
                          <a:lnTo>
                            <a:pt x="92" y="334"/>
                          </a:lnTo>
                          <a:lnTo>
                            <a:pt x="84" y="334"/>
                          </a:lnTo>
                          <a:lnTo>
                            <a:pt x="72" y="334"/>
                          </a:lnTo>
                          <a:lnTo>
                            <a:pt x="60" y="335"/>
                          </a:lnTo>
                          <a:lnTo>
                            <a:pt x="47" y="337"/>
                          </a:lnTo>
                          <a:lnTo>
                            <a:pt x="33" y="339"/>
                          </a:lnTo>
                          <a:lnTo>
                            <a:pt x="20" y="341"/>
                          </a:lnTo>
                          <a:lnTo>
                            <a:pt x="11" y="344"/>
                          </a:lnTo>
                          <a:lnTo>
                            <a:pt x="4" y="346"/>
                          </a:lnTo>
                          <a:lnTo>
                            <a:pt x="0" y="350"/>
                          </a:lnTo>
                          <a:lnTo>
                            <a:pt x="3" y="353"/>
                          </a:lnTo>
                          <a:lnTo>
                            <a:pt x="8" y="357"/>
                          </a:lnTo>
                          <a:lnTo>
                            <a:pt x="12" y="360"/>
                          </a:lnTo>
                          <a:lnTo>
                            <a:pt x="17" y="364"/>
                          </a:lnTo>
                          <a:lnTo>
                            <a:pt x="23" y="366"/>
                          </a:lnTo>
                          <a:lnTo>
                            <a:pt x="27" y="368"/>
                          </a:lnTo>
                          <a:lnTo>
                            <a:pt x="32" y="371"/>
                          </a:lnTo>
                          <a:lnTo>
                            <a:pt x="37" y="372"/>
                          </a:lnTo>
                          <a:lnTo>
                            <a:pt x="41" y="373"/>
                          </a:lnTo>
                          <a:lnTo>
                            <a:pt x="47" y="374"/>
                          </a:lnTo>
                          <a:lnTo>
                            <a:pt x="52" y="374"/>
                          </a:lnTo>
                          <a:lnTo>
                            <a:pt x="63" y="372"/>
                          </a:lnTo>
                          <a:lnTo>
                            <a:pt x="85" y="367"/>
                          </a:lnTo>
                          <a:lnTo>
                            <a:pt x="116" y="357"/>
                          </a:lnTo>
                          <a:lnTo>
                            <a:pt x="155" y="341"/>
                          </a:lnTo>
                          <a:lnTo>
                            <a:pt x="199" y="321"/>
                          </a:lnTo>
                          <a:lnTo>
                            <a:pt x="245" y="294"/>
                          </a:lnTo>
                          <a:lnTo>
                            <a:pt x="293" y="260"/>
                          </a:lnTo>
                          <a:lnTo>
                            <a:pt x="341" y="219"/>
                          </a:lnTo>
                          <a:lnTo>
                            <a:pt x="387" y="169"/>
                          </a:lnTo>
                          <a:lnTo>
                            <a:pt x="428" y="111"/>
                          </a:lnTo>
                          <a:lnTo>
                            <a:pt x="429" y="108"/>
                          </a:lnTo>
                          <a:lnTo>
                            <a:pt x="435" y="99"/>
                          </a:lnTo>
                          <a:lnTo>
                            <a:pt x="440" y="88"/>
                          </a:lnTo>
                          <a:lnTo>
                            <a:pt x="447" y="72"/>
                          </a:lnTo>
                          <a:lnTo>
                            <a:pt x="451" y="57"/>
                          </a:lnTo>
                          <a:lnTo>
                            <a:pt x="453" y="40"/>
                          </a:lnTo>
                          <a:lnTo>
                            <a:pt x="452" y="25"/>
                          </a:lnTo>
                          <a:lnTo>
                            <a:pt x="444" y="13"/>
                          </a:lnTo>
                          <a:lnTo>
                            <a:pt x="431" y="5"/>
                          </a:lnTo>
                          <a:lnTo>
                            <a:pt x="409" y="1"/>
                          </a:lnTo>
                          <a:lnTo>
                            <a:pt x="409" y="0"/>
                          </a:lnTo>
                          <a:close/>
                        </a:path>
                      </a:pathLst>
                    </a:custGeom>
                    <a:solidFill>
                      <a:srgbClr val="fff68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1128960" y="2072880"/>
                      <a:ext cx="235800" cy="19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2" h="300">
                          <a:moveTo>
                            <a:pt x="326" y="0"/>
                          </a:moveTo>
                          <a:lnTo>
                            <a:pt x="322" y="1"/>
                          </a:lnTo>
                          <a:lnTo>
                            <a:pt x="317" y="1"/>
                          </a:lnTo>
                          <a:lnTo>
                            <a:pt x="313" y="3"/>
                          </a:lnTo>
                          <a:lnTo>
                            <a:pt x="310" y="5"/>
                          </a:lnTo>
                          <a:lnTo>
                            <a:pt x="308" y="8"/>
                          </a:lnTo>
                          <a:lnTo>
                            <a:pt x="305" y="12"/>
                          </a:lnTo>
                          <a:lnTo>
                            <a:pt x="302" y="16"/>
                          </a:lnTo>
                          <a:lnTo>
                            <a:pt x="300" y="23"/>
                          </a:lnTo>
                          <a:lnTo>
                            <a:pt x="298" y="31"/>
                          </a:lnTo>
                          <a:lnTo>
                            <a:pt x="296" y="40"/>
                          </a:lnTo>
                          <a:lnTo>
                            <a:pt x="292" y="51"/>
                          </a:lnTo>
                          <a:lnTo>
                            <a:pt x="288" y="66"/>
                          </a:lnTo>
                          <a:lnTo>
                            <a:pt x="281" y="83"/>
                          </a:lnTo>
                          <a:lnTo>
                            <a:pt x="273" y="101"/>
                          </a:lnTo>
                          <a:lnTo>
                            <a:pt x="265" y="120"/>
                          </a:lnTo>
                          <a:lnTo>
                            <a:pt x="256" y="139"/>
                          </a:lnTo>
                          <a:lnTo>
                            <a:pt x="246" y="157"/>
                          </a:lnTo>
                          <a:lnTo>
                            <a:pt x="237" y="172"/>
                          </a:lnTo>
                          <a:lnTo>
                            <a:pt x="226" y="184"/>
                          </a:lnTo>
                          <a:lnTo>
                            <a:pt x="217" y="192"/>
                          </a:lnTo>
                          <a:lnTo>
                            <a:pt x="205" y="199"/>
                          </a:lnTo>
                          <a:lnTo>
                            <a:pt x="190" y="208"/>
                          </a:lnTo>
                          <a:lnTo>
                            <a:pt x="174" y="217"/>
                          </a:lnTo>
                          <a:lnTo>
                            <a:pt x="157" y="227"/>
                          </a:lnTo>
                          <a:lnTo>
                            <a:pt x="138" y="237"/>
                          </a:lnTo>
                          <a:lnTo>
                            <a:pt x="121" y="247"/>
                          </a:lnTo>
                          <a:lnTo>
                            <a:pt x="106" y="255"/>
                          </a:lnTo>
                          <a:lnTo>
                            <a:pt x="92" y="261"/>
                          </a:lnTo>
                          <a:lnTo>
                            <a:pt x="81" y="265"/>
                          </a:lnTo>
                          <a:lnTo>
                            <a:pt x="73" y="267"/>
                          </a:lnTo>
                          <a:lnTo>
                            <a:pt x="66" y="267"/>
                          </a:lnTo>
                          <a:lnTo>
                            <a:pt x="58" y="268"/>
                          </a:lnTo>
                          <a:lnTo>
                            <a:pt x="48" y="269"/>
                          </a:lnTo>
                          <a:lnTo>
                            <a:pt x="37" y="269"/>
                          </a:lnTo>
                          <a:lnTo>
                            <a:pt x="26" y="271"/>
                          </a:lnTo>
                          <a:lnTo>
                            <a:pt x="16" y="273"/>
                          </a:lnTo>
                          <a:lnTo>
                            <a:pt x="8" y="275"/>
                          </a:lnTo>
                          <a:lnTo>
                            <a:pt x="2" y="277"/>
                          </a:lnTo>
                          <a:lnTo>
                            <a:pt x="0" y="280"/>
                          </a:lnTo>
                          <a:lnTo>
                            <a:pt x="2" y="283"/>
                          </a:lnTo>
                          <a:lnTo>
                            <a:pt x="6" y="286"/>
                          </a:lnTo>
                          <a:lnTo>
                            <a:pt x="10" y="288"/>
                          </a:lnTo>
                          <a:lnTo>
                            <a:pt x="13" y="290"/>
                          </a:lnTo>
                          <a:lnTo>
                            <a:pt x="17" y="293"/>
                          </a:lnTo>
                          <a:lnTo>
                            <a:pt x="21" y="295"/>
                          </a:lnTo>
                          <a:lnTo>
                            <a:pt x="25" y="296"/>
                          </a:lnTo>
                          <a:lnTo>
                            <a:pt x="29" y="297"/>
                          </a:lnTo>
                          <a:lnTo>
                            <a:pt x="33" y="299"/>
                          </a:lnTo>
                          <a:lnTo>
                            <a:pt x="37" y="300"/>
                          </a:lnTo>
                          <a:lnTo>
                            <a:pt x="41" y="300"/>
                          </a:lnTo>
                          <a:lnTo>
                            <a:pt x="50" y="299"/>
                          </a:lnTo>
                          <a:lnTo>
                            <a:pt x="68" y="294"/>
                          </a:lnTo>
                          <a:lnTo>
                            <a:pt x="93" y="286"/>
                          </a:lnTo>
                          <a:lnTo>
                            <a:pt x="124" y="274"/>
                          </a:lnTo>
                          <a:lnTo>
                            <a:pt x="158" y="256"/>
                          </a:lnTo>
                          <a:lnTo>
                            <a:pt x="196" y="235"/>
                          </a:lnTo>
                          <a:lnTo>
                            <a:pt x="234" y="208"/>
                          </a:lnTo>
                          <a:lnTo>
                            <a:pt x="273" y="175"/>
                          </a:lnTo>
                          <a:lnTo>
                            <a:pt x="309" y="136"/>
                          </a:lnTo>
                          <a:lnTo>
                            <a:pt x="342" y="88"/>
                          </a:lnTo>
                          <a:lnTo>
                            <a:pt x="344" y="86"/>
                          </a:lnTo>
                          <a:lnTo>
                            <a:pt x="348" y="80"/>
                          </a:lnTo>
                          <a:lnTo>
                            <a:pt x="352" y="70"/>
                          </a:lnTo>
                          <a:lnTo>
                            <a:pt x="357" y="58"/>
                          </a:lnTo>
                          <a:lnTo>
                            <a:pt x="361" y="45"/>
                          </a:lnTo>
                          <a:lnTo>
                            <a:pt x="362" y="32"/>
                          </a:lnTo>
                          <a:lnTo>
                            <a:pt x="361" y="20"/>
                          </a:lnTo>
                          <a:lnTo>
                            <a:pt x="356" y="11"/>
                          </a:lnTo>
                          <a:lnTo>
                            <a:pt x="345" y="3"/>
                          </a:lnTo>
                          <a:lnTo>
                            <a:pt x="328" y="1"/>
                          </a:lnTo>
                          <a:lnTo>
                            <a:pt x="326" y="0"/>
                          </a:lnTo>
                          <a:close/>
                        </a:path>
                      </a:pathLst>
                    </a:custGeom>
                    <a:solidFill>
                      <a:srgbClr val="fffa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1171800" y="2101680"/>
                      <a:ext cx="177120" cy="14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2" h="225">
                          <a:moveTo>
                            <a:pt x="246" y="0"/>
                          </a:moveTo>
                          <a:lnTo>
                            <a:pt x="243" y="1"/>
                          </a:lnTo>
                          <a:lnTo>
                            <a:pt x="239" y="1"/>
                          </a:lnTo>
                          <a:lnTo>
                            <a:pt x="236" y="2"/>
                          </a:lnTo>
                          <a:lnTo>
                            <a:pt x="234" y="3"/>
                          </a:lnTo>
                          <a:lnTo>
                            <a:pt x="231" y="5"/>
                          </a:lnTo>
                          <a:lnTo>
                            <a:pt x="230" y="9"/>
                          </a:lnTo>
                          <a:lnTo>
                            <a:pt x="227" y="13"/>
                          </a:lnTo>
                          <a:lnTo>
                            <a:pt x="226" y="17"/>
                          </a:lnTo>
                          <a:lnTo>
                            <a:pt x="224" y="23"/>
                          </a:lnTo>
                          <a:lnTo>
                            <a:pt x="222" y="29"/>
                          </a:lnTo>
                          <a:lnTo>
                            <a:pt x="220" y="39"/>
                          </a:lnTo>
                          <a:lnTo>
                            <a:pt x="216" y="49"/>
                          </a:lnTo>
                          <a:lnTo>
                            <a:pt x="211" y="62"/>
                          </a:lnTo>
                          <a:lnTo>
                            <a:pt x="206" y="76"/>
                          </a:lnTo>
                          <a:lnTo>
                            <a:pt x="200" y="90"/>
                          </a:lnTo>
                          <a:lnTo>
                            <a:pt x="192" y="105"/>
                          </a:lnTo>
                          <a:lnTo>
                            <a:pt x="186" y="118"/>
                          </a:lnTo>
                          <a:lnTo>
                            <a:pt x="179" y="129"/>
                          </a:lnTo>
                          <a:lnTo>
                            <a:pt x="171" y="138"/>
                          </a:lnTo>
                          <a:lnTo>
                            <a:pt x="163" y="144"/>
                          </a:lnTo>
                          <a:lnTo>
                            <a:pt x="155" y="149"/>
                          </a:lnTo>
                          <a:lnTo>
                            <a:pt x="143" y="155"/>
                          </a:lnTo>
                          <a:lnTo>
                            <a:pt x="131" y="162"/>
                          </a:lnTo>
                          <a:lnTo>
                            <a:pt x="118" y="171"/>
                          </a:lnTo>
                          <a:lnTo>
                            <a:pt x="104" y="178"/>
                          </a:lnTo>
                          <a:lnTo>
                            <a:pt x="92" y="185"/>
                          </a:lnTo>
                          <a:lnTo>
                            <a:pt x="80" y="191"/>
                          </a:lnTo>
                          <a:lnTo>
                            <a:pt x="70" y="195"/>
                          </a:lnTo>
                          <a:lnTo>
                            <a:pt x="62" y="199"/>
                          </a:lnTo>
                          <a:lnTo>
                            <a:pt x="56" y="200"/>
                          </a:lnTo>
                          <a:lnTo>
                            <a:pt x="51" y="200"/>
                          </a:lnTo>
                          <a:lnTo>
                            <a:pt x="44" y="200"/>
                          </a:lnTo>
                          <a:lnTo>
                            <a:pt x="36" y="201"/>
                          </a:lnTo>
                          <a:lnTo>
                            <a:pt x="28" y="203"/>
                          </a:lnTo>
                          <a:lnTo>
                            <a:pt x="20" y="204"/>
                          </a:lnTo>
                          <a:lnTo>
                            <a:pt x="12" y="205"/>
                          </a:lnTo>
                          <a:lnTo>
                            <a:pt x="7" y="206"/>
                          </a:lnTo>
                          <a:lnTo>
                            <a:pt x="3" y="207"/>
                          </a:lnTo>
                          <a:lnTo>
                            <a:pt x="0" y="210"/>
                          </a:lnTo>
                          <a:lnTo>
                            <a:pt x="2" y="212"/>
                          </a:lnTo>
                          <a:lnTo>
                            <a:pt x="6" y="214"/>
                          </a:lnTo>
                          <a:lnTo>
                            <a:pt x="8" y="217"/>
                          </a:lnTo>
                          <a:lnTo>
                            <a:pt x="11" y="218"/>
                          </a:lnTo>
                          <a:lnTo>
                            <a:pt x="14" y="220"/>
                          </a:lnTo>
                          <a:lnTo>
                            <a:pt x="16" y="221"/>
                          </a:lnTo>
                          <a:lnTo>
                            <a:pt x="20" y="223"/>
                          </a:lnTo>
                          <a:lnTo>
                            <a:pt x="23" y="224"/>
                          </a:lnTo>
                          <a:lnTo>
                            <a:pt x="26" y="224"/>
                          </a:lnTo>
                          <a:lnTo>
                            <a:pt x="28" y="224"/>
                          </a:lnTo>
                          <a:lnTo>
                            <a:pt x="32" y="225"/>
                          </a:lnTo>
                          <a:lnTo>
                            <a:pt x="39" y="224"/>
                          </a:lnTo>
                          <a:lnTo>
                            <a:pt x="51" y="220"/>
                          </a:lnTo>
                          <a:lnTo>
                            <a:pt x="70" y="214"/>
                          </a:lnTo>
                          <a:lnTo>
                            <a:pt x="94" y="205"/>
                          </a:lnTo>
                          <a:lnTo>
                            <a:pt x="119" y="192"/>
                          </a:lnTo>
                          <a:lnTo>
                            <a:pt x="147" y="177"/>
                          </a:lnTo>
                          <a:lnTo>
                            <a:pt x="176" y="155"/>
                          </a:lnTo>
                          <a:lnTo>
                            <a:pt x="206" y="131"/>
                          </a:lnTo>
                          <a:lnTo>
                            <a:pt x="232" y="101"/>
                          </a:lnTo>
                          <a:lnTo>
                            <a:pt x="258" y="67"/>
                          </a:lnTo>
                          <a:lnTo>
                            <a:pt x="259" y="64"/>
                          </a:lnTo>
                          <a:lnTo>
                            <a:pt x="262" y="60"/>
                          </a:lnTo>
                          <a:lnTo>
                            <a:pt x="264" y="53"/>
                          </a:lnTo>
                          <a:lnTo>
                            <a:pt x="268" y="43"/>
                          </a:lnTo>
                          <a:lnTo>
                            <a:pt x="271" y="34"/>
                          </a:lnTo>
                          <a:lnTo>
                            <a:pt x="272" y="24"/>
                          </a:lnTo>
                          <a:lnTo>
                            <a:pt x="271" y="15"/>
                          </a:lnTo>
                          <a:lnTo>
                            <a:pt x="267" y="8"/>
                          </a:lnTo>
                          <a:lnTo>
                            <a:pt x="259" y="3"/>
                          </a:lnTo>
                          <a:lnTo>
                            <a:pt x="247" y="1"/>
                          </a:lnTo>
                          <a:lnTo>
                            <a:pt x="246" y="0"/>
                          </a:lnTo>
                          <a:close/>
                        </a:path>
                      </a:pathLst>
                    </a:custGeom>
                    <a:solidFill>
                      <a:srgbClr val="ffffb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00640" y="1995840"/>
                      <a:ext cx="768600" cy="52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0" h="800">
                          <a:moveTo>
                            <a:pt x="29" y="671"/>
                          </a:moveTo>
                          <a:lnTo>
                            <a:pt x="28" y="674"/>
                          </a:lnTo>
                          <a:lnTo>
                            <a:pt x="24" y="680"/>
                          </a:lnTo>
                          <a:lnTo>
                            <a:pt x="18" y="688"/>
                          </a:lnTo>
                          <a:lnTo>
                            <a:pt x="12" y="699"/>
                          </a:lnTo>
                          <a:lnTo>
                            <a:pt x="5" y="710"/>
                          </a:lnTo>
                          <a:lnTo>
                            <a:pt x="1" y="723"/>
                          </a:lnTo>
                          <a:lnTo>
                            <a:pt x="0" y="735"/>
                          </a:lnTo>
                          <a:lnTo>
                            <a:pt x="1" y="747"/>
                          </a:lnTo>
                          <a:lnTo>
                            <a:pt x="8" y="758"/>
                          </a:lnTo>
                          <a:lnTo>
                            <a:pt x="21" y="766"/>
                          </a:lnTo>
                          <a:lnTo>
                            <a:pt x="30" y="771"/>
                          </a:lnTo>
                          <a:lnTo>
                            <a:pt x="42" y="775"/>
                          </a:lnTo>
                          <a:lnTo>
                            <a:pt x="58" y="780"/>
                          </a:lnTo>
                          <a:lnTo>
                            <a:pt x="76" y="786"/>
                          </a:lnTo>
                          <a:lnTo>
                            <a:pt x="97" y="791"/>
                          </a:lnTo>
                          <a:lnTo>
                            <a:pt x="121" y="795"/>
                          </a:lnTo>
                          <a:lnTo>
                            <a:pt x="148" y="799"/>
                          </a:lnTo>
                          <a:lnTo>
                            <a:pt x="178" y="800"/>
                          </a:lnTo>
                          <a:lnTo>
                            <a:pt x="212" y="799"/>
                          </a:lnTo>
                          <a:lnTo>
                            <a:pt x="249" y="795"/>
                          </a:lnTo>
                          <a:lnTo>
                            <a:pt x="284" y="791"/>
                          </a:lnTo>
                          <a:lnTo>
                            <a:pt x="321" y="784"/>
                          </a:lnTo>
                          <a:lnTo>
                            <a:pt x="361" y="774"/>
                          </a:lnTo>
                          <a:lnTo>
                            <a:pt x="404" y="761"/>
                          </a:lnTo>
                          <a:lnTo>
                            <a:pt x="449" y="746"/>
                          </a:lnTo>
                          <a:lnTo>
                            <a:pt x="498" y="727"/>
                          </a:lnTo>
                          <a:lnTo>
                            <a:pt x="550" y="704"/>
                          </a:lnTo>
                          <a:lnTo>
                            <a:pt x="606" y="679"/>
                          </a:lnTo>
                          <a:lnTo>
                            <a:pt x="665" y="648"/>
                          </a:lnTo>
                          <a:lnTo>
                            <a:pt x="726" y="614"/>
                          </a:lnTo>
                          <a:lnTo>
                            <a:pt x="729" y="612"/>
                          </a:lnTo>
                          <a:lnTo>
                            <a:pt x="737" y="608"/>
                          </a:lnTo>
                          <a:lnTo>
                            <a:pt x="749" y="601"/>
                          </a:lnTo>
                          <a:lnTo>
                            <a:pt x="764" y="590"/>
                          </a:lnTo>
                          <a:lnTo>
                            <a:pt x="784" y="577"/>
                          </a:lnTo>
                          <a:lnTo>
                            <a:pt x="806" y="562"/>
                          </a:lnTo>
                          <a:lnTo>
                            <a:pt x="830" y="543"/>
                          </a:lnTo>
                          <a:lnTo>
                            <a:pt x="858" y="522"/>
                          </a:lnTo>
                          <a:lnTo>
                            <a:pt x="886" y="498"/>
                          </a:lnTo>
                          <a:lnTo>
                            <a:pt x="916" y="471"/>
                          </a:lnTo>
                          <a:lnTo>
                            <a:pt x="946" y="441"/>
                          </a:lnTo>
                          <a:lnTo>
                            <a:pt x="977" y="409"/>
                          </a:lnTo>
                          <a:lnTo>
                            <a:pt x="1008" y="375"/>
                          </a:lnTo>
                          <a:lnTo>
                            <a:pt x="1038" y="337"/>
                          </a:lnTo>
                          <a:lnTo>
                            <a:pt x="1066" y="298"/>
                          </a:lnTo>
                          <a:lnTo>
                            <a:pt x="1094" y="256"/>
                          </a:lnTo>
                          <a:lnTo>
                            <a:pt x="1120" y="211"/>
                          </a:lnTo>
                          <a:lnTo>
                            <a:pt x="1142" y="164"/>
                          </a:lnTo>
                          <a:lnTo>
                            <a:pt x="1161" y="114"/>
                          </a:lnTo>
                          <a:lnTo>
                            <a:pt x="1178" y="64"/>
                          </a:lnTo>
                          <a:lnTo>
                            <a:pt x="1178" y="60"/>
                          </a:lnTo>
                          <a:lnTo>
                            <a:pt x="1180" y="51"/>
                          </a:lnTo>
                          <a:lnTo>
                            <a:pt x="1180" y="38"/>
                          </a:lnTo>
                          <a:lnTo>
                            <a:pt x="1178" y="25"/>
                          </a:lnTo>
                          <a:lnTo>
                            <a:pt x="1174" y="12"/>
                          </a:lnTo>
                          <a:lnTo>
                            <a:pt x="1168" y="3"/>
                          </a:lnTo>
                          <a:lnTo>
                            <a:pt x="1156" y="0"/>
                          </a:lnTo>
                          <a:lnTo>
                            <a:pt x="1140" y="5"/>
                          </a:lnTo>
                          <a:lnTo>
                            <a:pt x="1116" y="20"/>
                          </a:lnTo>
                          <a:lnTo>
                            <a:pt x="1086" y="47"/>
                          </a:lnTo>
                          <a:lnTo>
                            <a:pt x="1069" y="66"/>
                          </a:lnTo>
                          <a:lnTo>
                            <a:pt x="1050" y="87"/>
                          </a:lnTo>
                          <a:lnTo>
                            <a:pt x="1030" y="110"/>
                          </a:lnTo>
                          <a:lnTo>
                            <a:pt x="1012" y="134"/>
                          </a:lnTo>
                          <a:lnTo>
                            <a:pt x="992" y="160"/>
                          </a:lnTo>
                          <a:lnTo>
                            <a:pt x="970" y="188"/>
                          </a:lnTo>
                          <a:lnTo>
                            <a:pt x="950" y="215"/>
                          </a:lnTo>
                          <a:lnTo>
                            <a:pt x="929" y="243"/>
                          </a:lnTo>
                          <a:lnTo>
                            <a:pt x="908" y="271"/>
                          </a:lnTo>
                          <a:lnTo>
                            <a:pt x="888" y="298"/>
                          </a:lnTo>
                          <a:lnTo>
                            <a:pt x="866" y="326"/>
                          </a:lnTo>
                          <a:lnTo>
                            <a:pt x="846" y="353"/>
                          </a:lnTo>
                          <a:lnTo>
                            <a:pt x="826" y="378"/>
                          </a:lnTo>
                          <a:lnTo>
                            <a:pt x="806" y="402"/>
                          </a:lnTo>
                          <a:lnTo>
                            <a:pt x="788" y="424"/>
                          </a:lnTo>
                          <a:lnTo>
                            <a:pt x="769" y="444"/>
                          </a:lnTo>
                          <a:lnTo>
                            <a:pt x="752" y="461"/>
                          </a:lnTo>
                          <a:lnTo>
                            <a:pt x="734" y="477"/>
                          </a:lnTo>
                          <a:lnTo>
                            <a:pt x="720" y="489"/>
                          </a:lnTo>
                          <a:lnTo>
                            <a:pt x="705" y="498"/>
                          </a:lnTo>
                          <a:lnTo>
                            <a:pt x="673" y="514"/>
                          </a:lnTo>
                          <a:lnTo>
                            <a:pt x="634" y="535"/>
                          </a:lnTo>
                          <a:lnTo>
                            <a:pt x="590" y="558"/>
                          </a:lnTo>
                          <a:lnTo>
                            <a:pt x="541" y="583"/>
                          </a:lnTo>
                          <a:lnTo>
                            <a:pt x="488" y="608"/>
                          </a:lnTo>
                          <a:lnTo>
                            <a:pt x="433" y="630"/>
                          </a:lnTo>
                          <a:lnTo>
                            <a:pt x="377" y="651"/>
                          </a:lnTo>
                          <a:lnTo>
                            <a:pt x="322" y="667"/>
                          </a:lnTo>
                          <a:lnTo>
                            <a:pt x="269" y="677"/>
                          </a:lnTo>
                          <a:lnTo>
                            <a:pt x="218" y="680"/>
                          </a:lnTo>
                          <a:lnTo>
                            <a:pt x="217" y="680"/>
                          </a:lnTo>
                          <a:lnTo>
                            <a:pt x="212" y="679"/>
                          </a:lnTo>
                          <a:lnTo>
                            <a:pt x="202" y="679"/>
                          </a:lnTo>
                          <a:lnTo>
                            <a:pt x="190" y="677"/>
                          </a:lnTo>
                          <a:lnTo>
                            <a:pt x="173" y="676"/>
                          </a:lnTo>
                          <a:lnTo>
                            <a:pt x="153" y="675"/>
                          </a:lnTo>
                          <a:lnTo>
                            <a:pt x="129" y="674"/>
                          </a:lnTo>
                          <a:lnTo>
                            <a:pt x="100" y="673"/>
                          </a:lnTo>
                          <a:lnTo>
                            <a:pt x="68" y="673"/>
                          </a:lnTo>
                          <a:lnTo>
                            <a:pt x="30" y="673"/>
                          </a:lnTo>
                          <a:lnTo>
                            <a:pt x="29" y="671"/>
                          </a:lnTo>
                          <a:close/>
                        </a:path>
                      </a:pathLst>
                    </a:custGeom>
                    <a:solidFill>
                      <a:srgbClr val="ffd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27280" y="2035800"/>
                      <a:ext cx="706680" cy="47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5" h="730">
                          <a:moveTo>
                            <a:pt x="1083" y="58"/>
                          </a:moveTo>
                          <a:lnTo>
                            <a:pt x="1084" y="56"/>
                          </a:lnTo>
                          <a:lnTo>
                            <a:pt x="1085" y="47"/>
                          </a:lnTo>
                          <a:lnTo>
                            <a:pt x="1085" y="36"/>
                          </a:lnTo>
                          <a:lnTo>
                            <a:pt x="1084" y="23"/>
                          </a:lnTo>
                          <a:lnTo>
                            <a:pt x="1081" y="12"/>
                          </a:lnTo>
                          <a:lnTo>
                            <a:pt x="1075" y="4"/>
                          </a:lnTo>
                          <a:lnTo>
                            <a:pt x="1064" y="0"/>
                          </a:lnTo>
                          <a:lnTo>
                            <a:pt x="1049" y="5"/>
                          </a:lnTo>
                          <a:lnTo>
                            <a:pt x="1028" y="19"/>
                          </a:lnTo>
                          <a:lnTo>
                            <a:pt x="1000" y="44"/>
                          </a:lnTo>
                          <a:lnTo>
                            <a:pt x="984" y="60"/>
                          </a:lnTo>
                          <a:lnTo>
                            <a:pt x="967" y="80"/>
                          </a:lnTo>
                          <a:lnTo>
                            <a:pt x="949" y="101"/>
                          </a:lnTo>
                          <a:lnTo>
                            <a:pt x="931" y="123"/>
                          </a:lnTo>
                          <a:lnTo>
                            <a:pt x="912" y="147"/>
                          </a:lnTo>
                          <a:lnTo>
                            <a:pt x="893" y="171"/>
                          </a:lnTo>
                          <a:lnTo>
                            <a:pt x="875" y="196"/>
                          </a:lnTo>
                          <a:lnTo>
                            <a:pt x="855" y="222"/>
                          </a:lnTo>
                          <a:lnTo>
                            <a:pt x="836" y="248"/>
                          </a:lnTo>
                          <a:lnTo>
                            <a:pt x="816" y="273"/>
                          </a:lnTo>
                          <a:lnTo>
                            <a:pt x="797" y="298"/>
                          </a:lnTo>
                          <a:lnTo>
                            <a:pt x="777" y="322"/>
                          </a:lnTo>
                          <a:lnTo>
                            <a:pt x="760" y="346"/>
                          </a:lnTo>
                          <a:lnTo>
                            <a:pt x="741" y="367"/>
                          </a:lnTo>
                          <a:lnTo>
                            <a:pt x="724" y="387"/>
                          </a:lnTo>
                          <a:lnTo>
                            <a:pt x="707" y="406"/>
                          </a:lnTo>
                          <a:lnTo>
                            <a:pt x="691" y="422"/>
                          </a:lnTo>
                          <a:lnTo>
                            <a:pt x="676" y="436"/>
                          </a:lnTo>
                          <a:lnTo>
                            <a:pt x="661" y="446"/>
                          </a:lnTo>
                          <a:lnTo>
                            <a:pt x="648" y="455"/>
                          </a:lnTo>
                          <a:lnTo>
                            <a:pt x="619" y="470"/>
                          </a:lnTo>
                          <a:lnTo>
                            <a:pt x="583" y="489"/>
                          </a:lnTo>
                          <a:lnTo>
                            <a:pt x="543" y="510"/>
                          </a:lnTo>
                          <a:lnTo>
                            <a:pt x="497" y="533"/>
                          </a:lnTo>
                          <a:lnTo>
                            <a:pt x="448" y="555"/>
                          </a:lnTo>
                          <a:lnTo>
                            <a:pt x="399" y="575"/>
                          </a:lnTo>
                          <a:lnTo>
                            <a:pt x="347" y="594"/>
                          </a:lnTo>
                          <a:lnTo>
                            <a:pt x="297" y="608"/>
                          </a:lnTo>
                          <a:lnTo>
                            <a:pt x="248" y="618"/>
                          </a:lnTo>
                          <a:lnTo>
                            <a:pt x="201" y="620"/>
                          </a:lnTo>
                          <a:lnTo>
                            <a:pt x="200" y="620"/>
                          </a:lnTo>
                          <a:lnTo>
                            <a:pt x="195" y="620"/>
                          </a:lnTo>
                          <a:lnTo>
                            <a:pt x="187" y="620"/>
                          </a:lnTo>
                          <a:lnTo>
                            <a:pt x="175" y="620"/>
                          </a:lnTo>
                          <a:lnTo>
                            <a:pt x="160" y="620"/>
                          </a:lnTo>
                          <a:lnTo>
                            <a:pt x="141" y="619"/>
                          </a:lnTo>
                          <a:lnTo>
                            <a:pt x="119" y="618"/>
                          </a:lnTo>
                          <a:lnTo>
                            <a:pt x="93" y="616"/>
                          </a:lnTo>
                          <a:lnTo>
                            <a:pt x="63" y="614"/>
                          </a:lnTo>
                          <a:lnTo>
                            <a:pt x="29" y="612"/>
                          </a:lnTo>
                          <a:lnTo>
                            <a:pt x="29" y="612"/>
                          </a:lnTo>
                          <a:lnTo>
                            <a:pt x="29" y="612"/>
                          </a:lnTo>
                          <a:lnTo>
                            <a:pt x="29" y="612"/>
                          </a:lnTo>
                          <a:lnTo>
                            <a:pt x="28" y="613"/>
                          </a:lnTo>
                          <a:lnTo>
                            <a:pt x="28" y="613"/>
                          </a:lnTo>
                          <a:lnTo>
                            <a:pt x="28" y="613"/>
                          </a:lnTo>
                          <a:lnTo>
                            <a:pt x="27" y="614"/>
                          </a:lnTo>
                          <a:lnTo>
                            <a:pt x="27" y="615"/>
                          </a:lnTo>
                          <a:lnTo>
                            <a:pt x="25" y="615"/>
                          </a:lnTo>
                          <a:lnTo>
                            <a:pt x="25" y="616"/>
                          </a:lnTo>
                          <a:lnTo>
                            <a:pt x="21" y="622"/>
                          </a:lnTo>
                          <a:lnTo>
                            <a:pt x="16" y="629"/>
                          </a:lnTo>
                          <a:lnTo>
                            <a:pt x="11" y="638"/>
                          </a:lnTo>
                          <a:lnTo>
                            <a:pt x="7" y="646"/>
                          </a:lnTo>
                          <a:lnTo>
                            <a:pt x="3" y="656"/>
                          </a:lnTo>
                          <a:lnTo>
                            <a:pt x="0" y="666"/>
                          </a:lnTo>
                          <a:lnTo>
                            <a:pt x="0" y="675"/>
                          </a:lnTo>
                          <a:lnTo>
                            <a:pt x="4" y="684"/>
                          </a:lnTo>
                          <a:lnTo>
                            <a:pt x="9" y="692"/>
                          </a:lnTo>
                          <a:lnTo>
                            <a:pt x="20" y="698"/>
                          </a:lnTo>
                          <a:lnTo>
                            <a:pt x="29" y="701"/>
                          </a:lnTo>
                          <a:lnTo>
                            <a:pt x="40" y="706"/>
                          </a:lnTo>
                          <a:lnTo>
                            <a:pt x="53" y="711"/>
                          </a:lnTo>
                          <a:lnTo>
                            <a:pt x="71" y="717"/>
                          </a:lnTo>
                          <a:lnTo>
                            <a:pt x="89" y="721"/>
                          </a:lnTo>
                          <a:lnTo>
                            <a:pt x="111" y="725"/>
                          </a:lnTo>
                          <a:lnTo>
                            <a:pt x="136" y="728"/>
                          </a:lnTo>
                          <a:lnTo>
                            <a:pt x="164" y="730"/>
                          </a:lnTo>
                          <a:lnTo>
                            <a:pt x="195" y="728"/>
                          </a:lnTo>
                          <a:lnTo>
                            <a:pt x="229" y="726"/>
                          </a:lnTo>
                          <a:lnTo>
                            <a:pt x="260" y="721"/>
                          </a:lnTo>
                          <a:lnTo>
                            <a:pt x="295" y="715"/>
                          </a:lnTo>
                          <a:lnTo>
                            <a:pt x="331" y="706"/>
                          </a:lnTo>
                          <a:lnTo>
                            <a:pt x="371" y="695"/>
                          </a:lnTo>
                          <a:lnTo>
                            <a:pt x="413" y="681"/>
                          </a:lnTo>
                          <a:lnTo>
                            <a:pt x="457" y="664"/>
                          </a:lnTo>
                          <a:lnTo>
                            <a:pt x="505" y="643"/>
                          </a:lnTo>
                          <a:lnTo>
                            <a:pt x="556" y="620"/>
                          </a:lnTo>
                          <a:lnTo>
                            <a:pt x="611" y="593"/>
                          </a:lnTo>
                          <a:lnTo>
                            <a:pt x="668" y="561"/>
                          </a:lnTo>
                          <a:lnTo>
                            <a:pt x="668" y="561"/>
                          </a:lnTo>
                          <a:lnTo>
                            <a:pt x="672" y="559"/>
                          </a:lnTo>
                          <a:lnTo>
                            <a:pt x="676" y="556"/>
                          </a:lnTo>
                          <a:lnTo>
                            <a:pt x="684" y="551"/>
                          </a:lnTo>
                          <a:lnTo>
                            <a:pt x="692" y="547"/>
                          </a:lnTo>
                          <a:lnTo>
                            <a:pt x="703" y="540"/>
                          </a:lnTo>
                          <a:lnTo>
                            <a:pt x="713" y="533"/>
                          </a:lnTo>
                          <a:lnTo>
                            <a:pt x="727" y="524"/>
                          </a:lnTo>
                          <a:lnTo>
                            <a:pt x="740" y="514"/>
                          </a:lnTo>
                          <a:lnTo>
                            <a:pt x="756" y="503"/>
                          </a:lnTo>
                          <a:lnTo>
                            <a:pt x="764" y="497"/>
                          </a:lnTo>
                          <a:lnTo>
                            <a:pt x="772" y="490"/>
                          </a:lnTo>
                          <a:lnTo>
                            <a:pt x="781" y="483"/>
                          </a:lnTo>
                          <a:lnTo>
                            <a:pt x="789" y="476"/>
                          </a:lnTo>
                          <a:lnTo>
                            <a:pt x="799" y="469"/>
                          </a:lnTo>
                          <a:lnTo>
                            <a:pt x="808" y="461"/>
                          </a:lnTo>
                          <a:lnTo>
                            <a:pt x="817" y="453"/>
                          </a:lnTo>
                          <a:lnTo>
                            <a:pt x="828" y="445"/>
                          </a:lnTo>
                          <a:lnTo>
                            <a:pt x="837" y="436"/>
                          </a:lnTo>
                          <a:lnTo>
                            <a:pt x="847" y="428"/>
                          </a:lnTo>
                          <a:lnTo>
                            <a:pt x="875" y="400"/>
                          </a:lnTo>
                          <a:lnTo>
                            <a:pt x="903" y="371"/>
                          </a:lnTo>
                          <a:lnTo>
                            <a:pt x="929" y="340"/>
                          </a:lnTo>
                          <a:lnTo>
                            <a:pt x="957" y="306"/>
                          </a:lnTo>
                          <a:lnTo>
                            <a:pt x="983" y="271"/>
                          </a:lnTo>
                          <a:lnTo>
                            <a:pt x="1008" y="233"/>
                          </a:lnTo>
                          <a:lnTo>
                            <a:pt x="1031" y="193"/>
                          </a:lnTo>
                          <a:lnTo>
                            <a:pt x="1051" y="150"/>
                          </a:lnTo>
                          <a:lnTo>
                            <a:pt x="1069" y="105"/>
                          </a:lnTo>
                          <a:lnTo>
                            <a:pt x="1084" y="58"/>
                          </a:lnTo>
                          <a:lnTo>
                            <a:pt x="1083" y="58"/>
                          </a:lnTo>
                          <a:close/>
                        </a:path>
                      </a:pathLst>
                    </a:custGeom>
                    <a:solidFill>
                      <a:srgbClr val="fac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855360" y="2076120"/>
                      <a:ext cx="645120" cy="42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0" h="658">
                          <a:moveTo>
                            <a:pt x="988" y="53"/>
                          </a:moveTo>
                          <a:lnTo>
                            <a:pt x="989" y="50"/>
                          </a:lnTo>
                          <a:lnTo>
                            <a:pt x="989" y="42"/>
                          </a:lnTo>
                          <a:lnTo>
                            <a:pt x="990" y="31"/>
                          </a:lnTo>
                          <a:lnTo>
                            <a:pt x="989" y="21"/>
                          </a:lnTo>
                          <a:lnTo>
                            <a:pt x="986" y="10"/>
                          </a:lnTo>
                          <a:lnTo>
                            <a:pt x="981" y="3"/>
                          </a:lnTo>
                          <a:lnTo>
                            <a:pt x="970" y="0"/>
                          </a:lnTo>
                          <a:lnTo>
                            <a:pt x="957" y="4"/>
                          </a:lnTo>
                          <a:lnTo>
                            <a:pt x="937" y="16"/>
                          </a:lnTo>
                          <a:lnTo>
                            <a:pt x="912" y="40"/>
                          </a:lnTo>
                          <a:lnTo>
                            <a:pt x="897" y="55"/>
                          </a:lnTo>
                          <a:lnTo>
                            <a:pt x="881" y="72"/>
                          </a:lnTo>
                          <a:lnTo>
                            <a:pt x="865" y="90"/>
                          </a:lnTo>
                          <a:lnTo>
                            <a:pt x="849" y="111"/>
                          </a:lnTo>
                          <a:lnTo>
                            <a:pt x="832" y="133"/>
                          </a:lnTo>
                          <a:lnTo>
                            <a:pt x="814" y="154"/>
                          </a:lnTo>
                          <a:lnTo>
                            <a:pt x="797" y="178"/>
                          </a:lnTo>
                          <a:lnTo>
                            <a:pt x="780" y="200"/>
                          </a:lnTo>
                          <a:lnTo>
                            <a:pt x="761" y="224"/>
                          </a:lnTo>
                          <a:lnTo>
                            <a:pt x="744" y="246"/>
                          </a:lnTo>
                          <a:lnTo>
                            <a:pt x="726" y="269"/>
                          </a:lnTo>
                          <a:lnTo>
                            <a:pt x="709" y="291"/>
                          </a:lnTo>
                          <a:lnTo>
                            <a:pt x="692" y="312"/>
                          </a:lnTo>
                          <a:lnTo>
                            <a:pt x="676" y="331"/>
                          </a:lnTo>
                          <a:lnTo>
                            <a:pt x="660" y="350"/>
                          </a:lnTo>
                          <a:lnTo>
                            <a:pt x="644" y="367"/>
                          </a:lnTo>
                          <a:lnTo>
                            <a:pt x="629" y="381"/>
                          </a:lnTo>
                          <a:lnTo>
                            <a:pt x="614" y="394"/>
                          </a:lnTo>
                          <a:lnTo>
                            <a:pt x="602" y="403"/>
                          </a:lnTo>
                          <a:lnTo>
                            <a:pt x="590" y="410"/>
                          </a:lnTo>
                          <a:lnTo>
                            <a:pt x="564" y="425"/>
                          </a:lnTo>
                          <a:lnTo>
                            <a:pt x="530" y="441"/>
                          </a:lnTo>
                          <a:lnTo>
                            <a:pt x="493" y="460"/>
                          </a:lnTo>
                          <a:lnTo>
                            <a:pt x="452" y="480"/>
                          </a:lnTo>
                          <a:lnTo>
                            <a:pt x="408" y="500"/>
                          </a:lnTo>
                          <a:lnTo>
                            <a:pt x="362" y="519"/>
                          </a:lnTo>
                          <a:lnTo>
                            <a:pt x="316" y="535"/>
                          </a:lnTo>
                          <a:lnTo>
                            <a:pt x="269" y="548"/>
                          </a:lnTo>
                          <a:lnTo>
                            <a:pt x="225" y="557"/>
                          </a:lnTo>
                          <a:lnTo>
                            <a:pt x="182" y="558"/>
                          </a:lnTo>
                          <a:lnTo>
                            <a:pt x="181" y="558"/>
                          </a:lnTo>
                          <a:lnTo>
                            <a:pt x="177" y="558"/>
                          </a:lnTo>
                          <a:lnTo>
                            <a:pt x="170" y="558"/>
                          </a:lnTo>
                          <a:lnTo>
                            <a:pt x="160" y="558"/>
                          </a:lnTo>
                          <a:lnTo>
                            <a:pt x="145" y="558"/>
                          </a:lnTo>
                          <a:lnTo>
                            <a:pt x="129" y="557"/>
                          </a:lnTo>
                          <a:lnTo>
                            <a:pt x="109" y="556"/>
                          </a:lnTo>
                          <a:lnTo>
                            <a:pt x="85" y="554"/>
                          </a:lnTo>
                          <a:lnTo>
                            <a:pt x="58" y="552"/>
                          </a:lnTo>
                          <a:lnTo>
                            <a:pt x="28" y="551"/>
                          </a:lnTo>
                          <a:lnTo>
                            <a:pt x="26" y="551"/>
                          </a:lnTo>
                          <a:lnTo>
                            <a:pt x="26" y="551"/>
                          </a:lnTo>
                          <a:lnTo>
                            <a:pt x="26" y="551"/>
                          </a:lnTo>
                          <a:lnTo>
                            <a:pt x="26" y="551"/>
                          </a:lnTo>
                          <a:lnTo>
                            <a:pt x="25" y="551"/>
                          </a:lnTo>
                          <a:lnTo>
                            <a:pt x="25" y="552"/>
                          </a:lnTo>
                          <a:lnTo>
                            <a:pt x="25" y="552"/>
                          </a:lnTo>
                          <a:lnTo>
                            <a:pt x="24" y="553"/>
                          </a:lnTo>
                          <a:lnTo>
                            <a:pt x="24" y="553"/>
                          </a:lnTo>
                          <a:lnTo>
                            <a:pt x="22" y="554"/>
                          </a:lnTo>
                          <a:lnTo>
                            <a:pt x="18" y="559"/>
                          </a:lnTo>
                          <a:lnTo>
                            <a:pt x="14" y="565"/>
                          </a:lnTo>
                          <a:lnTo>
                            <a:pt x="10" y="573"/>
                          </a:lnTo>
                          <a:lnTo>
                            <a:pt x="5" y="581"/>
                          </a:lnTo>
                          <a:lnTo>
                            <a:pt x="2" y="590"/>
                          </a:lnTo>
                          <a:lnTo>
                            <a:pt x="0" y="599"/>
                          </a:lnTo>
                          <a:lnTo>
                            <a:pt x="0" y="607"/>
                          </a:lnTo>
                          <a:lnTo>
                            <a:pt x="2" y="616"/>
                          </a:lnTo>
                          <a:lnTo>
                            <a:pt x="8" y="623"/>
                          </a:lnTo>
                          <a:lnTo>
                            <a:pt x="17" y="629"/>
                          </a:lnTo>
                          <a:lnTo>
                            <a:pt x="25" y="632"/>
                          </a:lnTo>
                          <a:lnTo>
                            <a:pt x="36" y="636"/>
                          </a:lnTo>
                          <a:lnTo>
                            <a:pt x="48" y="641"/>
                          </a:lnTo>
                          <a:lnTo>
                            <a:pt x="64" y="645"/>
                          </a:lnTo>
                          <a:lnTo>
                            <a:pt x="80" y="650"/>
                          </a:lnTo>
                          <a:lnTo>
                            <a:pt x="100" y="653"/>
                          </a:lnTo>
                          <a:lnTo>
                            <a:pt x="122" y="656"/>
                          </a:lnTo>
                          <a:lnTo>
                            <a:pt x="148" y="658"/>
                          </a:lnTo>
                          <a:lnTo>
                            <a:pt x="176" y="657"/>
                          </a:lnTo>
                          <a:lnTo>
                            <a:pt x="208" y="655"/>
                          </a:lnTo>
                          <a:lnTo>
                            <a:pt x="236" y="651"/>
                          </a:lnTo>
                          <a:lnTo>
                            <a:pt x="266" y="645"/>
                          </a:lnTo>
                          <a:lnTo>
                            <a:pt x="301" y="638"/>
                          </a:lnTo>
                          <a:lnTo>
                            <a:pt x="336" y="628"/>
                          </a:lnTo>
                          <a:lnTo>
                            <a:pt x="374" y="616"/>
                          </a:lnTo>
                          <a:lnTo>
                            <a:pt x="416" y="600"/>
                          </a:lnTo>
                          <a:lnTo>
                            <a:pt x="460" y="581"/>
                          </a:lnTo>
                          <a:lnTo>
                            <a:pt x="505" y="560"/>
                          </a:lnTo>
                          <a:lnTo>
                            <a:pt x="554" y="535"/>
                          </a:lnTo>
                          <a:lnTo>
                            <a:pt x="606" y="507"/>
                          </a:lnTo>
                          <a:lnTo>
                            <a:pt x="608" y="507"/>
                          </a:lnTo>
                          <a:lnTo>
                            <a:pt x="610" y="506"/>
                          </a:lnTo>
                          <a:lnTo>
                            <a:pt x="616" y="502"/>
                          </a:lnTo>
                          <a:lnTo>
                            <a:pt x="622" y="499"/>
                          </a:lnTo>
                          <a:lnTo>
                            <a:pt x="630" y="494"/>
                          </a:lnTo>
                          <a:lnTo>
                            <a:pt x="640" y="488"/>
                          </a:lnTo>
                          <a:lnTo>
                            <a:pt x="650" y="481"/>
                          </a:lnTo>
                          <a:lnTo>
                            <a:pt x="662" y="473"/>
                          </a:lnTo>
                          <a:lnTo>
                            <a:pt x="676" y="463"/>
                          </a:lnTo>
                          <a:lnTo>
                            <a:pt x="690" y="453"/>
                          </a:lnTo>
                          <a:lnTo>
                            <a:pt x="698" y="447"/>
                          </a:lnTo>
                          <a:lnTo>
                            <a:pt x="706" y="441"/>
                          </a:lnTo>
                          <a:lnTo>
                            <a:pt x="714" y="435"/>
                          </a:lnTo>
                          <a:lnTo>
                            <a:pt x="722" y="428"/>
                          </a:lnTo>
                          <a:lnTo>
                            <a:pt x="732" y="421"/>
                          </a:lnTo>
                          <a:lnTo>
                            <a:pt x="740" y="414"/>
                          </a:lnTo>
                          <a:lnTo>
                            <a:pt x="749" y="407"/>
                          </a:lnTo>
                          <a:lnTo>
                            <a:pt x="758" y="399"/>
                          </a:lnTo>
                          <a:lnTo>
                            <a:pt x="768" y="390"/>
                          </a:lnTo>
                          <a:lnTo>
                            <a:pt x="776" y="382"/>
                          </a:lnTo>
                          <a:lnTo>
                            <a:pt x="801" y="358"/>
                          </a:lnTo>
                          <a:lnTo>
                            <a:pt x="826" y="332"/>
                          </a:lnTo>
                          <a:lnTo>
                            <a:pt x="850" y="304"/>
                          </a:lnTo>
                          <a:lnTo>
                            <a:pt x="874" y="275"/>
                          </a:lnTo>
                          <a:lnTo>
                            <a:pt x="898" y="243"/>
                          </a:lnTo>
                          <a:lnTo>
                            <a:pt x="920" y="209"/>
                          </a:lnTo>
                          <a:lnTo>
                            <a:pt x="941" y="172"/>
                          </a:lnTo>
                          <a:lnTo>
                            <a:pt x="958" y="134"/>
                          </a:lnTo>
                          <a:lnTo>
                            <a:pt x="974" y="95"/>
                          </a:lnTo>
                          <a:lnTo>
                            <a:pt x="989" y="53"/>
                          </a:lnTo>
                          <a:lnTo>
                            <a:pt x="988" y="53"/>
                          </a:lnTo>
                          <a:close/>
                        </a:path>
                      </a:pathLst>
                    </a:custGeom>
                    <a:solidFill>
                      <a:srgbClr val="f5b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882720" y="2116800"/>
                      <a:ext cx="58284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95" h="587">
                          <a:moveTo>
                            <a:pt x="892" y="47"/>
                          </a:moveTo>
                          <a:lnTo>
                            <a:pt x="894" y="45"/>
                          </a:lnTo>
                          <a:lnTo>
                            <a:pt x="895" y="38"/>
                          </a:lnTo>
                          <a:lnTo>
                            <a:pt x="895" y="28"/>
                          </a:lnTo>
                          <a:lnTo>
                            <a:pt x="894" y="18"/>
                          </a:lnTo>
                          <a:lnTo>
                            <a:pt x="891" y="8"/>
                          </a:lnTo>
                          <a:lnTo>
                            <a:pt x="887" y="3"/>
                          </a:lnTo>
                          <a:lnTo>
                            <a:pt x="878" y="0"/>
                          </a:lnTo>
                          <a:lnTo>
                            <a:pt x="866" y="3"/>
                          </a:lnTo>
                          <a:lnTo>
                            <a:pt x="848" y="14"/>
                          </a:lnTo>
                          <a:lnTo>
                            <a:pt x="824" y="34"/>
                          </a:lnTo>
                          <a:lnTo>
                            <a:pt x="811" y="49"/>
                          </a:lnTo>
                          <a:lnTo>
                            <a:pt x="798" y="64"/>
                          </a:lnTo>
                          <a:lnTo>
                            <a:pt x="783" y="80"/>
                          </a:lnTo>
                          <a:lnTo>
                            <a:pt x="767" y="99"/>
                          </a:lnTo>
                          <a:lnTo>
                            <a:pt x="752" y="118"/>
                          </a:lnTo>
                          <a:lnTo>
                            <a:pt x="736" y="138"/>
                          </a:lnTo>
                          <a:lnTo>
                            <a:pt x="720" y="158"/>
                          </a:lnTo>
                          <a:lnTo>
                            <a:pt x="704" y="178"/>
                          </a:lnTo>
                          <a:lnTo>
                            <a:pt x="688" y="200"/>
                          </a:lnTo>
                          <a:lnTo>
                            <a:pt x="672" y="220"/>
                          </a:lnTo>
                          <a:lnTo>
                            <a:pt x="656" y="240"/>
                          </a:lnTo>
                          <a:lnTo>
                            <a:pt x="640" y="260"/>
                          </a:lnTo>
                          <a:lnTo>
                            <a:pt x="624" y="279"/>
                          </a:lnTo>
                          <a:lnTo>
                            <a:pt x="610" y="296"/>
                          </a:lnTo>
                          <a:lnTo>
                            <a:pt x="595" y="313"/>
                          </a:lnTo>
                          <a:lnTo>
                            <a:pt x="580" y="327"/>
                          </a:lnTo>
                          <a:lnTo>
                            <a:pt x="567" y="340"/>
                          </a:lnTo>
                          <a:lnTo>
                            <a:pt x="555" y="352"/>
                          </a:lnTo>
                          <a:lnTo>
                            <a:pt x="543" y="360"/>
                          </a:lnTo>
                          <a:lnTo>
                            <a:pt x="532" y="367"/>
                          </a:lnTo>
                          <a:lnTo>
                            <a:pt x="508" y="379"/>
                          </a:lnTo>
                          <a:lnTo>
                            <a:pt x="479" y="393"/>
                          </a:lnTo>
                          <a:lnTo>
                            <a:pt x="444" y="411"/>
                          </a:lnTo>
                          <a:lnTo>
                            <a:pt x="407" y="429"/>
                          </a:lnTo>
                          <a:lnTo>
                            <a:pt x="368" y="446"/>
                          </a:lnTo>
                          <a:lnTo>
                            <a:pt x="327" y="463"/>
                          </a:lnTo>
                          <a:lnTo>
                            <a:pt x="284" y="477"/>
                          </a:lnTo>
                          <a:lnTo>
                            <a:pt x="243" y="489"/>
                          </a:lnTo>
                          <a:lnTo>
                            <a:pt x="203" y="496"/>
                          </a:lnTo>
                          <a:lnTo>
                            <a:pt x="164" y="497"/>
                          </a:lnTo>
                          <a:lnTo>
                            <a:pt x="163" y="497"/>
                          </a:lnTo>
                          <a:lnTo>
                            <a:pt x="159" y="497"/>
                          </a:lnTo>
                          <a:lnTo>
                            <a:pt x="152" y="497"/>
                          </a:lnTo>
                          <a:lnTo>
                            <a:pt x="143" y="497"/>
                          </a:lnTo>
                          <a:lnTo>
                            <a:pt x="131" y="496"/>
                          </a:lnTo>
                          <a:lnTo>
                            <a:pt x="116" y="496"/>
                          </a:lnTo>
                          <a:lnTo>
                            <a:pt x="98" y="495"/>
                          </a:lnTo>
                          <a:lnTo>
                            <a:pt x="76" y="494"/>
                          </a:lnTo>
                          <a:lnTo>
                            <a:pt x="52" y="491"/>
                          </a:lnTo>
                          <a:lnTo>
                            <a:pt x="26" y="489"/>
                          </a:lnTo>
                          <a:lnTo>
                            <a:pt x="26" y="489"/>
                          </a:lnTo>
                          <a:lnTo>
                            <a:pt x="24" y="489"/>
                          </a:lnTo>
                          <a:lnTo>
                            <a:pt x="24" y="489"/>
                          </a:lnTo>
                          <a:lnTo>
                            <a:pt x="24" y="490"/>
                          </a:lnTo>
                          <a:lnTo>
                            <a:pt x="24" y="490"/>
                          </a:lnTo>
                          <a:lnTo>
                            <a:pt x="23" y="490"/>
                          </a:lnTo>
                          <a:lnTo>
                            <a:pt x="23" y="490"/>
                          </a:lnTo>
                          <a:lnTo>
                            <a:pt x="22" y="491"/>
                          </a:lnTo>
                          <a:lnTo>
                            <a:pt x="22" y="491"/>
                          </a:lnTo>
                          <a:lnTo>
                            <a:pt x="20" y="492"/>
                          </a:lnTo>
                          <a:lnTo>
                            <a:pt x="18" y="496"/>
                          </a:lnTo>
                          <a:lnTo>
                            <a:pt x="14" y="502"/>
                          </a:lnTo>
                          <a:lnTo>
                            <a:pt x="10" y="509"/>
                          </a:lnTo>
                          <a:lnTo>
                            <a:pt x="6" y="516"/>
                          </a:lnTo>
                          <a:lnTo>
                            <a:pt x="2" y="524"/>
                          </a:lnTo>
                          <a:lnTo>
                            <a:pt x="0" y="532"/>
                          </a:lnTo>
                          <a:lnTo>
                            <a:pt x="0" y="540"/>
                          </a:lnTo>
                          <a:lnTo>
                            <a:pt x="2" y="547"/>
                          </a:lnTo>
                          <a:lnTo>
                            <a:pt x="7" y="554"/>
                          </a:lnTo>
                          <a:lnTo>
                            <a:pt x="15" y="558"/>
                          </a:lnTo>
                          <a:lnTo>
                            <a:pt x="23" y="562"/>
                          </a:lnTo>
                          <a:lnTo>
                            <a:pt x="32" y="566"/>
                          </a:lnTo>
                          <a:lnTo>
                            <a:pt x="43" y="570"/>
                          </a:lnTo>
                          <a:lnTo>
                            <a:pt x="56" y="575"/>
                          </a:lnTo>
                          <a:lnTo>
                            <a:pt x="72" y="579"/>
                          </a:lnTo>
                          <a:lnTo>
                            <a:pt x="90" y="582"/>
                          </a:lnTo>
                          <a:lnTo>
                            <a:pt x="110" y="584"/>
                          </a:lnTo>
                          <a:lnTo>
                            <a:pt x="132" y="587"/>
                          </a:lnTo>
                          <a:lnTo>
                            <a:pt x="158" y="586"/>
                          </a:lnTo>
                          <a:lnTo>
                            <a:pt x="186" y="584"/>
                          </a:lnTo>
                          <a:lnTo>
                            <a:pt x="212" y="581"/>
                          </a:lnTo>
                          <a:lnTo>
                            <a:pt x="240" y="576"/>
                          </a:lnTo>
                          <a:lnTo>
                            <a:pt x="270" y="569"/>
                          </a:lnTo>
                          <a:lnTo>
                            <a:pt x="302" y="561"/>
                          </a:lnTo>
                          <a:lnTo>
                            <a:pt x="336" y="549"/>
                          </a:lnTo>
                          <a:lnTo>
                            <a:pt x="374" y="536"/>
                          </a:lnTo>
                          <a:lnTo>
                            <a:pt x="414" y="519"/>
                          </a:lnTo>
                          <a:lnTo>
                            <a:pt x="455" y="501"/>
                          </a:lnTo>
                          <a:lnTo>
                            <a:pt x="499" y="479"/>
                          </a:lnTo>
                          <a:lnTo>
                            <a:pt x="547" y="455"/>
                          </a:lnTo>
                          <a:lnTo>
                            <a:pt x="547" y="453"/>
                          </a:lnTo>
                          <a:lnTo>
                            <a:pt x="550" y="452"/>
                          </a:lnTo>
                          <a:lnTo>
                            <a:pt x="555" y="450"/>
                          </a:lnTo>
                          <a:lnTo>
                            <a:pt x="562" y="446"/>
                          </a:lnTo>
                          <a:lnTo>
                            <a:pt x="568" y="442"/>
                          </a:lnTo>
                          <a:lnTo>
                            <a:pt x="578" y="436"/>
                          </a:lnTo>
                          <a:lnTo>
                            <a:pt x="588" y="430"/>
                          </a:lnTo>
                          <a:lnTo>
                            <a:pt x="600" y="422"/>
                          </a:lnTo>
                          <a:lnTo>
                            <a:pt x="612" y="413"/>
                          </a:lnTo>
                          <a:lnTo>
                            <a:pt x="626" y="404"/>
                          </a:lnTo>
                          <a:lnTo>
                            <a:pt x="634" y="398"/>
                          </a:lnTo>
                          <a:lnTo>
                            <a:pt x="640" y="392"/>
                          </a:lnTo>
                          <a:lnTo>
                            <a:pt x="648" y="386"/>
                          </a:lnTo>
                          <a:lnTo>
                            <a:pt x="656" y="380"/>
                          </a:lnTo>
                          <a:lnTo>
                            <a:pt x="664" y="373"/>
                          </a:lnTo>
                          <a:lnTo>
                            <a:pt x="672" y="367"/>
                          </a:lnTo>
                          <a:lnTo>
                            <a:pt x="680" y="360"/>
                          </a:lnTo>
                          <a:lnTo>
                            <a:pt x="688" y="353"/>
                          </a:lnTo>
                          <a:lnTo>
                            <a:pt x="698" y="345"/>
                          </a:lnTo>
                          <a:lnTo>
                            <a:pt x="706" y="337"/>
                          </a:lnTo>
                          <a:lnTo>
                            <a:pt x="727" y="316"/>
                          </a:lnTo>
                          <a:lnTo>
                            <a:pt x="750" y="293"/>
                          </a:lnTo>
                          <a:lnTo>
                            <a:pt x="771" y="268"/>
                          </a:lnTo>
                          <a:lnTo>
                            <a:pt x="792" y="242"/>
                          </a:lnTo>
                          <a:lnTo>
                            <a:pt x="814" y="214"/>
                          </a:lnTo>
                          <a:lnTo>
                            <a:pt x="832" y="184"/>
                          </a:lnTo>
                          <a:lnTo>
                            <a:pt x="851" y="152"/>
                          </a:lnTo>
                          <a:lnTo>
                            <a:pt x="867" y="119"/>
                          </a:lnTo>
                          <a:lnTo>
                            <a:pt x="882" y="84"/>
                          </a:lnTo>
                          <a:lnTo>
                            <a:pt x="894" y="47"/>
                          </a:lnTo>
                          <a:lnTo>
                            <a:pt x="892" y="47"/>
                          </a:lnTo>
                          <a:close/>
                        </a:path>
                      </a:pathLst>
                    </a:custGeom>
                    <a:solidFill>
                      <a:srgbClr val="f0b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910800" y="2157120"/>
                      <a:ext cx="521280" cy="33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0" h="515">
                          <a:moveTo>
                            <a:pt x="797" y="41"/>
                          </a:moveTo>
                          <a:lnTo>
                            <a:pt x="799" y="40"/>
                          </a:lnTo>
                          <a:lnTo>
                            <a:pt x="800" y="34"/>
                          </a:lnTo>
                          <a:lnTo>
                            <a:pt x="800" y="26"/>
                          </a:lnTo>
                          <a:lnTo>
                            <a:pt x="800" y="16"/>
                          </a:lnTo>
                          <a:lnTo>
                            <a:pt x="797" y="8"/>
                          </a:lnTo>
                          <a:lnTo>
                            <a:pt x="793" y="2"/>
                          </a:lnTo>
                          <a:lnTo>
                            <a:pt x="785" y="0"/>
                          </a:lnTo>
                          <a:lnTo>
                            <a:pt x="773" y="2"/>
                          </a:lnTo>
                          <a:lnTo>
                            <a:pt x="759" y="13"/>
                          </a:lnTo>
                          <a:lnTo>
                            <a:pt x="737" y="30"/>
                          </a:lnTo>
                          <a:lnTo>
                            <a:pt x="725" y="42"/>
                          </a:lnTo>
                          <a:lnTo>
                            <a:pt x="713" y="56"/>
                          </a:lnTo>
                          <a:lnTo>
                            <a:pt x="700" y="70"/>
                          </a:lnTo>
                          <a:lnTo>
                            <a:pt x="687" y="87"/>
                          </a:lnTo>
                          <a:lnTo>
                            <a:pt x="672" y="103"/>
                          </a:lnTo>
                          <a:lnTo>
                            <a:pt x="657" y="121"/>
                          </a:lnTo>
                          <a:lnTo>
                            <a:pt x="644" y="139"/>
                          </a:lnTo>
                          <a:lnTo>
                            <a:pt x="629" y="158"/>
                          </a:lnTo>
                          <a:lnTo>
                            <a:pt x="615" y="175"/>
                          </a:lnTo>
                          <a:lnTo>
                            <a:pt x="600" y="193"/>
                          </a:lnTo>
                          <a:lnTo>
                            <a:pt x="585" y="212"/>
                          </a:lnTo>
                          <a:lnTo>
                            <a:pt x="571" y="229"/>
                          </a:lnTo>
                          <a:lnTo>
                            <a:pt x="557" y="245"/>
                          </a:lnTo>
                          <a:lnTo>
                            <a:pt x="544" y="260"/>
                          </a:lnTo>
                          <a:lnTo>
                            <a:pt x="531" y="276"/>
                          </a:lnTo>
                          <a:lnTo>
                            <a:pt x="519" y="289"/>
                          </a:lnTo>
                          <a:lnTo>
                            <a:pt x="507" y="299"/>
                          </a:lnTo>
                          <a:lnTo>
                            <a:pt x="495" y="310"/>
                          </a:lnTo>
                          <a:lnTo>
                            <a:pt x="484" y="317"/>
                          </a:lnTo>
                          <a:lnTo>
                            <a:pt x="475" y="323"/>
                          </a:lnTo>
                          <a:lnTo>
                            <a:pt x="453" y="334"/>
                          </a:lnTo>
                          <a:lnTo>
                            <a:pt x="427" y="347"/>
                          </a:lnTo>
                          <a:lnTo>
                            <a:pt x="396" y="361"/>
                          </a:lnTo>
                          <a:lnTo>
                            <a:pt x="363" y="377"/>
                          </a:lnTo>
                          <a:lnTo>
                            <a:pt x="328" y="393"/>
                          </a:lnTo>
                          <a:lnTo>
                            <a:pt x="291" y="407"/>
                          </a:lnTo>
                          <a:lnTo>
                            <a:pt x="253" y="420"/>
                          </a:lnTo>
                          <a:lnTo>
                            <a:pt x="216" y="429"/>
                          </a:lnTo>
                          <a:lnTo>
                            <a:pt x="180" y="435"/>
                          </a:lnTo>
                          <a:lnTo>
                            <a:pt x="147" y="435"/>
                          </a:lnTo>
                          <a:lnTo>
                            <a:pt x="145" y="435"/>
                          </a:lnTo>
                          <a:lnTo>
                            <a:pt x="143" y="435"/>
                          </a:lnTo>
                          <a:lnTo>
                            <a:pt x="136" y="435"/>
                          </a:lnTo>
                          <a:lnTo>
                            <a:pt x="128" y="435"/>
                          </a:lnTo>
                          <a:lnTo>
                            <a:pt x="117" y="435"/>
                          </a:lnTo>
                          <a:lnTo>
                            <a:pt x="104" y="434"/>
                          </a:lnTo>
                          <a:lnTo>
                            <a:pt x="88" y="433"/>
                          </a:lnTo>
                          <a:lnTo>
                            <a:pt x="69" y="432"/>
                          </a:lnTo>
                          <a:lnTo>
                            <a:pt x="48" y="429"/>
                          </a:lnTo>
                          <a:lnTo>
                            <a:pt x="24" y="428"/>
                          </a:lnTo>
                          <a:lnTo>
                            <a:pt x="24" y="428"/>
                          </a:lnTo>
                          <a:lnTo>
                            <a:pt x="23" y="428"/>
                          </a:lnTo>
                          <a:lnTo>
                            <a:pt x="23" y="428"/>
                          </a:lnTo>
                          <a:lnTo>
                            <a:pt x="23" y="428"/>
                          </a:lnTo>
                          <a:lnTo>
                            <a:pt x="23" y="428"/>
                          </a:lnTo>
                          <a:lnTo>
                            <a:pt x="21" y="428"/>
                          </a:lnTo>
                          <a:lnTo>
                            <a:pt x="21" y="429"/>
                          </a:lnTo>
                          <a:lnTo>
                            <a:pt x="20" y="429"/>
                          </a:lnTo>
                          <a:lnTo>
                            <a:pt x="20" y="429"/>
                          </a:lnTo>
                          <a:lnTo>
                            <a:pt x="20" y="430"/>
                          </a:lnTo>
                          <a:lnTo>
                            <a:pt x="16" y="434"/>
                          </a:lnTo>
                          <a:lnTo>
                            <a:pt x="13" y="439"/>
                          </a:lnTo>
                          <a:lnTo>
                            <a:pt x="9" y="445"/>
                          </a:lnTo>
                          <a:lnTo>
                            <a:pt x="5" y="450"/>
                          </a:lnTo>
                          <a:lnTo>
                            <a:pt x="3" y="457"/>
                          </a:lnTo>
                          <a:lnTo>
                            <a:pt x="0" y="466"/>
                          </a:lnTo>
                          <a:lnTo>
                            <a:pt x="0" y="473"/>
                          </a:lnTo>
                          <a:lnTo>
                            <a:pt x="1" y="479"/>
                          </a:lnTo>
                          <a:lnTo>
                            <a:pt x="7" y="485"/>
                          </a:lnTo>
                          <a:lnTo>
                            <a:pt x="13" y="489"/>
                          </a:lnTo>
                          <a:lnTo>
                            <a:pt x="20" y="493"/>
                          </a:lnTo>
                          <a:lnTo>
                            <a:pt x="28" y="496"/>
                          </a:lnTo>
                          <a:lnTo>
                            <a:pt x="39" y="500"/>
                          </a:lnTo>
                          <a:lnTo>
                            <a:pt x="49" y="504"/>
                          </a:lnTo>
                          <a:lnTo>
                            <a:pt x="64" y="507"/>
                          </a:lnTo>
                          <a:lnTo>
                            <a:pt x="79" y="511"/>
                          </a:lnTo>
                          <a:lnTo>
                            <a:pt x="97" y="513"/>
                          </a:lnTo>
                          <a:lnTo>
                            <a:pt x="117" y="514"/>
                          </a:lnTo>
                          <a:lnTo>
                            <a:pt x="140" y="515"/>
                          </a:lnTo>
                          <a:lnTo>
                            <a:pt x="165" y="513"/>
                          </a:lnTo>
                          <a:lnTo>
                            <a:pt x="188" y="511"/>
                          </a:lnTo>
                          <a:lnTo>
                            <a:pt x="213" y="507"/>
                          </a:lnTo>
                          <a:lnTo>
                            <a:pt x="240" y="501"/>
                          </a:lnTo>
                          <a:lnTo>
                            <a:pt x="268" y="493"/>
                          </a:lnTo>
                          <a:lnTo>
                            <a:pt x="299" y="483"/>
                          </a:lnTo>
                          <a:lnTo>
                            <a:pt x="332" y="472"/>
                          </a:lnTo>
                          <a:lnTo>
                            <a:pt x="368" y="457"/>
                          </a:lnTo>
                          <a:lnTo>
                            <a:pt x="405" y="441"/>
                          </a:lnTo>
                          <a:lnTo>
                            <a:pt x="444" y="422"/>
                          </a:lnTo>
                          <a:lnTo>
                            <a:pt x="487" y="401"/>
                          </a:lnTo>
                          <a:lnTo>
                            <a:pt x="487" y="400"/>
                          </a:lnTo>
                          <a:lnTo>
                            <a:pt x="491" y="398"/>
                          </a:lnTo>
                          <a:lnTo>
                            <a:pt x="495" y="396"/>
                          </a:lnTo>
                          <a:lnTo>
                            <a:pt x="500" y="393"/>
                          </a:lnTo>
                          <a:lnTo>
                            <a:pt x="508" y="389"/>
                          </a:lnTo>
                          <a:lnTo>
                            <a:pt x="516" y="383"/>
                          </a:lnTo>
                          <a:lnTo>
                            <a:pt x="527" y="377"/>
                          </a:lnTo>
                          <a:lnTo>
                            <a:pt x="537" y="370"/>
                          </a:lnTo>
                          <a:lnTo>
                            <a:pt x="549" y="363"/>
                          </a:lnTo>
                          <a:lnTo>
                            <a:pt x="561" y="354"/>
                          </a:lnTo>
                          <a:lnTo>
                            <a:pt x="568" y="349"/>
                          </a:lnTo>
                          <a:lnTo>
                            <a:pt x="576" y="343"/>
                          </a:lnTo>
                          <a:lnTo>
                            <a:pt x="583" y="338"/>
                          </a:lnTo>
                          <a:lnTo>
                            <a:pt x="589" y="332"/>
                          </a:lnTo>
                          <a:lnTo>
                            <a:pt x="597" y="326"/>
                          </a:lnTo>
                          <a:lnTo>
                            <a:pt x="605" y="319"/>
                          </a:lnTo>
                          <a:lnTo>
                            <a:pt x="612" y="313"/>
                          </a:lnTo>
                          <a:lnTo>
                            <a:pt x="620" y="306"/>
                          </a:lnTo>
                          <a:lnTo>
                            <a:pt x="628" y="299"/>
                          </a:lnTo>
                          <a:lnTo>
                            <a:pt x="636" y="292"/>
                          </a:lnTo>
                          <a:lnTo>
                            <a:pt x="655" y="273"/>
                          </a:lnTo>
                          <a:lnTo>
                            <a:pt x="673" y="254"/>
                          </a:lnTo>
                          <a:lnTo>
                            <a:pt x="692" y="232"/>
                          </a:lnTo>
                          <a:lnTo>
                            <a:pt x="711" y="210"/>
                          </a:lnTo>
                          <a:lnTo>
                            <a:pt x="729" y="185"/>
                          </a:lnTo>
                          <a:lnTo>
                            <a:pt x="745" y="159"/>
                          </a:lnTo>
                          <a:lnTo>
                            <a:pt x="761" y="132"/>
                          </a:lnTo>
                          <a:lnTo>
                            <a:pt x="776" y="103"/>
                          </a:lnTo>
                          <a:lnTo>
                            <a:pt x="788" y="74"/>
                          </a:lnTo>
                          <a:lnTo>
                            <a:pt x="799" y="42"/>
                          </a:lnTo>
                          <a:lnTo>
                            <a:pt x="797" y="41"/>
                          </a:lnTo>
                          <a:close/>
                        </a:path>
                      </a:pathLst>
                    </a:custGeom>
                    <a:solidFill>
                      <a:srgbClr val="eba4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937440" y="2197080"/>
                      <a:ext cx="459720" cy="29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6" h="445">
                          <a:moveTo>
                            <a:pt x="703" y="37"/>
                          </a:moveTo>
                          <a:lnTo>
                            <a:pt x="704" y="35"/>
                          </a:lnTo>
                          <a:lnTo>
                            <a:pt x="706" y="29"/>
                          </a:lnTo>
                          <a:lnTo>
                            <a:pt x="706" y="22"/>
                          </a:lnTo>
                          <a:lnTo>
                            <a:pt x="706" y="15"/>
                          </a:lnTo>
                          <a:lnTo>
                            <a:pt x="703" y="7"/>
                          </a:lnTo>
                          <a:lnTo>
                            <a:pt x="700" y="2"/>
                          </a:lnTo>
                          <a:lnTo>
                            <a:pt x="694" y="0"/>
                          </a:lnTo>
                          <a:lnTo>
                            <a:pt x="683" y="2"/>
                          </a:lnTo>
                          <a:lnTo>
                            <a:pt x="670" y="11"/>
                          </a:lnTo>
                          <a:lnTo>
                            <a:pt x="651" y="26"/>
                          </a:lnTo>
                          <a:lnTo>
                            <a:pt x="640" y="37"/>
                          </a:lnTo>
                          <a:lnTo>
                            <a:pt x="630" y="48"/>
                          </a:lnTo>
                          <a:lnTo>
                            <a:pt x="618" y="61"/>
                          </a:lnTo>
                          <a:lnTo>
                            <a:pt x="606" y="75"/>
                          </a:lnTo>
                          <a:lnTo>
                            <a:pt x="592" y="90"/>
                          </a:lnTo>
                          <a:lnTo>
                            <a:pt x="580" y="105"/>
                          </a:lnTo>
                          <a:lnTo>
                            <a:pt x="567" y="120"/>
                          </a:lnTo>
                          <a:lnTo>
                            <a:pt x="555" y="137"/>
                          </a:lnTo>
                          <a:lnTo>
                            <a:pt x="542" y="152"/>
                          </a:lnTo>
                          <a:lnTo>
                            <a:pt x="528" y="168"/>
                          </a:lnTo>
                          <a:lnTo>
                            <a:pt x="516" y="184"/>
                          </a:lnTo>
                          <a:lnTo>
                            <a:pt x="503" y="198"/>
                          </a:lnTo>
                          <a:lnTo>
                            <a:pt x="491" y="212"/>
                          </a:lnTo>
                          <a:lnTo>
                            <a:pt x="479" y="227"/>
                          </a:lnTo>
                          <a:lnTo>
                            <a:pt x="467" y="238"/>
                          </a:lnTo>
                          <a:lnTo>
                            <a:pt x="456" y="250"/>
                          </a:lnTo>
                          <a:lnTo>
                            <a:pt x="446" y="260"/>
                          </a:lnTo>
                          <a:lnTo>
                            <a:pt x="435" y="268"/>
                          </a:lnTo>
                          <a:lnTo>
                            <a:pt x="426" y="275"/>
                          </a:lnTo>
                          <a:lnTo>
                            <a:pt x="418" y="280"/>
                          </a:lnTo>
                          <a:lnTo>
                            <a:pt x="399" y="289"/>
                          </a:lnTo>
                          <a:lnTo>
                            <a:pt x="375" y="300"/>
                          </a:lnTo>
                          <a:lnTo>
                            <a:pt x="348" y="313"/>
                          </a:lnTo>
                          <a:lnTo>
                            <a:pt x="319" y="326"/>
                          </a:lnTo>
                          <a:lnTo>
                            <a:pt x="288" y="339"/>
                          </a:lnTo>
                          <a:lnTo>
                            <a:pt x="256" y="352"/>
                          </a:lnTo>
                          <a:lnTo>
                            <a:pt x="223" y="362"/>
                          </a:lnTo>
                          <a:lnTo>
                            <a:pt x="191" y="371"/>
                          </a:lnTo>
                          <a:lnTo>
                            <a:pt x="159" y="375"/>
                          </a:lnTo>
                          <a:lnTo>
                            <a:pt x="130" y="375"/>
                          </a:lnTo>
                          <a:lnTo>
                            <a:pt x="128" y="375"/>
                          </a:lnTo>
                          <a:lnTo>
                            <a:pt x="126" y="375"/>
                          </a:lnTo>
                          <a:lnTo>
                            <a:pt x="120" y="375"/>
                          </a:lnTo>
                          <a:lnTo>
                            <a:pt x="114" y="374"/>
                          </a:lnTo>
                          <a:lnTo>
                            <a:pt x="104" y="374"/>
                          </a:lnTo>
                          <a:lnTo>
                            <a:pt x="92" y="373"/>
                          </a:lnTo>
                          <a:lnTo>
                            <a:pt x="79" y="372"/>
                          </a:lnTo>
                          <a:lnTo>
                            <a:pt x="63" y="371"/>
                          </a:lnTo>
                          <a:lnTo>
                            <a:pt x="44" y="369"/>
                          </a:lnTo>
                          <a:lnTo>
                            <a:pt x="23" y="367"/>
                          </a:lnTo>
                          <a:lnTo>
                            <a:pt x="23" y="367"/>
                          </a:lnTo>
                          <a:lnTo>
                            <a:pt x="22" y="367"/>
                          </a:lnTo>
                          <a:lnTo>
                            <a:pt x="22" y="367"/>
                          </a:lnTo>
                          <a:lnTo>
                            <a:pt x="22" y="367"/>
                          </a:lnTo>
                          <a:lnTo>
                            <a:pt x="20" y="367"/>
                          </a:lnTo>
                          <a:lnTo>
                            <a:pt x="20" y="368"/>
                          </a:lnTo>
                          <a:lnTo>
                            <a:pt x="20" y="368"/>
                          </a:lnTo>
                          <a:lnTo>
                            <a:pt x="19" y="368"/>
                          </a:lnTo>
                          <a:lnTo>
                            <a:pt x="19" y="368"/>
                          </a:lnTo>
                          <a:lnTo>
                            <a:pt x="19" y="369"/>
                          </a:lnTo>
                          <a:lnTo>
                            <a:pt x="16" y="372"/>
                          </a:lnTo>
                          <a:lnTo>
                            <a:pt x="12" y="376"/>
                          </a:lnTo>
                          <a:lnTo>
                            <a:pt x="10" y="381"/>
                          </a:lnTo>
                          <a:lnTo>
                            <a:pt x="6" y="387"/>
                          </a:lnTo>
                          <a:lnTo>
                            <a:pt x="3" y="393"/>
                          </a:lnTo>
                          <a:lnTo>
                            <a:pt x="2" y="399"/>
                          </a:lnTo>
                          <a:lnTo>
                            <a:pt x="0" y="406"/>
                          </a:lnTo>
                          <a:lnTo>
                            <a:pt x="2" y="412"/>
                          </a:lnTo>
                          <a:lnTo>
                            <a:pt x="6" y="417"/>
                          </a:lnTo>
                          <a:lnTo>
                            <a:pt x="12" y="421"/>
                          </a:lnTo>
                          <a:lnTo>
                            <a:pt x="18" y="424"/>
                          </a:lnTo>
                          <a:lnTo>
                            <a:pt x="26" y="427"/>
                          </a:lnTo>
                          <a:lnTo>
                            <a:pt x="34" y="431"/>
                          </a:lnTo>
                          <a:lnTo>
                            <a:pt x="44" y="434"/>
                          </a:lnTo>
                          <a:lnTo>
                            <a:pt x="56" y="438"/>
                          </a:lnTo>
                          <a:lnTo>
                            <a:pt x="70" y="440"/>
                          </a:lnTo>
                          <a:lnTo>
                            <a:pt x="86" y="443"/>
                          </a:lnTo>
                          <a:lnTo>
                            <a:pt x="103" y="444"/>
                          </a:lnTo>
                          <a:lnTo>
                            <a:pt x="123" y="445"/>
                          </a:lnTo>
                          <a:lnTo>
                            <a:pt x="144" y="444"/>
                          </a:lnTo>
                          <a:lnTo>
                            <a:pt x="164" y="441"/>
                          </a:lnTo>
                          <a:lnTo>
                            <a:pt x="186" y="438"/>
                          </a:lnTo>
                          <a:lnTo>
                            <a:pt x="210" y="433"/>
                          </a:lnTo>
                          <a:lnTo>
                            <a:pt x="235" y="427"/>
                          </a:lnTo>
                          <a:lnTo>
                            <a:pt x="262" y="419"/>
                          </a:lnTo>
                          <a:lnTo>
                            <a:pt x="291" y="408"/>
                          </a:lnTo>
                          <a:lnTo>
                            <a:pt x="322" y="396"/>
                          </a:lnTo>
                          <a:lnTo>
                            <a:pt x="355" y="382"/>
                          </a:lnTo>
                          <a:lnTo>
                            <a:pt x="390" y="367"/>
                          </a:lnTo>
                          <a:lnTo>
                            <a:pt x="427" y="348"/>
                          </a:lnTo>
                          <a:lnTo>
                            <a:pt x="428" y="347"/>
                          </a:lnTo>
                          <a:lnTo>
                            <a:pt x="431" y="346"/>
                          </a:lnTo>
                          <a:lnTo>
                            <a:pt x="435" y="345"/>
                          </a:lnTo>
                          <a:lnTo>
                            <a:pt x="440" y="341"/>
                          </a:lnTo>
                          <a:lnTo>
                            <a:pt x="447" y="337"/>
                          </a:lnTo>
                          <a:lnTo>
                            <a:pt x="455" y="333"/>
                          </a:lnTo>
                          <a:lnTo>
                            <a:pt x="464" y="327"/>
                          </a:lnTo>
                          <a:lnTo>
                            <a:pt x="475" y="320"/>
                          </a:lnTo>
                          <a:lnTo>
                            <a:pt x="486" y="313"/>
                          </a:lnTo>
                          <a:lnTo>
                            <a:pt x="498" y="304"/>
                          </a:lnTo>
                          <a:lnTo>
                            <a:pt x="504" y="300"/>
                          </a:lnTo>
                          <a:lnTo>
                            <a:pt x="511" y="295"/>
                          </a:lnTo>
                          <a:lnTo>
                            <a:pt x="518" y="290"/>
                          </a:lnTo>
                          <a:lnTo>
                            <a:pt x="524" y="286"/>
                          </a:lnTo>
                          <a:lnTo>
                            <a:pt x="531" y="280"/>
                          </a:lnTo>
                          <a:lnTo>
                            <a:pt x="538" y="274"/>
                          </a:lnTo>
                          <a:lnTo>
                            <a:pt x="544" y="268"/>
                          </a:lnTo>
                          <a:lnTo>
                            <a:pt x="552" y="262"/>
                          </a:lnTo>
                          <a:lnTo>
                            <a:pt x="559" y="255"/>
                          </a:lnTo>
                          <a:lnTo>
                            <a:pt x="566" y="248"/>
                          </a:lnTo>
                          <a:lnTo>
                            <a:pt x="582" y="232"/>
                          </a:lnTo>
                          <a:lnTo>
                            <a:pt x="598" y="216"/>
                          </a:lnTo>
                          <a:lnTo>
                            <a:pt x="614" y="198"/>
                          </a:lnTo>
                          <a:lnTo>
                            <a:pt x="630" y="178"/>
                          </a:lnTo>
                          <a:lnTo>
                            <a:pt x="644" y="158"/>
                          </a:lnTo>
                          <a:lnTo>
                            <a:pt x="659" y="136"/>
                          </a:lnTo>
                          <a:lnTo>
                            <a:pt x="672" y="113"/>
                          </a:lnTo>
                          <a:lnTo>
                            <a:pt x="684" y="88"/>
                          </a:lnTo>
                          <a:lnTo>
                            <a:pt x="695" y="64"/>
                          </a:lnTo>
                          <a:lnTo>
                            <a:pt x="704" y="38"/>
                          </a:lnTo>
                          <a:lnTo>
                            <a:pt x="703" y="37"/>
                          </a:lnTo>
                          <a:close/>
                        </a:path>
                      </a:pathLst>
                    </a:custGeom>
                    <a:solidFill>
                      <a:srgbClr val="e698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965520" y="2237040"/>
                      <a:ext cx="396720" cy="24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9" h="374">
                          <a:moveTo>
                            <a:pt x="608" y="32"/>
                          </a:moveTo>
                          <a:lnTo>
                            <a:pt x="608" y="31"/>
                          </a:lnTo>
                          <a:lnTo>
                            <a:pt x="609" y="26"/>
                          </a:lnTo>
                          <a:lnTo>
                            <a:pt x="609" y="20"/>
                          </a:lnTo>
                          <a:lnTo>
                            <a:pt x="609" y="13"/>
                          </a:lnTo>
                          <a:lnTo>
                            <a:pt x="608" y="7"/>
                          </a:lnTo>
                          <a:lnTo>
                            <a:pt x="605" y="3"/>
                          </a:lnTo>
                          <a:lnTo>
                            <a:pt x="600" y="0"/>
                          </a:lnTo>
                          <a:lnTo>
                            <a:pt x="591" y="3"/>
                          </a:lnTo>
                          <a:lnTo>
                            <a:pt x="579" y="10"/>
                          </a:lnTo>
                          <a:lnTo>
                            <a:pt x="563" y="23"/>
                          </a:lnTo>
                          <a:lnTo>
                            <a:pt x="553" y="31"/>
                          </a:lnTo>
                          <a:lnTo>
                            <a:pt x="544" y="42"/>
                          </a:lnTo>
                          <a:lnTo>
                            <a:pt x="533" y="52"/>
                          </a:lnTo>
                          <a:lnTo>
                            <a:pt x="523" y="64"/>
                          </a:lnTo>
                          <a:lnTo>
                            <a:pt x="512" y="77"/>
                          </a:lnTo>
                          <a:lnTo>
                            <a:pt x="501" y="89"/>
                          </a:lnTo>
                          <a:lnTo>
                            <a:pt x="489" y="103"/>
                          </a:lnTo>
                          <a:lnTo>
                            <a:pt x="479" y="116"/>
                          </a:lnTo>
                          <a:lnTo>
                            <a:pt x="467" y="129"/>
                          </a:lnTo>
                          <a:lnTo>
                            <a:pt x="456" y="143"/>
                          </a:lnTo>
                          <a:lnTo>
                            <a:pt x="445" y="156"/>
                          </a:lnTo>
                          <a:lnTo>
                            <a:pt x="433" y="168"/>
                          </a:lnTo>
                          <a:lnTo>
                            <a:pt x="423" y="181"/>
                          </a:lnTo>
                          <a:lnTo>
                            <a:pt x="412" y="191"/>
                          </a:lnTo>
                          <a:lnTo>
                            <a:pt x="403" y="202"/>
                          </a:lnTo>
                          <a:lnTo>
                            <a:pt x="392" y="212"/>
                          </a:lnTo>
                          <a:lnTo>
                            <a:pt x="383" y="220"/>
                          </a:lnTo>
                          <a:lnTo>
                            <a:pt x="375" y="227"/>
                          </a:lnTo>
                          <a:lnTo>
                            <a:pt x="367" y="233"/>
                          </a:lnTo>
                          <a:lnTo>
                            <a:pt x="359" y="236"/>
                          </a:lnTo>
                          <a:lnTo>
                            <a:pt x="343" y="245"/>
                          </a:lnTo>
                          <a:lnTo>
                            <a:pt x="323" y="254"/>
                          </a:lnTo>
                          <a:lnTo>
                            <a:pt x="300" y="263"/>
                          </a:lnTo>
                          <a:lnTo>
                            <a:pt x="275" y="275"/>
                          </a:lnTo>
                          <a:lnTo>
                            <a:pt x="247" y="286"/>
                          </a:lnTo>
                          <a:lnTo>
                            <a:pt x="219" y="297"/>
                          </a:lnTo>
                          <a:lnTo>
                            <a:pt x="191" y="305"/>
                          </a:lnTo>
                          <a:lnTo>
                            <a:pt x="163" y="311"/>
                          </a:lnTo>
                          <a:lnTo>
                            <a:pt x="136" y="315"/>
                          </a:lnTo>
                          <a:lnTo>
                            <a:pt x="111" y="315"/>
                          </a:lnTo>
                          <a:lnTo>
                            <a:pt x="109" y="315"/>
                          </a:lnTo>
                          <a:lnTo>
                            <a:pt x="108" y="314"/>
                          </a:lnTo>
                          <a:lnTo>
                            <a:pt x="103" y="314"/>
                          </a:lnTo>
                          <a:lnTo>
                            <a:pt x="97" y="314"/>
                          </a:lnTo>
                          <a:lnTo>
                            <a:pt x="89" y="313"/>
                          </a:lnTo>
                          <a:lnTo>
                            <a:pt x="79" y="313"/>
                          </a:lnTo>
                          <a:lnTo>
                            <a:pt x="68" y="312"/>
                          </a:lnTo>
                          <a:lnTo>
                            <a:pt x="53" y="311"/>
                          </a:lnTo>
                          <a:lnTo>
                            <a:pt x="39" y="308"/>
                          </a:lnTo>
                          <a:lnTo>
                            <a:pt x="20" y="307"/>
                          </a:lnTo>
                          <a:lnTo>
                            <a:pt x="20" y="307"/>
                          </a:lnTo>
                          <a:lnTo>
                            <a:pt x="20" y="307"/>
                          </a:lnTo>
                          <a:lnTo>
                            <a:pt x="19" y="307"/>
                          </a:lnTo>
                          <a:lnTo>
                            <a:pt x="19" y="307"/>
                          </a:lnTo>
                          <a:lnTo>
                            <a:pt x="19" y="307"/>
                          </a:lnTo>
                          <a:lnTo>
                            <a:pt x="17" y="307"/>
                          </a:lnTo>
                          <a:lnTo>
                            <a:pt x="17" y="307"/>
                          </a:lnTo>
                          <a:lnTo>
                            <a:pt x="17" y="307"/>
                          </a:lnTo>
                          <a:lnTo>
                            <a:pt x="16" y="308"/>
                          </a:lnTo>
                          <a:lnTo>
                            <a:pt x="16" y="308"/>
                          </a:lnTo>
                          <a:lnTo>
                            <a:pt x="15" y="311"/>
                          </a:lnTo>
                          <a:lnTo>
                            <a:pt x="12" y="314"/>
                          </a:lnTo>
                          <a:lnTo>
                            <a:pt x="8" y="318"/>
                          </a:lnTo>
                          <a:lnTo>
                            <a:pt x="5" y="323"/>
                          </a:lnTo>
                          <a:lnTo>
                            <a:pt x="3" y="328"/>
                          </a:lnTo>
                          <a:lnTo>
                            <a:pt x="1" y="334"/>
                          </a:lnTo>
                          <a:lnTo>
                            <a:pt x="0" y="339"/>
                          </a:lnTo>
                          <a:lnTo>
                            <a:pt x="1" y="345"/>
                          </a:lnTo>
                          <a:lnTo>
                            <a:pt x="4" y="348"/>
                          </a:lnTo>
                          <a:lnTo>
                            <a:pt x="9" y="353"/>
                          </a:lnTo>
                          <a:lnTo>
                            <a:pt x="15" y="356"/>
                          </a:lnTo>
                          <a:lnTo>
                            <a:pt x="20" y="358"/>
                          </a:lnTo>
                          <a:lnTo>
                            <a:pt x="28" y="361"/>
                          </a:lnTo>
                          <a:lnTo>
                            <a:pt x="36" y="364"/>
                          </a:lnTo>
                          <a:lnTo>
                            <a:pt x="47" y="367"/>
                          </a:lnTo>
                          <a:lnTo>
                            <a:pt x="59" y="370"/>
                          </a:lnTo>
                          <a:lnTo>
                            <a:pt x="72" y="372"/>
                          </a:lnTo>
                          <a:lnTo>
                            <a:pt x="87" y="373"/>
                          </a:lnTo>
                          <a:lnTo>
                            <a:pt x="104" y="374"/>
                          </a:lnTo>
                          <a:lnTo>
                            <a:pt x="123" y="373"/>
                          </a:lnTo>
                          <a:lnTo>
                            <a:pt x="140" y="372"/>
                          </a:lnTo>
                          <a:lnTo>
                            <a:pt x="159" y="370"/>
                          </a:lnTo>
                          <a:lnTo>
                            <a:pt x="179" y="366"/>
                          </a:lnTo>
                          <a:lnTo>
                            <a:pt x="200" y="360"/>
                          </a:lnTo>
                          <a:lnTo>
                            <a:pt x="224" y="354"/>
                          </a:lnTo>
                          <a:lnTo>
                            <a:pt x="248" y="346"/>
                          </a:lnTo>
                          <a:lnTo>
                            <a:pt x="275" y="335"/>
                          </a:lnTo>
                          <a:lnTo>
                            <a:pt x="304" y="325"/>
                          </a:lnTo>
                          <a:lnTo>
                            <a:pt x="333" y="311"/>
                          </a:lnTo>
                          <a:lnTo>
                            <a:pt x="365" y="295"/>
                          </a:lnTo>
                          <a:lnTo>
                            <a:pt x="367" y="295"/>
                          </a:lnTo>
                          <a:lnTo>
                            <a:pt x="369" y="294"/>
                          </a:lnTo>
                          <a:lnTo>
                            <a:pt x="373" y="292"/>
                          </a:lnTo>
                          <a:lnTo>
                            <a:pt x="379" y="289"/>
                          </a:lnTo>
                          <a:lnTo>
                            <a:pt x="385" y="286"/>
                          </a:lnTo>
                          <a:lnTo>
                            <a:pt x="392" y="281"/>
                          </a:lnTo>
                          <a:lnTo>
                            <a:pt x="401" y="276"/>
                          </a:lnTo>
                          <a:lnTo>
                            <a:pt x="411" y="271"/>
                          </a:lnTo>
                          <a:lnTo>
                            <a:pt x="421" y="263"/>
                          </a:lnTo>
                          <a:lnTo>
                            <a:pt x="432" y="256"/>
                          </a:lnTo>
                          <a:lnTo>
                            <a:pt x="439" y="252"/>
                          </a:lnTo>
                          <a:lnTo>
                            <a:pt x="444" y="247"/>
                          </a:lnTo>
                          <a:lnTo>
                            <a:pt x="451" y="242"/>
                          </a:lnTo>
                          <a:lnTo>
                            <a:pt x="456" y="238"/>
                          </a:lnTo>
                          <a:lnTo>
                            <a:pt x="463" y="233"/>
                          </a:lnTo>
                          <a:lnTo>
                            <a:pt x="469" y="228"/>
                          </a:lnTo>
                          <a:lnTo>
                            <a:pt x="476" y="222"/>
                          </a:lnTo>
                          <a:lnTo>
                            <a:pt x="483" y="216"/>
                          </a:lnTo>
                          <a:lnTo>
                            <a:pt x="488" y="210"/>
                          </a:lnTo>
                          <a:lnTo>
                            <a:pt x="495" y="204"/>
                          </a:lnTo>
                          <a:lnTo>
                            <a:pt x="508" y="191"/>
                          </a:lnTo>
                          <a:lnTo>
                            <a:pt x="521" y="177"/>
                          </a:lnTo>
                          <a:lnTo>
                            <a:pt x="535" y="163"/>
                          </a:lnTo>
                          <a:lnTo>
                            <a:pt x="547" y="147"/>
                          </a:lnTo>
                          <a:lnTo>
                            <a:pt x="559" y="130"/>
                          </a:lnTo>
                          <a:lnTo>
                            <a:pt x="571" y="112"/>
                          </a:lnTo>
                          <a:lnTo>
                            <a:pt x="581" y="94"/>
                          </a:lnTo>
                          <a:lnTo>
                            <a:pt x="592" y="75"/>
                          </a:lnTo>
                          <a:lnTo>
                            <a:pt x="601" y="55"/>
                          </a:lnTo>
                          <a:lnTo>
                            <a:pt x="608" y="33"/>
                          </a:lnTo>
                          <a:lnTo>
                            <a:pt x="608" y="32"/>
                          </a:lnTo>
                          <a:close/>
                        </a:path>
                      </a:pathLst>
                    </a:custGeom>
                    <a:solidFill>
                      <a:srgbClr val="e08d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993600" y="2275560"/>
                      <a:ext cx="334800" cy="19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4" h="304">
                          <a:moveTo>
                            <a:pt x="512" y="27"/>
                          </a:moveTo>
                          <a:lnTo>
                            <a:pt x="513" y="26"/>
                          </a:lnTo>
                          <a:lnTo>
                            <a:pt x="513" y="23"/>
                          </a:lnTo>
                          <a:lnTo>
                            <a:pt x="514" y="17"/>
                          </a:lnTo>
                          <a:lnTo>
                            <a:pt x="514" y="11"/>
                          </a:lnTo>
                          <a:lnTo>
                            <a:pt x="513" y="6"/>
                          </a:lnTo>
                          <a:lnTo>
                            <a:pt x="510" y="3"/>
                          </a:lnTo>
                          <a:lnTo>
                            <a:pt x="506" y="0"/>
                          </a:lnTo>
                          <a:lnTo>
                            <a:pt x="498" y="3"/>
                          </a:lnTo>
                          <a:lnTo>
                            <a:pt x="489" y="7"/>
                          </a:lnTo>
                          <a:lnTo>
                            <a:pt x="474" y="18"/>
                          </a:lnTo>
                          <a:lnTo>
                            <a:pt x="466" y="25"/>
                          </a:lnTo>
                          <a:lnTo>
                            <a:pt x="458" y="33"/>
                          </a:lnTo>
                          <a:lnTo>
                            <a:pt x="450" y="43"/>
                          </a:lnTo>
                          <a:lnTo>
                            <a:pt x="441" y="52"/>
                          </a:lnTo>
                          <a:lnTo>
                            <a:pt x="432" y="63"/>
                          </a:lnTo>
                          <a:lnTo>
                            <a:pt x="422" y="72"/>
                          </a:lnTo>
                          <a:lnTo>
                            <a:pt x="412" y="84"/>
                          </a:lnTo>
                          <a:lnTo>
                            <a:pt x="402" y="95"/>
                          </a:lnTo>
                          <a:lnTo>
                            <a:pt x="393" y="105"/>
                          </a:lnTo>
                          <a:lnTo>
                            <a:pt x="384" y="116"/>
                          </a:lnTo>
                          <a:lnTo>
                            <a:pt x="373" y="127"/>
                          </a:lnTo>
                          <a:lnTo>
                            <a:pt x="364" y="137"/>
                          </a:lnTo>
                          <a:lnTo>
                            <a:pt x="354" y="148"/>
                          </a:lnTo>
                          <a:lnTo>
                            <a:pt x="345" y="156"/>
                          </a:lnTo>
                          <a:lnTo>
                            <a:pt x="337" y="166"/>
                          </a:lnTo>
                          <a:lnTo>
                            <a:pt x="329" y="173"/>
                          </a:lnTo>
                          <a:lnTo>
                            <a:pt x="321" y="180"/>
                          </a:lnTo>
                          <a:lnTo>
                            <a:pt x="313" y="186"/>
                          </a:lnTo>
                          <a:lnTo>
                            <a:pt x="306" y="190"/>
                          </a:lnTo>
                          <a:lnTo>
                            <a:pt x="300" y="193"/>
                          </a:lnTo>
                          <a:lnTo>
                            <a:pt x="286" y="199"/>
                          </a:lnTo>
                          <a:lnTo>
                            <a:pt x="269" y="207"/>
                          </a:lnTo>
                          <a:lnTo>
                            <a:pt x="250" y="215"/>
                          </a:lnTo>
                          <a:lnTo>
                            <a:pt x="229" y="223"/>
                          </a:lnTo>
                          <a:lnTo>
                            <a:pt x="206" y="233"/>
                          </a:lnTo>
                          <a:lnTo>
                            <a:pt x="182" y="240"/>
                          </a:lnTo>
                          <a:lnTo>
                            <a:pt x="158" y="247"/>
                          </a:lnTo>
                          <a:lnTo>
                            <a:pt x="136" y="252"/>
                          </a:lnTo>
                          <a:lnTo>
                            <a:pt x="113" y="254"/>
                          </a:lnTo>
                          <a:lnTo>
                            <a:pt x="92" y="254"/>
                          </a:lnTo>
                          <a:lnTo>
                            <a:pt x="92" y="254"/>
                          </a:lnTo>
                          <a:lnTo>
                            <a:pt x="89" y="254"/>
                          </a:lnTo>
                          <a:lnTo>
                            <a:pt x="85" y="253"/>
                          </a:lnTo>
                          <a:lnTo>
                            <a:pt x="81" y="253"/>
                          </a:lnTo>
                          <a:lnTo>
                            <a:pt x="74" y="252"/>
                          </a:lnTo>
                          <a:lnTo>
                            <a:pt x="66" y="252"/>
                          </a:lnTo>
                          <a:lnTo>
                            <a:pt x="57" y="251"/>
                          </a:lnTo>
                          <a:lnTo>
                            <a:pt x="45" y="249"/>
                          </a:lnTo>
                          <a:lnTo>
                            <a:pt x="32" y="247"/>
                          </a:lnTo>
                          <a:lnTo>
                            <a:pt x="17" y="246"/>
                          </a:lnTo>
                          <a:lnTo>
                            <a:pt x="17" y="246"/>
                          </a:lnTo>
                          <a:lnTo>
                            <a:pt x="17" y="246"/>
                          </a:lnTo>
                          <a:lnTo>
                            <a:pt x="17" y="246"/>
                          </a:lnTo>
                          <a:lnTo>
                            <a:pt x="16" y="246"/>
                          </a:lnTo>
                          <a:lnTo>
                            <a:pt x="16" y="246"/>
                          </a:lnTo>
                          <a:lnTo>
                            <a:pt x="16" y="246"/>
                          </a:lnTo>
                          <a:lnTo>
                            <a:pt x="14" y="246"/>
                          </a:lnTo>
                          <a:lnTo>
                            <a:pt x="14" y="246"/>
                          </a:lnTo>
                          <a:lnTo>
                            <a:pt x="14" y="246"/>
                          </a:lnTo>
                          <a:lnTo>
                            <a:pt x="13" y="247"/>
                          </a:lnTo>
                          <a:lnTo>
                            <a:pt x="12" y="248"/>
                          </a:lnTo>
                          <a:lnTo>
                            <a:pt x="10" y="251"/>
                          </a:lnTo>
                          <a:lnTo>
                            <a:pt x="6" y="254"/>
                          </a:lnTo>
                          <a:lnTo>
                            <a:pt x="4" y="259"/>
                          </a:lnTo>
                          <a:lnTo>
                            <a:pt x="2" y="262"/>
                          </a:lnTo>
                          <a:lnTo>
                            <a:pt x="0" y="267"/>
                          </a:lnTo>
                          <a:lnTo>
                            <a:pt x="0" y="272"/>
                          </a:lnTo>
                          <a:lnTo>
                            <a:pt x="0" y="276"/>
                          </a:lnTo>
                          <a:lnTo>
                            <a:pt x="2" y="280"/>
                          </a:lnTo>
                          <a:lnTo>
                            <a:pt x="6" y="284"/>
                          </a:lnTo>
                          <a:lnTo>
                            <a:pt x="10" y="286"/>
                          </a:lnTo>
                          <a:lnTo>
                            <a:pt x="16" y="288"/>
                          </a:lnTo>
                          <a:lnTo>
                            <a:pt x="22" y="291"/>
                          </a:lnTo>
                          <a:lnTo>
                            <a:pt x="29" y="294"/>
                          </a:lnTo>
                          <a:lnTo>
                            <a:pt x="37" y="297"/>
                          </a:lnTo>
                          <a:lnTo>
                            <a:pt x="46" y="299"/>
                          </a:lnTo>
                          <a:lnTo>
                            <a:pt x="58" y="301"/>
                          </a:lnTo>
                          <a:lnTo>
                            <a:pt x="70" y="302"/>
                          </a:lnTo>
                          <a:lnTo>
                            <a:pt x="85" y="304"/>
                          </a:lnTo>
                          <a:lnTo>
                            <a:pt x="100" y="304"/>
                          </a:lnTo>
                          <a:lnTo>
                            <a:pt x="114" y="302"/>
                          </a:lnTo>
                          <a:lnTo>
                            <a:pt x="130" y="300"/>
                          </a:lnTo>
                          <a:lnTo>
                            <a:pt x="148" y="298"/>
                          </a:lnTo>
                          <a:lnTo>
                            <a:pt x="165" y="293"/>
                          </a:lnTo>
                          <a:lnTo>
                            <a:pt x="185" y="288"/>
                          </a:lnTo>
                          <a:lnTo>
                            <a:pt x="206" y="282"/>
                          </a:lnTo>
                          <a:lnTo>
                            <a:pt x="229" y="274"/>
                          </a:lnTo>
                          <a:lnTo>
                            <a:pt x="252" y="265"/>
                          </a:lnTo>
                          <a:lnTo>
                            <a:pt x="278" y="254"/>
                          </a:lnTo>
                          <a:lnTo>
                            <a:pt x="305" y="242"/>
                          </a:lnTo>
                          <a:lnTo>
                            <a:pt x="305" y="241"/>
                          </a:lnTo>
                          <a:lnTo>
                            <a:pt x="308" y="241"/>
                          </a:lnTo>
                          <a:lnTo>
                            <a:pt x="312" y="239"/>
                          </a:lnTo>
                          <a:lnTo>
                            <a:pt x="317" y="236"/>
                          </a:lnTo>
                          <a:lnTo>
                            <a:pt x="322" y="233"/>
                          </a:lnTo>
                          <a:lnTo>
                            <a:pt x="330" y="229"/>
                          </a:lnTo>
                          <a:lnTo>
                            <a:pt x="338" y="225"/>
                          </a:lnTo>
                          <a:lnTo>
                            <a:pt x="348" y="220"/>
                          </a:lnTo>
                          <a:lnTo>
                            <a:pt x="357" y="213"/>
                          </a:lnTo>
                          <a:lnTo>
                            <a:pt x="366" y="207"/>
                          </a:lnTo>
                          <a:lnTo>
                            <a:pt x="373" y="202"/>
                          </a:lnTo>
                          <a:lnTo>
                            <a:pt x="378" y="199"/>
                          </a:lnTo>
                          <a:lnTo>
                            <a:pt x="384" y="195"/>
                          </a:lnTo>
                          <a:lnTo>
                            <a:pt x="389" y="190"/>
                          </a:lnTo>
                          <a:lnTo>
                            <a:pt x="394" y="186"/>
                          </a:lnTo>
                          <a:lnTo>
                            <a:pt x="401" y="181"/>
                          </a:lnTo>
                          <a:lnTo>
                            <a:pt x="406" y="176"/>
                          </a:lnTo>
                          <a:lnTo>
                            <a:pt x="412" y="170"/>
                          </a:lnTo>
                          <a:lnTo>
                            <a:pt x="418" y="166"/>
                          </a:lnTo>
                          <a:lnTo>
                            <a:pt x="424" y="160"/>
                          </a:lnTo>
                          <a:lnTo>
                            <a:pt x="434" y="150"/>
                          </a:lnTo>
                          <a:lnTo>
                            <a:pt x="444" y="138"/>
                          </a:lnTo>
                          <a:lnTo>
                            <a:pt x="454" y="128"/>
                          </a:lnTo>
                          <a:lnTo>
                            <a:pt x="464" y="115"/>
                          </a:lnTo>
                          <a:lnTo>
                            <a:pt x="474" y="102"/>
                          </a:lnTo>
                          <a:lnTo>
                            <a:pt x="482" y="89"/>
                          </a:lnTo>
                          <a:lnTo>
                            <a:pt x="492" y="75"/>
                          </a:lnTo>
                          <a:lnTo>
                            <a:pt x="500" y="59"/>
                          </a:lnTo>
                          <a:lnTo>
                            <a:pt x="506" y="44"/>
                          </a:lnTo>
                          <a:lnTo>
                            <a:pt x="513" y="27"/>
                          </a:lnTo>
                          <a:lnTo>
                            <a:pt x="512" y="27"/>
                          </a:lnTo>
                          <a:close/>
                        </a:path>
                      </a:pathLst>
                    </a:custGeom>
                    <a:solidFill>
                      <a:srgbClr val="db82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1020240" y="2316600"/>
                      <a:ext cx="273600" cy="15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0" h="231">
                          <a:moveTo>
                            <a:pt x="417" y="21"/>
                          </a:moveTo>
                          <a:lnTo>
                            <a:pt x="419" y="20"/>
                          </a:lnTo>
                          <a:lnTo>
                            <a:pt x="420" y="18"/>
                          </a:lnTo>
                          <a:lnTo>
                            <a:pt x="420" y="13"/>
                          </a:lnTo>
                          <a:lnTo>
                            <a:pt x="420" y="8"/>
                          </a:lnTo>
                          <a:lnTo>
                            <a:pt x="420" y="5"/>
                          </a:lnTo>
                          <a:lnTo>
                            <a:pt x="417" y="1"/>
                          </a:lnTo>
                          <a:lnTo>
                            <a:pt x="415" y="0"/>
                          </a:lnTo>
                          <a:lnTo>
                            <a:pt x="408" y="1"/>
                          </a:lnTo>
                          <a:lnTo>
                            <a:pt x="400" y="5"/>
                          </a:lnTo>
                          <a:lnTo>
                            <a:pt x="389" y="13"/>
                          </a:lnTo>
                          <a:lnTo>
                            <a:pt x="383" y="19"/>
                          </a:lnTo>
                          <a:lnTo>
                            <a:pt x="375" y="25"/>
                          </a:lnTo>
                          <a:lnTo>
                            <a:pt x="368" y="32"/>
                          </a:lnTo>
                          <a:lnTo>
                            <a:pt x="360" y="39"/>
                          </a:lnTo>
                          <a:lnTo>
                            <a:pt x="352" y="47"/>
                          </a:lnTo>
                          <a:lnTo>
                            <a:pt x="345" y="55"/>
                          </a:lnTo>
                          <a:lnTo>
                            <a:pt x="336" y="64"/>
                          </a:lnTo>
                          <a:lnTo>
                            <a:pt x="328" y="72"/>
                          </a:lnTo>
                          <a:lnTo>
                            <a:pt x="320" y="81"/>
                          </a:lnTo>
                          <a:lnTo>
                            <a:pt x="312" y="90"/>
                          </a:lnTo>
                          <a:lnTo>
                            <a:pt x="304" y="98"/>
                          </a:lnTo>
                          <a:lnTo>
                            <a:pt x="296" y="106"/>
                          </a:lnTo>
                          <a:lnTo>
                            <a:pt x="288" y="113"/>
                          </a:lnTo>
                          <a:lnTo>
                            <a:pt x="281" y="120"/>
                          </a:lnTo>
                          <a:lnTo>
                            <a:pt x="273" y="127"/>
                          </a:lnTo>
                          <a:lnTo>
                            <a:pt x="267" y="133"/>
                          </a:lnTo>
                          <a:lnTo>
                            <a:pt x="260" y="138"/>
                          </a:lnTo>
                          <a:lnTo>
                            <a:pt x="255" y="143"/>
                          </a:lnTo>
                          <a:lnTo>
                            <a:pt x="248" y="146"/>
                          </a:lnTo>
                          <a:lnTo>
                            <a:pt x="244" y="149"/>
                          </a:lnTo>
                          <a:lnTo>
                            <a:pt x="232" y="153"/>
                          </a:lnTo>
                          <a:lnTo>
                            <a:pt x="219" y="158"/>
                          </a:lnTo>
                          <a:lnTo>
                            <a:pt x="203" y="165"/>
                          </a:lnTo>
                          <a:lnTo>
                            <a:pt x="185" y="171"/>
                          </a:lnTo>
                          <a:lnTo>
                            <a:pt x="167" y="178"/>
                          </a:lnTo>
                          <a:lnTo>
                            <a:pt x="148" y="183"/>
                          </a:lnTo>
                          <a:lnTo>
                            <a:pt x="129" y="188"/>
                          </a:lnTo>
                          <a:lnTo>
                            <a:pt x="109" y="191"/>
                          </a:lnTo>
                          <a:lnTo>
                            <a:pt x="92" y="193"/>
                          </a:lnTo>
                          <a:lnTo>
                            <a:pt x="75" y="192"/>
                          </a:lnTo>
                          <a:lnTo>
                            <a:pt x="75" y="192"/>
                          </a:lnTo>
                          <a:lnTo>
                            <a:pt x="73" y="192"/>
                          </a:lnTo>
                          <a:lnTo>
                            <a:pt x="71" y="191"/>
                          </a:lnTo>
                          <a:lnTo>
                            <a:pt x="67" y="191"/>
                          </a:lnTo>
                          <a:lnTo>
                            <a:pt x="61" y="190"/>
                          </a:lnTo>
                          <a:lnTo>
                            <a:pt x="55" y="189"/>
                          </a:lnTo>
                          <a:lnTo>
                            <a:pt x="48" y="188"/>
                          </a:lnTo>
                          <a:lnTo>
                            <a:pt x="39" y="186"/>
                          </a:lnTo>
                          <a:lnTo>
                            <a:pt x="28" y="185"/>
                          </a:lnTo>
                          <a:lnTo>
                            <a:pt x="17" y="184"/>
                          </a:lnTo>
                          <a:lnTo>
                            <a:pt x="16" y="184"/>
                          </a:lnTo>
                          <a:lnTo>
                            <a:pt x="16" y="184"/>
                          </a:lnTo>
                          <a:lnTo>
                            <a:pt x="16" y="184"/>
                          </a:lnTo>
                          <a:lnTo>
                            <a:pt x="16" y="184"/>
                          </a:lnTo>
                          <a:lnTo>
                            <a:pt x="15" y="184"/>
                          </a:lnTo>
                          <a:lnTo>
                            <a:pt x="15" y="184"/>
                          </a:lnTo>
                          <a:lnTo>
                            <a:pt x="15" y="184"/>
                          </a:lnTo>
                          <a:lnTo>
                            <a:pt x="13" y="184"/>
                          </a:lnTo>
                          <a:lnTo>
                            <a:pt x="13" y="184"/>
                          </a:lnTo>
                          <a:lnTo>
                            <a:pt x="13" y="184"/>
                          </a:lnTo>
                          <a:lnTo>
                            <a:pt x="12" y="185"/>
                          </a:lnTo>
                          <a:lnTo>
                            <a:pt x="9" y="186"/>
                          </a:lnTo>
                          <a:lnTo>
                            <a:pt x="8" y="190"/>
                          </a:lnTo>
                          <a:lnTo>
                            <a:pt x="5" y="192"/>
                          </a:lnTo>
                          <a:lnTo>
                            <a:pt x="3" y="196"/>
                          </a:lnTo>
                          <a:lnTo>
                            <a:pt x="1" y="201"/>
                          </a:lnTo>
                          <a:lnTo>
                            <a:pt x="0" y="204"/>
                          </a:lnTo>
                          <a:lnTo>
                            <a:pt x="0" y="208"/>
                          </a:lnTo>
                          <a:lnTo>
                            <a:pt x="3" y="211"/>
                          </a:lnTo>
                          <a:lnTo>
                            <a:pt x="7" y="213"/>
                          </a:lnTo>
                          <a:lnTo>
                            <a:pt x="9" y="216"/>
                          </a:lnTo>
                          <a:lnTo>
                            <a:pt x="13" y="218"/>
                          </a:lnTo>
                          <a:lnTo>
                            <a:pt x="17" y="221"/>
                          </a:lnTo>
                          <a:lnTo>
                            <a:pt x="24" y="223"/>
                          </a:lnTo>
                          <a:lnTo>
                            <a:pt x="31" y="225"/>
                          </a:lnTo>
                          <a:lnTo>
                            <a:pt x="37" y="226"/>
                          </a:lnTo>
                          <a:lnTo>
                            <a:pt x="47" y="229"/>
                          </a:lnTo>
                          <a:lnTo>
                            <a:pt x="56" y="230"/>
                          </a:lnTo>
                          <a:lnTo>
                            <a:pt x="68" y="231"/>
                          </a:lnTo>
                          <a:lnTo>
                            <a:pt x="80" y="231"/>
                          </a:lnTo>
                          <a:lnTo>
                            <a:pt x="92" y="231"/>
                          </a:lnTo>
                          <a:lnTo>
                            <a:pt x="104" y="230"/>
                          </a:lnTo>
                          <a:lnTo>
                            <a:pt x="117" y="228"/>
                          </a:lnTo>
                          <a:lnTo>
                            <a:pt x="132" y="225"/>
                          </a:lnTo>
                          <a:lnTo>
                            <a:pt x="148" y="222"/>
                          </a:lnTo>
                          <a:lnTo>
                            <a:pt x="165" y="217"/>
                          </a:lnTo>
                          <a:lnTo>
                            <a:pt x="184" y="212"/>
                          </a:lnTo>
                          <a:lnTo>
                            <a:pt x="203" y="205"/>
                          </a:lnTo>
                          <a:lnTo>
                            <a:pt x="224" y="197"/>
                          </a:lnTo>
                          <a:lnTo>
                            <a:pt x="245" y="188"/>
                          </a:lnTo>
                          <a:lnTo>
                            <a:pt x="247" y="188"/>
                          </a:lnTo>
                          <a:lnTo>
                            <a:pt x="248" y="186"/>
                          </a:lnTo>
                          <a:lnTo>
                            <a:pt x="252" y="185"/>
                          </a:lnTo>
                          <a:lnTo>
                            <a:pt x="257" y="183"/>
                          </a:lnTo>
                          <a:lnTo>
                            <a:pt x="263" y="180"/>
                          </a:lnTo>
                          <a:lnTo>
                            <a:pt x="269" y="177"/>
                          </a:lnTo>
                          <a:lnTo>
                            <a:pt x="277" y="172"/>
                          </a:lnTo>
                          <a:lnTo>
                            <a:pt x="285" y="167"/>
                          </a:lnTo>
                          <a:lnTo>
                            <a:pt x="295" y="163"/>
                          </a:lnTo>
                          <a:lnTo>
                            <a:pt x="304" y="156"/>
                          </a:lnTo>
                          <a:lnTo>
                            <a:pt x="308" y="152"/>
                          </a:lnTo>
                          <a:lnTo>
                            <a:pt x="313" y="149"/>
                          </a:lnTo>
                          <a:lnTo>
                            <a:pt x="319" y="145"/>
                          </a:lnTo>
                          <a:lnTo>
                            <a:pt x="324" y="141"/>
                          </a:lnTo>
                          <a:lnTo>
                            <a:pt x="329" y="138"/>
                          </a:lnTo>
                          <a:lnTo>
                            <a:pt x="335" y="133"/>
                          </a:lnTo>
                          <a:lnTo>
                            <a:pt x="339" y="129"/>
                          </a:lnTo>
                          <a:lnTo>
                            <a:pt x="344" y="124"/>
                          </a:lnTo>
                          <a:lnTo>
                            <a:pt x="349" y="119"/>
                          </a:lnTo>
                          <a:lnTo>
                            <a:pt x="355" y="114"/>
                          </a:lnTo>
                          <a:lnTo>
                            <a:pt x="363" y="107"/>
                          </a:lnTo>
                          <a:lnTo>
                            <a:pt x="369" y="99"/>
                          </a:lnTo>
                          <a:lnTo>
                            <a:pt x="376" y="91"/>
                          </a:lnTo>
                          <a:lnTo>
                            <a:pt x="384" y="82"/>
                          </a:lnTo>
                          <a:lnTo>
                            <a:pt x="391" y="73"/>
                          </a:lnTo>
                          <a:lnTo>
                            <a:pt x="397" y="64"/>
                          </a:lnTo>
                          <a:lnTo>
                            <a:pt x="403" y="54"/>
                          </a:lnTo>
                          <a:lnTo>
                            <a:pt x="408" y="44"/>
                          </a:lnTo>
                          <a:lnTo>
                            <a:pt x="413" y="33"/>
                          </a:lnTo>
                          <a:lnTo>
                            <a:pt x="419" y="21"/>
                          </a:lnTo>
                          <a:lnTo>
                            <a:pt x="417" y="21"/>
                          </a:lnTo>
                          <a:close/>
                        </a:path>
                      </a:pathLst>
                    </a:custGeom>
                    <a:solidFill>
                      <a:srgbClr val="d677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1046880" y="2358360"/>
                      <a:ext cx="212040" cy="10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6" h="161">
                          <a:moveTo>
                            <a:pt x="11" y="121"/>
                          </a:moveTo>
                          <a:lnTo>
                            <a:pt x="11" y="122"/>
                          </a:lnTo>
                          <a:lnTo>
                            <a:pt x="10" y="124"/>
                          </a:lnTo>
                          <a:lnTo>
                            <a:pt x="8" y="126"/>
                          </a:lnTo>
                          <a:lnTo>
                            <a:pt x="6" y="128"/>
                          </a:lnTo>
                          <a:lnTo>
                            <a:pt x="4" y="131"/>
                          </a:lnTo>
                          <a:lnTo>
                            <a:pt x="2" y="133"/>
                          </a:lnTo>
                          <a:lnTo>
                            <a:pt x="0" y="137"/>
                          </a:lnTo>
                          <a:lnTo>
                            <a:pt x="0" y="140"/>
                          </a:lnTo>
                          <a:lnTo>
                            <a:pt x="2" y="142"/>
                          </a:lnTo>
                          <a:lnTo>
                            <a:pt x="4" y="145"/>
                          </a:lnTo>
                          <a:lnTo>
                            <a:pt x="7" y="146"/>
                          </a:lnTo>
                          <a:lnTo>
                            <a:pt x="10" y="148"/>
                          </a:lnTo>
                          <a:lnTo>
                            <a:pt x="14" y="149"/>
                          </a:lnTo>
                          <a:lnTo>
                            <a:pt x="18" y="152"/>
                          </a:lnTo>
                          <a:lnTo>
                            <a:pt x="22" y="154"/>
                          </a:lnTo>
                          <a:lnTo>
                            <a:pt x="28" y="155"/>
                          </a:lnTo>
                          <a:lnTo>
                            <a:pt x="35" y="158"/>
                          </a:lnTo>
                          <a:lnTo>
                            <a:pt x="42" y="159"/>
                          </a:lnTo>
                          <a:lnTo>
                            <a:pt x="50" y="160"/>
                          </a:lnTo>
                          <a:lnTo>
                            <a:pt x="59" y="161"/>
                          </a:lnTo>
                          <a:lnTo>
                            <a:pt x="68" y="161"/>
                          </a:lnTo>
                          <a:lnTo>
                            <a:pt x="78" y="160"/>
                          </a:lnTo>
                          <a:lnTo>
                            <a:pt x="88" y="160"/>
                          </a:lnTo>
                          <a:lnTo>
                            <a:pt x="99" y="159"/>
                          </a:lnTo>
                          <a:lnTo>
                            <a:pt x="111" y="157"/>
                          </a:lnTo>
                          <a:lnTo>
                            <a:pt x="124" y="153"/>
                          </a:lnTo>
                          <a:lnTo>
                            <a:pt x="138" y="149"/>
                          </a:lnTo>
                          <a:lnTo>
                            <a:pt x="154" y="146"/>
                          </a:lnTo>
                          <a:lnTo>
                            <a:pt x="170" y="140"/>
                          </a:lnTo>
                          <a:lnTo>
                            <a:pt x="186" y="134"/>
                          </a:lnTo>
                          <a:lnTo>
                            <a:pt x="187" y="134"/>
                          </a:lnTo>
                          <a:lnTo>
                            <a:pt x="188" y="133"/>
                          </a:lnTo>
                          <a:lnTo>
                            <a:pt x="192" y="132"/>
                          </a:lnTo>
                          <a:lnTo>
                            <a:pt x="196" y="131"/>
                          </a:lnTo>
                          <a:lnTo>
                            <a:pt x="202" y="127"/>
                          </a:lnTo>
                          <a:lnTo>
                            <a:pt x="208" y="125"/>
                          </a:lnTo>
                          <a:lnTo>
                            <a:pt x="215" y="121"/>
                          </a:lnTo>
                          <a:lnTo>
                            <a:pt x="223" y="116"/>
                          </a:lnTo>
                          <a:lnTo>
                            <a:pt x="231" y="112"/>
                          </a:lnTo>
                          <a:lnTo>
                            <a:pt x="239" y="107"/>
                          </a:lnTo>
                          <a:lnTo>
                            <a:pt x="244" y="103"/>
                          </a:lnTo>
                          <a:lnTo>
                            <a:pt x="248" y="100"/>
                          </a:lnTo>
                          <a:lnTo>
                            <a:pt x="254" y="98"/>
                          </a:lnTo>
                          <a:lnTo>
                            <a:pt x="258" y="94"/>
                          </a:lnTo>
                          <a:lnTo>
                            <a:pt x="263" y="90"/>
                          </a:lnTo>
                          <a:lnTo>
                            <a:pt x="267" y="86"/>
                          </a:lnTo>
                          <a:lnTo>
                            <a:pt x="271" y="82"/>
                          </a:lnTo>
                          <a:lnTo>
                            <a:pt x="276" y="79"/>
                          </a:lnTo>
                          <a:lnTo>
                            <a:pt x="280" y="74"/>
                          </a:lnTo>
                          <a:lnTo>
                            <a:pt x="286" y="69"/>
                          </a:lnTo>
                          <a:lnTo>
                            <a:pt x="290" y="65"/>
                          </a:lnTo>
                          <a:lnTo>
                            <a:pt x="294" y="60"/>
                          </a:lnTo>
                          <a:lnTo>
                            <a:pt x="298" y="55"/>
                          </a:lnTo>
                          <a:lnTo>
                            <a:pt x="303" y="50"/>
                          </a:lnTo>
                          <a:lnTo>
                            <a:pt x="307" y="46"/>
                          </a:lnTo>
                          <a:lnTo>
                            <a:pt x="310" y="40"/>
                          </a:lnTo>
                          <a:lnTo>
                            <a:pt x="314" y="34"/>
                          </a:lnTo>
                          <a:lnTo>
                            <a:pt x="318" y="28"/>
                          </a:lnTo>
                          <a:lnTo>
                            <a:pt x="320" y="22"/>
                          </a:lnTo>
                          <a:lnTo>
                            <a:pt x="324" y="16"/>
                          </a:lnTo>
                          <a:lnTo>
                            <a:pt x="324" y="15"/>
                          </a:lnTo>
                          <a:lnTo>
                            <a:pt x="326" y="13"/>
                          </a:lnTo>
                          <a:lnTo>
                            <a:pt x="326" y="10"/>
                          </a:lnTo>
                          <a:lnTo>
                            <a:pt x="326" y="7"/>
                          </a:lnTo>
                          <a:lnTo>
                            <a:pt x="326" y="3"/>
                          </a:lnTo>
                          <a:lnTo>
                            <a:pt x="324" y="1"/>
                          </a:lnTo>
                          <a:lnTo>
                            <a:pt x="322" y="0"/>
                          </a:lnTo>
                          <a:lnTo>
                            <a:pt x="318" y="1"/>
                          </a:lnTo>
                          <a:lnTo>
                            <a:pt x="311" y="3"/>
                          </a:lnTo>
                          <a:lnTo>
                            <a:pt x="302" y="9"/>
                          </a:lnTo>
                          <a:lnTo>
                            <a:pt x="296" y="13"/>
                          </a:lnTo>
                          <a:lnTo>
                            <a:pt x="291" y="17"/>
                          </a:lnTo>
                          <a:lnTo>
                            <a:pt x="286" y="22"/>
                          </a:lnTo>
                          <a:lnTo>
                            <a:pt x="279" y="27"/>
                          </a:lnTo>
                          <a:lnTo>
                            <a:pt x="274" y="33"/>
                          </a:lnTo>
                          <a:lnTo>
                            <a:pt x="267" y="39"/>
                          </a:lnTo>
                          <a:lnTo>
                            <a:pt x="260" y="44"/>
                          </a:lnTo>
                          <a:lnTo>
                            <a:pt x="254" y="50"/>
                          </a:lnTo>
                          <a:lnTo>
                            <a:pt x="247" y="57"/>
                          </a:lnTo>
                          <a:lnTo>
                            <a:pt x="240" y="63"/>
                          </a:lnTo>
                          <a:lnTo>
                            <a:pt x="235" y="69"/>
                          </a:lnTo>
                          <a:lnTo>
                            <a:pt x="228" y="75"/>
                          </a:lnTo>
                          <a:lnTo>
                            <a:pt x="222" y="80"/>
                          </a:lnTo>
                          <a:lnTo>
                            <a:pt x="216" y="86"/>
                          </a:lnTo>
                          <a:lnTo>
                            <a:pt x="210" y="90"/>
                          </a:lnTo>
                          <a:lnTo>
                            <a:pt x="204" y="94"/>
                          </a:lnTo>
                          <a:lnTo>
                            <a:pt x="199" y="98"/>
                          </a:lnTo>
                          <a:lnTo>
                            <a:pt x="195" y="101"/>
                          </a:lnTo>
                          <a:lnTo>
                            <a:pt x="190" y="103"/>
                          </a:lnTo>
                          <a:lnTo>
                            <a:pt x="186" y="105"/>
                          </a:lnTo>
                          <a:lnTo>
                            <a:pt x="178" y="108"/>
                          </a:lnTo>
                          <a:lnTo>
                            <a:pt x="167" y="112"/>
                          </a:lnTo>
                          <a:lnTo>
                            <a:pt x="155" y="115"/>
                          </a:lnTo>
                          <a:lnTo>
                            <a:pt x="142" y="120"/>
                          </a:lnTo>
                          <a:lnTo>
                            <a:pt x="127" y="124"/>
                          </a:lnTo>
                          <a:lnTo>
                            <a:pt x="112" y="127"/>
                          </a:lnTo>
                          <a:lnTo>
                            <a:pt x="98" y="131"/>
                          </a:lnTo>
                          <a:lnTo>
                            <a:pt x="84" y="132"/>
                          </a:lnTo>
                          <a:lnTo>
                            <a:pt x="70" y="132"/>
                          </a:lnTo>
                          <a:lnTo>
                            <a:pt x="58" y="131"/>
                          </a:lnTo>
                          <a:lnTo>
                            <a:pt x="58" y="131"/>
                          </a:lnTo>
                          <a:lnTo>
                            <a:pt x="56" y="131"/>
                          </a:lnTo>
                          <a:lnTo>
                            <a:pt x="54" y="131"/>
                          </a:lnTo>
                          <a:lnTo>
                            <a:pt x="51" y="129"/>
                          </a:lnTo>
                          <a:lnTo>
                            <a:pt x="47" y="128"/>
                          </a:lnTo>
                          <a:lnTo>
                            <a:pt x="42" y="127"/>
                          </a:lnTo>
                          <a:lnTo>
                            <a:pt x="36" y="126"/>
                          </a:lnTo>
                          <a:lnTo>
                            <a:pt x="28" y="125"/>
                          </a:lnTo>
                          <a:lnTo>
                            <a:pt x="20" y="124"/>
                          </a:lnTo>
                          <a:lnTo>
                            <a:pt x="11" y="122"/>
                          </a:lnTo>
                          <a:lnTo>
                            <a:pt x="11" y="121"/>
                          </a:lnTo>
                          <a:close/>
                        </a:path>
                      </a:pathLst>
                    </a:custGeom>
                    <a:solidFill>
                      <a:srgbClr val="d16d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757800" y="1781280"/>
                      <a:ext cx="625320" cy="52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0" h="808">
                          <a:moveTo>
                            <a:pt x="940" y="2"/>
                          </a:moveTo>
                          <a:lnTo>
                            <a:pt x="899" y="39"/>
                          </a:lnTo>
                          <a:lnTo>
                            <a:pt x="862" y="78"/>
                          </a:lnTo>
                          <a:lnTo>
                            <a:pt x="828" y="119"/>
                          </a:lnTo>
                          <a:lnTo>
                            <a:pt x="796" y="161"/>
                          </a:lnTo>
                          <a:lnTo>
                            <a:pt x="767" y="206"/>
                          </a:lnTo>
                          <a:lnTo>
                            <a:pt x="738" y="251"/>
                          </a:lnTo>
                          <a:lnTo>
                            <a:pt x="710" y="296"/>
                          </a:lnTo>
                          <a:lnTo>
                            <a:pt x="680" y="340"/>
                          </a:lnTo>
                          <a:lnTo>
                            <a:pt x="650" y="383"/>
                          </a:lnTo>
                          <a:lnTo>
                            <a:pt x="618" y="426"/>
                          </a:lnTo>
                          <a:lnTo>
                            <a:pt x="571" y="477"/>
                          </a:lnTo>
                          <a:lnTo>
                            <a:pt x="520" y="524"/>
                          </a:lnTo>
                          <a:lnTo>
                            <a:pt x="466" y="570"/>
                          </a:lnTo>
                          <a:lnTo>
                            <a:pt x="407" y="611"/>
                          </a:lnTo>
                          <a:lnTo>
                            <a:pt x="346" y="651"/>
                          </a:lnTo>
                          <a:lnTo>
                            <a:pt x="282" y="687"/>
                          </a:lnTo>
                          <a:lnTo>
                            <a:pt x="215" y="720"/>
                          </a:lnTo>
                          <a:lnTo>
                            <a:pt x="147" y="748"/>
                          </a:lnTo>
                          <a:lnTo>
                            <a:pt x="79" y="773"/>
                          </a:lnTo>
                          <a:lnTo>
                            <a:pt x="10" y="793"/>
                          </a:lnTo>
                          <a:lnTo>
                            <a:pt x="6" y="794"/>
                          </a:lnTo>
                          <a:lnTo>
                            <a:pt x="3" y="796"/>
                          </a:lnTo>
                          <a:lnTo>
                            <a:pt x="2" y="799"/>
                          </a:lnTo>
                          <a:lnTo>
                            <a:pt x="0" y="801"/>
                          </a:lnTo>
                          <a:lnTo>
                            <a:pt x="0" y="804"/>
                          </a:lnTo>
                          <a:lnTo>
                            <a:pt x="0" y="806"/>
                          </a:lnTo>
                          <a:lnTo>
                            <a:pt x="2" y="807"/>
                          </a:lnTo>
                          <a:lnTo>
                            <a:pt x="3" y="808"/>
                          </a:lnTo>
                          <a:lnTo>
                            <a:pt x="6" y="808"/>
                          </a:lnTo>
                          <a:lnTo>
                            <a:pt x="10" y="808"/>
                          </a:lnTo>
                          <a:lnTo>
                            <a:pt x="75" y="789"/>
                          </a:lnTo>
                          <a:lnTo>
                            <a:pt x="139" y="767"/>
                          </a:lnTo>
                          <a:lnTo>
                            <a:pt x="200" y="741"/>
                          </a:lnTo>
                          <a:lnTo>
                            <a:pt x="262" y="711"/>
                          </a:lnTo>
                          <a:lnTo>
                            <a:pt x="322" y="681"/>
                          </a:lnTo>
                          <a:lnTo>
                            <a:pt x="379" y="647"/>
                          </a:lnTo>
                          <a:lnTo>
                            <a:pt x="434" y="609"/>
                          </a:lnTo>
                          <a:lnTo>
                            <a:pt x="487" y="570"/>
                          </a:lnTo>
                          <a:lnTo>
                            <a:pt x="536" y="529"/>
                          </a:lnTo>
                          <a:lnTo>
                            <a:pt x="584" y="485"/>
                          </a:lnTo>
                          <a:lnTo>
                            <a:pt x="627" y="440"/>
                          </a:lnTo>
                          <a:lnTo>
                            <a:pt x="664" y="393"/>
                          </a:lnTo>
                          <a:lnTo>
                            <a:pt x="699" y="344"/>
                          </a:lnTo>
                          <a:lnTo>
                            <a:pt x="732" y="294"/>
                          </a:lnTo>
                          <a:lnTo>
                            <a:pt x="764" y="243"/>
                          </a:lnTo>
                          <a:lnTo>
                            <a:pt x="796" y="192"/>
                          </a:lnTo>
                          <a:lnTo>
                            <a:pt x="831" y="144"/>
                          </a:lnTo>
                          <a:lnTo>
                            <a:pt x="868" y="97"/>
                          </a:lnTo>
                          <a:lnTo>
                            <a:pt x="910" y="52"/>
                          </a:lnTo>
                          <a:lnTo>
                            <a:pt x="958" y="10"/>
                          </a:lnTo>
                          <a:lnTo>
                            <a:pt x="960" y="8"/>
                          </a:lnTo>
                          <a:lnTo>
                            <a:pt x="960" y="6"/>
                          </a:lnTo>
                          <a:lnTo>
                            <a:pt x="960" y="3"/>
                          </a:lnTo>
                          <a:lnTo>
                            <a:pt x="959" y="2"/>
                          </a:lnTo>
                          <a:lnTo>
                            <a:pt x="956" y="1"/>
                          </a:lnTo>
                          <a:lnTo>
                            <a:pt x="954" y="0"/>
                          </a:lnTo>
                          <a:lnTo>
                            <a:pt x="951" y="0"/>
                          </a:lnTo>
                          <a:lnTo>
                            <a:pt x="947" y="1"/>
                          </a:lnTo>
                          <a:lnTo>
                            <a:pt x="944" y="1"/>
                          </a:lnTo>
                          <a:lnTo>
                            <a:pt x="942" y="3"/>
                          </a:lnTo>
                          <a:lnTo>
                            <a:pt x="940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1369440" y="1752120"/>
                      <a:ext cx="8316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8" h="55">
                          <a:moveTo>
                            <a:pt x="13" y="54"/>
                          </a:moveTo>
                          <a:lnTo>
                            <a:pt x="21" y="52"/>
                          </a:lnTo>
                          <a:lnTo>
                            <a:pt x="28" y="48"/>
                          </a:lnTo>
                          <a:lnTo>
                            <a:pt x="35" y="46"/>
                          </a:lnTo>
                          <a:lnTo>
                            <a:pt x="41" y="42"/>
                          </a:lnTo>
                          <a:lnTo>
                            <a:pt x="47" y="40"/>
                          </a:lnTo>
                          <a:lnTo>
                            <a:pt x="53" y="38"/>
                          </a:lnTo>
                          <a:lnTo>
                            <a:pt x="61" y="35"/>
                          </a:lnTo>
                          <a:lnTo>
                            <a:pt x="68" y="34"/>
                          </a:lnTo>
                          <a:lnTo>
                            <a:pt x="75" y="32"/>
                          </a:lnTo>
                          <a:lnTo>
                            <a:pt x="81" y="31"/>
                          </a:lnTo>
                          <a:lnTo>
                            <a:pt x="87" y="29"/>
                          </a:lnTo>
                          <a:lnTo>
                            <a:pt x="92" y="28"/>
                          </a:lnTo>
                          <a:lnTo>
                            <a:pt x="96" y="27"/>
                          </a:lnTo>
                          <a:lnTo>
                            <a:pt x="100" y="26"/>
                          </a:lnTo>
                          <a:lnTo>
                            <a:pt x="105" y="23"/>
                          </a:lnTo>
                          <a:lnTo>
                            <a:pt x="109" y="22"/>
                          </a:lnTo>
                          <a:lnTo>
                            <a:pt x="113" y="20"/>
                          </a:lnTo>
                          <a:lnTo>
                            <a:pt x="117" y="18"/>
                          </a:lnTo>
                          <a:lnTo>
                            <a:pt x="121" y="15"/>
                          </a:lnTo>
                          <a:lnTo>
                            <a:pt x="125" y="12"/>
                          </a:lnTo>
                          <a:lnTo>
                            <a:pt x="127" y="9"/>
                          </a:lnTo>
                          <a:lnTo>
                            <a:pt x="128" y="6"/>
                          </a:lnTo>
                          <a:lnTo>
                            <a:pt x="128" y="3"/>
                          </a:lnTo>
                          <a:lnTo>
                            <a:pt x="127" y="2"/>
                          </a:lnTo>
                          <a:lnTo>
                            <a:pt x="125" y="1"/>
                          </a:lnTo>
                          <a:lnTo>
                            <a:pt x="123" y="0"/>
                          </a:lnTo>
                          <a:lnTo>
                            <a:pt x="120" y="0"/>
                          </a:lnTo>
                          <a:lnTo>
                            <a:pt x="117" y="0"/>
                          </a:lnTo>
                          <a:lnTo>
                            <a:pt x="115" y="1"/>
                          </a:lnTo>
                          <a:lnTo>
                            <a:pt x="111" y="3"/>
                          </a:lnTo>
                          <a:lnTo>
                            <a:pt x="107" y="6"/>
                          </a:lnTo>
                          <a:lnTo>
                            <a:pt x="103" y="9"/>
                          </a:lnTo>
                          <a:lnTo>
                            <a:pt x="97" y="12"/>
                          </a:lnTo>
                          <a:lnTo>
                            <a:pt x="91" y="13"/>
                          </a:lnTo>
                          <a:lnTo>
                            <a:pt x="85" y="15"/>
                          </a:lnTo>
                          <a:lnTo>
                            <a:pt x="79" y="16"/>
                          </a:lnTo>
                          <a:lnTo>
                            <a:pt x="72" y="18"/>
                          </a:lnTo>
                          <a:lnTo>
                            <a:pt x="65" y="19"/>
                          </a:lnTo>
                          <a:lnTo>
                            <a:pt x="60" y="20"/>
                          </a:lnTo>
                          <a:lnTo>
                            <a:pt x="55" y="21"/>
                          </a:lnTo>
                          <a:lnTo>
                            <a:pt x="49" y="22"/>
                          </a:lnTo>
                          <a:lnTo>
                            <a:pt x="44" y="25"/>
                          </a:lnTo>
                          <a:lnTo>
                            <a:pt x="39" y="26"/>
                          </a:lnTo>
                          <a:lnTo>
                            <a:pt x="35" y="28"/>
                          </a:lnTo>
                          <a:lnTo>
                            <a:pt x="29" y="31"/>
                          </a:lnTo>
                          <a:lnTo>
                            <a:pt x="25" y="33"/>
                          </a:lnTo>
                          <a:lnTo>
                            <a:pt x="20" y="35"/>
                          </a:lnTo>
                          <a:lnTo>
                            <a:pt x="15" y="38"/>
                          </a:lnTo>
                          <a:lnTo>
                            <a:pt x="11" y="40"/>
                          </a:lnTo>
                          <a:lnTo>
                            <a:pt x="5" y="42"/>
                          </a:lnTo>
                          <a:lnTo>
                            <a:pt x="3" y="44"/>
                          </a:lnTo>
                          <a:lnTo>
                            <a:pt x="1" y="46"/>
                          </a:lnTo>
                          <a:lnTo>
                            <a:pt x="0" y="48"/>
                          </a:lnTo>
                          <a:lnTo>
                            <a:pt x="0" y="51"/>
                          </a:lnTo>
                          <a:lnTo>
                            <a:pt x="1" y="53"/>
                          </a:lnTo>
                          <a:lnTo>
                            <a:pt x="3" y="54"/>
                          </a:lnTo>
                          <a:lnTo>
                            <a:pt x="5" y="55"/>
                          </a:lnTo>
                          <a:lnTo>
                            <a:pt x="8" y="55"/>
                          </a:lnTo>
                          <a:lnTo>
                            <a:pt x="11" y="55"/>
                          </a:lnTo>
                          <a:lnTo>
                            <a:pt x="15" y="54"/>
                          </a:lnTo>
                          <a:lnTo>
                            <a:pt x="13" y="5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1441800" y="1687320"/>
                      <a:ext cx="3636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107">
                          <a:moveTo>
                            <a:pt x="18" y="101"/>
                          </a:moveTo>
                          <a:lnTo>
                            <a:pt x="26" y="93"/>
                          </a:lnTo>
                          <a:lnTo>
                            <a:pt x="32" y="84"/>
                          </a:lnTo>
                          <a:lnTo>
                            <a:pt x="37" y="75"/>
                          </a:lnTo>
                          <a:lnTo>
                            <a:pt x="42" y="66"/>
                          </a:lnTo>
                          <a:lnTo>
                            <a:pt x="46" y="56"/>
                          </a:lnTo>
                          <a:lnTo>
                            <a:pt x="49" y="47"/>
                          </a:lnTo>
                          <a:lnTo>
                            <a:pt x="52" y="36"/>
                          </a:lnTo>
                          <a:lnTo>
                            <a:pt x="54" y="27"/>
                          </a:lnTo>
                          <a:lnTo>
                            <a:pt x="56" y="16"/>
                          </a:lnTo>
                          <a:lnTo>
                            <a:pt x="56" y="6"/>
                          </a:lnTo>
                          <a:lnTo>
                            <a:pt x="56" y="3"/>
                          </a:lnTo>
                          <a:lnTo>
                            <a:pt x="54" y="1"/>
                          </a:lnTo>
                          <a:lnTo>
                            <a:pt x="52" y="0"/>
                          </a:lnTo>
                          <a:lnTo>
                            <a:pt x="49" y="0"/>
                          </a:lnTo>
                          <a:lnTo>
                            <a:pt x="45" y="0"/>
                          </a:lnTo>
                          <a:lnTo>
                            <a:pt x="42" y="1"/>
                          </a:lnTo>
                          <a:lnTo>
                            <a:pt x="40" y="2"/>
                          </a:lnTo>
                          <a:lnTo>
                            <a:pt x="37" y="4"/>
                          </a:lnTo>
                          <a:lnTo>
                            <a:pt x="36" y="7"/>
                          </a:lnTo>
                          <a:lnTo>
                            <a:pt x="34" y="9"/>
                          </a:lnTo>
                          <a:lnTo>
                            <a:pt x="34" y="19"/>
                          </a:lnTo>
                          <a:lnTo>
                            <a:pt x="33" y="28"/>
                          </a:lnTo>
                          <a:lnTo>
                            <a:pt x="32" y="38"/>
                          </a:lnTo>
                          <a:lnTo>
                            <a:pt x="29" y="47"/>
                          </a:lnTo>
                          <a:lnTo>
                            <a:pt x="26" y="55"/>
                          </a:lnTo>
                          <a:lnTo>
                            <a:pt x="22" y="63"/>
                          </a:lnTo>
                          <a:lnTo>
                            <a:pt x="18" y="72"/>
                          </a:lnTo>
                          <a:lnTo>
                            <a:pt x="13" y="81"/>
                          </a:lnTo>
                          <a:lnTo>
                            <a:pt x="8" y="89"/>
                          </a:lnTo>
                          <a:lnTo>
                            <a:pt x="2" y="98"/>
                          </a:lnTo>
                          <a:lnTo>
                            <a:pt x="1" y="100"/>
                          </a:lnTo>
                          <a:lnTo>
                            <a:pt x="0" y="102"/>
                          </a:lnTo>
                          <a:lnTo>
                            <a:pt x="1" y="105"/>
                          </a:lnTo>
                          <a:lnTo>
                            <a:pt x="2" y="106"/>
                          </a:lnTo>
                          <a:lnTo>
                            <a:pt x="5" y="107"/>
                          </a:lnTo>
                          <a:lnTo>
                            <a:pt x="8" y="107"/>
                          </a:lnTo>
                          <a:lnTo>
                            <a:pt x="12" y="107"/>
                          </a:lnTo>
                          <a:lnTo>
                            <a:pt x="14" y="106"/>
                          </a:lnTo>
                          <a:lnTo>
                            <a:pt x="17" y="104"/>
                          </a:lnTo>
                          <a:lnTo>
                            <a:pt x="20" y="102"/>
                          </a:lnTo>
                          <a:lnTo>
                            <a:pt x="18" y="10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1465200" y="1683000"/>
                      <a:ext cx="9216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2" h="68">
                          <a:moveTo>
                            <a:pt x="6" y="16"/>
                          </a:moveTo>
                          <a:lnTo>
                            <a:pt x="16" y="17"/>
                          </a:lnTo>
                          <a:lnTo>
                            <a:pt x="24" y="19"/>
                          </a:lnTo>
                          <a:lnTo>
                            <a:pt x="32" y="21"/>
                          </a:lnTo>
                          <a:lnTo>
                            <a:pt x="40" y="24"/>
                          </a:lnTo>
                          <a:lnTo>
                            <a:pt x="46" y="28"/>
                          </a:lnTo>
                          <a:lnTo>
                            <a:pt x="54" y="32"/>
                          </a:lnTo>
                          <a:lnTo>
                            <a:pt x="61" y="36"/>
                          </a:lnTo>
                          <a:lnTo>
                            <a:pt x="68" y="41"/>
                          </a:lnTo>
                          <a:lnTo>
                            <a:pt x="74" y="46"/>
                          </a:lnTo>
                          <a:lnTo>
                            <a:pt x="81" y="52"/>
                          </a:lnTo>
                          <a:lnTo>
                            <a:pt x="85" y="54"/>
                          </a:lnTo>
                          <a:lnTo>
                            <a:pt x="90" y="57"/>
                          </a:lnTo>
                          <a:lnTo>
                            <a:pt x="96" y="60"/>
                          </a:lnTo>
                          <a:lnTo>
                            <a:pt x="100" y="62"/>
                          </a:lnTo>
                          <a:lnTo>
                            <a:pt x="105" y="65"/>
                          </a:lnTo>
                          <a:lnTo>
                            <a:pt x="110" y="66"/>
                          </a:lnTo>
                          <a:lnTo>
                            <a:pt x="116" y="67"/>
                          </a:lnTo>
                          <a:lnTo>
                            <a:pt x="121" y="68"/>
                          </a:lnTo>
                          <a:lnTo>
                            <a:pt x="126" y="68"/>
                          </a:lnTo>
                          <a:lnTo>
                            <a:pt x="133" y="67"/>
                          </a:lnTo>
                          <a:lnTo>
                            <a:pt x="136" y="66"/>
                          </a:lnTo>
                          <a:lnTo>
                            <a:pt x="138" y="63"/>
                          </a:lnTo>
                          <a:lnTo>
                            <a:pt x="140" y="62"/>
                          </a:lnTo>
                          <a:lnTo>
                            <a:pt x="141" y="59"/>
                          </a:lnTo>
                          <a:lnTo>
                            <a:pt x="142" y="56"/>
                          </a:lnTo>
                          <a:lnTo>
                            <a:pt x="142" y="54"/>
                          </a:lnTo>
                          <a:lnTo>
                            <a:pt x="141" y="53"/>
                          </a:lnTo>
                          <a:lnTo>
                            <a:pt x="140" y="50"/>
                          </a:lnTo>
                          <a:lnTo>
                            <a:pt x="137" y="50"/>
                          </a:lnTo>
                          <a:lnTo>
                            <a:pt x="133" y="50"/>
                          </a:lnTo>
                          <a:lnTo>
                            <a:pt x="126" y="52"/>
                          </a:lnTo>
                          <a:lnTo>
                            <a:pt x="121" y="50"/>
                          </a:lnTo>
                          <a:lnTo>
                            <a:pt x="114" y="48"/>
                          </a:lnTo>
                          <a:lnTo>
                            <a:pt x="108" y="45"/>
                          </a:lnTo>
                          <a:lnTo>
                            <a:pt x="101" y="41"/>
                          </a:lnTo>
                          <a:lnTo>
                            <a:pt x="96" y="36"/>
                          </a:lnTo>
                          <a:lnTo>
                            <a:pt x="89" y="32"/>
                          </a:lnTo>
                          <a:lnTo>
                            <a:pt x="84" y="28"/>
                          </a:lnTo>
                          <a:lnTo>
                            <a:pt x="78" y="23"/>
                          </a:lnTo>
                          <a:lnTo>
                            <a:pt x="74" y="21"/>
                          </a:lnTo>
                          <a:lnTo>
                            <a:pt x="69" y="16"/>
                          </a:lnTo>
                          <a:lnTo>
                            <a:pt x="62" y="13"/>
                          </a:lnTo>
                          <a:lnTo>
                            <a:pt x="57" y="10"/>
                          </a:lnTo>
                          <a:lnTo>
                            <a:pt x="52" y="8"/>
                          </a:lnTo>
                          <a:lnTo>
                            <a:pt x="45" y="6"/>
                          </a:lnTo>
                          <a:lnTo>
                            <a:pt x="40" y="3"/>
                          </a:lnTo>
                          <a:lnTo>
                            <a:pt x="33" y="2"/>
                          </a:lnTo>
                          <a:lnTo>
                            <a:pt x="26" y="1"/>
                          </a:lnTo>
                          <a:lnTo>
                            <a:pt x="20" y="0"/>
                          </a:lnTo>
                          <a:lnTo>
                            <a:pt x="12" y="0"/>
                          </a:lnTo>
                          <a:lnTo>
                            <a:pt x="9" y="0"/>
                          </a:lnTo>
                          <a:lnTo>
                            <a:pt x="6" y="1"/>
                          </a:lnTo>
                          <a:lnTo>
                            <a:pt x="4" y="3"/>
                          </a:lnTo>
                          <a:lnTo>
                            <a:pt x="1" y="4"/>
                          </a:lnTo>
                          <a:lnTo>
                            <a:pt x="0" y="8"/>
                          </a:lnTo>
                          <a:lnTo>
                            <a:pt x="0" y="10"/>
                          </a:lnTo>
                          <a:lnTo>
                            <a:pt x="0" y="13"/>
                          </a:lnTo>
                          <a:lnTo>
                            <a:pt x="1" y="14"/>
                          </a:lnTo>
                          <a:lnTo>
                            <a:pt x="4" y="16"/>
                          </a:lnTo>
                          <a:lnTo>
                            <a:pt x="6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1462680" y="1662480"/>
                      <a:ext cx="92160" cy="2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2" h="37">
                          <a:moveTo>
                            <a:pt x="10" y="35"/>
                          </a:moveTo>
                          <a:lnTo>
                            <a:pt x="17" y="34"/>
                          </a:lnTo>
                          <a:lnTo>
                            <a:pt x="24" y="33"/>
                          </a:lnTo>
                          <a:lnTo>
                            <a:pt x="30" y="32"/>
                          </a:lnTo>
                          <a:lnTo>
                            <a:pt x="37" y="31"/>
                          </a:lnTo>
                          <a:lnTo>
                            <a:pt x="44" y="29"/>
                          </a:lnTo>
                          <a:lnTo>
                            <a:pt x="50" y="28"/>
                          </a:lnTo>
                          <a:lnTo>
                            <a:pt x="57" y="27"/>
                          </a:lnTo>
                          <a:lnTo>
                            <a:pt x="64" y="27"/>
                          </a:lnTo>
                          <a:lnTo>
                            <a:pt x="70" y="26"/>
                          </a:lnTo>
                          <a:lnTo>
                            <a:pt x="77" y="26"/>
                          </a:lnTo>
                          <a:lnTo>
                            <a:pt x="84" y="26"/>
                          </a:lnTo>
                          <a:lnTo>
                            <a:pt x="90" y="26"/>
                          </a:lnTo>
                          <a:lnTo>
                            <a:pt x="96" y="25"/>
                          </a:lnTo>
                          <a:lnTo>
                            <a:pt x="102" y="25"/>
                          </a:lnTo>
                          <a:lnTo>
                            <a:pt x="108" y="24"/>
                          </a:lnTo>
                          <a:lnTo>
                            <a:pt x="114" y="22"/>
                          </a:lnTo>
                          <a:lnTo>
                            <a:pt x="120" y="21"/>
                          </a:lnTo>
                          <a:lnTo>
                            <a:pt x="125" y="19"/>
                          </a:lnTo>
                          <a:lnTo>
                            <a:pt x="130" y="16"/>
                          </a:lnTo>
                          <a:lnTo>
                            <a:pt x="137" y="14"/>
                          </a:lnTo>
                          <a:lnTo>
                            <a:pt x="140" y="13"/>
                          </a:lnTo>
                          <a:lnTo>
                            <a:pt x="142" y="11"/>
                          </a:lnTo>
                          <a:lnTo>
                            <a:pt x="142" y="8"/>
                          </a:lnTo>
                          <a:lnTo>
                            <a:pt x="142" y="6"/>
                          </a:lnTo>
                          <a:lnTo>
                            <a:pt x="142" y="4"/>
                          </a:lnTo>
                          <a:lnTo>
                            <a:pt x="141" y="2"/>
                          </a:lnTo>
                          <a:lnTo>
                            <a:pt x="138" y="1"/>
                          </a:lnTo>
                          <a:lnTo>
                            <a:pt x="136" y="0"/>
                          </a:lnTo>
                          <a:lnTo>
                            <a:pt x="133" y="0"/>
                          </a:lnTo>
                          <a:lnTo>
                            <a:pt x="129" y="1"/>
                          </a:lnTo>
                          <a:lnTo>
                            <a:pt x="124" y="5"/>
                          </a:lnTo>
                          <a:lnTo>
                            <a:pt x="117" y="6"/>
                          </a:lnTo>
                          <a:lnTo>
                            <a:pt x="110" y="8"/>
                          </a:lnTo>
                          <a:lnTo>
                            <a:pt x="104" y="8"/>
                          </a:lnTo>
                          <a:lnTo>
                            <a:pt x="98" y="9"/>
                          </a:lnTo>
                          <a:lnTo>
                            <a:pt x="92" y="9"/>
                          </a:lnTo>
                          <a:lnTo>
                            <a:pt x="85" y="11"/>
                          </a:lnTo>
                          <a:lnTo>
                            <a:pt x="78" y="11"/>
                          </a:lnTo>
                          <a:lnTo>
                            <a:pt x="72" y="11"/>
                          </a:lnTo>
                          <a:lnTo>
                            <a:pt x="65" y="11"/>
                          </a:lnTo>
                          <a:lnTo>
                            <a:pt x="60" y="11"/>
                          </a:lnTo>
                          <a:lnTo>
                            <a:pt x="54" y="12"/>
                          </a:lnTo>
                          <a:lnTo>
                            <a:pt x="48" y="13"/>
                          </a:lnTo>
                          <a:lnTo>
                            <a:pt x="42" y="14"/>
                          </a:lnTo>
                          <a:lnTo>
                            <a:pt x="37" y="15"/>
                          </a:lnTo>
                          <a:lnTo>
                            <a:pt x="32" y="16"/>
                          </a:lnTo>
                          <a:lnTo>
                            <a:pt x="25" y="18"/>
                          </a:lnTo>
                          <a:lnTo>
                            <a:pt x="20" y="19"/>
                          </a:lnTo>
                          <a:lnTo>
                            <a:pt x="14" y="20"/>
                          </a:lnTo>
                          <a:lnTo>
                            <a:pt x="9" y="21"/>
                          </a:lnTo>
                          <a:lnTo>
                            <a:pt x="5" y="22"/>
                          </a:lnTo>
                          <a:lnTo>
                            <a:pt x="2" y="24"/>
                          </a:lnTo>
                          <a:lnTo>
                            <a:pt x="1" y="26"/>
                          </a:lnTo>
                          <a:lnTo>
                            <a:pt x="0" y="28"/>
                          </a:lnTo>
                          <a:lnTo>
                            <a:pt x="0" y="31"/>
                          </a:lnTo>
                          <a:lnTo>
                            <a:pt x="0" y="32"/>
                          </a:lnTo>
                          <a:lnTo>
                            <a:pt x="1" y="34"/>
                          </a:lnTo>
                          <a:lnTo>
                            <a:pt x="4" y="35"/>
                          </a:lnTo>
                          <a:lnTo>
                            <a:pt x="6" y="37"/>
                          </a:lnTo>
                          <a:lnTo>
                            <a:pt x="10" y="3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1544760" y="1661760"/>
                      <a:ext cx="6084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52">
                          <a:moveTo>
                            <a:pt x="2" y="15"/>
                          </a:moveTo>
                          <a:lnTo>
                            <a:pt x="7" y="22"/>
                          </a:lnTo>
                          <a:lnTo>
                            <a:pt x="14" y="27"/>
                          </a:lnTo>
                          <a:lnTo>
                            <a:pt x="20" y="32"/>
                          </a:lnTo>
                          <a:lnTo>
                            <a:pt x="28" y="34"/>
                          </a:lnTo>
                          <a:lnTo>
                            <a:pt x="36" y="38"/>
                          </a:lnTo>
                          <a:lnTo>
                            <a:pt x="44" y="40"/>
                          </a:lnTo>
                          <a:lnTo>
                            <a:pt x="54" y="42"/>
                          </a:lnTo>
                          <a:lnTo>
                            <a:pt x="62" y="45"/>
                          </a:lnTo>
                          <a:lnTo>
                            <a:pt x="70" y="47"/>
                          </a:lnTo>
                          <a:lnTo>
                            <a:pt x="76" y="51"/>
                          </a:lnTo>
                          <a:lnTo>
                            <a:pt x="79" y="52"/>
                          </a:lnTo>
                          <a:lnTo>
                            <a:pt x="83" y="52"/>
                          </a:lnTo>
                          <a:lnTo>
                            <a:pt x="86" y="51"/>
                          </a:lnTo>
                          <a:lnTo>
                            <a:pt x="88" y="49"/>
                          </a:lnTo>
                          <a:lnTo>
                            <a:pt x="91" y="47"/>
                          </a:lnTo>
                          <a:lnTo>
                            <a:pt x="92" y="45"/>
                          </a:lnTo>
                          <a:lnTo>
                            <a:pt x="94" y="42"/>
                          </a:lnTo>
                          <a:lnTo>
                            <a:pt x="94" y="40"/>
                          </a:lnTo>
                          <a:lnTo>
                            <a:pt x="94" y="38"/>
                          </a:lnTo>
                          <a:lnTo>
                            <a:pt x="91" y="35"/>
                          </a:lnTo>
                          <a:lnTo>
                            <a:pt x="83" y="32"/>
                          </a:lnTo>
                          <a:lnTo>
                            <a:pt x="76" y="29"/>
                          </a:lnTo>
                          <a:lnTo>
                            <a:pt x="68" y="27"/>
                          </a:lnTo>
                          <a:lnTo>
                            <a:pt x="60" y="25"/>
                          </a:lnTo>
                          <a:lnTo>
                            <a:pt x="52" y="22"/>
                          </a:lnTo>
                          <a:lnTo>
                            <a:pt x="44" y="20"/>
                          </a:lnTo>
                          <a:lnTo>
                            <a:pt x="38" y="16"/>
                          </a:lnTo>
                          <a:lnTo>
                            <a:pt x="31" y="13"/>
                          </a:lnTo>
                          <a:lnTo>
                            <a:pt x="24" y="8"/>
                          </a:lnTo>
                          <a:lnTo>
                            <a:pt x="19" y="2"/>
                          </a:lnTo>
                          <a:lnTo>
                            <a:pt x="18" y="1"/>
                          </a:lnTo>
                          <a:lnTo>
                            <a:pt x="15" y="0"/>
                          </a:lnTo>
                          <a:lnTo>
                            <a:pt x="12" y="0"/>
                          </a:lnTo>
                          <a:lnTo>
                            <a:pt x="10" y="1"/>
                          </a:lnTo>
                          <a:lnTo>
                            <a:pt x="7" y="3"/>
                          </a:lnTo>
                          <a:lnTo>
                            <a:pt x="4" y="6"/>
                          </a:lnTo>
                          <a:lnTo>
                            <a:pt x="2" y="8"/>
                          </a:lnTo>
                          <a:lnTo>
                            <a:pt x="2" y="10"/>
                          </a:lnTo>
                          <a:lnTo>
                            <a:pt x="0" y="13"/>
                          </a:lnTo>
                          <a:lnTo>
                            <a:pt x="2" y="16"/>
                          </a:lnTo>
                          <a:lnTo>
                            <a:pt x="2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1555200" y="1689480"/>
                      <a:ext cx="4860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71">
                          <a:moveTo>
                            <a:pt x="54" y="6"/>
                          </a:moveTo>
                          <a:lnTo>
                            <a:pt x="50" y="13"/>
                          </a:lnTo>
                          <a:lnTo>
                            <a:pt x="46" y="18"/>
                          </a:lnTo>
                          <a:lnTo>
                            <a:pt x="42" y="24"/>
                          </a:lnTo>
                          <a:lnTo>
                            <a:pt x="38" y="29"/>
                          </a:lnTo>
                          <a:lnTo>
                            <a:pt x="34" y="35"/>
                          </a:lnTo>
                          <a:lnTo>
                            <a:pt x="28" y="39"/>
                          </a:lnTo>
                          <a:lnTo>
                            <a:pt x="23" y="44"/>
                          </a:lnTo>
                          <a:lnTo>
                            <a:pt x="18" y="49"/>
                          </a:lnTo>
                          <a:lnTo>
                            <a:pt x="12" y="52"/>
                          </a:lnTo>
                          <a:lnTo>
                            <a:pt x="6" y="56"/>
                          </a:lnTo>
                          <a:lnTo>
                            <a:pt x="3" y="58"/>
                          </a:lnTo>
                          <a:lnTo>
                            <a:pt x="2" y="60"/>
                          </a:lnTo>
                          <a:lnTo>
                            <a:pt x="0" y="63"/>
                          </a:lnTo>
                          <a:lnTo>
                            <a:pt x="0" y="65"/>
                          </a:lnTo>
                          <a:lnTo>
                            <a:pt x="2" y="68"/>
                          </a:lnTo>
                          <a:lnTo>
                            <a:pt x="3" y="70"/>
                          </a:lnTo>
                          <a:lnTo>
                            <a:pt x="4" y="71"/>
                          </a:lnTo>
                          <a:lnTo>
                            <a:pt x="7" y="71"/>
                          </a:lnTo>
                          <a:lnTo>
                            <a:pt x="11" y="70"/>
                          </a:lnTo>
                          <a:lnTo>
                            <a:pt x="14" y="69"/>
                          </a:lnTo>
                          <a:lnTo>
                            <a:pt x="22" y="64"/>
                          </a:lnTo>
                          <a:lnTo>
                            <a:pt x="28" y="59"/>
                          </a:lnTo>
                          <a:lnTo>
                            <a:pt x="35" y="53"/>
                          </a:lnTo>
                          <a:lnTo>
                            <a:pt x="42" y="47"/>
                          </a:lnTo>
                          <a:lnTo>
                            <a:pt x="48" y="42"/>
                          </a:lnTo>
                          <a:lnTo>
                            <a:pt x="54" y="36"/>
                          </a:lnTo>
                          <a:lnTo>
                            <a:pt x="59" y="30"/>
                          </a:lnTo>
                          <a:lnTo>
                            <a:pt x="64" y="23"/>
                          </a:lnTo>
                          <a:lnTo>
                            <a:pt x="70" y="16"/>
                          </a:lnTo>
                          <a:lnTo>
                            <a:pt x="74" y="9"/>
                          </a:lnTo>
                          <a:lnTo>
                            <a:pt x="75" y="7"/>
                          </a:lnTo>
                          <a:lnTo>
                            <a:pt x="75" y="6"/>
                          </a:lnTo>
                          <a:lnTo>
                            <a:pt x="75" y="5"/>
                          </a:lnTo>
                          <a:lnTo>
                            <a:pt x="75" y="4"/>
                          </a:lnTo>
                          <a:lnTo>
                            <a:pt x="74" y="3"/>
                          </a:lnTo>
                          <a:lnTo>
                            <a:pt x="74" y="3"/>
                          </a:lnTo>
                          <a:lnTo>
                            <a:pt x="72" y="1"/>
                          </a:lnTo>
                          <a:lnTo>
                            <a:pt x="71" y="0"/>
                          </a:lnTo>
                          <a:lnTo>
                            <a:pt x="70" y="0"/>
                          </a:lnTo>
                          <a:lnTo>
                            <a:pt x="68" y="0"/>
                          </a:lnTo>
                          <a:lnTo>
                            <a:pt x="67" y="0"/>
                          </a:lnTo>
                          <a:lnTo>
                            <a:pt x="64" y="0"/>
                          </a:lnTo>
                          <a:lnTo>
                            <a:pt x="63" y="0"/>
                          </a:lnTo>
                          <a:lnTo>
                            <a:pt x="62" y="1"/>
                          </a:lnTo>
                          <a:lnTo>
                            <a:pt x="60" y="1"/>
                          </a:lnTo>
                          <a:lnTo>
                            <a:pt x="59" y="3"/>
                          </a:lnTo>
                          <a:lnTo>
                            <a:pt x="58" y="4"/>
                          </a:lnTo>
                          <a:lnTo>
                            <a:pt x="56" y="5"/>
                          </a:lnTo>
                          <a:lnTo>
                            <a:pt x="55" y="6"/>
                          </a:lnTo>
                          <a:lnTo>
                            <a:pt x="54" y="7"/>
                          </a:lnTo>
                          <a:lnTo>
                            <a:pt x="54" y="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1519920" y="1722600"/>
                      <a:ext cx="3384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71">
                          <a:moveTo>
                            <a:pt x="30" y="7"/>
                          </a:moveTo>
                          <a:lnTo>
                            <a:pt x="29" y="9"/>
                          </a:lnTo>
                          <a:lnTo>
                            <a:pt x="28" y="12"/>
                          </a:lnTo>
                          <a:lnTo>
                            <a:pt x="25" y="14"/>
                          </a:lnTo>
                          <a:lnTo>
                            <a:pt x="22" y="17"/>
                          </a:lnTo>
                          <a:lnTo>
                            <a:pt x="21" y="19"/>
                          </a:lnTo>
                          <a:lnTo>
                            <a:pt x="18" y="21"/>
                          </a:lnTo>
                          <a:lnTo>
                            <a:pt x="16" y="24"/>
                          </a:lnTo>
                          <a:lnTo>
                            <a:pt x="14" y="26"/>
                          </a:lnTo>
                          <a:lnTo>
                            <a:pt x="12" y="28"/>
                          </a:lnTo>
                          <a:lnTo>
                            <a:pt x="10" y="31"/>
                          </a:lnTo>
                          <a:lnTo>
                            <a:pt x="9" y="33"/>
                          </a:lnTo>
                          <a:lnTo>
                            <a:pt x="8" y="37"/>
                          </a:lnTo>
                          <a:lnTo>
                            <a:pt x="6" y="40"/>
                          </a:lnTo>
                          <a:lnTo>
                            <a:pt x="5" y="43"/>
                          </a:lnTo>
                          <a:lnTo>
                            <a:pt x="5" y="46"/>
                          </a:lnTo>
                          <a:lnTo>
                            <a:pt x="5" y="50"/>
                          </a:lnTo>
                          <a:lnTo>
                            <a:pt x="4" y="53"/>
                          </a:lnTo>
                          <a:lnTo>
                            <a:pt x="4" y="56"/>
                          </a:lnTo>
                          <a:lnTo>
                            <a:pt x="2" y="59"/>
                          </a:lnTo>
                          <a:lnTo>
                            <a:pt x="0" y="61"/>
                          </a:lnTo>
                          <a:lnTo>
                            <a:pt x="0" y="63"/>
                          </a:lnTo>
                          <a:lnTo>
                            <a:pt x="0" y="64"/>
                          </a:lnTo>
                          <a:lnTo>
                            <a:pt x="0" y="65"/>
                          </a:lnTo>
                          <a:lnTo>
                            <a:pt x="0" y="66"/>
                          </a:lnTo>
                          <a:lnTo>
                            <a:pt x="0" y="67"/>
                          </a:lnTo>
                          <a:lnTo>
                            <a:pt x="1" y="68"/>
                          </a:lnTo>
                          <a:lnTo>
                            <a:pt x="2" y="70"/>
                          </a:lnTo>
                          <a:lnTo>
                            <a:pt x="4" y="70"/>
                          </a:lnTo>
                          <a:lnTo>
                            <a:pt x="5" y="71"/>
                          </a:lnTo>
                          <a:lnTo>
                            <a:pt x="6" y="71"/>
                          </a:lnTo>
                          <a:lnTo>
                            <a:pt x="8" y="71"/>
                          </a:lnTo>
                          <a:lnTo>
                            <a:pt x="9" y="71"/>
                          </a:lnTo>
                          <a:lnTo>
                            <a:pt x="12" y="70"/>
                          </a:lnTo>
                          <a:lnTo>
                            <a:pt x="13" y="70"/>
                          </a:lnTo>
                          <a:lnTo>
                            <a:pt x="14" y="68"/>
                          </a:lnTo>
                          <a:lnTo>
                            <a:pt x="16" y="68"/>
                          </a:lnTo>
                          <a:lnTo>
                            <a:pt x="17" y="67"/>
                          </a:lnTo>
                          <a:lnTo>
                            <a:pt x="18" y="66"/>
                          </a:lnTo>
                          <a:lnTo>
                            <a:pt x="20" y="65"/>
                          </a:lnTo>
                          <a:lnTo>
                            <a:pt x="20" y="64"/>
                          </a:lnTo>
                          <a:lnTo>
                            <a:pt x="22" y="60"/>
                          </a:lnTo>
                          <a:lnTo>
                            <a:pt x="24" y="58"/>
                          </a:lnTo>
                          <a:lnTo>
                            <a:pt x="24" y="54"/>
                          </a:lnTo>
                          <a:lnTo>
                            <a:pt x="25" y="51"/>
                          </a:lnTo>
                          <a:lnTo>
                            <a:pt x="25" y="48"/>
                          </a:lnTo>
                          <a:lnTo>
                            <a:pt x="26" y="45"/>
                          </a:lnTo>
                          <a:lnTo>
                            <a:pt x="26" y="41"/>
                          </a:lnTo>
                          <a:lnTo>
                            <a:pt x="28" y="39"/>
                          </a:lnTo>
                          <a:lnTo>
                            <a:pt x="29" y="35"/>
                          </a:lnTo>
                          <a:lnTo>
                            <a:pt x="30" y="32"/>
                          </a:lnTo>
                          <a:lnTo>
                            <a:pt x="32" y="30"/>
                          </a:lnTo>
                          <a:lnTo>
                            <a:pt x="33" y="27"/>
                          </a:lnTo>
                          <a:lnTo>
                            <a:pt x="36" y="25"/>
                          </a:lnTo>
                          <a:lnTo>
                            <a:pt x="37" y="22"/>
                          </a:lnTo>
                          <a:lnTo>
                            <a:pt x="40" y="20"/>
                          </a:lnTo>
                          <a:lnTo>
                            <a:pt x="42" y="18"/>
                          </a:lnTo>
                          <a:lnTo>
                            <a:pt x="45" y="15"/>
                          </a:lnTo>
                          <a:lnTo>
                            <a:pt x="46" y="14"/>
                          </a:lnTo>
                          <a:lnTo>
                            <a:pt x="49" y="12"/>
                          </a:lnTo>
                          <a:lnTo>
                            <a:pt x="50" y="9"/>
                          </a:lnTo>
                          <a:lnTo>
                            <a:pt x="52" y="7"/>
                          </a:lnTo>
                          <a:lnTo>
                            <a:pt x="52" y="6"/>
                          </a:lnTo>
                          <a:lnTo>
                            <a:pt x="52" y="5"/>
                          </a:lnTo>
                          <a:lnTo>
                            <a:pt x="52" y="5"/>
                          </a:lnTo>
                          <a:lnTo>
                            <a:pt x="50" y="4"/>
                          </a:lnTo>
                          <a:lnTo>
                            <a:pt x="50" y="2"/>
                          </a:lnTo>
                          <a:lnTo>
                            <a:pt x="49" y="1"/>
                          </a:lnTo>
                          <a:lnTo>
                            <a:pt x="48" y="1"/>
                          </a:lnTo>
                          <a:lnTo>
                            <a:pt x="46" y="0"/>
                          </a:lnTo>
                          <a:lnTo>
                            <a:pt x="45" y="0"/>
                          </a:lnTo>
                          <a:lnTo>
                            <a:pt x="44" y="0"/>
                          </a:lnTo>
                          <a:lnTo>
                            <a:pt x="42" y="0"/>
                          </a:lnTo>
                          <a:lnTo>
                            <a:pt x="40" y="0"/>
                          </a:lnTo>
                          <a:lnTo>
                            <a:pt x="38" y="1"/>
                          </a:lnTo>
                          <a:lnTo>
                            <a:pt x="37" y="2"/>
                          </a:lnTo>
                          <a:lnTo>
                            <a:pt x="36" y="2"/>
                          </a:lnTo>
                          <a:lnTo>
                            <a:pt x="34" y="4"/>
                          </a:lnTo>
                          <a:lnTo>
                            <a:pt x="33" y="5"/>
                          </a:lnTo>
                          <a:lnTo>
                            <a:pt x="32" y="6"/>
                          </a:lnTo>
                          <a:lnTo>
                            <a:pt x="32" y="7"/>
                          </a:lnTo>
                          <a:lnTo>
                            <a:pt x="30" y="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1564920" y="1689480"/>
                      <a:ext cx="47160" cy="9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138">
                          <a:moveTo>
                            <a:pt x="41" y="11"/>
                          </a:moveTo>
                          <a:lnTo>
                            <a:pt x="45" y="18"/>
                          </a:lnTo>
                          <a:lnTo>
                            <a:pt x="47" y="24"/>
                          </a:lnTo>
                          <a:lnTo>
                            <a:pt x="49" y="29"/>
                          </a:lnTo>
                          <a:lnTo>
                            <a:pt x="51" y="35"/>
                          </a:lnTo>
                          <a:lnTo>
                            <a:pt x="51" y="40"/>
                          </a:lnTo>
                          <a:lnTo>
                            <a:pt x="51" y="46"/>
                          </a:lnTo>
                          <a:lnTo>
                            <a:pt x="51" y="52"/>
                          </a:lnTo>
                          <a:lnTo>
                            <a:pt x="51" y="58"/>
                          </a:lnTo>
                          <a:lnTo>
                            <a:pt x="49" y="64"/>
                          </a:lnTo>
                          <a:lnTo>
                            <a:pt x="48" y="70"/>
                          </a:lnTo>
                          <a:lnTo>
                            <a:pt x="45" y="77"/>
                          </a:lnTo>
                          <a:lnTo>
                            <a:pt x="43" y="84"/>
                          </a:lnTo>
                          <a:lnTo>
                            <a:pt x="39" y="90"/>
                          </a:lnTo>
                          <a:lnTo>
                            <a:pt x="35" y="95"/>
                          </a:lnTo>
                          <a:lnTo>
                            <a:pt x="29" y="101"/>
                          </a:lnTo>
                          <a:lnTo>
                            <a:pt x="24" y="107"/>
                          </a:lnTo>
                          <a:lnTo>
                            <a:pt x="19" y="111"/>
                          </a:lnTo>
                          <a:lnTo>
                            <a:pt x="13" y="116"/>
                          </a:lnTo>
                          <a:lnTo>
                            <a:pt x="8" y="122"/>
                          </a:lnTo>
                          <a:lnTo>
                            <a:pt x="3" y="127"/>
                          </a:lnTo>
                          <a:lnTo>
                            <a:pt x="0" y="130"/>
                          </a:lnTo>
                          <a:lnTo>
                            <a:pt x="0" y="132"/>
                          </a:lnTo>
                          <a:lnTo>
                            <a:pt x="0" y="135"/>
                          </a:lnTo>
                          <a:lnTo>
                            <a:pt x="1" y="136"/>
                          </a:lnTo>
                          <a:lnTo>
                            <a:pt x="4" y="137"/>
                          </a:lnTo>
                          <a:lnTo>
                            <a:pt x="7" y="138"/>
                          </a:lnTo>
                          <a:lnTo>
                            <a:pt x="9" y="138"/>
                          </a:lnTo>
                          <a:lnTo>
                            <a:pt x="13" y="137"/>
                          </a:lnTo>
                          <a:lnTo>
                            <a:pt x="16" y="136"/>
                          </a:lnTo>
                          <a:lnTo>
                            <a:pt x="19" y="135"/>
                          </a:lnTo>
                          <a:lnTo>
                            <a:pt x="24" y="129"/>
                          </a:lnTo>
                          <a:lnTo>
                            <a:pt x="29" y="124"/>
                          </a:lnTo>
                          <a:lnTo>
                            <a:pt x="35" y="118"/>
                          </a:lnTo>
                          <a:lnTo>
                            <a:pt x="40" y="114"/>
                          </a:lnTo>
                          <a:lnTo>
                            <a:pt x="45" y="108"/>
                          </a:lnTo>
                          <a:lnTo>
                            <a:pt x="51" y="103"/>
                          </a:lnTo>
                          <a:lnTo>
                            <a:pt x="56" y="97"/>
                          </a:lnTo>
                          <a:lnTo>
                            <a:pt x="60" y="91"/>
                          </a:lnTo>
                          <a:lnTo>
                            <a:pt x="64" y="85"/>
                          </a:lnTo>
                          <a:lnTo>
                            <a:pt x="67" y="78"/>
                          </a:lnTo>
                          <a:lnTo>
                            <a:pt x="69" y="71"/>
                          </a:lnTo>
                          <a:lnTo>
                            <a:pt x="72" y="63"/>
                          </a:lnTo>
                          <a:lnTo>
                            <a:pt x="73" y="56"/>
                          </a:lnTo>
                          <a:lnTo>
                            <a:pt x="73" y="49"/>
                          </a:lnTo>
                          <a:lnTo>
                            <a:pt x="73" y="40"/>
                          </a:lnTo>
                          <a:lnTo>
                            <a:pt x="73" y="33"/>
                          </a:lnTo>
                          <a:lnTo>
                            <a:pt x="72" y="26"/>
                          </a:lnTo>
                          <a:lnTo>
                            <a:pt x="69" y="19"/>
                          </a:lnTo>
                          <a:lnTo>
                            <a:pt x="67" y="11"/>
                          </a:lnTo>
                          <a:lnTo>
                            <a:pt x="64" y="4"/>
                          </a:lnTo>
                          <a:lnTo>
                            <a:pt x="61" y="1"/>
                          </a:lnTo>
                          <a:lnTo>
                            <a:pt x="59" y="0"/>
                          </a:lnTo>
                          <a:lnTo>
                            <a:pt x="56" y="0"/>
                          </a:lnTo>
                          <a:lnTo>
                            <a:pt x="53" y="0"/>
                          </a:lnTo>
                          <a:lnTo>
                            <a:pt x="49" y="1"/>
                          </a:lnTo>
                          <a:lnTo>
                            <a:pt x="47" y="3"/>
                          </a:lnTo>
                          <a:lnTo>
                            <a:pt x="44" y="5"/>
                          </a:lnTo>
                          <a:lnTo>
                            <a:pt x="43" y="6"/>
                          </a:lnTo>
                          <a:lnTo>
                            <a:pt x="41" y="10"/>
                          </a:lnTo>
                          <a:lnTo>
                            <a:pt x="43" y="12"/>
                          </a:lnTo>
                          <a:lnTo>
                            <a:pt x="41" y="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796680" y="1774440"/>
                      <a:ext cx="799560" cy="74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27" h="1145">
                          <a:moveTo>
                            <a:pt x="1174" y="10"/>
                          </a:moveTo>
                          <a:lnTo>
                            <a:pt x="1179" y="31"/>
                          </a:lnTo>
                          <a:lnTo>
                            <a:pt x="1183" y="53"/>
                          </a:lnTo>
                          <a:lnTo>
                            <a:pt x="1188" y="74"/>
                          </a:lnTo>
                          <a:lnTo>
                            <a:pt x="1192" y="96"/>
                          </a:lnTo>
                          <a:lnTo>
                            <a:pt x="1195" y="117"/>
                          </a:lnTo>
                          <a:lnTo>
                            <a:pt x="1199" y="138"/>
                          </a:lnTo>
                          <a:lnTo>
                            <a:pt x="1202" y="159"/>
                          </a:lnTo>
                          <a:lnTo>
                            <a:pt x="1203" y="182"/>
                          </a:lnTo>
                          <a:lnTo>
                            <a:pt x="1204" y="203"/>
                          </a:lnTo>
                          <a:lnTo>
                            <a:pt x="1206" y="224"/>
                          </a:lnTo>
                          <a:lnTo>
                            <a:pt x="1206" y="249"/>
                          </a:lnTo>
                          <a:lnTo>
                            <a:pt x="1204" y="273"/>
                          </a:lnTo>
                          <a:lnTo>
                            <a:pt x="1202" y="296"/>
                          </a:lnTo>
                          <a:lnTo>
                            <a:pt x="1198" y="320"/>
                          </a:lnTo>
                          <a:lnTo>
                            <a:pt x="1192" y="344"/>
                          </a:lnTo>
                          <a:lnTo>
                            <a:pt x="1187" y="366"/>
                          </a:lnTo>
                          <a:lnTo>
                            <a:pt x="1180" y="390"/>
                          </a:lnTo>
                          <a:lnTo>
                            <a:pt x="1174" y="412"/>
                          </a:lnTo>
                          <a:lnTo>
                            <a:pt x="1166" y="436"/>
                          </a:lnTo>
                          <a:lnTo>
                            <a:pt x="1158" y="458"/>
                          </a:lnTo>
                          <a:lnTo>
                            <a:pt x="1140" y="498"/>
                          </a:lnTo>
                          <a:lnTo>
                            <a:pt x="1122" y="537"/>
                          </a:lnTo>
                          <a:lnTo>
                            <a:pt x="1102" y="575"/>
                          </a:lnTo>
                          <a:lnTo>
                            <a:pt x="1079" y="612"/>
                          </a:lnTo>
                          <a:lnTo>
                            <a:pt x="1054" y="647"/>
                          </a:lnTo>
                          <a:lnTo>
                            <a:pt x="1027" y="682"/>
                          </a:lnTo>
                          <a:lnTo>
                            <a:pt x="999" y="715"/>
                          </a:lnTo>
                          <a:lnTo>
                            <a:pt x="968" y="748"/>
                          </a:lnTo>
                          <a:lnTo>
                            <a:pt x="936" y="779"/>
                          </a:lnTo>
                          <a:lnTo>
                            <a:pt x="903" y="810"/>
                          </a:lnTo>
                          <a:lnTo>
                            <a:pt x="870" y="839"/>
                          </a:lnTo>
                          <a:lnTo>
                            <a:pt x="835" y="866"/>
                          </a:lnTo>
                          <a:lnTo>
                            <a:pt x="799" y="894"/>
                          </a:lnTo>
                          <a:lnTo>
                            <a:pt x="763" y="920"/>
                          </a:lnTo>
                          <a:lnTo>
                            <a:pt x="726" y="944"/>
                          </a:lnTo>
                          <a:lnTo>
                            <a:pt x="687" y="968"/>
                          </a:lnTo>
                          <a:lnTo>
                            <a:pt x="647" y="989"/>
                          </a:lnTo>
                          <a:lnTo>
                            <a:pt x="607" y="1010"/>
                          </a:lnTo>
                          <a:lnTo>
                            <a:pt x="566" y="1031"/>
                          </a:lnTo>
                          <a:lnTo>
                            <a:pt x="524" y="1049"/>
                          </a:lnTo>
                          <a:lnTo>
                            <a:pt x="479" y="1067"/>
                          </a:lnTo>
                          <a:lnTo>
                            <a:pt x="431" y="1085"/>
                          </a:lnTo>
                          <a:lnTo>
                            <a:pt x="380" y="1100"/>
                          </a:lnTo>
                          <a:lnTo>
                            <a:pt x="327" y="1113"/>
                          </a:lnTo>
                          <a:lnTo>
                            <a:pt x="274" y="1123"/>
                          </a:lnTo>
                          <a:lnTo>
                            <a:pt x="220" y="1130"/>
                          </a:lnTo>
                          <a:lnTo>
                            <a:pt x="167" y="1131"/>
                          </a:lnTo>
                          <a:lnTo>
                            <a:pt x="115" y="1126"/>
                          </a:lnTo>
                          <a:lnTo>
                            <a:pt x="66" y="1115"/>
                          </a:lnTo>
                          <a:lnTo>
                            <a:pt x="19" y="1098"/>
                          </a:lnTo>
                          <a:lnTo>
                            <a:pt x="16" y="1097"/>
                          </a:lnTo>
                          <a:lnTo>
                            <a:pt x="12" y="1097"/>
                          </a:lnTo>
                          <a:lnTo>
                            <a:pt x="10" y="1098"/>
                          </a:lnTo>
                          <a:lnTo>
                            <a:pt x="7" y="1099"/>
                          </a:lnTo>
                          <a:lnTo>
                            <a:pt x="4" y="1101"/>
                          </a:lnTo>
                          <a:lnTo>
                            <a:pt x="2" y="1104"/>
                          </a:lnTo>
                          <a:lnTo>
                            <a:pt x="0" y="1106"/>
                          </a:lnTo>
                          <a:lnTo>
                            <a:pt x="0" y="1108"/>
                          </a:lnTo>
                          <a:lnTo>
                            <a:pt x="2" y="1110"/>
                          </a:lnTo>
                          <a:lnTo>
                            <a:pt x="4" y="1112"/>
                          </a:lnTo>
                          <a:lnTo>
                            <a:pt x="47" y="1128"/>
                          </a:lnTo>
                          <a:lnTo>
                            <a:pt x="92" y="1139"/>
                          </a:lnTo>
                          <a:lnTo>
                            <a:pt x="138" y="1145"/>
                          </a:lnTo>
                          <a:lnTo>
                            <a:pt x="186" y="1145"/>
                          </a:lnTo>
                          <a:lnTo>
                            <a:pt x="234" y="1143"/>
                          </a:lnTo>
                          <a:lnTo>
                            <a:pt x="280" y="1136"/>
                          </a:lnTo>
                          <a:lnTo>
                            <a:pt x="328" y="1126"/>
                          </a:lnTo>
                          <a:lnTo>
                            <a:pt x="374" y="1115"/>
                          </a:lnTo>
                          <a:lnTo>
                            <a:pt x="419" y="1103"/>
                          </a:lnTo>
                          <a:lnTo>
                            <a:pt x="460" y="1088"/>
                          </a:lnTo>
                          <a:lnTo>
                            <a:pt x="507" y="1071"/>
                          </a:lnTo>
                          <a:lnTo>
                            <a:pt x="552" y="1053"/>
                          </a:lnTo>
                          <a:lnTo>
                            <a:pt x="596" y="1032"/>
                          </a:lnTo>
                          <a:lnTo>
                            <a:pt x="640" y="1010"/>
                          </a:lnTo>
                          <a:lnTo>
                            <a:pt x="683" y="987"/>
                          </a:lnTo>
                          <a:lnTo>
                            <a:pt x="724" y="962"/>
                          </a:lnTo>
                          <a:lnTo>
                            <a:pt x="764" y="936"/>
                          </a:lnTo>
                          <a:lnTo>
                            <a:pt x="804" y="909"/>
                          </a:lnTo>
                          <a:lnTo>
                            <a:pt x="843" y="879"/>
                          </a:lnTo>
                          <a:lnTo>
                            <a:pt x="880" y="850"/>
                          </a:lnTo>
                          <a:lnTo>
                            <a:pt x="915" y="820"/>
                          </a:lnTo>
                          <a:lnTo>
                            <a:pt x="948" y="790"/>
                          </a:lnTo>
                          <a:lnTo>
                            <a:pt x="982" y="759"/>
                          </a:lnTo>
                          <a:lnTo>
                            <a:pt x="1012" y="726"/>
                          </a:lnTo>
                          <a:lnTo>
                            <a:pt x="1040" y="693"/>
                          </a:lnTo>
                          <a:lnTo>
                            <a:pt x="1068" y="659"/>
                          </a:lnTo>
                          <a:lnTo>
                            <a:pt x="1094" y="622"/>
                          </a:lnTo>
                          <a:lnTo>
                            <a:pt x="1116" y="586"/>
                          </a:lnTo>
                          <a:lnTo>
                            <a:pt x="1139" y="548"/>
                          </a:lnTo>
                          <a:lnTo>
                            <a:pt x="1158" y="508"/>
                          </a:lnTo>
                          <a:lnTo>
                            <a:pt x="1168" y="485"/>
                          </a:lnTo>
                          <a:lnTo>
                            <a:pt x="1178" y="463"/>
                          </a:lnTo>
                          <a:lnTo>
                            <a:pt x="1186" y="440"/>
                          </a:lnTo>
                          <a:lnTo>
                            <a:pt x="1195" y="417"/>
                          </a:lnTo>
                          <a:lnTo>
                            <a:pt x="1202" y="393"/>
                          </a:lnTo>
                          <a:lnTo>
                            <a:pt x="1208" y="370"/>
                          </a:lnTo>
                          <a:lnTo>
                            <a:pt x="1215" y="346"/>
                          </a:lnTo>
                          <a:lnTo>
                            <a:pt x="1219" y="321"/>
                          </a:lnTo>
                          <a:lnTo>
                            <a:pt x="1223" y="298"/>
                          </a:lnTo>
                          <a:lnTo>
                            <a:pt x="1226" y="274"/>
                          </a:lnTo>
                          <a:lnTo>
                            <a:pt x="1227" y="247"/>
                          </a:lnTo>
                          <a:lnTo>
                            <a:pt x="1227" y="220"/>
                          </a:lnTo>
                          <a:lnTo>
                            <a:pt x="1226" y="193"/>
                          </a:lnTo>
                          <a:lnTo>
                            <a:pt x="1224" y="165"/>
                          </a:lnTo>
                          <a:lnTo>
                            <a:pt x="1220" y="138"/>
                          </a:lnTo>
                          <a:lnTo>
                            <a:pt x="1218" y="112"/>
                          </a:lnTo>
                          <a:lnTo>
                            <a:pt x="1212" y="85"/>
                          </a:lnTo>
                          <a:lnTo>
                            <a:pt x="1207" y="58"/>
                          </a:lnTo>
                          <a:lnTo>
                            <a:pt x="1202" y="32"/>
                          </a:lnTo>
                          <a:lnTo>
                            <a:pt x="1196" y="5"/>
                          </a:lnTo>
                          <a:lnTo>
                            <a:pt x="1195" y="2"/>
                          </a:lnTo>
                          <a:lnTo>
                            <a:pt x="1194" y="0"/>
                          </a:lnTo>
                          <a:lnTo>
                            <a:pt x="1191" y="0"/>
                          </a:lnTo>
                          <a:lnTo>
                            <a:pt x="1187" y="0"/>
                          </a:lnTo>
                          <a:lnTo>
                            <a:pt x="1184" y="0"/>
                          </a:lnTo>
                          <a:lnTo>
                            <a:pt x="1180" y="1"/>
                          </a:lnTo>
                          <a:lnTo>
                            <a:pt x="1178" y="2"/>
                          </a:lnTo>
                          <a:lnTo>
                            <a:pt x="1176" y="5"/>
                          </a:lnTo>
                          <a:lnTo>
                            <a:pt x="1175" y="7"/>
                          </a:lnTo>
                          <a:lnTo>
                            <a:pt x="1175" y="10"/>
                          </a:lnTo>
                          <a:lnTo>
                            <a:pt x="1174" y="1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82280" y="1795680"/>
                      <a:ext cx="729720" cy="64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0" h="985">
                          <a:moveTo>
                            <a:pt x="1096" y="11"/>
                          </a:moveTo>
                          <a:lnTo>
                            <a:pt x="1098" y="50"/>
                          </a:lnTo>
                          <a:lnTo>
                            <a:pt x="1097" y="86"/>
                          </a:lnTo>
                          <a:lnTo>
                            <a:pt x="1094" y="123"/>
                          </a:lnTo>
                          <a:lnTo>
                            <a:pt x="1089" y="160"/>
                          </a:lnTo>
                          <a:lnTo>
                            <a:pt x="1081" y="195"/>
                          </a:lnTo>
                          <a:lnTo>
                            <a:pt x="1070" y="230"/>
                          </a:lnTo>
                          <a:lnTo>
                            <a:pt x="1057" y="265"/>
                          </a:lnTo>
                          <a:lnTo>
                            <a:pt x="1042" y="299"/>
                          </a:lnTo>
                          <a:lnTo>
                            <a:pt x="1025" y="333"/>
                          </a:lnTo>
                          <a:lnTo>
                            <a:pt x="1005" y="366"/>
                          </a:lnTo>
                          <a:lnTo>
                            <a:pt x="982" y="399"/>
                          </a:lnTo>
                          <a:lnTo>
                            <a:pt x="958" y="431"/>
                          </a:lnTo>
                          <a:lnTo>
                            <a:pt x="933" y="462"/>
                          </a:lnTo>
                          <a:lnTo>
                            <a:pt x="905" y="491"/>
                          </a:lnTo>
                          <a:lnTo>
                            <a:pt x="877" y="521"/>
                          </a:lnTo>
                          <a:lnTo>
                            <a:pt x="848" y="550"/>
                          </a:lnTo>
                          <a:lnTo>
                            <a:pt x="818" y="579"/>
                          </a:lnTo>
                          <a:lnTo>
                            <a:pt x="788" y="606"/>
                          </a:lnTo>
                          <a:lnTo>
                            <a:pt x="757" y="633"/>
                          </a:lnTo>
                          <a:lnTo>
                            <a:pt x="726" y="660"/>
                          </a:lnTo>
                          <a:lnTo>
                            <a:pt x="697" y="685"/>
                          </a:lnTo>
                          <a:lnTo>
                            <a:pt x="668" y="710"/>
                          </a:lnTo>
                          <a:lnTo>
                            <a:pt x="637" y="733"/>
                          </a:lnTo>
                          <a:lnTo>
                            <a:pt x="606" y="757"/>
                          </a:lnTo>
                          <a:lnTo>
                            <a:pt x="576" y="779"/>
                          </a:lnTo>
                          <a:lnTo>
                            <a:pt x="544" y="802"/>
                          </a:lnTo>
                          <a:lnTo>
                            <a:pt x="512" y="823"/>
                          </a:lnTo>
                          <a:lnTo>
                            <a:pt x="478" y="843"/>
                          </a:lnTo>
                          <a:lnTo>
                            <a:pt x="444" y="863"/>
                          </a:lnTo>
                          <a:lnTo>
                            <a:pt x="409" y="881"/>
                          </a:lnTo>
                          <a:lnTo>
                            <a:pt x="373" y="898"/>
                          </a:lnTo>
                          <a:lnTo>
                            <a:pt x="336" y="915"/>
                          </a:lnTo>
                          <a:lnTo>
                            <a:pt x="298" y="931"/>
                          </a:lnTo>
                          <a:lnTo>
                            <a:pt x="260" y="944"/>
                          </a:lnTo>
                          <a:lnTo>
                            <a:pt x="220" y="956"/>
                          </a:lnTo>
                          <a:lnTo>
                            <a:pt x="180" y="964"/>
                          </a:lnTo>
                          <a:lnTo>
                            <a:pt x="140" y="968"/>
                          </a:lnTo>
                          <a:lnTo>
                            <a:pt x="98" y="969"/>
                          </a:lnTo>
                          <a:lnTo>
                            <a:pt x="58" y="964"/>
                          </a:lnTo>
                          <a:lnTo>
                            <a:pt x="17" y="955"/>
                          </a:lnTo>
                          <a:lnTo>
                            <a:pt x="14" y="955"/>
                          </a:lnTo>
                          <a:lnTo>
                            <a:pt x="12" y="956"/>
                          </a:lnTo>
                          <a:lnTo>
                            <a:pt x="8" y="956"/>
                          </a:lnTo>
                          <a:lnTo>
                            <a:pt x="5" y="959"/>
                          </a:lnTo>
                          <a:lnTo>
                            <a:pt x="2" y="961"/>
                          </a:lnTo>
                          <a:lnTo>
                            <a:pt x="0" y="962"/>
                          </a:lnTo>
                          <a:lnTo>
                            <a:pt x="0" y="964"/>
                          </a:lnTo>
                          <a:lnTo>
                            <a:pt x="0" y="967"/>
                          </a:lnTo>
                          <a:lnTo>
                            <a:pt x="1" y="969"/>
                          </a:lnTo>
                          <a:lnTo>
                            <a:pt x="4" y="970"/>
                          </a:lnTo>
                          <a:lnTo>
                            <a:pt x="38" y="979"/>
                          </a:lnTo>
                          <a:lnTo>
                            <a:pt x="74" y="983"/>
                          </a:lnTo>
                          <a:lnTo>
                            <a:pt x="109" y="985"/>
                          </a:lnTo>
                          <a:lnTo>
                            <a:pt x="145" y="983"/>
                          </a:lnTo>
                          <a:lnTo>
                            <a:pt x="180" y="979"/>
                          </a:lnTo>
                          <a:lnTo>
                            <a:pt x="214" y="972"/>
                          </a:lnTo>
                          <a:lnTo>
                            <a:pt x="248" y="963"/>
                          </a:lnTo>
                          <a:lnTo>
                            <a:pt x="281" y="951"/>
                          </a:lnTo>
                          <a:lnTo>
                            <a:pt x="314" y="940"/>
                          </a:lnTo>
                          <a:lnTo>
                            <a:pt x="348" y="927"/>
                          </a:lnTo>
                          <a:lnTo>
                            <a:pt x="385" y="909"/>
                          </a:lnTo>
                          <a:lnTo>
                            <a:pt x="424" y="890"/>
                          </a:lnTo>
                          <a:lnTo>
                            <a:pt x="460" y="870"/>
                          </a:lnTo>
                          <a:lnTo>
                            <a:pt x="497" y="850"/>
                          </a:lnTo>
                          <a:lnTo>
                            <a:pt x="532" y="828"/>
                          </a:lnTo>
                          <a:lnTo>
                            <a:pt x="566" y="805"/>
                          </a:lnTo>
                          <a:lnTo>
                            <a:pt x="600" y="782"/>
                          </a:lnTo>
                          <a:lnTo>
                            <a:pt x="633" y="757"/>
                          </a:lnTo>
                          <a:lnTo>
                            <a:pt x="665" y="732"/>
                          </a:lnTo>
                          <a:lnTo>
                            <a:pt x="697" y="705"/>
                          </a:lnTo>
                          <a:lnTo>
                            <a:pt x="732" y="676"/>
                          </a:lnTo>
                          <a:lnTo>
                            <a:pt x="766" y="646"/>
                          </a:lnTo>
                          <a:lnTo>
                            <a:pt x="801" y="615"/>
                          </a:lnTo>
                          <a:lnTo>
                            <a:pt x="834" y="584"/>
                          </a:lnTo>
                          <a:lnTo>
                            <a:pt x="868" y="553"/>
                          </a:lnTo>
                          <a:lnTo>
                            <a:pt x="900" y="521"/>
                          </a:lnTo>
                          <a:lnTo>
                            <a:pt x="930" y="488"/>
                          </a:lnTo>
                          <a:lnTo>
                            <a:pt x="960" y="455"/>
                          </a:lnTo>
                          <a:lnTo>
                            <a:pt x="988" y="419"/>
                          </a:lnTo>
                          <a:lnTo>
                            <a:pt x="1014" y="384"/>
                          </a:lnTo>
                          <a:lnTo>
                            <a:pt x="1037" y="348"/>
                          </a:lnTo>
                          <a:lnTo>
                            <a:pt x="1057" y="313"/>
                          </a:lnTo>
                          <a:lnTo>
                            <a:pt x="1074" y="276"/>
                          </a:lnTo>
                          <a:lnTo>
                            <a:pt x="1089" y="240"/>
                          </a:lnTo>
                          <a:lnTo>
                            <a:pt x="1101" y="202"/>
                          </a:lnTo>
                          <a:lnTo>
                            <a:pt x="1109" y="164"/>
                          </a:lnTo>
                          <a:lnTo>
                            <a:pt x="1116" y="125"/>
                          </a:lnTo>
                          <a:lnTo>
                            <a:pt x="1120" y="86"/>
                          </a:lnTo>
                          <a:lnTo>
                            <a:pt x="1120" y="46"/>
                          </a:lnTo>
                          <a:lnTo>
                            <a:pt x="1118" y="6"/>
                          </a:lnTo>
                          <a:lnTo>
                            <a:pt x="1117" y="4"/>
                          </a:lnTo>
                          <a:lnTo>
                            <a:pt x="1116" y="1"/>
                          </a:lnTo>
                          <a:lnTo>
                            <a:pt x="1113" y="0"/>
                          </a:lnTo>
                          <a:lnTo>
                            <a:pt x="1110" y="0"/>
                          </a:lnTo>
                          <a:lnTo>
                            <a:pt x="1106" y="1"/>
                          </a:lnTo>
                          <a:lnTo>
                            <a:pt x="1104" y="3"/>
                          </a:lnTo>
                          <a:lnTo>
                            <a:pt x="1101" y="4"/>
                          </a:lnTo>
                          <a:lnTo>
                            <a:pt x="1098" y="6"/>
                          </a:lnTo>
                          <a:lnTo>
                            <a:pt x="1097" y="8"/>
                          </a:lnTo>
                          <a:lnTo>
                            <a:pt x="1097" y="11"/>
                          </a:lnTo>
                          <a:lnTo>
                            <a:pt x="1096" y="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09560" y="2299680"/>
                      <a:ext cx="73440" cy="13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" h="201">
                          <a:moveTo>
                            <a:pt x="69" y="3"/>
                          </a:moveTo>
                          <a:lnTo>
                            <a:pt x="58" y="13"/>
                          </a:lnTo>
                          <a:lnTo>
                            <a:pt x="49" y="24"/>
                          </a:lnTo>
                          <a:lnTo>
                            <a:pt x="38" y="35"/>
                          </a:lnTo>
                          <a:lnTo>
                            <a:pt x="29" y="47"/>
                          </a:lnTo>
                          <a:lnTo>
                            <a:pt x="20" y="59"/>
                          </a:lnTo>
                          <a:lnTo>
                            <a:pt x="12" y="72"/>
                          </a:lnTo>
                          <a:lnTo>
                            <a:pt x="6" y="86"/>
                          </a:lnTo>
                          <a:lnTo>
                            <a:pt x="2" y="99"/>
                          </a:lnTo>
                          <a:lnTo>
                            <a:pt x="0" y="113"/>
                          </a:lnTo>
                          <a:lnTo>
                            <a:pt x="0" y="126"/>
                          </a:lnTo>
                          <a:lnTo>
                            <a:pt x="2" y="139"/>
                          </a:lnTo>
                          <a:lnTo>
                            <a:pt x="8" y="150"/>
                          </a:lnTo>
                          <a:lnTo>
                            <a:pt x="16" y="159"/>
                          </a:lnTo>
                          <a:lnTo>
                            <a:pt x="24" y="167"/>
                          </a:lnTo>
                          <a:lnTo>
                            <a:pt x="34" y="175"/>
                          </a:lnTo>
                          <a:lnTo>
                            <a:pt x="46" y="182"/>
                          </a:lnTo>
                          <a:lnTo>
                            <a:pt x="58" y="186"/>
                          </a:lnTo>
                          <a:lnTo>
                            <a:pt x="72" y="191"/>
                          </a:lnTo>
                          <a:lnTo>
                            <a:pt x="85" y="196"/>
                          </a:lnTo>
                          <a:lnTo>
                            <a:pt x="97" y="199"/>
                          </a:lnTo>
                          <a:lnTo>
                            <a:pt x="100" y="201"/>
                          </a:lnTo>
                          <a:lnTo>
                            <a:pt x="104" y="199"/>
                          </a:lnTo>
                          <a:lnTo>
                            <a:pt x="106" y="198"/>
                          </a:lnTo>
                          <a:lnTo>
                            <a:pt x="109" y="197"/>
                          </a:lnTo>
                          <a:lnTo>
                            <a:pt x="112" y="195"/>
                          </a:lnTo>
                          <a:lnTo>
                            <a:pt x="113" y="192"/>
                          </a:lnTo>
                          <a:lnTo>
                            <a:pt x="113" y="190"/>
                          </a:lnTo>
                          <a:lnTo>
                            <a:pt x="113" y="188"/>
                          </a:lnTo>
                          <a:lnTo>
                            <a:pt x="112" y="185"/>
                          </a:lnTo>
                          <a:lnTo>
                            <a:pt x="109" y="184"/>
                          </a:lnTo>
                          <a:lnTo>
                            <a:pt x="100" y="180"/>
                          </a:lnTo>
                          <a:lnTo>
                            <a:pt x="90" y="178"/>
                          </a:lnTo>
                          <a:lnTo>
                            <a:pt x="81" y="175"/>
                          </a:lnTo>
                          <a:lnTo>
                            <a:pt x="72" y="171"/>
                          </a:lnTo>
                          <a:lnTo>
                            <a:pt x="64" y="167"/>
                          </a:lnTo>
                          <a:lnTo>
                            <a:pt x="54" y="163"/>
                          </a:lnTo>
                          <a:lnTo>
                            <a:pt x="46" y="158"/>
                          </a:lnTo>
                          <a:lnTo>
                            <a:pt x="40" y="153"/>
                          </a:lnTo>
                          <a:lnTo>
                            <a:pt x="33" y="146"/>
                          </a:lnTo>
                          <a:lnTo>
                            <a:pt x="26" y="139"/>
                          </a:lnTo>
                          <a:lnTo>
                            <a:pt x="20" y="127"/>
                          </a:lnTo>
                          <a:lnTo>
                            <a:pt x="18" y="113"/>
                          </a:lnTo>
                          <a:lnTo>
                            <a:pt x="20" y="99"/>
                          </a:lnTo>
                          <a:lnTo>
                            <a:pt x="25" y="85"/>
                          </a:lnTo>
                          <a:lnTo>
                            <a:pt x="33" y="71"/>
                          </a:lnTo>
                          <a:lnTo>
                            <a:pt x="42" y="57"/>
                          </a:lnTo>
                          <a:lnTo>
                            <a:pt x="53" y="44"/>
                          </a:lnTo>
                          <a:lnTo>
                            <a:pt x="64" y="32"/>
                          </a:lnTo>
                          <a:lnTo>
                            <a:pt x="74" y="21"/>
                          </a:lnTo>
                          <a:lnTo>
                            <a:pt x="84" y="12"/>
                          </a:lnTo>
                          <a:lnTo>
                            <a:pt x="85" y="9"/>
                          </a:lnTo>
                          <a:lnTo>
                            <a:pt x="86" y="7"/>
                          </a:lnTo>
                          <a:lnTo>
                            <a:pt x="86" y="5"/>
                          </a:lnTo>
                          <a:lnTo>
                            <a:pt x="85" y="2"/>
                          </a:lnTo>
                          <a:lnTo>
                            <a:pt x="84" y="1"/>
                          </a:lnTo>
                          <a:lnTo>
                            <a:pt x="81" y="0"/>
                          </a:lnTo>
                          <a:lnTo>
                            <a:pt x="78" y="0"/>
                          </a:lnTo>
                          <a:lnTo>
                            <a:pt x="74" y="1"/>
                          </a:lnTo>
                          <a:lnTo>
                            <a:pt x="72" y="2"/>
                          </a:lnTo>
                          <a:lnTo>
                            <a:pt x="69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691560" y="2372760"/>
                      <a:ext cx="7092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17">
                          <a:moveTo>
                            <a:pt x="12" y="11"/>
                          </a:moveTo>
                          <a:lnTo>
                            <a:pt x="12" y="18"/>
                          </a:lnTo>
                          <a:lnTo>
                            <a:pt x="12" y="25"/>
                          </a:lnTo>
                          <a:lnTo>
                            <a:pt x="12" y="31"/>
                          </a:lnTo>
                          <a:lnTo>
                            <a:pt x="11" y="37"/>
                          </a:lnTo>
                          <a:lnTo>
                            <a:pt x="11" y="44"/>
                          </a:lnTo>
                          <a:lnTo>
                            <a:pt x="9" y="50"/>
                          </a:lnTo>
                          <a:lnTo>
                            <a:pt x="8" y="55"/>
                          </a:lnTo>
                          <a:lnTo>
                            <a:pt x="7" y="63"/>
                          </a:lnTo>
                          <a:lnTo>
                            <a:pt x="4" y="68"/>
                          </a:lnTo>
                          <a:lnTo>
                            <a:pt x="1" y="74"/>
                          </a:lnTo>
                          <a:lnTo>
                            <a:pt x="0" y="79"/>
                          </a:lnTo>
                          <a:lnTo>
                            <a:pt x="0" y="84"/>
                          </a:lnTo>
                          <a:lnTo>
                            <a:pt x="0" y="89"/>
                          </a:lnTo>
                          <a:lnTo>
                            <a:pt x="1" y="92"/>
                          </a:lnTo>
                          <a:lnTo>
                            <a:pt x="3" y="97"/>
                          </a:lnTo>
                          <a:lnTo>
                            <a:pt x="5" y="100"/>
                          </a:lnTo>
                          <a:lnTo>
                            <a:pt x="8" y="104"/>
                          </a:lnTo>
                          <a:lnTo>
                            <a:pt x="11" y="107"/>
                          </a:lnTo>
                          <a:lnTo>
                            <a:pt x="15" y="111"/>
                          </a:lnTo>
                          <a:lnTo>
                            <a:pt x="19" y="113"/>
                          </a:lnTo>
                          <a:lnTo>
                            <a:pt x="27" y="117"/>
                          </a:lnTo>
                          <a:lnTo>
                            <a:pt x="36" y="117"/>
                          </a:lnTo>
                          <a:lnTo>
                            <a:pt x="47" y="117"/>
                          </a:lnTo>
                          <a:lnTo>
                            <a:pt x="57" y="113"/>
                          </a:lnTo>
                          <a:lnTo>
                            <a:pt x="67" y="110"/>
                          </a:lnTo>
                          <a:lnTo>
                            <a:pt x="77" y="104"/>
                          </a:lnTo>
                          <a:lnTo>
                            <a:pt x="87" y="98"/>
                          </a:lnTo>
                          <a:lnTo>
                            <a:pt x="95" y="92"/>
                          </a:lnTo>
                          <a:lnTo>
                            <a:pt x="101" y="86"/>
                          </a:lnTo>
                          <a:lnTo>
                            <a:pt x="107" y="80"/>
                          </a:lnTo>
                          <a:lnTo>
                            <a:pt x="108" y="77"/>
                          </a:lnTo>
                          <a:lnTo>
                            <a:pt x="109" y="74"/>
                          </a:lnTo>
                          <a:lnTo>
                            <a:pt x="108" y="72"/>
                          </a:lnTo>
                          <a:lnTo>
                            <a:pt x="107" y="70"/>
                          </a:lnTo>
                          <a:lnTo>
                            <a:pt x="105" y="68"/>
                          </a:lnTo>
                          <a:lnTo>
                            <a:pt x="103" y="68"/>
                          </a:lnTo>
                          <a:lnTo>
                            <a:pt x="100" y="68"/>
                          </a:lnTo>
                          <a:lnTo>
                            <a:pt x="97" y="68"/>
                          </a:lnTo>
                          <a:lnTo>
                            <a:pt x="95" y="71"/>
                          </a:lnTo>
                          <a:lnTo>
                            <a:pt x="92" y="73"/>
                          </a:lnTo>
                          <a:lnTo>
                            <a:pt x="87" y="78"/>
                          </a:lnTo>
                          <a:lnTo>
                            <a:pt x="81" y="84"/>
                          </a:lnTo>
                          <a:lnTo>
                            <a:pt x="73" y="89"/>
                          </a:lnTo>
                          <a:lnTo>
                            <a:pt x="65" y="93"/>
                          </a:lnTo>
                          <a:lnTo>
                            <a:pt x="57" y="96"/>
                          </a:lnTo>
                          <a:lnTo>
                            <a:pt x="49" y="98"/>
                          </a:lnTo>
                          <a:lnTo>
                            <a:pt x="41" y="99"/>
                          </a:lnTo>
                          <a:lnTo>
                            <a:pt x="33" y="97"/>
                          </a:lnTo>
                          <a:lnTo>
                            <a:pt x="27" y="93"/>
                          </a:lnTo>
                          <a:lnTo>
                            <a:pt x="23" y="87"/>
                          </a:lnTo>
                          <a:lnTo>
                            <a:pt x="21" y="84"/>
                          </a:lnTo>
                          <a:lnTo>
                            <a:pt x="20" y="80"/>
                          </a:lnTo>
                          <a:lnTo>
                            <a:pt x="20" y="77"/>
                          </a:lnTo>
                          <a:lnTo>
                            <a:pt x="21" y="73"/>
                          </a:lnTo>
                          <a:lnTo>
                            <a:pt x="23" y="70"/>
                          </a:lnTo>
                          <a:lnTo>
                            <a:pt x="24" y="65"/>
                          </a:lnTo>
                          <a:lnTo>
                            <a:pt x="25" y="61"/>
                          </a:lnTo>
                          <a:lnTo>
                            <a:pt x="27" y="58"/>
                          </a:lnTo>
                          <a:lnTo>
                            <a:pt x="28" y="54"/>
                          </a:lnTo>
                          <a:lnTo>
                            <a:pt x="29" y="51"/>
                          </a:lnTo>
                          <a:lnTo>
                            <a:pt x="31" y="47"/>
                          </a:lnTo>
                          <a:lnTo>
                            <a:pt x="31" y="43"/>
                          </a:lnTo>
                          <a:lnTo>
                            <a:pt x="32" y="38"/>
                          </a:lnTo>
                          <a:lnTo>
                            <a:pt x="32" y="33"/>
                          </a:lnTo>
                          <a:lnTo>
                            <a:pt x="32" y="28"/>
                          </a:lnTo>
                          <a:lnTo>
                            <a:pt x="32" y="24"/>
                          </a:lnTo>
                          <a:lnTo>
                            <a:pt x="32" y="19"/>
                          </a:lnTo>
                          <a:lnTo>
                            <a:pt x="32" y="14"/>
                          </a:lnTo>
                          <a:lnTo>
                            <a:pt x="32" y="9"/>
                          </a:lnTo>
                          <a:lnTo>
                            <a:pt x="32" y="5"/>
                          </a:lnTo>
                          <a:lnTo>
                            <a:pt x="32" y="2"/>
                          </a:lnTo>
                          <a:lnTo>
                            <a:pt x="31" y="1"/>
                          </a:lnTo>
                          <a:lnTo>
                            <a:pt x="28" y="0"/>
                          </a:lnTo>
                          <a:lnTo>
                            <a:pt x="25" y="0"/>
                          </a:lnTo>
                          <a:lnTo>
                            <a:pt x="23" y="0"/>
                          </a:lnTo>
                          <a:lnTo>
                            <a:pt x="19" y="2"/>
                          </a:lnTo>
                          <a:lnTo>
                            <a:pt x="16" y="4"/>
                          </a:lnTo>
                          <a:lnTo>
                            <a:pt x="15" y="6"/>
                          </a:lnTo>
                          <a:lnTo>
                            <a:pt x="12" y="8"/>
                          </a:lnTo>
                          <a:lnTo>
                            <a:pt x="12" y="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701640" y="2435760"/>
                      <a:ext cx="114480" cy="7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" h="108">
                          <a:moveTo>
                            <a:pt x="5" y="15"/>
                          </a:moveTo>
                          <a:lnTo>
                            <a:pt x="14" y="17"/>
                          </a:lnTo>
                          <a:lnTo>
                            <a:pt x="22" y="21"/>
                          </a:lnTo>
                          <a:lnTo>
                            <a:pt x="30" y="24"/>
                          </a:lnTo>
                          <a:lnTo>
                            <a:pt x="37" y="29"/>
                          </a:lnTo>
                          <a:lnTo>
                            <a:pt x="45" y="34"/>
                          </a:lnTo>
                          <a:lnTo>
                            <a:pt x="52" y="40"/>
                          </a:lnTo>
                          <a:lnTo>
                            <a:pt x="58" y="44"/>
                          </a:lnTo>
                          <a:lnTo>
                            <a:pt x="66" y="50"/>
                          </a:lnTo>
                          <a:lnTo>
                            <a:pt x="73" y="55"/>
                          </a:lnTo>
                          <a:lnTo>
                            <a:pt x="81" y="59"/>
                          </a:lnTo>
                          <a:lnTo>
                            <a:pt x="89" y="63"/>
                          </a:lnTo>
                          <a:lnTo>
                            <a:pt x="97" y="68"/>
                          </a:lnTo>
                          <a:lnTo>
                            <a:pt x="104" y="72"/>
                          </a:lnTo>
                          <a:lnTo>
                            <a:pt x="112" y="78"/>
                          </a:lnTo>
                          <a:lnTo>
                            <a:pt x="120" y="82"/>
                          </a:lnTo>
                          <a:lnTo>
                            <a:pt x="128" y="87"/>
                          </a:lnTo>
                          <a:lnTo>
                            <a:pt x="134" y="92"/>
                          </a:lnTo>
                          <a:lnTo>
                            <a:pt x="142" y="96"/>
                          </a:lnTo>
                          <a:lnTo>
                            <a:pt x="150" y="101"/>
                          </a:lnTo>
                          <a:lnTo>
                            <a:pt x="157" y="107"/>
                          </a:lnTo>
                          <a:lnTo>
                            <a:pt x="160" y="107"/>
                          </a:lnTo>
                          <a:lnTo>
                            <a:pt x="164" y="108"/>
                          </a:lnTo>
                          <a:lnTo>
                            <a:pt x="166" y="107"/>
                          </a:lnTo>
                          <a:lnTo>
                            <a:pt x="169" y="106"/>
                          </a:lnTo>
                          <a:lnTo>
                            <a:pt x="172" y="103"/>
                          </a:lnTo>
                          <a:lnTo>
                            <a:pt x="174" y="102"/>
                          </a:lnTo>
                          <a:lnTo>
                            <a:pt x="176" y="100"/>
                          </a:lnTo>
                          <a:lnTo>
                            <a:pt x="176" y="98"/>
                          </a:lnTo>
                          <a:lnTo>
                            <a:pt x="176" y="95"/>
                          </a:lnTo>
                          <a:lnTo>
                            <a:pt x="173" y="93"/>
                          </a:lnTo>
                          <a:lnTo>
                            <a:pt x="165" y="88"/>
                          </a:lnTo>
                          <a:lnTo>
                            <a:pt x="157" y="83"/>
                          </a:lnTo>
                          <a:lnTo>
                            <a:pt x="149" y="79"/>
                          </a:lnTo>
                          <a:lnTo>
                            <a:pt x="142" y="74"/>
                          </a:lnTo>
                          <a:lnTo>
                            <a:pt x="134" y="69"/>
                          </a:lnTo>
                          <a:lnTo>
                            <a:pt x="126" y="65"/>
                          </a:lnTo>
                          <a:lnTo>
                            <a:pt x="118" y="60"/>
                          </a:lnTo>
                          <a:lnTo>
                            <a:pt x="112" y="55"/>
                          </a:lnTo>
                          <a:lnTo>
                            <a:pt x="104" y="50"/>
                          </a:lnTo>
                          <a:lnTo>
                            <a:pt x="96" y="46"/>
                          </a:lnTo>
                          <a:lnTo>
                            <a:pt x="88" y="41"/>
                          </a:lnTo>
                          <a:lnTo>
                            <a:pt x="81" y="35"/>
                          </a:lnTo>
                          <a:lnTo>
                            <a:pt x="73" y="30"/>
                          </a:lnTo>
                          <a:lnTo>
                            <a:pt x="65" y="24"/>
                          </a:lnTo>
                          <a:lnTo>
                            <a:pt x="58" y="20"/>
                          </a:lnTo>
                          <a:lnTo>
                            <a:pt x="50" y="15"/>
                          </a:lnTo>
                          <a:lnTo>
                            <a:pt x="42" y="10"/>
                          </a:lnTo>
                          <a:lnTo>
                            <a:pt x="34" y="6"/>
                          </a:lnTo>
                          <a:lnTo>
                            <a:pt x="25" y="3"/>
                          </a:lnTo>
                          <a:lnTo>
                            <a:pt x="17" y="0"/>
                          </a:lnTo>
                          <a:lnTo>
                            <a:pt x="13" y="0"/>
                          </a:lnTo>
                          <a:lnTo>
                            <a:pt x="10" y="1"/>
                          </a:lnTo>
                          <a:lnTo>
                            <a:pt x="8" y="2"/>
                          </a:lnTo>
                          <a:lnTo>
                            <a:pt x="4" y="3"/>
                          </a:lnTo>
                          <a:lnTo>
                            <a:pt x="2" y="6"/>
                          </a:lnTo>
                          <a:lnTo>
                            <a:pt x="1" y="8"/>
                          </a:lnTo>
                          <a:lnTo>
                            <a:pt x="0" y="10"/>
                          </a:lnTo>
                          <a:lnTo>
                            <a:pt x="1" y="13"/>
                          </a:lnTo>
                          <a:lnTo>
                            <a:pt x="2" y="14"/>
                          </a:lnTo>
                          <a:lnTo>
                            <a:pt x="6" y="15"/>
                          </a:lnTo>
                          <a:lnTo>
                            <a:pt x="5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1271160" y="2034360"/>
                      <a:ext cx="84960" cy="9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1" h="152">
                          <a:moveTo>
                            <a:pt x="107" y="7"/>
                          </a:moveTo>
                          <a:lnTo>
                            <a:pt x="99" y="22"/>
                          </a:lnTo>
                          <a:lnTo>
                            <a:pt x="90" y="36"/>
                          </a:lnTo>
                          <a:lnTo>
                            <a:pt x="80" y="51"/>
                          </a:lnTo>
                          <a:lnTo>
                            <a:pt x="68" y="64"/>
                          </a:lnTo>
                          <a:lnTo>
                            <a:pt x="58" y="77"/>
                          </a:lnTo>
                          <a:lnTo>
                            <a:pt x="46" y="90"/>
                          </a:lnTo>
                          <a:lnTo>
                            <a:pt x="34" y="103"/>
                          </a:lnTo>
                          <a:lnTo>
                            <a:pt x="23" y="116"/>
                          </a:lnTo>
                          <a:lnTo>
                            <a:pt x="12" y="129"/>
                          </a:lnTo>
                          <a:lnTo>
                            <a:pt x="2" y="143"/>
                          </a:lnTo>
                          <a:lnTo>
                            <a:pt x="0" y="146"/>
                          </a:lnTo>
                          <a:lnTo>
                            <a:pt x="2" y="149"/>
                          </a:lnTo>
                          <a:lnTo>
                            <a:pt x="3" y="150"/>
                          </a:lnTo>
                          <a:lnTo>
                            <a:pt x="6" y="151"/>
                          </a:lnTo>
                          <a:lnTo>
                            <a:pt x="8" y="152"/>
                          </a:lnTo>
                          <a:lnTo>
                            <a:pt x="12" y="151"/>
                          </a:lnTo>
                          <a:lnTo>
                            <a:pt x="16" y="151"/>
                          </a:lnTo>
                          <a:lnTo>
                            <a:pt x="19" y="149"/>
                          </a:lnTo>
                          <a:lnTo>
                            <a:pt x="22" y="147"/>
                          </a:lnTo>
                          <a:lnTo>
                            <a:pt x="24" y="145"/>
                          </a:lnTo>
                          <a:lnTo>
                            <a:pt x="34" y="131"/>
                          </a:lnTo>
                          <a:lnTo>
                            <a:pt x="44" y="117"/>
                          </a:lnTo>
                          <a:lnTo>
                            <a:pt x="56" y="104"/>
                          </a:lnTo>
                          <a:lnTo>
                            <a:pt x="68" y="91"/>
                          </a:lnTo>
                          <a:lnTo>
                            <a:pt x="79" y="78"/>
                          </a:lnTo>
                          <a:lnTo>
                            <a:pt x="91" y="65"/>
                          </a:lnTo>
                          <a:lnTo>
                            <a:pt x="102" y="52"/>
                          </a:lnTo>
                          <a:lnTo>
                            <a:pt x="112" y="39"/>
                          </a:lnTo>
                          <a:lnTo>
                            <a:pt x="122" y="23"/>
                          </a:lnTo>
                          <a:lnTo>
                            <a:pt x="130" y="9"/>
                          </a:lnTo>
                          <a:lnTo>
                            <a:pt x="131" y="6"/>
                          </a:lnTo>
                          <a:lnTo>
                            <a:pt x="130" y="2"/>
                          </a:lnTo>
                          <a:lnTo>
                            <a:pt x="128" y="1"/>
                          </a:lnTo>
                          <a:lnTo>
                            <a:pt x="126" y="0"/>
                          </a:lnTo>
                          <a:lnTo>
                            <a:pt x="123" y="0"/>
                          </a:lnTo>
                          <a:lnTo>
                            <a:pt x="119" y="0"/>
                          </a:lnTo>
                          <a:lnTo>
                            <a:pt x="115" y="1"/>
                          </a:lnTo>
                          <a:lnTo>
                            <a:pt x="112" y="2"/>
                          </a:lnTo>
                          <a:lnTo>
                            <a:pt x="110" y="5"/>
                          </a:lnTo>
                          <a:lnTo>
                            <a:pt x="107" y="7"/>
                          </a:lnTo>
                          <a:close/>
                        </a:path>
                      </a:pathLst>
                    </a:custGeom>
                    <a:solidFill>
                      <a:srgbClr val="802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1195560" y="2109960"/>
                      <a:ext cx="6912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95">
                          <a:moveTo>
                            <a:pt x="86" y="4"/>
                          </a:moveTo>
                          <a:lnTo>
                            <a:pt x="78" y="13"/>
                          </a:lnTo>
                          <a:lnTo>
                            <a:pt x="70" y="21"/>
                          </a:lnTo>
                          <a:lnTo>
                            <a:pt x="60" y="28"/>
                          </a:lnTo>
                          <a:lnTo>
                            <a:pt x="52" y="35"/>
                          </a:lnTo>
                          <a:lnTo>
                            <a:pt x="43" y="43"/>
                          </a:lnTo>
                          <a:lnTo>
                            <a:pt x="35" y="50"/>
                          </a:lnTo>
                          <a:lnTo>
                            <a:pt x="26" y="57"/>
                          </a:lnTo>
                          <a:lnTo>
                            <a:pt x="18" y="66"/>
                          </a:lnTo>
                          <a:lnTo>
                            <a:pt x="10" y="74"/>
                          </a:lnTo>
                          <a:lnTo>
                            <a:pt x="3" y="82"/>
                          </a:lnTo>
                          <a:lnTo>
                            <a:pt x="0" y="86"/>
                          </a:lnTo>
                          <a:lnTo>
                            <a:pt x="0" y="89"/>
                          </a:lnTo>
                          <a:lnTo>
                            <a:pt x="0" y="92"/>
                          </a:lnTo>
                          <a:lnTo>
                            <a:pt x="2" y="93"/>
                          </a:lnTo>
                          <a:lnTo>
                            <a:pt x="4" y="94"/>
                          </a:lnTo>
                          <a:lnTo>
                            <a:pt x="7" y="95"/>
                          </a:lnTo>
                          <a:lnTo>
                            <a:pt x="10" y="95"/>
                          </a:lnTo>
                          <a:lnTo>
                            <a:pt x="14" y="94"/>
                          </a:lnTo>
                          <a:lnTo>
                            <a:pt x="16" y="93"/>
                          </a:lnTo>
                          <a:lnTo>
                            <a:pt x="19" y="89"/>
                          </a:lnTo>
                          <a:lnTo>
                            <a:pt x="27" y="81"/>
                          </a:lnTo>
                          <a:lnTo>
                            <a:pt x="35" y="73"/>
                          </a:lnTo>
                          <a:lnTo>
                            <a:pt x="43" y="66"/>
                          </a:lnTo>
                          <a:lnTo>
                            <a:pt x="51" y="57"/>
                          </a:lnTo>
                          <a:lnTo>
                            <a:pt x="60" y="50"/>
                          </a:lnTo>
                          <a:lnTo>
                            <a:pt x="68" y="43"/>
                          </a:lnTo>
                          <a:lnTo>
                            <a:pt x="78" y="35"/>
                          </a:lnTo>
                          <a:lnTo>
                            <a:pt x="86" y="28"/>
                          </a:lnTo>
                          <a:lnTo>
                            <a:pt x="95" y="20"/>
                          </a:lnTo>
                          <a:lnTo>
                            <a:pt x="103" y="13"/>
                          </a:lnTo>
                          <a:lnTo>
                            <a:pt x="106" y="9"/>
                          </a:lnTo>
                          <a:lnTo>
                            <a:pt x="106" y="7"/>
                          </a:lnTo>
                          <a:lnTo>
                            <a:pt x="106" y="4"/>
                          </a:lnTo>
                          <a:lnTo>
                            <a:pt x="104" y="2"/>
                          </a:lnTo>
                          <a:lnTo>
                            <a:pt x="102" y="1"/>
                          </a:lnTo>
                          <a:lnTo>
                            <a:pt x="99" y="0"/>
                          </a:lnTo>
                          <a:lnTo>
                            <a:pt x="96" y="0"/>
                          </a:lnTo>
                          <a:lnTo>
                            <a:pt x="92" y="1"/>
                          </a:lnTo>
                          <a:lnTo>
                            <a:pt x="88" y="2"/>
                          </a:lnTo>
                          <a:lnTo>
                            <a:pt x="86" y="4"/>
                          </a:lnTo>
                          <a:close/>
                        </a:path>
                      </a:pathLst>
                    </a:custGeom>
                    <a:solidFill>
                      <a:srgbClr val="802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1144800" y="2313000"/>
                      <a:ext cx="99720" cy="6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3" h="104">
                          <a:moveTo>
                            <a:pt x="133" y="4"/>
                          </a:moveTo>
                          <a:lnTo>
                            <a:pt x="124" y="14"/>
                          </a:lnTo>
                          <a:lnTo>
                            <a:pt x="113" y="24"/>
                          </a:lnTo>
                          <a:lnTo>
                            <a:pt x="101" y="33"/>
                          </a:lnTo>
                          <a:lnTo>
                            <a:pt x="90" y="44"/>
                          </a:lnTo>
                          <a:lnTo>
                            <a:pt x="78" y="52"/>
                          </a:lnTo>
                          <a:lnTo>
                            <a:pt x="66" y="61"/>
                          </a:lnTo>
                          <a:lnTo>
                            <a:pt x="53" y="68"/>
                          </a:lnTo>
                          <a:lnTo>
                            <a:pt x="40" y="75"/>
                          </a:lnTo>
                          <a:lnTo>
                            <a:pt x="26" y="81"/>
                          </a:lnTo>
                          <a:lnTo>
                            <a:pt x="12" y="85"/>
                          </a:lnTo>
                          <a:lnTo>
                            <a:pt x="8" y="86"/>
                          </a:lnTo>
                          <a:lnTo>
                            <a:pt x="5" y="88"/>
                          </a:lnTo>
                          <a:lnTo>
                            <a:pt x="2" y="91"/>
                          </a:lnTo>
                          <a:lnTo>
                            <a:pt x="1" y="93"/>
                          </a:lnTo>
                          <a:lnTo>
                            <a:pt x="0" y="96"/>
                          </a:lnTo>
                          <a:lnTo>
                            <a:pt x="0" y="99"/>
                          </a:lnTo>
                          <a:lnTo>
                            <a:pt x="0" y="101"/>
                          </a:lnTo>
                          <a:lnTo>
                            <a:pt x="2" y="103"/>
                          </a:lnTo>
                          <a:lnTo>
                            <a:pt x="5" y="104"/>
                          </a:lnTo>
                          <a:lnTo>
                            <a:pt x="9" y="103"/>
                          </a:lnTo>
                          <a:lnTo>
                            <a:pt x="26" y="99"/>
                          </a:lnTo>
                          <a:lnTo>
                            <a:pt x="42" y="93"/>
                          </a:lnTo>
                          <a:lnTo>
                            <a:pt x="57" y="85"/>
                          </a:lnTo>
                          <a:lnTo>
                            <a:pt x="72" y="77"/>
                          </a:lnTo>
                          <a:lnTo>
                            <a:pt x="86" y="67"/>
                          </a:lnTo>
                          <a:lnTo>
                            <a:pt x="100" y="57"/>
                          </a:lnTo>
                          <a:lnTo>
                            <a:pt x="113" y="46"/>
                          </a:lnTo>
                          <a:lnTo>
                            <a:pt x="125" y="35"/>
                          </a:lnTo>
                          <a:lnTo>
                            <a:pt x="137" y="24"/>
                          </a:lnTo>
                          <a:lnTo>
                            <a:pt x="149" y="13"/>
                          </a:lnTo>
                          <a:lnTo>
                            <a:pt x="152" y="11"/>
                          </a:lnTo>
                          <a:lnTo>
                            <a:pt x="153" y="7"/>
                          </a:lnTo>
                          <a:lnTo>
                            <a:pt x="153" y="5"/>
                          </a:lnTo>
                          <a:lnTo>
                            <a:pt x="152" y="2"/>
                          </a:lnTo>
                          <a:lnTo>
                            <a:pt x="150" y="1"/>
                          </a:lnTo>
                          <a:lnTo>
                            <a:pt x="148" y="0"/>
                          </a:lnTo>
                          <a:lnTo>
                            <a:pt x="144" y="0"/>
                          </a:lnTo>
                          <a:lnTo>
                            <a:pt x="141" y="0"/>
                          </a:lnTo>
                          <a:lnTo>
                            <a:pt x="137" y="2"/>
                          </a:lnTo>
                          <a:lnTo>
                            <a:pt x="134" y="4"/>
                          </a:lnTo>
                          <a:lnTo>
                            <a:pt x="133" y="4"/>
                          </a:lnTo>
                          <a:close/>
                        </a:path>
                      </a:pathLst>
                    </a:custGeom>
                    <a:solidFill>
                      <a:srgbClr val="4d17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1124640" y="2382480"/>
                      <a:ext cx="5112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" h="43">
                          <a:moveTo>
                            <a:pt x="61" y="4"/>
                          </a:moveTo>
                          <a:lnTo>
                            <a:pt x="57" y="7"/>
                          </a:lnTo>
                          <a:lnTo>
                            <a:pt x="52" y="10"/>
                          </a:lnTo>
                          <a:lnTo>
                            <a:pt x="47" y="12"/>
                          </a:lnTo>
                          <a:lnTo>
                            <a:pt x="41" y="13"/>
                          </a:lnTo>
                          <a:lnTo>
                            <a:pt x="35" y="16"/>
                          </a:lnTo>
                          <a:lnTo>
                            <a:pt x="29" y="18"/>
                          </a:lnTo>
                          <a:lnTo>
                            <a:pt x="24" y="19"/>
                          </a:lnTo>
                          <a:lnTo>
                            <a:pt x="19" y="22"/>
                          </a:lnTo>
                          <a:lnTo>
                            <a:pt x="13" y="24"/>
                          </a:lnTo>
                          <a:lnTo>
                            <a:pt x="8" y="25"/>
                          </a:lnTo>
                          <a:lnTo>
                            <a:pt x="4" y="28"/>
                          </a:lnTo>
                          <a:lnTo>
                            <a:pt x="1" y="30"/>
                          </a:lnTo>
                          <a:lnTo>
                            <a:pt x="0" y="32"/>
                          </a:lnTo>
                          <a:lnTo>
                            <a:pt x="0" y="36"/>
                          </a:lnTo>
                          <a:lnTo>
                            <a:pt x="0" y="38"/>
                          </a:lnTo>
                          <a:lnTo>
                            <a:pt x="1" y="40"/>
                          </a:lnTo>
                          <a:lnTo>
                            <a:pt x="3" y="42"/>
                          </a:lnTo>
                          <a:lnTo>
                            <a:pt x="5" y="43"/>
                          </a:lnTo>
                          <a:lnTo>
                            <a:pt x="9" y="43"/>
                          </a:lnTo>
                          <a:lnTo>
                            <a:pt x="13" y="42"/>
                          </a:lnTo>
                          <a:lnTo>
                            <a:pt x="20" y="39"/>
                          </a:lnTo>
                          <a:lnTo>
                            <a:pt x="25" y="37"/>
                          </a:lnTo>
                          <a:lnTo>
                            <a:pt x="32" y="35"/>
                          </a:lnTo>
                          <a:lnTo>
                            <a:pt x="37" y="32"/>
                          </a:lnTo>
                          <a:lnTo>
                            <a:pt x="44" y="30"/>
                          </a:lnTo>
                          <a:lnTo>
                            <a:pt x="49" y="28"/>
                          </a:lnTo>
                          <a:lnTo>
                            <a:pt x="56" y="25"/>
                          </a:lnTo>
                          <a:lnTo>
                            <a:pt x="61" y="23"/>
                          </a:lnTo>
                          <a:lnTo>
                            <a:pt x="68" y="19"/>
                          </a:lnTo>
                          <a:lnTo>
                            <a:pt x="73" y="17"/>
                          </a:lnTo>
                          <a:lnTo>
                            <a:pt x="75" y="16"/>
                          </a:lnTo>
                          <a:lnTo>
                            <a:pt x="76" y="15"/>
                          </a:lnTo>
                          <a:lnTo>
                            <a:pt x="77" y="13"/>
                          </a:lnTo>
                          <a:lnTo>
                            <a:pt x="77" y="12"/>
                          </a:lnTo>
                          <a:lnTo>
                            <a:pt x="79" y="10"/>
                          </a:lnTo>
                          <a:lnTo>
                            <a:pt x="79" y="9"/>
                          </a:lnTo>
                          <a:lnTo>
                            <a:pt x="79" y="7"/>
                          </a:lnTo>
                          <a:lnTo>
                            <a:pt x="79" y="6"/>
                          </a:lnTo>
                          <a:lnTo>
                            <a:pt x="79" y="4"/>
                          </a:lnTo>
                          <a:lnTo>
                            <a:pt x="77" y="3"/>
                          </a:lnTo>
                          <a:lnTo>
                            <a:pt x="76" y="2"/>
                          </a:lnTo>
                          <a:lnTo>
                            <a:pt x="75" y="2"/>
                          </a:lnTo>
                          <a:lnTo>
                            <a:pt x="73" y="0"/>
                          </a:lnTo>
                          <a:lnTo>
                            <a:pt x="72" y="0"/>
                          </a:lnTo>
                          <a:lnTo>
                            <a:pt x="69" y="0"/>
                          </a:lnTo>
                          <a:lnTo>
                            <a:pt x="68" y="2"/>
                          </a:lnTo>
                          <a:lnTo>
                            <a:pt x="67" y="2"/>
                          </a:lnTo>
                          <a:lnTo>
                            <a:pt x="64" y="3"/>
                          </a:lnTo>
                          <a:lnTo>
                            <a:pt x="63" y="3"/>
                          </a:lnTo>
                          <a:lnTo>
                            <a:pt x="61" y="4"/>
                          </a:lnTo>
                          <a:close/>
                        </a:path>
                      </a:pathLst>
                    </a:custGeom>
                    <a:solidFill>
                      <a:srgbClr val="4d17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898200" y="2453760"/>
                      <a:ext cx="8316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8" h="22">
                          <a:moveTo>
                            <a:pt x="120" y="0"/>
                          </a:moveTo>
                          <a:lnTo>
                            <a:pt x="111" y="1"/>
                          </a:lnTo>
                          <a:lnTo>
                            <a:pt x="99" y="1"/>
                          </a:lnTo>
                          <a:lnTo>
                            <a:pt x="88" y="1"/>
                          </a:lnTo>
                          <a:lnTo>
                            <a:pt x="78" y="1"/>
                          </a:lnTo>
                          <a:lnTo>
                            <a:pt x="67" y="1"/>
                          </a:lnTo>
                          <a:lnTo>
                            <a:pt x="56" y="2"/>
                          </a:lnTo>
                          <a:lnTo>
                            <a:pt x="46" y="2"/>
                          </a:lnTo>
                          <a:lnTo>
                            <a:pt x="35" y="3"/>
                          </a:lnTo>
                          <a:lnTo>
                            <a:pt x="24" y="3"/>
                          </a:lnTo>
                          <a:lnTo>
                            <a:pt x="14" y="5"/>
                          </a:lnTo>
                          <a:lnTo>
                            <a:pt x="10" y="6"/>
                          </a:lnTo>
                          <a:lnTo>
                            <a:pt x="7" y="7"/>
                          </a:lnTo>
                          <a:lnTo>
                            <a:pt x="4" y="9"/>
                          </a:lnTo>
                          <a:lnTo>
                            <a:pt x="2" y="12"/>
                          </a:lnTo>
                          <a:lnTo>
                            <a:pt x="0" y="15"/>
                          </a:lnTo>
                          <a:lnTo>
                            <a:pt x="0" y="18"/>
                          </a:lnTo>
                          <a:lnTo>
                            <a:pt x="0" y="20"/>
                          </a:lnTo>
                          <a:lnTo>
                            <a:pt x="3" y="21"/>
                          </a:lnTo>
                          <a:lnTo>
                            <a:pt x="6" y="22"/>
                          </a:lnTo>
                          <a:lnTo>
                            <a:pt x="10" y="22"/>
                          </a:lnTo>
                          <a:lnTo>
                            <a:pt x="20" y="21"/>
                          </a:lnTo>
                          <a:lnTo>
                            <a:pt x="30" y="21"/>
                          </a:lnTo>
                          <a:lnTo>
                            <a:pt x="40" y="20"/>
                          </a:lnTo>
                          <a:lnTo>
                            <a:pt x="51" y="20"/>
                          </a:lnTo>
                          <a:lnTo>
                            <a:pt x="60" y="19"/>
                          </a:lnTo>
                          <a:lnTo>
                            <a:pt x="71" y="19"/>
                          </a:lnTo>
                          <a:lnTo>
                            <a:pt x="82" y="19"/>
                          </a:lnTo>
                          <a:lnTo>
                            <a:pt x="91" y="19"/>
                          </a:lnTo>
                          <a:lnTo>
                            <a:pt x="102" y="19"/>
                          </a:lnTo>
                          <a:lnTo>
                            <a:pt x="112" y="19"/>
                          </a:lnTo>
                          <a:lnTo>
                            <a:pt x="115" y="19"/>
                          </a:lnTo>
                          <a:lnTo>
                            <a:pt x="119" y="16"/>
                          </a:lnTo>
                          <a:lnTo>
                            <a:pt x="122" y="15"/>
                          </a:lnTo>
                          <a:lnTo>
                            <a:pt x="124" y="13"/>
                          </a:lnTo>
                          <a:lnTo>
                            <a:pt x="127" y="9"/>
                          </a:lnTo>
                          <a:lnTo>
                            <a:pt x="128" y="7"/>
                          </a:lnTo>
                          <a:lnTo>
                            <a:pt x="128" y="5"/>
                          </a:lnTo>
                          <a:lnTo>
                            <a:pt x="127" y="2"/>
                          </a:lnTo>
                          <a:lnTo>
                            <a:pt x="126" y="1"/>
                          </a:lnTo>
                          <a:lnTo>
                            <a:pt x="122" y="1"/>
                          </a:lnTo>
                          <a:lnTo>
                            <a:pt x="120" y="0"/>
                          </a:lnTo>
                          <a:close/>
                        </a:path>
                      </a:pathLst>
                    </a:custGeom>
                    <a:solidFill>
                      <a:srgbClr val="4d17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1531080" y="1824120"/>
                      <a:ext cx="23760" cy="8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129">
                          <a:moveTo>
                            <a:pt x="0" y="11"/>
                          </a:moveTo>
                          <a:lnTo>
                            <a:pt x="3" y="22"/>
                          </a:lnTo>
                          <a:lnTo>
                            <a:pt x="5" y="33"/>
                          </a:lnTo>
                          <a:lnTo>
                            <a:pt x="8" y="43"/>
                          </a:lnTo>
                          <a:lnTo>
                            <a:pt x="9" y="55"/>
                          </a:lnTo>
                          <a:lnTo>
                            <a:pt x="12" y="66"/>
                          </a:lnTo>
                          <a:lnTo>
                            <a:pt x="13" y="78"/>
                          </a:lnTo>
                          <a:lnTo>
                            <a:pt x="13" y="88"/>
                          </a:lnTo>
                          <a:lnTo>
                            <a:pt x="12" y="99"/>
                          </a:lnTo>
                          <a:lnTo>
                            <a:pt x="11" y="109"/>
                          </a:lnTo>
                          <a:lnTo>
                            <a:pt x="7" y="120"/>
                          </a:lnTo>
                          <a:lnTo>
                            <a:pt x="5" y="124"/>
                          </a:lnTo>
                          <a:lnTo>
                            <a:pt x="5" y="126"/>
                          </a:lnTo>
                          <a:lnTo>
                            <a:pt x="8" y="127"/>
                          </a:lnTo>
                          <a:lnTo>
                            <a:pt x="11" y="128"/>
                          </a:lnTo>
                          <a:lnTo>
                            <a:pt x="13" y="129"/>
                          </a:lnTo>
                          <a:lnTo>
                            <a:pt x="17" y="128"/>
                          </a:lnTo>
                          <a:lnTo>
                            <a:pt x="20" y="128"/>
                          </a:lnTo>
                          <a:lnTo>
                            <a:pt x="24" y="126"/>
                          </a:lnTo>
                          <a:lnTo>
                            <a:pt x="27" y="125"/>
                          </a:lnTo>
                          <a:lnTo>
                            <a:pt x="28" y="121"/>
                          </a:lnTo>
                          <a:lnTo>
                            <a:pt x="33" y="111"/>
                          </a:lnTo>
                          <a:lnTo>
                            <a:pt x="36" y="99"/>
                          </a:lnTo>
                          <a:lnTo>
                            <a:pt x="37" y="87"/>
                          </a:lnTo>
                          <a:lnTo>
                            <a:pt x="37" y="75"/>
                          </a:lnTo>
                          <a:lnTo>
                            <a:pt x="36" y="63"/>
                          </a:lnTo>
                          <a:lnTo>
                            <a:pt x="33" y="52"/>
                          </a:lnTo>
                          <a:lnTo>
                            <a:pt x="32" y="40"/>
                          </a:lnTo>
                          <a:lnTo>
                            <a:pt x="29" y="28"/>
                          </a:lnTo>
                          <a:lnTo>
                            <a:pt x="27" y="16"/>
                          </a:lnTo>
                          <a:lnTo>
                            <a:pt x="25" y="4"/>
                          </a:lnTo>
                          <a:lnTo>
                            <a:pt x="24" y="2"/>
                          </a:lnTo>
                          <a:lnTo>
                            <a:pt x="21" y="0"/>
                          </a:lnTo>
                          <a:lnTo>
                            <a:pt x="19" y="0"/>
                          </a:lnTo>
                          <a:lnTo>
                            <a:pt x="16" y="0"/>
                          </a:lnTo>
                          <a:lnTo>
                            <a:pt x="12" y="0"/>
                          </a:lnTo>
                          <a:lnTo>
                            <a:pt x="8" y="2"/>
                          </a:lnTo>
                          <a:lnTo>
                            <a:pt x="5" y="3"/>
                          </a:lnTo>
                          <a:lnTo>
                            <a:pt x="3" y="6"/>
                          </a:lnTo>
                          <a:lnTo>
                            <a:pt x="1" y="9"/>
                          </a:lnTo>
                          <a:lnTo>
                            <a:pt x="1" y="11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4d17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1383120" y="1774800"/>
                      <a:ext cx="5904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49">
                          <a:moveTo>
                            <a:pt x="80" y="0"/>
                          </a:moveTo>
                          <a:lnTo>
                            <a:pt x="76" y="1"/>
                          </a:lnTo>
                          <a:lnTo>
                            <a:pt x="72" y="1"/>
                          </a:lnTo>
                          <a:lnTo>
                            <a:pt x="68" y="1"/>
                          </a:lnTo>
                          <a:lnTo>
                            <a:pt x="64" y="3"/>
                          </a:lnTo>
                          <a:lnTo>
                            <a:pt x="60" y="4"/>
                          </a:lnTo>
                          <a:lnTo>
                            <a:pt x="56" y="5"/>
                          </a:lnTo>
                          <a:lnTo>
                            <a:pt x="52" y="6"/>
                          </a:lnTo>
                          <a:lnTo>
                            <a:pt x="48" y="7"/>
                          </a:lnTo>
                          <a:lnTo>
                            <a:pt x="44" y="10"/>
                          </a:lnTo>
                          <a:lnTo>
                            <a:pt x="40" y="11"/>
                          </a:lnTo>
                          <a:lnTo>
                            <a:pt x="38" y="13"/>
                          </a:lnTo>
                          <a:lnTo>
                            <a:pt x="34" y="16"/>
                          </a:lnTo>
                          <a:lnTo>
                            <a:pt x="30" y="18"/>
                          </a:lnTo>
                          <a:lnTo>
                            <a:pt x="27" y="20"/>
                          </a:lnTo>
                          <a:lnTo>
                            <a:pt x="23" y="23"/>
                          </a:lnTo>
                          <a:lnTo>
                            <a:pt x="20" y="25"/>
                          </a:lnTo>
                          <a:lnTo>
                            <a:pt x="16" y="27"/>
                          </a:lnTo>
                          <a:lnTo>
                            <a:pt x="14" y="30"/>
                          </a:lnTo>
                          <a:lnTo>
                            <a:pt x="10" y="32"/>
                          </a:lnTo>
                          <a:lnTo>
                            <a:pt x="6" y="35"/>
                          </a:lnTo>
                          <a:lnTo>
                            <a:pt x="3" y="37"/>
                          </a:lnTo>
                          <a:lnTo>
                            <a:pt x="0" y="39"/>
                          </a:lnTo>
                          <a:lnTo>
                            <a:pt x="0" y="42"/>
                          </a:lnTo>
                          <a:lnTo>
                            <a:pt x="0" y="44"/>
                          </a:lnTo>
                          <a:lnTo>
                            <a:pt x="2" y="46"/>
                          </a:lnTo>
                          <a:lnTo>
                            <a:pt x="4" y="48"/>
                          </a:lnTo>
                          <a:lnTo>
                            <a:pt x="8" y="49"/>
                          </a:lnTo>
                          <a:lnTo>
                            <a:pt x="11" y="49"/>
                          </a:lnTo>
                          <a:lnTo>
                            <a:pt x="15" y="48"/>
                          </a:lnTo>
                          <a:lnTo>
                            <a:pt x="19" y="46"/>
                          </a:lnTo>
                          <a:lnTo>
                            <a:pt x="24" y="43"/>
                          </a:lnTo>
                          <a:lnTo>
                            <a:pt x="30" y="39"/>
                          </a:lnTo>
                          <a:lnTo>
                            <a:pt x="35" y="36"/>
                          </a:lnTo>
                          <a:lnTo>
                            <a:pt x="39" y="32"/>
                          </a:lnTo>
                          <a:lnTo>
                            <a:pt x="44" y="29"/>
                          </a:lnTo>
                          <a:lnTo>
                            <a:pt x="50" y="25"/>
                          </a:lnTo>
                          <a:lnTo>
                            <a:pt x="56" y="23"/>
                          </a:lnTo>
                          <a:lnTo>
                            <a:pt x="62" y="20"/>
                          </a:lnTo>
                          <a:lnTo>
                            <a:pt x="68" y="19"/>
                          </a:lnTo>
                          <a:lnTo>
                            <a:pt x="75" y="18"/>
                          </a:lnTo>
                          <a:lnTo>
                            <a:pt x="76" y="18"/>
                          </a:lnTo>
                          <a:lnTo>
                            <a:pt x="79" y="18"/>
                          </a:lnTo>
                          <a:lnTo>
                            <a:pt x="80" y="17"/>
                          </a:lnTo>
                          <a:lnTo>
                            <a:pt x="82" y="17"/>
                          </a:lnTo>
                          <a:lnTo>
                            <a:pt x="84" y="16"/>
                          </a:lnTo>
                          <a:lnTo>
                            <a:pt x="86" y="14"/>
                          </a:lnTo>
                          <a:lnTo>
                            <a:pt x="87" y="13"/>
                          </a:lnTo>
                          <a:lnTo>
                            <a:pt x="88" y="12"/>
                          </a:lnTo>
                          <a:lnTo>
                            <a:pt x="90" y="11"/>
                          </a:lnTo>
                          <a:lnTo>
                            <a:pt x="90" y="10"/>
                          </a:lnTo>
                          <a:lnTo>
                            <a:pt x="91" y="9"/>
                          </a:lnTo>
                          <a:lnTo>
                            <a:pt x="91" y="6"/>
                          </a:lnTo>
                          <a:lnTo>
                            <a:pt x="90" y="5"/>
                          </a:lnTo>
                          <a:lnTo>
                            <a:pt x="90" y="4"/>
                          </a:lnTo>
                          <a:lnTo>
                            <a:pt x="88" y="4"/>
                          </a:lnTo>
                          <a:lnTo>
                            <a:pt x="87" y="3"/>
                          </a:lnTo>
                          <a:lnTo>
                            <a:pt x="86" y="1"/>
                          </a:lnTo>
                          <a:lnTo>
                            <a:pt x="84" y="1"/>
                          </a:lnTo>
                          <a:lnTo>
                            <a:pt x="83" y="1"/>
                          </a:lnTo>
                          <a:lnTo>
                            <a:pt x="82" y="0"/>
                          </a:lnTo>
                          <a:lnTo>
                            <a:pt x="80" y="0"/>
                          </a:lnTo>
                          <a:close/>
                        </a:path>
                      </a:pathLst>
                    </a:custGeom>
                    <a:solidFill>
                      <a:srgbClr val="4d17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1414440" y="1774800"/>
                      <a:ext cx="41400" cy="3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50">
                          <a:moveTo>
                            <a:pt x="47" y="3"/>
                          </a:moveTo>
                          <a:lnTo>
                            <a:pt x="43" y="5"/>
                          </a:lnTo>
                          <a:lnTo>
                            <a:pt x="38" y="9"/>
                          </a:lnTo>
                          <a:lnTo>
                            <a:pt x="34" y="12"/>
                          </a:lnTo>
                          <a:lnTo>
                            <a:pt x="30" y="14"/>
                          </a:lnTo>
                          <a:lnTo>
                            <a:pt x="26" y="18"/>
                          </a:lnTo>
                          <a:lnTo>
                            <a:pt x="22" y="22"/>
                          </a:lnTo>
                          <a:lnTo>
                            <a:pt x="18" y="25"/>
                          </a:lnTo>
                          <a:lnTo>
                            <a:pt x="14" y="29"/>
                          </a:lnTo>
                          <a:lnTo>
                            <a:pt x="10" y="32"/>
                          </a:lnTo>
                          <a:lnTo>
                            <a:pt x="6" y="36"/>
                          </a:lnTo>
                          <a:lnTo>
                            <a:pt x="4" y="37"/>
                          </a:lnTo>
                          <a:lnTo>
                            <a:pt x="3" y="38"/>
                          </a:lnTo>
                          <a:lnTo>
                            <a:pt x="2" y="39"/>
                          </a:lnTo>
                          <a:lnTo>
                            <a:pt x="2" y="40"/>
                          </a:lnTo>
                          <a:lnTo>
                            <a:pt x="0" y="42"/>
                          </a:lnTo>
                          <a:lnTo>
                            <a:pt x="0" y="43"/>
                          </a:lnTo>
                          <a:lnTo>
                            <a:pt x="0" y="44"/>
                          </a:lnTo>
                          <a:lnTo>
                            <a:pt x="0" y="45"/>
                          </a:lnTo>
                          <a:lnTo>
                            <a:pt x="2" y="46"/>
                          </a:lnTo>
                          <a:lnTo>
                            <a:pt x="3" y="48"/>
                          </a:lnTo>
                          <a:lnTo>
                            <a:pt x="4" y="49"/>
                          </a:lnTo>
                          <a:lnTo>
                            <a:pt x="6" y="50"/>
                          </a:lnTo>
                          <a:lnTo>
                            <a:pt x="8" y="50"/>
                          </a:lnTo>
                          <a:lnTo>
                            <a:pt x="10" y="50"/>
                          </a:lnTo>
                          <a:lnTo>
                            <a:pt x="12" y="50"/>
                          </a:lnTo>
                          <a:lnTo>
                            <a:pt x="14" y="49"/>
                          </a:lnTo>
                          <a:lnTo>
                            <a:pt x="15" y="49"/>
                          </a:lnTo>
                          <a:lnTo>
                            <a:pt x="18" y="48"/>
                          </a:lnTo>
                          <a:lnTo>
                            <a:pt x="19" y="46"/>
                          </a:lnTo>
                          <a:lnTo>
                            <a:pt x="20" y="45"/>
                          </a:lnTo>
                          <a:lnTo>
                            <a:pt x="23" y="43"/>
                          </a:lnTo>
                          <a:lnTo>
                            <a:pt x="27" y="39"/>
                          </a:lnTo>
                          <a:lnTo>
                            <a:pt x="30" y="36"/>
                          </a:lnTo>
                          <a:lnTo>
                            <a:pt x="34" y="33"/>
                          </a:lnTo>
                          <a:lnTo>
                            <a:pt x="38" y="30"/>
                          </a:lnTo>
                          <a:lnTo>
                            <a:pt x="42" y="27"/>
                          </a:lnTo>
                          <a:lnTo>
                            <a:pt x="44" y="24"/>
                          </a:lnTo>
                          <a:lnTo>
                            <a:pt x="48" y="22"/>
                          </a:lnTo>
                          <a:lnTo>
                            <a:pt x="52" y="19"/>
                          </a:lnTo>
                          <a:lnTo>
                            <a:pt x="56" y="17"/>
                          </a:lnTo>
                          <a:lnTo>
                            <a:pt x="58" y="16"/>
                          </a:lnTo>
                          <a:lnTo>
                            <a:pt x="59" y="14"/>
                          </a:lnTo>
                          <a:lnTo>
                            <a:pt x="60" y="13"/>
                          </a:lnTo>
                          <a:lnTo>
                            <a:pt x="62" y="12"/>
                          </a:lnTo>
                          <a:lnTo>
                            <a:pt x="63" y="11"/>
                          </a:lnTo>
                          <a:lnTo>
                            <a:pt x="63" y="10"/>
                          </a:lnTo>
                          <a:lnTo>
                            <a:pt x="64" y="9"/>
                          </a:lnTo>
                          <a:lnTo>
                            <a:pt x="64" y="6"/>
                          </a:lnTo>
                          <a:lnTo>
                            <a:pt x="64" y="5"/>
                          </a:lnTo>
                          <a:lnTo>
                            <a:pt x="63" y="4"/>
                          </a:lnTo>
                          <a:lnTo>
                            <a:pt x="62" y="3"/>
                          </a:lnTo>
                          <a:lnTo>
                            <a:pt x="60" y="1"/>
                          </a:lnTo>
                          <a:lnTo>
                            <a:pt x="59" y="0"/>
                          </a:lnTo>
                          <a:lnTo>
                            <a:pt x="58" y="0"/>
                          </a:lnTo>
                          <a:lnTo>
                            <a:pt x="55" y="0"/>
                          </a:lnTo>
                          <a:lnTo>
                            <a:pt x="54" y="0"/>
                          </a:lnTo>
                          <a:lnTo>
                            <a:pt x="52" y="0"/>
                          </a:lnTo>
                          <a:lnTo>
                            <a:pt x="50" y="1"/>
                          </a:lnTo>
                          <a:lnTo>
                            <a:pt x="48" y="1"/>
                          </a:lnTo>
                          <a:lnTo>
                            <a:pt x="47" y="3"/>
                          </a:lnTo>
                          <a:close/>
                        </a:path>
                      </a:pathLst>
                    </a:custGeom>
                    <a:solidFill>
                      <a:srgbClr val="4d17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1440360" y="1779480"/>
                      <a:ext cx="29880" cy="5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82">
                          <a:moveTo>
                            <a:pt x="22" y="13"/>
                          </a:moveTo>
                          <a:lnTo>
                            <a:pt x="22" y="19"/>
                          </a:lnTo>
                          <a:lnTo>
                            <a:pt x="20" y="25"/>
                          </a:lnTo>
                          <a:lnTo>
                            <a:pt x="19" y="31"/>
                          </a:lnTo>
                          <a:lnTo>
                            <a:pt x="18" y="37"/>
                          </a:lnTo>
                          <a:lnTo>
                            <a:pt x="15" y="43"/>
                          </a:lnTo>
                          <a:lnTo>
                            <a:pt x="12" y="49"/>
                          </a:lnTo>
                          <a:lnTo>
                            <a:pt x="10" y="53"/>
                          </a:lnTo>
                          <a:lnTo>
                            <a:pt x="7" y="59"/>
                          </a:lnTo>
                          <a:lnTo>
                            <a:pt x="4" y="65"/>
                          </a:lnTo>
                          <a:lnTo>
                            <a:pt x="2" y="71"/>
                          </a:lnTo>
                          <a:lnTo>
                            <a:pt x="0" y="75"/>
                          </a:lnTo>
                          <a:lnTo>
                            <a:pt x="2" y="77"/>
                          </a:lnTo>
                          <a:lnTo>
                            <a:pt x="3" y="79"/>
                          </a:lnTo>
                          <a:lnTo>
                            <a:pt x="4" y="81"/>
                          </a:lnTo>
                          <a:lnTo>
                            <a:pt x="8" y="82"/>
                          </a:lnTo>
                          <a:lnTo>
                            <a:pt x="11" y="82"/>
                          </a:lnTo>
                          <a:lnTo>
                            <a:pt x="14" y="81"/>
                          </a:lnTo>
                          <a:lnTo>
                            <a:pt x="18" y="79"/>
                          </a:lnTo>
                          <a:lnTo>
                            <a:pt x="20" y="77"/>
                          </a:lnTo>
                          <a:lnTo>
                            <a:pt x="22" y="74"/>
                          </a:lnTo>
                          <a:lnTo>
                            <a:pt x="24" y="68"/>
                          </a:lnTo>
                          <a:lnTo>
                            <a:pt x="28" y="61"/>
                          </a:lnTo>
                          <a:lnTo>
                            <a:pt x="31" y="55"/>
                          </a:lnTo>
                          <a:lnTo>
                            <a:pt x="34" y="48"/>
                          </a:lnTo>
                          <a:lnTo>
                            <a:pt x="36" y="42"/>
                          </a:lnTo>
                          <a:lnTo>
                            <a:pt x="39" y="35"/>
                          </a:lnTo>
                          <a:lnTo>
                            <a:pt x="42" y="28"/>
                          </a:lnTo>
                          <a:lnTo>
                            <a:pt x="43" y="20"/>
                          </a:lnTo>
                          <a:lnTo>
                            <a:pt x="44" y="15"/>
                          </a:lnTo>
                          <a:lnTo>
                            <a:pt x="46" y="7"/>
                          </a:lnTo>
                          <a:lnTo>
                            <a:pt x="44" y="4"/>
                          </a:lnTo>
                          <a:lnTo>
                            <a:pt x="43" y="2"/>
                          </a:lnTo>
                          <a:lnTo>
                            <a:pt x="40" y="0"/>
                          </a:lnTo>
                          <a:lnTo>
                            <a:pt x="38" y="0"/>
                          </a:lnTo>
                          <a:lnTo>
                            <a:pt x="34" y="2"/>
                          </a:lnTo>
                          <a:lnTo>
                            <a:pt x="31" y="3"/>
                          </a:lnTo>
                          <a:lnTo>
                            <a:pt x="27" y="5"/>
                          </a:lnTo>
                          <a:lnTo>
                            <a:pt x="24" y="7"/>
                          </a:lnTo>
                          <a:lnTo>
                            <a:pt x="23" y="11"/>
                          </a:lnTo>
                          <a:lnTo>
                            <a:pt x="22" y="13"/>
                          </a:lnTo>
                          <a:close/>
                        </a:path>
                      </a:pathLst>
                    </a:custGeom>
                    <a:solidFill>
                      <a:srgbClr val="4d17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726480" y="2325240"/>
                      <a:ext cx="46800" cy="4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75">
                          <a:moveTo>
                            <a:pt x="23" y="68"/>
                          </a:moveTo>
                          <a:lnTo>
                            <a:pt x="27" y="62"/>
                          </a:lnTo>
                          <a:lnTo>
                            <a:pt x="31" y="56"/>
                          </a:lnTo>
                          <a:lnTo>
                            <a:pt x="35" y="51"/>
                          </a:lnTo>
                          <a:lnTo>
                            <a:pt x="38" y="46"/>
                          </a:lnTo>
                          <a:lnTo>
                            <a:pt x="43" y="40"/>
                          </a:lnTo>
                          <a:lnTo>
                            <a:pt x="47" y="34"/>
                          </a:lnTo>
                          <a:lnTo>
                            <a:pt x="51" y="29"/>
                          </a:lnTo>
                          <a:lnTo>
                            <a:pt x="56" y="23"/>
                          </a:lnTo>
                          <a:lnTo>
                            <a:pt x="62" y="19"/>
                          </a:lnTo>
                          <a:lnTo>
                            <a:pt x="67" y="15"/>
                          </a:lnTo>
                          <a:lnTo>
                            <a:pt x="71" y="12"/>
                          </a:lnTo>
                          <a:lnTo>
                            <a:pt x="72" y="9"/>
                          </a:lnTo>
                          <a:lnTo>
                            <a:pt x="72" y="7"/>
                          </a:lnTo>
                          <a:lnTo>
                            <a:pt x="71" y="5"/>
                          </a:lnTo>
                          <a:lnTo>
                            <a:pt x="70" y="2"/>
                          </a:lnTo>
                          <a:lnTo>
                            <a:pt x="67" y="1"/>
                          </a:lnTo>
                          <a:lnTo>
                            <a:pt x="64" y="0"/>
                          </a:lnTo>
                          <a:lnTo>
                            <a:pt x="60" y="1"/>
                          </a:lnTo>
                          <a:lnTo>
                            <a:pt x="58" y="1"/>
                          </a:lnTo>
                          <a:lnTo>
                            <a:pt x="54" y="3"/>
                          </a:lnTo>
                          <a:lnTo>
                            <a:pt x="47" y="8"/>
                          </a:lnTo>
                          <a:lnTo>
                            <a:pt x="40" y="14"/>
                          </a:lnTo>
                          <a:lnTo>
                            <a:pt x="35" y="20"/>
                          </a:lnTo>
                          <a:lnTo>
                            <a:pt x="30" y="26"/>
                          </a:lnTo>
                          <a:lnTo>
                            <a:pt x="24" y="32"/>
                          </a:lnTo>
                          <a:lnTo>
                            <a:pt x="19" y="39"/>
                          </a:lnTo>
                          <a:lnTo>
                            <a:pt x="15" y="45"/>
                          </a:lnTo>
                          <a:lnTo>
                            <a:pt x="10" y="52"/>
                          </a:lnTo>
                          <a:lnTo>
                            <a:pt x="6" y="59"/>
                          </a:lnTo>
                          <a:lnTo>
                            <a:pt x="2" y="66"/>
                          </a:lnTo>
                          <a:lnTo>
                            <a:pt x="0" y="69"/>
                          </a:lnTo>
                          <a:lnTo>
                            <a:pt x="0" y="72"/>
                          </a:lnTo>
                          <a:lnTo>
                            <a:pt x="2" y="73"/>
                          </a:lnTo>
                          <a:lnTo>
                            <a:pt x="4" y="75"/>
                          </a:lnTo>
                          <a:lnTo>
                            <a:pt x="8" y="75"/>
                          </a:lnTo>
                          <a:lnTo>
                            <a:pt x="11" y="75"/>
                          </a:lnTo>
                          <a:lnTo>
                            <a:pt x="15" y="74"/>
                          </a:lnTo>
                          <a:lnTo>
                            <a:pt x="19" y="73"/>
                          </a:lnTo>
                          <a:lnTo>
                            <a:pt x="22" y="72"/>
                          </a:lnTo>
                          <a:lnTo>
                            <a:pt x="23" y="69"/>
                          </a:lnTo>
                          <a:lnTo>
                            <a:pt x="23" y="68"/>
                          </a:lnTo>
                          <a:close/>
                        </a:path>
                      </a:pathLst>
                    </a:custGeom>
                    <a:solidFill>
                      <a:srgbClr val="4d17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>
                      <a:off x="749880" y="2386080"/>
                      <a:ext cx="88560" cy="2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32">
                          <a:moveTo>
                            <a:pt x="6" y="18"/>
                          </a:moveTo>
                          <a:lnTo>
                            <a:pt x="14" y="20"/>
                          </a:lnTo>
                          <a:lnTo>
                            <a:pt x="20" y="21"/>
                          </a:lnTo>
                          <a:lnTo>
                            <a:pt x="28" y="21"/>
                          </a:lnTo>
                          <a:lnTo>
                            <a:pt x="36" y="23"/>
                          </a:lnTo>
                          <a:lnTo>
                            <a:pt x="44" y="24"/>
                          </a:lnTo>
                          <a:lnTo>
                            <a:pt x="51" y="25"/>
                          </a:lnTo>
                          <a:lnTo>
                            <a:pt x="59" y="26"/>
                          </a:lnTo>
                          <a:lnTo>
                            <a:pt x="67" y="27"/>
                          </a:lnTo>
                          <a:lnTo>
                            <a:pt x="74" y="28"/>
                          </a:lnTo>
                          <a:lnTo>
                            <a:pt x="82" y="30"/>
                          </a:lnTo>
                          <a:lnTo>
                            <a:pt x="87" y="31"/>
                          </a:lnTo>
                          <a:lnTo>
                            <a:pt x="92" y="32"/>
                          </a:lnTo>
                          <a:lnTo>
                            <a:pt x="98" y="32"/>
                          </a:lnTo>
                          <a:lnTo>
                            <a:pt x="103" y="32"/>
                          </a:lnTo>
                          <a:lnTo>
                            <a:pt x="107" y="32"/>
                          </a:lnTo>
                          <a:lnTo>
                            <a:pt x="112" y="31"/>
                          </a:lnTo>
                          <a:lnTo>
                            <a:pt x="118" y="30"/>
                          </a:lnTo>
                          <a:lnTo>
                            <a:pt x="122" y="28"/>
                          </a:lnTo>
                          <a:lnTo>
                            <a:pt x="127" y="26"/>
                          </a:lnTo>
                          <a:lnTo>
                            <a:pt x="131" y="24"/>
                          </a:lnTo>
                          <a:lnTo>
                            <a:pt x="134" y="20"/>
                          </a:lnTo>
                          <a:lnTo>
                            <a:pt x="136" y="18"/>
                          </a:lnTo>
                          <a:lnTo>
                            <a:pt x="136" y="15"/>
                          </a:lnTo>
                          <a:lnTo>
                            <a:pt x="136" y="13"/>
                          </a:lnTo>
                          <a:lnTo>
                            <a:pt x="135" y="11"/>
                          </a:lnTo>
                          <a:lnTo>
                            <a:pt x="132" y="8"/>
                          </a:lnTo>
                          <a:lnTo>
                            <a:pt x="130" y="8"/>
                          </a:lnTo>
                          <a:lnTo>
                            <a:pt x="127" y="8"/>
                          </a:lnTo>
                          <a:lnTo>
                            <a:pt x="123" y="8"/>
                          </a:lnTo>
                          <a:lnTo>
                            <a:pt x="120" y="11"/>
                          </a:lnTo>
                          <a:lnTo>
                            <a:pt x="116" y="13"/>
                          </a:lnTo>
                          <a:lnTo>
                            <a:pt x="111" y="14"/>
                          </a:lnTo>
                          <a:lnTo>
                            <a:pt x="107" y="14"/>
                          </a:lnTo>
                          <a:lnTo>
                            <a:pt x="103" y="13"/>
                          </a:lnTo>
                          <a:lnTo>
                            <a:pt x="98" y="13"/>
                          </a:lnTo>
                          <a:lnTo>
                            <a:pt x="94" y="12"/>
                          </a:lnTo>
                          <a:lnTo>
                            <a:pt x="90" y="10"/>
                          </a:lnTo>
                          <a:lnTo>
                            <a:pt x="84" y="8"/>
                          </a:lnTo>
                          <a:lnTo>
                            <a:pt x="80" y="8"/>
                          </a:lnTo>
                          <a:lnTo>
                            <a:pt x="76" y="7"/>
                          </a:lnTo>
                          <a:lnTo>
                            <a:pt x="70" y="7"/>
                          </a:lnTo>
                          <a:lnTo>
                            <a:pt x="64" y="7"/>
                          </a:lnTo>
                          <a:lnTo>
                            <a:pt x="59" y="6"/>
                          </a:lnTo>
                          <a:lnTo>
                            <a:pt x="52" y="6"/>
                          </a:lnTo>
                          <a:lnTo>
                            <a:pt x="47" y="5"/>
                          </a:lnTo>
                          <a:lnTo>
                            <a:pt x="40" y="4"/>
                          </a:lnTo>
                          <a:lnTo>
                            <a:pt x="35" y="2"/>
                          </a:lnTo>
                          <a:lnTo>
                            <a:pt x="30" y="2"/>
                          </a:lnTo>
                          <a:lnTo>
                            <a:pt x="23" y="1"/>
                          </a:lnTo>
                          <a:lnTo>
                            <a:pt x="18" y="0"/>
                          </a:lnTo>
                          <a:lnTo>
                            <a:pt x="14" y="0"/>
                          </a:lnTo>
                          <a:lnTo>
                            <a:pt x="11" y="1"/>
                          </a:lnTo>
                          <a:lnTo>
                            <a:pt x="7" y="2"/>
                          </a:lnTo>
                          <a:lnTo>
                            <a:pt x="4" y="5"/>
                          </a:lnTo>
                          <a:lnTo>
                            <a:pt x="2" y="7"/>
                          </a:lnTo>
                          <a:lnTo>
                            <a:pt x="0" y="11"/>
                          </a:lnTo>
                          <a:lnTo>
                            <a:pt x="0" y="13"/>
                          </a:lnTo>
                          <a:lnTo>
                            <a:pt x="0" y="15"/>
                          </a:lnTo>
                          <a:lnTo>
                            <a:pt x="2" y="18"/>
                          </a:lnTo>
                          <a:lnTo>
                            <a:pt x="6" y="19"/>
                          </a:lnTo>
                          <a:lnTo>
                            <a:pt x="6" y="18"/>
                          </a:lnTo>
                          <a:close/>
                        </a:path>
                      </a:pathLst>
                    </a:custGeom>
                    <a:solidFill>
                      <a:srgbClr val="4d17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795600" y="1478880"/>
                      <a:ext cx="286920" cy="46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1" h="717">
                          <a:moveTo>
                            <a:pt x="0" y="636"/>
                          </a:moveTo>
                          <a:lnTo>
                            <a:pt x="0" y="627"/>
                          </a:lnTo>
                          <a:lnTo>
                            <a:pt x="1" y="600"/>
                          </a:lnTo>
                          <a:lnTo>
                            <a:pt x="4" y="558"/>
                          </a:lnTo>
                          <a:lnTo>
                            <a:pt x="8" y="505"/>
                          </a:lnTo>
                          <a:lnTo>
                            <a:pt x="14" y="444"/>
                          </a:lnTo>
                          <a:lnTo>
                            <a:pt x="24" y="379"/>
                          </a:lnTo>
                          <a:lnTo>
                            <a:pt x="37" y="310"/>
                          </a:lnTo>
                          <a:lnTo>
                            <a:pt x="56" y="244"/>
                          </a:lnTo>
                          <a:lnTo>
                            <a:pt x="80" y="182"/>
                          </a:lnTo>
                          <a:lnTo>
                            <a:pt x="109" y="126"/>
                          </a:lnTo>
                          <a:lnTo>
                            <a:pt x="112" y="124"/>
                          </a:lnTo>
                          <a:lnTo>
                            <a:pt x="117" y="116"/>
                          </a:lnTo>
                          <a:lnTo>
                            <a:pt x="126" y="105"/>
                          </a:lnTo>
                          <a:lnTo>
                            <a:pt x="138" y="91"/>
                          </a:lnTo>
                          <a:lnTo>
                            <a:pt x="153" y="77"/>
                          </a:lnTo>
                          <a:lnTo>
                            <a:pt x="169" y="60"/>
                          </a:lnTo>
                          <a:lnTo>
                            <a:pt x="188" y="45"/>
                          </a:lnTo>
                          <a:lnTo>
                            <a:pt x="206" y="32"/>
                          </a:lnTo>
                          <a:lnTo>
                            <a:pt x="225" y="21"/>
                          </a:lnTo>
                          <a:lnTo>
                            <a:pt x="244" y="14"/>
                          </a:lnTo>
                          <a:lnTo>
                            <a:pt x="248" y="13"/>
                          </a:lnTo>
                          <a:lnTo>
                            <a:pt x="260" y="11"/>
                          </a:lnTo>
                          <a:lnTo>
                            <a:pt x="277" y="7"/>
                          </a:lnTo>
                          <a:lnTo>
                            <a:pt x="300" y="4"/>
                          </a:lnTo>
                          <a:lnTo>
                            <a:pt x="324" y="1"/>
                          </a:lnTo>
                          <a:lnTo>
                            <a:pt x="348" y="0"/>
                          </a:lnTo>
                          <a:lnTo>
                            <a:pt x="372" y="2"/>
                          </a:lnTo>
                          <a:lnTo>
                            <a:pt x="393" y="8"/>
                          </a:lnTo>
                          <a:lnTo>
                            <a:pt x="409" y="20"/>
                          </a:lnTo>
                          <a:lnTo>
                            <a:pt x="420" y="37"/>
                          </a:lnTo>
                          <a:lnTo>
                            <a:pt x="420" y="38"/>
                          </a:lnTo>
                          <a:lnTo>
                            <a:pt x="421" y="40"/>
                          </a:lnTo>
                          <a:lnTo>
                            <a:pt x="422" y="45"/>
                          </a:lnTo>
                          <a:lnTo>
                            <a:pt x="425" y="50"/>
                          </a:lnTo>
                          <a:lnTo>
                            <a:pt x="426" y="57"/>
                          </a:lnTo>
                          <a:lnTo>
                            <a:pt x="429" y="64"/>
                          </a:lnTo>
                          <a:lnTo>
                            <a:pt x="432" y="72"/>
                          </a:lnTo>
                          <a:lnTo>
                            <a:pt x="434" y="79"/>
                          </a:lnTo>
                          <a:lnTo>
                            <a:pt x="436" y="87"/>
                          </a:lnTo>
                          <a:lnTo>
                            <a:pt x="438" y="96"/>
                          </a:lnTo>
                          <a:lnTo>
                            <a:pt x="440" y="104"/>
                          </a:lnTo>
                          <a:lnTo>
                            <a:pt x="440" y="115"/>
                          </a:lnTo>
                          <a:lnTo>
                            <a:pt x="441" y="126"/>
                          </a:lnTo>
                          <a:lnTo>
                            <a:pt x="441" y="139"/>
                          </a:lnTo>
                          <a:lnTo>
                            <a:pt x="440" y="151"/>
                          </a:lnTo>
                          <a:lnTo>
                            <a:pt x="440" y="163"/>
                          </a:lnTo>
                          <a:lnTo>
                            <a:pt x="440" y="172"/>
                          </a:lnTo>
                          <a:lnTo>
                            <a:pt x="438" y="181"/>
                          </a:lnTo>
                          <a:lnTo>
                            <a:pt x="438" y="185"/>
                          </a:lnTo>
                          <a:lnTo>
                            <a:pt x="438" y="188"/>
                          </a:lnTo>
                          <a:lnTo>
                            <a:pt x="436" y="192"/>
                          </a:lnTo>
                          <a:lnTo>
                            <a:pt x="430" y="207"/>
                          </a:lnTo>
                          <a:lnTo>
                            <a:pt x="424" y="227"/>
                          </a:lnTo>
                          <a:lnTo>
                            <a:pt x="413" y="251"/>
                          </a:lnTo>
                          <a:lnTo>
                            <a:pt x="404" y="280"/>
                          </a:lnTo>
                          <a:lnTo>
                            <a:pt x="393" y="308"/>
                          </a:lnTo>
                          <a:lnTo>
                            <a:pt x="384" y="334"/>
                          </a:lnTo>
                          <a:lnTo>
                            <a:pt x="376" y="358"/>
                          </a:lnTo>
                          <a:lnTo>
                            <a:pt x="370" y="375"/>
                          </a:lnTo>
                          <a:lnTo>
                            <a:pt x="369" y="386"/>
                          </a:lnTo>
                          <a:lnTo>
                            <a:pt x="369" y="395"/>
                          </a:lnTo>
                          <a:lnTo>
                            <a:pt x="370" y="411"/>
                          </a:lnTo>
                          <a:lnTo>
                            <a:pt x="372" y="430"/>
                          </a:lnTo>
                          <a:lnTo>
                            <a:pt x="373" y="451"/>
                          </a:lnTo>
                          <a:lnTo>
                            <a:pt x="374" y="473"/>
                          </a:lnTo>
                          <a:lnTo>
                            <a:pt x="376" y="495"/>
                          </a:lnTo>
                          <a:lnTo>
                            <a:pt x="378" y="515"/>
                          </a:lnTo>
                          <a:lnTo>
                            <a:pt x="380" y="530"/>
                          </a:lnTo>
                          <a:lnTo>
                            <a:pt x="380" y="541"/>
                          </a:lnTo>
                          <a:lnTo>
                            <a:pt x="381" y="544"/>
                          </a:lnTo>
                          <a:lnTo>
                            <a:pt x="380" y="545"/>
                          </a:lnTo>
                          <a:lnTo>
                            <a:pt x="378" y="548"/>
                          </a:lnTo>
                          <a:lnTo>
                            <a:pt x="376" y="550"/>
                          </a:lnTo>
                          <a:lnTo>
                            <a:pt x="372" y="554"/>
                          </a:lnTo>
                          <a:lnTo>
                            <a:pt x="368" y="558"/>
                          </a:lnTo>
                          <a:lnTo>
                            <a:pt x="362" y="563"/>
                          </a:lnTo>
                          <a:lnTo>
                            <a:pt x="354" y="568"/>
                          </a:lnTo>
                          <a:lnTo>
                            <a:pt x="348" y="573"/>
                          </a:lnTo>
                          <a:lnTo>
                            <a:pt x="338" y="577"/>
                          </a:lnTo>
                          <a:lnTo>
                            <a:pt x="329" y="581"/>
                          </a:lnTo>
                          <a:lnTo>
                            <a:pt x="317" y="583"/>
                          </a:lnTo>
                          <a:lnTo>
                            <a:pt x="304" y="587"/>
                          </a:lnTo>
                          <a:lnTo>
                            <a:pt x="289" y="589"/>
                          </a:lnTo>
                          <a:lnTo>
                            <a:pt x="276" y="591"/>
                          </a:lnTo>
                          <a:lnTo>
                            <a:pt x="261" y="594"/>
                          </a:lnTo>
                          <a:lnTo>
                            <a:pt x="248" y="596"/>
                          </a:lnTo>
                          <a:lnTo>
                            <a:pt x="236" y="598"/>
                          </a:lnTo>
                          <a:lnTo>
                            <a:pt x="228" y="600"/>
                          </a:lnTo>
                          <a:lnTo>
                            <a:pt x="221" y="601"/>
                          </a:lnTo>
                          <a:lnTo>
                            <a:pt x="220" y="601"/>
                          </a:lnTo>
                          <a:lnTo>
                            <a:pt x="160" y="640"/>
                          </a:lnTo>
                          <a:lnTo>
                            <a:pt x="116" y="717"/>
                          </a:lnTo>
                          <a:lnTo>
                            <a:pt x="113" y="714"/>
                          </a:lnTo>
                          <a:lnTo>
                            <a:pt x="108" y="708"/>
                          </a:lnTo>
                          <a:lnTo>
                            <a:pt x="100" y="701"/>
                          </a:lnTo>
                          <a:lnTo>
                            <a:pt x="88" y="691"/>
                          </a:lnTo>
                          <a:lnTo>
                            <a:pt x="76" y="680"/>
                          </a:lnTo>
                          <a:lnTo>
                            <a:pt x="61" y="669"/>
                          </a:lnTo>
                          <a:lnTo>
                            <a:pt x="45" y="657"/>
                          </a:lnTo>
                          <a:lnTo>
                            <a:pt x="30" y="648"/>
                          </a:lnTo>
                          <a:lnTo>
                            <a:pt x="14" y="641"/>
                          </a:lnTo>
                          <a:lnTo>
                            <a:pt x="0" y="636"/>
                          </a:lnTo>
                          <a:close/>
                        </a:path>
                      </a:pathLst>
                    </a:custGeom>
                    <a:solidFill>
                      <a:srgbClr val="fbef7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>
                      <a:off x="859320" y="1495800"/>
                      <a:ext cx="225360" cy="45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691">
                          <a:moveTo>
                            <a:pt x="287" y="2"/>
                          </a:moveTo>
                          <a:lnTo>
                            <a:pt x="282" y="6"/>
                          </a:lnTo>
                          <a:lnTo>
                            <a:pt x="272" y="13"/>
                          </a:lnTo>
                          <a:lnTo>
                            <a:pt x="260" y="24"/>
                          </a:lnTo>
                          <a:lnTo>
                            <a:pt x="247" y="37"/>
                          </a:lnTo>
                          <a:lnTo>
                            <a:pt x="232" y="51"/>
                          </a:lnTo>
                          <a:lnTo>
                            <a:pt x="219" y="67"/>
                          </a:lnTo>
                          <a:lnTo>
                            <a:pt x="208" y="84"/>
                          </a:lnTo>
                          <a:lnTo>
                            <a:pt x="199" y="102"/>
                          </a:lnTo>
                          <a:lnTo>
                            <a:pt x="195" y="118"/>
                          </a:lnTo>
                          <a:lnTo>
                            <a:pt x="195" y="135"/>
                          </a:lnTo>
                          <a:lnTo>
                            <a:pt x="198" y="152"/>
                          </a:lnTo>
                          <a:lnTo>
                            <a:pt x="198" y="175"/>
                          </a:lnTo>
                          <a:lnTo>
                            <a:pt x="196" y="201"/>
                          </a:lnTo>
                          <a:lnTo>
                            <a:pt x="194" y="229"/>
                          </a:lnTo>
                          <a:lnTo>
                            <a:pt x="188" y="257"/>
                          </a:lnTo>
                          <a:lnTo>
                            <a:pt x="183" y="287"/>
                          </a:lnTo>
                          <a:lnTo>
                            <a:pt x="176" y="314"/>
                          </a:lnTo>
                          <a:lnTo>
                            <a:pt x="168" y="339"/>
                          </a:lnTo>
                          <a:lnTo>
                            <a:pt x="159" y="359"/>
                          </a:lnTo>
                          <a:lnTo>
                            <a:pt x="150" y="375"/>
                          </a:lnTo>
                          <a:lnTo>
                            <a:pt x="138" y="392"/>
                          </a:lnTo>
                          <a:lnTo>
                            <a:pt x="122" y="417"/>
                          </a:lnTo>
                          <a:lnTo>
                            <a:pt x="102" y="447"/>
                          </a:lnTo>
                          <a:lnTo>
                            <a:pt x="82" y="480"/>
                          </a:lnTo>
                          <a:lnTo>
                            <a:pt x="60" y="516"/>
                          </a:lnTo>
                          <a:lnTo>
                            <a:pt x="40" y="551"/>
                          </a:lnTo>
                          <a:lnTo>
                            <a:pt x="23" y="584"/>
                          </a:lnTo>
                          <a:lnTo>
                            <a:pt x="10" y="614"/>
                          </a:lnTo>
                          <a:lnTo>
                            <a:pt x="2" y="637"/>
                          </a:lnTo>
                          <a:lnTo>
                            <a:pt x="0" y="654"/>
                          </a:lnTo>
                          <a:lnTo>
                            <a:pt x="2" y="665"/>
                          </a:lnTo>
                          <a:lnTo>
                            <a:pt x="3" y="674"/>
                          </a:lnTo>
                          <a:lnTo>
                            <a:pt x="4" y="680"/>
                          </a:lnTo>
                          <a:lnTo>
                            <a:pt x="6" y="685"/>
                          </a:lnTo>
                          <a:lnTo>
                            <a:pt x="6" y="688"/>
                          </a:lnTo>
                          <a:lnTo>
                            <a:pt x="7" y="691"/>
                          </a:lnTo>
                          <a:lnTo>
                            <a:pt x="8" y="691"/>
                          </a:lnTo>
                          <a:lnTo>
                            <a:pt x="10" y="691"/>
                          </a:lnTo>
                          <a:lnTo>
                            <a:pt x="12" y="688"/>
                          </a:lnTo>
                          <a:lnTo>
                            <a:pt x="15" y="686"/>
                          </a:lnTo>
                          <a:lnTo>
                            <a:pt x="18" y="682"/>
                          </a:lnTo>
                          <a:lnTo>
                            <a:pt x="22" y="676"/>
                          </a:lnTo>
                          <a:lnTo>
                            <a:pt x="26" y="668"/>
                          </a:lnTo>
                          <a:lnTo>
                            <a:pt x="30" y="659"/>
                          </a:lnTo>
                          <a:lnTo>
                            <a:pt x="35" y="648"/>
                          </a:lnTo>
                          <a:lnTo>
                            <a:pt x="40" y="639"/>
                          </a:lnTo>
                          <a:lnTo>
                            <a:pt x="47" y="629"/>
                          </a:lnTo>
                          <a:lnTo>
                            <a:pt x="52" y="620"/>
                          </a:lnTo>
                          <a:lnTo>
                            <a:pt x="60" y="613"/>
                          </a:lnTo>
                          <a:lnTo>
                            <a:pt x="67" y="608"/>
                          </a:lnTo>
                          <a:lnTo>
                            <a:pt x="75" y="603"/>
                          </a:lnTo>
                          <a:lnTo>
                            <a:pt x="82" y="600"/>
                          </a:lnTo>
                          <a:lnTo>
                            <a:pt x="90" y="595"/>
                          </a:lnTo>
                          <a:lnTo>
                            <a:pt x="96" y="590"/>
                          </a:lnTo>
                          <a:lnTo>
                            <a:pt x="103" y="587"/>
                          </a:lnTo>
                          <a:lnTo>
                            <a:pt x="110" y="583"/>
                          </a:lnTo>
                          <a:lnTo>
                            <a:pt x="118" y="580"/>
                          </a:lnTo>
                          <a:lnTo>
                            <a:pt x="126" y="577"/>
                          </a:lnTo>
                          <a:lnTo>
                            <a:pt x="135" y="575"/>
                          </a:lnTo>
                          <a:lnTo>
                            <a:pt x="144" y="575"/>
                          </a:lnTo>
                          <a:lnTo>
                            <a:pt x="156" y="572"/>
                          </a:lnTo>
                          <a:lnTo>
                            <a:pt x="170" y="570"/>
                          </a:lnTo>
                          <a:lnTo>
                            <a:pt x="186" y="567"/>
                          </a:lnTo>
                          <a:lnTo>
                            <a:pt x="200" y="561"/>
                          </a:lnTo>
                          <a:lnTo>
                            <a:pt x="216" y="555"/>
                          </a:lnTo>
                          <a:lnTo>
                            <a:pt x="231" y="549"/>
                          </a:lnTo>
                          <a:lnTo>
                            <a:pt x="244" y="543"/>
                          </a:lnTo>
                          <a:lnTo>
                            <a:pt x="255" y="536"/>
                          </a:lnTo>
                          <a:lnTo>
                            <a:pt x="264" y="531"/>
                          </a:lnTo>
                          <a:lnTo>
                            <a:pt x="270" y="525"/>
                          </a:lnTo>
                          <a:lnTo>
                            <a:pt x="272" y="518"/>
                          </a:lnTo>
                          <a:lnTo>
                            <a:pt x="274" y="509"/>
                          </a:lnTo>
                          <a:lnTo>
                            <a:pt x="275" y="495"/>
                          </a:lnTo>
                          <a:lnTo>
                            <a:pt x="274" y="480"/>
                          </a:lnTo>
                          <a:lnTo>
                            <a:pt x="274" y="464"/>
                          </a:lnTo>
                          <a:lnTo>
                            <a:pt x="272" y="447"/>
                          </a:lnTo>
                          <a:lnTo>
                            <a:pt x="271" y="432"/>
                          </a:lnTo>
                          <a:lnTo>
                            <a:pt x="270" y="418"/>
                          </a:lnTo>
                          <a:lnTo>
                            <a:pt x="268" y="406"/>
                          </a:lnTo>
                          <a:lnTo>
                            <a:pt x="268" y="397"/>
                          </a:lnTo>
                          <a:lnTo>
                            <a:pt x="270" y="386"/>
                          </a:lnTo>
                          <a:lnTo>
                            <a:pt x="272" y="371"/>
                          </a:lnTo>
                          <a:lnTo>
                            <a:pt x="278" y="351"/>
                          </a:lnTo>
                          <a:lnTo>
                            <a:pt x="283" y="327"/>
                          </a:lnTo>
                          <a:lnTo>
                            <a:pt x="290" y="302"/>
                          </a:lnTo>
                          <a:lnTo>
                            <a:pt x="298" y="277"/>
                          </a:lnTo>
                          <a:lnTo>
                            <a:pt x="304" y="254"/>
                          </a:lnTo>
                          <a:lnTo>
                            <a:pt x="311" y="234"/>
                          </a:lnTo>
                          <a:lnTo>
                            <a:pt x="316" y="217"/>
                          </a:lnTo>
                          <a:lnTo>
                            <a:pt x="320" y="205"/>
                          </a:lnTo>
                          <a:lnTo>
                            <a:pt x="324" y="196"/>
                          </a:lnTo>
                          <a:lnTo>
                            <a:pt x="328" y="184"/>
                          </a:lnTo>
                          <a:lnTo>
                            <a:pt x="334" y="170"/>
                          </a:lnTo>
                          <a:lnTo>
                            <a:pt x="338" y="155"/>
                          </a:lnTo>
                          <a:lnTo>
                            <a:pt x="342" y="137"/>
                          </a:lnTo>
                          <a:lnTo>
                            <a:pt x="344" y="120"/>
                          </a:lnTo>
                          <a:lnTo>
                            <a:pt x="346" y="103"/>
                          </a:lnTo>
                          <a:lnTo>
                            <a:pt x="344" y="86"/>
                          </a:lnTo>
                          <a:lnTo>
                            <a:pt x="343" y="71"/>
                          </a:lnTo>
                          <a:lnTo>
                            <a:pt x="338" y="57"/>
                          </a:lnTo>
                          <a:lnTo>
                            <a:pt x="332" y="44"/>
                          </a:lnTo>
                          <a:lnTo>
                            <a:pt x="328" y="33"/>
                          </a:lnTo>
                          <a:lnTo>
                            <a:pt x="324" y="24"/>
                          </a:lnTo>
                          <a:lnTo>
                            <a:pt x="322" y="15"/>
                          </a:lnTo>
                          <a:lnTo>
                            <a:pt x="318" y="9"/>
                          </a:lnTo>
                          <a:lnTo>
                            <a:pt x="314" y="5"/>
                          </a:lnTo>
                          <a:lnTo>
                            <a:pt x="310" y="1"/>
                          </a:lnTo>
                          <a:lnTo>
                            <a:pt x="304" y="0"/>
                          </a:lnTo>
                          <a:lnTo>
                            <a:pt x="296" y="1"/>
                          </a:lnTo>
                          <a:lnTo>
                            <a:pt x="287" y="4"/>
                          </a:lnTo>
                          <a:lnTo>
                            <a:pt x="287" y="2"/>
                          </a:lnTo>
                          <a:close/>
                        </a:path>
                      </a:pathLst>
                    </a:custGeom>
                    <a:solidFill>
                      <a:srgbClr val="fbef7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>
                      <a:off x="872280" y="1523880"/>
                      <a:ext cx="205560" cy="41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6" h="633">
                          <a:moveTo>
                            <a:pt x="262" y="2"/>
                          </a:moveTo>
                          <a:lnTo>
                            <a:pt x="258" y="5"/>
                          </a:lnTo>
                          <a:lnTo>
                            <a:pt x="250" y="13"/>
                          </a:lnTo>
                          <a:lnTo>
                            <a:pt x="239" y="21"/>
                          </a:lnTo>
                          <a:lnTo>
                            <a:pt x="226" y="33"/>
                          </a:lnTo>
                          <a:lnTo>
                            <a:pt x="214" y="47"/>
                          </a:lnTo>
                          <a:lnTo>
                            <a:pt x="200" y="61"/>
                          </a:lnTo>
                          <a:lnTo>
                            <a:pt x="191" y="77"/>
                          </a:lnTo>
                          <a:lnTo>
                            <a:pt x="183" y="93"/>
                          </a:lnTo>
                          <a:lnTo>
                            <a:pt x="178" y="108"/>
                          </a:lnTo>
                          <a:lnTo>
                            <a:pt x="179" y="123"/>
                          </a:lnTo>
                          <a:lnTo>
                            <a:pt x="180" y="140"/>
                          </a:lnTo>
                          <a:lnTo>
                            <a:pt x="182" y="160"/>
                          </a:lnTo>
                          <a:lnTo>
                            <a:pt x="180" y="184"/>
                          </a:lnTo>
                          <a:lnTo>
                            <a:pt x="176" y="210"/>
                          </a:lnTo>
                          <a:lnTo>
                            <a:pt x="172" y="237"/>
                          </a:lnTo>
                          <a:lnTo>
                            <a:pt x="167" y="263"/>
                          </a:lnTo>
                          <a:lnTo>
                            <a:pt x="162" y="288"/>
                          </a:lnTo>
                          <a:lnTo>
                            <a:pt x="154" y="310"/>
                          </a:lnTo>
                          <a:lnTo>
                            <a:pt x="146" y="329"/>
                          </a:lnTo>
                          <a:lnTo>
                            <a:pt x="138" y="344"/>
                          </a:lnTo>
                          <a:lnTo>
                            <a:pt x="126" y="360"/>
                          </a:lnTo>
                          <a:lnTo>
                            <a:pt x="111" y="382"/>
                          </a:lnTo>
                          <a:lnTo>
                            <a:pt x="94" y="409"/>
                          </a:lnTo>
                          <a:lnTo>
                            <a:pt x="75" y="440"/>
                          </a:lnTo>
                          <a:lnTo>
                            <a:pt x="55" y="473"/>
                          </a:lnTo>
                          <a:lnTo>
                            <a:pt x="36" y="505"/>
                          </a:lnTo>
                          <a:lnTo>
                            <a:pt x="20" y="535"/>
                          </a:lnTo>
                          <a:lnTo>
                            <a:pt x="8" y="563"/>
                          </a:lnTo>
                          <a:lnTo>
                            <a:pt x="2" y="584"/>
                          </a:lnTo>
                          <a:lnTo>
                            <a:pt x="0" y="599"/>
                          </a:lnTo>
                          <a:lnTo>
                            <a:pt x="2" y="610"/>
                          </a:lnTo>
                          <a:lnTo>
                            <a:pt x="3" y="617"/>
                          </a:lnTo>
                          <a:lnTo>
                            <a:pt x="4" y="623"/>
                          </a:lnTo>
                          <a:lnTo>
                            <a:pt x="4" y="627"/>
                          </a:lnTo>
                          <a:lnTo>
                            <a:pt x="6" y="631"/>
                          </a:lnTo>
                          <a:lnTo>
                            <a:pt x="6" y="632"/>
                          </a:lnTo>
                          <a:lnTo>
                            <a:pt x="7" y="633"/>
                          </a:lnTo>
                          <a:lnTo>
                            <a:pt x="8" y="632"/>
                          </a:lnTo>
                          <a:lnTo>
                            <a:pt x="11" y="631"/>
                          </a:lnTo>
                          <a:lnTo>
                            <a:pt x="12" y="629"/>
                          </a:lnTo>
                          <a:lnTo>
                            <a:pt x="16" y="625"/>
                          </a:lnTo>
                          <a:lnTo>
                            <a:pt x="19" y="619"/>
                          </a:lnTo>
                          <a:lnTo>
                            <a:pt x="23" y="612"/>
                          </a:lnTo>
                          <a:lnTo>
                            <a:pt x="27" y="604"/>
                          </a:lnTo>
                          <a:lnTo>
                            <a:pt x="32" y="594"/>
                          </a:lnTo>
                          <a:lnTo>
                            <a:pt x="36" y="585"/>
                          </a:lnTo>
                          <a:lnTo>
                            <a:pt x="42" y="576"/>
                          </a:lnTo>
                          <a:lnTo>
                            <a:pt x="48" y="568"/>
                          </a:lnTo>
                          <a:lnTo>
                            <a:pt x="55" y="561"/>
                          </a:lnTo>
                          <a:lnTo>
                            <a:pt x="62" y="557"/>
                          </a:lnTo>
                          <a:lnTo>
                            <a:pt x="68" y="553"/>
                          </a:lnTo>
                          <a:lnTo>
                            <a:pt x="75" y="550"/>
                          </a:lnTo>
                          <a:lnTo>
                            <a:pt x="82" y="545"/>
                          </a:lnTo>
                          <a:lnTo>
                            <a:pt x="87" y="541"/>
                          </a:lnTo>
                          <a:lnTo>
                            <a:pt x="94" y="538"/>
                          </a:lnTo>
                          <a:lnTo>
                            <a:pt x="100" y="534"/>
                          </a:lnTo>
                          <a:lnTo>
                            <a:pt x="107" y="531"/>
                          </a:lnTo>
                          <a:lnTo>
                            <a:pt x="115" y="528"/>
                          </a:lnTo>
                          <a:lnTo>
                            <a:pt x="123" y="527"/>
                          </a:lnTo>
                          <a:lnTo>
                            <a:pt x="132" y="526"/>
                          </a:lnTo>
                          <a:lnTo>
                            <a:pt x="143" y="525"/>
                          </a:lnTo>
                          <a:lnTo>
                            <a:pt x="155" y="522"/>
                          </a:lnTo>
                          <a:lnTo>
                            <a:pt x="170" y="519"/>
                          </a:lnTo>
                          <a:lnTo>
                            <a:pt x="183" y="514"/>
                          </a:lnTo>
                          <a:lnTo>
                            <a:pt x="198" y="508"/>
                          </a:lnTo>
                          <a:lnTo>
                            <a:pt x="211" y="504"/>
                          </a:lnTo>
                          <a:lnTo>
                            <a:pt x="224" y="498"/>
                          </a:lnTo>
                          <a:lnTo>
                            <a:pt x="234" y="492"/>
                          </a:lnTo>
                          <a:lnTo>
                            <a:pt x="242" y="486"/>
                          </a:lnTo>
                          <a:lnTo>
                            <a:pt x="247" y="481"/>
                          </a:lnTo>
                          <a:lnTo>
                            <a:pt x="250" y="475"/>
                          </a:lnTo>
                          <a:lnTo>
                            <a:pt x="251" y="466"/>
                          </a:lnTo>
                          <a:lnTo>
                            <a:pt x="251" y="454"/>
                          </a:lnTo>
                          <a:lnTo>
                            <a:pt x="251" y="440"/>
                          </a:lnTo>
                          <a:lnTo>
                            <a:pt x="250" y="424"/>
                          </a:lnTo>
                          <a:lnTo>
                            <a:pt x="250" y="410"/>
                          </a:lnTo>
                          <a:lnTo>
                            <a:pt x="248" y="396"/>
                          </a:lnTo>
                          <a:lnTo>
                            <a:pt x="247" y="382"/>
                          </a:lnTo>
                          <a:lnTo>
                            <a:pt x="246" y="371"/>
                          </a:lnTo>
                          <a:lnTo>
                            <a:pt x="246" y="363"/>
                          </a:lnTo>
                          <a:lnTo>
                            <a:pt x="247" y="354"/>
                          </a:lnTo>
                          <a:lnTo>
                            <a:pt x="250" y="339"/>
                          </a:lnTo>
                          <a:lnTo>
                            <a:pt x="254" y="321"/>
                          </a:lnTo>
                          <a:lnTo>
                            <a:pt x="259" y="299"/>
                          </a:lnTo>
                          <a:lnTo>
                            <a:pt x="266" y="277"/>
                          </a:lnTo>
                          <a:lnTo>
                            <a:pt x="272" y="254"/>
                          </a:lnTo>
                          <a:lnTo>
                            <a:pt x="279" y="233"/>
                          </a:lnTo>
                          <a:lnTo>
                            <a:pt x="284" y="214"/>
                          </a:lnTo>
                          <a:lnTo>
                            <a:pt x="290" y="199"/>
                          </a:lnTo>
                          <a:lnTo>
                            <a:pt x="294" y="188"/>
                          </a:lnTo>
                          <a:lnTo>
                            <a:pt x="298" y="180"/>
                          </a:lnTo>
                          <a:lnTo>
                            <a:pt x="302" y="168"/>
                          </a:lnTo>
                          <a:lnTo>
                            <a:pt x="306" y="155"/>
                          </a:lnTo>
                          <a:lnTo>
                            <a:pt x="310" y="141"/>
                          </a:lnTo>
                          <a:lnTo>
                            <a:pt x="312" y="126"/>
                          </a:lnTo>
                          <a:lnTo>
                            <a:pt x="315" y="109"/>
                          </a:lnTo>
                          <a:lnTo>
                            <a:pt x="316" y="94"/>
                          </a:lnTo>
                          <a:lnTo>
                            <a:pt x="316" y="79"/>
                          </a:lnTo>
                          <a:lnTo>
                            <a:pt x="314" y="64"/>
                          </a:lnTo>
                          <a:lnTo>
                            <a:pt x="310" y="51"/>
                          </a:lnTo>
                          <a:lnTo>
                            <a:pt x="304" y="41"/>
                          </a:lnTo>
                          <a:lnTo>
                            <a:pt x="300" y="30"/>
                          </a:lnTo>
                          <a:lnTo>
                            <a:pt x="298" y="22"/>
                          </a:lnTo>
                          <a:lnTo>
                            <a:pt x="294" y="14"/>
                          </a:lnTo>
                          <a:lnTo>
                            <a:pt x="291" y="8"/>
                          </a:lnTo>
                          <a:lnTo>
                            <a:pt x="288" y="4"/>
                          </a:lnTo>
                          <a:lnTo>
                            <a:pt x="284" y="1"/>
                          </a:lnTo>
                          <a:lnTo>
                            <a:pt x="279" y="0"/>
                          </a:lnTo>
                          <a:lnTo>
                            <a:pt x="271" y="1"/>
                          </a:lnTo>
                          <a:lnTo>
                            <a:pt x="263" y="3"/>
                          </a:lnTo>
                          <a:lnTo>
                            <a:pt x="262" y="2"/>
                          </a:lnTo>
                          <a:close/>
                        </a:path>
                      </a:pathLst>
                    </a:custGeom>
                    <a:solidFill>
                      <a:srgbClr val="eee76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884880" y="1552680"/>
                      <a:ext cx="18756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576">
                          <a:moveTo>
                            <a:pt x="239" y="3"/>
                          </a:moveTo>
                          <a:lnTo>
                            <a:pt x="235" y="6"/>
                          </a:lnTo>
                          <a:lnTo>
                            <a:pt x="228" y="12"/>
                          </a:lnTo>
                          <a:lnTo>
                            <a:pt x="217" y="20"/>
                          </a:lnTo>
                          <a:lnTo>
                            <a:pt x="207" y="31"/>
                          </a:lnTo>
                          <a:lnTo>
                            <a:pt x="195" y="43"/>
                          </a:lnTo>
                          <a:lnTo>
                            <a:pt x="184" y="57"/>
                          </a:lnTo>
                          <a:lnTo>
                            <a:pt x="173" y="71"/>
                          </a:lnTo>
                          <a:lnTo>
                            <a:pt x="167" y="85"/>
                          </a:lnTo>
                          <a:lnTo>
                            <a:pt x="163" y="100"/>
                          </a:lnTo>
                          <a:lnTo>
                            <a:pt x="163" y="113"/>
                          </a:lnTo>
                          <a:lnTo>
                            <a:pt x="165" y="128"/>
                          </a:lnTo>
                          <a:lnTo>
                            <a:pt x="165" y="147"/>
                          </a:lnTo>
                          <a:lnTo>
                            <a:pt x="164" y="168"/>
                          </a:lnTo>
                          <a:lnTo>
                            <a:pt x="161" y="192"/>
                          </a:lnTo>
                          <a:lnTo>
                            <a:pt x="157" y="215"/>
                          </a:lnTo>
                          <a:lnTo>
                            <a:pt x="153" y="240"/>
                          </a:lnTo>
                          <a:lnTo>
                            <a:pt x="147" y="262"/>
                          </a:lnTo>
                          <a:lnTo>
                            <a:pt x="140" y="282"/>
                          </a:lnTo>
                          <a:lnTo>
                            <a:pt x="133" y="300"/>
                          </a:lnTo>
                          <a:lnTo>
                            <a:pt x="125" y="313"/>
                          </a:lnTo>
                          <a:lnTo>
                            <a:pt x="116" y="327"/>
                          </a:lnTo>
                          <a:lnTo>
                            <a:pt x="101" y="349"/>
                          </a:lnTo>
                          <a:lnTo>
                            <a:pt x="85" y="373"/>
                          </a:lnTo>
                          <a:lnTo>
                            <a:pt x="68" y="400"/>
                          </a:lnTo>
                          <a:lnTo>
                            <a:pt x="51" y="430"/>
                          </a:lnTo>
                          <a:lnTo>
                            <a:pt x="35" y="460"/>
                          </a:lnTo>
                          <a:lnTo>
                            <a:pt x="20" y="488"/>
                          </a:lnTo>
                          <a:lnTo>
                            <a:pt x="9" y="513"/>
                          </a:lnTo>
                          <a:lnTo>
                            <a:pt x="1" y="532"/>
                          </a:lnTo>
                          <a:lnTo>
                            <a:pt x="0" y="546"/>
                          </a:lnTo>
                          <a:lnTo>
                            <a:pt x="3" y="555"/>
                          </a:lnTo>
                          <a:lnTo>
                            <a:pt x="4" y="562"/>
                          </a:lnTo>
                          <a:lnTo>
                            <a:pt x="4" y="567"/>
                          </a:lnTo>
                          <a:lnTo>
                            <a:pt x="5" y="572"/>
                          </a:lnTo>
                          <a:lnTo>
                            <a:pt x="5" y="574"/>
                          </a:lnTo>
                          <a:lnTo>
                            <a:pt x="7" y="575"/>
                          </a:lnTo>
                          <a:lnTo>
                            <a:pt x="8" y="576"/>
                          </a:lnTo>
                          <a:lnTo>
                            <a:pt x="9" y="575"/>
                          </a:lnTo>
                          <a:lnTo>
                            <a:pt x="11" y="574"/>
                          </a:lnTo>
                          <a:lnTo>
                            <a:pt x="12" y="573"/>
                          </a:lnTo>
                          <a:lnTo>
                            <a:pt x="15" y="569"/>
                          </a:lnTo>
                          <a:lnTo>
                            <a:pt x="19" y="563"/>
                          </a:lnTo>
                          <a:lnTo>
                            <a:pt x="21" y="557"/>
                          </a:lnTo>
                          <a:lnTo>
                            <a:pt x="25" y="549"/>
                          </a:lnTo>
                          <a:lnTo>
                            <a:pt x="29" y="541"/>
                          </a:lnTo>
                          <a:lnTo>
                            <a:pt x="35" y="533"/>
                          </a:lnTo>
                          <a:lnTo>
                            <a:pt x="39" y="524"/>
                          </a:lnTo>
                          <a:lnTo>
                            <a:pt x="45" y="517"/>
                          </a:lnTo>
                          <a:lnTo>
                            <a:pt x="51" y="511"/>
                          </a:lnTo>
                          <a:lnTo>
                            <a:pt x="57" y="507"/>
                          </a:lnTo>
                          <a:lnTo>
                            <a:pt x="63" y="503"/>
                          </a:lnTo>
                          <a:lnTo>
                            <a:pt x="69" y="500"/>
                          </a:lnTo>
                          <a:lnTo>
                            <a:pt x="75" y="496"/>
                          </a:lnTo>
                          <a:lnTo>
                            <a:pt x="80" y="493"/>
                          </a:lnTo>
                          <a:lnTo>
                            <a:pt x="85" y="489"/>
                          </a:lnTo>
                          <a:lnTo>
                            <a:pt x="92" y="487"/>
                          </a:lnTo>
                          <a:lnTo>
                            <a:pt x="99" y="484"/>
                          </a:lnTo>
                          <a:lnTo>
                            <a:pt x="105" y="482"/>
                          </a:lnTo>
                          <a:lnTo>
                            <a:pt x="112" y="480"/>
                          </a:lnTo>
                          <a:lnTo>
                            <a:pt x="121" y="480"/>
                          </a:lnTo>
                          <a:lnTo>
                            <a:pt x="131" y="478"/>
                          </a:lnTo>
                          <a:lnTo>
                            <a:pt x="143" y="476"/>
                          </a:lnTo>
                          <a:lnTo>
                            <a:pt x="155" y="472"/>
                          </a:lnTo>
                          <a:lnTo>
                            <a:pt x="168" y="468"/>
                          </a:lnTo>
                          <a:lnTo>
                            <a:pt x="180" y="463"/>
                          </a:lnTo>
                          <a:lnTo>
                            <a:pt x="193" y="458"/>
                          </a:lnTo>
                          <a:lnTo>
                            <a:pt x="204" y="452"/>
                          </a:lnTo>
                          <a:lnTo>
                            <a:pt x="213" y="448"/>
                          </a:lnTo>
                          <a:lnTo>
                            <a:pt x="221" y="443"/>
                          </a:lnTo>
                          <a:lnTo>
                            <a:pt x="225" y="438"/>
                          </a:lnTo>
                          <a:lnTo>
                            <a:pt x="228" y="432"/>
                          </a:lnTo>
                          <a:lnTo>
                            <a:pt x="229" y="424"/>
                          </a:lnTo>
                          <a:lnTo>
                            <a:pt x="229" y="413"/>
                          </a:lnTo>
                          <a:lnTo>
                            <a:pt x="229" y="400"/>
                          </a:lnTo>
                          <a:lnTo>
                            <a:pt x="228" y="388"/>
                          </a:lnTo>
                          <a:lnTo>
                            <a:pt x="227" y="373"/>
                          </a:lnTo>
                          <a:lnTo>
                            <a:pt x="227" y="360"/>
                          </a:lnTo>
                          <a:lnTo>
                            <a:pt x="225" y="349"/>
                          </a:lnTo>
                          <a:lnTo>
                            <a:pt x="224" y="339"/>
                          </a:lnTo>
                          <a:lnTo>
                            <a:pt x="224" y="331"/>
                          </a:lnTo>
                          <a:lnTo>
                            <a:pt x="225" y="323"/>
                          </a:lnTo>
                          <a:lnTo>
                            <a:pt x="228" y="310"/>
                          </a:lnTo>
                          <a:lnTo>
                            <a:pt x="232" y="293"/>
                          </a:lnTo>
                          <a:lnTo>
                            <a:pt x="237" y="273"/>
                          </a:lnTo>
                          <a:lnTo>
                            <a:pt x="243" y="253"/>
                          </a:lnTo>
                          <a:lnTo>
                            <a:pt x="248" y="232"/>
                          </a:lnTo>
                          <a:lnTo>
                            <a:pt x="255" y="213"/>
                          </a:lnTo>
                          <a:lnTo>
                            <a:pt x="260" y="195"/>
                          </a:lnTo>
                          <a:lnTo>
                            <a:pt x="264" y="181"/>
                          </a:lnTo>
                          <a:lnTo>
                            <a:pt x="268" y="173"/>
                          </a:lnTo>
                          <a:lnTo>
                            <a:pt x="271" y="164"/>
                          </a:lnTo>
                          <a:lnTo>
                            <a:pt x="275" y="154"/>
                          </a:lnTo>
                          <a:lnTo>
                            <a:pt x="279" y="142"/>
                          </a:lnTo>
                          <a:lnTo>
                            <a:pt x="281" y="129"/>
                          </a:lnTo>
                          <a:lnTo>
                            <a:pt x="285" y="115"/>
                          </a:lnTo>
                          <a:lnTo>
                            <a:pt x="287" y="101"/>
                          </a:lnTo>
                          <a:lnTo>
                            <a:pt x="288" y="87"/>
                          </a:lnTo>
                          <a:lnTo>
                            <a:pt x="288" y="72"/>
                          </a:lnTo>
                          <a:lnTo>
                            <a:pt x="285" y="59"/>
                          </a:lnTo>
                          <a:lnTo>
                            <a:pt x="281" y="48"/>
                          </a:lnTo>
                          <a:lnTo>
                            <a:pt x="277" y="37"/>
                          </a:lnTo>
                          <a:lnTo>
                            <a:pt x="273" y="29"/>
                          </a:lnTo>
                          <a:lnTo>
                            <a:pt x="271" y="20"/>
                          </a:lnTo>
                          <a:lnTo>
                            <a:pt x="268" y="13"/>
                          </a:lnTo>
                          <a:lnTo>
                            <a:pt x="265" y="9"/>
                          </a:lnTo>
                          <a:lnTo>
                            <a:pt x="263" y="4"/>
                          </a:lnTo>
                          <a:lnTo>
                            <a:pt x="259" y="2"/>
                          </a:lnTo>
                          <a:lnTo>
                            <a:pt x="253" y="0"/>
                          </a:lnTo>
                          <a:lnTo>
                            <a:pt x="248" y="2"/>
                          </a:lnTo>
                          <a:lnTo>
                            <a:pt x="240" y="4"/>
                          </a:lnTo>
                          <a:lnTo>
                            <a:pt x="239" y="3"/>
                          </a:lnTo>
                          <a:close/>
                        </a:path>
                      </a:pathLst>
                    </a:custGeom>
                    <a:solidFill>
                      <a:srgbClr val="e1df6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897840" y="1582200"/>
                      <a:ext cx="168480" cy="33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9" h="517">
                          <a:moveTo>
                            <a:pt x="215" y="1"/>
                          </a:moveTo>
                          <a:lnTo>
                            <a:pt x="212" y="4"/>
                          </a:lnTo>
                          <a:lnTo>
                            <a:pt x="204" y="10"/>
                          </a:lnTo>
                          <a:lnTo>
                            <a:pt x="196" y="17"/>
                          </a:lnTo>
                          <a:lnTo>
                            <a:pt x="185" y="26"/>
                          </a:lnTo>
                          <a:lnTo>
                            <a:pt x="175" y="38"/>
                          </a:lnTo>
                          <a:lnTo>
                            <a:pt x="165" y="50"/>
                          </a:lnTo>
                          <a:lnTo>
                            <a:pt x="156" y="63"/>
                          </a:lnTo>
                          <a:lnTo>
                            <a:pt x="149" y="76"/>
                          </a:lnTo>
                          <a:lnTo>
                            <a:pt x="147" y="89"/>
                          </a:lnTo>
                          <a:lnTo>
                            <a:pt x="147" y="101"/>
                          </a:lnTo>
                          <a:lnTo>
                            <a:pt x="148" y="114"/>
                          </a:lnTo>
                          <a:lnTo>
                            <a:pt x="149" y="131"/>
                          </a:lnTo>
                          <a:lnTo>
                            <a:pt x="148" y="150"/>
                          </a:lnTo>
                          <a:lnTo>
                            <a:pt x="145" y="171"/>
                          </a:lnTo>
                          <a:lnTo>
                            <a:pt x="141" y="193"/>
                          </a:lnTo>
                          <a:lnTo>
                            <a:pt x="137" y="215"/>
                          </a:lnTo>
                          <a:lnTo>
                            <a:pt x="132" y="235"/>
                          </a:lnTo>
                          <a:lnTo>
                            <a:pt x="127" y="253"/>
                          </a:lnTo>
                          <a:lnTo>
                            <a:pt x="120" y="269"/>
                          </a:lnTo>
                          <a:lnTo>
                            <a:pt x="113" y="281"/>
                          </a:lnTo>
                          <a:lnTo>
                            <a:pt x="104" y="294"/>
                          </a:lnTo>
                          <a:lnTo>
                            <a:pt x="92" y="312"/>
                          </a:lnTo>
                          <a:lnTo>
                            <a:pt x="77" y="334"/>
                          </a:lnTo>
                          <a:lnTo>
                            <a:pt x="61" y="360"/>
                          </a:lnTo>
                          <a:lnTo>
                            <a:pt x="45" y="386"/>
                          </a:lnTo>
                          <a:lnTo>
                            <a:pt x="31" y="413"/>
                          </a:lnTo>
                          <a:lnTo>
                            <a:pt x="17" y="438"/>
                          </a:lnTo>
                          <a:lnTo>
                            <a:pt x="8" y="459"/>
                          </a:lnTo>
                          <a:lnTo>
                            <a:pt x="1" y="478"/>
                          </a:lnTo>
                          <a:lnTo>
                            <a:pt x="0" y="490"/>
                          </a:lnTo>
                          <a:lnTo>
                            <a:pt x="1" y="498"/>
                          </a:lnTo>
                          <a:lnTo>
                            <a:pt x="3" y="504"/>
                          </a:lnTo>
                          <a:lnTo>
                            <a:pt x="4" y="510"/>
                          </a:lnTo>
                          <a:lnTo>
                            <a:pt x="4" y="514"/>
                          </a:lnTo>
                          <a:lnTo>
                            <a:pt x="5" y="516"/>
                          </a:lnTo>
                          <a:lnTo>
                            <a:pt x="5" y="517"/>
                          </a:lnTo>
                          <a:lnTo>
                            <a:pt x="7" y="517"/>
                          </a:lnTo>
                          <a:lnTo>
                            <a:pt x="8" y="517"/>
                          </a:lnTo>
                          <a:lnTo>
                            <a:pt x="9" y="516"/>
                          </a:lnTo>
                          <a:lnTo>
                            <a:pt x="11" y="514"/>
                          </a:lnTo>
                          <a:lnTo>
                            <a:pt x="13" y="511"/>
                          </a:lnTo>
                          <a:lnTo>
                            <a:pt x="16" y="507"/>
                          </a:lnTo>
                          <a:lnTo>
                            <a:pt x="20" y="501"/>
                          </a:lnTo>
                          <a:lnTo>
                            <a:pt x="23" y="494"/>
                          </a:lnTo>
                          <a:lnTo>
                            <a:pt x="27" y="485"/>
                          </a:lnTo>
                          <a:lnTo>
                            <a:pt x="31" y="478"/>
                          </a:lnTo>
                          <a:lnTo>
                            <a:pt x="35" y="471"/>
                          </a:lnTo>
                          <a:lnTo>
                            <a:pt x="40" y="464"/>
                          </a:lnTo>
                          <a:lnTo>
                            <a:pt x="45" y="459"/>
                          </a:lnTo>
                          <a:lnTo>
                            <a:pt x="51" y="455"/>
                          </a:lnTo>
                          <a:lnTo>
                            <a:pt x="57" y="452"/>
                          </a:lnTo>
                          <a:lnTo>
                            <a:pt x="63" y="449"/>
                          </a:lnTo>
                          <a:lnTo>
                            <a:pt x="67" y="445"/>
                          </a:lnTo>
                          <a:lnTo>
                            <a:pt x="72" y="443"/>
                          </a:lnTo>
                          <a:lnTo>
                            <a:pt x="77" y="439"/>
                          </a:lnTo>
                          <a:lnTo>
                            <a:pt x="83" y="437"/>
                          </a:lnTo>
                          <a:lnTo>
                            <a:pt x="88" y="435"/>
                          </a:lnTo>
                          <a:lnTo>
                            <a:pt x="95" y="432"/>
                          </a:lnTo>
                          <a:lnTo>
                            <a:pt x="101" y="431"/>
                          </a:lnTo>
                          <a:lnTo>
                            <a:pt x="109" y="430"/>
                          </a:lnTo>
                          <a:lnTo>
                            <a:pt x="117" y="429"/>
                          </a:lnTo>
                          <a:lnTo>
                            <a:pt x="128" y="427"/>
                          </a:lnTo>
                          <a:lnTo>
                            <a:pt x="139" y="424"/>
                          </a:lnTo>
                          <a:lnTo>
                            <a:pt x="151" y="420"/>
                          </a:lnTo>
                          <a:lnTo>
                            <a:pt x="163" y="416"/>
                          </a:lnTo>
                          <a:lnTo>
                            <a:pt x="173" y="411"/>
                          </a:lnTo>
                          <a:lnTo>
                            <a:pt x="184" y="406"/>
                          </a:lnTo>
                          <a:lnTo>
                            <a:pt x="192" y="402"/>
                          </a:lnTo>
                          <a:lnTo>
                            <a:pt x="199" y="398"/>
                          </a:lnTo>
                          <a:lnTo>
                            <a:pt x="203" y="393"/>
                          </a:lnTo>
                          <a:lnTo>
                            <a:pt x="205" y="389"/>
                          </a:lnTo>
                          <a:lnTo>
                            <a:pt x="205" y="380"/>
                          </a:lnTo>
                          <a:lnTo>
                            <a:pt x="207" y="371"/>
                          </a:lnTo>
                          <a:lnTo>
                            <a:pt x="207" y="359"/>
                          </a:lnTo>
                          <a:lnTo>
                            <a:pt x="205" y="347"/>
                          </a:lnTo>
                          <a:lnTo>
                            <a:pt x="204" y="335"/>
                          </a:lnTo>
                          <a:lnTo>
                            <a:pt x="204" y="324"/>
                          </a:lnTo>
                          <a:lnTo>
                            <a:pt x="203" y="313"/>
                          </a:lnTo>
                          <a:lnTo>
                            <a:pt x="201" y="304"/>
                          </a:lnTo>
                          <a:lnTo>
                            <a:pt x="201" y="296"/>
                          </a:lnTo>
                          <a:lnTo>
                            <a:pt x="203" y="289"/>
                          </a:lnTo>
                          <a:lnTo>
                            <a:pt x="205" y="278"/>
                          </a:lnTo>
                          <a:lnTo>
                            <a:pt x="208" y="262"/>
                          </a:lnTo>
                          <a:lnTo>
                            <a:pt x="213" y="245"/>
                          </a:lnTo>
                          <a:lnTo>
                            <a:pt x="219" y="227"/>
                          </a:lnTo>
                          <a:lnTo>
                            <a:pt x="224" y="208"/>
                          </a:lnTo>
                          <a:lnTo>
                            <a:pt x="229" y="190"/>
                          </a:lnTo>
                          <a:lnTo>
                            <a:pt x="233" y="175"/>
                          </a:lnTo>
                          <a:lnTo>
                            <a:pt x="237" y="162"/>
                          </a:lnTo>
                          <a:lnTo>
                            <a:pt x="241" y="154"/>
                          </a:lnTo>
                          <a:lnTo>
                            <a:pt x="244" y="147"/>
                          </a:lnTo>
                          <a:lnTo>
                            <a:pt x="247" y="137"/>
                          </a:lnTo>
                          <a:lnTo>
                            <a:pt x="251" y="127"/>
                          </a:lnTo>
                          <a:lnTo>
                            <a:pt x="253" y="115"/>
                          </a:lnTo>
                          <a:lnTo>
                            <a:pt x="256" y="103"/>
                          </a:lnTo>
                          <a:lnTo>
                            <a:pt x="259" y="90"/>
                          </a:lnTo>
                          <a:lnTo>
                            <a:pt x="259" y="77"/>
                          </a:lnTo>
                          <a:lnTo>
                            <a:pt x="259" y="64"/>
                          </a:lnTo>
                          <a:lnTo>
                            <a:pt x="257" y="52"/>
                          </a:lnTo>
                          <a:lnTo>
                            <a:pt x="253" y="42"/>
                          </a:lnTo>
                          <a:lnTo>
                            <a:pt x="249" y="32"/>
                          </a:lnTo>
                          <a:lnTo>
                            <a:pt x="247" y="25"/>
                          </a:lnTo>
                          <a:lnTo>
                            <a:pt x="244" y="17"/>
                          </a:lnTo>
                          <a:lnTo>
                            <a:pt x="241" y="11"/>
                          </a:lnTo>
                          <a:lnTo>
                            <a:pt x="239" y="6"/>
                          </a:lnTo>
                          <a:lnTo>
                            <a:pt x="236" y="3"/>
                          </a:lnTo>
                          <a:lnTo>
                            <a:pt x="232" y="0"/>
                          </a:lnTo>
                          <a:lnTo>
                            <a:pt x="228" y="0"/>
                          </a:lnTo>
                          <a:lnTo>
                            <a:pt x="223" y="0"/>
                          </a:lnTo>
                          <a:lnTo>
                            <a:pt x="216" y="1"/>
                          </a:lnTo>
                          <a:lnTo>
                            <a:pt x="215" y="1"/>
                          </a:lnTo>
                          <a:close/>
                        </a:path>
                      </a:pathLst>
                    </a:custGeom>
                    <a:solidFill>
                      <a:srgbClr val="d5d76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910800" y="1611000"/>
                      <a:ext cx="150480" cy="30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1" h="460">
                          <a:moveTo>
                            <a:pt x="191" y="1"/>
                          </a:moveTo>
                          <a:lnTo>
                            <a:pt x="188" y="3"/>
                          </a:lnTo>
                          <a:lnTo>
                            <a:pt x="181" y="8"/>
                          </a:lnTo>
                          <a:lnTo>
                            <a:pt x="173" y="15"/>
                          </a:lnTo>
                          <a:lnTo>
                            <a:pt x="164" y="24"/>
                          </a:lnTo>
                          <a:lnTo>
                            <a:pt x="156" y="33"/>
                          </a:lnTo>
                          <a:lnTo>
                            <a:pt x="147" y="44"/>
                          </a:lnTo>
                          <a:lnTo>
                            <a:pt x="139" y="55"/>
                          </a:lnTo>
                          <a:lnTo>
                            <a:pt x="133" y="67"/>
                          </a:lnTo>
                          <a:lnTo>
                            <a:pt x="129" y="78"/>
                          </a:lnTo>
                          <a:lnTo>
                            <a:pt x="131" y="88"/>
                          </a:lnTo>
                          <a:lnTo>
                            <a:pt x="132" y="101"/>
                          </a:lnTo>
                          <a:lnTo>
                            <a:pt x="132" y="116"/>
                          </a:lnTo>
                          <a:lnTo>
                            <a:pt x="131" y="133"/>
                          </a:lnTo>
                          <a:lnTo>
                            <a:pt x="129" y="152"/>
                          </a:lnTo>
                          <a:lnTo>
                            <a:pt x="125" y="171"/>
                          </a:lnTo>
                          <a:lnTo>
                            <a:pt x="123" y="190"/>
                          </a:lnTo>
                          <a:lnTo>
                            <a:pt x="117" y="209"/>
                          </a:lnTo>
                          <a:lnTo>
                            <a:pt x="112" y="225"/>
                          </a:lnTo>
                          <a:lnTo>
                            <a:pt x="107" y="238"/>
                          </a:lnTo>
                          <a:lnTo>
                            <a:pt x="100" y="249"/>
                          </a:lnTo>
                          <a:lnTo>
                            <a:pt x="92" y="261"/>
                          </a:lnTo>
                          <a:lnTo>
                            <a:pt x="81" y="277"/>
                          </a:lnTo>
                          <a:lnTo>
                            <a:pt x="68" y="297"/>
                          </a:lnTo>
                          <a:lnTo>
                            <a:pt x="55" y="320"/>
                          </a:lnTo>
                          <a:lnTo>
                            <a:pt x="40" y="343"/>
                          </a:lnTo>
                          <a:lnTo>
                            <a:pt x="27" y="367"/>
                          </a:lnTo>
                          <a:lnTo>
                            <a:pt x="16" y="389"/>
                          </a:lnTo>
                          <a:lnTo>
                            <a:pt x="7" y="408"/>
                          </a:lnTo>
                          <a:lnTo>
                            <a:pt x="1" y="425"/>
                          </a:lnTo>
                          <a:lnTo>
                            <a:pt x="0" y="435"/>
                          </a:lnTo>
                          <a:lnTo>
                            <a:pt x="1" y="443"/>
                          </a:lnTo>
                          <a:lnTo>
                            <a:pt x="3" y="448"/>
                          </a:lnTo>
                          <a:lnTo>
                            <a:pt x="3" y="453"/>
                          </a:lnTo>
                          <a:lnTo>
                            <a:pt x="4" y="455"/>
                          </a:lnTo>
                          <a:lnTo>
                            <a:pt x="4" y="458"/>
                          </a:lnTo>
                          <a:lnTo>
                            <a:pt x="5" y="459"/>
                          </a:lnTo>
                          <a:lnTo>
                            <a:pt x="5" y="460"/>
                          </a:lnTo>
                          <a:lnTo>
                            <a:pt x="7" y="459"/>
                          </a:lnTo>
                          <a:lnTo>
                            <a:pt x="8" y="458"/>
                          </a:lnTo>
                          <a:lnTo>
                            <a:pt x="9" y="457"/>
                          </a:lnTo>
                          <a:lnTo>
                            <a:pt x="12" y="454"/>
                          </a:lnTo>
                          <a:lnTo>
                            <a:pt x="15" y="450"/>
                          </a:lnTo>
                          <a:lnTo>
                            <a:pt x="17" y="445"/>
                          </a:lnTo>
                          <a:lnTo>
                            <a:pt x="20" y="438"/>
                          </a:lnTo>
                          <a:lnTo>
                            <a:pt x="24" y="432"/>
                          </a:lnTo>
                          <a:lnTo>
                            <a:pt x="27" y="425"/>
                          </a:lnTo>
                          <a:lnTo>
                            <a:pt x="31" y="419"/>
                          </a:lnTo>
                          <a:lnTo>
                            <a:pt x="36" y="413"/>
                          </a:lnTo>
                          <a:lnTo>
                            <a:pt x="40" y="408"/>
                          </a:lnTo>
                          <a:lnTo>
                            <a:pt x="45" y="405"/>
                          </a:lnTo>
                          <a:lnTo>
                            <a:pt x="51" y="401"/>
                          </a:lnTo>
                          <a:lnTo>
                            <a:pt x="55" y="399"/>
                          </a:lnTo>
                          <a:lnTo>
                            <a:pt x="60" y="396"/>
                          </a:lnTo>
                          <a:lnTo>
                            <a:pt x="64" y="393"/>
                          </a:lnTo>
                          <a:lnTo>
                            <a:pt x="68" y="391"/>
                          </a:lnTo>
                          <a:lnTo>
                            <a:pt x="73" y="388"/>
                          </a:lnTo>
                          <a:lnTo>
                            <a:pt x="79" y="386"/>
                          </a:lnTo>
                          <a:lnTo>
                            <a:pt x="84" y="385"/>
                          </a:lnTo>
                          <a:lnTo>
                            <a:pt x="89" y="382"/>
                          </a:lnTo>
                          <a:lnTo>
                            <a:pt x="96" y="382"/>
                          </a:lnTo>
                          <a:lnTo>
                            <a:pt x="104" y="381"/>
                          </a:lnTo>
                          <a:lnTo>
                            <a:pt x="113" y="380"/>
                          </a:lnTo>
                          <a:lnTo>
                            <a:pt x="124" y="376"/>
                          </a:lnTo>
                          <a:lnTo>
                            <a:pt x="133" y="373"/>
                          </a:lnTo>
                          <a:lnTo>
                            <a:pt x="144" y="369"/>
                          </a:lnTo>
                          <a:lnTo>
                            <a:pt x="155" y="366"/>
                          </a:lnTo>
                          <a:lnTo>
                            <a:pt x="163" y="361"/>
                          </a:lnTo>
                          <a:lnTo>
                            <a:pt x="171" y="358"/>
                          </a:lnTo>
                          <a:lnTo>
                            <a:pt x="176" y="353"/>
                          </a:lnTo>
                          <a:lnTo>
                            <a:pt x="180" y="349"/>
                          </a:lnTo>
                          <a:lnTo>
                            <a:pt x="181" y="345"/>
                          </a:lnTo>
                          <a:lnTo>
                            <a:pt x="183" y="339"/>
                          </a:lnTo>
                          <a:lnTo>
                            <a:pt x="183" y="329"/>
                          </a:lnTo>
                          <a:lnTo>
                            <a:pt x="183" y="320"/>
                          </a:lnTo>
                          <a:lnTo>
                            <a:pt x="183" y="309"/>
                          </a:lnTo>
                          <a:lnTo>
                            <a:pt x="181" y="297"/>
                          </a:lnTo>
                          <a:lnTo>
                            <a:pt x="180" y="287"/>
                          </a:lnTo>
                          <a:lnTo>
                            <a:pt x="180" y="277"/>
                          </a:lnTo>
                          <a:lnTo>
                            <a:pt x="179" y="270"/>
                          </a:lnTo>
                          <a:lnTo>
                            <a:pt x="179" y="264"/>
                          </a:lnTo>
                          <a:lnTo>
                            <a:pt x="180" y="257"/>
                          </a:lnTo>
                          <a:lnTo>
                            <a:pt x="181" y="247"/>
                          </a:lnTo>
                          <a:lnTo>
                            <a:pt x="185" y="232"/>
                          </a:lnTo>
                          <a:lnTo>
                            <a:pt x="189" y="217"/>
                          </a:lnTo>
                          <a:lnTo>
                            <a:pt x="193" y="201"/>
                          </a:lnTo>
                          <a:lnTo>
                            <a:pt x="199" y="184"/>
                          </a:lnTo>
                          <a:lnTo>
                            <a:pt x="203" y="169"/>
                          </a:lnTo>
                          <a:lnTo>
                            <a:pt x="208" y="156"/>
                          </a:lnTo>
                          <a:lnTo>
                            <a:pt x="211" y="144"/>
                          </a:lnTo>
                          <a:lnTo>
                            <a:pt x="213" y="137"/>
                          </a:lnTo>
                          <a:lnTo>
                            <a:pt x="216" y="130"/>
                          </a:lnTo>
                          <a:lnTo>
                            <a:pt x="220" y="123"/>
                          </a:lnTo>
                          <a:lnTo>
                            <a:pt x="223" y="113"/>
                          </a:lnTo>
                          <a:lnTo>
                            <a:pt x="225" y="103"/>
                          </a:lnTo>
                          <a:lnTo>
                            <a:pt x="228" y="91"/>
                          </a:lnTo>
                          <a:lnTo>
                            <a:pt x="229" y="79"/>
                          </a:lnTo>
                          <a:lnTo>
                            <a:pt x="231" y="68"/>
                          </a:lnTo>
                          <a:lnTo>
                            <a:pt x="231" y="57"/>
                          </a:lnTo>
                          <a:lnTo>
                            <a:pt x="228" y="46"/>
                          </a:lnTo>
                          <a:lnTo>
                            <a:pt x="225" y="36"/>
                          </a:lnTo>
                          <a:lnTo>
                            <a:pt x="221" y="28"/>
                          </a:lnTo>
                          <a:lnTo>
                            <a:pt x="219" y="21"/>
                          </a:lnTo>
                          <a:lnTo>
                            <a:pt x="216" y="15"/>
                          </a:lnTo>
                          <a:lnTo>
                            <a:pt x="215" y="9"/>
                          </a:lnTo>
                          <a:lnTo>
                            <a:pt x="212" y="6"/>
                          </a:lnTo>
                          <a:lnTo>
                            <a:pt x="209" y="2"/>
                          </a:lnTo>
                          <a:lnTo>
                            <a:pt x="207" y="0"/>
                          </a:lnTo>
                          <a:lnTo>
                            <a:pt x="203" y="0"/>
                          </a:lnTo>
                          <a:lnTo>
                            <a:pt x="197" y="0"/>
                          </a:lnTo>
                          <a:lnTo>
                            <a:pt x="192" y="1"/>
                          </a:lnTo>
                          <a:lnTo>
                            <a:pt x="191" y="1"/>
                          </a:lnTo>
                          <a:close/>
                        </a:path>
                      </a:pathLst>
                    </a:custGeom>
                    <a:solidFill>
                      <a:srgbClr val="c9d06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923760" y="1639800"/>
                      <a:ext cx="131040" cy="26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" h="402">
                          <a:moveTo>
                            <a:pt x="167" y="1"/>
                          </a:moveTo>
                          <a:lnTo>
                            <a:pt x="164" y="3"/>
                          </a:lnTo>
                          <a:lnTo>
                            <a:pt x="159" y="7"/>
                          </a:lnTo>
                          <a:lnTo>
                            <a:pt x="152" y="13"/>
                          </a:lnTo>
                          <a:lnTo>
                            <a:pt x="144" y="21"/>
                          </a:lnTo>
                          <a:lnTo>
                            <a:pt x="136" y="29"/>
                          </a:lnTo>
                          <a:lnTo>
                            <a:pt x="128" y="39"/>
                          </a:lnTo>
                          <a:lnTo>
                            <a:pt x="121" y="48"/>
                          </a:lnTo>
                          <a:lnTo>
                            <a:pt x="116" y="59"/>
                          </a:lnTo>
                          <a:lnTo>
                            <a:pt x="113" y="68"/>
                          </a:lnTo>
                          <a:lnTo>
                            <a:pt x="113" y="77"/>
                          </a:lnTo>
                          <a:lnTo>
                            <a:pt x="115" y="88"/>
                          </a:lnTo>
                          <a:lnTo>
                            <a:pt x="115" y="101"/>
                          </a:lnTo>
                          <a:lnTo>
                            <a:pt x="115" y="116"/>
                          </a:lnTo>
                          <a:lnTo>
                            <a:pt x="113" y="133"/>
                          </a:lnTo>
                          <a:lnTo>
                            <a:pt x="111" y="149"/>
                          </a:lnTo>
                          <a:lnTo>
                            <a:pt x="107" y="166"/>
                          </a:lnTo>
                          <a:lnTo>
                            <a:pt x="103" y="183"/>
                          </a:lnTo>
                          <a:lnTo>
                            <a:pt x="99" y="197"/>
                          </a:lnTo>
                          <a:lnTo>
                            <a:pt x="93" y="208"/>
                          </a:lnTo>
                          <a:lnTo>
                            <a:pt x="88" y="218"/>
                          </a:lnTo>
                          <a:lnTo>
                            <a:pt x="80" y="229"/>
                          </a:lnTo>
                          <a:lnTo>
                            <a:pt x="71" y="243"/>
                          </a:lnTo>
                          <a:lnTo>
                            <a:pt x="60" y="260"/>
                          </a:lnTo>
                          <a:lnTo>
                            <a:pt x="48" y="279"/>
                          </a:lnTo>
                          <a:lnTo>
                            <a:pt x="35" y="301"/>
                          </a:lnTo>
                          <a:lnTo>
                            <a:pt x="24" y="321"/>
                          </a:lnTo>
                          <a:lnTo>
                            <a:pt x="13" y="339"/>
                          </a:lnTo>
                          <a:lnTo>
                            <a:pt x="5" y="357"/>
                          </a:lnTo>
                          <a:lnTo>
                            <a:pt x="1" y="371"/>
                          </a:lnTo>
                          <a:lnTo>
                            <a:pt x="0" y="381"/>
                          </a:lnTo>
                          <a:lnTo>
                            <a:pt x="1" y="387"/>
                          </a:lnTo>
                          <a:lnTo>
                            <a:pt x="1" y="393"/>
                          </a:lnTo>
                          <a:lnTo>
                            <a:pt x="3" y="396"/>
                          </a:lnTo>
                          <a:lnTo>
                            <a:pt x="3" y="399"/>
                          </a:lnTo>
                          <a:lnTo>
                            <a:pt x="4" y="401"/>
                          </a:lnTo>
                          <a:lnTo>
                            <a:pt x="4" y="402"/>
                          </a:lnTo>
                          <a:lnTo>
                            <a:pt x="5" y="402"/>
                          </a:lnTo>
                          <a:lnTo>
                            <a:pt x="5" y="402"/>
                          </a:lnTo>
                          <a:lnTo>
                            <a:pt x="7" y="401"/>
                          </a:lnTo>
                          <a:lnTo>
                            <a:pt x="8" y="400"/>
                          </a:lnTo>
                          <a:lnTo>
                            <a:pt x="11" y="397"/>
                          </a:lnTo>
                          <a:lnTo>
                            <a:pt x="12" y="394"/>
                          </a:lnTo>
                          <a:lnTo>
                            <a:pt x="15" y="389"/>
                          </a:lnTo>
                          <a:lnTo>
                            <a:pt x="17" y="383"/>
                          </a:lnTo>
                          <a:lnTo>
                            <a:pt x="20" y="377"/>
                          </a:lnTo>
                          <a:lnTo>
                            <a:pt x="24" y="371"/>
                          </a:lnTo>
                          <a:lnTo>
                            <a:pt x="27" y="365"/>
                          </a:lnTo>
                          <a:lnTo>
                            <a:pt x="31" y="361"/>
                          </a:lnTo>
                          <a:lnTo>
                            <a:pt x="35" y="357"/>
                          </a:lnTo>
                          <a:lnTo>
                            <a:pt x="40" y="354"/>
                          </a:lnTo>
                          <a:lnTo>
                            <a:pt x="44" y="351"/>
                          </a:lnTo>
                          <a:lnTo>
                            <a:pt x="48" y="349"/>
                          </a:lnTo>
                          <a:lnTo>
                            <a:pt x="52" y="347"/>
                          </a:lnTo>
                          <a:lnTo>
                            <a:pt x="56" y="344"/>
                          </a:lnTo>
                          <a:lnTo>
                            <a:pt x="60" y="342"/>
                          </a:lnTo>
                          <a:lnTo>
                            <a:pt x="64" y="339"/>
                          </a:lnTo>
                          <a:lnTo>
                            <a:pt x="68" y="337"/>
                          </a:lnTo>
                          <a:lnTo>
                            <a:pt x="73" y="336"/>
                          </a:lnTo>
                          <a:lnTo>
                            <a:pt x="79" y="335"/>
                          </a:lnTo>
                          <a:lnTo>
                            <a:pt x="84" y="335"/>
                          </a:lnTo>
                          <a:lnTo>
                            <a:pt x="91" y="334"/>
                          </a:lnTo>
                          <a:lnTo>
                            <a:pt x="99" y="331"/>
                          </a:lnTo>
                          <a:lnTo>
                            <a:pt x="108" y="329"/>
                          </a:lnTo>
                          <a:lnTo>
                            <a:pt x="117" y="327"/>
                          </a:lnTo>
                          <a:lnTo>
                            <a:pt x="125" y="323"/>
                          </a:lnTo>
                          <a:lnTo>
                            <a:pt x="135" y="319"/>
                          </a:lnTo>
                          <a:lnTo>
                            <a:pt x="143" y="316"/>
                          </a:lnTo>
                          <a:lnTo>
                            <a:pt x="149" y="312"/>
                          </a:lnTo>
                          <a:lnTo>
                            <a:pt x="155" y="309"/>
                          </a:lnTo>
                          <a:lnTo>
                            <a:pt x="157" y="305"/>
                          </a:lnTo>
                          <a:lnTo>
                            <a:pt x="159" y="302"/>
                          </a:lnTo>
                          <a:lnTo>
                            <a:pt x="160" y="296"/>
                          </a:lnTo>
                          <a:lnTo>
                            <a:pt x="160" y="288"/>
                          </a:lnTo>
                          <a:lnTo>
                            <a:pt x="160" y="279"/>
                          </a:lnTo>
                          <a:lnTo>
                            <a:pt x="160" y="270"/>
                          </a:lnTo>
                          <a:lnTo>
                            <a:pt x="159" y="260"/>
                          </a:lnTo>
                          <a:lnTo>
                            <a:pt x="157" y="251"/>
                          </a:lnTo>
                          <a:lnTo>
                            <a:pt x="157" y="243"/>
                          </a:lnTo>
                          <a:lnTo>
                            <a:pt x="156" y="236"/>
                          </a:lnTo>
                          <a:lnTo>
                            <a:pt x="156" y="231"/>
                          </a:lnTo>
                          <a:lnTo>
                            <a:pt x="157" y="225"/>
                          </a:lnTo>
                          <a:lnTo>
                            <a:pt x="159" y="216"/>
                          </a:lnTo>
                          <a:lnTo>
                            <a:pt x="161" y="204"/>
                          </a:lnTo>
                          <a:lnTo>
                            <a:pt x="165" y="190"/>
                          </a:lnTo>
                          <a:lnTo>
                            <a:pt x="169" y="175"/>
                          </a:lnTo>
                          <a:lnTo>
                            <a:pt x="173" y="161"/>
                          </a:lnTo>
                          <a:lnTo>
                            <a:pt x="177" y="147"/>
                          </a:lnTo>
                          <a:lnTo>
                            <a:pt x="181" y="135"/>
                          </a:lnTo>
                          <a:lnTo>
                            <a:pt x="184" y="126"/>
                          </a:lnTo>
                          <a:lnTo>
                            <a:pt x="187" y="119"/>
                          </a:lnTo>
                          <a:lnTo>
                            <a:pt x="189" y="114"/>
                          </a:lnTo>
                          <a:lnTo>
                            <a:pt x="192" y="107"/>
                          </a:lnTo>
                          <a:lnTo>
                            <a:pt x="195" y="99"/>
                          </a:lnTo>
                          <a:lnTo>
                            <a:pt x="197" y="89"/>
                          </a:lnTo>
                          <a:lnTo>
                            <a:pt x="199" y="80"/>
                          </a:lnTo>
                          <a:lnTo>
                            <a:pt x="200" y="69"/>
                          </a:lnTo>
                          <a:lnTo>
                            <a:pt x="201" y="59"/>
                          </a:lnTo>
                          <a:lnTo>
                            <a:pt x="201" y="49"/>
                          </a:lnTo>
                          <a:lnTo>
                            <a:pt x="200" y="40"/>
                          </a:lnTo>
                          <a:lnTo>
                            <a:pt x="197" y="33"/>
                          </a:lnTo>
                          <a:lnTo>
                            <a:pt x="193" y="26"/>
                          </a:lnTo>
                          <a:lnTo>
                            <a:pt x="191" y="18"/>
                          </a:lnTo>
                          <a:lnTo>
                            <a:pt x="189" y="13"/>
                          </a:lnTo>
                          <a:lnTo>
                            <a:pt x="187" y="8"/>
                          </a:lnTo>
                          <a:lnTo>
                            <a:pt x="185" y="4"/>
                          </a:lnTo>
                          <a:lnTo>
                            <a:pt x="183" y="2"/>
                          </a:lnTo>
                          <a:lnTo>
                            <a:pt x="180" y="0"/>
                          </a:lnTo>
                          <a:lnTo>
                            <a:pt x="177" y="0"/>
                          </a:lnTo>
                          <a:lnTo>
                            <a:pt x="173" y="0"/>
                          </a:lnTo>
                          <a:lnTo>
                            <a:pt x="168" y="1"/>
                          </a:lnTo>
                          <a:lnTo>
                            <a:pt x="167" y="1"/>
                          </a:lnTo>
                          <a:close/>
                        </a:path>
                      </a:pathLst>
                    </a:custGeom>
                    <a:solidFill>
                      <a:srgbClr val="bdc85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937440" y="1667880"/>
                      <a:ext cx="11196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2" h="345">
                          <a:moveTo>
                            <a:pt x="143" y="1"/>
                          </a:moveTo>
                          <a:lnTo>
                            <a:pt x="140" y="4"/>
                          </a:lnTo>
                          <a:lnTo>
                            <a:pt x="136" y="7"/>
                          </a:lnTo>
                          <a:lnTo>
                            <a:pt x="130" y="12"/>
                          </a:lnTo>
                          <a:lnTo>
                            <a:pt x="123" y="18"/>
                          </a:lnTo>
                          <a:lnTo>
                            <a:pt x="116" y="25"/>
                          </a:lnTo>
                          <a:lnTo>
                            <a:pt x="110" y="33"/>
                          </a:lnTo>
                          <a:lnTo>
                            <a:pt x="103" y="42"/>
                          </a:lnTo>
                          <a:lnTo>
                            <a:pt x="99" y="51"/>
                          </a:lnTo>
                          <a:lnTo>
                            <a:pt x="96" y="59"/>
                          </a:lnTo>
                          <a:lnTo>
                            <a:pt x="98" y="68"/>
                          </a:lnTo>
                          <a:lnTo>
                            <a:pt x="98" y="76"/>
                          </a:lnTo>
                          <a:lnTo>
                            <a:pt x="99" y="88"/>
                          </a:lnTo>
                          <a:lnTo>
                            <a:pt x="98" y="101"/>
                          </a:lnTo>
                          <a:lnTo>
                            <a:pt x="96" y="115"/>
                          </a:lnTo>
                          <a:lnTo>
                            <a:pt x="94" y="129"/>
                          </a:lnTo>
                          <a:lnTo>
                            <a:pt x="91" y="143"/>
                          </a:lnTo>
                          <a:lnTo>
                            <a:pt x="87" y="157"/>
                          </a:lnTo>
                          <a:lnTo>
                            <a:pt x="83" y="169"/>
                          </a:lnTo>
                          <a:lnTo>
                            <a:pt x="79" y="180"/>
                          </a:lnTo>
                          <a:lnTo>
                            <a:pt x="75" y="188"/>
                          </a:lnTo>
                          <a:lnTo>
                            <a:pt x="68" y="196"/>
                          </a:lnTo>
                          <a:lnTo>
                            <a:pt x="60" y="208"/>
                          </a:lnTo>
                          <a:lnTo>
                            <a:pt x="51" y="223"/>
                          </a:lnTo>
                          <a:lnTo>
                            <a:pt x="40" y="240"/>
                          </a:lnTo>
                          <a:lnTo>
                            <a:pt x="30" y="258"/>
                          </a:lnTo>
                          <a:lnTo>
                            <a:pt x="20" y="275"/>
                          </a:lnTo>
                          <a:lnTo>
                            <a:pt x="11" y="292"/>
                          </a:lnTo>
                          <a:lnTo>
                            <a:pt x="4" y="307"/>
                          </a:lnTo>
                          <a:lnTo>
                            <a:pt x="0" y="319"/>
                          </a:lnTo>
                          <a:lnTo>
                            <a:pt x="0" y="327"/>
                          </a:lnTo>
                          <a:lnTo>
                            <a:pt x="0" y="332"/>
                          </a:lnTo>
                          <a:lnTo>
                            <a:pt x="2" y="337"/>
                          </a:lnTo>
                          <a:lnTo>
                            <a:pt x="2" y="340"/>
                          </a:lnTo>
                          <a:lnTo>
                            <a:pt x="3" y="343"/>
                          </a:lnTo>
                          <a:lnTo>
                            <a:pt x="3" y="344"/>
                          </a:lnTo>
                          <a:lnTo>
                            <a:pt x="3" y="345"/>
                          </a:lnTo>
                          <a:lnTo>
                            <a:pt x="4" y="345"/>
                          </a:lnTo>
                          <a:lnTo>
                            <a:pt x="4" y="345"/>
                          </a:lnTo>
                          <a:lnTo>
                            <a:pt x="6" y="344"/>
                          </a:lnTo>
                          <a:lnTo>
                            <a:pt x="7" y="344"/>
                          </a:lnTo>
                          <a:lnTo>
                            <a:pt x="8" y="341"/>
                          </a:lnTo>
                          <a:lnTo>
                            <a:pt x="10" y="338"/>
                          </a:lnTo>
                          <a:lnTo>
                            <a:pt x="12" y="334"/>
                          </a:lnTo>
                          <a:lnTo>
                            <a:pt x="15" y="330"/>
                          </a:lnTo>
                          <a:lnTo>
                            <a:pt x="18" y="325"/>
                          </a:lnTo>
                          <a:lnTo>
                            <a:pt x="20" y="319"/>
                          </a:lnTo>
                          <a:lnTo>
                            <a:pt x="23" y="314"/>
                          </a:lnTo>
                          <a:lnTo>
                            <a:pt x="26" y="309"/>
                          </a:lnTo>
                          <a:lnTo>
                            <a:pt x="30" y="306"/>
                          </a:lnTo>
                          <a:lnTo>
                            <a:pt x="34" y="304"/>
                          </a:lnTo>
                          <a:lnTo>
                            <a:pt x="38" y="301"/>
                          </a:lnTo>
                          <a:lnTo>
                            <a:pt x="40" y="300"/>
                          </a:lnTo>
                          <a:lnTo>
                            <a:pt x="44" y="298"/>
                          </a:lnTo>
                          <a:lnTo>
                            <a:pt x="47" y="295"/>
                          </a:lnTo>
                          <a:lnTo>
                            <a:pt x="51" y="293"/>
                          </a:lnTo>
                          <a:lnTo>
                            <a:pt x="55" y="292"/>
                          </a:lnTo>
                          <a:lnTo>
                            <a:pt x="58" y="289"/>
                          </a:lnTo>
                          <a:lnTo>
                            <a:pt x="62" y="288"/>
                          </a:lnTo>
                          <a:lnTo>
                            <a:pt x="67" y="288"/>
                          </a:lnTo>
                          <a:lnTo>
                            <a:pt x="72" y="287"/>
                          </a:lnTo>
                          <a:lnTo>
                            <a:pt x="78" y="287"/>
                          </a:lnTo>
                          <a:lnTo>
                            <a:pt x="84" y="285"/>
                          </a:lnTo>
                          <a:lnTo>
                            <a:pt x="92" y="284"/>
                          </a:lnTo>
                          <a:lnTo>
                            <a:pt x="100" y="280"/>
                          </a:lnTo>
                          <a:lnTo>
                            <a:pt x="107" y="278"/>
                          </a:lnTo>
                          <a:lnTo>
                            <a:pt x="115" y="274"/>
                          </a:lnTo>
                          <a:lnTo>
                            <a:pt x="122" y="272"/>
                          </a:lnTo>
                          <a:lnTo>
                            <a:pt x="127" y="268"/>
                          </a:lnTo>
                          <a:lnTo>
                            <a:pt x="132" y="266"/>
                          </a:lnTo>
                          <a:lnTo>
                            <a:pt x="135" y="262"/>
                          </a:lnTo>
                          <a:lnTo>
                            <a:pt x="136" y="260"/>
                          </a:lnTo>
                          <a:lnTo>
                            <a:pt x="136" y="254"/>
                          </a:lnTo>
                          <a:lnTo>
                            <a:pt x="136" y="248"/>
                          </a:lnTo>
                          <a:lnTo>
                            <a:pt x="136" y="240"/>
                          </a:lnTo>
                          <a:lnTo>
                            <a:pt x="136" y="232"/>
                          </a:lnTo>
                          <a:lnTo>
                            <a:pt x="136" y="223"/>
                          </a:lnTo>
                          <a:lnTo>
                            <a:pt x="135" y="216"/>
                          </a:lnTo>
                          <a:lnTo>
                            <a:pt x="135" y="209"/>
                          </a:lnTo>
                          <a:lnTo>
                            <a:pt x="134" y="203"/>
                          </a:lnTo>
                          <a:lnTo>
                            <a:pt x="134" y="199"/>
                          </a:lnTo>
                          <a:lnTo>
                            <a:pt x="134" y="194"/>
                          </a:lnTo>
                          <a:lnTo>
                            <a:pt x="136" y="186"/>
                          </a:lnTo>
                          <a:lnTo>
                            <a:pt x="139" y="175"/>
                          </a:lnTo>
                          <a:lnTo>
                            <a:pt x="142" y="163"/>
                          </a:lnTo>
                          <a:lnTo>
                            <a:pt x="144" y="151"/>
                          </a:lnTo>
                          <a:lnTo>
                            <a:pt x="148" y="140"/>
                          </a:lnTo>
                          <a:lnTo>
                            <a:pt x="152" y="128"/>
                          </a:lnTo>
                          <a:lnTo>
                            <a:pt x="155" y="117"/>
                          </a:lnTo>
                          <a:lnTo>
                            <a:pt x="158" y="109"/>
                          </a:lnTo>
                          <a:lnTo>
                            <a:pt x="160" y="103"/>
                          </a:lnTo>
                          <a:lnTo>
                            <a:pt x="162" y="98"/>
                          </a:lnTo>
                          <a:lnTo>
                            <a:pt x="164" y="92"/>
                          </a:lnTo>
                          <a:lnTo>
                            <a:pt x="166" y="85"/>
                          </a:lnTo>
                          <a:lnTo>
                            <a:pt x="168" y="77"/>
                          </a:lnTo>
                          <a:lnTo>
                            <a:pt x="170" y="69"/>
                          </a:lnTo>
                          <a:lnTo>
                            <a:pt x="171" y="60"/>
                          </a:lnTo>
                          <a:lnTo>
                            <a:pt x="172" y="51"/>
                          </a:lnTo>
                          <a:lnTo>
                            <a:pt x="172" y="43"/>
                          </a:lnTo>
                          <a:lnTo>
                            <a:pt x="171" y="36"/>
                          </a:lnTo>
                          <a:lnTo>
                            <a:pt x="168" y="29"/>
                          </a:lnTo>
                          <a:lnTo>
                            <a:pt x="166" y="23"/>
                          </a:lnTo>
                          <a:lnTo>
                            <a:pt x="163" y="17"/>
                          </a:lnTo>
                          <a:lnTo>
                            <a:pt x="162" y="12"/>
                          </a:lnTo>
                          <a:lnTo>
                            <a:pt x="160" y="8"/>
                          </a:lnTo>
                          <a:lnTo>
                            <a:pt x="159" y="5"/>
                          </a:lnTo>
                          <a:lnTo>
                            <a:pt x="156" y="3"/>
                          </a:lnTo>
                          <a:lnTo>
                            <a:pt x="155" y="0"/>
                          </a:lnTo>
                          <a:lnTo>
                            <a:pt x="151" y="0"/>
                          </a:lnTo>
                          <a:lnTo>
                            <a:pt x="148" y="0"/>
                          </a:lnTo>
                          <a:lnTo>
                            <a:pt x="143" y="1"/>
                          </a:lnTo>
                          <a:close/>
                        </a:path>
                      </a:pathLst>
                    </a:custGeom>
                    <a:solidFill>
                      <a:srgbClr val="b1c05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>
                      <a:off x="950040" y="1696680"/>
                      <a:ext cx="93600" cy="18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4" h="288">
                          <a:moveTo>
                            <a:pt x="119" y="1"/>
                          </a:moveTo>
                          <a:lnTo>
                            <a:pt x="117" y="2"/>
                          </a:lnTo>
                          <a:lnTo>
                            <a:pt x="113" y="6"/>
                          </a:lnTo>
                          <a:lnTo>
                            <a:pt x="109" y="9"/>
                          </a:lnTo>
                          <a:lnTo>
                            <a:pt x="103" y="15"/>
                          </a:lnTo>
                          <a:lnTo>
                            <a:pt x="97" y="21"/>
                          </a:lnTo>
                          <a:lnTo>
                            <a:pt x="92" y="28"/>
                          </a:lnTo>
                          <a:lnTo>
                            <a:pt x="87" y="35"/>
                          </a:lnTo>
                          <a:lnTo>
                            <a:pt x="83" y="42"/>
                          </a:lnTo>
                          <a:lnTo>
                            <a:pt x="81" y="49"/>
                          </a:lnTo>
                          <a:lnTo>
                            <a:pt x="81" y="55"/>
                          </a:lnTo>
                          <a:lnTo>
                            <a:pt x="83" y="64"/>
                          </a:lnTo>
                          <a:lnTo>
                            <a:pt x="83" y="73"/>
                          </a:lnTo>
                          <a:lnTo>
                            <a:pt x="83" y="84"/>
                          </a:lnTo>
                          <a:lnTo>
                            <a:pt x="81" y="96"/>
                          </a:lnTo>
                          <a:lnTo>
                            <a:pt x="79" y="107"/>
                          </a:lnTo>
                          <a:lnTo>
                            <a:pt x="76" y="119"/>
                          </a:lnTo>
                          <a:lnTo>
                            <a:pt x="73" y="131"/>
                          </a:lnTo>
                          <a:lnTo>
                            <a:pt x="71" y="140"/>
                          </a:lnTo>
                          <a:lnTo>
                            <a:pt x="67" y="150"/>
                          </a:lnTo>
                          <a:lnTo>
                            <a:pt x="63" y="156"/>
                          </a:lnTo>
                          <a:lnTo>
                            <a:pt x="57" y="164"/>
                          </a:lnTo>
                          <a:lnTo>
                            <a:pt x="51" y="173"/>
                          </a:lnTo>
                          <a:lnTo>
                            <a:pt x="43" y="186"/>
                          </a:lnTo>
                          <a:lnTo>
                            <a:pt x="35" y="201"/>
                          </a:lnTo>
                          <a:lnTo>
                            <a:pt x="25" y="215"/>
                          </a:lnTo>
                          <a:lnTo>
                            <a:pt x="17" y="230"/>
                          </a:lnTo>
                          <a:lnTo>
                            <a:pt x="9" y="243"/>
                          </a:lnTo>
                          <a:lnTo>
                            <a:pt x="4" y="256"/>
                          </a:lnTo>
                          <a:lnTo>
                            <a:pt x="1" y="265"/>
                          </a:lnTo>
                          <a:lnTo>
                            <a:pt x="0" y="273"/>
                          </a:lnTo>
                          <a:lnTo>
                            <a:pt x="1" y="277"/>
                          </a:lnTo>
                          <a:lnTo>
                            <a:pt x="1" y="281"/>
                          </a:lnTo>
                          <a:lnTo>
                            <a:pt x="3" y="283"/>
                          </a:lnTo>
                          <a:lnTo>
                            <a:pt x="3" y="286"/>
                          </a:lnTo>
                          <a:lnTo>
                            <a:pt x="3" y="287"/>
                          </a:lnTo>
                          <a:lnTo>
                            <a:pt x="3" y="288"/>
                          </a:lnTo>
                          <a:lnTo>
                            <a:pt x="4" y="288"/>
                          </a:lnTo>
                          <a:lnTo>
                            <a:pt x="4" y="288"/>
                          </a:lnTo>
                          <a:lnTo>
                            <a:pt x="5" y="287"/>
                          </a:lnTo>
                          <a:lnTo>
                            <a:pt x="7" y="286"/>
                          </a:lnTo>
                          <a:lnTo>
                            <a:pt x="8" y="284"/>
                          </a:lnTo>
                          <a:lnTo>
                            <a:pt x="9" y="282"/>
                          </a:lnTo>
                          <a:lnTo>
                            <a:pt x="11" y="278"/>
                          </a:lnTo>
                          <a:lnTo>
                            <a:pt x="13" y="274"/>
                          </a:lnTo>
                          <a:lnTo>
                            <a:pt x="15" y="270"/>
                          </a:lnTo>
                          <a:lnTo>
                            <a:pt x="17" y="265"/>
                          </a:lnTo>
                          <a:lnTo>
                            <a:pt x="20" y="262"/>
                          </a:lnTo>
                          <a:lnTo>
                            <a:pt x="23" y="258"/>
                          </a:lnTo>
                          <a:lnTo>
                            <a:pt x="25" y="255"/>
                          </a:lnTo>
                          <a:lnTo>
                            <a:pt x="28" y="252"/>
                          </a:lnTo>
                          <a:lnTo>
                            <a:pt x="32" y="251"/>
                          </a:lnTo>
                          <a:lnTo>
                            <a:pt x="35" y="250"/>
                          </a:lnTo>
                          <a:lnTo>
                            <a:pt x="37" y="248"/>
                          </a:lnTo>
                          <a:lnTo>
                            <a:pt x="40" y="245"/>
                          </a:lnTo>
                          <a:lnTo>
                            <a:pt x="43" y="244"/>
                          </a:lnTo>
                          <a:lnTo>
                            <a:pt x="45" y="243"/>
                          </a:lnTo>
                          <a:lnTo>
                            <a:pt x="49" y="242"/>
                          </a:lnTo>
                          <a:lnTo>
                            <a:pt x="52" y="241"/>
                          </a:lnTo>
                          <a:lnTo>
                            <a:pt x="56" y="240"/>
                          </a:lnTo>
                          <a:lnTo>
                            <a:pt x="60" y="240"/>
                          </a:lnTo>
                          <a:lnTo>
                            <a:pt x="65" y="238"/>
                          </a:lnTo>
                          <a:lnTo>
                            <a:pt x="71" y="237"/>
                          </a:lnTo>
                          <a:lnTo>
                            <a:pt x="77" y="236"/>
                          </a:lnTo>
                          <a:lnTo>
                            <a:pt x="84" y="234"/>
                          </a:lnTo>
                          <a:lnTo>
                            <a:pt x="91" y="231"/>
                          </a:lnTo>
                          <a:lnTo>
                            <a:pt x="96" y="229"/>
                          </a:lnTo>
                          <a:lnTo>
                            <a:pt x="103" y="227"/>
                          </a:lnTo>
                          <a:lnTo>
                            <a:pt x="107" y="223"/>
                          </a:lnTo>
                          <a:lnTo>
                            <a:pt x="111" y="221"/>
                          </a:lnTo>
                          <a:lnTo>
                            <a:pt x="112" y="218"/>
                          </a:lnTo>
                          <a:lnTo>
                            <a:pt x="113" y="216"/>
                          </a:lnTo>
                          <a:lnTo>
                            <a:pt x="115" y="211"/>
                          </a:lnTo>
                          <a:lnTo>
                            <a:pt x="115" y="206"/>
                          </a:lnTo>
                          <a:lnTo>
                            <a:pt x="115" y="199"/>
                          </a:lnTo>
                          <a:lnTo>
                            <a:pt x="115" y="193"/>
                          </a:lnTo>
                          <a:lnTo>
                            <a:pt x="113" y="186"/>
                          </a:lnTo>
                          <a:lnTo>
                            <a:pt x="113" y="179"/>
                          </a:lnTo>
                          <a:lnTo>
                            <a:pt x="112" y="173"/>
                          </a:lnTo>
                          <a:lnTo>
                            <a:pt x="112" y="169"/>
                          </a:lnTo>
                          <a:lnTo>
                            <a:pt x="112" y="165"/>
                          </a:lnTo>
                          <a:lnTo>
                            <a:pt x="112" y="160"/>
                          </a:lnTo>
                          <a:lnTo>
                            <a:pt x="113" y="155"/>
                          </a:lnTo>
                          <a:lnTo>
                            <a:pt x="116" y="146"/>
                          </a:lnTo>
                          <a:lnTo>
                            <a:pt x="119" y="136"/>
                          </a:lnTo>
                          <a:lnTo>
                            <a:pt x="121" y="126"/>
                          </a:lnTo>
                          <a:lnTo>
                            <a:pt x="124" y="116"/>
                          </a:lnTo>
                          <a:lnTo>
                            <a:pt x="127" y="106"/>
                          </a:lnTo>
                          <a:lnTo>
                            <a:pt x="129" y="97"/>
                          </a:lnTo>
                          <a:lnTo>
                            <a:pt x="132" y="91"/>
                          </a:lnTo>
                          <a:lnTo>
                            <a:pt x="133" y="86"/>
                          </a:lnTo>
                          <a:lnTo>
                            <a:pt x="136" y="81"/>
                          </a:lnTo>
                          <a:lnTo>
                            <a:pt x="137" y="77"/>
                          </a:lnTo>
                          <a:lnTo>
                            <a:pt x="139" y="71"/>
                          </a:lnTo>
                          <a:lnTo>
                            <a:pt x="141" y="64"/>
                          </a:lnTo>
                          <a:lnTo>
                            <a:pt x="143" y="57"/>
                          </a:lnTo>
                          <a:lnTo>
                            <a:pt x="144" y="49"/>
                          </a:lnTo>
                          <a:lnTo>
                            <a:pt x="144" y="42"/>
                          </a:lnTo>
                          <a:lnTo>
                            <a:pt x="144" y="35"/>
                          </a:lnTo>
                          <a:lnTo>
                            <a:pt x="143" y="29"/>
                          </a:lnTo>
                          <a:lnTo>
                            <a:pt x="141" y="24"/>
                          </a:lnTo>
                          <a:lnTo>
                            <a:pt x="139" y="19"/>
                          </a:lnTo>
                          <a:lnTo>
                            <a:pt x="137" y="14"/>
                          </a:lnTo>
                          <a:lnTo>
                            <a:pt x="136" y="9"/>
                          </a:lnTo>
                          <a:lnTo>
                            <a:pt x="135" y="7"/>
                          </a:lnTo>
                          <a:lnTo>
                            <a:pt x="133" y="3"/>
                          </a:lnTo>
                          <a:lnTo>
                            <a:pt x="131" y="2"/>
                          </a:lnTo>
                          <a:lnTo>
                            <a:pt x="129" y="1"/>
                          </a:lnTo>
                          <a:lnTo>
                            <a:pt x="127" y="0"/>
                          </a:lnTo>
                          <a:lnTo>
                            <a:pt x="124" y="0"/>
                          </a:lnTo>
                          <a:lnTo>
                            <a:pt x="120" y="1"/>
                          </a:lnTo>
                          <a:lnTo>
                            <a:pt x="119" y="1"/>
                          </a:lnTo>
                          <a:close/>
                        </a:path>
                      </a:pathLst>
                    </a:custGeom>
                    <a:solidFill>
                      <a:srgbClr val="a6b85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963000" y="1725120"/>
                      <a:ext cx="74880" cy="15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" h="230">
                          <a:moveTo>
                            <a:pt x="95" y="1"/>
                          </a:moveTo>
                          <a:lnTo>
                            <a:pt x="93" y="2"/>
                          </a:lnTo>
                          <a:lnTo>
                            <a:pt x="91" y="4"/>
                          </a:lnTo>
                          <a:lnTo>
                            <a:pt x="87" y="8"/>
                          </a:lnTo>
                          <a:lnTo>
                            <a:pt x="83" y="11"/>
                          </a:lnTo>
                          <a:lnTo>
                            <a:pt x="77" y="17"/>
                          </a:lnTo>
                          <a:lnTo>
                            <a:pt x="73" y="22"/>
                          </a:lnTo>
                          <a:lnTo>
                            <a:pt x="69" y="28"/>
                          </a:lnTo>
                          <a:lnTo>
                            <a:pt x="67" y="34"/>
                          </a:lnTo>
                          <a:lnTo>
                            <a:pt x="65" y="40"/>
                          </a:lnTo>
                          <a:lnTo>
                            <a:pt x="65" y="44"/>
                          </a:lnTo>
                          <a:lnTo>
                            <a:pt x="65" y="50"/>
                          </a:lnTo>
                          <a:lnTo>
                            <a:pt x="65" y="59"/>
                          </a:lnTo>
                          <a:lnTo>
                            <a:pt x="65" y="67"/>
                          </a:lnTo>
                          <a:lnTo>
                            <a:pt x="64" y="76"/>
                          </a:lnTo>
                          <a:lnTo>
                            <a:pt x="63" y="86"/>
                          </a:lnTo>
                          <a:lnTo>
                            <a:pt x="61" y="95"/>
                          </a:lnTo>
                          <a:lnTo>
                            <a:pt x="59" y="105"/>
                          </a:lnTo>
                          <a:lnTo>
                            <a:pt x="56" y="113"/>
                          </a:lnTo>
                          <a:lnTo>
                            <a:pt x="53" y="120"/>
                          </a:lnTo>
                          <a:lnTo>
                            <a:pt x="49" y="125"/>
                          </a:lnTo>
                          <a:lnTo>
                            <a:pt x="45" y="131"/>
                          </a:lnTo>
                          <a:lnTo>
                            <a:pt x="40" y="139"/>
                          </a:lnTo>
                          <a:lnTo>
                            <a:pt x="33" y="148"/>
                          </a:lnTo>
                          <a:lnTo>
                            <a:pt x="27" y="160"/>
                          </a:lnTo>
                          <a:lnTo>
                            <a:pt x="20" y="172"/>
                          </a:lnTo>
                          <a:lnTo>
                            <a:pt x="13" y="184"/>
                          </a:lnTo>
                          <a:lnTo>
                            <a:pt x="8" y="194"/>
                          </a:lnTo>
                          <a:lnTo>
                            <a:pt x="3" y="205"/>
                          </a:lnTo>
                          <a:lnTo>
                            <a:pt x="0" y="212"/>
                          </a:lnTo>
                          <a:lnTo>
                            <a:pt x="0" y="218"/>
                          </a:lnTo>
                          <a:lnTo>
                            <a:pt x="0" y="221"/>
                          </a:lnTo>
                          <a:lnTo>
                            <a:pt x="1" y="224"/>
                          </a:lnTo>
                          <a:lnTo>
                            <a:pt x="1" y="226"/>
                          </a:lnTo>
                          <a:lnTo>
                            <a:pt x="1" y="229"/>
                          </a:lnTo>
                          <a:lnTo>
                            <a:pt x="1" y="230"/>
                          </a:lnTo>
                          <a:lnTo>
                            <a:pt x="3" y="230"/>
                          </a:lnTo>
                          <a:lnTo>
                            <a:pt x="3" y="230"/>
                          </a:lnTo>
                          <a:lnTo>
                            <a:pt x="3" y="230"/>
                          </a:lnTo>
                          <a:lnTo>
                            <a:pt x="4" y="230"/>
                          </a:lnTo>
                          <a:lnTo>
                            <a:pt x="5" y="229"/>
                          </a:lnTo>
                          <a:lnTo>
                            <a:pt x="5" y="227"/>
                          </a:lnTo>
                          <a:lnTo>
                            <a:pt x="7" y="225"/>
                          </a:lnTo>
                          <a:lnTo>
                            <a:pt x="8" y="223"/>
                          </a:lnTo>
                          <a:lnTo>
                            <a:pt x="9" y="219"/>
                          </a:lnTo>
                          <a:lnTo>
                            <a:pt x="12" y="216"/>
                          </a:lnTo>
                          <a:lnTo>
                            <a:pt x="13" y="212"/>
                          </a:lnTo>
                          <a:lnTo>
                            <a:pt x="16" y="210"/>
                          </a:lnTo>
                          <a:lnTo>
                            <a:pt x="17" y="206"/>
                          </a:lnTo>
                          <a:lnTo>
                            <a:pt x="20" y="204"/>
                          </a:lnTo>
                          <a:lnTo>
                            <a:pt x="23" y="203"/>
                          </a:lnTo>
                          <a:lnTo>
                            <a:pt x="25" y="201"/>
                          </a:lnTo>
                          <a:lnTo>
                            <a:pt x="27" y="199"/>
                          </a:lnTo>
                          <a:lnTo>
                            <a:pt x="29" y="198"/>
                          </a:lnTo>
                          <a:lnTo>
                            <a:pt x="32" y="197"/>
                          </a:lnTo>
                          <a:lnTo>
                            <a:pt x="35" y="196"/>
                          </a:lnTo>
                          <a:lnTo>
                            <a:pt x="36" y="194"/>
                          </a:lnTo>
                          <a:lnTo>
                            <a:pt x="39" y="193"/>
                          </a:lnTo>
                          <a:lnTo>
                            <a:pt x="41" y="192"/>
                          </a:lnTo>
                          <a:lnTo>
                            <a:pt x="45" y="192"/>
                          </a:lnTo>
                          <a:lnTo>
                            <a:pt x="48" y="191"/>
                          </a:lnTo>
                          <a:lnTo>
                            <a:pt x="52" y="191"/>
                          </a:lnTo>
                          <a:lnTo>
                            <a:pt x="56" y="190"/>
                          </a:lnTo>
                          <a:lnTo>
                            <a:pt x="61" y="188"/>
                          </a:lnTo>
                          <a:lnTo>
                            <a:pt x="67" y="187"/>
                          </a:lnTo>
                          <a:lnTo>
                            <a:pt x="72" y="185"/>
                          </a:lnTo>
                          <a:lnTo>
                            <a:pt x="77" y="183"/>
                          </a:lnTo>
                          <a:lnTo>
                            <a:pt x="81" y="180"/>
                          </a:lnTo>
                          <a:lnTo>
                            <a:pt x="85" y="179"/>
                          </a:lnTo>
                          <a:lnTo>
                            <a:pt x="88" y="177"/>
                          </a:lnTo>
                          <a:lnTo>
                            <a:pt x="89" y="175"/>
                          </a:lnTo>
                          <a:lnTo>
                            <a:pt x="91" y="173"/>
                          </a:lnTo>
                          <a:lnTo>
                            <a:pt x="91" y="170"/>
                          </a:lnTo>
                          <a:lnTo>
                            <a:pt x="92" y="165"/>
                          </a:lnTo>
                          <a:lnTo>
                            <a:pt x="91" y="160"/>
                          </a:lnTo>
                          <a:lnTo>
                            <a:pt x="91" y="154"/>
                          </a:lnTo>
                          <a:lnTo>
                            <a:pt x="91" y="149"/>
                          </a:lnTo>
                          <a:lnTo>
                            <a:pt x="91" y="144"/>
                          </a:lnTo>
                          <a:lnTo>
                            <a:pt x="89" y="139"/>
                          </a:lnTo>
                          <a:lnTo>
                            <a:pt x="89" y="135"/>
                          </a:lnTo>
                          <a:lnTo>
                            <a:pt x="89" y="132"/>
                          </a:lnTo>
                          <a:lnTo>
                            <a:pt x="89" y="128"/>
                          </a:lnTo>
                          <a:lnTo>
                            <a:pt x="91" y="124"/>
                          </a:lnTo>
                          <a:lnTo>
                            <a:pt x="92" y="116"/>
                          </a:lnTo>
                          <a:lnTo>
                            <a:pt x="95" y="109"/>
                          </a:lnTo>
                          <a:lnTo>
                            <a:pt x="96" y="101"/>
                          </a:lnTo>
                          <a:lnTo>
                            <a:pt x="99" y="93"/>
                          </a:lnTo>
                          <a:lnTo>
                            <a:pt x="101" y="85"/>
                          </a:lnTo>
                          <a:lnTo>
                            <a:pt x="104" y="77"/>
                          </a:lnTo>
                          <a:lnTo>
                            <a:pt x="105" y="72"/>
                          </a:lnTo>
                          <a:lnTo>
                            <a:pt x="107" y="68"/>
                          </a:lnTo>
                          <a:lnTo>
                            <a:pt x="108" y="66"/>
                          </a:lnTo>
                          <a:lnTo>
                            <a:pt x="109" y="61"/>
                          </a:lnTo>
                          <a:lnTo>
                            <a:pt x="111" y="56"/>
                          </a:lnTo>
                          <a:lnTo>
                            <a:pt x="112" y="52"/>
                          </a:lnTo>
                          <a:lnTo>
                            <a:pt x="113" y="46"/>
                          </a:lnTo>
                          <a:lnTo>
                            <a:pt x="115" y="40"/>
                          </a:lnTo>
                          <a:lnTo>
                            <a:pt x="115" y="34"/>
                          </a:lnTo>
                          <a:lnTo>
                            <a:pt x="115" y="28"/>
                          </a:lnTo>
                          <a:lnTo>
                            <a:pt x="115" y="23"/>
                          </a:lnTo>
                          <a:lnTo>
                            <a:pt x="112" y="18"/>
                          </a:lnTo>
                          <a:lnTo>
                            <a:pt x="111" y="15"/>
                          </a:lnTo>
                          <a:lnTo>
                            <a:pt x="109" y="11"/>
                          </a:lnTo>
                          <a:lnTo>
                            <a:pt x="108" y="8"/>
                          </a:lnTo>
                          <a:lnTo>
                            <a:pt x="107" y="5"/>
                          </a:lnTo>
                          <a:lnTo>
                            <a:pt x="105" y="3"/>
                          </a:lnTo>
                          <a:lnTo>
                            <a:pt x="104" y="1"/>
                          </a:lnTo>
                          <a:lnTo>
                            <a:pt x="103" y="1"/>
                          </a:lnTo>
                          <a:lnTo>
                            <a:pt x="101" y="0"/>
                          </a:lnTo>
                          <a:lnTo>
                            <a:pt x="99" y="0"/>
                          </a:lnTo>
                          <a:lnTo>
                            <a:pt x="96" y="1"/>
                          </a:lnTo>
                          <a:lnTo>
                            <a:pt x="95" y="1"/>
                          </a:lnTo>
                          <a:close/>
                        </a:path>
                      </a:pathLst>
                    </a:custGeom>
                    <a:solidFill>
                      <a:srgbClr val="9bb05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975960" y="1753560"/>
                      <a:ext cx="5508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5" h="174">
                          <a:moveTo>
                            <a:pt x="71" y="1"/>
                          </a:moveTo>
                          <a:lnTo>
                            <a:pt x="69" y="3"/>
                          </a:lnTo>
                          <a:lnTo>
                            <a:pt x="68" y="4"/>
                          </a:lnTo>
                          <a:lnTo>
                            <a:pt x="64" y="6"/>
                          </a:lnTo>
                          <a:lnTo>
                            <a:pt x="61" y="10"/>
                          </a:lnTo>
                          <a:lnTo>
                            <a:pt x="57" y="13"/>
                          </a:lnTo>
                          <a:lnTo>
                            <a:pt x="55" y="18"/>
                          </a:lnTo>
                          <a:lnTo>
                            <a:pt x="52" y="21"/>
                          </a:lnTo>
                          <a:lnTo>
                            <a:pt x="49" y="26"/>
                          </a:lnTo>
                          <a:lnTo>
                            <a:pt x="48" y="30"/>
                          </a:lnTo>
                          <a:lnTo>
                            <a:pt x="48" y="34"/>
                          </a:lnTo>
                          <a:lnTo>
                            <a:pt x="49" y="39"/>
                          </a:lnTo>
                          <a:lnTo>
                            <a:pt x="49" y="44"/>
                          </a:lnTo>
                          <a:lnTo>
                            <a:pt x="48" y="51"/>
                          </a:lnTo>
                          <a:lnTo>
                            <a:pt x="48" y="58"/>
                          </a:lnTo>
                          <a:lnTo>
                            <a:pt x="47" y="65"/>
                          </a:lnTo>
                          <a:lnTo>
                            <a:pt x="45" y="72"/>
                          </a:lnTo>
                          <a:lnTo>
                            <a:pt x="44" y="79"/>
                          </a:lnTo>
                          <a:lnTo>
                            <a:pt x="41" y="85"/>
                          </a:lnTo>
                          <a:lnTo>
                            <a:pt x="40" y="90"/>
                          </a:lnTo>
                          <a:lnTo>
                            <a:pt x="37" y="95"/>
                          </a:lnTo>
                          <a:lnTo>
                            <a:pt x="35" y="98"/>
                          </a:lnTo>
                          <a:lnTo>
                            <a:pt x="29" y="105"/>
                          </a:lnTo>
                          <a:lnTo>
                            <a:pt x="25" y="112"/>
                          </a:lnTo>
                          <a:lnTo>
                            <a:pt x="20" y="121"/>
                          </a:lnTo>
                          <a:lnTo>
                            <a:pt x="15" y="130"/>
                          </a:lnTo>
                          <a:lnTo>
                            <a:pt x="9" y="138"/>
                          </a:lnTo>
                          <a:lnTo>
                            <a:pt x="5" y="147"/>
                          </a:lnTo>
                          <a:lnTo>
                            <a:pt x="1" y="154"/>
                          </a:lnTo>
                          <a:lnTo>
                            <a:pt x="0" y="160"/>
                          </a:lnTo>
                          <a:lnTo>
                            <a:pt x="0" y="164"/>
                          </a:lnTo>
                          <a:lnTo>
                            <a:pt x="0" y="167"/>
                          </a:lnTo>
                          <a:lnTo>
                            <a:pt x="0" y="169"/>
                          </a:lnTo>
                          <a:lnTo>
                            <a:pt x="1" y="170"/>
                          </a:lnTo>
                          <a:lnTo>
                            <a:pt x="1" y="171"/>
                          </a:lnTo>
                          <a:lnTo>
                            <a:pt x="1" y="173"/>
                          </a:lnTo>
                          <a:lnTo>
                            <a:pt x="1" y="173"/>
                          </a:lnTo>
                          <a:lnTo>
                            <a:pt x="1" y="174"/>
                          </a:lnTo>
                          <a:lnTo>
                            <a:pt x="1" y="173"/>
                          </a:lnTo>
                          <a:lnTo>
                            <a:pt x="3" y="173"/>
                          </a:lnTo>
                          <a:lnTo>
                            <a:pt x="3" y="173"/>
                          </a:lnTo>
                          <a:lnTo>
                            <a:pt x="4" y="171"/>
                          </a:lnTo>
                          <a:lnTo>
                            <a:pt x="5" y="169"/>
                          </a:lnTo>
                          <a:lnTo>
                            <a:pt x="5" y="168"/>
                          </a:lnTo>
                          <a:lnTo>
                            <a:pt x="7" y="165"/>
                          </a:lnTo>
                          <a:lnTo>
                            <a:pt x="8" y="163"/>
                          </a:lnTo>
                          <a:lnTo>
                            <a:pt x="9" y="161"/>
                          </a:lnTo>
                          <a:lnTo>
                            <a:pt x="11" y="157"/>
                          </a:lnTo>
                          <a:lnTo>
                            <a:pt x="13" y="156"/>
                          </a:lnTo>
                          <a:lnTo>
                            <a:pt x="15" y="154"/>
                          </a:lnTo>
                          <a:lnTo>
                            <a:pt x="16" y="153"/>
                          </a:lnTo>
                          <a:lnTo>
                            <a:pt x="19" y="151"/>
                          </a:lnTo>
                          <a:lnTo>
                            <a:pt x="20" y="150"/>
                          </a:lnTo>
                          <a:lnTo>
                            <a:pt x="21" y="149"/>
                          </a:lnTo>
                          <a:lnTo>
                            <a:pt x="24" y="148"/>
                          </a:lnTo>
                          <a:lnTo>
                            <a:pt x="25" y="148"/>
                          </a:lnTo>
                          <a:lnTo>
                            <a:pt x="27" y="147"/>
                          </a:lnTo>
                          <a:lnTo>
                            <a:pt x="29" y="145"/>
                          </a:lnTo>
                          <a:lnTo>
                            <a:pt x="31" y="145"/>
                          </a:lnTo>
                          <a:lnTo>
                            <a:pt x="33" y="144"/>
                          </a:lnTo>
                          <a:lnTo>
                            <a:pt x="36" y="144"/>
                          </a:lnTo>
                          <a:lnTo>
                            <a:pt x="39" y="144"/>
                          </a:lnTo>
                          <a:lnTo>
                            <a:pt x="43" y="143"/>
                          </a:lnTo>
                          <a:lnTo>
                            <a:pt x="45" y="142"/>
                          </a:lnTo>
                          <a:lnTo>
                            <a:pt x="49" y="141"/>
                          </a:lnTo>
                          <a:lnTo>
                            <a:pt x="53" y="140"/>
                          </a:lnTo>
                          <a:lnTo>
                            <a:pt x="57" y="138"/>
                          </a:lnTo>
                          <a:lnTo>
                            <a:pt x="60" y="136"/>
                          </a:lnTo>
                          <a:lnTo>
                            <a:pt x="64" y="135"/>
                          </a:lnTo>
                          <a:lnTo>
                            <a:pt x="65" y="134"/>
                          </a:lnTo>
                          <a:lnTo>
                            <a:pt x="67" y="132"/>
                          </a:lnTo>
                          <a:lnTo>
                            <a:pt x="68" y="130"/>
                          </a:lnTo>
                          <a:lnTo>
                            <a:pt x="68" y="128"/>
                          </a:lnTo>
                          <a:lnTo>
                            <a:pt x="68" y="124"/>
                          </a:lnTo>
                          <a:lnTo>
                            <a:pt x="68" y="121"/>
                          </a:lnTo>
                          <a:lnTo>
                            <a:pt x="68" y="117"/>
                          </a:lnTo>
                          <a:lnTo>
                            <a:pt x="68" y="112"/>
                          </a:lnTo>
                          <a:lnTo>
                            <a:pt x="67" y="109"/>
                          </a:lnTo>
                          <a:lnTo>
                            <a:pt x="67" y="105"/>
                          </a:lnTo>
                          <a:lnTo>
                            <a:pt x="67" y="102"/>
                          </a:lnTo>
                          <a:lnTo>
                            <a:pt x="67" y="99"/>
                          </a:lnTo>
                          <a:lnTo>
                            <a:pt x="67" y="97"/>
                          </a:lnTo>
                          <a:lnTo>
                            <a:pt x="68" y="93"/>
                          </a:lnTo>
                          <a:lnTo>
                            <a:pt x="69" y="88"/>
                          </a:lnTo>
                          <a:lnTo>
                            <a:pt x="71" y="83"/>
                          </a:lnTo>
                          <a:lnTo>
                            <a:pt x="72" y="76"/>
                          </a:lnTo>
                          <a:lnTo>
                            <a:pt x="73" y="70"/>
                          </a:lnTo>
                          <a:lnTo>
                            <a:pt x="76" y="64"/>
                          </a:lnTo>
                          <a:lnTo>
                            <a:pt x="77" y="59"/>
                          </a:lnTo>
                          <a:lnTo>
                            <a:pt x="79" y="55"/>
                          </a:lnTo>
                          <a:lnTo>
                            <a:pt x="80" y="52"/>
                          </a:lnTo>
                          <a:lnTo>
                            <a:pt x="81" y="50"/>
                          </a:lnTo>
                          <a:lnTo>
                            <a:pt x="81" y="46"/>
                          </a:lnTo>
                          <a:lnTo>
                            <a:pt x="83" y="43"/>
                          </a:lnTo>
                          <a:lnTo>
                            <a:pt x="84" y="39"/>
                          </a:lnTo>
                          <a:lnTo>
                            <a:pt x="85" y="34"/>
                          </a:lnTo>
                          <a:lnTo>
                            <a:pt x="85" y="31"/>
                          </a:lnTo>
                          <a:lnTo>
                            <a:pt x="85" y="26"/>
                          </a:lnTo>
                          <a:lnTo>
                            <a:pt x="85" y="23"/>
                          </a:lnTo>
                          <a:lnTo>
                            <a:pt x="85" y="18"/>
                          </a:lnTo>
                          <a:lnTo>
                            <a:pt x="84" y="14"/>
                          </a:lnTo>
                          <a:lnTo>
                            <a:pt x="83" y="12"/>
                          </a:lnTo>
                          <a:lnTo>
                            <a:pt x="81" y="9"/>
                          </a:lnTo>
                          <a:lnTo>
                            <a:pt x="80" y="6"/>
                          </a:lnTo>
                          <a:lnTo>
                            <a:pt x="80" y="5"/>
                          </a:lnTo>
                          <a:lnTo>
                            <a:pt x="79" y="3"/>
                          </a:lnTo>
                          <a:lnTo>
                            <a:pt x="79" y="1"/>
                          </a:lnTo>
                          <a:lnTo>
                            <a:pt x="77" y="1"/>
                          </a:lnTo>
                          <a:lnTo>
                            <a:pt x="76" y="0"/>
                          </a:lnTo>
                          <a:lnTo>
                            <a:pt x="73" y="0"/>
                          </a:lnTo>
                          <a:lnTo>
                            <a:pt x="71" y="1"/>
                          </a:lnTo>
                          <a:close/>
                        </a:path>
                      </a:pathLst>
                    </a:custGeom>
                    <a:solidFill>
                      <a:srgbClr val="91a84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1153080" y="2172960"/>
                      <a:ext cx="8892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" h="162">
                          <a:moveTo>
                            <a:pt x="105" y="0"/>
                          </a:moveTo>
                          <a:lnTo>
                            <a:pt x="107" y="3"/>
                          </a:lnTo>
                          <a:lnTo>
                            <a:pt x="105" y="5"/>
                          </a:lnTo>
                          <a:lnTo>
                            <a:pt x="105" y="9"/>
                          </a:lnTo>
                          <a:lnTo>
                            <a:pt x="104" y="12"/>
                          </a:lnTo>
                          <a:lnTo>
                            <a:pt x="103" y="17"/>
                          </a:lnTo>
                          <a:lnTo>
                            <a:pt x="100" y="23"/>
                          </a:lnTo>
                          <a:lnTo>
                            <a:pt x="99" y="27"/>
                          </a:lnTo>
                          <a:lnTo>
                            <a:pt x="96" y="31"/>
                          </a:lnTo>
                          <a:lnTo>
                            <a:pt x="93" y="33"/>
                          </a:lnTo>
                          <a:lnTo>
                            <a:pt x="91" y="36"/>
                          </a:lnTo>
                          <a:lnTo>
                            <a:pt x="87" y="36"/>
                          </a:lnTo>
                          <a:lnTo>
                            <a:pt x="83" y="38"/>
                          </a:lnTo>
                          <a:lnTo>
                            <a:pt x="79" y="39"/>
                          </a:lnTo>
                          <a:lnTo>
                            <a:pt x="73" y="42"/>
                          </a:lnTo>
                          <a:lnTo>
                            <a:pt x="68" y="44"/>
                          </a:lnTo>
                          <a:lnTo>
                            <a:pt x="63" y="45"/>
                          </a:lnTo>
                          <a:lnTo>
                            <a:pt x="57" y="46"/>
                          </a:lnTo>
                          <a:lnTo>
                            <a:pt x="52" y="48"/>
                          </a:lnTo>
                          <a:lnTo>
                            <a:pt x="45" y="48"/>
                          </a:lnTo>
                          <a:lnTo>
                            <a:pt x="39" y="46"/>
                          </a:lnTo>
                          <a:lnTo>
                            <a:pt x="33" y="45"/>
                          </a:lnTo>
                          <a:lnTo>
                            <a:pt x="28" y="44"/>
                          </a:lnTo>
                          <a:lnTo>
                            <a:pt x="24" y="43"/>
                          </a:lnTo>
                          <a:lnTo>
                            <a:pt x="20" y="42"/>
                          </a:lnTo>
                          <a:lnTo>
                            <a:pt x="16" y="40"/>
                          </a:lnTo>
                          <a:lnTo>
                            <a:pt x="13" y="40"/>
                          </a:lnTo>
                          <a:lnTo>
                            <a:pt x="12" y="40"/>
                          </a:lnTo>
                          <a:lnTo>
                            <a:pt x="11" y="42"/>
                          </a:lnTo>
                          <a:lnTo>
                            <a:pt x="11" y="44"/>
                          </a:lnTo>
                          <a:lnTo>
                            <a:pt x="11" y="46"/>
                          </a:lnTo>
                          <a:lnTo>
                            <a:pt x="12" y="51"/>
                          </a:lnTo>
                          <a:lnTo>
                            <a:pt x="12" y="56"/>
                          </a:lnTo>
                          <a:lnTo>
                            <a:pt x="13" y="62"/>
                          </a:lnTo>
                          <a:lnTo>
                            <a:pt x="13" y="69"/>
                          </a:lnTo>
                          <a:lnTo>
                            <a:pt x="15" y="76"/>
                          </a:lnTo>
                          <a:lnTo>
                            <a:pt x="15" y="83"/>
                          </a:lnTo>
                          <a:lnTo>
                            <a:pt x="16" y="89"/>
                          </a:lnTo>
                          <a:lnTo>
                            <a:pt x="16" y="95"/>
                          </a:lnTo>
                          <a:lnTo>
                            <a:pt x="16" y="99"/>
                          </a:lnTo>
                          <a:lnTo>
                            <a:pt x="16" y="103"/>
                          </a:lnTo>
                          <a:lnTo>
                            <a:pt x="16" y="107"/>
                          </a:lnTo>
                          <a:lnTo>
                            <a:pt x="13" y="111"/>
                          </a:lnTo>
                          <a:lnTo>
                            <a:pt x="11" y="116"/>
                          </a:lnTo>
                          <a:lnTo>
                            <a:pt x="8" y="121"/>
                          </a:lnTo>
                          <a:lnTo>
                            <a:pt x="5" y="127"/>
                          </a:lnTo>
                          <a:lnTo>
                            <a:pt x="3" y="133"/>
                          </a:lnTo>
                          <a:lnTo>
                            <a:pt x="0" y="137"/>
                          </a:lnTo>
                          <a:lnTo>
                            <a:pt x="0" y="141"/>
                          </a:lnTo>
                          <a:lnTo>
                            <a:pt x="0" y="144"/>
                          </a:lnTo>
                          <a:lnTo>
                            <a:pt x="3" y="147"/>
                          </a:lnTo>
                          <a:lnTo>
                            <a:pt x="7" y="148"/>
                          </a:lnTo>
                          <a:lnTo>
                            <a:pt x="11" y="149"/>
                          </a:lnTo>
                          <a:lnTo>
                            <a:pt x="16" y="151"/>
                          </a:lnTo>
                          <a:lnTo>
                            <a:pt x="20" y="153"/>
                          </a:lnTo>
                          <a:lnTo>
                            <a:pt x="24" y="155"/>
                          </a:lnTo>
                          <a:lnTo>
                            <a:pt x="28" y="156"/>
                          </a:lnTo>
                          <a:lnTo>
                            <a:pt x="33" y="158"/>
                          </a:lnTo>
                          <a:lnTo>
                            <a:pt x="37" y="160"/>
                          </a:lnTo>
                          <a:lnTo>
                            <a:pt x="43" y="160"/>
                          </a:lnTo>
                          <a:lnTo>
                            <a:pt x="47" y="160"/>
                          </a:lnTo>
                          <a:lnTo>
                            <a:pt x="51" y="161"/>
                          </a:lnTo>
                          <a:lnTo>
                            <a:pt x="55" y="161"/>
                          </a:lnTo>
                          <a:lnTo>
                            <a:pt x="59" y="161"/>
                          </a:lnTo>
                          <a:lnTo>
                            <a:pt x="61" y="162"/>
                          </a:lnTo>
                          <a:lnTo>
                            <a:pt x="64" y="162"/>
                          </a:lnTo>
                          <a:lnTo>
                            <a:pt x="68" y="162"/>
                          </a:lnTo>
                          <a:lnTo>
                            <a:pt x="71" y="162"/>
                          </a:lnTo>
                          <a:lnTo>
                            <a:pt x="73" y="161"/>
                          </a:lnTo>
                          <a:lnTo>
                            <a:pt x="76" y="158"/>
                          </a:lnTo>
                          <a:lnTo>
                            <a:pt x="80" y="156"/>
                          </a:lnTo>
                          <a:lnTo>
                            <a:pt x="84" y="153"/>
                          </a:lnTo>
                          <a:lnTo>
                            <a:pt x="88" y="149"/>
                          </a:lnTo>
                          <a:lnTo>
                            <a:pt x="91" y="147"/>
                          </a:lnTo>
                          <a:lnTo>
                            <a:pt x="95" y="143"/>
                          </a:lnTo>
                          <a:lnTo>
                            <a:pt x="99" y="141"/>
                          </a:lnTo>
                          <a:lnTo>
                            <a:pt x="101" y="137"/>
                          </a:lnTo>
                          <a:lnTo>
                            <a:pt x="105" y="134"/>
                          </a:lnTo>
                          <a:lnTo>
                            <a:pt x="108" y="130"/>
                          </a:lnTo>
                          <a:lnTo>
                            <a:pt x="112" y="125"/>
                          </a:lnTo>
                          <a:lnTo>
                            <a:pt x="116" y="122"/>
                          </a:lnTo>
                          <a:lnTo>
                            <a:pt x="120" y="116"/>
                          </a:lnTo>
                          <a:lnTo>
                            <a:pt x="123" y="110"/>
                          </a:lnTo>
                          <a:lnTo>
                            <a:pt x="125" y="103"/>
                          </a:lnTo>
                          <a:lnTo>
                            <a:pt x="128" y="96"/>
                          </a:lnTo>
                          <a:lnTo>
                            <a:pt x="129" y="88"/>
                          </a:lnTo>
                          <a:lnTo>
                            <a:pt x="132" y="81"/>
                          </a:lnTo>
                          <a:lnTo>
                            <a:pt x="132" y="72"/>
                          </a:lnTo>
                          <a:lnTo>
                            <a:pt x="133" y="66"/>
                          </a:lnTo>
                          <a:lnTo>
                            <a:pt x="133" y="61"/>
                          </a:lnTo>
                          <a:lnTo>
                            <a:pt x="135" y="56"/>
                          </a:lnTo>
                          <a:lnTo>
                            <a:pt x="135" y="51"/>
                          </a:lnTo>
                          <a:lnTo>
                            <a:pt x="136" y="44"/>
                          </a:lnTo>
                          <a:lnTo>
                            <a:pt x="136" y="37"/>
                          </a:lnTo>
                          <a:lnTo>
                            <a:pt x="137" y="29"/>
                          </a:lnTo>
                          <a:lnTo>
                            <a:pt x="137" y="20"/>
                          </a:lnTo>
                          <a:lnTo>
                            <a:pt x="135" y="13"/>
                          </a:lnTo>
                          <a:lnTo>
                            <a:pt x="132" y="7"/>
                          </a:lnTo>
                          <a:lnTo>
                            <a:pt x="127" y="3"/>
                          </a:lnTo>
                          <a:lnTo>
                            <a:pt x="117" y="0"/>
                          </a:lnTo>
                          <a:lnTo>
                            <a:pt x="107" y="2"/>
                          </a:lnTo>
                          <a:lnTo>
                            <a:pt x="105" y="0"/>
                          </a:lnTo>
                          <a:close/>
                        </a:path>
                      </a:pathLst>
                    </a:custGeom>
                    <a:solidFill>
                      <a:srgbClr val="7f3b0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887400" y="1809720"/>
                      <a:ext cx="522000" cy="25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1" h="391">
                          <a:moveTo>
                            <a:pt x="0" y="143"/>
                          </a:moveTo>
                          <a:lnTo>
                            <a:pt x="0" y="144"/>
                          </a:lnTo>
                          <a:lnTo>
                            <a:pt x="0" y="142"/>
                          </a:lnTo>
                          <a:lnTo>
                            <a:pt x="3" y="137"/>
                          </a:lnTo>
                          <a:lnTo>
                            <a:pt x="8" y="133"/>
                          </a:lnTo>
                          <a:lnTo>
                            <a:pt x="13" y="126"/>
                          </a:lnTo>
                          <a:lnTo>
                            <a:pt x="20" y="120"/>
                          </a:lnTo>
                          <a:lnTo>
                            <a:pt x="28" y="113"/>
                          </a:lnTo>
                          <a:lnTo>
                            <a:pt x="36" y="107"/>
                          </a:lnTo>
                          <a:lnTo>
                            <a:pt x="44" y="102"/>
                          </a:lnTo>
                          <a:lnTo>
                            <a:pt x="52" y="98"/>
                          </a:lnTo>
                          <a:lnTo>
                            <a:pt x="61" y="97"/>
                          </a:lnTo>
                          <a:lnTo>
                            <a:pt x="72" y="96"/>
                          </a:lnTo>
                          <a:lnTo>
                            <a:pt x="84" y="95"/>
                          </a:lnTo>
                          <a:lnTo>
                            <a:pt x="97" y="94"/>
                          </a:lnTo>
                          <a:lnTo>
                            <a:pt x="111" y="92"/>
                          </a:lnTo>
                          <a:lnTo>
                            <a:pt x="123" y="92"/>
                          </a:lnTo>
                          <a:lnTo>
                            <a:pt x="136" y="91"/>
                          </a:lnTo>
                          <a:lnTo>
                            <a:pt x="147" y="91"/>
                          </a:lnTo>
                          <a:lnTo>
                            <a:pt x="155" y="90"/>
                          </a:lnTo>
                          <a:lnTo>
                            <a:pt x="161" y="88"/>
                          </a:lnTo>
                          <a:lnTo>
                            <a:pt x="168" y="85"/>
                          </a:lnTo>
                          <a:lnTo>
                            <a:pt x="175" y="82"/>
                          </a:lnTo>
                          <a:lnTo>
                            <a:pt x="184" y="78"/>
                          </a:lnTo>
                          <a:lnTo>
                            <a:pt x="193" y="72"/>
                          </a:lnTo>
                          <a:lnTo>
                            <a:pt x="204" y="68"/>
                          </a:lnTo>
                          <a:lnTo>
                            <a:pt x="213" y="62"/>
                          </a:lnTo>
                          <a:lnTo>
                            <a:pt x="223" y="56"/>
                          </a:lnTo>
                          <a:lnTo>
                            <a:pt x="231" y="50"/>
                          </a:lnTo>
                          <a:lnTo>
                            <a:pt x="237" y="45"/>
                          </a:lnTo>
                          <a:lnTo>
                            <a:pt x="241" y="42"/>
                          </a:lnTo>
                          <a:lnTo>
                            <a:pt x="245" y="38"/>
                          </a:lnTo>
                          <a:lnTo>
                            <a:pt x="249" y="33"/>
                          </a:lnTo>
                          <a:lnTo>
                            <a:pt x="255" y="28"/>
                          </a:lnTo>
                          <a:lnTo>
                            <a:pt x="260" y="23"/>
                          </a:lnTo>
                          <a:lnTo>
                            <a:pt x="265" y="17"/>
                          </a:lnTo>
                          <a:lnTo>
                            <a:pt x="272" y="12"/>
                          </a:lnTo>
                          <a:lnTo>
                            <a:pt x="277" y="7"/>
                          </a:lnTo>
                          <a:lnTo>
                            <a:pt x="283" y="4"/>
                          </a:lnTo>
                          <a:lnTo>
                            <a:pt x="288" y="2"/>
                          </a:lnTo>
                          <a:lnTo>
                            <a:pt x="293" y="0"/>
                          </a:lnTo>
                          <a:lnTo>
                            <a:pt x="299" y="2"/>
                          </a:lnTo>
                          <a:lnTo>
                            <a:pt x="307" y="2"/>
                          </a:lnTo>
                          <a:lnTo>
                            <a:pt x="316" y="2"/>
                          </a:lnTo>
                          <a:lnTo>
                            <a:pt x="327" y="3"/>
                          </a:lnTo>
                          <a:lnTo>
                            <a:pt x="339" y="5"/>
                          </a:lnTo>
                          <a:lnTo>
                            <a:pt x="351" y="7"/>
                          </a:lnTo>
                          <a:lnTo>
                            <a:pt x="364" y="11"/>
                          </a:lnTo>
                          <a:lnTo>
                            <a:pt x="379" y="15"/>
                          </a:lnTo>
                          <a:lnTo>
                            <a:pt x="392" y="19"/>
                          </a:lnTo>
                          <a:lnTo>
                            <a:pt x="407" y="26"/>
                          </a:lnTo>
                          <a:lnTo>
                            <a:pt x="420" y="32"/>
                          </a:lnTo>
                          <a:lnTo>
                            <a:pt x="432" y="39"/>
                          </a:lnTo>
                          <a:lnTo>
                            <a:pt x="443" y="45"/>
                          </a:lnTo>
                          <a:lnTo>
                            <a:pt x="453" y="50"/>
                          </a:lnTo>
                          <a:lnTo>
                            <a:pt x="463" y="56"/>
                          </a:lnTo>
                          <a:lnTo>
                            <a:pt x="471" y="61"/>
                          </a:lnTo>
                          <a:lnTo>
                            <a:pt x="477" y="67"/>
                          </a:lnTo>
                          <a:lnTo>
                            <a:pt x="483" y="71"/>
                          </a:lnTo>
                          <a:lnTo>
                            <a:pt x="485" y="76"/>
                          </a:lnTo>
                          <a:lnTo>
                            <a:pt x="488" y="81"/>
                          </a:lnTo>
                          <a:lnTo>
                            <a:pt x="491" y="87"/>
                          </a:lnTo>
                          <a:lnTo>
                            <a:pt x="493" y="94"/>
                          </a:lnTo>
                          <a:lnTo>
                            <a:pt x="497" y="102"/>
                          </a:lnTo>
                          <a:lnTo>
                            <a:pt x="504" y="111"/>
                          </a:lnTo>
                          <a:lnTo>
                            <a:pt x="511" y="121"/>
                          </a:lnTo>
                          <a:lnTo>
                            <a:pt x="520" y="130"/>
                          </a:lnTo>
                          <a:lnTo>
                            <a:pt x="531" y="140"/>
                          </a:lnTo>
                          <a:lnTo>
                            <a:pt x="543" y="148"/>
                          </a:lnTo>
                          <a:lnTo>
                            <a:pt x="559" y="156"/>
                          </a:lnTo>
                          <a:lnTo>
                            <a:pt x="576" y="162"/>
                          </a:lnTo>
                          <a:lnTo>
                            <a:pt x="593" y="167"/>
                          </a:lnTo>
                          <a:lnTo>
                            <a:pt x="608" y="172"/>
                          </a:lnTo>
                          <a:lnTo>
                            <a:pt x="621" y="174"/>
                          </a:lnTo>
                          <a:lnTo>
                            <a:pt x="633" y="176"/>
                          </a:lnTo>
                          <a:lnTo>
                            <a:pt x="644" y="179"/>
                          </a:lnTo>
                          <a:lnTo>
                            <a:pt x="655" y="179"/>
                          </a:lnTo>
                          <a:lnTo>
                            <a:pt x="663" y="180"/>
                          </a:lnTo>
                          <a:lnTo>
                            <a:pt x="669" y="180"/>
                          </a:lnTo>
                          <a:lnTo>
                            <a:pt x="677" y="180"/>
                          </a:lnTo>
                          <a:lnTo>
                            <a:pt x="683" y="180"/>
                          </a:lnTo>
                          <a:lnTo>
                            <a:pt x="689" y="180"/>
                          </a:lnTo>
                          <a:lnTo>
                            <a:pt x="696" y="179"/>
                          </a:lnTo>
                          <a:lnTo>
                            <a:pt x="704" y="176"/>
                          </a:lnTo>
                          <a:lnTo>
                            <a:pt x="712" y="173"/>
                          </a:lnTo>
                          <a:lnTo>
                            <a:pt x="720" y="170"/>
                          </a:lnTo>
                          <a:lnTo>
                            <a:pt x="728" y="168"/>
                          </a:lnTo>
                          <a:lnTo>
                            <a:pt x="736" y="167"/>
                          </a:lnTo>
                          <a:lnTo>
                            <a:pt x="744" y="167"/>
                          </a:lnTo>
                          <a:lnTo>
                            <a:pt x="752" y="168"/>
                          </a:lnTo>
                          <a:lnTo>
                            <a:pt x="760" y="172"/>
                          </a:lnTo>
                          <a:lnTo>
                            <a:pt x="768" y="175"/>
                          </a:lnTo>
                          <a:lnTo>
                            <a:pt x="775" y="180"/>
                          </a:lnTo>
                          <a:lnTo>
                            <a:pt x="780" y="183"/>
                          </a:lnTo>
                          <a:lnTo>
                            <a:pt x="785" y="187"/>
                          </a:lnTo>
                          <a:lnTo>
                            <a:pt x="791" y="192"/>
                          </a:lnTo>
                          <a:lnTo>
                            <a:pt x="793" y="195"/>
                          </a:lnTo>
                          <a:lnTo>
                            <a:pt x="797" y="199"/>
                          </a:lnTo>
                          <a:lnTo>
                            <a:pt x="799" y="202"/>
                          </a:lnTo>
                          <a:lnTo>
                            <a:pt x="800" y="207"/>
                          </a:lnTo>
                          <a:lnTo>
                            <a:pt x="801" y="209"/>
                          </a:lnTo>
                          <a:lnTo>
                            <a:pt x="801" y="214"/>
                          </a:lnTo>
                          <a:lnTo>
                            <a:pt x="800" y="221"/>
                          </a:lnTo>
                          <a:lnTo>
                            <a:pt x="799" y="229"/>
                          </a:lnTo>
                          <a:lnTo>
                            <a:pt x="797" y="239"/>
                          </a:lnTo>
                          <a:lnTo>
                            <a:pt x="796" y="249"/>
                          </a:lnTo>
                          <a:lnTo>
                            <a:pt x="793" y="260"/>
                          </a:lnTo>
                          <a:lnTo>
                            <a:pt x="789" y="271"/>
                          </a:lnTo>
                          <a:lnTo>
                            <a:pt x="784" y="280"/>
                          </a:lnTo>
                          <a:lnTo>
                            <a:pt x="779" y="290"/>
                          </a:lnTo>
                          <a:lnTo>
                            <a:pt x="773" y="297"/>
                          </a:lnTo>
                          <a:lnTo>
                            <a:pt x="765" y="303"/>
                          </a:lnTo>
                          <a:lnTo>
                            <a:pt x="756" y="310"/>
                          </a:lnTo>
                          <a:lnTo>
                            <a:pt x="747" y="316"/>
                          </a:lnTo>
                          <a:lnTo>
                            <a:pt x="736" y="323"/>
                          </a:lnTo>
                          <a:lnTo>
                            <a:pt x="724" y="330"/>
                          </a:lnTo>
                          <a:lnTo>
                            <a:pt x="713" y="336"/>
                          </a:lnTo>
                          <a:lnTo>
                            <a:pt x="703" y="342"/>
                          </a:lnTo>
                          <a:lnTo>
                            <a:pt x="693" y="346"/>
                          </a:lnTo>
                          <a:lnTo>
                            <a:pt x="685" y="350"/>
                          </a:lnTo>
                          <a:lnTo>
                            <a:pt x="677" y="353"/>
                          </a:lnTo>
                          <a:lnTo>
                            <a:pt x="671" y="356"/>
                          </a:lnTo>
                          <a:lnTo>
                            <a:pt x="661" y="360"/>
                          </a:lnTo>
                          <a:lnTo>
                            <a:pt x="651" y="366"/>
                          </a:lnTo>
                          <a:lnTo>
                            <a:pt x="639" y="372"/>
                          </a:lnTo>
                          <a:lnTo>
                            <a:pt x="625" y="378"/>
                          </a:lnTo>
                          <a:lnTo>
                            <a:pt x="609" y="383"/>
                          </a:lnTo>
                          <a:lnTo>
                            <a:pt x="593" y="388"/>
                          </a:lnTo>
                          <a:lnTo>
                            <a:pt x="575" y="390"/>
                          </a:lnTo>
                          <a:lnTo>
                            <a:pt x="556" y="391"/>
                          </a:lnTo>
                          <a:lnTo>
                            <a:pt x="537" y="389"/>
                          </a:lnTo>
                          <a:lnTo>
                            <a:pt x="519" y="386"/>
                          </a:lnTo>
                          <a:lnTo>
                            <a:pt x="501" y="383"/>
                          </a:lnTo>
                          <a:lnTo>
                            <a:pt x="488" y="379"/>
                          </a:lnTo>
                          <a:lnTo>
                            <a:pt x="475" y="375"/>
                          </a:lnTo>
                          <a:lnTo>
                            <a:pt x="464" y="371"/>
                          </a:lnTo>
                          <a:lnTo>
                            <a:pt x="453" y="366"/>
                          </a:lnTo>
                          <a:lnTo>
                            <a:pt x="443" y="363"/>
                          </a:lnTo>
                          <a:lnTo>
                            <a:pt x="433" y="357"/>
                          </a:lnTo>
                          <a:lnTo>
                            <a:pt x="423" y="352"/>
                          </a:lnTo>
                          <a:lnTo>
                            <a:pt x="411" y="346"/>
                          </a:lnTo>
                          <a:lnTo>
                            <a:pt x="399" y="338"/>
                          </a:lnTo>
                          <a:lnTo>
                            <a:pt x="385" y="327"/>
                          </a:lnTo>
                          <a:lnTo>
                            <a:pt x="371" y="313"/>
                          </a:lnTo>
                          <a:lnTo>
                            <a:pt x="356" y="298"/>
                          </a:lnTo>
                          <a:lnTo>
                            <a:pt x="341" y="281"/>
                          </a:lnTo>
                          <a:lnTo>
                            <a:pt x="325" y="264"/>
                          </a:lnTo>
                          <a:lnTo>
                            <a:pt x="311" y="247"/>
                          </a:lnTo>
                          <a:lnTo>
                            <a:pt x="297" y="232"/>
                          </a:lnTo>
                          <a:lnTo>
                            <a:pt x="284" y="219"/>
                          </a:lnTo>
                          <a:lnTo>
                            <a:pt x="273" y="208"/>
                          </a:lnTo>
                          <a:lnTo>
                            <a:pt x="261" y="198"/>
                          </a:lnTo>
                          <a:lnTo>
                            <a:pt x="248" y="188"/>
                          </a:lnTo>
                          <a:lnTo>
                            <a:pt x="233" y="179"/>
                          </a:lnTo>
                          <a:lnTo>
                            <a:pt x="219" y="170"/>
                          </a:lnTo>
                          <a:lnTo>
                            <a:pt x="204" y="162"/>
                          </a:lnTo>
                          <a:lnTo>
                            <a:pt x="189" y="155"/>
                          </a:lnTo>
                          <a:lnTo>
                            <a:pt x="176" y="148"/>
                          </a:lnTo>
                          <a:lnTo>
                            <a:pt x="165" y="143"/>
                          </a:lnTo>
                          <a:lnTo>
                            <a:pt x="156" y="140"/>
                          </a:lnTo>
                          <a:lnTo>
                            <a:pt x="149" y="137"/>
                          </a:lnTo>
                          <a:lnTo>
                            <a:pt x="144" y="135"/>
                          </a:lnTo>
                          <a:lnTo>
                            <a:pt x="133" y="133"/>
                          </a:lnTo>
                          <a:lnTo>
                            <a:pt x="121" y="130"/>
                          </a:lnTo>
                          <a:lnTo>
                            <a:pt x="108" y="128"/>
                          </a:lnTo>
                          <a:lnTo>
                            <a:pt x="92" y="127"/>
                          </a:lnTo>
                          <a:lnTo>
                            <a:pt x="75" y="126"/>
                          </a:lnTo>
                          <a:lnTo>
                            <a:pt x="56" y="127"/>
                          </a:lnTo>
                          <a:lnTo>
                            <a:pt x="37" y="130"/>
                          </a:lnTo>
                          <a:lnTo>
                            <a:pt x="19" y="135"/>
                          </a:lnTo>
                          <a:lnTo>
                            <a:pt x="1" y="144"/>
                          </a:lnTo>
                          <a:lnTo>
                            <a:pt x="0" y="143"/>
                          </a:lnTo>
                          <a:close/>
                        </a:path>
                      </a:pathLst>
                    </a:custGeom>
                    <a:solidFill>
                      <a:srgbClr val="facb3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908280" y="1820880"/>
                      <a:ext cx="478800" cy="23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5" h="358">
                          <a:moveTo>
                            <a:pt x="0" y="130"/>
                          </a:moveTo>
                          <a:lnTo>
                            <a:pt x="0" y="131"/>
                          </a:lnTo>
                          <a:lnTo>
                            <a:pt x="0" y="129"/>
                          </a:lnTo>
                          <a:lnTo>
                            <a:pt x="3" y="125"/>
                          </a:lnTo>
                          <a:lnTo>
                            <a:pt x="7" y="120"/>
                          </a:lnTo>
                          <a:lnTo>
                            <a:pt x="12" y="114"/>
                          </a:lnTo>
                          <a:lnTo>
                            <a:pt x="19" y="107"/>
                          </a:lnTo>
                          <a:lnTo>
                            <a:pt x="25" y="101"/>
                          </a:lnTo>
                          <a:lnTo>
                            <a:pt x="33" y="97"/>
                          </a:lnTo>
                          <a:lnTo>
                            <a:pt x="40" y="92"/>
                          </a:lnTo>
                          <a:lnTo>
                            <a:pt x="48" y="90"/>
                          </a:lnTo>
                          <a:lnTo>
                            <a:pt x="56" y="87"/>
                          </a:lnTo>
                          <a:lnTo>
                            <a:pt x="65" y="86"/>
                          </a:lnTo>
                          <a:lnTo>
                            <a:pt x="77" y="85"/>
                          </a:lnTo>
                          <a:lnTo>
                            <a:pt x="89" y="85"/>
                          </a:lnTo>
                          <a:lnTo>
                            <a:pt x="101" y="84"/>
                          </a:lnTo>
                          <a:lnTo>
                            <a:pt x="113" y="84"/>
                          </a:lnTo>
                          <a:lnTo>
                            <a:pt x="124" y="83"/>
                          </a:lnTo>
                          <a:lnTo>
                            <a:pt x="133" y="81"/>
                          </a:lnTo>
                          <a:lnTo>
                            <a:pt x="141" y="81"/>
                          </a:lnTo>
                          <a:lnTo>
                            <a:pt x="148" y="79"/>
                          </a:lnTo>
                          <a:lnTo>
                            <a:pt x="153" y="78"/>
                          </a:lnTo>
                          <a:lnTo>
                            <a:pt x="160" y="74"/>
                          </a:lnTo>
                          <a:lnTo>
                            <a:pt x="168" y="70"/>
                          </a:lnTo>
                          <a:lnTo>
                            <a:pt x="177" y="65"/>
                          </a:lnTo>
                          <a:lnTo>
                            <a:pt x="187" y="60"/>
                          </a:lnTo>
                          <a:lnTo>
                            <a:pt x="196" y="55"/>
                          </a:lnTo>
                          <a:lnTo>
                            <a:pt x="204" y="50"/>
                          </a:lnTo>
                          <a:lnTo>
                            <a:pt x="212" y="45"/>
                          </a:lnTo>
                          <a:lnTo>
                            <a:pt x="217" y="40"/>
                          </a:lnTo>
                          <a:lnTo>
                            <a:pt x="221" y="37"/>
                          </a:lnTo>
                          <a:lnTo>
                            <a:pt x="225" y="33"/>
                          </a:lnTo>
                          <a:lnTo>
                            <a:pt x="229" y="29"/>
                          </a:lnTo>
                          <a:lnTo>
                            <a:pt x="233" y="25"/>
                          </a:lnTo>
                          <a:lnTo>
                            <a:pt x="239" y="19"/>
                          </a:lnTo>
                          <a:lnTo>
                            <a:pt x="244" y="14"/>
                          </a:lnTo>
                          <a:lnTo>
                            <a:pt x="249" y="9"/>
                          </a:lnTo>
                          <a:lnTo>
                            <a:pt x="255" y="6"/>
                          </a:lnTo>
                          <a:lnTo>
                            <a:pt x="259" y="2"/>
                          </a:lnTo>
                          <a:lnTo>
                            <a:pt x="264" y="0"/>
                          </a:lnTo>
                          <a:lnTo>
                            <a:pt x="269" y="0"/>
                          </a:lnTo>
                          <a:lnTo>
                            <a:pt x="273" y="0"/>
                          </a:lnTo>
                          <a:lnTo>
                            <a:pt x="281" y="0"/>
                          </a:lnTo>
                          <a:lnTo>
                            <a:pt x="289" y="1"/>
                          </a:lnTo>
                          <a:lnTo>
                            <a:pt x="299" y="1"/>
                          </a:lnTo>
                          <a:lnTo>
                            <a:pt x="309" y="3"/>
                          </a:lnTo>
                          <a:lnTo>
                            <a:pt x="321" y="6"/>
                          </a:lnTo>
                          <a:lnTo>
                            <a:pt x="333" y="8"/>
                          </a:lnTo>
                          <a:lnTo>
                            <a:pt x="347" y="12"/>
                          </a:lnTo>
                          <a:lnTo>
                            <a:pt x="360" y="16"/>
                          </a:lnTo>
                          <a:lnTo>
                            <a:pt x="372" y="22"/>
                          </a:lnTo>
                          <a:lnTo>
                            <a:pt x="384" y="28"/>
                          </a:lnTo>
                          <a:lnTo>
                            <a:pt x="396" y="34"/>
                          </a:lnTo>
                          <a:lnTo>
                            <a:pt x="407" y="40"/>
                          </a:lnTo>
                          <a:lnTo>
                            <a:pt x="416" y="45"/>
                          </a:lnTo>
                          <a:lnTo>
                            <a:pt x="424" y="50"/>
                          </a:lnTo>
                          <a:lnTo>
                            <a:pt x="431" y="54"/>
                          </a:lnTo>
                          <a:lnTo>
                            <a:pt x="437" y="59"/>
                          </a:lnTo>
                          <a:lnTo>
                            <a:pt x="441" y="64"/>
                          </a:lnTo>
                          <a:lnTo>
                            <a:pt x="445" y="68"/>
                          </a:lnTo>
                          <a:lnTo>
                            <a:pt x="448" y="72"/>
                          </a:lnTo>
                          <a:lnTo>
                            <a:pt x="449" y="78"/>
                          </a:lnTo>
                          <a:lnTo>
                            <a:pt x="452" y="84"/>
                          </a:lnTo>
                          <a:lnTo>
                            <a:pt x="456" y="92"/>
                          </a:lnTo>
                          <a:lnTo>
                            <a:pt x="461" y="100"/>
                          </a:lnTo>
                          <a:lnTo>
                            <a:pt x="468" y="109"/>
                          </a:lnTo>
                          <a:lnTo>
                            <a:pt x="476" y="118"/>
                          </a:lnTo>
                          <a:lnTo>
                            <a:pt x="487" y="126"/>
                          </a:lnTo>
                          <a:lnTo>
                            <a:pt x="497" y="134"/>
                          </a:lnTo>
                          <a:lnTo>
                            <a:pt x="512" y="142"/>
                          </a:lnTo>
                          <a:lnTo>
                            <a:pt x="527" y="147"/>
                          </a:lnTo>
                          <a:lnTo>
                            <a:pt x="543" y="152"/>
                          </a:lnTo>
                          <a:lnTo>
                            <a:pt x="557" y="156"/>
                          </a:lnTo>
                          <a:lnTo>
                            <a:pt x="569" y="158"/>
                          </a:lnTo>
                          <a:lnTo>
                            <a:pt x="581" y="160"/>
                          </a:lnTo>
                          <a:lnTo>
                            <a:pt x="591" y="162"/>
                          </a:lnTo>
                          <a:lnTo>
                            <a:pt x="600" y="163"/>
                          </a:lnTo>
                          <a:lnTo>
                            <a:pt x="607" y="164"/>
                          </a:lnTo>
                          <a:lnTo>
                            <a:pt x="613" y="164"/>
                          </a:lnTo>
                          <a:lnTo>
                            <a:pt x="620" y="164"/>
                          </a:lnTo>
                          <a:lnTo>
                            <a:pt x="627" y="164"/>
                          </a:lnTo>
                          <a:lnTo>
                            <a:pt x="632" y="163"/>
                          </a:lnTo>
                          <a:lnTo>
                            <a:pt x="639" y="162"/>
                          </a:lnTo>
                          <a:lnTo>
                            <a:pt x="645" y="159"/>
                          </a:lnTo>
                          <a:lnTo>
                            <a:pt x="652" y="157"/>
                          </a:lnTo>
                          <a:lnTo>
                            <a:pt x="660" y="155"/>
                          </a:lnTo>
                          <a:lnTo>
                            <a:pt x="667" y="153"/>
                          </a:lnTo>
                          <a:lnTo>
                            <a:pt x="675" y="152"/>
                          </a:lnTo>
                          <a:lnTo>
                            <a:pt x="683" y="152"/>
                          </a:lnTo>
                          <a:lnTo>
                            <a:pt x="689" y="153"/>
                          </a:lnTo>
                          <a:lnTo>
                            <a:pt x="696" y="156"/>
                          </a:lnTo>
                          <a:lnTo>
                            <a:pt x="703" y="159"/>
                          </a:lnTo>
                          <a:lnTo>
                            <a:pt x="709" y="163"/>
                          </a:lnTo>
                          <a:lnTo>
                            <a:pt x="715" y="166"/>
                          </a:lnTo>
                          <a:lnTo>
                            <a:pt x="720" y="171"/>
                          </a:lnTo>
                          <a:lnTo>
                            <a:pt x="724" y="175"/>
                          </a:lnTo>
                          <a:lnTo>
                            <a:pt x="728" y="178"/>
                          </a:lnTo>
                          <a:lnTo>
                            <a:pt x="731" y="182"/>
                          </a:lnTo>
                          <a:lnTo>
                            <a:pt x="732" y="184"/>
                          </a:lnTo>
                          <a:lnTo>
                            <a:pt x="733" y="188"/>
                          </a:lnTo>
                          <a:lnTo>
                            <a:pt x="735" y="191"/>
                          </a:lnTo>
                          <a:lnTo>
                            <a:pt x="735" y="195"/>
                          </a:lnTo>
                          <a:lnTo>
                            <a:pt x="733" y="202"/>
                          </a:lnTo>
                          <a:lnTo>
                            <a:pt x="732" y="209"/>
                          </a:lnTo>
                          <a:lnTo>
                            <a:pt x="731" y="218"/>
                          </a:lnTo>
                          <a:lnTo>
                            <a:pt x="729" y="228"/>
                          </a:lnTo>
                          <a:lnTo>
                            <a:pt x="727" y="237"/>
                          </a:lnTo>
                          <a:lnTo>
                            <a:pt x="723" y="247"/>
                          </a:lnTo>
                          <a:lnTo>
                            <a:pt x="719" y="256"/>
                          </a:lnTo>
                          <a:lnTo>
                            <a:pt x="715" y="263"/>
                          </a:lnTo>
                          <a:lnTo>
                            <a:pt x="708" y="270"/>
                          </a:lnTo>
                          <a:lnTo>
                            <a:pt x="701" y="276"/>
                          </a:lnTo>
                          <a:lnTo>
                            <a:pt x="693" y="282"/>
                          </a:lnTo>
                          <a:lnTo>
                            <a:pt x="684" y="288"/>
                          </a:lnTo>
                          <a:lnTo>
                            <a:pt x="673" y="295"/>
                          </a:lnTo>
                          <a:lnTo>
                            <a:pt x="664" y="301"/>
                          </a:lnTo>
                          <a:lnTo>
                            <a:pt x="653" y="307"/>
                          </a:lnTo>
                          <a:lnTo>
                            <a:pt x="644" y="312"/>
                          </a:lnTo>
                          <a:lnTo>
                            <a:pt x="636" y="316"/>
                          </a:lnTo>
                          <a:lnTo>
                            <a:pt x="628" y="320"/>
                          </a:lnTo>
                          <a:lnTo>
                            <a:pt x="621" y="322"/>
                          </a:lnTo>
                          <a:lnTo>
                            <a:pt x="615" y="325"/>
                          </a:lnTo>
                          <a:lnTo>
                            <a:pt x="607" y="329"/>
                          </a:lnTo>
                          <a:lnTo>
                            <a:pt x="597" y="334"/>
                          </a:lnTo>
                          <a:lnTo>
                            <a:pt x="585" y="340"/>
                          </a:lnTo>
                          <a:lnTo>
                            <a:pt x="572" y="345"/>
                          </a:lnTo>
                          <a:lnTo>
                            <a:pt x="559" y="350"/>
                          </a:lnTo>
                          <a:lnTo>
                            <a:pt x="544" y="354"/>
                          </a:lnTo>
                          <a:lnTo>
                            <a:pt x="527" y="356"/>
                          </a:lnTo>
                          <a:lnTo>
                            <a:pt x="511" y="358"/>
                          </a:lnTo>
                          <a:lnTo>
                            <a:pt x="492" y="355"/>
                          </a:lnTo>
                          <a:lnTo>
                            <a:pt x="475" y="353"/>
                          </a:lnTo>
                          <a:lnTo>
                            <a:pt x="460" y="349"/>
                          </a:lnTo>
                          <a:lnTo>
                            <a:pt x="447" y="346"/>
                          </a:lnTo>
                          <a:lnTo>
                            <a:pt x="435" y="342"/>
                          </a:lnTo>
                          <a:lnTo>
                            <a:pt x="425" y="339"/>
                          </a:lnTo>
                          <a:lnTo>
                            <a:pt x="415" y="335"/>
                          </a:lnTo>
                          <a:lnTo>
                            <a:pt x="405" y="330"/>
                          </a:lnTo>
                          <a:lnTo>
                            <a:pt x="396" y="326"/>
                          </a:lnTo>
                          <a:lnTo>
                            <a:pt x="387" y="321"/>
                          </a:lnTo>
                          <a:lnTo>
                            <a:pt x="377" y="316"/>
                          </a:lnTo>
                          <a:lnTo>
                            <a:pt x="365" y="308"/>
                          </a:lnTo>
                          <a:lnTo>
                            <a:pt x="353" y="299"/>
                          </a:lnTo>
                          <a:lnTo>
                            <a:pt x="340" y="286"/>
                          </a:lnTo>
                          <a:lnTo>
                            <a:pt x="327" y="271"/>
                          </a:lnTo>
                          <a:lnTo>
                            <a:pt x="312" y="256"/>
                          </a:lnTo>
                          <a:lnTo>
                            <a:pt x="299" y="241"/>
                          </a:lnTo>
                          <a:lnTo>
                            <a:pt x="285" y="225"/>
                          </a:lnTo>
                          <a:lnTo>
                            <a:pt x="272" y="211"/>
                          </a:lnTo>
                          <a:lnTo>
                            <a:pt x="260" y="199"/>
                          </a:lnTo>
                          <a:lnTo>
                            <a:pt x="249" y="189"/>
                          </a:lnTo>
                          <a:lnTo>
                            <a:pt x="239" y="181"/>
                          </a:lnTo>
                          <a:lnTo>
                            <a:pt x="227" y="171"/>
                          </a:lnTo>
                          <a:lnTo>
                            <a:pt x="213" y="163"/>
                          </a:lnTo>
                          <a:lnTo>
                            <a:pt x="200" y="155"/>
                          </a:lnTo>
                          <a:lnTo>
                            <a:pt x="187" y="147"/>
                          </a:lnTo>
                          <a:lnTo>
                            <a:pt x="173" y="140"/>
                          </a:lnTo>
                          <a:lnTo>
                            <a:pt x="161" y="134"/>
                          </a:lnTo>
                          <a:lnTo>
                            <a:pt x="151" y="130"/>
                          </a:lnTo>
                          <a:lnTo>
                            <a:pt x="143" y="126"/>
                          </a:lnTo>
                          <a:lnTo>
                            <a:pt x="137" y="124"/>
                          </a:lnTo>
                          <a:lnTo>
                            <a:pt x="131" y="123"/>
                          </a:lnTo>
                          <a:lnTo>
                            <a:pt x="123" y="120"/>
                          </a:lnTo>
                          <a:lnTo>
                            <a:pt x="112" y="118"/>
                          </a:lnTo>
                          <a:lnTo>
                            <a:pt x="99" y="116"/>
                          </a:lnTo>
                          <a:lnTo>
                            <a:pt x="84" y="114"/>
                          </a:lnTo>
                          <a:lnTo>
                            <a:pt x="68" y="113"/>
                          </a:lnTo>
                          <a:lnTo>
                            <a:pt x="52" y="114"/>
                          </a:lnTo>
                          <a:lnTo>
                            <a:pt x="35" y="118"/>
                          </a:lnTo>
                          <a:lnTo>
                            <a:pt x="17" y="123"/>
                          </a:lnTo>
                          <a:lnTo>
                            <a:pt x="1" y="131"/>
                          </a:lnTo>
                          <a:lnTo>
                            <a:pt x="0" y="130"/>
                          </a:lnTo>
                          <a:close/>
                        </a:path>
                      </a:pathLst>
                    </a:custGeom>
                    <a:solidFill>
                      <a:srgbClr val="facf4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928440" y="1830600"/>
                      <a:ext cx="435240" cy="21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8" h="325">
                          <a:moveTo>
                            <a:pt x="1" y="118"/>
                          </a:moveTo>
                          <a:lnTo>
                            <a:pt x="0" y="119"/>
                          </a:lnTo>
                          <a:lnTo>
                            <a:pt x="1" y="117"/>
                          </a:lnTo>
                          <a:lnTo>
                            <a:pt x="4" y="114"/>
                          </a:lnTo>
                          <a:lnTo>
                            <a:pt x="8" y="110"/>
                          </a:lnTo>
                          <a:lnTo>
                            <a:pt x="12" y="104"/>
                          </a:lnTo>
                          <a:lnTo>
                            <a:pt x="18" y="98"/>
                          </a:lnTo>
                          <a:lnTo>
                            <a:pt x="24" y="94"/>
                          </a:lnTo>
                          <a:lnTo>
                            <a:pt x="30" y="88"/>
                          </a:lnTo>
                          <a:lnTo>
                            <a:pt x="38" y="84"/>
                          </a:lnTo>
                          <a:lnTo>
                            <a:pt x="44" y="82"/>
                          </a:lnTo>
                          <a:lnTo>
                            <a:pt x="52" y="81"/>
                          </a:lnTo>
                          <a:lnTo>
                            <a:pt x="61" y="79"/>
                          </a:lnTo>
                          <a:lnTo>
                            <a:pt x="70" y="78"/>
                          </a:lnTo>
                          <a:lnTo>
                            <a:pt x="81" y="77"/>
                          </a:lnTo>
                          <a:lnTo>
                            <a:pt x="93" y="77"/>
                          </a:lnTo>
                          <a:lnTo>
                            <a:pt x="104" y="76"/>
                          </a:lnTo>
                          <a:lnTo>
                            <a:pt x="113" y="76"/>
                          </a:lnTo>
                          <a:lnTo>
                            <a:pt x="122" y="75"/>
                          </a:lnTo>
                          <a:lnTo>
                            <a:pt x="130" y="75"/>
                          </a:lnTo>
                          <a:lnTo>
                            <a:pt x="136" y="72"/>
                          </a:lnTo>
                          <a:lnTo>
                            <a:pt x="140" y="71"/>
                          </a:lnTo>
                          <a:lnTo>
                            <a:pt x="146" y="68"/>
                          </a:lnTo>
                          <a:lnTo>
                            <a:pt x="154" y="64"/>
                          </a:lnTo>
                          <a:lnTo>
                            <a:pt x="162" y="60"/>
                          </a:lnTo>
                          <a:lnTo>
                            <a:pt x="170" y="56"/>
                          </a:lnTo>
                          <a:lnTo>
                            <a:pt x="180" y="51"/>
                          </a:lnTo>
                          <a:lnTo>
                            <a:pt x="186" y="46"/>
                          </a:lnTo>
                          <a:lnTo>
                            <a:pt x="193" y="42"/>
                          </a:lnTo>
                          <a:lnTo>
                            <a:pt x="198" y="38"/>
                          </a:lnTo>
                          <a:lnTo>
                            <a:pt x="202" y="35"/>
                          </a:lnTo>
                          <a:lnTo>
                            <a:pt x="205" y="31"/>
                          </a:lnTo>
                          <a:lnTo>
                            <a:pt x="209" y="27"/>
                          </a:lnTo>
                          <a:lnTo>
                            <a:pt x="213" y="23"/>
                          </a:lnTo>
                          <a:lnTo>
                            <a:pt x="217" y="18"/>
                          </a:lnTo>
                          <a:lnTo>
                            <a:pt x="222" y="13"/>
                          </a:lnTo>
                          <a:lnTo>
                            <a:pt x="228" y="10"/>
                          </a:lnTo>
                          <a:lnTo>
                            <a:pt x="232" y="6"/>
                          </a:lnTo>
                          <a:lnTo>
                            <a:pt x="237" y="3"/>
                          </a:lnTo>
                          <a:lnTo>
                            <a:pt x="241" y="0"/>
                          </a:lnTo>
                          <a:lnTo>
                            <a:pt x="245" y="0"/>
                          </a:lnTo>
                          <a:lnTo>
                            <a:pt x="250" y="0"/>
                          </a:lnTo>
                          <a:lnTo>
                            <a:pt x="256" y="0"/>
                          </a:lnTo>
                          <a:lnTo>
                            <a:pt x="264" y="1"/>
                          </a:lnTo>
                          <a:lnTo>
                            <a:pt x="273" y="1"/>
                          </a:lnTo>
                          <a:lnTo>
                            <a:pt x="282" y="4"/>
                          </a:lnTo>
                          <a:lnTo>
                            <a:pt x="293" y="5"/>
                          </a:lnTo>
                          <a:lnTo>
                            <a:pt x="305" y="9"/>
                          </a:lnTo>
                          <a:lnTo>
                            <a:pt x="316" y="12"/>
                          </a:lnTo>
                          <a:lnTo>
                            <a:pt x="328" y="16"/>
                          </a:lnTo>
                          <a:lnTo>
                            <a:pt x="340" y="22"/>
                          </a:lnTo>
                          <a:lnTo>
                            <a:pt x="350" y="26"/>
                          </a:lnTo>
                          <a:lnTo>
                            <a:pt x="361" y="32"/>
                          </a:lnTo>
                          <a:lnTo>
                            <a:pt x="370" y="37"/>
                          </a:lnTo>
                          <a:lnTo>
                            <a:pt x="378" y="42"/>
                          </a:lnTo>
                          <a:lnTo>
                            <a:pt x="386" y="46"/>
                          </a:lnTo>
                          <a:lnTo>
                            <a:pt x="393" y="50"/>
                          </a:lnTo>
                          <a:lnTo>
                            <a:pt x="398" y="55"/>
                          </a:lnTo>
                          <a:lnTo>
                            <a:pt x="402" y="58"/>
                          </a:lnTo>
                          <a:lnTo>
                            <a:pt x="405" y="63"/>
                          </a:lnTo>
                          <a:lnTo>
                            <a:pt x="408" y="66"/>
                          </a:lnTo>
                          <a:lnTo>
                            <a:pt x="409" y="71"/>
                          </a:lnTo>
                          <a:lnTo>
                            <a:pt x="412" y="77"/>
                          </a:lnTo>
                          <a:lnTo>
                            <a:pt x="416" y="84"/>
                          </a:lnTo>
                          <a:lnTo>
                            <a:pt x="420" y="91"/>
                          </a:lnTo>
                          <a:lnTo>
                            <a:pt x="426" y="99"/>
                          </a:lnTo>
                          <a:lnTo>
                            <a:pt x="434" y="108"/>
                          </a:lnTo>
                          <a:lnTo>
                            <a:pt x="442" y="116"/>
                          </a:lnTo>
                          <a:lnTo>
                            <a:pt x="453" y="123"/>
                          </a:lnTo>
                          <a:lnTo>
                            <a:pt x="466" y="129"/>
                          </a:lnTo>
                          <a:lnTo>
                            <a:pt x="480" y="135"/>
                          </a:lnTo>
                          <a:lnTo>
                            <a:pt x="494" y="138"/>
                          </a:lnTo>
                          <a:lnTo>
                            <a:pt x="508" y="142"/>
                          </a:lnTo>
                          <a:lnTo>
                            <a:pt x="520" y="144"/>
                          </a:lnTo>
                          <a:lnTo>
                            <a:pt x="529" y="147"/>
                          </a:lnTo>
                          <a:lnTo>
                            <a:pt x="538" y="148"/>
                          </a:lnTo>
                          <a:lnTo>
                            <a:pt x="546" y="149"/>
                          </a:lnTo>
                          <a:lnTo>
                            <a:pt x="553" y="149"/>
                          </a:lnTo>
                          <a:lnTo>
                            <a:pt x="560" y="149"/>
                          </a:lnTo>
                          <a:lnTo>
                            <a:pt x="565" y="150"/>
                          </a:lnTo>
                          <a:lnTo>
                            <a:pt x="570" y="150"/>
                          </a:lnTo>
                          <a:lnTo>
                            <a:pt x="576" y="149"/>
                          </a:lnTo>
                          <a:lnTo>
                            <a:pt x="581" y="148"/>
                          </a:lnTo>
                          <a:lnTo>
                            <a:pt x="588" y="145"/>
                          </a:lnTo>
                          <a:lnTo>
                            <a:pt x="594" y="143"/>
                          </a:lnTo>
                          <a:lnTo>
                            <a:pt x="601" y="142"/>
                          </a:lnTo>
                          <a:lnTo>
                            <a:pt x="608" y="140"/>
                          </a:lnTo>
                          <a:lnTo>
                            <a:pt x="614" y="138"/>
                          </a:lnTo>
                          <a:lnTo>
                            <a:pt x="621" y="138"/>
                          </a:lnTo>
                          <a:lnTo>
                            <a:pt x="628" y="140"/>
                          </a:lnTo>
                          <a:lnTo>
                            <a:pt x="634" y="142"/>
                          </a:lnTo>
                          <a:lnTo>
                            <a:pt x="640" y="145"/>
                          </a:lnTo>
                          <a:lnTo>
                            <a:pt x="646" y="149"/>
                          </a:lnTo>
                          <a:lnTo>
                            <a:pt x="650" y="153"/>
                          </a:lnTo>
                          <a:lnTo>
                            <a:pt x="656" y="156"/>
                          </a:lnTo>
                          <a:lnTo>
                            <a:pt x="660" y="158"/>
                          </a:lnTo>
                          <a:lnTo>
                            <a:pt x="662" y="162"/>
                          </a:lnTo>
                          <a:lnTo>
                            <a:pt x="665" y="166"/>
                          </a:lnTo>
                          <a:lnTo>
                            <a:pt x="666" y="168"/>
                          </a:lnTo>
                          <a:lnTo>
                            <a:pt x="668" y="171"/>
                          </a:lnTo>
                          <a:lnTo>
                            <a:pt x="668" y="174"/>
                          </a:lnTo>
                          <a:lnTo>
                            <a:pt x="668" y="179"/>
                          </a:lnTo>
                          <a:lnTo>
                            <a:pt x="668" y="183"/>
                          </a:lnTo>
                          <a:lnTo>
                            <a:pt x="666" y="190"/>
                          </a:lnTo>
                          <a:lnTo>
                            <a:pt x="665" y="199"/>
                          </a:lnTo>
                          <a:lnTo>
                            <a:pt x="664" y="207"/>
                          </a:lnTo>
                          <a:lnTo>
                            <a:pt x="661" y="216"/>
                          </a:lnTo>
                          <a:lnTo>
                            <a:pt x="658" y="225"/>
                          </a:lnTo>
                          <a:lnTo>
                            <a:pt x="654" y="233"/>
                          </a:lnTo>
                          <a:lnTo>
                            <a:pt x="650" y="240"/>
                          </a:lnTo>
                          <a:lnTo>
                            <a:pt x="645" y="246"/>
                          </a:lnTo>
                          <a:lnTo>
                            <a:pt x="638" y="252"/>
                          </a:lnTo>
                          <a:lnTo>
                            <a:pt x="630" y="258"/>
                          </a:lnTo>
                          <a:lnTo>
                            <a:pt x="622" y="262"/>
                          </a:lnTo>
                          <a:lnTo>
                            <a:pt x="613" y="268"/>
                          </a:lnTo>
                          <a:lnTo>
                            <a:pt x="605" y="274"/>
                          </a:lnTo>
                          <a:lnTo>
                            <a:pt x="596" y="279"/>
                          </a:lnTo>
                          <a:lnTo>
                            <a:pt x="586" y="284"/>
                          </a:lnTo>
                          <a:lnTo>
                            <a:pt x="578" y="288"/>
                          </a:lnTo>
                          <a:lnTo>
                            <a:pt x="572" y="291"/>
                          </a:lnTo>
                          <a:lnTo>
                            <a:pt x="566" y="293"/>
                          </a:lnTo>
                          <a:lnTo>
                            <a:pt x="560" y="295"/>
                          </a:lnTo>
                          <a:lnTo>
                            <a:pt x="552" y="300"/>
                          </a:lnTo>
                          <a:lnTo>
                            <a:pt x="544" y="305"/>
                          </a:lnTo>
                          <a:lnTo>
                            <a:pt x="533" y="310"/>
                          </a:lnTo>
                          <a:lnTo>
                            <a:pt x="521" y="314"/>
                          </a:lnTo>
                          <a:lnTo>
                            <a:pt x="509" y="319"/>
                          </a:lnTo>
                          <a:lnTo>
                            <a:pt x="494" y="322"/>
                          </a:lnTo>
                          <a:lnTo>
                            <a:pt x="480" y="325"/>
                          </a:lnTo>
                          <a:lnTo>
                            <a:pt x="465" y="325"/>
                          </a:lnTo>
                          <a:lnTo>
                            <a:pt x="448" y="324"/>
                          </a:lnTo>
                          <a:lnTo>
                            <a:pt x="433" y="321"/>
                          </a:lnTo>
                          <a:lnTo>
                            <a:pt x="420" y="318"/>
                          </a:lnTo>
                          <a:lnTo>
                            <a:pt x="408" y="315"/>
                          </a:lnTo>
                          <a:lnTo>
                            <a:pt x="397" y="312"/>
                          </a:lnTo>
                          <a:lnTo>
                            <a:pt x="388" y="308"/>
                          </a:lnTo>
                          <a:lnTo>
                            <a:pt x="378" y="305"/>
                          </a:lnTo>
                          <a:lnTo>
                            <a:pt x="370" y="301"/>
                          </a:lnTo>
                          <a:lnTo>
                            <a:pt x="361" y="297"/>
                          </a:lnTo>
                          <a:lnTo>
                            <a:pt x="353" y="293"/>
                          </a:lnTo>
                          <a:lnTo>
                            <a:pt x="344" y="288"/>
                          </a:lnTo>
                          <a:lnTo>
                            <a:pt x="333" y="281"/>
                          </a:lnTo>
                          <a:lnTo>
                            <a:pt x="322" y="272"/>
                          </a:lnTo>
                          <a:lnTo>
                            <a:pt x="310" y="260"/>
                          </a:lnTo>
                          <a:lnTo>
                            <a:pt x="297" y="247"/>
                          </a:lnTo>
                          <a:lnTo>
                            <a:pt x="285" y="234"/>
                          </a:lnTo>
                          <a:lnTo>
                            <a:pt x="273" y="220"/>
                          </a:lnTo>
                          <a:lnTo>
                            <a:pt x="260" y="206"/>
                          </a:lnTo>
                          <a:lnTo>
                            <a:pt x="249" y="193"/>
                          </a:lnTo>
                          <a:lnTo>
                            <a:pt x="238" y="182"/>
                          </a:lnTo>
                          <a:lnTo>
                            <a:pt x="228" y="173"/>
                          </a:lnTo>
                          <a:lnTo>
                            <a:pt x="218" y="164"/>
                          </a:lnTo>
                          <a:lnTo>
                            <a:pt x="208" y="156"/>
                          </a:lnTo>
                          <a:lnTo>
                            <a:pt x="196" y="149"/>
                          </a:lnTo>
                          <a:lnTo>
                            <a:pt x="182" y="141"/>
                          </a:lnTo>
                          <a:lnTo>
                            <a:pt x="170" y="135"/>
                          </a:lnTo>
                          <a:lnTo>
                            <a:pt x="158" y="128"/>
                          </a:lnTo>
                          <a:lnTo>
                            <a:pt x="148" y="123"/>
                          </a:lnTo>
                          <a:lnTo>
                            <a:pt x="138" y="118"/>
                          </a:lnTo>
                          <a:lnTo>
                            <a:pt x="130" y="116"/>
                          </a:lnTo>
                          <a:lnTo>
                            <a:pt x="125" y="114"/>
                          </a:lnTo>
                          <a:lnTo>
                            <a:pt x="120" y="112"/>
                          </a:lnTo>
                          <a:lnTo>
                            <a:pt x="113" y="110"/>
                          </a:lnTo>
                          <a:lnTo>
                            <a:pt x="102" y="108"/>
                          </a:lnTo>
                          <a:lnTo>
                            <a:pt x="90" y="105"/>
                          </a:lnTo>
                          <a:lnTo>
                            <a:pt x="77" y="104"/>
                          </a:lnTo>
                          <a:lnTo>
                            <a:pt x="62" y="104"/>
                          </a:lnTo>
                          <a:lnTo>
                            <a:pt x="48" y="105"/>
                          </a:lnTo>
                          <a:lnTo>
                            <a:pt x="32" y="108"/>
                          </a:lnTo>
                          <a:lnTo>
                            <a:pt x="17" y="112"/>
                          </a:lnTo>
                          <a:lnTo>
                            <a:pt x="1" y="119"/>
                          </a:lnTo>
                          <a:lnTo>
                            <a:pt x="1" y="118"/>
                          </a:lnTo>
                          <a:close/>
                        </a:path>
                      </a:pathLst>
                    </a:custGeom>
                    <a:solidFill>
                      <a:srgbClr val="fad36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948960" y="1841040"/>
                      <a:ext cx="39168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1" h="292">
                          <a:moveTo>
                            <a:pt x="1" y="107"/>
                          </a:moveTo>
                          <a:lnTo>
                            <a:pt x="0" y="107"/>
                          </a:lnTo>
                          <a:lnTo>
                            <a:pt x="1" y="106"/>
                          </a:lnTo>
                          <a:lnTo>
                            <a:pt x="2" y="102"/>
                          </a:lnTo>
                          <a:lnTo>
                            <a:pt x="6" y="99"/>
                          </a:lnTo>
                          <a:lnTo>
                            <a:pt x="10" y="93"/>
                          </a:lnTo>
                          <a:lnTo>
                            <a:pt x="16" y="88"/>
                          </a:lnTo>
                          <a:lnTo>
                            <a:pt x="22" y="83"/>
                          </a:lnTo>
                          <a:lnTo>
                            <a:pt x="28" y="79"/>
                          </a:lnTo>
                          <a:lnTo>
                            <a:pt x="34" y="75"/>
                          </a:lnTo>
                          <a:lnTo>
                            <a:pt x="40" y="73"/>
                          </a:lnTo>
                          <a:lnTo>
                            <a:pt x="46" y="72"/>
                          </a:lnTo>
                          <a:lnTo>
                            <a:pt x="54" y="70"/>
                          </a:lnTo>
                          <a:lnTo>
                            <a:pt x="64" y="69"/>
                          </a:lnTo>
                          <a:lnTo>
                            <a:pt x="73" y="69"/>
                          </a:lnTo>
                          <a:lnTo>
                            <a:pt x="84" y="69"/>
                          </a:lnTo>
                          <a:lnTo>
                            <a:pt x="93" y="68"/>
                          </a:lnTo>
                          <a:lnTo>
                            <a:pt x="102" y="68"/>
                          </a:lnTo>
                          <a:lnTo>
                            <a:pt x="110" y="67"/>
                          </a:lnTo>
                          <a:lnTo>
                            <a:pt x="117" y="66"/>
                          </a:lnTo>
                          <a:lnTo>
                            <a:pt x="121" y="66"/>
                          </a:lnTo>
                          <a:lnTo>
                            <a:pt x="126" y="63"/>
                          </a:lnTo>
                          <a:lnTo>
                            <a:pt x="132" y="61"/>
                          </a:lnTo>
                          <a:lnTo>
                            <a:pt x="138" y="57"/>
                          </a:lnTo>
                          <a:lnTo>
                            <a:pt x="146" y="54"/>
                          </a:lnTo>
                          <a:lnTo>
                            <a:pt x="153" y="49"/>
                          </a:lnTo>
                          <a:lnTo>
                            <a:pt x="161" y="46"/>
                          </a:lnTo>
                          <a:lnTo>
                            <a:pt x="168" y="41"/>
                          </a:lnTo>
                          <a:lnTo>
                            <a:pt x="174" y="37"/>
                          </a:lnTo>
                          <a:lnTo>
                            <a:pt x="178" y="34"/>
                          </a:lnTo>
                          <a:lnTo>
                            <a:pt x="182" y="30"/>
                          </a:lnTo>
                          <a:lnTo>
                            <a:pt x="185" y="28"/>
                          </a:lnTo>
                          <a:lnTo>
                            <a:pt x="188" y="24"/>
                          </a:lnTo>
                          <a:lnTo>
                            <a:pt x="192" y="20"/>
                          </a:lnTo>
                          <a:lnTo>
                            <a:pt x="196" y="16"/>
                          </a:lnTo>
                          <a:lnTo>
                            <a:pt x="200" y="11"/>
                          </a:lnTo>
                          <a:lnTo>
                            <a:pt x="204" y="8"/>
                          </a:lnTo>
                          <a:lnTo>
                            <a:pt x="209" y="4"/>
                          </a:lnTo>
                          <a:lnTo>
                            <a:pt x="213" y="2"/>
                          </a:lnTo>
                          <a:lnTo>
                            <a:pt x="217" y="1"/>
                          </a:lnTo>
                          <a:lnTo>
                            <a:pt x="221" y="0"/>
                          </a:lnTo>
                          <a:lnTo>
                            <a:pt x="225" y="0"/>
                          </a:lnTo>
                          <a:lnTo>
                            <a:pt x="230" y="0"/>
                          </a:lnTo>
                          <a:lnTo>
                            <a:pt x="237" y="1"/>
                          </a:lnTo>
                          <a:lnTo>
                            <a:pt x="245" y="2"/>
                          </a:lnTo>
                          <a:lnTo>
                            <a:pt x="254" y="3"/>
                          </a:lnTo>
                          <a:lnTo>
                            <a:pt x="264" y="4"/>
                          </a:lnTo>
                          <a:lnTo>
                            <a:pt x="274" y="7"/>
                          </a:lnTo>
                          <a:lnTo>
                            <a:pt x="284" y="10"/>
                          </a:lnTo>
                          <a:lnTo>
                            <a:pt x="294" y="14"/>
                          </a:lnTo>
                          <a:lnTo>
                            <a:pt x="305" y="19"/>
                          </a:lnTo>
                          <a:lnTo>
                            <a:pt x="316" y="23"/>
                          </a:lnTo>
                          <a:lnTo>
                            <a:pt x="325" y="28"/>
                          </a:lnTo>
                          <a:lnTo>
                            <a:pt x="333" y="33"/>
                          </a:lnTo>
                          <a:lnTo>
                            <a:pt x="341" y="36"/>
                          </a:lnTo>
                          <a:lnTo>
                            <a:pt x="348" y="41"/>
                          </a:lnTo>
                          <a:lnTo>
                            <a:pt x="353" y="44"/>
                          </a:lnTo>
                          <a:lnTo>
                            <a:pt x="358" y="48"/>
                          </a:lnTo>
                          <a:lnTo>
                            <a:pt x="362" y="53"/>
                          </a:lnTo>
                          <a:lnTo>
                            <a:pt x="365" y="56"/>
                          </a:lnTo>
                          <a:lnTo>
                            <a:pt x="366" y="60"/>
                          </a:lnTo>
                          <a:lnTo>
                            <a:pt x="368" y="63"/>
                          </a:lnTo>
                          <a:lnTo>
                            <a:pt x="370" y="69"/>
                          </a:lnTo>
                          <a:lnTo>
                            <a:pt x="374" y="75"/>
                          </a:lnTo>
                          <a:lnTo>
                            <a:pt x="378" y="82"/>
                          </a:lnTo>
                          <a:lnTo>
                            <a:pt x="384" y="89"/>
                          </a:lnTo>
                          <a:lnTo>
                            <a:pt x="390" y="96"/>
                          </a:lnTo>
                          <a:lnTo>
                            <a:pt x="398" y="103"/>
                          </a:lnTo>
                          <a:lnTo>
                            <a:pt x="408" y="111"/>
                          </a:lnTo>
                          <a:lnTo>
                            <a:pt x="420" y="116"/>
                          </a:lnTo>
                          <a:lnTo>
                            <a:pt x="432" y="121"/>
                          </a:lnTo>
                          <a:lnTo>
                            <a:pt x="445" y="125"/>
                          </a:lnTo>
                          <a:lnTo>
                            <a:pt x="457" y="127"/>
                          </a:lnTo>
                          <a:lnTo>
                            <a:pt x="468" y="129"/>
                          </a:lnTo>
                          <a:lnTo>
                            <a:pt x="476" y="132"/>
                          </a:lnTo>
                          <a:lnTo>
                            <a:pt x="484" y="133"/>
                          </a:lnTo>
                          <a:lnTo>
                            <a:pt x="492" y="133"/>
                          </a:lnTo>
                          <a:lnTo>
                            <a:pt x="497" y="134"/>
                          </a:lnTo>
                          <a:lnTo>
                            <a:pt x="504" y="134"/>
                          </a:lnTo>
                          <a:lnTo>
                            <a:pt x="508" y="134"/>
                          </a:lnTo>
                          <a:lnTo>
                            <a:pt x="513" y="134"/>
                          </a:lnTo>
                          <a:lnTo>
                            <a:pt x="518" y="134"/>
                          </a:lnTo>
                          <a:lnTo>
                            <a:pt x="524" y="133"/>
                          </a:lnTo>
                          <a:lnTo>
                            <a:pt x="529" y="131"/>
                          </a:lnTo>
                          <a:lnTo>
                            <a:pt x="534" y="129"/>
                          </a:lnTo>
                          <a:lnTo>
                            <a:pt x="541" y="127"/>
                          </a:lnTo>
                          <a:lnTo>
                            <a:pt x="546" y="126"/>
                          </a:lnTo>
                          <a:lnTo>
                            <a:pt x="553" y="125"/>
                          </a:lnTo>
                          <a:lnTo>
                            <a:pt x="558" y="125"/>
                          </a:lnTo>
                          <a:lnTo>
                            <a:pt x="565" y="125"/>
                          </a:lnTo>
                          <a:lnTo>
                            <a:pt x="570" y="127"/>
                          </a:lnTo>
                          <a:lnTo>
                            <a:pt x="576" y="131"/>
                          </a:lnTo>
                          <a:lnTo>
                            <a:pt x="581" y="133"/>
                          </a:lnTo>
                          <a:lnTo>
                            <a:pt x="586" y="137"/>
                          </a:lnTo>
                          <a:lnTo>
                            <a:pt x="590" y="140"/>
                          </a:lnTo>
                          <a:lnTo>
                            <a:pt x="593" y="142"/>
                          </a:lnTo>
                          <a:lnTo>
                            <a:pt x="596" y="146"/>
                          </a:lnTo>
                          <a:lnTo>
                            <a:pt x="598" y="148"/>
                          </a:lnTo>
                          <a:lnTo>
                            <a:pt x="600" y="151"/>
                          </a:lnTo>
                          <a:lnTo>
                            <a:pt x="601" y="154"/>
                          </a:lnTo>
                          <a:lnTo>
                            <a:pt x="601" y="157"/>
                          </a:lnTo>
                          <a:lnTo>
                            <a:pt x="601" y="160"/>
                          </a:lnTo>
                          <a:lnTo>
                            <a:pt x="601" y="165"/>
                          </a:lnTo>
                          <a:lnTo>
                            <a:pt x="600" y="171"/>
                          </a:lnTo>
                          <a:lnTo>
                            <a:pt x="598" y="178"/>
                          </a:lnTo>
                          <a:lnTo>
                            <a:pt x="597" y="186"/>
                          </a:lnTo>
                          <a:lnTo>
                            <a:pt x="596" y="194"/>
                          </a:lnTo>
                          <a:lnTo>
                            <a:pt x="593" y="201"/>
                          </a:lnTo>
                          <a:lnTo>
                            <a:pt x="589" y="210"/>
                          </a:lnTo>
                          <a:lnTo>
                            <a:pt x="585" y="216"/>
                          </a:lnTo>
                          <a:lnTo>
                            <a:pt x="580" y="222"/>
                          </a:lnTo>
                          <a:lnTo>
                            <a:pt x="574" y="226"/>
                          </a:lnTo>
                          <a:lnTo>
                            <a:pt x="568" y="231"/>
                          </a:lnTo>
                          <a:lnTo>
                            <a:pt x="560" y="236"/>
                          </a:lnTo>
                          <a:lnTo>
                            <a:pt x="552" y="242"/>
                          </a:lnTo>
                          <a:lnTo>
                            <a:pt x="544" y="246"/>
                          </a:lnTo>
                          <a:lnTo>
                            <a:pt x="536" y="251"/>
                          </a:lnTo>
                          <a:lnTo>
                            <a:pt x="528" y="255"/>
                          </a:lnTo>
                          <a:lnTo>
                            <a:pt x="521" y="259"/>
                          </a:lnTo>
                          <a:lnTo>
                            <a:pt x="514" y="262"/>
                          </a:lnTo>
                          <a:lnTo>
                            <a:pt x="509" y="264"/>
                          </a:lnTo>
                          <a:lnTo>
                            <a:pt x="504" y="266"/>
                          </a:lnTo>
                          <a:lnTo>
                            <a:pt x="497" y="269"/>
                          </a:lnTo>
                          <a:lnTo>
                            <a:pt x="489" y="273"/>
                          </a:lnTo>
                          <a:lnTo>
                            <a:pt x="480" y="278"/>
                          </a:lnTo>
                          <a:lnTo>
                            <a:pt x="469" y="283"/>
                          </a:lnTo>
                          <a:lnTo>
                            <a:pt x="458" y="286"/>
                          </a:lnTo>
                          <a:lnTo>
                            <a:pt x="445" y="290"/>
                          </a:lnTo>
                          <a:lnTo>
                            <a:pt x="432" y="292"/>
                          </a:lnTo>
                          <a:lnTo>
                            <a:pt x="418" y="292"/>
                          </a:lnTo>
                          <a:lnTo>
                            <a:pt x="404" y="291"/>
                          </a:lnTo>
                          <a:lnTo>
                            <a:pt x="389" y="289"/>
                          </a:lnTo>
                          <a:lnTo>
                            <a:pt x="377" y="285"/>
                          </a:lnTo>
                          <a:lnTo>
                            <a:pt x="366" y="283"/>
                          </a:lnTo>
                          <a:lnTo>
                            <a:pt x="357" y="281"/>
                          </a:lnTo>
                          <a:lnTo>
                            <a:pt x="348" y="277"/>
                          </a:lnTo>
                          <a:lnTo>
                            <a:pt x="340" y="275"/>
                          </a:lnTo>
                          <a:lnTo>
                            <a:pt x="333" y="271"/>
                          </a:lnTo>
                          <a:lnTo>
                            <a:pt x="325" y="268"/>
                          </a:lnTo>
                          <a:lnTo>
                            <a:pt x="317" y="263"/>
                          </a:lnTo>
                          <a:lnTo>
                            <a:pt x="309" y="258"/>
                          </a:lnTo>
                          <a:lnTo>
                            <a:pt x="300" y="252"/>
                          </a:lnTo>
                          <a:lnTo>
                            <a:pt x="290" y="244"/>
                          </a:lnTo>
                          <a:lnTo>
                            <a:pt x="280" y="233"/>
                          </a:lnTo>
                          <a:lnTo>
                            <a:pt x="268" y="223"/>
                          </a:lnTo>
                          <a:lnTo>
                            <a:pt x="257" y="210"/>
                          </a:lnTo>
                          <a:lnTo>
                            <a:pt x="245" y="197"/>
                          </a:lnTo>
                          <a:lnTo>
                            <a:pt x="234" y="185"/>
                          </a:lnTo>
                          <a:lnTo>
                            <a:pt x="224" y="173"/>
                          </a:lnTo>
                          <a:lnTo>
                            <a:pt x="214" y="163"/>
                          </a:lnTo>
                          <a:lnTo>
                            <a:pt x="205" y="154"/>
                          </a:lnTo>
                          <a:lnTo>
                            <a:pt x="197" y="147"/>
                          </a:lnTo>
                          <a:lnTo>
                            <a:pt x="186" y="140"/>
                          </a:lnTo>
                          <a:lnTo>
                            <a:pt x="176" y="133"/>
                          </a:lnTo>
                          <a:lnTo>
                            <a:pt x="165" y="127"/>
                          </a:lnTo>
                          <a:lnTo>
                            <a:pt x="153" y="121"/>
                          </a:lnTo>
                          <a:lnTo>
                            <a:pt x="142" y="115"/>
                          </a:lnTo>
                          <a:lnTo>
                            <a:pt x="133" y="111"/>
                          </a:lnTo>
                          <a:lnTo>
                            <a:pt x="125" y="106"/>
                          </a:lnTo>
                          <a:lnTo>
                            <a:pt x="117" y="103"/>
                          </a:lnTo>
                          <a:lnTo>
                            <a:pt x="113" y="102"/>
                          </a:lnTo>
                          <a:lnTo>
                            <a:pt x="108" y="100"/>
                          </a:lnTo>
                          <a:lnTo>
                            <a:pt x="101" y="99"/>
                          </a:lnTo>
                          <a:lnTo>
                            <a:pt x="92" y="96"/>
                          </a:lnTo>
                          <a:lnTo>
                            <a:pt x="81" y="95"/>
                          </a:lnTo>
                          <a:lnTo>
                            <a:pt x="69" y="94"/>
                          </a:lnTo>
                          <a:lnTo>
                            <a:pt x="57" y="93"/>
                          </a:lnTo>
                          <a:lnTo>
                            <a:pt x="42" y="94"/>
                          </a:lnTo>
                          <a:lnTo>
                            <a:pt x="29" y="96"/>
                          </a:lnTo>
                          <a:lnTo>
                            <a:pt x="14" y="101"/>
                          </a:lnTo>
                          <a:lnTo>
                            <a:pt x="1" y="107"/>
                          </a:lnTo>
                          <a:close/>
                        </a:path>
                      </a:pathLst>
                    </a:custGeom>
                    <a:solidFill>
                      <a:srgbClr val="fad77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969840" y="1850760"/>
                      <a:ext cx="347760" cy="17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4" h="261">
                          <a:moveTo>
                            <a:pt x="1" y="96"/>
                          </a:moveTo>
                          <a:lnTo>
                            <a:pt x="0" y="96"/>
                          </a:lnTo>
                          <a:lnTo>
                            <a:pt x="1" y="94"/>
                          </a:lnTo>
                          <a:lnTo>
                            <a:pt x="2" y="92"/>
                          </a:lnTo>
                          <a:lnTo>
                            <a:pt x="5" y="87"/>
                          </a:lnTo>
                          <a:lnTo>
                            <a:pt x="9" y="84"/>
                          </a:lnTo>
                          <a:lnTo>
                            <a:pt x="14" y="79"/>
                          </a:lnTo>
                          <a:lnTo>
                            <a:pt x="20" y="74"/>
                          </a:lnTo>
                          <a:lnTo>
                            <a:pt x="25" y="71"/>
                          </a:lnTo>
                          <a:lnTo>
                            <a:pt x="30" y="67"/>
                          </a:lnTo>
                          <a:lnTo>
                            <a:pt x="36" y="65"/>
                          </a:lnTo>
                          <a:lnTo>
                            <a:pt x="41" y="64"/>
                          </a:lnTo>
                          <a:lnTo>
                            <a:pt x="49" y="64"/>
                          </a:lnTo>
                          <a:lnTo>
                            <a:pt x="57" y="63"/>
                          </a:lnTo>
                          <a:lnTo>
                            <a:pt x="65" y="63"/>
                          </a:lnTo>
                          <a:lnTo>
                            <a:pt x="74" y="61"/>
                          </a:lnTo>
                          <a:lnTo>
                            <a:pt x="82" y="61"/>
                          </a:lnTo>
                          <a:lnTo>
                            <a:pt x="90" y="60"/>
                          </a:lnTo>
                          <a:lnTo>
                            <a:pt x="98" y="60"/>
                          </a:lnTo>
                          <a:lnTo>
                            <a:pt x="104" y="59"/>
                          </a:lnTo>
                          <a:lnTo>
                            <a:pt x="108" y="59"/>
                          </a:lnTo>
                          <a:lnTo>
                            <a:pt x="112" y="57"/>
                          </a:lnTo>
                          <a:lnTo>
                            <a:pt x="117" y="54"/>
                          </a:lnTo>
                          <a:lnTo>
                            <a:pt x="124" y="52"/>
                          </a:lnTo>
                          <a:lnTo>
                            <a:pt x="130" y="48"/>
                          </a:lnTo>
                          <a:lnTo>
                            <a:pt x="137" y="45"/>
                          </a:lnTo>
                          <a:lnTo>
                            <a:pt x="144" y="40"/>
                          </a:lnTo>
                          <a:lnTo>
                            <a:pt x="149" y="37"/>
                          </a:lnTo>
                          <a:lnTo>
                            <a:pt x="154" y="33"/>
                          </a:lnTo>
                          <a:lnTo>
                            <a:pt x="158" y="31"/>
                          </a:lnTo>
                          <a:lnTo>
                            <a:pt x="162" y="27"/>
                          </a:lnTo>
                          <a:lnTo>
                            <a:pt x="164" y="25"/>
                          </a:lnTo>
                          <a:lnTo>
                            <a:pt x="168" y="22"/>
                          </a:lnTo>
                          <a:lnTo>
                            <a:pt x="170" y="19"/>
                          </a:lnTo>
                          <a:lnTo>
                            <a:pt x="174" y="14"/>
                          </a:lnTo>
                          <a:lnTo>
                            <a:pt x="177" y="11"/>
                          </a:lnTo>
                          <a:lnTo>
                            <a:pt x="181" y="8"/>
                          </a:lnTo>
                          <a:lnTo>
                            <a:pt x="185" y="5"/>
                          </a:lnTo>
                          <a:lnTo>
                            <a:pt x="189" y="2"/>
                          </a:lnTo>
                          <a:lnTo>
                            <a:pt x="193" y="1"/>
                          </a:lnTo>
                          <a:lnTo>
                            <a:pt x="196" y="0"/>
                          </a:lnTo>
                          <a:lnTo>
                            <a:pt x="200" y="0"/>
                          </a:lnTo>
                          <a:lnTo>
                            <a:pt x="205" y="1"/>
                          </a:lnTo>
                          <a:lnTo>
                            <a:pt x="212" y="1"/>
                          </a:lnTo>
                          <a:lnTo>
                            <a:pt x="218" y="2"/>
                          </a:lnTo>
                          <a:lnTo>
                            <a:pt x="226" y="4"/>
                          </a:lnTo>
                          <a:lnTo>
                            <a:pt x="234" y="5"/>
                          </a:lnTo>
                          <a:lnTo>
                            <a:pt x="244" y="7"/>
                          </a:lnTo>
                          <a:lnTo>
                            <a:pt x="253" y="9"/>
                          </a:lnTo>
                          <a:lnTo>
                            <a:pt x="262" y="13"/>
                          </a:lnTo>
                          <a:lnTo>
                            <a:pt x="272" y="16"/>
                          </a:lnTo>
                          <a:lnTo>
                            <a:pt x="280" y="21"/>
                          </a:lnTo>
                          <a:lnTo>
                            <a:pt x="289" y="26"/>
                          </a:lnTo>
                          <a:lnTo>
                            <a:pt x="296" y="29"/>
                          </a:lnTo>
                          <a:lnTo>
                            <a:pt x="302" y="33"/>
                          </a:lnTo>
                          <a:lnTo>
                            <a:pt x="309" y="37"/>
                          </a:lnTo>
                          <a:lnTo>
                            <a:pt x="314" y="40"/>
                          </a:lnTo>
                          <a:lnTo>
                            <a:pt x="318" y="44"/>
                          </a:lnTo>
                          <a:lnTo>
                            <a:pt x="322" y="47"/>
                          </a:lnTo>
                          <a:lnTo>
                            <a:pt x="325" y="50"/>
                          </a:lnTo>
                          <a:lnTo>
                            <a:pt x="326" y="53"/>
                          </a:lnTo>
                          <a:lnTo>
                            <a:pt x="328" y="57"/>
                          </a:lnTo>
                          <a:lnTo>
                            <a:pt x="329" y="61"/>
                          </a:lnTo>
                          <a:lnTo>
                            <a:pt x="332" y="67"/>
                          </a:lnTo>
                          <a:lnTo>
                            <a:pt x="336" y="73"/>
                          </a:lnTo>
                          <a:lnTo>
                            <a:pt x="341" y="80"/>
                          </a:lnTo>
                          <a:lnTo>
                            <a:pt x="346" y="86"/>
                          </a:lnTo>
                          <a:lnTo>
                            <a:pt x="354" y="93"/>
                          </a:lnTo>
                          <a:lnTo>
                            <a:pt x="362" y="98"/>
                          </a:lnTo>
                          <a:lnTo>
                            <a:pt x="373" y="104"/>
                          </a:lnTo>
                          <a:lnTo>
                            <a:pt x="384" y="107"/>
                          </a:lnTo>
                          <a:lnTo>
                            <a:pt x="396" y="111"/>
                          </a:lnTo>
                          <a:lnTo>
                            <a:pt x="406" y="113"/>
                          </a:lnTo>
                          <a:lnTo>
                            <a:pt x="416" y="116"/>
                          </a:lnTo>
                          <a:lnTo>
                            <a:pt x="424" y="117"/>
                          </a:lnTo>
                          <a:lnTo>
                            <a:pt x="430" y="118"/>
                          </a:lnTo>
                          <a:lnTo>
                            <a:pt x="437" y="119"/>
                          </a:lnTo>
                          <a:lnTo>
                            <a:pt x="442" y="119"/>
                          </a:lnTo>
                          <a:lnTo>
                            <a:pt x="448" y="120"/>
                          </a:lnTo>
                          <a:lnTo>
                            <a:pt x="452" y="120"/>
                          </a:lnTo>
                          <a:lnTo>
                            <a:pt x="456" y="120"/>
                          </a:lnTo>
                          <a:lnTo>
                            <a:pt x="460" y="119"/>
                          </a:lnTo>
                          <a:lnTo>
                            <a:pt x="465" y="118"/>
                          </a:lnTo>
                          <a:lnTo>
                            <a:pt x="470" y="117"/>
                          </a:lnTo>
                          <a:lnTo>
                            <a:pt x="474" y="116"/>
                          </a:lnTo>
                          <a:lnTo>
                            <a:pt x="480" y="113"/>
                          </a:lnTo>
                          <a:lnTo>
                            <a:pt x="486" y="112"/>
                          </a:lnTo>
                          <a:lnTo>
                            <a:pt x="492" y="111"/>
                          </a:lnTo>
                          <a:lnTo>
                            <a:pt x="497" y="111"/>
                          </a:lnTo>
                          <a:lnTo>
                            <a:pt x="502" y="112"/>
                          </a:lnTo>
                          <a:lnTo>
                            <a:pt x="508" y="113"/>
                          </a:lnTo>
                          <a:lnTo>
                            <a:pt x="512" y="117"/>
                          </a:lnTo>
                          <a:lnTo>
                            <a:pt x="517" y="119"/>
                          </a:lnTo>
                          <a:lnTo>
                            <a:pt x="521" y="122"/>
                          </a:lnTo>
                          <a:lnTo>
                            <a:pt x="524" y="125"/>
                          </a:lnTo>
                          <a:lnTo>
                            <a:pt x="528" y="127"/>
                          </a:lnTo>
                          <a:lnTo>
                            <a:pt x="530" y="130"/>
                          </a:lnTo>
                          <a:lnTo>
                            <a:pt x="532" y="132"/>
                          </a:lnTo>
                          <a:lnTo>
                            <a:pt x="533" y="135"/>
                          </a:lnTo>
                          <a:lnTo>
                            <a:pt x="534" y="137"/>
                          </a:lnTo>
                          <a:lnTo>
                            <a:pt x="534" y="139"/>
                          </a:lnTo>
                          <a:lnTo>
                            <a:pt x="534" y="143"/>
                          </a:lnTo>
                          <a:lnTo>
                            <a:pt x="534" y="148"/>
                          </a:lnTo>
                          <a:lnTo>
                            <a:pt x="533" y="152"/>
                          </a:lnTo>
                          <a:lnTo>
                            <a:pt x="533" y="159"/>
                          </a:lnTo>
                          <a:lnTo>
                            <a:pt x="530" y="166"/>
                          </a:lnTo>
                          <a:lnTo>
                            <a:pt x="529" y="173"/>
                          </a:lnTo>
                          <a:lnTo>
                            <a:pt x="526" y="181"/>
                          </a:lnTo>
                          <a:lnTo>
                            <a:pt x="524" y="186"/>
                          </a:lnTo>
                          <a:lnTo>
                            <a:pt x="520" y="192"/>
                          </a:lnTo>
                          <a:lnTo>
                            <a:pt x="516" y="197"/>
                          </a:lnTo>
                          <a:lnTo>
                            <a:pt x="510" y="202"/>
                          </a:lnTo>
                          <a:lnTo>
                            <a:pt x="505" y="205"/>
                          </a:lnTo>
                          <a:lnTo>
                            <a:pt x="498" y="210"/>
                          </a:lnTo>
                          <a:lnTo>
                            <a:pt x="490" y="215"/>
                          </a:lnTo>
                          <a:lnTo>
                            <a:pt x="484" y="220"/>
                          </a:lnTo>
                          <a:lnTo>
                            <a:pt x="476" y="223"/>
                          </a:lnTo>
                          <a:lnTo>
                            <a:pt x="469" y="228"/>
                          </a:lnTo>
                          <a:lnTo>
                            <a:pt x="462" y="230"/>
                          </a:lnTo>
                          <a:lnTo>
                            <a:pt x="457" y="234"/>
                          </a:lnTo>
                          <a:lnTo>
                            <a:pt x="453" y="235"/>
                          </a:lnTo>
                          <a:lnTo>
                            <a:pt x="448" y="237"/>
                          </a:lnTo>
                          <a:lnTo>
                            <a:pt x="442" y="240"/>
                          </a:lnTo>
                          <a:lnTo>
                            <a:pt x="434" y="243"/>
                          </a:lnTo>
                          <a:lnTo>
                            <a:pt x="426" y="248"/>
                          </a:lnTo>
                          <a:lnTo>
                            <a:pt x="417" y="251"/>
                          </a:lnTo>
                          <a:lnTo>
                            <a:pt x="406" y="255"/>
                          </a:lnTo>
                          <a:lnTo>
                            <a:pt x="396" y="258"/>
                          </a:lnTo>
                          <a:lnTo>
                            <a:pt x="384" y="260"/>
                          </a:lnTo>
                          <a:lnTo>
                            <a:pt x="372" y="261"/>
                          </a:lnTo>
                          <a:lnTo>
                            <a:pt x="358" y="260"/>
                          </a:lnTo>
                          <a:lnTo>
                            <a:pt x="346" y="257"/>
                          </a:lnTo>
                          <a:lnTo>
                            <a:pt x="336" y="255"/>
                          </a:lnTo>
                          <a:lnTo>
                            <a:pt x="325" y="253"/>
                          </a:lnTo>
                          <a:lnTo>
                            <a:pt x="317" y="250"/>
                          </a:lnTo>
                          <a:lnTo>
                            <a:pt x="309" y="247"/>
                          </a:lnTo>
                          <a:lnTo>
                            <a:pt x="302" y="244"/>
                          </a:lnTo>
                          <a:lnTo>
                            <a:pt x="296" y="241"/>
                          </a:lnTo>
                          <a:lnTo>
                            <a:pt x="289" y="238"/>
                          </a:lnTo>
                          <a:lnTo>
                            <a:pt x="282" y="235"/>
                          </a:lnTo>
                          <a:lnTo>
                            <a:pt x="274" y="230"/>
                          </a:lnTo>
                          <a:lnTo>
                            <a:pt x="266" y="225"/>
                          </a:lnTo>
                          <a:lnTo>
                            <a:pt x="257" y="217"/>
                          </a:lnTo>
                          <a:lnTo>
                            <a:pt x="248" y="209"/>
                          </a:lnTo>
                          <a:lnTo>
                            <a:pt x="238" y="198"/>
                          </a:lnTo>
                          <a:lnTo>
                            <a:pt x="228" y="188"/>
                          </a:lnTo>
                          <a:lnTo>
                            <a:pt x="218" y="176"/>
                          </a:lnTo>
                          <a:lnTo>
                            <a:pt x="208" y="165"/>
                          </a:lnTo>
                          <a:lnTo>
                            <a:pt x="198" y="155"/>
                          </a:lnTo>
                          <a:lnTo>
                            <a:pt x="190" y="145"/>
                          </a:lnTo>
                          <a:lnTo>
                            <a:pt x="182" y="138"/>
                          </a:lnTo>
                          <a:lnTo>
                            <a:pt x="174" y="132"/>
                          </a:lnTo>
                          <a:lnTo>
                            <a:pt x="165" y="125"/>
                          </a:lnTo>
                          <a:lnTo>
                            <a:pt x="156" y="119"/>
                          </a:lnTo>
                          <a:lnTo>
                            <a:pt x="146" y="113"/>
                          </a:lnTo>
                          <a:lnTo>
                            <a:pt x="136" y="107"/>
                          </a:lnTo>
                          <a:lnTo>
                            <a:pt x="126" y="103"/>
                          </a:lnTo>
                          <a:lnTo>
                            <a:pt x="118" y="99"/>
                          </a:lnTo>
                          <a:lnTo>
                            <a:pt x="110" y="96"/>
                          </a:lnTo>
                          <a:lnTo>
                            <a:pt x="105" y="92"/>
                          </a:lnTo>
                          <a:lnTo>
                            <a:pt x="100" y="91"/>
                          </a:lnTo>
                          <a:lnTo>
                            <a:pt x="96" y="90"/>
                          </a:lnTo>
                          <a:lnTo>
                            <a:pt x="90" y="88"/>
                          </a:lnTo>
                          <a:lnTo>
                            <a:pt x="82" y="86"/>
                          </a:lnTo>
                          <a:lnTo>
                            <a:pt x="72" y="85"/>
                          </a:lnTo>
                          <a:lnTo>
                            <a:pt x="61" y="84"/>
                          </a:lnTo>
                          <a:lnTo>
                            <a:pt x="50" y="84"/>
                          </a:lnTo>
                          <a:lnTo>
                            <a:pt x="38" y="84"/>
                          </a:lnTo>
                          <a:lnTo>
                            <a:pt x="25" y="86"/>
                          </a:lnTo>
                          <a:lnTo>
                            <a:pt x="13" y="90"/>
                          </a:lnTo>
                          <a:lnTo>
                            <a:pt x="1" y="96"/>
                          </a:lnTo>
                          <a:close/>
                        </a:path>
                      </a:pathLst>
                    </a:custGeom>
                    <a:solidFill>
                      <a:srgbClr val="fadb8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991080" y="1861200"/>
                      <a:ext cx="304560" cy="14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8" h="227">
                          <a:moveTo>
                            <a:pt x="1" y="83"/>
                          </a:moveTo>
                          <a:lnTo>
                            <a:pt x="0" y="83"/>
                          </a:lnTo>
                          <a:lnTo>
                            <a:pt x="1" y="82"/>
                          </a:lnTo>
                          <a:lnTo>
                            <a:pt x="2" y="80"/>
                          </a:lnTo>
                          <a:lnTo>
                            <a:pt x="5" y="76"/>
                          </a:lnTo>
                          <a:lnTo>
                            <a:pt x="8" y="72"/>
                          </a:lnTo>
                          <a:lnTo>
                            <a:pt x="13" y="69"/>
                          </a:lnTo>
                          <a:lnTo>
                            <a:pt x="17" y="65"/>
                          </a:lnTo>
                          <a:lnTo>
                            <a:pt x="21" y="62"/>
                          </a:lnTo>
                          <a:lnTo>
                            <a:pt x="26" y="58"/>
                          </a:lnTo>
                          <a:lnTo>
                            <a:pt x="30" y="57"/>
                          </a:lnTo>
                          <a:lnTo>
                            <a:pt x="36" y="56"/>
                          </a:lnTo>
                          <a:lnTo>
                            <a:pt x="42" y="55"/>
                          </a:lnTo>
                          <a:lnTo>
                            <a:pt x="49" y="55"/>
                          </a:lnTo>
                          <a:lnTo>
                            <a:pt x="57" y="54"/>
                          </a:lnTo>
                          <a:lnTo>
                            <a:pt x="65" y="54"/>
                          </a:lnTo>
                          <a:lnTo>
                            <a:pt x="72" y="54"/>
                          </a:lnTo>
                          <a:lnTo>
                            <a:pt x="80" y="52"/>
                          </a:lnTo>
                          <a:lnTo>
                            <a:pt x="85" y="52"/>
                          </a:lnTo>
                          <a:lnTo>
                            <a:pt x="90" y="51"/>
                          </a:lnTo>
                          <a:lnTo>
                            <a:pt x="94" y="51"/>
                          </a:lnTo>
                          <a:lnTo>
                            <a:pt x="98" y="49"/>
                          </a:lnTo>
                          <a:lnTo>
                            <a:pt x="102" y="48"/>
                          </a:lnTo>
                          <a:lnTo>
                            <a:pt x="108" y="45"/>
                          </a:lnTo>
                          <a:lnTo>
                            <a:pt x="113" y="42"/>
                          </a:lnTo>
                          <a:lnTo>
                            <a:pt x="120" y="38"/>
                          </a:lnTo>
                          <a:lnTo>
                            <a:pt x="125" y="35"/>
                          </a:lnTo>
                          <a:lnTo>
                            <a:pt x="130" y="32"/>
                          </a:lnTo>
                          <a:lnTo>
                            <a:pt x="136" y="29"/>
                          </a:lnTo>
                          <a:lnTo>
                            <a:pt x="140" y="26"/>
                          </a:lnTo>
                          <a:lnTo>
                            <a:pt x="141" y="24"/>
                          </a:lnTo>
                          <a:lnTo>
                            <a:pt x="144" y="22"/>
                          </a:lnTo>
                          <a:lnTo>
                            <a:pt x="146" y="18"/>
                          </a:lnTo>
                          <a:lnTo>
                            <a:pt x="149" y="16"/>
                          </a:lnTo>
                          <a:lnTo>
                            <a:pt x="152" y="12"/>
                          </a:lnTo>
                          <a:lnTo>
                            <a:pt x="156" y="10"/>
                          </a:lnTo>
                          <a:lnTo>
                            <a:pt x="158" y="6"/>
                          </a:lnTo>
                          <a:lnTo>
                            <a:pt x="162" y="4"/>
                          </a:lnTo>
                          <a:lnTo>
                            <a:pt x="165" y="2"/>
                          </a:lnTo>
                          <a:lnTo>
                            <a:pt x="169" y="0"/>
                          </a:lnTo>
                          <a:lnTo>
                            <a:pt x="172" y="0"/>
                          </a:lnTo>
                          <a:lnTo>
                            <a:pt x="174" y="0"/>
                          </a:lnTo>
                          <a:lnTo>
                            <a:pt x="180" y="0"/>
                          </a:lnTo>
                          <a:lnTo>
                            <a:pt x="185" y="0"/>
                          </a:lnTo>
                          <a:lnTo>
                            <a:pt x="190" y="2"/>
                          </a:lnTo>
                          <a:lnTo>
                            <a:pt x="197" y="2"/>
                          </a:lnTo>
                          <a:lnTo>
                            <a:pt x="205" y="4"/>
                          </a:lnTo>
                          <a:lnTo>
                            <a:pt x="213" y="5"/>
                          </a:lnTo>
                          <a:lnTo>
                            <a:pt x="221" y="8"/>
                          </a:lnTo>
                          <a:lnTo>
                            <a:pt x="229" y="11"/>
                          </a:lnTo>
                          <a:lnTo>
                            <a:pt x="237" y="15"/>
                          </a:lnTo>
                          <a:lnTo>
                            <a:pt x="245" y="18"/>
                          </a:lnTo>
                          <a:lnTo>
                            <a:pt x="253" y="22"/>
                          </a:lnTo>
                          <a:lnTo>
                            <a:pt x="258" y="25"/>
                          </a:lnTo>
                          <a:lnTo>
                            <a:pt x="265" y="29"/>
                          </a:lnTo>
                          <a:lnTo>
                            <a:pt x="270" y="32"/>
                          </a:lnTo>
                          <a:lnTo>
                            <a:pt x="274" y="35"/>
                          </a:lnTo>
                          <a:lnTo>
                            <a:pt x="278" y="38"/>
                          </a:lnTo>
                          <a:lnTo>
                            <a:pt x="281" y="41"/>
                          </a:lnTo>
                          <a:lnTo>
                            <a:pt x="284" y="43"/>
                          </a:lnTo>
                          <a:lnTo>
                            <a:pt x="285" y="47"/>
                          </a:lnTo>
                          <a:lnTo>
                            <a:pt x="286" y="50"/>
                          </a:lnTo>
                          <a:lnTo>
                            <a:pt x="288" y="54"/>
                          </a:lnTo>
                          <a:lnTo>
                            <a:pt x="290" y="58"/>
                          </a:lnTo>
                          <a:lnTo>
                            <a:pt x="294" y="64"/>
                          </a:lnTo>
                          <a:lnTo>
                            <a:pt x="298" y="70"/>
                          </a:lnTo>
                          <a:lnTo>
                            <a:pt x="304" y="75"/>
                          </a:lnTo>
                          <a:lnTo>
                            <a:pt x="310" y="81"/>
                          </a:lnTo>
                          <a:lnTo>
                            <a:pt x="317" y="85"/>
                          </a:lnTo>
                          <a:lnTo>
                            <a:pt x="326" y="90"/>
                          </a:lnTo>
                          <a:lnTo>
                            <a:pt x="336" y="94"/>
                          </a:lnTo>
                          <a:lnTo>
                            <a:pt x="346" y="97"/>
                          </a:lnTo>
                          <a:lnTo>
                            <a:pt x="356" y="100"/>
                          </a:lnTo>
                          <a:lnTo>
                            <a:pt x="364" y="101"/>
                          </a:lnTo>
                          <a:lnTo>
                            <a:pt x="370" y="102"/>
                          </a:lnTo>
                          <a:lnTo>
                            <a:pt x="377" y="103"/>
                          </a:lnTo>
                          <a:lnTo>
                            <a:pt x="382" y="104"/>
                          </a:lnTo>
                          <a:lnTo>
                            <a:pt x="386" y="104"/>
                          </a:lnTo>
                          <a:lnTo>
                            <a:pt x="392" y="104"/>
                          </a:lnTo>
                          <a:lnTo>
                            <a:pt x="396" y="104"/>
                          </a:lnTo>
                          <a:lnTo>
                            <a:pt x="398" y="104"/>
                          </a:lnTo>
                          <a:lnTo>
                            <a:pt x="402" y="104"/>
                          </a:lnTo>
                          <a:lnTo>
                            <a:pt x="406" y="103"/>
                          </a:lnTo>
                          <a:lnTo>
                            <a:pt x="412" y="102"/>
                          </a:lnTo>
                          <a:lnTo>
                            <a:pt x="416" y="101"/>
                          </a:lnTo>
                          <a:lnTo>
                            <a:pt x="420" y="98"/>
                          </a:lnTo>
                          <a:lnTo>
                            <a:pt x="425" y="97"/>
                          </a:lnTo>
                          <a:lnTo>
                            <a:pt x="430" y="97"/>
                          </a:lnTo>
                          <a:lnTo>
                            <a:pt x="434" y="97"/>
                          </a:lnTo>
                          <a:lnTo>
                            <a:pt x="440" y="97"/>
                          </a:lnTo>
                          <a:lnTo>
                            <a:pt x="444" y="100"/>
                          </a:lnTo>
                          <a:lnTo>
                            <a:pt x="448" y="102"/>
                          </a:lnTo>
                          <a:lnTo>
                            <a:pt x="452" y="104"/>
                          </a:lnTo>
                          <a:lnTo>
                            <a:pt x="456" y="107"/>
                          </a:lnTo>
                          <a:lnTo>
                            <a:pt x="458" y="109"/>
                          </a:lnTo>
                          <a:lnTo>
                            <a:pt x="461" y="111"/>
                          </a:lnTo>
                          <a:lnTo>
                            <a:pt x="464" y="114"/>
                          </a:lnTo>
                          <a:lnTo>
                            <a:pt x="465" y="115"/>
                          </a:lnTo>
                          <a:lnTo>
                            <a:pt x="466" y="117"/>
                          </a:lnTo>
                          <a:lnTo>
                            <a:pt x="468" y="120"/>
                          </a:lnTo>
                          <a:lnTo>
                            <a:pt x="468" y="122"/>
                          </a:lnTo>
                          <a:lnTo>
                            <a:pt x="468" y="124"/>
                          </a:lnTo>
                          <a:lnTo>
                            <a:pt x="468" y="128"/>
                          </a:lnTo>
                          <a:lnTo>
                            <a:pt x="466" y="133"/>
                          </a:lnTo>
                          <a:lnTo>
                            <a:pt x="466" y="139"/>
                          </a:lnTo>
                          <a:lnTo>
                            <a:pt x="465" y="144"/>
                          </a:lnTo>
                          <a:lnTo>
                            <a:pt x="462" y="152"/>
                          </a:lnTo>
                          <a:lnTo>
                            <a:pt x="461" y="157"/>
                          </a:lnTo>
                          <a:lnTo>
                            <a:pt x="458" y="163"/>
                          </a:lnTo>
                          <a:lnTo>
                            <a:pt x="454" y="168"/>
                          </a:lnTo>
                          <a:lnTo>
                            <a:pt x="452" y="172"/>
                          </a:lnTo>
                          <a:lnTo>
                            <a:pt x="446" y="176"/>
                          </a:lnTo>
                          <a:lnTo>
                            <a:pt x="441" y="180"/>
                          </a:lnTo>
                          <a:lnTo>
                            <a:pt x="436" y="183"/>
                          </a:lnTo>
                          <a:lnTo>
                            <a:pt x="429" y="188"/>
                          </a:lnTo>
                          <a:lnTo>
                            <a:pt x="422" y="192"/>
                          </a:lnTo>
                          <a:lnTo>
                            <a:pt x="417" y="195"/>
                          </a:lnTo>
                          <a:lnTo>
                            <a:pt x="410" y="199"/>
                          </a:lnTo>
                          <a:lnTo>
                            <a:pt x="405" y="201"/>
                          </a:lnTo>
                          <a:lnTo>
                            <a:pt x="400" y="204"/>
                          </a:lnTo>
                          <a:lnTo>
                            <a:pt x="396" y="205"/>
                          </a:lnTo>
                          <a:lnTo>
                            <a:pt x="392" y="207"/>
                          </a:lnTo>
                          <a:lnTo>
                            <a:pt x="386" y="209"/>
                          </a:lnTo>
                          <a:lnTo>
                            <a:pt x="380" y="213"/>
                          </a:lnTo>
                          <a:lnTo>
                            <a:pt x="373" y="216"/>
                          </a:lnTo>
                          <a:lnTo>
                            <a:pt x="365" y="220"/>
                          </a:lnTo>
                          <a:lnTo>
                            <a:pt x="356" y="222"/>
                          </a:lnTo>
                          <a:lnTo>
                            <a:pt x="346" y="226"/>
                          </a:lnTo>
                          <a:lnTo>
                            <a:pt x="336" y="227"/>
                          </a:lnTo>
                          <a:lnTo>
                            <a:pt x="325" y="227"/>
                          </a:lnTo>
                          <a:lnTo>
                            <a:pt x="313" y="226"/>
                          </a:lnTo>
                          <a:lnTo>
                            <a:pt x="302" y="225"/>
                          </a:lnTo>
                          <a:lnTo>
                            <a:pt x="293" y="222"/>
                          </a:lnTo>
                          <a:lnTo>
                            <a:pt x="285" y="220"/>
                          </a:lnTo>
                          <a:lnTo>
                            <a:pt x="277" y="218"/>
                          </a:lnTo>
                          <a:lnTo>
                            <a:pt x="270" y="215"/>
                          </a:lnTo>
                          <a:lnTo>
                            <a:pt x="265" y="213"/>
                          </a:lnTo>
                          <a:lnTo>
                            <a:pt x="258" y="211"/>
                          </a:lnTo>
                          <a:lnTo>
                            <a:pt x="253" y="208"/>
                          </a:lnTo>
                          <a:lnTo>
                            <a:pt x="246" y="205"/>
                          </a:lnTo>
                          <a:lnTo>
                            <a:pt x="240" y="201"/>
                          </a:lnTo>
                          <a:lnTo>
                            <a:pt x="233" y="196"/>
                          </a:lnTo>
                          <a:lnTo>
                            <a:pt x="225" y="191"/>
                          </a:lnTo>
                          <a:lnTo>
                            <a:pt x="217" y="182"/>
                          </a:lnTo>
                          <a:lnTo>
                            <a:pt x="208" y="173"/>
                          </a:lnTo>
                          <a:lnTo>
                            <a:pt x="200" y="163"/>
                          </a:lnTo>
                          <a:lnTo>
                            <a:pt x="190" y="154"/>
                          </a:lnTo>
                          <a:lnTo>
                            <a:pt x="182" y="143"/>
                          </a:lnTo>
                          <a:lnTo>
                            <a:pt x="174" y="135"/>
                          </a:lnTo>
                          <a:lnTo>
                            <a:pt x="166" y="127"/>
                          </a:lnTo>
                          <a:lnTo>
                            <a:pt x="160" y="121"/>
                          </a:lnTo>
                          <a:lnTo>
                            <a:pt x="153" y="115"/>
                          </a:lnTo>
                          <a:lnTo>
                            <a:pt x="145" y="109"/>
                          </a:lnTo>
                          <a:lnTo>
                            <a:pt x="137" y="104"/>
                          </a:lnTo>
                          <a:lnTo>
                            <a:pt x="128" y="98"/>
                          </a:lnTo>
                          <a:lnTo>
                            <a:pt x="120" y="94"/>
                          </a:lnTo>
                          <a:lnTo>
                            <a:pt x="110" y="90"/>
                          </a:lnTo>
                          <a:lnTo>
                            <a:pt x="104" y="85"/>
                          </a:lnTo>
                          <a:lnTo>
                            <a:pt x="97" y="83"/>
                          </a:lnTo>
                          <a:lnTo>
                            <a:pt x="92" y="81"/>
                          </a:lnTo>
                          <a:lnTo>
                            <a:pt x="88" y="80"/>
                          </a:lnTo>
                          <a:lnTo>
                            <a:pt x="84" y="78"/>
                          </a:lnTo>
                          <a:lnTo>
                            <a:pt x="78" y="77"/>
                          </a:lnTo>
                          <a:lnTo>
                            <a:pt x="72" y="75"/>
                          </a:lnTo>
                          <a:lnTo>
                            <a:pt x="64" y="74"/>
                          </a:lnTo>
                          <a:lnTo>
                            <a:pt x="54" y="72"/>
                          </a:lnTo>
                          <a:lnTo>
                            <a:pt x="44" y="72"/>
                          </a:lnTo>
                          <a:lnTo>
                            <a:pt x="33" y="74"/>
                          </a:lnTo>
                          <a:lnTo>
                            <a:pt x="22" y="75"/>
                          </a:lnTo>
                          <a:lnTo>
                            <a:pt x="12" y="78"/>
                          </a:lnTo>
                          <a:lnTo>
                            <a:pt x="1" y="83"/>
                          </a:lnTo>
                          <a:close/>
                        </a:path>
                      </a:pathLst>
                    </a:custGeom>
                    <a:solidFill>
                      <a:srgbClr val="fade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1011960" y="1871640"/>
                      <a:ext cx="261000" cy="12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1" h="195">
                          <a:moveTo>
                            <a:pt x="0" y="71"/>
                          </a:moveTo>
                          <a:lnTo>
                            <a:pt x="0" y="71"/>
                          </a:lnTo>
                          <a:lnTo>
                            <a:pt x="1" y="69"/>
                          </a:lnTo>
                          <a:lnTo>
                            <a:pt x="2" y="68"/>
                          </a:lnTo>
                          <a:lnTo>
                            <a:pt x="4" y="65"/>
                          </a:lnTo>
                          <a:lnTo>
                            <a:pt x="8" y="62"/>
                          </a:lnTo>
                          <a:lnTo>
                            <a:pt x="10" y="59"/>
                          </a:lnTo>
                          <a:lnTo>
                            <a:pt x="14" y="55"/>
                          </a:lnTo>
                          <a:lnTo>
                            <a:pt x="18" y="52"/>
                          </a:lnTo>
                          <a:lnTo>
                            <a:pt x="22" y="49"/>
                          </a:lnTo>
                          <a:lnTo>
                            <a:pt x="26" y="48"/>
                          </a:lnTo>
                          <a:lnTo>
                            <a:pt x="30" y="47"/>
                          </a:lnTo>
                          <a:lnTo>
                            <a:pt x="36" y="47"/>
                          </a:lnTo>
                          <a:lnTo>
                            <a:pt x="42" y="46"/>
                          </a:lnTo>
                          <a:lnTo>
                            <a:pt x="49" y="46"/>
                          </a:lnTo>
                          <a:lnTo>
                            <a:pt x="56" y="46"/>
                          </a:lnTo>
                          <a:lnTo>
                            <a:pt x="62" y="45"/>
                          </a:lnTo>
                          <a:lnTo>
                            <a:pt x="68" y="45"/>
                          </a:lnTo>
                          <a:lnTo>
                            <a:pt x="73" y="45"/>
                          </a:lnTo>
                          <a:lnTo>
                            <a:pt x="78" y="44"/>
                          </a:lnTo>
                          <a:lnTo>
                            <a:pt x="81" y="44"/>
                          </a:lnTo>
                          <a:lnTo>
                            <a:pt x="84" y="42"/>
                          </a:lnTo>
                          <a:lnTo>
                            <a:pt x="88" y="40"/>
                          </a:lnTo>
                          <a:lnTo>
                            <a:pt x="93" y="38"/>
                          </a:lnTo>
                          <a:lnTo>
                            <a:pt x="97" y="35"/>
                          </a:lnTo>
                          <a:lnTo>
                            <a:pt x="102" y="33"/>
                          </a:lnTo>
                          <a:lnTo>
                            <a:pt x="108" y="29"/>
                          </a:lnTo>
                          <a:lnTo>
                            <a:pt x="112" y="27"/>
                          </a:lnTo>
                          <a:lnTo>
                            <a:pt x="116" y="25"/>
                          </a:lnTo>
                          <a:lnTo>
                            <a:pt x="120" y="22"/>
                          </a:lnTo>
                          <a:lnTo>
                            <a:pt x="121" y="20"/>
                          </a:lnTo>
                          <a:lnTo>
                            <a:pt x="124" y="18"/>
                          </a:lnTo>
                          <a:lnTo>
                            <a:pt x="125" y="15"/>
                          </a:lnTo>
                          <a:lnTo>
                            <a:pt x="128" y="13"/>
                          </a:lnTo>
                          <a:lnTo>
                            <a:pt x="130" y="10"/>
                          </a:lnTo>
                          <a:lnTo>
                            <a:pt x="133" y="8"/>
                          </a:lnTo>
                          <a:lnTo>
                            <a:pt x="136" y="5"/>
                          </a:lnTo>
                          <a:lnTo>
                            <a:pt x="138" y="3"/>
                          </a:lnTo>
                          <a:lnTo>
                            <a:pt x="142" y="1"/>
                          </a:lnTo>
                          <a:lnTo>
                            <a:pt x="145" y="0"/>
                          </a:lnTo>
                          <a:lnTo>
                            <a:pt x="146" y="0"/>
                          </a:lnTo>
                          <a:lnTo>
                            <a:pt x="150" y="0"/>
                          </a:lnTo>
                          <a:lnTo>
                            <a:pt x="153" y="0"/>
                          </a:lnTo>
                          <a:lnTo>
                            <a:pt x="158" y="0"/>
                          </a:lnTo>
                          <a:lnTo>
                            <a:pt x="164" y="1"/>
                          </a:lnTo>
                          <a:lnTo>
                            <a:pt x="169" y="1"/>
                          </a:lnTo>
                          <a:lnTo>
                            <a:pt x="176" y="2"/>
                          </a:lnTo>
                          <a:lnTo>
                            <a:pt x="182" y="5"/>
                          </a:lnTo>
                          <a:lnTo>
                            <a:pt x="189" y="6"/>
                          </a:lnTo>
                          <a:lnTo>
                            <a:pt x="197" y="9"/>
                          </a:lnTo>
                          <a:lnTo>
                            <a:pt x="204" y="12"/>
                          </a:lnTo>
                          <a:lnTo>
                            <a:pt x="210" y="15"/>
                          </a:lnTo>
                          <a:lnTo>
                            <a:pt x="216" y="19"/>
                          </a:lnTo>
                          <a:lnTo>
                            <a:pt x="222" y="21"/>
                          </a:lnTo>
                          <a:lnTo>
                            <a:pt x="228" y="25"/>
                          </a:lnTo>
                          <a:lnTo>
                            <a:pt x="232" y="27"/>
                          </a:lnTo>
                          <a:lnTo>
                            <a:pt x="236" y="29"/>
                          </a:lnTo>
                          <a:lnTo>
                            <a:pt x="238" y="32"/>
                          </a:lnTo>
                          <a:lnTo>
                            <a:pt x="241" y="34"/>
                          </a:lnTo>
                          <a:lnTo>
                            <a:pt x="244" y="36"/>
                          </a:lnTo>
                          <a:lnTo>
                            <a:pt x="245" y="39"/>
                          </a:lnTo>
                          <a:lnTo>
                            <a:pt x="245" y="42"/>
                          </a:lnTo>
                          <a:lnTo>
                            <a:pt x="246" y="46"/>
                          </a:lnTo>
                          <a:lnTo>
                            <a:pt x="249" y="49"/>
                          </a:lnTo>
                          <a:lnTo>
                            <a:pt x="252" y="54"/>
                          </a:lnTo>
                          <a:lnTo>
                            <a:pt x="256" y="59"/>
                          </a:lnTo>
                          <a:lnTo>
                            <a:pt x="260" y="64"/>
                          </a:lnTo>
                          <a:lnTo>
                            <a:pt x="265" y="68"/>
                          </a:lnTo>
                          <a:lnTo>
                            <a:pt x="272" y="73"/>
                          </a:lnTo>
                          <a:lnTo>
                            <a:pt x="280" y="77"/>
                          </a:lnTo>
                          <a:lnTo>
                            <a:pt x="288" y="80"/>
                          </a:lnTo>
                          <a:lnTo>
                            <a:pt x="297" y="82"/>
                          </a:lnTo>
                          <a:lnTo>
                            <a:pt x="305" y="85"/>
                          </a:lnTo>
                          <a:lnTo>
                            <a:pt x="312" y="86"/>
                          </a:lnTo>
                          <a:lnTo>
                            <a:pt x="317" y="87"/>
                          </a:lnTo>
                          <a:lnTo>
                            <a:pt x="322" y="88"/>
                          </a:lnTo>
                          <a:lnTo>
                            <a:pt x="328" y="88"/>
                          </a:lnTo>
                          <a:lnTo>
                            <a:pt x="332" y="88"/>
                          </a:lnTo>
                          <a:lnTo>
                            <a:pt x="336" y="90"/>
                          </a:lnTo>
                          <a:lnTo>
                            <a:pt x="338" y="90"/>
                          </a:lnTo>
                          <a:lnTo>
                            <a:pt x="342" y="90"/>
                          </a:lnTo>
                          <a:lnTo>
                            <a:pt x="345" y="88"/>
                          </a:lnTo>
                          <a:lnTo>
                            <a:pt x="349" y="88"/>
                          </a:lnTo>
                          <a:lnTo>
                            <a:pt x="352" y="87"/>
                          </a:lnTo>
                          <a:lnTo>
                            <a:pt x="356" y="86"/>
                          </a:lnTo>
                          <a:lnTo>
                            <a:pt x="360" y="85"/>
                          </a:lnTo>
                          <a:lnTo>
                            <a:pt x="364" y="84"/>
                          </a:lnTo>
                          <a:lnTo>
                            <a:pt x="368" y="82"/>
                          </a:lnTo>
                          <a:lnTo>
                            <a:pt x="373" y="82"/>
                          </a:lnTo>
                          <a:lnTo>
                            <a:pt x="377" y="84"/>
                          </a:lnTo>
                          <a:lnTo>
                            <a:pt x="380" y="85"/>
                          </a:lnTo>
                          <a:lnTo>
                            <a:pt x="384" y="87"/>
                          </a:lnTo>
                          <a:lnTo>
                            <a:pt x="388" y="88"/>
                          </a:lnTo>
                          <a:lnTo>
                            <a:pt x="390" y="91"/>
                          </a:lnTo>
                          <a:lnTo>
                            <a:pt x="393" y="93"/>
                          </a:lnTo>
                          <a:lnTo>
                            <a:pt x="396" y="94"/>
                          </a:lnTo>
                          <a:lnTo>
                            <a:pt x="397" y="97"/>
                          </a:lnTo>
                          <a:lnTo>
                            <a:pt x="398" y="99"/>
                          </a:lnTo>
                          <a:lnTo>
                            <a:pt x="400" y="100"/>
                          </a:lnTo>
                          <a:lnTo>
                            <a:pt x="401" y="103"/>
                          </a:lnTo>
                          <a:lnTo>
                            <a:pt x="401" y="104"/>
                          </a:lnTo>
                          <a:lnTo>
                            <a:pt x="401" y="106"/>
                          </a:lnTo>
                          <a:lnTo>
                            <a:pt x="401" y="110"/>
                          </a:lnTo>
                          <a:lnTo>
                            <a:pt x="400" y="114"/>
                          </a:lnTo>
                          <a:lnTo>
                            <a:pt x="400" y="119"/>
                          </a:lnTo>
                          <a:lnTo>
                            <a:pt x="398" y="124"/>
                          </a:lnTo>
                          <a:lnTo>
                            <a:pt x="397" y="130"/>
                          </a:lnTo>
                          <a:lnTo>
                            <a:pt x="394" y="134"/>
                          </a:lnTo>
                          <a:lnTo>
                            <a:pt x="393" y="139"/>
                          </a:lnTo>
                          <a:lnTo>
                            <a:pt x="390" y="144"/>
                          </a:lnTo>
                          <a:lnTo>
                            <a:pt x="386" y="147"/>
                          </a:lnTo>
                          <a:lnTo>
                            <a:pt x="382" y="150"/>
                          </a:lnTo>
                          <a:lnTo>
                            <a:pt x="378" y="153"/>
                          </a:lnTo>
                          <a:lnTo>
                            <a:pt x="373" y="157"/>
                          </a:lnTo>
                          <a:lnTo>
                            <a:pt x="368" y="160"/>
                          </a:lnTo>
                          <a:lnTo>
                            <a:pt x="362" y="164"/>
                          </a:lnTo>
                          <a:lnTo>
                            <a:pt x="357" y="167"/>
                          </a:lnTo>
                          <a:lnTo>
                            <a:pt x="352" y="170"/>
                          </a:lnTo>
                          <a:lnTo>
                            <a:pt x="348" y="172"/>
                          </a:lnTo>
                          <a:lnTo>
                            <a:pt x="342" y="175"/>
                          </a:lnTo>
                          <a:lnTo>
                            <a:pt x="340" y="176"/>
                          </a:lnTo>
                          <a:lnTo>
                            <a:pt x="336" y="177"/>
                          </a:lnTo>
                          <a:lnTo>
                            <a:pt x="332" y="179"/>
                          </a:lnTo>
                          <a:lnTo>
                            <a:pt x="326" y="182"/>
                          </a:lnTo>
                          <a:lnTo>
                            <a:pt x="320" y="185"/>
                          </a:lnTo>
                          <a:lnTo>
                            <a:pt x="313" y="188"/>
                          </a:lnTo>
                          <a:lnTo>
                            <a:pt x="305" y="191"/>
                          </a:lnTo>
                          <a:lnTo>
                            <a:pt x="297" y="193"/>
                          </a:lnTo>
                          <a:lnTo>
                            <a:pt x="288" y="195"/>
                          </a:lnTo>
                          <a:lnTo>
                            <a:pt x="278" y="195"/>
                          </a:lnTo>
                          <a:lnTo>
                            <a:pt x="269" y="193"/>
                          </a:lnTo>
                          <a:lnTo>
                            <a:pt x="260" y="192"/>
                          </a:lnTo>
                          <a:lnTo>
                            <a:pt x="252" y="190"/>
                          </a:lnTo>
                          <a:lnTo>
                            <a:pt x="244" y="189"/>
                          </a:lnTo>
                          <a:lnTo>
                            <a:pt x="238" y="186"/>
                          </a:lnTo>
                          <a:lnTo>
                            <a:pt x="232" y="184"/>
                          </a:lnTo>
                          <a:lnTo>
                            <a:pt x="226" y="183"/>
                          </a:lnTo>
                          <a:lnTo>
                            <a:pt x="221" y="180"/>
                          </a:lnTo>
                          <a:lnTo>
                            <a:pt x="217" y="178"/>
                          </a:lnTo>
                          <a:lnTo>
                            <a:pt x="212" y="175"/>
                          </a:lnTo>
                          <a:lnTo>
                            <a:pt x="206" y="172"/>
                          </a:lnTo>
                          <a:lnTo>
                            <a:pt x="200" y="169"/>
                          </a:lnTo>
                          <a:lnTo>
                            <a:pt x="193" y="163"/>
                          </a:lnTo>
                          <a:lnTo>
                            <a:pt x="186" y="156"/>
                          </a:lnTo>
                          <a:lnTo>
                            <a:pt x="178" y="147"/>
                          </a:lnTo>
                          <a:lnTo>
                            <a:pt x="170" y="139"/>
                          </a:lnTo>
                          <a:lnTo>
                            <a:pt x="164" y="131"/>
                          </a:lnTo>
                          <a:lnTo>
                            <a:pt x="156" y="123"/>
                          </a:lnTo>
                          <a:lnTo>
                            <a:pt x="149" y="116"/>
                          </a:lnTo>
                          <a:lnTo>
                            <a:pt x="142" y="108"/>
                          </a:lnTo>
                          <a:lnTo>
                            <a:pt x="137" y="103"/>
                          </a:lnTo>
                          <a:lnTo>
                            <a:pt x="130" y="98"/>
                          </a:lnTo>
                          <a:lnTo>
                            <a:pt x="124" y="93"/>
                          </a:lnTo>
                          <a:lnTo>
                            <a:pt x="117" y="88"/>
                          </a:lnTo>
                          <a:lnTo>
                            <a:pt x="109" y="84"/>
                          </a:lnTo>
                          <a:lnTo>
                            <a:pt x="102" y="80"/>
                          </a:lnTo>
                          <a:lnTo>
                            <a:pt x="94" y="77"/>
                          </a:lnTo>
                          <a:lnTo>
                            <a:pt x="89" y="73"/>
                          </a:lnTo>
                          <a:lnTo>
                            <a:pt x="82" y="71"/>
                          </a:lnTo>
                          <a:lnTo>
                            <a:pt x="78" y="68"/>
                          </a:lnTo>
                          <a:lnTo>
                            <a:pt x="76" y="67"/>
                          </a:lnTo>
                          <a:lnTo>
                            <a:pt x="72" y="67"/>
                          </a:lnTo>
                          <a:lnTo>
                            <a:pt x="68" y="66"/>
                          </a:lnTo>
                          <a:lnTo>
                            <a:pt x="61" y="64"/>
                          </a:lnTo>
                          <a:lnTo>
                            <a:pt x="54" y="62"/>
                          </a:lnTo>
                          <a:lnTo>
                            <a:pt x="46" y="62"/>
                          </a:lnTo>
                          <a:lnTo>
                            <a:pt x="37" y="61"/>
                          </a:lnTo>
                          <a:lnTo>
                            <a:pt x="29" y="62"/>
                          </a:lnTo>
                          <a:lnTo>
                            <a:pt x="20" y="64"/>
                          </a:lnTo>
                          <a:lnTo>
                            <a:pt x="10" y="67"/>
                          </a:lnTo>
                          <a:lnTo>
                            <a:pt x="1" y="71"/>
                          </a:lnTo>
                          <a:lnTo>
                            <a:pt x="0" y="71"/>
                          </a:lnTo>
                          <a:close/>
                        </a:path>
                      </a:pathLst>
                    </a:custGeom>
                    <a:solidFill>
                      <a:srgbClr val="fae2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1032480" y="1881360"/>
                      <a:ext cx="217440" cy="10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4" h="163">
                          <a:moveTo>
                            <a:pt x="0" y="59"/>
                          </a:moveTo>
                          <a:lnTo>
                            <a:pt x="0" y="59"/>
                          </a:lnTo>
                          <a:lnTo>
                            <a:pt x="0" y="59"/>
                          </a:lnTo>
                          <a:lnTo>
                            <a:pt x="1" y="57"/>
                          </a:lnTo>
                          <a:lnTo>
                            <a:pt x="4" y="54"/>
                          </a:lnTo>
                          <a:lnTo>
                            <a:pt x="6" y="52"/>
                          </a:lnTo>
                          <a:lnTo>
                            <a:pt x="9" y="50"/>
                          </a:lnTo>
                          <a:lnTo>
                            <a:pt x="12" y="46"/>
                          </a:lnTo>
                          <a:lnTo>
                            <a:pt x="16" y="44"/>
                          </a:lnTo>
                          <a:lnTo>
                            <a:pt x="18" y="41"/>
                          </a:lnTo>
                          <a:lnTo>
                            <a:pt x="22" y="40"/>
                          </a:lnTo>
                          <a:lnTo>
                            <a:pt x="25" y="40"/>
                          </a:lnTo>
                          <a:lnTo>
                            <a:pt x="30" y="39"/>
                          </a:lnTo>
                          <a:lnTo>
                            <a:pt x="36" y="39"/>
                          </a:lnTo>
                          <a:lnTo>
                            <a:pt x="41" y="39"/>
                          </a:lnTo>
                          <a:lnTo>
                            <a:pt x="46" y="38"/>
                          </a:lnTo>
                          <a:lnTo>
                            <a:pt x="52" y="38"/>
                          </a:lnTo>
                          <a:lnTo>
                            <a:pt x="57" y="38"/>
                          </a:lnTo>
                          <a:lnTo>
                            <a:pt x="61" y="38"/>
                          </a:lnTo>
                          <a:lnTo>
                            <a:pt x="65" y="37"/>
                          </a:lnTo>
                          <a:lnTo>
                            <a:pt x="68" y="37"/>
                          </a:lnTo>
                          <a:lnTo>
                            <a:pt x="70" y="36"/>
                          </a:lnTo>
                          <a:lnTo>
                            <a:pt x="73" y="34"/>
                          </a:lnTo>
                          <a:lnTo>
                            <a:pt x="77" y="32"/>
                          </a:lnTo>
                          <a:lnTo>
                            <a:pt x="81" y="30"/>
                          </a:lnTo>
                          <a:lnTo>
                            <a:pt x="85" y="27"/>
                          </a:lnTo>
                          <a:lnTo>
                            <a:pt x="89" y="25"/>
                          </a:lnTo>
                          <a:lnTo>
                            <a:pt x="93" y="23"/>
                          </a:lnTo>
                          <a:lnTo>
                            <a:pt x="97" y="20"/>
                          </a:lnTo>
                          <a:lnTo>
                            <a:pt x="100" y="19"/>
                          </a:lnTo>
                          <a:lnTo>
                            <a:pt x="101" y="17"/>
                          </a:lnTo>
                          <a:lnTo>
                            <a:pt x="102" y="16"/>
                          </a:lnTo>
                          <a:lnTo>
                            <a:pt x="104" y="13"/>
                          </a:lnTo>
                          <a:lnTo>
                            <a:pt x="106" y="11"/>
                          </a:lnTo>
                          <a:lnTo>
                            <a:pt x="109" y="10"/>
                          </a:lnTo>
                          <a:lnTo>
                            <a:pt x="110" y="7"/>
                          </a:lnTo>
                          <a:lnTo>
                            <a:pt x="113" y="5"/>
                          </a:lnTo>
                          <a:lnTo>
                            <a:pt x="116" y="3"/>
                          </a:lnTo>
                          <a:lnTo>
                            <a:pt x="118" y="1"/>
                          </a:lnTo>
                          <a:lnTo>
                            <a:pt x="121" y="0"/>
                          </a:lnTo>
                          <a:lnTo>
                            <a:pt x="122" y="0"/>
                          </a:lnTo>
                          <a:lnTo>
                            <a:pt x="125" y="0"/>
                          </a:lnTo>
                          <a:lnTo>
                            <a:pt x="128" y="0"/>
                          </a:lnTo>
                          <a:lnTo>
                            <a:pt x="132" y="0"/>
                          </a:lnTo>
                          <a:lnTo>
                            <a:pt x="136" y="1"/>
                          </a:lnTo>
                          <a:lnTo>
                            <a:pt x="141" y="1"/>
                          </a:lnTo>
                          <a:lnTo>
                            <a:pt x="146" y="3"/>
                          </a:lnTo>
                          <a:lnTo>
                            <a:pt x="152" y="4"/>
                          </a:lnTo>
                          <a:lnTo>
                            <a:pt x="158" y="6"/>
                          </a:lnTo>
                          <a:lnTo>
                            <a:pt x="164" y="8"/>
                          </a:lnTo>
                          <a:lnTo>
                            <a:pt x="169" y="11"/>
                          </a:lnTo>
                          <a:lnTo>
                            <a:pt x="174" y="13"/>
                          </a:lnTo>
                          <a:lnTo>
                            <a:pt x="180" y="16"/>
                          </a:lnTo>
                          <a:lnTo>
                            <a:pt x="185" y="18"/>
                          </a:lnTo>
                          <a:lnTo>
                            <a:pt x="189" y="20"/>
                          </a:lnTo>
                          <a:lnTo>
                            <a:pt x="193" y="23"/>
                          </a:lnTo>
                          <a:lnTo>
                            <a:pt x="196" y="25"/>
                          </a:lnTo>
                          <a:lnTo>
                            <a:pt x="198" y="27"/>
                          </a:lnTo>
                          <a:lnTo>
                            <a:pt x="201" y="30"/>
                          </a:lnTo>
                          <a:lnTo>
                            <a:pt x="202" y="31"/>
                          </a:lnTo>
                          <a:lnTo>
                            <a:pt x="204" y="33"/>
                          </a:lnTo>
                          <a:lnTo>
                            <a:pt x="205" y="36"/>
                          </a:lnTo>
                          <a:lnTo>
                            <a:pt x="206" y="38"/>
                          </a:lnTo>
                          <a:lnTo>
                            <a:pt x="208" y="41"/>
                          </a:lnTo>
                          <a:lnTo>
                            <a:pt x="210" y="46"/>
                          </a:lnTo>
                          <a:lnTo>
                            <a:pt x="213" y="50"/>
                          </a:lnTo>
                          <a:lnTo>
                            <a:pt x="217" y="53"/>
                          </a:lnTo>
                          <a:lnTo>
                            <a:pt x="221" y="58"/>
                          </a:lnTo>
                          <a:lnTo>
                            <a:pt x="226" y="62"/>
                          </a:lnTo>
                          <a:lnTo>
                            <a:pt x="233" y="65"/>
                          </a:lnTo>
                          <a:lnTo>
                            <a:pt x="240" y="67"/>
                          </a:lnTo>
                          <a:lnTo>
                            <a:pt x="248" y="70"/>
                          </a:lnTo>
                          <a:lnTo>
                            <a:pt x="253" y="71"/>
                          </a:lnTo>
                          <a:lnTo>
                            <a:pt x="260" y="72"/>
                          </a:lnTo>
                          <a:lnTo>
                            <a:pt x="264" y="73"/>
                          </a:lnTo>
                          <a:lnTo>
                            <a:pt x="269" y="73"/>
                          </a:lnTo>
                          <a:lnTo>
                            <a:pt x="273" y="75"/>
                          </a:lnTo>
                          <a:lnTo>
                            <a:pt x="276" y="75"/>
                          </a:lnTo>
                          <a:lnTo>
                            <a:pt x="280" y="75"/>
                          </a:lnTo>
                          <a:lnTo>
                            <a:pt x="282" y="75"/>
                          </a:lnTo>
                          <a:lnTo>
                            <a:pt x="285" y="75"/>
                          </a:lnTo>
                          <a:lnTo>
                            <a:pt x="288" y="75"/>
                          </a:lnTo>
                          <a:lnTo>
                            <a:pt x="290" y="73"/>
                          </a:lnTo>
                          <a:lnTo>
                            <a:pt x="293" y="73"/>
                          </a:lnTo>
                          <a:lnTo>
                            <a:pt x="297" y="72"/>
                          </a:lnTo>
                          <a:lnTo>
                            <a:pt x="300" y="71"/>
                          </a:lnTo>
                          <a:lnTo>
                            <a:pt x="304" y="70"/>
                          </a:lnTo>
                          <a:lnTo>
                            <a:pt x="306" y="70"/>
                          </a:lnTo>
                          <a:lnTo>
                            <a:pt x="310" y="69"/>
                          </a:lnTo>
                          <a:lnTo>
                            <a:pt x="313" y="70"/>
                          </a:lnTo>
                          <a:lnTo>
                            <a:pt x="317" y="71"/>
                          </a:lnTo>
                          <a:lnTo>
                            <a:pt x="320" y="72"/>
                          </a:lnTo>
                          <a:lnTo>
                            <a:pt x="322" y="75"/>
                          </a:lnTo>
                          <a:lnTo>
                            <a:pt x="325" y="76"/>
                          </a:lnTo>
                          <a:lnTo>
                            <a:pt x="328" y="78"/>
                          </a:lnTo>
                          <a:lnTo>
                            <a:pt x="329" y="79"/>
                          </a:lnTo>
                          <a:lnTo>
                            <a:pt x="330" y="80"/>
                          </a:lnTo>
                          <a:lnTo>
                            <a:pt x="332" y="83"/>
                          </a:lnTo>
                          <a:lnTo>
                            <a:pt x="333" y="84"/>
                          </a:lnTo>
                          <a:lnTo>
                            <a:pt x="334" y="85"/>
                          </a:lnTo>
                          <a:lnTo>
                            <a:pt x="334" y="88"/>
                          </a:lnTo>
                          <a:lnTo>
                            <a:pt x="334" y="89"/>
                          </a:lnTo>
                          <a:lnTo>
                            <a:pt x="333" y="92"/>
                          </a:lnTo>
                          <a:lnTo>
                            <a:pt x="333" y="96"/>
                          </a:lnTo>
                          <a:lnTo>
                            <a:pt x="333" y="99"/>
                          </a:lnTo>
                          <a:lnTo>
                            <a:pt x="332" y="104"/>
                          </a:lnTo>
                          <a:lnTo>
                            <a:pt x="330" y="108"/>
                          </a:lnTo>
                          <a:lnTo>
                            <a:pt x="329" y="112"/>
                          </a:lnTo>
                          <a:lnTo>
                            <a:pt x="328" y="117"/>
                          </a:lnTo>
                          <a:lnTo>
                            <a:pt x="325" y="121"/>
                          </a:lnTo>
                          <a:lnTo>
                            <a:pt x="322" y="123"/>
                          </a:lnTo>
                          <a:lnTo>
                            <a:pt x="318" y="125"/>
                          </a:lnTo>
                          <a:lnTo>
                            <a:pt x="316" y="129"/>
                          </a:lnTo>
                          <a:lnTo>
                            <a:pt x="312" y="131"/>
                          </a:lnTo>
                          <a:lnTo>
                            <a:pt x="306" y="135"/>
                          </a:lnTo>
                          <a:lnTo>
                            <a:pt x="302" y="137"/>
                          </a:lnTo>
                          <a:lnTo>
                            <a:pt x="297" y="139"/>
                          </a:lnTo>
                          <a:lnTo>
                            <a:pt x="293" y="142"/>
                          </a:lnTo>
                          <a:lnTo>
                            <a:pt x="289" y="144"/>
                          </a:lnTo>
                          <a:lnTo>
                            <a:pt x="285" y="145"/>
                          </a:lnTo>
                          <a:lnTo>
                            <a:pt x="282" y="147"/>
                          </a:lnTo>
                          <a:lnTo>
                            <a:pt x="280" y="148"/>
                          </a:lnTo>
                          <a:lnTo>
                            <a:pt x="276" y="150"/>
                          </a:lnTo>
                          <a:lnTo>
                            <a:pt x="272" y="152"/>
                          </a:lnTo>
                          <a:lnTo>
                            <a:pt x="266" y="155"/>
                          </a:lnTo>
                          <a:lnTo>
                            <a:pt x="261" y="157"/>
                          </a:lnTo>
                          <a:lnTo>
                            <a:pt x="254" y="160"/>
                          </a:lnTo>
                          <a:lnTo>
                            <a:pt x="248" y="161"/>
                          </a:lnTo>
                          <a:lnTo>
                            <a:pt x="240" y="162"/>
                          </a:lnTo>
                          <a:lnTo>
                            <a:pt x="232" y="163"/>
                          </a:lnTo>
                          <a:lnTo>
                            <a:pt x="224" y="162"/>
                          </a:lnTo>
                          <a:lnTo>
                            <a:pt x="216" y="161"/>
                          </a:lnTo>
                          <a:lnTo>
                            <a:pt x="209" y="160"/>
                          </a:lnTo>
                          <a:lnTo>
                            <a:pt x="204" y="157"/>
                          </a:lnTo>
                          <a:lnTo>
                            <a:pt x="198" y="156"/>
                          </a:lnTo>
                          <a:lnTo>
                            <a:pt x="193" y="155"/>
                          </a:lnTo>
                          <a:lnTo>
                            <a:pt x="189" y="152"/>
                          </a:lnTo>
                          <a:lnTo>
                            <a:pt x="185" y="150"/>
                          </a:lnTo>
                          <a:lnTo>
                            <a:pt x="181" y="149"/>
                          </a:lnTo>
                          <a:lnTo>
                            <a:pt x="176" y="147"/>
                          </a:lnTo>
                          <a:lnTo>
                            <a:pt x="172" y="144"/>
                          </a:lnTo>
                          <a:lnTo>
                            <a:pt x="166" y="141"/>
                          </a:lnTo>
                          <a:lnTo>
                            <a:pt x="161" y="136"/>
                          </a:lnTo>
                          <a:lnTo>
                            <a:pt x="154" y="130"/>
                          </a:lnTo>
                          <a:lnTo>
                            <a:pt x="149" y="124"/>
                          </a:lnTo>
                          <a:lnTo>
                            <a:pt x="142" y="117"/>
                          </a:lnTo>
                          <a:lnTo>
                            <a:pt x="136" y="110"/>
                          </a:lnTo>
                          <a:lnTo>
                            <a:pt x="130" y="103"/>
                          </a:lnTo>
                          <a:lnTo>
                            <a:pt x="124" y="97"/>
                          </a:lnTo>
                          <a:lnTo>
                            <a:pt x="118" y="91"/>
                          </a:lnTo>
                          <a:lnTo>
                            <a:pt x="114" y="86"/>
                          </a:lnTo>
                          <a:lnTo>
                            <a:pt x="109" y="82"/>
                          </a:lnTo>
                          <a:lnTo>
                            <a:pt x="104" y="78"/>
                          </a:lnTo>
                          <a:lnTo>
                            <a:pt x="97" y="75"/>
                          </a:lnTo>
                          <a:lnTo>
                            <a:pt x="92" y="71"/>
                          </a:lnTo>
                          <a:lnTo>
                            <a:pt x="85" y="67"/>
                          </a:lnTo>
                          <a:lnTo>
                            <a:pt x="80" y="64"/>
                          </a:lnTo>
                          <a:lnTo>
                            <a:pt x="73" y="62"/>
                          </a:lnTo>
                          <a:lnTo>
                            <a:pt x="69" y="59"/>
                          </a:lnTo>
                          <a:lnTo>
                            <a:pt x="65" y="58"/>
                          </a:lnTo>
                          <a:lnTo>
                            <a:pt x="62" y="57"/>
                          </a:lnTo>
                          <a:lnTo>
                            <a:pt x="60" y="56"/>
                          </a:lnTo>
                          <a:lnTo>
                            <a:pt x="56" y="54"/>
                          </a:lnTo>
                          <a:lnTo>
                            <a:pt x="50" y="54"/>
                          </a:lnTo>
                          <a:lnTo>
                            <a:pt x="45" y="53"/>
                          </a:lnTo>
                          <a:lnTo>
                            <a:pt x="38" y="52"/>
                          </a:lnTo>
                          <a:lnTo>
                            <a:pt x="32" y="52"/>
                          </a:lnTo>
                          <a:lnTo>
                            <a:pt x="24" y="52"/>
                          </a:lnTo>
                          <a:lnTo>
                            <a:pt x="16" y="53"/>
                          </a:lnTo>
                          <a:lnTo>
                            <a:pt x="8" y="56"/>
                          </a:lnTo>
                          <a:lnTo>
                            <a:pt x="1" y="59"/>
                          </a:lnTo>
                          <a:lnTo>
                            <a:pt x="0" y="59"/>
                          </a:lnTo>
                          <a:close/>
                        </a:path>
                      </a:pathLst>
                    </a:custGeom>
                    <a:solidFill>
                      <a:srgbClr val="fae6b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>
                      <a:off x="1053360" y="1892160"/>
                      <a:ext cx="17460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8" h="129">
                          <a:moveTo>
                            <a:pt x="0" y="47"/>
                          </a:moveTo>
                          <a:lnTo>
                            <a:pt x="0" y="48"/>
                          </a:lnTo>
                          <a:lnTo>
                            <a:pt x="0" y="47"/>
                          </a:lnTo>
                          <a:lnTo>
                            <a:pt x="1" y="46"/>
                          </a:lnTo>
                          <a:lnTo>
                            <a:pt x="2" y="43"/>
                          </a:lnTo>
                          <a:lnTo>
                            <a:pt x="5" y="41"/>
                          </a:lnTo>
                          <a:lnTo>
                            <a:pt x="6" y="38"/>
                          </a:lnTo>
                          <a:lnTo>
                            <a:pt x="9" y="37"/>
                          </a:lnTo>
                          <a:lnTo>
                            <a:pt x="12" y="35"/>
                          </a:lnTo>
                          <a:lnTo>
                            <a:pt x="14" y="34"/>
                          </a:lnTo>
                          <a:lnTo>
                            <a:pt x="17" y="33"/>
                          </a:lnTo>
                          <a:lnTo>
                            <a:pt x="21" y="31"/>
                          </a:lnTo>
                          <a:lnTo>
                            <a:pt x="24" y="31"/>
                          </a:lnTo>
                          <a:lnTo>
                            <a:pt x="28" y="30"/>
                          </a:lnTo>
                          <a:lnTo>
                            <a:pt x="33" y="30"/>
                          </a:lnTo>
                          <a:lnTo>
                            <a:pt x="37" y="30"/>
                          </a:lnTo>
                          <a:lnTo>
                            <a:pt x="41" y="30"/>
                          </a:lnTo>
                          <a:lnTo>
                            <a:pt x="45" y="30"/>
                          </a:lnTo>
                          <a:lnTo>
                            <a:pt x="49" y="29"/>
                          </a:lnTo>
                          <a:lnTo>
                            <a:pt x="52" y="29"/>
                          </a:lnTo>
                          <a:lnTo>
                            <a:pt x="54" y="29"/>
                          </a:lnTo>
                          <a:lnTo>
                            <a:pt x="56" y="28"/>
                          </a:lnTo>
                          <a:lnTo>
                            <a:pt x="58" y="27"/>
                          </a:lnTo>
                          <a:lnTo>
                            <a:pt x="61" y="25"/>
                          </a:lnTo>
                          <a:lnTo>
                            <a:pt x="65" y="23"/>
                          </a:lnTo>
                          <a:lnTo>
                            <a:pt x="68" y="22"/>
                          </a:lnTo>
                          <a:lnTo>
                            <a:pt x="72" y="20"/>
                          </a:lnTo>
                          <a:lnTo>
                            <a:pt x="74" y="18"/>
                          </a:lnTo>
                          <a:lnTo>
                            <a:pt x="77" y="16"/>
                          </a:lnTo>
                          <a:lnTo>
                            <a:pt x="80" y="15"/>
                          </a:lnTo>
                          <a:lnTo>
                            <a:pt x="81" y="14"/>
                          </a:lnTo>
                          <a:lnTo>
                            <a:pt x="82" y="13"/>
                          </a:lnTo>
                          <a:lnTo>
                            <a:pt x="84" y="10"/>
                          </a:lnTo>
                          <a:lnTo>
                            <a:pt x="85" y="9"/>
                          </a:lnTo>
                          <a:lnTo>
                            <a:pt x="86" y="7"/>
                          </a:lnTo>
                          <a:lnTo>
                            <a:pt x="89" y="5"/>
                          </a:lnTo>
                          <a:lnTo>
                            <a:pt x="90" y="3"/>
                          </a:lnTo>
                          <a:lnTo>
                            <a:pt x="93" y="2"/>
                          </a:lnTo>
                          <a:lnTo>
                            <a:pt x="94" y="1"/>
                          </a:lnTo>
                          <a:lnTo>
                            <a:pt x="96" y="0"/>
                          </a:lnTo>
                          <a:lnTo>
                            <a:pt x="98" y="0"/>
                          </a:lnTo>
                          <a:lnTo>
                            <a:pt x="100" y="0"/>
                          </a:lnTo>
                          <a:lnTo>
                            <a:pt x="102" y="0"/>
                          </a:lnTo>
                          <a:lnTo>
                            <a:pt x="105" y="0"/>
                          </a:lnTo>
                          <a:lnTo>
                            <a:pt x="109" y="1"/>
                          </a:lnTo>
                          <a:lnTo>
                            <a:pt x="113" y="1"/>
                          </a:lnTo>
                          <a:lnTo>
                            <a:pt x="117" y="2"/>
                          </a:lnTo>
                          <a:lnTo>
                            <a:pt x="121" y="3"/>
                          </a:lnTo>
                          <a:lnTo>
                            <a:pt x="126" y="4"/>
                          </a:lnTo>
                          <a:lnTo>
                            <a:pt x="130" y="5"/>
                          </a:lnTo>
                          <a:lnTo>
                            <a:pt x="136" y="8"/>
                          </a:lnTo>
                          <a:lnTo>
                            <a:pt x="140" y="10"/>
                          </a:lnTo>
                          <a:lnTo>
                            <a:pt x="144" y="13"/>
                          </a:lnTo>
                          <a:lnTo>
                            <a:pt x="148" y="14"/>
                          </a:lnTo>
                          <a:lnTo>
                            <a:pt x="152" y="16"/>
                          </a:lnTo>
                          <a:lnTo>
                            <a:pt x="154" y="18"/>
                          </a:lnTo>
                          <a:lnTo>
                            <a:pt x="157" y="20"/>
                          </a:lnTo>
                          <a:lnTo>
                            <a:pt x="160" y="21"/>
                          </a:lnTo>
                          <a:lnTo>
                            <a:pt x="161" y="23"/>
                          </a:lnTo>
                          <a:lnTo>
                            <a:pt x="162" y="24"/>
                          </a:lnTo>
                          <a:lnTo>
                            <a:pt x="162" y="27"/>
                          </a:lnTo>
                          <a:lnTo>
                            <a:pt x="164" y="28"/>
                          </a:lnTo>
                          <a:lnTo>
                            <a:pt x="165" y="30"/>
                          </a:lnTo>
                          <a:lnTo>
                            <a:pt x="166" y="34"/>
                          </a:lnTo>
                          <a:lnTo>
                            <a:pt x="168" y="36"/>
                          </a:lnTo>
                          <a:lnTo>
                            <a:pt x="170" y="40"/>
                          </a:lnTo>
                          <a:lnTo>
                            <a:pt x="173" y="43"/>
                          </a:lnTo>
                          <a:lnTo>
                            <a:pt x="177" y="46"/>
                          </a:lnTo>
                          <a:lnTo>
                            <a:pt x="181" y="49"/>
                          </a:lnTo>
                          <a:lnTo>
                            <a:pt x="186" y="51"/>
                          </a:lnTo>
                          <a:lnTo>
                            <a:pt x="192" y="54"/>
                          </a:lnTo>
                          <a:lnTo>
                            <a:pt x="197" y="55"/>
                          </a:lnTo>
                          <a:lnTo>
                            <a:pt x="202" y="56"/>
                          </a:lnTo>
                          <a:lnTo>
                            <a:pt x="208" y="57"/>
                          </a:lnTo>
                          <a:lnTo>
                            <a:pt x="212" y="59"/>
                          </a:lnTo>
                          <a:lnTo>
                            <a:pt x="214" y="59"/>
                          </a:lnTo>
                          <a:lnTo>
                            <a:pt x="218" y="59"/>
                          </a:lnTo>
                          <a:lnTo>
                            <a:pt x="221" y="60"/>
                          </a:lnTo>
                          <a:lnTo>
                            <a:pt x="224" y="60"/>
                          </a:lnTo>
                          <a:lnTo>
                            <a:pt x="225" y="60"/>
                          </a:lnTo>
                          <a:lnTo>
                            <a:pt x="228" y="60"/>
                          </a:lnTo>
                          <a:lnTo>
                            <a:pt x="230" y="60"/>
                          </a:lnTo>
                          <a:lnTo>
                            <a:pt x="232" y="59"/>
                          </a:lnTo>
                          <a:lnTo>
                            <a:pt x="234" y="57"/>
                          </a:lnTo>
                          <a:lnTo>
                            <a:pt x="237" y="57"/>
                          </a:lnTo>
                          <a:lnTo>
                            <a:pt x="240" y="56"/>
                          </a:lnTo>
                          <a:lnTo>
                            <a:pt x="242" y="55"/>
                          </a:lnTo>
                          <a:lnTo>
                            <a:pt x="245" y="55"/>
                          </a:lnTo>
                          <a:lnTo>
                            <a:pt x="248" y="55"/>
                          </a:lnTo>
                          <a:lnTo>
                            <a:pt x="250" y="55"/>
                          </a:lnTo>
                          <a:lnTo>
                            <a:pt x="253" y="56"/>
                          </a:lnTo>
                          <a:lnTo>
                            <a:pt x="256" y="57"/>
                          </a:lnTo>
                          <a:lnTo>
                            <a:pt x="258" y="59"/>
                          </a:lnTo>
                          <a:lnTo>
                            <a:pt x="260" y="61"/>
                          </a:lnTo>
                          <a:lnTo>
                            <a:pt x="262" y="62"/>
                          </a:lnTo>
                          <a:lnTo>
                            <a:pt x="264" y="63"/>
                          </a:lnTo>
                          <a:lnTo>
                            <a:pt x="265" y="64"/>
                          </a:lnTo>
                          <a:lnTo>
                            <a:pt x="266" y="66"/>
                          </a:lnTo>
                          <a:lnTo>
                            <a:pt x="266" y="67"/>
                          </a:lnTo>
                          <a:lnTo>
                            <a:pt x="266" y="68"/>
                          </a:lnTo>
                          <a:lnTo>
                            <a:pt x="268" y="69"/>
                          </a:lnTo>
                          <a:lnTo>
                            <a:pt x="268" y="70"/>
                          </a:lnTo>
                          <a:lnTo>
                            <a:pt x="266" y="73"/>
                          </a:lnTo>
                          <a:lnTo>
                            <a:pt x="266" y="76"/>
                          </a:lnTo>
                          <a:lnTo>
                            <a:pt x="266" y="79"/>
                          </a:lnTo>
                          <a:lnTo>
                            <a:pt x="265" y="82"/>
                          </a:lnTo>
                          <a:lnTo>
                            <a:pt x="264" y="86"/>
                          </a:lnTo>
                          <a:lnTo>
                            <a:pt x="264" y="89"/>
                          </a:lnTo>
                          <a:lnTo>
                            <a:pt x="261" y="93"/>
                          </a:lnTo>
                          <a:lnTo>
                            <a:pt x="260" y="95"/>
                          </a:lnTo>
                          <a:lnTo>
                            <a:pt x="257" y="97"/>
                          </a:lnTo>
                          <a:lnTo>
                            <a:pt x="256" y="100"/>
                          </a:lnTo>
                          <a:lnTo>
                            <a:pt x="252" y="102"/>
                          </a:lnTo>
                          <a:lnTo>
                            <a:pt x="249" y="105"/>
                          </a:lnTo>
                          <a:lnTo>
                            <a:pt x="245" y="107"/>
                          </a:lnTo>
                          <a:lnTo>
                            <a:pt x="241" y="109"/>
                          </a:lnTo>
                          <a:lnTo>
                            <a:pt x="238" y="112"/>
                          </a:lnTo>
                          <a:lnTo>
                            <a:pt x="234" y="113"/>
                          </a:lnTo>
                          <a:lnTo>
                            <a:pt x="232" y="115"/>
                          </a:lnTo>
                          <a:lnTo>
                            <a:pt x="229" y="116"/>
                          </a:lnTo>
                          <a:lnTo>
                            <a:pt x="226" y="116"/>
                          </a:lnTo>
                          <a:lnTo>
                            <a:pt x="224" y="118"/>
                          </a:lnTo>
                          <a:lnTo>
                            <a:pt x="221" y="120"/>
                          </a:lnTo>
                          <a:lnTo>
                            <a:pt x="217" y="121"/>
                          </a:lnTo>
                          <a:lnTo>
                            <a:pt x="213" y="123"/>
                          </a:lnTo>
                          <a:lnTo>
                            <a:pt x="208" y="126"/>
                          </a:lnTo>
                          <a:lnTo>
                            <a:pt x="204" y="127"/>
                          </a:lnTo>
                          <a:lnTo>
                            <a:pt x="198" y="128"/>
                          </a:lnTo>
                          <a:lnTo>
                            <a:pt x="192" y="129"/>
                          </a:lnTo>
                          <a:lnTo>
                            <a:pt x="185" y="129"/>
                          </a:lnTo>
                          <a:lnTo>
                            <a:pt x="180" y="129"/>
                          </a:lnTo>
                          <a:lnTo>
                            <a:pt x="173" y="128"/>
                          </a:lnTo>
                          <a:lnTo>
                            <a:pt x="168" y="127"/>
                          </a:lnTo>
                          <a:lnTo>
                            <a:pt x="162" y="126"/>
                          </a:lnTo>
                          <a:lnTo>
                            <a:pt x="158" y="125"/>
                          </a:lnTo>
                          <a:lnTo>
                            <a:pt x="154" y="123"/>
                          </a:lnTo>
                          <a:lnTo>
                            <a:pt x="152" y="121"/>
                          </a:lnTo>
                          <a:lnTo>
                            <a:pt x="148" y="120"/>
                          </a:lnTo>
                          <a:lnTo>
                            <a:pt x="144" y="119"/>
                          </a:lnTo>
                          <a:lnTo>
                            <a:pt x="141" y="116"/>
                          </a:lnTo>
                          <a:lnTo>
                            <a:pt x="137" y="115"/>
                          </a:lnTo>
                          <a:lnTo>
                            <a:pt x="133" y="112"/>
                          </a:lnTo>
                          <a:lnTo>
                            <a:pt x="129" y="108"/>
                          </a:lnTo>
                          <a:lnTo>
                            <a:pt x="124" y="103"/>
                          </a:lnTo>
                          <a:lnTo>
                            <a:pt x="118" y="99"/>
                          </a:lnTo>
                          <a:lnTo>
                            <a:pt x="114" y="93"/>
                          </a:lnTo>
                          <a:lnTo>
                            <a:pt x="109" y="87"/>
                          </a:lnTo>
                          <a:lnTo>
                            <a:pt x="104" y="82"/>
                          </a:lnTo>
                          <a:lnTo>
                            <a:pt x="100" y="76"/>
                          </a:lnTo>
                          <a:lnTo>
                            <a:pt x="94" y="73"/>
                          </a:lnTo>
                          <a:lnTo>
                            <a:pt x="90" y="68"/>
                          </a:lnTo>
                          <a:lnTo>
                            <a:pt x="88" y="66"/>
                          </a:lnTo>
                          <a:lnTo>
                            <a:pt x="82" y="62"/>
                          </a:lnTo>
                          <a:lnTo>
                            <a:pt x="78" y="59"/>
                          </a:lnTo>
                          <a:lnTo>
                            <a:pt x="73" y="56"/>
                          </a:lnTo>
                          <a:lnTo>
                            <a:pt x="68" y="54"/>
                          </a:lnTo>
                          <a:lnTo>
                            <a:pt x="64" y="51"/>
                          </a:lnTo>
                          <a:lnTo>
                            <a:pt x="58" y="49"/>
                          </a:lnTo>
                          <a:lnTo>
                            <a:pt x="56" y="47"/>
                          </a:lnTo>
                          <a:lnTo>
                            <a:pt x="52" y="46"/>
                          </a:lnTo>
                          <a:lnTo>
                            <a:pt x="50" y="46"/>
                          </a:lnTo>
                          <a:lnTo>
                            <a:pt x="48" y="44"/>
                          </a:lnTo>
                          <a:lnTo>
                            <a:pt x="45" y="43"/>
                          </a:lnTo>
                          <a:lnTo>
                            <a:pt x="41" y="43"/>
                          </a:lnTo>
                          <a:lnTo>
                            <a:pt x="36" y="42"/>
                          </a:lnTo>
                          <a:lnTo>
                            <a:pt x="30" y="41"/>
                          </a:lnTo>
                          <a:lnTo>
                            <a:pt x="25" y="41"/>
                          </a:lnTo>
                          <a:lnTo>
                            <a:pt x="18" y="42"/>
                          </a:lnTo>
                          <a:lnTo>
                            <a:pt x="13" y="42"/>
                          </a:lnTo>
                          <a:lnTo>
                            <a:pt x="6" y="44"/>
                          </a:lnTo>
                          <a:lnTo>
                            <a:pt x="1" y="48"/>
                          </a:lnTo>
                          <a:lnTo>
                            <a:pt x="0" y="47"/>
                          </a:lnTo>
                          <a:close/>
                        </a:path>
                      </a:pathLst>
                    </a:custGeom>
                    <a:solidFill>
                      <a:srgbClr val="faead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1074240" y="1901880"/>
                      <a:ext cx="130320" cy="6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" h="98">
                          <a:moveTo>
                            <a:pt x="0" y="35"/>
                          </a:moveTo>
                          <a:lnTo>
                            <a:pt x="0" y="36"/>
                          </a:lnTo>
                          <a:lnTo>
                            <a:pt x="0" y="35"/>
                          </a:lnTo>
                          <a:lnTo>
                            <a:pt x="1" y="34"/>
                          </a:lnTo>
                          <a:lnTo>
                            <a:pt x="2" y="33"/>
                          </a:lnTo>
                          <a:lnTo>
                            <a:pt x="4" y="32"/>
                          </a:lnTo>
                          <a:lnTo>
                            <a:pt x="5" y="29"/>
                          </a:lnTo>
                          <a:lnTo>
                            <a:pt x="6" y="28"/>
                          </a:lnTo>
                          <a:lnTo>
                            <a:pt x="9" y="27"/>
                          </a:lnTo>
                          <a:lnTo>
                            <a:pt x="12" y="26"/>
                          </a:lnTo>
                          <a:lnTo>
                            <a:pt x="13" y="25"/>
                          </a:lnTo>
                          <a:lnTo>
                            <a:pt x="16" y="25"/>
                          </a:lnTo>
                          <a:lnTo>
                            <a:pt x="18" y="23"/>
                          </a:lnTo>
                          <a:lnTo>
                            <a:pt x="21" y="23"/>
                          </a:lnTo>
                          <a:lnTo>
                            <a:pt x="24" y="23"/>
                          </a:lnTo>
                          <a:lnTo>
                            <a:pt x="28" y="23"/>
                          </a:lnTo>
                          <a:lnTo>
                            <a:pt x="30" y="23"/>
                          </a:lnTo>
                          <a:lnTo>
                            <a:pt x="34" y="23"/>
                          </a:lnTo>
                          <a:lnTo>
                            <a:pt x="37" y="22"/>
                          </a:lnTo>
                          <a:lnTo>
                            <a:pt x="38" y="22"/>
                          </a:lnTo>
                          <a:lnTo>
                            <a:pt x="40" y="22"/>
                          </a:lnTo>
                          <a:lnTo>
                            <a:pt x="42" y="21"/>
                          </a:lnTo>
                          <a:lnTo>
                            <a:pt x="44" y="21"/>
                          </a:lnTo>
                          <a:lnTo>
                            <a:pt x="46" y="20"/>
                          </a:lnTo>
                          <a:lnTo>
                            <a:pt x="49" y="19"/>
                          </a:lnTo>
                          <a:lnTo>
                            <a:pt x="50" y="16"/>
                          </a:lnTo>
                          <a:lnTo>
                            <a:pt x="53" y="15"/>
                          </a:lnTo>
                          <a:lnTo>
                            <a:pt x="56" y="14"/>
                          </a:lnTo>
                          <a:lnTo>
                            <a:pt x="58" y="13"/>
                          </a:lnTo>
                          <a:lnTo>
                            <a:pt x="60" y="12"/>
                          </a:lnTo>
                          <a:lnTo>
                            <a:pt x="61" y="10"/>
                          </a:lnTo>
                          <a:lnTo>
                            <a:pt x="61" y="9"/>
                          </a:lnTo>
                          <a:lnTo>
                            <a:pt x="62" y="8"/>
                          </a:lnTo>
                          <a:lnTo>
                            <a:pt x="64" y="7"/>
                          </a:lnTo>
                          <a:lnTo>
                            <a:pt x="65" y="6"/>
                          </a:lnTo>
                          <a:lnTo>
                            <a:pt x="66" y="5"/>
                          </a:lnTo>
                          <a:lnTo>
                            <a:pt x="68" y="3"/>
                          </a:lnTo>
                          <a:lnTo>
                            <a:pt x="69" y="2"/>
                          </a:lnTo>
                          <a:lnTo>
                            <a:pt x="70" y="1"/>
                          </a:lnTo>
                          <a:lnTo>
                            <a:pt x="72" y="0"/>
                          </a:lnTo>
                          <a:lnTo>
                            <a:pt x="73" y="0"/>
                          </a:lnTo>
                          <a:lnTo>
                            <a:pt x="74" y="0"/>
                          </a:lnTo>
                          <a:lnTo>
                            <a:pt x="77" y="0"/>
                          </a:lnTo>
                          <a:lnTo>
                            <a:pt x="78" y="1"/>
                          </a:lnTo>
                          <a:lnTo>
                            <a:pt x="81" y="1"/>
                          </a:lnTo>
                          <a:lnTo>
                            <a:pt x="85" y="1"/>
                          </a:lnTo>
                          <a:lnTo>
                            <a:pt x="88" y="2"/>
                          </a:lnTo>
                          <a:lnTo>
                            <a:pt x="92" y="2"/>
                          </a:lnTo>
                          <a:lnTo>
                            <a:pt x="94" y="3"/>
                          </a:lnTo>
                          <a:lnTo>
                            <a:pt x="98" y="5"/>
                          </a:lnTo>
                          <a:lnTo>
                            <a:pt x="101" y="7"/>
                          </a:lnTo>
                          <a:lnTo>
                            <a:pt x="105" y="8"/>
                          </a:lnTo>
                          <a:lnTo>
                            <a:pt x="108" y="9"/>
                          </a:lnTo>
                          <a:lnTo>
                            <a:pt x="110" y="12"/>
                          </a:lnTo>
                          <a:lnTo>
                            <a:pt x="113" y="13"/>
                          </a:lnTo>
                          <a:lnTo>
                            <a:pt x="116" y="14"/>
                          </a:lnTo>
                          <a:lnTo>
                            <a:pt x="117" y="15"/>
                          </a:lnTo>
                          <a:lnTo>
                            <a:pt x="120" y="16"/>
                          </a:lnTo>
                          <a:lnTo>
                            <a:pt x="121" y="18"/>
                          </a:lnTo>
                          <a:lnTo>
                            <a:pt x="121" y="19"/>
                          </a:lnTo>
                          <a:lnTo>
                            <a:pt x="122" y="20"/>
                          </a:lnTo>
                          <a:lnTo>
                            <a:pt x="122" y="21"/>
                          </a:lnTo>
                          <a:lnTo>
                            <a:pt x="124" y="23"/>
                          </a:lnTo>
                          <a:lnTo>
                            <a:pt x="125" y="26"/>
                          </a:lnTo>
                          <a:lnTo>
                            <a:pt x="126" y="28"/>
                          </a:lnTo>
                          <a:lnTo>
                            <a:pt x="128" y="31"/>
                          </a:lnTo>
                          <a:lnTo>
                            <a:pt x="130" y="33"/>
                          </a:lnTo>
                          <a:lnTo>
                            <a:pt x="133" y="35"/>
                          </a:lnTo>
                          <a:lnTo>
                            <a:pt x="136" y="38"/>
                          </a:lnTo>
                          <a:lnTo>
                            <a:pt x="140" y="39"/>
                          </a:lnTo>
                          <a:lnTo>
                            <a:pt x="144" y="40"/>
                          </a:lnTo>
                          <a:lnTo>
                            <a:pt x="148" y="42"/>
                          </a:lnTo>
                          <a:lnTo>
                            <a:pt x="152" y="42"/>
                          </a:lnTo>
                          <a:lnTo>
                            <a:pt x="156" y="44"/>
                          </a:lnTo>
                          <a:lnTo>
                            <a:pt x="158" y="44"/>
                          </a:lnTo>
                          <a:lnTo>
                            <a:pt x="161" y="45"/>
                          </a:lnTo>
                          <a:lnTo>
                            <a:pt x="164" y="45"/>
                          </a:lnTo>
                          <a:lnTo>
                            <a:pt x="165" y="45"/>
                          </a:lnTo>
                          <a:lnTo>
                            <a:pt x="168" y="45"/>
                          </a:lnTo>
                          <a:lnTo>
                            <a:pt x="169" y="45"/>
                          </a:lnTo>
                          <a:lnTo>
                            <a:pt x="170" y="45"/>
                          </a:lnTo>
                          <a:lnTo>
                            <a:pt x="172" y="45"/>
                          </a:lnTo>
                          <a:lnTo>
                            <a:pt x="174" y="45"/>
                          </a:lnTo>
                          <a:lnTo>
                            <a:pt x="176" y="44"/>
                          </a:lnTo>
                          <a:lnTo>
                            <a:pt x="178" y="44"/>
                          </a:lnTo>
                          <a:lnTo>
                            <a:pt x="180" y="42"/>
                          </a:lnTo>
                          <a:lnTo>
                            <a:pt x="182" y="42"/>
                          </a:lnTo>
                          <a:lnTo>
                            <a:pt x="184" y="42"/>
                          </a:lnTo>
                          <a:lnTo>
                            <a:pt x="186" y="41"/>
                          </a:lnTo>
                          <a:lnTo>
                            <a:pt x="188" y="42"/>
                          </a:lnTo>
                          <a:lnTo>
                            <a:pt x="190" y="42"/>
                          </a:lnTo>
                          <a:lnTo>
                            <a:pt x="192" y="44"/>
                          </a:lnTo>
                          <a:lnTo>
                            <a:pt x="193" y="45"/>
                          </a:lnTo>
                          <a:lnTo>
                            <a:pt x="194" y="46"/>
                          </a:lnTo>
                          <a:lnTo>
                            <a:pt x="196" y="47"/>
                          </a:lnTo>
                          <a:lnTo>
                            <a:pt x="197" y="48"/>
                          </a:lnTo>
                          <a:lnTo>
                            <a:pt x="198" y="48"/>
                          </a:lnTo>
                          <a:lnTo>
                            <a:pt x="200" y="49"/>
                          </a:lnTo>
                          <a:lnTo>
                            <a:pt x="200" y="51"/>
                          </a:lnTo>
                          <a:lnTo>
                            <a:pt x="200" y="52"/>
                          </a:lnTo>
                          <a:lnTo>
                            <a:pt x="200" y="53"/>
                          </a:lnTo>
                          <a:lnTo>
                            <a:pt x="200" y="54"/>
                          </a:lnTo>
                          <a:lnTo>
                            <a:pt x="200" y="55"/>
                          </a:lnTo>
                          <a:lnTo>
                            <a:pt x="200" y="58"/>
                          </a:lnTo>
                          <a:lnTo>
                            <a:pt x="200" y="60"/>
                          </a:lnTo>
                          <a:lnTo>
                            <a:pt x="198" y="62"/>
                          </a:lnTo>
                          <a:lnTo>
                            <a:pt x="198" y="65"/>
                          </a:lnTo>
                          <a:lnTo>
                            <a:pt x="197" y="67"/>
                          </a:lnTo>
                          <a:lnTo>
                            <a:pt x="196" y="70"/>
                          </a:lnTo>
                          <a:lnTo>
                            <a:pt x="194" y="72"/>
                          </a:lnTo>
                          <a:lnTo>
                            <a:pt x="193" y="74"/>
                          </a:lnTo>
                          <a:lnTo>
                            <a:pt x="192" y="75"/>
                          </a:lnTo>
                          <a:lnTo>
                            <a:pt x="189" y="78"/>
                          </a:lnTo>
                          <a:lnTo>
                            <a:pt x="186" y="79"/>
                          </a:lnTo>
                          <a:lnTo>
                            <a:pt x="184" y="81"/>
                          </a:lnTo>
                          <a:lnTo>
                            <a:pt x="181" y="82"/>
                          </a:lnTo>
                          <a:lnTo>
                            <a:pt x="178" y="84"/>
                          </a:lnTo>
                          <a:lnTo>
                            <a:pt x="176" y="85"/>
                          </a:lnTo>
                          <a:lnTo>
                            <a:pt x="173" y="86"/>
                          </a:lnTo>
                          <a:lnTo>
                            <a:pt x="172" y="87"/>
                          </a:lnTo>
                          <a:lnTo>
                            <a:pt x="169" y="88"/>
                          </a:lnTo>
                          <a:lnTo>
                            <a:pt x="168" y="88"/>
                          </a:lnTo>
                          <a:lnTo>
                            <a:pt x="165" y="90"/>
                          </a:lnTo>
                          <a:lnTo>
                            <a:pt x="162" y="92"/>
                          </a:lnTo>
                          <a:lnTo>
                            <a:pt x="160" y="93"/>
                          </a:lnTo>
                          <a:lnTo>
                            <a:pt x="156" y="94"/>
                          </a:lnTo>
                          <a:lnTo>
                            <a:pt x="152" y="95"/>
                          </a:lnTo>
                          <a:lnTo>
                            <a:pt x="148" y="97"/>
                          </a:lnTo>
                          <a:lnTo>
                            <a:pt x="144" y="98"/>
                          </a:lnTo>
                          <a:lnTo>
                            <a:pt x="140" y="98"/>
                          </a:lnTo>
                          <a:lnTo>
                            <a:pt x="134" y="98"/>
                          </a:lnTo>
                          <a:lnTo>
                            <a:pt x="129" y="97"/>
                          </a:lnTo>
                          <a:lnTo>
                            <a:pt x="125" y="95"/>
                          </a:lnTo>
                          <a:lnTo>
                            <a:pt x="122" y="94"/>
                          </a:lnTo>
                          <a:lnTo>
                            <a:pt x="118" y="94"/>
                          </a:lnTo>
                          <a:lnTo>
                            <a:pt x="116" y="93"/>
                          </a:lnTo>
                          <a:lnTo>
                            <a:pt x="113" y="92"/>
                          </a:lnTo>
                          <a:lnTo>
                            <a:pt x="110" y="91"/>
                          </a:lnTo>
                          <a:lnTo>
                            <a:pt x="108" y="90"/>
                          </a:lnTo>
                          <a:lnTo>
                            <a:pt x="105" y="88"/>
                          </a:lnTo>
                          <a:lnTo>
                            <a:pt x="102" y="86"/>
                          </a:lnTo>
                          <a:lnTo>
                            <a:pt x="100" y="85"/>
                          </a:lnTo>
                          <a:lnTo>
                            <a:pt x="96" y="81"/>
                          </a:lnTo>
                          <a:lnTo>
                            <a:pt x="93" y="78"/>
                          </a:lnTo>
                          <a:lnTo>
                            <a:pt x="89" y="74"/>
                          </a:lnTo>
                          <a:lnTo>
                            <a:pt x="85" y="71"/>
                          </a:lnTo>
                          <a:lnTo>
                            <a:pt x="81" y="66"/>
                          </a:lnTo>
                          <a:lnTo>
                            <a:pt x="78" y="62"/>
                          </a:lnTo>
                          <a:lnTo>
                            <a:pt x="74" y="58"/>
                          </a:lnTo>
                          <a:lnTo>
                            <a:pt x="72" y="54"/>
                          </a:lnTo>
                          <a:lnTo>
                            <a:pt x="68" y="52"/>
                          </a:lnTo>
                          <a:lnTo>
                            <a:pt x="65" y="49"/>
                          </a:lnTo>
                          <a:lnTo>
                            <a:pt x="62" y="47"/>
                          </a:lnTo>
                          <a:lnTo>
                            <a:pt x="58" y="45"/>
                          </a:lnTo>
                          <a:lnTo>
                            <a:pt x="54" y="42"/>
                          </a:lnTo>
                          <a:lnTo>
                            <a:pt x="50" y="40"/>
                          </a:lnTo>
                          <a:lnTo>
                            <a:pt x="48" y="39"/>
                          </a:lnTo>
                          <a:lnTo>
                            <a:pt x="44" y="38"/>
                          </a:lnTo>
                          <a:lnTo>
                            <a:pt x="41" y="35"/>
                          </a:lnTo>
                          <a:lnTo>
                            <a:pt x="38" y="35"/>
                          </a:lnTo>
                          <a:lnTo>
                            <a:pt x="37" y="34"/>
                          </a:lnTo>
                          <a:lnTo>
                            <a:pt x="36" y="34"/>
                          </a:lnTo>
                          <a:lnTo>
                            <a:pt x="33" y="33"/>
                          </a:lnTo>
                          <a:lnTo>
                            <a:pt x="30" y="33"/>
                          </a:lnTo>
                          <a:lnTo>
                            <a:pt x="26" y="32"/>
                          </a:lnTo>
                          <a:lnTo>
                            <a:pt x="22" y="32"/>
                          </a:lnTo>
                          <a:lnTo>
                            <a:pt x="18" y="32"/>
                          </a:lnTo>
                          <a:lnTo>
                            <a:pt x="14" y="32"/>
                          </a:lnTo>
                          <a:lnTo>
                            <a:pt x="9" y="33"/>
                          </a:lnTo>
                          <a:lnTo>
                            <a:pt x="5" y="34"/>
                          </a:lnTo>
                          <a:lnTo>
                            <a:pt x="0" y="36"/>
                          </a:lnTo>
                          <a:lnTo>
                            <a:pt x="0" y="35"/>
                          </a:lnTo>
                          <a:close/>
                        </a:path>
                      </a:pathLst>
                    </a:custGeom>
                    <a:solidFill>
                      <a:srgbClr val="faede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920" bIns="16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452160" y="1770480"/>
                      <a:ext cx="342000" cy="28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5" h="429">
                          <a:moveTo>
                            <a:pt x="523" y="1"/>
                          </a:moveTo>
                          <a:lnTo>
                            <a:pt x="523" y="4"/>
                          </a:lnTo>
                          <a:lnTo>
                            <a:pt x="521" y="10"/>
                          </a:lnTo>
                          <a:lnTo>
                            <a:pt x="521" y="17"/>
                          </a:lnTo>
                          <a:lnTo>
                            <a:pt x="520" y="27"/>
                          </a:lnTo>
                          <a:lnTo>
                            <a:pt x="519" y="38"/>
                          </a:lnTo>
                          <a:lnTo>
                            <a:pt x="517" y="49"/>
                          </a:lnTo>
                          <a:lnTo>
                            <a:pt x="517" y="60"/>
                          </a:lnTo>
                          <a:lnTo>
                            <a:pt x="516" y="70"/>
                          </a:lnTo>
                          <a:lnTo>
                            <a:pt x="515" y="78"/>
                          </a:lnTo>
                          <a:lnTo>
                            <a:pt x="515" y="84"/>
                          </a:lnTo>
                          <a:lnTo>
                            <a:pt x="516" y="90"/>
                          </a:lnTo>
                          <a:lnTo>
                            <a:pt x="516" y="101"/>
                          </a:lnTo>
                          <a:lnTo>
                            <a:pt x="517" y="114"/>
                          </a:lnTo>
                          <a:lnTo>
                            <a:pt x="519" y="128"/>
                          </a:lnTo>
                          <a:lnTo>
                            <a:pt x="520" y="143"/>
                          </a:lnTo>
                          <a:lnTo>
                            <a:pt x="521" y="158"/>
                          </a:lnTo>
                          <a:lnTo>
                            <a:pt x="523" y="171"/>
                          </a:lnTo>
                          <a:lnTo>
                            <a:pt x="524" y="183"/>
                          </a:lnTo>
                          <a:lnTo>
                            <a:pt x="525" y="190"/>
                          </a:lnTo>
                          <a:lnTo>
                            <a:pt x="525" y="193"/>
                          </a:lnTo>
                          <a:lnTo>
                            <a:pt x="524" y="193"/>
                          </a:lnTo>
                          <a:lnTo>
                            <a:pt x="521" y="193"/>
                          </a:lnTo>
                          <a:lnTo>
                            <a:pt x="517" y="191"/>
                          </a:lnTo>
                          <a:lnTo>
                            <a:pt x="512" y="191"/>
                          </a:lnTo>
                          <a:lnTo>
                            <a:pt x="505" y="190"/>
                          </a:lnTo>
                          <a:lnTo>
                            <a:pt x="497" y="190"/>
                          </a:lnTo>
                          <a:lnTo>
                            <a:pt x="488" y="191"/>
                          </a:lnTo>
                          <a:lnTo>
                            <a:pt x="480" y="193"/>
                          </a:lnTo>
                          <a:lnTo>
                            <a:pt x="471" y="194"/>
                          </a:lnTo>
                          <a:lnTo>
                            <a:pt x="461" y="197"/>
                          </a:lnTo>
                          <a:lnTo>
                            <a:pt x="451" y="202"/>
                          </a:lnTo>
                          <a:lnTo>
                            <a:pt x="439" y="208"/>
                          </a:lnTo>
                          <a:lnTo>
                            <a:pt x="424" y="215"/>
                          </a:lnTo>
                          <a:lnTo>
                            <a:pt x="409" y="224"/>
                          </a:lnTo>
                          <a:lnTo>
                            <a:pt x="395" y="234"/>
                          </a:lnTo>
                          <a:lnTo>
                            <a:pt x="379" y="243"/>
                          </a:lnTo>
                          <a:lnTo>
                            <a:pt x="364" y="254"/>
                          </a:lnTo>
                          <a:lnTo>
                            <a:pt x="351" y="262"/>
                          </a:lnTo>
                          <a:lnTo>
                            <a:pt x="339" y="272"/>
                          </a:lnTo>
                          <a:lnTo>
                            <a:pt x="328" y="279"/>
                          </a:lnTo>
                          <a:lnTo>
                            <a:pt x="319" y="287"/>
                          </a:lnTo>
                          <a:lnTo>
                            <a:pt x="308" y="296"/>
                          </a:lnTo>
                          <a:lnTo>
                            <a:pt x="299" y="306"/>
                          </a:lnTo>
                          <a:lnTo>
                            <a:pt x="288" y="318"/>
                          </a:lnTo>
                          <a:lnTo>
                            <a:pt x="279" y="328"/>
                          </a:lnTo>
                          <a:lnTo>
                            <a:pt x="268" y="340"/>
                          </a:lnTo>
                          <a:lnTo>
                            <a:pt x="259" y="351"/>
                          </a:lnTo>
                          <a:lnTo>
                            <a:pt x="249" y="359"/>
                          </a:lnTo>
                          <a:lnTo>
                            <a:pt x="241" y="367"/>
                          </a:lnTo>
                          <a:lnTo>
                            <a:pt x="233" y="372"/>
                          </a:lnTo>
                          <a:lnTo>
                            <a:pt x="225" y="377"/>
                          </a:lnTo>
                          <a:lnTo>
                            <a:pt x="216" y="383"/>
                          </a:lnTo>
                          <a:lnTo>
                            <a:pt x="205" y="390"/>
                          </a:lnTo>
                          <a:lnTo>
                            <a:pt x="195" y="398"/>
                          </a:lnTo>
                          <a:lnTo>
                            <a:pt x="183" y="405"/>
                          </a:lnTo>
                          <a:lnTo>
                            <a:pt x="172" y="412"/>
                          </a:lnTo>
                          <a:lnTo>
                            <a:pt x="160" y="419"/>
                          </a:lnTo>
                          <a:lnTo>
                            <a:pt x="149" y="424"/>
                          </a:lnTo>
                          <a:lnTo>
                            <a:pt x="139" y="427"/>
                          </a:lnTo>
                          <a:lnTo>
                            <a:pt x="128" y="429"/>
                          </a:lnTo>
                          <a:lnTo>
                            <a:pt x="117" y="429"/>
                          </a:lnTo>
                          <a:lnTo>
                            <a:pt x="108" y="427"/>
                          </a:lnTo>
                          <a:lnTo>
                            <a:pt x="97" y="426"/>
                          </a:lnTo>
                          <a:lnTo>
                            <a:pt x="87" y="425"/>
                          </a:lnTo>
                          <a:lnTo>
                            <a:pt x="77" y="423"/>
                          </a:lnTo>
                          <a:lnTo>
                            <a:pt x="68" y="420"/>
                          </a:lnTo>
                          <a:lnTo>
                            <a:pt x="60" y="418"/>
                          </a:lnTo>
                          <a:lnTo>
                            <a:pt x="52" y="416"/>
                          </a:lnTo>
                          <a:lnTo>
                            <a:pt x="45" y="413"/>
                          </a:lnTo>
                          <a:lnTo>
                            <a:pt x="40" y="411"/>
                          </a:lnTo>
                          <a:lnTo>
                            <a:pt x="36" y="407"/>
                          </a:lnTo>
                          <a:lnTo>
                            <a:pt x="31" y="405"/>
                          </a:lnTo>
                          <a:lnTo>
                            <a:pt x="25" y="402"/>
                          </a:lnTo>
                          <a:lnTo>
                            <a:pt x="20" y="398"/>
                          </a:lnTo>
                          <a:lnTo>
                            <a:pt x="15" y="394"/>
                          </a:lnTo>
                          <a:lnTo>
                            <a:pt x="9" y="392"/>
                          </a:lnTo>
                          <a:lnTo>
                            <a:pt x="5" y="390"/>
                          </a:lnTo>
                          <a:lnTo>
                            <a:pt x="3" y="387"/>
                          </a:lnTo>
                          <a:lnTo>
                            <a:pt x="0" y="386"/>
                          </a:lnTo>
                          <a:lnTo>
                            <a:pt x="0" y="386"/>
                          </a:lnTo>
                          <a:lnTo>
                            <a:pt x="0" y="385"/>
                          </a:lnTo>
                          <a:lnTo>
                            <a:pt x="1" y="384"/>
                          </a:lnTo>
                          <a:lnTo>
                            <a:pt x="4" y="380"/>
                          </a:lnTo>
                          <a:lnTo>
                            <a:pt x="8" y="378"/>
                          </a:lnTo>
                          <a:lnTo>
                            <a:pt x="12" y="373"/>
                          </a:lnTo>
                          <a:lnTo>
                            <a:pt x="16" y="370"/>
                          </a:lnTo>
                          <a:lnTo>
                            <a:pt x="21" y="366"/>
                          </a:lnTo>
                          <a:lnTo>
                            <a:pt x="25" y="363"/>
                          </a:lnTo>
                          <a:lnTo>
                            <a:pt x="31" y="360"/>
                          </a:lnTo>
                          <a:lnTo>
                            <a:pt x="36" y="358"/>
                          </a:lnTo>
                          <a:lnTo>
                            <a:pt x="41" y="355"/>
                          </a:lnTo>
                          <a:lnTo>
                            <a:pt x="51" y="351"/>
                          </a:lnTo>
                          <a:lnTo>
                            <a:pt x="63" y="345"/>
                          </a:lnTo>
                          <a:lnTo>
                            <a:pt x="76" y="337"/>
                          </a:lnTo>
                          <a:lnTo>
                            <a:pt x="91" y="328"/>
                          </a:lnTo>
                          <a:lnTo>
                            <a:pt x="105" y="319"/>
                          </a:lnTo>
                          <a:lnTo>
                            <a:pt x="120" y="308"/>
                          </a:lnTo>
                          <a:lnTo>
                            <a:pt x="133" y="298"/>
                          </a:lnTo>
                          <a:lnTo>
                            <a:pt x="144" y="288"/>
                          </a:lnTo>
                          <a:lnTo>
                            <a:pt x="153" y="279"/>
                          </a:lnTo>
                          <a:lnTo>
                            <a:pt x="161" y="269"/>
                          </a:lnTo>
                          <a:lnTo>
                            <a:pt x="168" y="258"/>
                          </a:lnTo>
                          <a:lnTo>
                            <a:pt x="173" y="245"/>
                          </a:lnTo>
                          <a:lnTo>
                            <a:pt x="180" y="232"/>
                          </a:lnTo>
                          <a:lnTo>
                            <a:pt x="185" y="217"/>
                          </a:lnTo>
                          <a:lnTo>
                            <a:pt x="191" y="204"/>
                          </a:lnTo>
                          <a:lnTo>
                            <a:pt x="195" y="191"/>
                          </a:lnTo>
                          <a:lnTo>
                            <a:pt x="199" y="180"/>
                          </a:lnTo>
                          <a:lnTo>
                            <a:pt x="204" y="170"/>
                          </a:lnTo>
                          <a:lnTo>
                            <a:pt x="207" y="163"/>
                          </a:lnTo>
                          <a:lnTo>
                            <a:pt x="212" y="156"/>
                          </a:lnTo>
                          <a:lnTo>
                            <a:pt x="219" y="145"/>
                          </a:lnTo>
                          <a:lnTo>
                            <a:pt x="227" y="134"/>
                          </a:lnTo>
                          <a:lnTo>
                            <a:pt x="236" y="121"/>
                          </a:lnTo>
                          <a:lnTo>
                            <a:pt x="247" y="106"/>
                          </a:lnTo>
                          <a:lnTo>
                            <a:pt x="257" y="92"/>
                          </a:lnTo>
                          <a:lnTo>
                            <a:pt x="268" y="79"/>
                          </a:lnTo>
                          <a:lnTo>
                            <a:pt x="279" y="67"/>
                          </a:lnTo>
                          <a:lnTo>
                            <a:pt x="288" y="57"/>
                          </a:lnTo>
                          <a:lnTo>
                            <a:pt x="297" y="50"/>
                          </a:lnTo>
                          <a:lnTo>
                            <a:pt x="308" y="43"/>
                          </a:lnTo>
                          <a:lnTo>
                            <a:pt x="323" y="36"/>
                          </a:lnTo>
                          <a:lnTo>
                            <a:pt x="341" y="29"/>
                          </a:lnTo>
                          <a:lnTo>
                            <a:pt x="363" y="21"/>
                          </a:lnTo>
                          <a:lnTo>
                            <a:pt x="387" y="14"/>
                          </a:lnTo>
                          <a:lnTo>
                            <a:pt x="412" y="8"/>
                          </a:lnTo>
                          <a:lnTo>
                            <a:pt x="440" y="4"/>
                          </a:lnTo>
                          <a:lnTo>
                            <a:pt x="468" y="1"/>
                          </a:lnTo>
                          <a:lnTo>
                            <a:pt x="496" y="0"/>
                          </a:lnTo>
                          <a:lnTo>
                            <a:pt x="523" y="1"/>
                          </a:lnTo>
                          <a:close/>
                        </a:path>
                      </a:pathLst>
                    </a:custGeom>
                    <a:solidFill>
                      <a:srgbClr val="facb3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467640" y="1780920"/>
                      <a:ext cx="313200" cy="25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1" h="393">
                          <a:moveTo>
                            <a:pt x="479" y="1"/>
                          </a:moveTo>
                          <a:lnTo>
                            <a:pt x="479" y="3"/>
                          </a:lnTo>
                          <a:lnTo>
                            <a:pt x="479" y="8"/>
                          </a:lnTo>
                          <a:lnTo>
                            <a:pt x="477" y="15"/>
                          </a:lnTo>
                          <a:lnTo>
                            <a:pt x="476" y="24"/>
                          </a:lnTo>
                          <a:lnTo>
                            <a:pt x="476" y="34"/>
                          </a:lnTo>
                          <a:lnTo>
                            <a:pt x="475" y="44"/>
                          </a:lnTo>
                          <a:lnTo>
                            <a:pt x="473" y="55"/>
                          </a:lnTo>
                          <a:lnTo>
                            <a:pt x="473" y="63"/>
                          </a:lnTo>
                          <a:lnTo>
                            <a:pt x="472" y="72"/>
                          </a:lnTo>
                          <a:lnTo>
                            <a:pt x="472" y="76"/>
                          </a:lnTo>
                          <a:lnTo>
                            <a:pt x="472" y="82"/>
                          </a:lnTo>
                          <a:lnTo>
                            <a:pt x="473" y="92"/>
                          </a:lnTo>
                          <a:lnTo>
                            <a:pt x="475" y="103"/>
                          </a:lnTo>
                          <a:lnTo>
                            <a:pt x="475" y="116"/>
                          </a:lnTo>
                          <a:lnTo>
                            <a:pt x="477" y="131"/>
                          </a:lnTo>
                          <a:lnTo>
                            <a:pt x="479" y="145"/>
                          </a:lnTo>
                          <a:lnTo>
                            <a:pt x="480" y="157"/>
                          </a:lnTo>
                          <a:lnTo>
                            <a:pt x="480" y="167"/>
                          </a:lnTo>
                          <a:lnTo>
                            <a:pt x="481" y="173"/>
                          </a:lnTo>
                          <a:lnTo>
                            <a:pt x="481" y="177"/>
                          </a:lnTo>
                          <a:lnTo>
                            <a:pt x="480" y="175"/>
                          </a:lnTo>
                          <a:lnTo>
                            <a:pt x="479" y="175"/>
                          </a:lnTo>
                          <a:lnTo>
                            <a:pt x="475" y="175"/>
                          </a:lnTo>
                          <a:lnTo>
                            <a:pt x="469" y="174"/>
                          </a:lnTo>
                          <a:lnTo>
                            <a:pt x="463" y="174"/>
                          </a:lnTo>
                          <a:lnTo>
                            <a:pt x="456" y="174"/>
                          </a:lnTo>
                          <a:lnTo>
                            <a:pt x="448" y="174"/>
                          </a:lnTo>
                          <a:lnTo>
                            <a:pt x="440" y="175"/>
                          </a:lnTo>
                          <a:lnTo>
                            <a:pt x="431" y="178"/>
                          </a:lnTo>
                          <a:lnTo>
                            <a:pt x="423" y="180"/>
                          </a:lnTo>
                          <a:lnTo>
                            <a:pt x="413" y="185"/>
                          </a:lnTo>
                          <a:lnTo>
                            <a:pt x="401" y="190"/>
                          </a:lnTo>
                          <a:lnTo>
                            <a:pt x="389" y="197"/>
                          </a:lnTo>
                          <a:lnTo>
                            <a:pt x="376" y="205"/>
                          </a:lnTo>
                          <a:lnTo>
                            <a:pt x="361" y="213"/>
                          </a:lnTo>
                          <a:lnTo>
                            <a:pt x="348" y="223"/>
                          </a:lnTo>
                          <a:lnTo>
                            <a:pt x="333" y="232"/>
                          </a:lnTo>
                          <a:lnTo>
                            <a:pt x="321" y="240"/>
                          </a:lnTo>
                          <a:lnTo>
                            <a:pt x="309" y="249"/>
                          </a:lnTo>
                          <a:lnTo>
                            <a:pt x="300" y="256"/>
                          </a:lnTo>
                          <a:lnTo>
                            <a:pt x="292" y="263"/>
                          </a:lnTo>
                          <a:lnTo>
                            <a:pt x="283" y="271"/>
                          </a:lnTo>
                          <a:lnTo>
                            <a:pt x="273" y="280"/>
                          </a:lnTo>
                          <a:lnTo>
                            <a:pt x="264" y="291"/>
                          </a:lnTo>
                          <a:lnTo>
                            <a:pt x="255" y="301"/>
                          </a:lnTo>
                          <a:lnTo>
                            <a:pt x="247" y="311"/>
                          </a:lnTo>
                          <a:lnTo>
                            <a:pt x="237" y="321"/>
                          </a:lnTo>
                          <a:lnTo>
                            <a:pt x="229" y="329"/>
                          </a:lnTo>
                          <a:lnTo>
                            <a:pt x="221" y="336"/>
                          </a:lnTo>
                          <a:lnTo>
                            <a:pt x="213" y="341"/>
                          </a:lnTo>
                          <a:lnTo>
                            <a:pt x="205" y="345"/>
                          </a:lnTo>
                          <a:lnTo>
                            <a:pt x="197" y="350"/>
                          </a:lnTo>
                          <a:lnTo>
                            <a:pt x="188" y="357"/>
                          </a:lnTo>
                          <a:lnTo>
                            <a:pt x="179" y="364"/>
                          </a:lnTo>
                          <a:lnTo>
                            <a:pt x="168" y="371"/>
                          </a:lnTo>
                          <a:lnTo>
                            <a:pt x="157" y="377"/>
                          </a:lnTo>
                          <a:lnTo>
                            <a:pt x="147" y="383"/>
                          </a:lnTo>
                          <a:lnTo>
                            <a:pt x="136" y="388"/>
                          </a:lnTo>
                          <a:lnTo>
                            <a:pt x="127" y="391"/>
                          </a:lnTo>
                          <a:lnTo>
                            <a:pt x="117" y="393"/>
                          </a:lnTo>
                          <a:lnTo>
                            <a:pt x="108" y="393"/>
                          </a:lnTo>
                          <a:lnTo>
                            <a:pt x="99" y="391"/>
                          </a:lnTo>
                          <a:lnTo>
                            <a:pt x="89" y="390"/>
                          </a:lnTo>
                          <a:lnTo>
                            <a:pt x="80" y="389"/>
                          </a:lnTo>
                          <a:lnTo>
                            <a:pt x="71" y="387"/>
                          </a:lnTo>
                          <a:lnTo>
                            <a:pt x="63" y="386"/>
                          </a:lnTo>
                          <a:lnTo>
                            <a:pt x="55" y="383"/>
                          </a:lnTo>
                          <a:lnTo>
                            <a:pt x="48" y="381"/>
                          </a:lnTo>
                          <a:lnTo>
                            <a:pt x="41" y="378"/>
                          </a:lnTo>
                          <a:lnTo>
                            <a:pt x="37" y="376"/>
                          </a:lnTo>
                          <a:lnTo>
                            <a:pt x="32" y="374"/>
                          </a:lnTo>
                          <a:lnTo>
                            <a:pt x="28" y="370"/>
                          </a:lnTo>
                          <a:lnTo>
                            <a:pt x="23" y="367"/>
                          </a:lnTo>
                          <a:lnTo>
                            <a:pt x="17" y="364"/>
                          </a:lnTo>
                          <a:lnTo>
                            <a:pt x="13" y="361"/>
                          </a:lnTo>
                          <a:lnTo>
                            <a:pt x="9" y="358"/>
                          </a:lnTo>
                          <a:lnTo>
                            <a:pt x="5" y="356"/>
                          </a:lnTo>
                          <a:lnTo>
                            <a:pt x="3" y="355"/>
                          </a:lnTo>
                          <a:lnTo>
                            <a:pt x="0" y="354"/>
                          </a:lnTo>
                          <a:lnTo>
                            <a:pt x="0" y="352"/>
                          </a:lnTo>
                          <a:lnTo>
                            <a:pt x="0" y="352"/>
                          </a:lnTo>
                          <a:lnTo>
                            <a:pt x="1" y="351"/>
                          </a:lnTo>
                          <a:lnTo>
                            <a:pt x="4" y="348"/>
                          </a:lnTo>
                          <a:lnTo>
                            <a:pt x="7" y="345"/>
                          </a:lnTo>
                          <a:lnTo>
                            <a:pt x="11" y="342"/>
                          </a:lnTo>
                          <a:lnTo>
                            <a:pt x="15" y="338"/>
                          </a:lnTo>
                          <a:lnTo>
                            <a:pt x="19" y="335"/>
                          </a:lnTo>
                          <a:lnTo>
                            <a:pt x="24" y="332"/>
                          </a:lnTo>
                          <a:lnTo>
                            <a:pt x="28" y="330"/>
                          </a:lnTo>
                          <a:lnTo>
                            <a:pt x="32" y="328"/>
                          </a:lnTo>
                          <a:lnTo>
                            <a:pt x="39" y="325"/>
                          </a:lnTo>
                          <a:lnTo>
                            <a:pt x="47" y="322"/>
                          </a:lnTo>
                          <a:lnTo>
                            <a:pt x="57" y="316"/>
                          </a:lnTo>
                          <a:lnTo>
                            <a:pt x="69" y="309"/>
                          </a:lnTo>
                          <a:lnTo>
                            <a:pt x="83" y="301"/>
                          </a:lnTo>
                          <a:lnTo>
                            <a:pt x="96" y="291"/>
                          </a:lnTo>
                          <a:lnTo>
                            <a:pt x="109" y="282"/>
                          </a:lnTo>
                          <a:lnTo>
                            <a:pt x="121" y="272"/>
                          </a:lnTo>
                          <a:lnTo>
                            <a:pt x="132" y="264"/>
                          </a:lnTo>
                          <a:lnTo>
                            <a:pt x="140" y="256"/>
                          </a:lnTo>
                          <a:lnTo>
                            <a:pt x="147" y="246"/>
                          </a:lnTo>
                          <a:lnTo>
                            <a:pt x="153" y="236"/>
                          </a:lnTo>
                          <a:lnTo>
                            <a:pt x="160" y="224"/>
                          </a:lnTo>
                          <a:lnTo>
                            <a:pt x="165" y="212"/>
                          </a:lnTo>
                          <a:lnTo>
                            <a:pt x="169" y="199"/>
                          </a:lnTo>
                          <a:lnTo>
                            <a:pt x="175" y="187"/>
                          </a:lnTo>
                          <a:lnTo>
                            <a:pt x="179" y="175"/>
                          </a:lnTo>
                          <a:lnTo>
                            <a:pt x="183" y="165"/>
                          </a:lnTo>
                          <a:lnTo>
                            <a:pt x="187" y="155"/>
                          </a:lnTo>
                          <a:lnTo>
                            <a:pt x="189" y="149"/>
                          </a:lnTo>
                          <a:lnTo>
                            <a:pt x="195" y="142"/>
                          </a:lnTo>
                          <a:lnTo>
                            <a:pt x="200" y="133"/>
                          </a:lnTo>
                          <a:lnTo>
                            <a:pt x="208" y="122"/>
                          </a:lnTo>
                          <a:lnTo>
                            <a:pt x="216" y="109"/>
                          </a:lnTo>
                          <a:lnTo>
                            <a:pt x="225" y="98"/>
                          </a:lnTo>
                          <a:lnTo>
                            <a:pt x="236" y="85"/>
                          </a:lnTo>
                          <a:lnTo>
                            <a:pt x="245" y="72"/>
                          </a:lnTo>
                          <a:lnTo>
                            <a:pt x="255" y="61"/>
                          </a:lnTo>
                          <a:lnTo>
                            <a:pt x="264" y="51"/>
                          </a:lnTo>
                          <a:lnTo>
                            <a:pt x="272" y="44"/>
                          </a:lnTo>
                          <a:lnTo>
                            <a:pt x="283" y="39"/>
                          </a:lnTo>
                          <a:lnTo>
                            <a:pt x="296" y="33"/>
                          </a:lnTo>
                          <a:lnTo>
                            <a:pt x="313" y="26"/>
                          </a:lnTo>
                          <a:lnTo>
                            <a:pt x="332" y="18"/>
                          </a:lnTo>
                          <a:lnTo>
                            <a:pt x="355" y="13"/>
                          </a:lnTo>
                          <a:lnTo>
                            <a:pt x="379" y="7"/>
                          </a:lnTo>
                          <a:lnTo>
                            <a:pt x="403" y="3"/>
                          </a:lnTo>
                          <a:lnTo>
                            <a:pt x="428" y="1"/>
                          </a:lnTo>
                          <a:lnTo>
                            <a:pt x="453" y="0"/>
                          </a:lnTo>
                          <a:lnTo>
                            <a:pt x="479" y="1"/>
                          </a:lnTo>
                          <a:close/>
                        </a:path>
                      </a:pathLst>
                    </a:custGeom>
                    <a:solidFill>
                      <a:srgbClr val="facf4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483120" y="1790640"/>
                      <a:ext cx="284400" cy="23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7" h="358">
                          <a:moveTo>
                            <a:pt x="435" y="1"/>
                          </a:moveTo>
                          <a:lnTo>
                            <a:pt x="435" y="3"/>
                          </a:lnTo>
                          <a:lnTo>
                            <a:pt x="435" y="7"/>
                          </a:lnTo>
                          <a:lnTo>
                            <a:pt x="433" y="14"/>
                          </a:lnTo>
                          <a:lnTo>
                            <a:pt x="433" y="22"/>
                          </a:lnTo>
                          <a:lnTo>
                            <a:pt x="432" y="32"/>
                          </a:lnTo>
                          <a:lnTo>
                            <a:pt x="431" y="41"/>
                          </a:lnTo>
                          <a:lnTo>
                            <a:pt x="431" y="49"/>
                          </a:lnTo>
                          <a:lnTo>
                            <a:pt x="429" y="58"/>
                          </a:lnTo>
                          <a:lnTo>
                            <a:pt x="429" y="65"/>
                          </a:lnTo>
                          <a:lnTo>
                            <a:pt x="429" y="70"/>
                          </a:lnTo>
                          <a:lnTo>
                            <a:pt x="429" y="75"/>
                          </a:lnTo>
                          <a:lnTo>
                            <a:pt x="429" y="84"/>
                          </a:lnTo>
                          <a:lnTo>
                            <a:pt x="431" y="94"/>
                          </a:lnTo>
                          <a:lnTo>
                            <a:pt x="432" y="106"/>
                          </a:lnTo>
                          <a:lnTo>
                            <a:pt x="433" y="119"/>
                          </a:lnTo>
                          <a:lnTo>
                            <a:pt x="435" y="132"/>
                          </a:lnTo>
                          <a:lnTo>
                            <a:pt x="436" y="143"/>
                          </a:lnTo>
                          <a:lnTo>
                            <a:pt x="436" y="152"/>
                          </a:lnTo>
                          <a:lnTo>
                            <a:pt x="437" y="158"/>
                          </a:lnTo>
                          <a:lnTo>
                            <a:pt x="437" y="160"/>
                          </a:lnTo>
                          <a:lnTo>
                            <a:pt x="437" y="160"/>
                          </a:lnTo>
                          <a:lnTo>
                            <a:pt x="435" y="160"/>
                          </a:lnTo>
                          <a:lnTo>
                            <a:pt x="431" y="159"/>
                          </a:lnTo>
                          <a:lnTo>
                            <a:pt x="427" y="159"/>
                          </a:lnTo>
                          <a:lnTo>
                            <a:pt x="420" y="159"/>
                          </a:lnTo>
                          <a:lnTo>
                            <a:pt x="413" y="159"/>
                          </a:lnTo>
                          <a:lnTo>
                            <a:pt x="407" y="159"/>
                          </a:lnTo>
                          <a:lnTo>
                            <a:pt x="400" y="160"/>
                          </a:lnTo>
                          <a:lnTo>
                            <a:pt x="392" y="162"/>
                          </a:lnTo>
                          <a:lnTo>
                            <a:pt x="384" y="164"/>
                          </a:lnTo>
                          <a:lnTo>
                            <a:pt x="376" y="168"/>
                          </a:lnTo>
                          <a:lnTo>
                            <a:pt x="365" y="173"/>
                          </a:lnTo>
                          <a:lnTo>
                            <a:pt x="353" y="179"/>
                          </a:lnTo>
                          <a:lnTo>
                            <a:pt x="341" y="186"/>
                          </a:lnTo>
                          <a:lnTo>
                            <a:pt x="328" y="195"/>
                          </a:lnTo>
                          <a:lnTo>
                            <a:pt x="316" y="203"/>
                          </a:lnTo>
                          <a:lnTo>
                            <a:pt x="304" y="211"/>
                          </a:lnTo>
                          <a:lnTo>
                            <a:pt x="292" y="219"/>
                          </a:lnTo>
                          <a:lnTo>
                            <a:pt x="281" y="227"/>
                          </a:lnTo>
                          <a:lnTo>
                            <a:pt x="273" y="232"/>
                          </a:lnTo>
                          <a:lnTo>
                            <a:pt x="265" y="238"/>
                          </a:lnTo>
                          <a:lnTo>
                            <a:pt x="257" y="247"/>
                          </a:lnTo>
                          <a:lnTo>
                            <a:pt x="248" y="255"/>
                          </a:lnTo>
                          <a:lnTo>
                            <a:pt x="240" y="264"/>
                          </a:lnTo>
                          <a:lnTo>
                            <a:pt x="232" y="274"/>
                          </a:lnTo>
                          <a:lnTo>
                            <a:pt x="224" y="283"/>
                          </a:lnTo>
                          <a:lnTo>
                            <a:pt x="216" y="291"/>
                          </a:lnTo>
                          <a:lnTo>
                            <a:pt x="208" y="300"/>
                          </a:lnTo>
                          <a:lnTo>
                            <a:pt x="200" y="306"/>
                          </a:lnTo>
                          <a:lnTo>
                            <a:pt x="193" y="310"/>
                          </a:lnTo>
                          <a:lnTo>
                            <a:pt x="187" y="314"/>
                          </a:lnTo>
                          <a:lnTo>
                            <a:pt x="179" y="319"/>
                          </a:lnTo>
                          <a:lnTo>
                            <a:pt x="171" y="326"/>
                          </a:lnTo>
                          <a:lnTo>
                            <a:pt x="161" y="332"/>
                          </a:lnTo>
                          <a:lnTo>
                            <a:pt x="152" y="337"/>
                          </a:lnTo>
                          <a:lnTo>
                            <a:pt x="143" y="343"/>
                          </a:lnTo>
                          <a:lnTo>
                            <a:pt x="133" y="349"/>
                          </a:lnTo>
                          <a:lnTo>
                            <a:pt x="124" y="353"/>
                          </a:lnTo>
                          <a:lnTo>
                            <a:pt x="115" y="356"/>
                          </a:lnTo>
                          <a:lnTo>
                            <a:pt x="107" y="358"/>
                          </a:lnTo>
                          <a:lnTo>
                            <a:pt x="97" y="358"/>
                          </a:lnTo>
                          <a:lnTo>
                            <a:pt x="89" y="356"/>
                          </a:lnTo>
                          <a:lnTo>
                            <a:pt x="81" y="355"/>
                          </a:lnTo>
                          <a:lnTo>
                            <a:pt x="72" y="354"/>
                          </a:lnTo>
                          <a:lnTo>
                            <a:pt x="64" y="353"/>
                          </a:lnTo>
                          <a:lnTo>
                            <a:pt x="57" y="350"/>
                          </a:lnTo>
                          <a:lnTo>
                            <a:pt x="49" y="348"/>
                          </a:lnTo>
                          <a:lnTo>
                            <a:pt x="44" y="347"/>
                          </a:lnTo>
                          <a:lnTo>
                            <a:pt x="39" y="345"/>
                          </a:lnTo>
                          <a:lnTo>
                            <a:pt x="33" y="342"/>
                          </a:lnTo>
                          <a:lnTo>
                            <a:pt x="29" y="340"/>
                          </a:lnTo>
                          <a:lnTo>
                            <a:pt x="25" y="337"/>
                          </a:lnTo>
                          <a:lnTo>
                            <a:pt x="20" y="334"/>
                          </a:lnTo>
                          <a:lnTo>
                            <a:pt x="16" y="332"/>
                          </a:lnTo>
                          <a:lnTo>
                            <a:pt x="12" y="329"/>
                          </a:lnTo>
                          <a:lnTo>
                            <a:pt x="8" y="327"/>
                          </a:lnTo>
                          <a:lnTo>
                            <a:pt x="4" y="324"/>
                          </a:lnTo>
                          <a:lnTo>
                            <a:pt x="1" y="322"/>
                          </a:lnTo>
                          <a:lnTo>
                            <a:pt x="0" y="322"/>
                          </a:lnTo>
                          <a:lnTo>
                            <a:pt x="0" y="321"/>
                          </a:lnTo>
                          <a:lnTo>
                            <a:pt x="0" y="321"/>
                          </a:lnTo>
                          <a:lnTo>
                            <a:pt x="1" y="320"/>
                          </a:lnTo>
                          <a:lnTo>
                            <a:pt x="4" y="317"/>
                          </a:lnTo>
                          <a:lnTo>
                            <a:pt x="7" y="314"/>
                          </a:lnTo>
                          <a:lnTo>
                            <a:pt x="9" y="312"/>
                          </a:lnTo>
                          <a:lnTo>
                            <a:pt x="13" y="308"/>
                          </a:lnTo>
                          <a:lnTo>
                            <a:pt x="17" y="306"/>
                          </a:lnTo>
                          <a:lnTo>
                            <a:pt x="21" y="302"/>
                          </a:lnTo>
                          <a:lnTo>
                            <a:pt x="25" y="300"/>
                          </a:lnTo>
                          <a:lnTo>
                            <a:pt x="29" y="299"/>
                          </a:lnTo>
                          <a:lnTo>
                            <a:pt x="35" y="296"/>
                          </a:lnTo>
                          <a:lnTo>
                            <a:pt x="43" y="293"/>
                          </a:lnTo>
                          <a:lnTo>
                            <a:pt x="52" y="287"/>
                          </a:lnTo>
                          <a:lnTo>
                            <a:pt x="63" y="281"/>
                          </a:lnTo>
                          <a:lnTo>
                            <a:pt x="75" y="274"/>
                          </a:lnTo>
                          <a:lnTo>
                            <a:pt x="88" y="265"/>
                          </a:lnTo>
                          <a:lnTo>
                            <a:pt x="100" y="257"/>
                          </a:lnTo>
                          <a:lnTo>
                            <a:pt x="111" y="248"/>
                          </a:lnTo>
                          <a:lnTo>
                            <a:pt x="120" y="240"/>
                          </a:lnTo>
                          <a:lnTo>
                            <a:pt x="128" y="232"/>
                          </a:lnTo>
                          <a:lnTo>
                            <a:pt x="133" y="224"/>
                          </a:lnTo>
                          <a:lnTo>
                            <a:pt x="140" y="215"/>
                          </a:lnTo>
                          <a:lnTo>
                            <a:pt x="145" y="204"/>
                          </a:lnTo>
                          <a:lnTo>
                            <a:pt x="149" y="192"/>
                          </a:lnTo>
                          <a:lnTo>
                            <a:pt x="155" y="182"/>
                          </a:lnTo>
                          <a:lnTo>
                            <a:pt x="159" y="170"/>
                          </a:lnTo>
                          <a:lnTo>
                            <a:pt x="163" y="159"/>
                          </a:lnTo>
                          <a:lnTo>
                            <a:pt x="165" y="150"/>
                          </a:lnTo>
                          <a:lnTo>
                            <a:pt x="169" y="142"/>
                          </a:lnTo>
                          <a:lnTo>
                            <a:pt x="172" y="136"/>
                          </a:lnTo>
                          <a:lnTo>
                            <a:pt x="176" y="130"/>
                          </a:lnTo>
                          <a:lnTo>
                            <a:pt x="183" y="121"/>
                          </a:lnTo>
                          <a:lnTo>
                            <a:pt x="189" y="111"/>
                          </a:lnTo>
                          <a:lnTo>
                            <a:pt x="197" y="100"/>
                          </a:lnTo>
                          <a:lnTo>
                            <a:pt x="205" y="88"/>
                          </a:lnTo>
                          <a:lnTo>
                            <a:pt x="213" y="77"/>
                          </a:lnTo>
                          <a:lnTo>
                            <a:pt x="223" y="66"/>
                          </a:lnTo>
                          <a:lnTo>
                            <a:pt x="232" y="57"/>
                          </a:lnTo>
                          <a:lnTo>
                            <a:pt x="240" y="47"/>
                          </a:lnTo>
                          <a:lnTo>
                            <a:pt x="247" y="41"/>
                          </a:lnTo>
                          <a:lnTo>
                            <a:pt x="256" y="35"/>
                          </a:lnTo>
                          <a:lnTo>
                            <a:pt x="269" y="29"/>
                          </a:lnTo>
                          <a:lnTo>
                            <a:pt x="284" y="24"/>
                          </a:lnTo>
                          <a:lnTo>
                            <a:pt x="303" y="18"/>
                          </a:lnTo>
                          <a:lnTo>
                            <a:pt x="323" y="12"/>
                          </a:lnTo>
                          <a:lnTo>
                            <a:pt x="344" y="7"/>
                          </a:lnTo>
                          <a:lnTo>
                            <a:pt x="367" y="3"/>
                          </a:lnTo>
                          <a:lnTo>
                            <a:pt x="389" y="1"/>
                          </a:lnTo>
                          <a:lnTo>
                            <a:pt x="412" y="0"/>
                          </a:lnTo>
                          <a:lnTo>
                            <a:pt x="436" y="1"/>
                          </a:lnTo>
                          <a:lnTo>
                            <a:pt x="435" y="1"/>
                          </a:lnTo>
                          <a:close/>
                        </a:path>
                      </a:pathLst>
                    </a:custGeom>
                    <a:solidFill>
                      <a:srgbClr val="fad36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498240" y="1800360"/>
                      <a:ext cx="256320" cy="21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4" h="322">
                          <a:moveTo>
                            <a:pt x="392" y="1"/>
                          </a:moveTo>
                          <a:lnTo>
                            <a:pt x="393" y="4"/>
                          </a:lnTo>
                          <a:lnTo>
                            <a:pt x="392" y="7"/>
                          </a:lnTo>
                          <a:lnTo>
                            <a:pt x="392" y="13"/>
                          </a:lnTo>
                          <a:lnTo>
                            <a:pt x="390" y="20"/>
                          </a:lnTo>
                          <a:lnTo>
                            <a:pt x="390" y="29"/>
                          </a:lnTo>
                          <a:lnTo>
                            <a:pt x="389" y="37"/>
                          </a:lnTo>
                          <a:lnTo>
                            <a:pt x="388" y="45"/>
                          </a:lnTo>
                          <a:lnTo>
                            <a:pt x="388" y="53"/>
                          </a:lnTo>
                          <a:lnTo>
                            <a:pt x="388" y="59"/>
                          </a:lnTo>
                          <a:lnTo>
                            <a:pt x="386" y="63"/>
                          </a:lnTo>
                          <a:lnTo>
                            <a:pt x="388" y="68"/>
                          </a:lnTo>
                          <a:lnTo>
                            <a:pt x="388" y="76"/>
                          </a:lnTo>
                          <a:lnTo>
                            <a:pt x="389" y="85"/>
                          </a:lnTo>
                          <a:lnTo>
                            <a:pt x="389" y="96"/>
                          </a:lnTo>
                          <a:lnTo>
                            <a:pt x="390" y="108"/>
                          </a:lnTo>
                          <a:lnTo>
                            <a:pt x="392" y="119"/>
                          </a:lnTo>
                          <a:lnTo>
                            <a:pt x="393" y="129"/>
                          </a:lnTo>
                          <a:lnTo>
                            <a:pt x="394" y="137"/>
                          </a:lnTo>
                          <a:lnTo>
                            <a:pt x="394" y="143"/>
                          </a:lnTo>
                          <a:lnTo>
                            <a:pt x="394" y="144"/>
                          </a:lnTo>
                          <a:lnTo>
                            <a:pt x="394" y="144"/>
                          </a:lnTo>
                          <a:lnTo>
                            <a:pt x="392" y="144"/>
                          </a:lnTo>
                          <a:lnTo>
                            <a:pt x="389" y="144"/>
                          </a:lnTo>
                          <a:lnTo>
                            <a:pt x="384" y="143"/>
                          </a:lnTo>
                          <a:lnTo>
                            <a:pt x="380" y="143"/>
                          </a:lnTo>
                          <a:lnTo>
                            <a:pt x="373" y="143"/>
                          </a:lnTo>
                          <a:lnTo>
                            <a:pt x="368" y="144"/>
                          </a:lnTo>
                          <a:lnTo>
                            <a:pt x="361" y="144"/>
                          </a:lnTo>
                          <a:lnTo>
                            <a:pt x="353" y="147"/>
                          </a:lnTo>
                          <a:lnTo>
                            <a:pt x="346" y="148"/>
                          </a:lnTo>
                          <a:lnTo>
                            <a:pt x="338" y="151"/>
                          </a:lnTo>
                          <a:lnTo>
                            <a:pt x="329" y="156"/>
                          </a:lnTo>
                          <a:lnTo>
                            <a:pt x="320" y="162"/>
                          </a:lnTo>
                          <a:lnTo>
                            <a:pt x="308" y="169"/>
                          </a:lnTo>
                          <a:lnTo>
                            <a:pt x="297" y="176"/>
                          </a:lnTo>
                          <a:lnTo>
                            <a:pt x="285" y="183"/>
                          </a:lnTo>
                          <a:lnTo>
                            <a:pt x="274" y="190"/>
                          </a:lnTo>
                          <a:lnTo>
                            <a:pt x="264" y="197"/>
                          </a:lnTo>
                          <a:lnTo>
                            <a:pt x="254" y="204"/>
                          </a:lnTo>
                          <a:lnTo>
                            <a:pt x="246" y="209"/>
                          </a:lnTo>
                          <a:lnTo>
                            <a:pt x="240" y="215"/>
                          </a:lnTo>
                          <a:lnTo>
                            <a:pt x="232" y="222"/>
                          </a:lnTo>
                          <a:lnTo>
                            <a:pt x="225" y="230"/>
                          </a:lnTo>
                          <a:lnTo>
                            <a:pt x="217" y="239"/>
                          </a:lnTo>
                          <a:lnTo>
                            <a:pt x="209" y="247"/>
                          </a:lnTo>
                          <a:lnTo>
                            <a:pt x="202" y="255"/>
                          </a:lnTo>
                          <a:lnTo>
                            <a:pt x="194" y="263"/>
                          </a:lnTo>
                          <a:lnTo>
                            <a:pt x="188" y="269"/>
                          </a:lnTo>
                          <a:lnTo>
                            <a:pt x="181" y="275"/>
                          </a:lnTo>
                          <a:lnTo>
                            <a:pt x="176" y="279"/>
                          </a:lnTo>
                          <a:lnTo>
                            <a:pt x="169" y="284"/>
                          </a:lnTo>
                          <a:lnTo>
                            <a:pt x="162" y="288"/>
                          </a:lnTo>
                          <a:lnTo>
                            <a:pt x="154" y="293"/>
                          </a:lnTo>
                          <a:lnTo>
                            <a:pt x="146" y="299"/>
                          </a:lnTo>
                          <a:lnTo>
                            <a:pt x="138" y="305"/>
                          </a:lnTo>
                          <a:lnTo>
                            <a:pt x="129" y="309"/>
                          </a:lnTo>
                          <a:lnTo>
                            <a:pt x="121" y="314"/>
                          </a:lnTo>
                          <a:lnTo>
                            <a:pt x="113" y="319"/>
                          </a:lnTo>
                          <a:lnTo>
                            <a:pt x="104" y="321"/>
                          </a:lnTo>
                          <a:lnTo>
                            <a:pt x="97" y="322"/>
                          </a:lnTo>
                          <a:lnTo>
                            <a:pt x="89" y="321"/>
                          </a:lnTo>
                          <a:lnTo>
                            <a:pt x="81" y="321"/>
                          </a:lnTo>
                          <a:lnTo>
                            <a:pt x="73" y="320"/>
                          </a:lnTo>
                          <a:lnTo>
                            <a:pt x="66" y="319"/>
                          </a:lnTo>
                          <a:lnTo>
                            <a:pt x="58" y="318"/>
                          </a:lnTo>
                          <a:lnTo>
                            <a:pt x="52" y="317"/>
                          </a:lnTo>
                          <a:lnTo>
                            <a:pt x="45" y="314"/>
                          </a:lnTo>
                          <a:lnTo>
                            <a:pt x="40" y="312"/>
                          </a:lnTo>
                          <a:lnTo>
                            <a:pt x="36" y="311"/>
                          </a:lnTo>
                          <a:lnTo>
                            <a:pt x="32" y="308"/>
                          </a:lnTo>
                          <a:lnTo>
                            <a:pt x="28" y="306"/>
                          </a:lnTo>
                          <a:lnTo>
                            <a:pt x="24" y="304"/>
                          </a:lnTo>
                          <a:lnTo>
                            <a:pt x="20" y="301"/>
                          </a:lnTo>
                          <a:lnTo>
                            <a:pt x="16" y="299"/>
                          </a:lnTo>
                          <a:lnTo>
                            <a:pt x="12" y="297"/>
                          </a:lnTo>
                          <a:lnTo>
                            <a:pt x="8" y="294"/>
                          </a:lnTo>
                          <a:lnTo>
                            <a:pt x="5" y="292"/>
                          </a:lnTo>
                          <a:lnTo>
                            <a:pt x="2" y="291"/>
                          </a:lnTo>
                          <a:lnTo>
                            <a:pt x="1" y="289"/>
                          </a:lnTo>
                          <a:lnTo>
                            <a:pt x="0" y="289"/>
                          </a:lnTo>
                          <a:lnTo>
                            <a:pt x="1" y="289"/>
                          </a:lnTo>
                          <a:lnTo>
                            <a:pt x="2" y="288"/>
                          </a:lnTo>
                          <a:lnTo>
                            <a:pt x="4" y="286"/>
                          </a:lnTo>
                          <a:lnTo>
                            <a:pt x="6" y="284"/>
                          </a:lnTo>
                          <a:lnTo>
                            <a:pt x="9" y="281"/>
                          </a:lnTo>
                          <a:lnTo>
                            <a:pt x="13" y="278"/>
                          </a:lnTo>
                          <a:lnTo>
                            <a:pt x="17" y="275"/>
                          </a:lnTo>
                          <a:lnTo>
                            <a:pt x="20" y="273"/>
                          </a:lnTo>
                          <a:lnTo>
                            <a:pt x="24" y="271"/>
                          </a:lnTo>
                          <a:lnTo>
                            <a:pt x="28" y="269"/>
                          </a:lnTo>
                          <a:lnTo>
                            <a:pt x="32" y="267"/>
                          </a:lnTo>
                          <a:lnTo>
                            <a:pt x="40" y="263"/>
                          </a:lnTo>
                          <a:lnTo>
                            <a:pt x="48" y="259"/>
                          </a:lnTo>
                          <a:lnTo>
                            <a:pt x="58" y="253"/>
                          </a:lnTo>
                          <a:lnTo>
                            <a:pt x="69" y="246"/>
                          </a:lnTo>
                          <a:lnTo>
                            <a:pt x="80" y="239"/>
                          </a:lnTo>
                          <a:lnTo>
                            <a:pt x="90" y="232"/>
                          </a:lnTo>
                          <a:lnTo>
                            <a:pt x="100" y="223"/>
                          </a:lnTo>
                          <a:lnTo>
                            <a:pt x="109" y="216"/>
                          </a:lnTo>
                          <a:lnTo>
                            <a:pt x="116" y="209"/>
                          </a:lnTo>
                          <a:lnTo>
                            <a:pt x="121" y="202"/>
                          </a:lnTo>
                          <a:lnTo>
                            <a:pt x="126" y="194"/>
                          </a:lnTo>
                          <a:lnTo>
                            <a:pt x="132" y="184"/>
                          </a:lnTo>
                          <a:lnTo>
                            <a:pt x="136" y="174"/>
                          </a:lnTo>
                          <a:lnTo>
                            <a:pt x="140" y="163"/>
                          </a:lnTo>
                          <a:lnTo>
                            <a:pt x="144" y="154"/>
                          </a:lnTo>
                          <a:lnTo>
                            <a:pt x="146" y="144"/>
                          </a:lnTo>
                          <a:lnTo>
                            <a:pt x="150" y="136"/>
                          </a:lnTo>
                          <a:lnTo>
                            <a:pt x="153" y="128"/>
                          </a:lnTo>
                          <a:lnTo>
                            <a:pt x="156" y="123"/>
                          </a:lnTo>
                          <a:lnTo>
                            <a:pt x="160" y="117"/>
                          </a:lnTo>
                          <a:lnTo>
                            <a:pt x="165" y="109"/>
                          </a:lnTo>
                          <a:lnTo>
                            <a:pt x="170" y="101"/>
                          </a:lnTo>
                          <a:lnTo>
                            <a:pt x="178" y="90"/>
                          </a:lnTo>
                          <a:lnTo>
                            <a:pt x="185" y="81"/>
                          </a:lnTo>
                          <a:lnTo>
                            <a:pt x="193" y="70"/>
                          </a:lnTo>
                          <a:lnTo>
                            <a:pt x="201" y="59"/>
                          </a:lnTo>
                          <a:lnTo>
                            <a:pt x="209" y="51"/>
                          </a:lnTo>
                          <a:lnTo>
                            <a:pt x="217" y="43"/>
                          </a:lnTo>
                          <a:lnTo>
                            <a:pt x="224" y="38"/>
                          </a:lnTo>
                          <a:lnTo>
                            <a:pt x="232" y="32"/>
                          </a:lnTo>
                          <a:lnTo>
                            <a:pt x="242" y="27"/>
                          </a:lnTo>
                          <a:lnTo>
                            <a:pt x="257" y="21"/>
                          </a:lnTo>
                          <a:lnTo>
                            <a:pt x="273" y="16"/>
                          </a:lnTo>
                          <a:lnTo>
                            <a:pt x="290" y="11"/>
                          </a:lnTo>
                          <a:lnTo>
                            <a:pt x="310" y="6"/>
                          </a:lnTo>
                          <a:lnTo>
                            <a:pt x="330" y="3"/>
                          </a:lnTo>
                          <a:lnTo>
                            <a:pt x="352" y="1"/>
                          </a:lnTo>
                          <a:lnTo>
                            <a:pt x="372" y="0"/>
                          </a:lnTo>
                          <a:lnTo>
                            <a:pt x="393" y="1"/>
                          </a:lnTo>
                          <a:lnTo>
                            <a:pt x="392" y="1"/>
                          </a:lnTo>
                          <a:close/>
                        </a:path>
                      </a:pathLst>
                    </a:custGeom>
                    <a:solidFill>
                      <a:srgbClr val="fad77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514080" y="1810800"/>
                      <a:ext cx="22788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285">
                          <a:moveTo>
                            <a:pt x="349" y="1"/>
                          </a:moveTo>
                          <a:lnTo>
                            <a:pt x="349" y="2"/>
                          </a:lnTo>
                          <a:lnTo>
                            <a:pt x="349" y="5"/>
                          </a:lnTo>
                          <a:lnTo>
                            <a:pt x="348" y="11"/>
                          </a:lnTo>
                          <a:lnTo>
                            <a:pt x="348" y="17"/>
                          </a:lnTo>
                          <a:lnTo>
                            <a:pt x="346" y="24"/>
                          </a:lnTo>
                          <a:lnTo>
                            <a:pt x="346" y="33"/>
                          </a:lnTo>
                          <a:lnTo>
                            <a:pt x="345" y="40"/>
                          </a:lnTo>
                          <a:lnTo>
                            <a:pt x="345" y="47"/>
                          </a:lnTo>
                          <a:lnTo>
                            <a:pt x="344" y="52"/>
                          </a:lnTo>
                          <a:lnTo>
                            <a:pt x="344" y="55"/>
                          </a:lnTo>
                          <a:lnTo>
                            <a:pt x="344" y="60"/>
                          </a:lnTo>
                          <a:lnTo>
                            <a:pt x="345" y="67"/>
                          </a:lnTo>
                          <a:lnTo>
                            <a:pt x="345" y="75"/>
                          </a:lnTo>
                          <a:lnTo>
                            <a:pt x="346" y="85"/>
                          </a:lnTo>
                          <a:lnTo>
                            <a:pt x="348" y="95"/>
                          </a:lnTo>
                          <a:lnTo>
                            <a:pt x="348" y="106"/>
                          </a:lnTo>
                          <a:lnTo>
                            <a:pt x="349" y="114"/>
                          </a:lnTo>
                          <a:lnTo>
                            <a:pt x="350" y="121"/>
                          </a:lnTo>
                          <a:lnTo>
                            <a:pt x="350" y="126"/>
                          </a:lnTo>
                          <a:lnTo>
                            <a:pt x="350" y="128"/>
                          </a:lnTo>
                          <a:lnTo>
                            <a:pt x="350" y="128"/>
                          </a:lnTo>
                          <a:lnTo>
                            <a:pt x="348" y="128"/>
                          </a:lnTo>
                          <a:lnTo>
                            <a:pt x="345" y="127"/>
                          </a:lnTo>
                          <a:lnTo>
                            <a:pt x="341" y="127"/>
                          </a:lnTo>
                          <a:lnTo>
                            <a:pt x="337" y="127"/>
                          </a:lnTo>
                          <a:lnTo>
                            <a:pt x="332" y="127"/>
                          </a:lnTo>
                          <a:lnTo>
                            <a:pt x="326" y="127"/>
                          </a:lnTo>
                          <a:lnTo>
                            <a:pt x="320" y="128"/>
                          </a:lnTo>
                          <a:lnTo>
                            <a:pt x="314" y="129"/>
                          </a:lnTo>
                          <a:lnTo>
                            <a:pt x="308" y="132"/>
                          </a:lnTo>
                          <a:lnTo>
                            <a:pt x="301" y="134"/>
                          </a:lnTo>
                          <a:lnTo>
                            <a:pt x="293" y="139"/>
                          </a:lnTo>
                          <a:lnTo>
                            <a:pt x="284" y="144"/>
                          </a:lnTo>
                          <a:lnTo>
                            <a:pt x="274" y="149"/>
                          </a:lnTo>
                          <a:lnTo>
                            <a:pt x="264" y="155"/>
                          </a:lnTo>
                          <a:lnTo>
                            <a:pt x="253" y="162"/>
                          </a:lnTo>
                          <a:lnTo>
                            <a:pt x="244" y="168"/>
                          </a:lnTo>
                          <a:lnTo>
                            <a:pt x="234" y="175"/>
                          </a:lnTo>
                          <a:lnTo>
                            <a:pt x="226" y="180"/>
                          </a:lnTo>
                          <a:lnTo>
                            <a:pt x="220" y="186"/>
                          </a:lnTo>
                          <a:lnTo>
                            <a:pt x="213" y="191"/>
                          </a:lnTo>
                          <a:lnTo>
                            <a:pt x="206" y="197"/>
                          </a:lnTo>
                          <a:lnTo>
                            <a:pt x="200" y="204"/>
                          </a:lnTo>
                          <a:lnTo>
                            <a:pt x="193" y="212"/>
                          </a:lnTo>
                          <a:lnTo>
                            <a:pt x="186" y="219"/>
                          </a:lnTo>
                          <a:lnTo>
                            <a:pt x="180" y="226"/>
                          </a:lnTo>
                          <a:lnTo>
                            <a:pt x="173" y="233"/>
                          </a:lnTo>
                          <a:lnTo>
                            <a:pt x="166" y="239"/>
                          </a:lnTo>
                          <a:lnTo>
                            <a:pt x="161" y="244"/>
                          </a:lnTo>
                          <a:lnTo>
                            <a:pt x="156" y="247"/>
                          </a:lnTo>
                          <a:lnTo>
                            <a:pt x="150" y="251"/>
                          </a:lnTo>
                          <a:lnTo>
                            <a:pt x="144" y="256"/>
                          </a:lnTo>
                          <a:lnTo>
                            <a:pt x="137" y="260"/>
                          </a:lnTo>
                          <a:lnTo>
                            <a:pt x="130" y="265"/>
                          </a:lnTo>
                          <a:lnTo>
                            <a:pt x="122" y="270"/>
                          </a:lnTo>
                          <a:lnTo>
                            <a:pt x="116" y="275"/>
                          </a:lnTo>
                          <a:lnTo>
                            <a:pt x="108" y="279"/>
                          </a:lnTo>
                          <a:lnTo>
                            <a:pt x="100" y="283"/>
                          </a:lnTo>
                          <a:lnTo>
                            <a:pt x="93" y="285"/>
                          </a:lnTo>
                          <a:lnTo>
                            <a:pt x="86" y="285"/>
                          </a:lnTo>
                          <a:lnTo>
                            <a:pt x="78" y="285"/>
                          </a:lnTo>
                          <a:lnTo>
                            <a:pt x="72" y="285"/>
                          </a:lnTo>
                          <a:lnTo>
                            <a:pt x="65" y="284"/>
                          </a:lnTo>
                          <a:lnTo>
                            <a:pt x="58" y="283"/>
                          </a:lnTo>
                          <a:lnTo>
                            <a:pt x="52" y="282"/>
                          </a:lnTo>
                          <a:lnTo>
                            <a:pt x="46" y="281"/>
                          </a:lnTo>
                          <a:lnTo>
                            <a:pt x="41" y="279"/>
                          </a:lnTo>
                          <a:lnTo>
                            <a:pt x="36" y="277"/>
                          </a:lnTo>
                          <a:lnTo>
                            <a:pt x="32" y="276"/>
                          </a:lnTo>
                          <a:lnTo>
                            <a:pt x="28" y="273"/>
                          </a:lnTo>
                          <a:lnTo>
                            <a:pt x="24" y="271"/>
                          </a:lnTo>
                          <a:lnTo>
                            <a:pt x="21" y="270"/>
                          </a:lnTo>
                          <a:lnTo>
                            <a:pt x="17" y="268"/>
                          </a:lnTo>
                          <a:lnTo>
                            <a:pt x="13" y="265"/>
                          </a:lnTo>
                          <a:lnTo>
                            <a:pt x="10" y="263"/>
                          </a:lnTo>
                          <a:lnTo>
                            <a:pt x="6" y="260"/>
                          </a:lnTo>
                          <a:lnTo>
                            <a:pt x="4" y="259"/>
                          </a:lnTo>
                          <a:lnTo>
                            <a:pt x="2" y="258"/>
                          </a:lnTo>
                          <a:lnTo>
                            <a:pt x="1" y="257"/>
                          </a:lnTo>
                          <a:lnTo>
                            <a:pt x="0" y="257"/>
                          </a:lnTo>
                          <a:lnTo>
                            <a:pt x="1" y="257"/>
                          </a:lnTo>
                          <a:lnTo>
                            <a:pt x="2" y="256"/>
                          </a:lnTo>
                          <a:lnTo>
                            <a:pt x="4" y="253"/>
                          </a:lnTo>
                          <a:lnTo>
                            <a:pt x="6" y="251"/>
                          </a:lnTo>
                          <a:lnTo>
                            <a:pt x="9" y="249"/>
                          </a:lnTo>
                          <a:lnTo>
                            <a:pt x="12" y="246"/>
                          </a:lnTo>
                          <a:lnTo>
                            <a:pt x="14" y="244"/>
                          </a:lnTo>
                          <a:lnTo>
                            <a:pt x="18" y="242"/>
                          </a:lnTo>
                          <a:lnTo>
                            <a:pt x="21" y="240"/>
                          </a:lnTo>
                          <a:lnTo>
                            <a:pt x="24" y="239"/>
                          </a:lnTo>
                          <a:lnTo>
                            <a:pt x="29" y="237"/>
                          </a:lnTo>
                          <a:lnTo>
                            <a:pt x="34" y="234"/>
                          </a:lnTo>
                          <a:lnTo>
                            <a:pt x="42" y="230"/>
                          </a:lnTo>
                          <a:lnTo>
                            <a:pt x="52" y="224"/>
                          </a:lnTo>
                          <a:lnTo>
                            <a:pt x="61" y="218"/>
                          </a:lnTo>
                          <a:lnTo>
                            <a:pt x="70" y="212"/>
                          </a:lnTo>
                          <a:lnTo>
                            <a:pt x="80" y="205"/>
                          </a:lnTo>
                          <a:lnTo>
                            <a:pt x="89" y="199"/>
                          </a:lnTo>
                          <a:lnTo>
                            <a:pt x="97" y="192"/>
                          </a:lnTo>
                          <a:lnTo>
                            <a:pt x="102" y="186"/>
                          </a:lnTo>
                          <a:lnTo>
                            <a:pt x="108" y="179"/>
                          </a:lnTo>
                          <a:lnTo>
                            <a:pt x="112" y="172"/>
                          </a:lnTo>
                          <a:lnTo>
                            <a:pt x="117" y="162"/>
                          </a:lnTo>
                          <a:lnTo>
                            <a:pt x="121" y="154"/>
                          </a:lnTo>
                          <a:lnTo>
                            <a:pt x="124" y="145"/>
                          </a:lnTo>
                          <a:lnTo>
                            <a:pt x="128" y="135"/>
                          </a:lnTo>
                          <a:lnTo>
                            <a:pt x="130" y="127"/>
                          </a:lnTo>
                          <a:lnTo>
                            <a:pt x="133" y="120"/>
                          </a:lnTo>
                          <a:lnTo>
                            <a:pt x="136" y="113"/>
                          </a:lnTo>
                          <a:lnTo>
                            <a:pt x="138" y="108"/>
                          </a:lnTo>
                          <a:lnTo>
                            <a:pt x="142" y="103"/>
                          </a:lnTo>
                          <a:lnTo>
                            <a:pt x="146" y="96"/>
                          </a:lnTo>
                          <a:lnTo>
                            <a:pt x="152" y="89"/>
                          </a:lnTo>
                          <a:lnTo>
                            <a:pt x="158" y="80"/>
                          </a:lnTo>
                          <a:lnTo>
                            <a:pt x="165" y="70"/>
                          </a:lnTo>
                          <a:lnTo>
                            <a:pt x="172" y="61"/>
                          </a:lnTo>
                          <a:lnTo>
                            <a:pt x="178" y="53"/>
                          </a:lnTo>
                          <a:lnTo>
                            <a:pt x="186" y="44"/>
                          </a:lnTo>
                          <a:lnTo>
                            <a:pt x="193" y="37"/>
                          </a:lnTo>
                          <a:lnTo>
                            <a:pt x="198" y="33"/>
                          </a:lnTo>
                          <a:lnTo>
                            <a:pt x="206" y="28"/>
                          </a:lnTo>
                          <a:lnTo>
                            <a:pt x="216" y="23"/>
                          </a:lnTo>
                          <a:lnTo>
                            <a:pt x="228" y="18"/>
                          </a:lnTo>
                          <a:lnTo>
                            <a:pt x="242" y="14"/>
                          </a:lnTo>
                          <a:lnTo>
                            <a:pt x="258" y="9"/>
                          </a:lnTo>
                          <a:lnTo>
                            <a:pt x="276" y="5"/>
                          </a:lnTo>
                          <a:lnTo>
                            <a:pt x="293" y="2"/>
                          </a:lnTo>
                          <a:lnTo>
                            <a:pt x="312" y="1"/>
                          </a:lnTo>
                          <a:lnTo>
                            <a:pt x="330" y="0"/>
                          </a:lnTo>
                          <a:lnTo>
                            <a:pt x="349" y="1"/>
                          </a:lnTo>
                          <a:close/>
                        </a:path>
                      </a:pathLst>
                    </a:custGeom>
                    <a:solidFill>
                      <a:srgbClr val="fadb8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529560" y="1820880"/>
                      <a:ext cx="199440" cy="16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6" h="250">
                          <a:moveTo>
                            <a:pt x="305" y="1"/>
                          </a:moveTo>
                          <a:lnTo>
                            <a:pt x="305" y="2"/>
                          </a:lnTo>
                          <a:lnTo>
                            <a:pt x="305" y="6"/>
                          </a:lnTo>
                          <a:lnTo>
                            <a:pt x="305" y="11"/>
                          </a:lnTo>
                          <a:lnTo>
                            <a:pt x="304" y="15"/>
                          </a:lnTo>
                          <a:lnTo>
                            <a:pt x="304" y="22"/>
                          </a:lnTo>
                          <a:lnTo>
                            <a:pt x="302" y="28"/>
                          </a:lnTo>
                          <a:lnTo>
                            <a:pt x="302" y="35"/>
                          </a:lnTo>
                          <a:lnTo>
                            <a:pt x="301" y="41"/>
                          </a:lnTo>
                          <a:lnTo>
                            <a:pt x="301" y="46"/>
                          </a:lnTo>
                          <a:lnTo>
                            <a:pt x="301" y="50"/>
                          </a:lnTo>
                          <a:lnTo>
                            <a:pt x="301" y="53"/>
                          </a:lnTo>
                          <a:lnTo>
                            <a:pt x="301" y="59"/>
                          </a:lnTo>
                          <a:lnTo>
                            <a:pt x="302" y="66"/>
                          </a:lnTo>
                          <a:lnTo>
                            <a:pt x="302" y="74"/>
                          </a:lnTo>
                          <a:lnTo>
                            <a:pt x="304" y="84"/>
                          </a:lnTo>
                          <a:lnTo>
                            <a:pt x="305" y="92"/>
                          </a:lnTo>
                          <a:lnTo>
                            <a:pt x="305" y="100"/>
                          </a:lnTo>
                          <a:lnTo>
                            <a:pt x="306" y="106"/>
                          </a:lnTo>
                          <a:lnTo>
                            <a:pt x="306" y="111"/>
                          </a:lnTo>
                          <a:lnTo>
                            <a:pt x="306" y="112"/>
                          </a:lnTo>
                          <a:lnTo>
                            <a:pt x="306" y="112"/>
                          </a:lnTo>
                          <a:lnTo>
                            <a:pt x="305" y="112"/>
                          </a:lnTo>
                          <a:lnTo>
                            <a:pt x="302" y="112"/>
                          </a:lnTo>
                          <a:lnTo>
                            <a:pt x="298" y="112"/>
                          </a:lnTo>
                          <a:lnTo>
                            <a:pt x="294" y="111"/>
                          </a:lnTo>
                          <a:lnTo>
                            <a:pt x="290" y="111"/>
                          </a:lnTo>
                          <a:lnTo>
                            <a:pt x="285" y="112"/>
                          </a:lnTo>
                          <a:lnTo>
                            <a:pt x="280" y="112"/>
                          </a:lnTo>
                          <a:lnTo>
                            <a:pt x="274" y="113"/>
                          </a:lnTo>
                          <a:lnTo>
                            <a:pt x="269" y="116"/>
                          </a:lnTo>
                          <a:lnTo>
                            <a:pt x="264" y="118"/>
                          </a:lnTo>
                          <a:lnTo>
                            <a:pt x="256" y="122"/>
                          </a:lnTo>
                          <a:lnTo>
                            <a:pt x="248" y="126"/>
                          </a:lnTo>
                          <a:lnTo>
                            <a:pt x="240" y="131"/>
                          </a:lnTo>
                          <a:lnTo>
                            <a:pt x="230" y="137"/>
                          </a:lnTo>
                          <a:lnTo>
                            <a:pt x="221" y="143"/>
                          </a:lnTo>
                          <a:lnTo>
                            <a:pt x="213" y="147"/>
                          </a:lnTo>
                          <a:lnTo>
                            <a:pt x="205" y="153"/>
                          </a:lnTo>
                          <a:lnTo>
                            <a:pt x="198" y="158"/>
                          </a:lnTo>
                          <a:lnTo>
                            <a:pt x="192" y="163"/>
                          </a:lnTo>
                          <a:lnTo>
                            <a:pt x="186" y="168"/>
                          </a:lnTo>
                          <a:lnTo>
                            <a:pt x="181" y="173"/>
                          </a:lnTo>
                          <a:lnTo>
                            <a:pt x="174" y="179"/>
                          </a:lnTo>
                          <a:lnTo>
                            <a:pt x="169" y="185"/>
                          </a:lnTo>
                          <a:lnTo>
                            <a:pt x="162" y="192"/>
                          </a:lnTo>
                          <a:lnTo>
                            <a:pt x="157" y="198"/>
                          </a:lnTo>
                          <a:lnTo>
                            <a:pt x="152" y="204"/>
                          </a:lnTo>
                          <a:lnTo>
                            <a:pt x="146" y="210"/>
                          </a:lnTo>
                          <a:lnTo>
                            <a:pt x="141" y="214"/>
                          </a:lnTo>
                          <a:lnTo>
                            <a:pt x="136" y="217"/>
                          </a:lnTo>
                          <a:lnTo>
                            <a:pt x="132" y="219"/>
                          </a:lnTo>
                          <a:lnTo>
                            <a:pt x="126" y="224"/>
                          </a:lnTo>
                          <a:lnTo>
                            <a:pt x="120" y="228"/>
                          </a:lnTo>
                          <a:lnTo>
                            <a:pt x="114" y="232"/>
                          </a:lnTo>
                          <a:lnTo>
                            <a:pt x="108" y="237"/>
                          </a:lnTo>
                          <a:lnTo>
                            <a:pt x="101" y="241"/>
                          </a:lnTo>
                          <a:lnTo>
                            <a:pt x="94" y="244"/>
                          </a:lnTo>
                          <a:lnTo>
                            <a:pt x="88" y="248"/>
                          </a:lnTo>
                          <a:lnTo>
                            <a:pt x="81" y="250"/>
                          </a:lnTo>
                          <a:lnTo>
                            <a:pt x="74" y="250"/>
                          </a:lnTo>
                          <a:lnTo>
                            <a:pt x="69" y="250"/>
                          </a:lnTo>
                          <a:lnTo>
                            <a:pt x="64" y="250"/>
                          </a:lnTo>
                          <a:lnTo>
                            <a:pt x="57" y="249"/>
                          </a:lnTo>
                          <a:lnTo>
                            <a:pt x="52" y="248"/>
                          </a:lnTo>
                          <a:lnTo>
                            <a:pt x="45" y="247"/>
                          </a:lnTo>
                          <a:lnTo>
                            <a:pt x="40" y="245"/>
                          </a:lnTo>
                          <a:lnTo>
                            <a:pt x="36" y="244"/>
                          </a:lnTo>
                          <a:lnTo>
                            <a:pt x="30" y="243"/>
                          </a:lnTo>
                          <a:lnTo>
                            <a:pt x="28" y="241"/>
                          </a:lnTo>
                          <a:lnTo>
                            <a:pt x="24" y="240"/>
                          </a:lnTo>
                          <a:lnTo>
                            <a:pt x="21" y="238"/>
                          </a:lnTo>
                          <a:lnTo>
                            <a:pt x="18" y="236"/>
                          </a:lnTo>
                          <a:lnTo>
                            <a:pt x="14" y="235"/>
                          </a:lnTo>
                          <a:lnTo>
                            <a:pt x="12" y="232"/>
                          </a:lnTo>
                          <a:lnTo>
                            <a:pt x="9" y="230"/>
                          </a:lnTo>
                          <a:lnTo>
                            <a:pt x="6" y="229"/>
                          </a:lnTo>
                          <a:lnTo>
                            <a:pt x="4" y="228"/>
                          </a:lnTo>
                          <a:lnTo>
                            <a:pt x="2" y="227"/>
                          </a:lnTo>
                          <a:lnTo>
                            <a:pt x="1" y="225"/>
                          </a:lnTo>
                          <a:lnTo>
                            <a:pt x="0" y="225"/>
                          </a:lnTo>
                          <a:lnTo>
                            <a:pt x="1" y="224"/>
                          </a:lnTo>
                          <a:lnTo>
                            <a:pt x="1" y="224"/>
                          </a:lnTo>
                          <a:lnTo>
                            <a:pt x="2" y="222"/>
                          </a:lnTo>
                          <a:lnTo>
                            <a:pt x="5" y="221"/>
                          </a:lnTo>
                          <a:lnTo>
                            <a:pt x="8" y="218"/>
                          </a:lnTo>
                          <a:lnTo>
                            <a:pt x="10" y="216"/>
                          </a:lnTo>
                          <a:lnTo>
                            <a:pt x="13" y="214"/>
                          </a:lnTo>
                          <a:lnTo>
                            <a:pt x="16" y="212"/>
                          </a:lnTo>
                          <a:lnTo>
                            <a:pt x="18" y="210"/>
                          </a:lnTo>
                          <a:lnTo>
                            <a:pt x="21" y="209"/>
                          </a:lnTo>
                          <a:lnTo>
                            <a:pt x="25" y="208"/>
                          </a:lnTo>
                          <a:lnTo>
                            <a:pt x="30" y="205"/>
                          </a:lnTo>
                          <a:lnTo>
                            <a:pt x="37" y="202"/>
                          </a:lnTo>
                          <a:lnTo>
                            <a:pt x="45" y="197"/>
                          </a:lnTo>
                          <a:lnTo>
                            <a:pt x="53" y="191"/>
                          </a:lnTo>
                          <a:lnTo>
                            <a:pt x="62" y="186"/>
                          </a:lnTo>
                          <a:lnTo>
                            <a:pt x="70" y="181"/>
                          </a:lnTo>
                          <a:lnTo>
                            <a:pt x="78" y="175"/>
                          </a:lnTo>
                          <a:lnTo>
                            <a:pt x="85" y="169"/>
                          </a:lnTo>
                          <a:lnTo>
                            <a:pt x="90" y="163"/>
                          </a:lnTo>
                          <a:lnTo>
                            <a:pt x="94" y="157"/>
                          </a:lnTo>
                          <a:lnTo>
                            <a:pt x="98" y="150"/>
                          </a:lnTo>
                          <a:lnTo>
                            <a:pt x="102" y="143"/>
                          </a:lnTo>
                          <a:lnTo>
                            <a:pt x="105" y="136"/>
                          </a:lnTo>
                          <a:lnTo>
                            <a:pt x="109" y="127"/>
                          </a:lnTo>
                          <a:lnTo>
                            <a:pt x="112" y="119"/>
                          </a:lnTo>
                          <a:lnTo>
                            <a:pt x="114" y="112"/>
                          </a:lnTo>
                          <a:lnTo>
                            <a:pt x="117" y="105"/>
                          </a:lnTo>
                          <a:lnTo>
                            <a:pt x="120" y="100"/>
                          </a:lnTo>
                          <a:lnTo>
                            <a:pt x="121" y="96"/>
                          </a:lnTo>
                          <a:lnTo>
                            <a:pt x="124" y="91"/>
                          </a:lnTo>
                          <a:lnTo>
                            <a:pt x="128" y="85"/>
                          </a:lnTo>
                          <a:lnTo>
                            <a:pt x="133" y="78"/>
                          </a:lnTo>
                          <a:lnTo>
                            <a:pt x="138" y="71"/>
                          </a:lnTo>
                          <a:lnTo>
                            <a:pt x="144" y="62"/>
                          </a:lnTo>
                          <a:lnTo>
                            <a:pt x="150" y="54"/>
                          </a:lnTo>
                          <a:lnTo>
                            <a:pt x="157" y="46"/>
                          </a:lnTo>
                          <a:lnTo>
                            <a:pt x="162" y="40"/>
                          </a:lnTo>
                          <a:lnTo>
                            <a:pt x="169" y="34"/>
                          </a:lnTo>
                          <a:lnTo>
                            <a:pt x="173" y="29"/>
                          </a:lnTo>
                          <a:lnTo>
                            <a:pt x="180" y="26"/>
                          </a:lnTo>
                          <a:lnTo>
                            <a:pt x="189" y="21"/>
                          </a:lnTo>
                          <a:lnTo>
                            <a:pt x="200" y="16"/>
                          </a:lnTo>
                          <a:lnTo>
                            <a:pt x="212" y="13"/>
                          </a:lnTo>
                          <a:lnTo>
                            <a:pt x="226" y="8"/>
                          </a:lnTo>
                          <a:lnTo>
                            <a:pt x="241" y="5"/>
                          </a:lnTo>
                          <a:lnTo>
                            <a:pt x="257" y="2"/>
                          </a:lnTo>
                          <a:lnTo>
                            <a:pt x="273" y="1"/>
                          </a:lnTo>
                          <a:lnTo>
                            <a:pt x="289" y="0"/>
                          </a:lnTo>
                          <a:lnTo>
                            <a:pt x="305" y="1"/>
                          </a:lnTo>
                          <a:close/>
                        </a:path>
                      </a:pathLst>
                    </a:custGeom>
                    <a:solidFill>
                      <a:srgbClr val="fade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>
                      <a:off x="545040" y="1830600"/>
                      <a:ext cx="17064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2" h="215">
                          <a:moveTo>
                            <a:pt x="261" y="1"/>
                          </a:moveTo>
                          <a:lnTo>
                            <a:pt x="261" y="3"/>
                          </a:lnTo>
                          <a:lnTo>
                            <a:pt x="261" y="5"/>
                          </a:lnTo>
                          <a:lnTo>
                            <a:pt x="261" y="10"/>
                          </a:lnTo>
                          <a:lnTo>
                            <a:pt x="260" y="14"/>
                          </a:lnTo>
                          <a:lnTo>
                            <a:pt x="260" y="19"/>
                          </a:lnTo>
                          <a:lnTo>
                            <a:pt x="260" y="25"/>
                          </a:lnTo>
                          <a:lnTo>
                            <a:pt x="258" y="31"/>
                          </a:lnTo>
                          <a:lnTo>
                            <a:pt x="258" y="36"/>
                          </a:lnTo>
                          <a:lnTo>
                            <a:pt x="258" y="39"/>
                          </a:lnTo>
                          <a:lnTo>
                            <a:pt x="258" y="43"/>
                          </a:lnTo>
                          <a:lnTo>
                            <a:pt x="258" y="45"/>
                          </a:lnTo>
                          <a:lnTo>
                            <a:pt x="258" y="51"/>
                          </a:lnTo>
                          <a:lnTo>
                            <a:pt x="258" y="57"/>
                          </a:lnTo>
                          <a:lnTo>
                            <a:pt x="260" y="65"/>
                          </a:lnTo>
                          <a:lnTo>
                            <a:pt x="260" y="72"/>
                          </a:lnTo>
                          <a:lnTo>
                            <a:pt x="261" y="79"/>
                          </a:lnTo>
                          <a:lnTo>
                            <a:pt x="262" y="86"/>
                          </a:lnTo>
                          <a:lnTo>
                            <a:pt x="262" y="92"/>
                          </a:lnTo>
                          <a:lnTo>
                            <a:pt x="262" y="96"/>
                          </a:lnTo>
                          <a:lnTo>
                            <a:pt x="262" y="97"/>
                          </a:lnTo>
                          <a:lnTo>
                            <a:pt x="262" y="97"/>
                          </a:lnTo>
                          <a:lnTo>
                            <a:pt x="261" y="97"/>
                          </a:lnTo>
                          <a:lnTo>
                            <a:pt x="258" y="96"/>
                          </a:lnTo>
                          <a:lnTo>
                            <a:pt x="256" y="96"/>
                          </a:lnTo>
                          <a:lnTo>
                            <a:pt x="253" y="96"/>
                          </a:lnTo>
                          <a:lnTo>
                            <a:pt x="249" y="96"/>
                          </a:lnTo>
                          <a:lnTo>
                            <a:pt x="245" y="96"/>
                          </a:lnTo>
                          <a:lnTo>
                            <a:pt x="240" y="97"/>
                          </a:lnTo>
                          <a:lnTo>
                            <a:pt x="236" y="98"/>
                          </a:lnTo>
                          <a:lnTo>
                            <a:pt x="230" y="99"/>
                          </a:lnTo>
                          <a:lnTo>
                            <a:pt x="225" y="102"/>
                          </a:lnTo>
                          <a:lnTo>
                            <a:pt x="220" y="104"/>
                          </a:lnTo>
                          <a:lnTo>
                            <a:pt x="213" y="109"/>
                          </a:lnTo>
                          <a:lnTo>
                            <a:pt x="205" y="112"/>
                          </a:lnTo>
                          <a:lnTo>
                            <a:pt x="197" y="117"/>
                          </a:lnTo>
                          <a:lnTo>
                            <a:pt x="190" y="123"/>
                          </a:lnTo>
                          <a:lnTo>
                            <a:pt x="182" y="128"/>
                          </a:lnTo>
                          <a:lnTo>
                            <a:pt x="176" y="132"/>
                          </a:lnTo>
                          <a:lnTo>
                            <a:pt x="169" y="136"/>
                          </a:lnTo>
                          <a:lnTo>
                            <a:pt x="164" y="140"/>
                          </a:lnTo>
                          <a:lnTo>
                            <a:pt x="160" y="144"/>
                          </a:lnTo>
                          <a:lnTo>
                            <a:pt x="154" y="149"/>
                          </a:lnTo>
                          <a:lnTo>
                            <a:pt x="149" y="154"/>
                          </a:lnTo>
                          <a:lnTo>
                            <a:pt x="145" y="160"/>
                          </a:lnTo>
                          <a:lnTo>
                            <a:pt x="140" y="166"/>
                          </a:lnTo>
                          <a:lnTo>
                            <a:pt x="134" y="170"/>
                          </a:lnTo>
                          <a:lnTo>
                            <a:pt x="130" y="176"/>
                          </a:lnTo>
                          <a:lnTo>
                            <a:pt x="125" y="181"/>
                          </a:lnTo>
                          <a:lnTo>
                            <a:pt x="121" y="184"/>
                          </a:lnTo>
                          <a:lnTo>
                            <a:pt x="117" y="187"/>
                          </a:lnTo>
                          <a:lnTo>
                            <a:pt x="113" y="189"/>
                          </a:lnTo>
                          <a:lnTo>
                            <a:pt x="108" y="193"/>
                          </a:lnTo>
                          <a:lnTo>
                            <a:pt x="102" y="196"/>
                          </a:lnTo>
                          <a:lnTo>
                            <a:pt x="97" y="200"/>
                          </a:lnTo>
                          <a:lnTo>
                            <a:pt x="92" y="203"/>
                          </a:lnTo>
                          <a:lnTo>
                            <a:pt x="86" y="207"/>
                          </a:lnTo>
                          <a:lnTo>
                            <a:pt x="81" y="210"/>
                          </a:lnTo>
                          <a:lnTo>
                            <a:pt x="74" y="213"/>
                          </a:lnTo>
                          <a:lnTo>
                            <a:pt x="69" y="214"/>
                          </a:lnTo>
                          <a:lnTo>
                            <a:pt x="64" y="215"/>
                          </a:lnTo>
                          <a:lnTo>
                            <a:pt x="60" y="215"/>
                          </a:lnTo>
                          <a:lnTo>
                            <a:pt x="54" y="215"/>
                          </a:lnTo>
                          <a:lnTo>
                            <a:pt x="49" y="214"/>
                          </a:lnTo>
                          <a:lnTo>
                            <a:pt x="44" y="213"/>
                          </a:lnTo>
                          <a:lnTo>
                            <a:pt x="38" y="213"/>
                          </a:lnTo>
                          <a:lnTo>
                            <a:pt x="34" y="212"/>
                          </a:lnTo>
                          <a:lnTo>
                            <a:pt x="30" y="210"/>
                          </a:lnTo>
                          <a:lnTo>
                            <a:pt x="26" y="209"/>
                          </a:lnTo>
                          <a:lnTo>
                            <a:pt x="24" y="207"/>
                          </a:lnTo>
                          <a:lnTo>
                            <a:pt x="21" y="206"/>
                          </a:lnTo>
                          <a:lnTo>
                            <a:pt x="18" y="204"/>
                          </a:lnTo>
                          <a:lnTo>
                            <a:pt x="16" y="203"/>
                          </a:lnTo>
                          <a:lnTo>
                            <a:pt x="13" y="201"/>
                          </a:lnTo>
                          <a:lnTo>
                            <a:pt x="10" y="200"/>
                          </a:lnTo>
                          <a:lnTo>
                            <a:pt x="8" y="199"/>
                          </a:lnTo>
                          <a:lnTo>
                            <a:pt x="5" y="196"/>
                          </a:lnTo>
                          <a:lnTo>
                            <a:pt x="4" y="195"/>
                          </a:lnTo>
                          <a:lnTo>
                            <a:pt x="1" y="194"/>
                          </a:lnTo>
                          <a:lnTo>
                            <a:pt x="1" y="194"/>
                          </a:lnTo>
                          <a:lnTo>
                            <a:pt x="0" y="194"/>
                          </a:lnTo>
                          <a:lnTo>
                            <a:pt x="0" y="193"/>
                          </a:lnTo>
                          <a:lnTo>
                            <a:pt x="1" y="193"/>
                          </a:lnTo>
                          <a:lnTo>
                            <a:pt x="2" y="191"/>
                          </a:lnTo>
                          <a:lnTo>
                            <a:pt x="4" y="189"/>
                          </a:lnTo>
                          <a:lnTo>
                            <a:pt x="6" y="188"/>
                          </a:lnTo>
                          <a:lnTo>
                            <a:pt x="9" y="186"/>
                          </a:lnTo>
                          <a:lnTo>
                            <a:pt x="10" y="183"/>
                          </a:lnTo>
                          <a:lnTo>
                            <a:pt x="13" y="182"/>
                          </a:lnTo>
                          <a:lnTo>
                            <a:pt x="16" y="181"/>
                          </a:lnTo>
                          <a:lnTo>
                            <a:pt x="18" y="180"/>
                          </a:lnTo>
                          <a:lnTo>
                            <a:pt x="21" y="179"/>
                          </a:lnTo>
                          <a:lnTo>
                            <a:pt x="26" y="176"/>
                          </a:lnTo>
                          <a:lnTo>
                            <a:pt x="32" y="173"/>
                          </a:lnTo>
                          <a:lnTo>
                            <a:pt x="38" y="169"/>
                          </a:lnTo>
                          <a:lnTo>
                            <a:pt x="45" y="164"/>
                          </a:lnTo>
                          <a:lnTo>
                            <a:pt x="53" y="160"/>
                          </a:lnTo>
                          <a:lnTo>
                            <a:pt x="60" y="155"/>
                          </a:lnTo>
                          <a:lnTo>
                            <a:pt x="66" y="150"/>
                          </a:lnTo>
                          <a:lnTo>
                            <a:pt x="73" y="144"/>
                          </a:lnTo>
                          <a:lnTo>
                            <a:pt x="77" y="140"/>
                          </a:lnTo>
                          <a:lnTo>
                            <a:pt x="81" y="135"/>
                          </a:lnTo>
                          <a:lnTo>
                            <a:pt x="84" y="129"/>
                          </a:lnTo>
                          <a:lnTo>
                            <a:pt x="88" y="123"/>
                          </a:lnTo>
                          <a:lnTo>
                            <a:pt x="90" y="116"/>
                          </a:lnTo>
                          <a:lnTo>
                            <a:pt x="93" y="109"/>
                          </a:lnTo>
                          <a:lnTo>
                            <a:pt x="96" y="103"/>
                          </a:lnTo>
                          <a:lnTo>
                            <a:pt x="98" y="96"/>
                          </a:lnTo>
                          <a:lnTo>
                            <a:pt x="100" y="91"/>
                          </a:lnTo>
                          <a:lnTo>
                            <a:pt x="102" y="86"/>
                          </a:lnTo>
                          <a:lnTo>
                            <a:pt x="104" y="82"/>
                          </a:lnTo>
                          <a:lnTo>
                            <a:pt x="106" y="78"/>
                          </a:lnTo>
                          <a:lnTo>
                            <a:pt x="110" y="73"/>
                          </a:lnTo>
                          <a:lnTo>
                            <a:pt x="114" y="68"/>
                          </a:lnTo>
                          <a:lnTo>
                            <a:pt x="118" y="60"/>
                          </a:lnTo>
                          <a:lnTo>
                            <a:pt x="124" y="53"/>
                          </a:lnTo>
                          <a:lnTo>
                            <a:pt x="129" y="47"/>
                          </a:lnTo>
                          <a:lnTo>
                            <a:pt x="134" y="40"/>
                          </a:lnTo>
                          <a:lnTo>
                            <a:pt x="140" y="35"/>
                          </a:lnTo>
                          <a:lnTo>
                            <a:pt x="144" y="30"/>
                          </a:lnTo>
                          <a:lnTo>
                            <a:pt x="149" y="25"/>
                          </a:lnTo>
                          <a:lnTo>
                            <a:pt x="154" y="23"/>
                          </a:lnTo>
                          <a:lnTo>
                            <a:pt x="161" y="18"/>
                          </a:lnTo>
                          <a:lnTo>
                            <a:pt x="170" y="14"/>
                          </a:lnTo>
                          <a:lnTo>
                            <a:pt x="181" y="11"/>
                          </a:lnTo>
                          <a:lnTo>
                            <a:pt x="193" y="7"/>
                          </a:lnTo>
                          <a:lnTo>
                            <a:pt x="206" y="5"/>
                          </a:lnTo>
                          <a:lnTo>
                            <a:pt x="220" y="3"/>
                          </a:lnTo>
                          <a:lnTo>
                            <a:pt x="234" y="1"/>
                          </a:lnTo>
                          <a:lnTo>
                            <a:pt x="248" y="0"/>
                          </a:lnTo>
                          <a:lnTo>
                            <a:pt x="261" y="1"/>
                          </a:lnTo>
                          <a:close/>
                        </a:path>
                      </a:pathLst>
                    </a:custGeom>
                    <a:solidFill>
                      <a:srgbClr val="fae2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>
                      <a:off x="560880" y="1841040"/>
                      <a:ext cx="141840" cy="11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179">
                          <a:moveTo>
                            <a:pt x="217" y="1"/>
                          </a:moveTo>
                          <a:lnTo>
                            <a:pt x="218" y="2"/>
                          </a:lnTo>
                          <a:lnTo>
                            <a:pt x="217" y="4"/>
                          </a:lnTo>
                          <a:lnTo>
                            <a:pt x="217" y="7"/>
                          </a:lnTo>
                          <a:lnTo>
                            <a:pt x="217" y="11"/>
                          </a:lnTo>
                          <a:lnTo>
                            <a:pt x="216" y="16"/>
                          </a:lnTo>
                          <a:lnTo>
                            <a:pt x="216" y="21"/>
                          </a:lnTo>
                          <a:lnTo>
                            <a:pt x="216" y="26"/>
                          </a:lnTo>
                          <a:lnTo>
                            <a:pt x="216" y="29"/>
                          </a:lnTo>
                          <a:lnTo>
                            <a:pt x="214" y="33"/>
                          </a:lnTo>
                          <a:lnTo>
                            <a:pt x="214" y="35"/>
                          </a:lnTo>
                          <a:lnTo>
                            <a:pt x="214" y="37"/>
                          </a:lnTo>
                          <a:lnTo>
                            <a:pt x="216" y="42"/>
                          </a:lnTo>
                          <a:lnTo>
                            <a:pt x="216" y="47"/>
                          </a:lnTo>
                          <a:lnTo>
                            <a:pt x="216" y="54"/>
                          </a:lnTo>
                          <a:lnTo>
                            <a:pt x="217" y="60"/>
                          </a:lnTo>
                          <a:lnTo>
                            <a:pt x="217" y="66"/>
                          </a:lnTo>
                          <a:lnTo>
                            <a:pt x="218" y="72"/>
                          </a:lnTo>
                          <a:lnTo>
                            <a:pt x="218" y="76"/>
                          </a:lnTo>
                          <a:lnTo>
                            <a:pt x="218" y="79"/>
                          </a:lnTo>
                          <a:lnTo>
                            <a:pt x="218" y="80"/>
                          </a:lnTo>
                          <a:lnTo>
                            <a:pt x="218" y="80"/>
                          </a:lnTo>
                          <a:lnTo>
                            <a:pt x="217" y="80"/>
                          </a:lnTo>
                          <a:lnTo>
                            <a:pt x="216" y="80"/>
                          </a:lnTo>
                          <a:lnTo>
                            <a:pt x="213" y="80"/>
                          </a:lnTo>
                          <a:lnTo>
                            <a:pt x="210" y="80"/>
                          </a:lnTo>
                          <a:lnTo>
                            <a:pt x="208" y="80"/>
                          </a:lnTo>
                          <a:lnTo>
                            <a:pt x="204" y="80"/>
                          </a:lnTo>
                          <a:lnTo>
                            <a:pt x="200" y="80"/>
                          </a:lnTo>
                          <a:lnTo>
                            <a:pt x="196" y="81"/>
                          </a:lnTo>
                          <a:lnTo>
                            <a:pt x="192" y="82"/>
                          </a:lnTo>
                          <a:lnTo>
                            <a:pt x="188" y="85"/>
                          </a:lnTo>
                          <a:lnTo>
                            <a:pt x="182" y="87"/>
                          </a:lnTo>
                          <a:lnTo>
                            <a:pt x="177" y="89"/>
                          </a:lnTo>
                          <a:lnTo>
                            <a:pt x="170" y="94"/>
                          </a:lnTo>
                          <a:lnTo>
                            <a:pt x="165" y="98"/>
                          </a:lnTo>
                          <a:lnTo>
                            <a:pt x="158" y="101"/>
                          </a:lnTo>
                          <a:lnTo>
                            <a:pt x="152" y="106"/>
                          </a:lnTo>
                          <a:lnTo>
                            <a:pt x="146" y="109"/>
                          </a:lnTo>
                          <a:lnTo>
                            <a:pt x="141" y="113"/>
                          </a:lnTo>
                          <a:lnTo>
                            <a:pt x="137" y="116"/>
                          </a:lnTo>
                          <a:lnTo>
                            <a:pt x="133" y="120"/>
                          </a:lnTo>
                          <a:lnTo>
                            <a:pt x="129" y="124"/>
                          </a:lnTo>
                          <a:lnTo>
                            <a:pt x="125" y="128"/>
                          </a:lnTo>
                          <a:lnTo>
                            <a:pt x="121" y="132"/>
                          </a:lnTo>
                          <a:lnTo>
                            <a:pt x="116" y="137"/>
                          </a:lnTo>
                          <a:lnTo>
                            <a:pt x="112" y="141"/>
                          </a:lnTo>
                          <a:lnTo>
                            <a:pt x="108" y="146"/>
                          </a:lnTo>
                          <a:lnTo>
                            <a:pt x="104" y="150"/>
                          </a:lnTo>
                          <a:lnTo>
                            <a:pt x="101" y="153"/>
                          </a:lnTo>
                          <a:lnTo>
                            <a:pt x="97" y="155"/>
                          </a:lnTo>
                          <a:lnTo>
                            <a:pt x="94" y="157"/>
                          </a:lnTo>
                          <a:lnTo>
                            <a:pt x="90" y="160"/>
                          </a:lnTo>
                          <a:lnTo>
                            <a:pt x="85" y="163"/>
                          </a:lnTo>
                          <a:lnTo>
                            <a:pt x="81" y="166"/>
                          </a:lnTo>
                          <a:lnTo>
                            <a:pt x="77" y="170"/>
                          </a:lnTo>
                          <a:lnTo>
                            <a:pt x="72" y="172"/>
                          </a:lnTo>
                          <a:lnTo>
                            <a:pt x="66" y="174"/>
                          </a:lnTo>
                          <a:lnTo>
                            <a:pt x="62" y="177"/>
                          </a:lnTo>
                          <a:lnTo>
                            <a:pt x="58" y="178"/>
                          </a:lnTo>
                          <a:lnTo>
                            <a:pt x="53" y="179"/>
                          </a:lnTo>
                          <a:lnTo>
                            <a:pt x="49" y="179"/>
                          </a:lnTo>
                          <a:lnTo>
                            <a:pt x="45" y="178"/>
                          </a:lnTo>
                          <a:lnTo>
                            <a:pt x="41" y="178"/>
                          </a:lnTo>
                          <a:lnTo>
                            <a:pt x="37" y="177"/>
                          </a:lnTo>
                          <a:lnTo>
                            <a:pt x="33" y="177"/>
                          </a:lnTo>
                          <a:lnTo>
                            <a:pt x="29" y="175"/>
                          </a:lnTo>
                          <a:lnTo>
                            <a:pt x="25" y="174"/>
                          </a:lnTo>
                          <a:lnTo>
                            <a:pt x="22" y="173"/>
                          </a:lnTo>
                          <a:lnTo>
                            <a:pt x="20" y="172"/>
                          </a:lnTo>
                          <a:lnTo>
                            <a:pt x="17" y="171"/>
                          </a:lnTo>
                          <a:lnTo>
                            <a:pt x="16" y="170"/>
                          </a:lnTo>
                          <a:lnTo>
                            <a:pt x="13" y="168"/>
                          </a:lnTo>
                          <a:lnTo>
                            <a:pt x="10" y="167"/>
                          </a:lnTo>
                          <a:lnTo>
                            <a:pt x="8" y="166"/>
                          </a:lnTo>
                          <a:lnTo>
                            <a:pt x="6" y="165"/>
                          </a:lnTo>
                          <a:lnTo>
                            <a:pt x="4" y="164"/>
                          </a:lnTo>
                          <a:lnTo>
                            <a:pt x="2" y="163"/>
                          </a:lnTo>
                          <a:lnTo>
                            <a:pt x="1" y="161"/>
                          </a:lnTo>
                          <a:lnTo>
                            <a:pt x="0" y="161"/>
                          </a:lnTo>
                          <a:lnTo>
                            <a:pt x="0" y="161"/>
                          </a:lnTo>
                          <a:lnTo>
                            <a:pt x="0" y="160"/>
                          </a:lnTo>
                          <a:lnTo>
                            <a:pt x="1" y="160"/>
                          </a:lnTo>
                          <a:lnTo>
                            <a:pt x="2" y="159"/>
                          </a:lnTo>
                          <a:lnTo>
                            <a:pt x="4" y="158"/>
                          </a:lnTo>
                          <a:lnTo>
                            <a:pt x="5" y="155"/>
                          </a:lnTo>
                          <a:lnTo>
                            <a:pt x="6" y="154"/>
                          </a:lnTo>
                          <a:lnTo>
                            <a:pt x="9" y="153"/>
                          </a:lnTo>
                          <a:lnTo>
                            <a:pt x="10" y="152"/>
                          </a:lnTo>
                          <a:lnTo>
                            <a:pt x="13" y="151"/>
                          </a:lnTo>
                          <a:lnTo>
                            <a:pt x="14" y="150"/>
                          </a:lnTo>
                          <a:lnTo>
                            <a:pt x="17" y="148"/>
                          </a:lnTo>
                          <a:lnTo>
                            <a:pt x="21" y="146"/>
                          </a:lnTo>
                          <a:lnTo>
                            <a:pt x="26" y="144"/>
                          </a:lnTo>
                          <a:lnTo>
                            <a:pt x="32" y="140"/>
                          </a:lnTo>
                          <a:lnTo>
                            <a:pt x="38" y="137"/>
                          </a:lnTo>
                          <a:lnTo>
                            <a:pt x="44" y="133"/>
                          </a:lnTo>
                          <a:lnTo>
                            <a:pt x="50" y="128"/>
                          </a:lnTo>
                          <a:lnTo>
                            <a:pt x="56" y="125"/>
                          </a:lnTo>
                          <a:lnTo>
                            <a:pt x="60" y="120"/>
                          </a:lnTo>
                          <a:lnTo>
                            <a:pt x="64" y="116"/>
                          </a:lnTo>
                          <a:lnTo>
                            <a:pt x="68" y="112"/>
                          </a:lnTo>
                          <a:lnTo>
                            <a:pt x="70" y="107"/>
                          </a:lnTo>
                          <a:lnTo>
                            <a:pt x="73" y="102"/>
                          </a:lnTo>
                          <a:lnTo>
                            <a:pt x="76" y="96"/>
                          </a:lnTo>
                          <a:lnTo>
                            <a:pt x="77" y="91"/>
                          </a:lnTo>
                          <a:lnTo>
                            <a:pt x="80" y="85"/>
                          </a:lnTo>
                          <a:lnTo>
                            <a:pt x="81" y="80"/>
                          </a:lnTo>
                          <a:lnTo>
                            <a:pt x="84" y="75"/>
                          </a:lnTo>
                          <a:lnTo>
                            <a:pt x="85" y="72"/>
                          </a:lnTo>
                          <a:lnTo>
                            <a:pt x="86" y="68"/>
                          </a:lnTo>
                          <a:lnTo>
                            <a:pt x="89" y="65"/>
                          </a:lnTo>
                          <a:lnTo>
                            <a:pt x="92" y="61"/>
                          </a:lnTo>
                          <a:lnTo>
                            <a:pt x="94" y="56"/>
                          </a:lnTo>
                          <a:lnTo>
                            <a:pt x="98" y="50"/>
                          </a:lnTo>
                          <a:lnTo>
                            <a:pt x="102" y="44"/>
                          </a:lnTo>
                          <a:lnTo>
                            <a:pt x="108" y="39"/>
                          </a:lnTo>
                          <a:lnTo>
                            <a:pt x="112" y="33"/>
                          </a:lnTo>
                          <a:lnTo>
                            <a:pt x="116" y="28"/>
                          </a:lnTo>
                          <a:lnTo>
                            <a:pt x="120" y="24"/>
                          </a:lnTo>
                          <a:lnTo>
                            <a:pt x="124" y="21"/>
                          </a:lnTo>
                          <a:lnTo>
                            <a:pt x="129" y="19"/>
                          </a:lnTo>
                          <a:lnTo>
                            <a:pt x="134" y="15"/>
                          </a:lnTo>
                          <a:lnTo>
                            <a:pt x="142" y="11"/>
                          </a:lnTo>
                          <a:lnTo>
                            <a:pt x="152" y="9"/>
                          </a:lnTo>
                          <a:lnTo>
                            <a:pt x="161" y="6"/>
                          </a:lnTo>
                          <a:lnTo>
                            <a:pt x="172" y="3"/>
                          </a:lnTo>
                          <a:lnTo>
                            <a:pt x="184" y="2"/>
                          </a:lnTo>
                          <a:lnTo>
                            <a:pt x="194" y="1"/>
                          </a:lnTo>
                          <a:lnTo>
                            <a:pt x="206" y="0"/>
                          </a:lnTo>
                          <a:lnTo>
                            <a:pt x="218" y="1"/>
                          </a:lnTo>
                          <a:lnTo>
                            <a:pt x="217" y="1"/>
                          </a:lnTo>
                          <a:close/>
                        </a:path>
                      </a:pathLst>
                    </a:custGeom>
                    <a:solidFill>
                      <a:srgbClr val="fae6b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576360" y="1851480"/>
                      <a:ext cx="114480" cy="9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" h="143">
                          <a:moveTo>
                            <a:pt x="174" y="0"/>
                          </a:moveTo>
                          <a:lnTo>
                            <a:pt x="174" y="1"/>
                          </a:lnTo>
                          <a:lnTo>
                            <a:pt x="174" y="3"/>
                          </a:lnTo>
                          <a:lnTo>
                            <a:pt x="174" y="5"/>
                          </a:lnTo>
                          <a:lnTo>
                            <a:pt x="173" y="8"/>
                          </a:lnTo>
                          <a:lnTo>
                            <a:pt x="173" y="12"/>
                          </a:lnTo>
                          <a:lnTo>
                            <a:pt x="173" y="15"/>
                          </a:lnTo>
                          <a:lnTo>
                            <a:pt x="172" y="19"/>
                          </a:lnTo>
                          <a:lnTo>
                            <a:pt x="172" y="23"/>
                          </a:lnTo>
                          <a:lnTo>
                            <a:pt x="172" y="26"/>
                          </a:lnTo>
                          <a:lnTo>
                            <a:pt x="172" y="27"/>
                          </a:lnTo>
                          <a:lnTo>
                            <a:pt x="172" y="30"/>
                          </a:lnTo>
                          <a:lnTo>
                            <a:pt x="172" y="33"/>
                          </a:lnTo>
                          <a:lnTo>
                            <a:pt x="173" y="37"/>
                          </a:lnTo>
                          <a:lnTo>
                            <a:pt x="173" y="43"/>
                          </a:lnTo>
                          <a:lnTo>
                            <a:pt x="173" y="47"/>
                          </a:lnTo>
                          <a:lnTo>
                            <a:pt x="174" y="52"/>
                          </a:lnTo>
                          <a:lnTo>
                            <a:pt x="174" y="57"/>
                          </a:lnTo>
                          <a:lnTo>
                            <a:pt x="174" y="60"/>
                          </a:lnTo>
                          <a:lnTo>
                            <a:pt x="174" y="63"/>
                          </a:lnTo>
                          <a:lnTo>
                            <a:pt x="176" y="64"/>
                          </a:lnTo>
                          <a:lnTo>
                            <a:pt x="174" y="64"/>
                          </a:lnTo>
                          <a:lnTo>
                            <a:pt x="174" y="64"/>
                          </a:lnTo>
                          <a:lnTo>
                            <a:pt x="173" y="64"/>
                          </a:lnTo>
                          <a:lnTo>
                            <a:pt x="170" y="63"/>
                          </a:lnTo>
                          <a:lnTo>
                            <a:pt x="168" y="63"/>
                          </a:lnTo>
                          <a:lnTo>
                            <a:pt x="166" y="63"/>
                          </a:lnTo>
                          <a:lnTo>
                            <a:pt x="162" y="63"/>
                          </a:lnTo>
                          <a:lnTo>
                            <a:pt x="160" y="64"/>
                          </a:lnTo>
                          <a:lnTo>
                            <a:pt x="157" y="64"/>
                          </a:lnTo>
                          <a:lnTo>
                            <a:pt x="154" y="65"/>
                          </a:lnTo>
                          <a:lnTo>
                            <a:pt x="150" y="66"/>
                          </a:lnTo>
                          <a:lnTo>
                            <a:pt x="146" y="69"/>
                          </a:lnTo>
                          <a:lnTo>
                            <a:pt x="141" y="71"/>
                          </a:lnTo>
                          <a:lnTo>
                            <a:pt x="137" y="75"/>
                          </a:lnTo>
                          <a:lnTo>
                            <a:pt x="132" y="77"/>
                          </a:lnTo>
                          <a:lnTo>
                            <a:pt x="126" y="80"/>
                          </a:lnTo>
                          <a:lnTo>
                            <a:pt x="121" y="84"/>
                          </a:lnTo>
                          <a:lnTo>
                            <a:pt x="117" y="87"/>
                          </a:lnTo>
                          <a:lnTo>
                            <a:pt x="113" y="90"/>
                          </a:lnTo>
                          <a:lnTo>
                            <a:pt x="109" y="92"/>
                          </a:lnTo>
                          <a:lnTo>
                            <a:pt x="106" y="95"/>
                          </a:lnTo>
                          <a:lnTo>
                            <a:pt x="102" y="98"/>
                          </a:lnTo>
                          <a:lnTo>
                            <a:pt x="100" y="102"/>
                          </a:lnTo>
                          <a:lnTo>
                            <a:pt x="96" y="105"/>
                          </a:lnTo>
                          <a:lnTo>
                            <a:pt x="93" y="109"/>
                          </a:lnTo>
                          <a:lnTo>
                            <a:pt x="89" y="112"/>
                          </a:lnTo>
                          <a:lnTo>
                            <a:pt x="86" y="116"/>
                          </a:lnTo>
                          <a:lnTo>
                            <a:pt x="84" y="119"/>
                          </a:lnTo>
                          <a:lnTo>
                            <a:pt x="80" y="122"/>
                          </a:lnTo>
                          <a:lnTo>
                            <a:pt x="77" y="124"/>
                          </a:lnTo>
                          <a:lnTo>
                            <a:pt x="74" y="125"/>
                          </a:lnTo>
                          <a:lnTo>
                            <a:pt x="72" y="128"/>
                          </a:lnTo>
                          <a:lnTo>
                            <a:pt x="69" y="130"/>
                          </a:lnTo>
                          <a:lnTo>
                            <a:pt x="65" y="132"/>
                          </a:lnTo>
                          <a:lnTo>
                            <a:pt x="61" y="135"/>
                          </a:lnTo>
                          <a:lnTo>
                            <a:pt x="57" y="137"/>
                          </a:lnTo>
                          <a:lnTo>
                            <a:pt x="53" y="139"/>
                          </a:lnTo>
                          <a:lnTo>
                            <a:pt x="50" y="141"/>
                          </a:lnTo>
                          <a:lnTo>
                            <a:pt x="46" y="142"/>
                          </a:lnTo>
                          <a:lnTo>
                            <a:pt x="42" y="143"/>
                          </a:lnTo>
                          <a:lnTo>
                            <a:pt x="40" y="142"/>
                          </a:lnTo>
                          <a:lnTo>
                            <a:pt x="36" y="142"/>
                          </a:lnTo>
                          <a:lnTo>
                            <a:pt x="33" y="142"/>
                          </a:lnTo>
                          <a:lnTo>
                            <a:pt x="29" y="141"/>
                          </a:lnTo>
                          <a:lnTo>
                            <a:pt x="26" y="141"/>
                          </a:lnTo>
                          <a:lnTo>
                            <a:pt x="22" y="139"/>
                          </a:lnTo>
                          <a:lnTo>
                            <a:pt x="20" y="139"/>
                          </a:lnTo>
                          <a:lnTo>
                            <a:pt x="17" y="138"/>
                          </a:lnTo>
                          <a:lnTo>
                            <a:pt x="16" y="137"/>
                          </a:lnTo>
                          <a:lnTo>
                            <a:pt x="13" y="136"/>
                          </a:lnTo>
                          <a:lnTo>
                            <a:pt x="12" y="136"/>
                          </a:lnTo>
                          <a:lnTo>
                            <a:pt x="10" y="135"/>
                          </a:lnTo>
                          <a:lnTo>
                            <a:pt x="8" y="134"/>
                          </a:lnTo>
                          <a:lnTo>
                            <a:pt x="6" y="132"/>
                          </a:lnTo>
                          <a:lnTo>
                            <a:pt x="5" y="131"/>
                          </a:lnTo>
                          <a:lnTo>
                            <a:pt x="4" y="130"/>
                          </a:lnTo>
                          <a:lnTo>
                            <a:pt x="2" y="129"/>
                          </a:lnTo>
                          <a:lnTo>
                            <a:pt x="1" y="129"/>
                          </a:lnTo>
                          <a:lnTo>
                            <a:pt x="0" y="128"/>
                          </a:lnTo>
                          <a:lnTo>
                            <a:pt x="0" y="128"/>
                          </a:lnTo>
                          <a:lnTo>
                            <a:pt x="0" y="128"/>
                          </a:lnTo>
                          <a:lnTo>
                            <a:pt x="1" y="128"/>
                          </a:lnTo>
                          <a:lnTo>
                            <a:pt x="1" y="126"/>
                          </a:lnTo>
                          <a:lnTo>
                            <a:pt x="2" y="125"/>
                          </a:lnTo>
                          <a:lnTo>
                            <a:pt x="4" y="124"/>
                          </a:lnTo>
                          <a:lnTo>
                            <a:pt x="5" y="123"/>
                          </a:lnTo>
                          <a:lnTo>
                            <a:pt x="6" y="122"/>
                          </a:lnTo>
                          <a:lnTo>
                            <a:pt x="9" y="121"/>
                          </a:lnTo>
                          <a:lnTo>
                            <a:pt x="10" y="119"/>
                          </a:lnTo>
                          <a:lnTo>
                            <a:pt x="12" y="119"/>
                          </a:lnTo>
                          <a:lnTo>
                            <a:pt x="14" y="118"/>
                          </a:lnTo>
                          <a:lnTo>
                            <a:pt x="17" y="117"/>
                          </a:lnTo>
                          <a:lnTo>
                            <a:pt x="21" y="115"/>
                          </a:lnTo>
                          <a:lnTo>
                            <a:pt x="25" y="112"/>
                          </a:lnTo>
                          <a:lnTo>
                            <a:pt x="30" y="109"/>
                          </a:lnTo>
                          <a:lnTo>
                            <a:pt x="36" y="105"/>
                          </a:lnTo>
                          <a:lnTo>
                            <a:pt x="40" y="103"/>
                          </a:lnTo>
                          <a:lnTo>
                            <a:pt x="44" y="99"/>
                          </a:lnTo>
                          <a:lnTo>
                            <a:pt x="48" y="96"/>
                          </a:lnTo>
                          <a:lnTo>
                            <a:pt x="52" y="92"/>
                          </a:lnTo>
                          <a:lnTo>
                            <a:pt x="53" y="89"/>
                          </a:lnTo>
                          <a:lnTo>
                            <a:pt x="56" y="85"/>
                          </a:lnTo>
                          <a:lnTo>
                            <a:pt x="58" y="82"/>
                          </a:lnTo>
                          <a:lnTo>
                            <a:pt x="60" y="77"/>
                          </a:lnTo>
                          <a:lnTo>
                            <a:pt x="62" y="72"/>
                          </a:lnTo>
                          <a:lnTo>
                            <a:pt x="64" y="67"/>
                          </a:lnTo>
                          <a:lnTo>
                            <a:pt x="65" y="64"/>
                          </a:lnTo>
                          <a:lnTo>
                            <a:pt x="66" y="59"/>
                          </a:lnTo>
                          <a:lnTo>
                            <a:pt x="68" y="57"/>
                          </a:lnTo>
                          <a:lnTo>
                            <a:pt x="69" y="54"/>
                          </a:lnTo>
                          <a:lnTo>
                            <a:pt x="70" y="51"/>
                          </a:lnTo>
                          <a:lnTo>
                            <a:pt x="73" y="49"/>
                          </a:lnTo>
                          <a:lnTo>
                            <a:pt x="76" y="44"/>
                          </a:lnTo>
                          <a:lnTo>
                            <a:pt x="78" y="39"/>
                          </a:lnTo>
                          <a:lnTo>
                            <a:pt x="82" y="36"/>
                          </a:lnTo>
                          <a:lnTo>
                            <a:pt x="85" y="31"/>
                          </a:lnTo>
                          <a:lnTo>
                            <a:pt x="89" y="26"/>
                          </a:lnTo>
                          <a:lnTo>
                            <a:pt x="93" y="21"/>
                          </a:lnTo>
                          <a:lnTo>
                            <a:pt x="96" y="19"/>
                          </a:lnTo>
                          <a:lnTo>
                            <a:pt x="100" y="15"/>
                          </a:lnTo>
                          <a:lnTo>
                            <a:pt x="102" y="14"/>
                          </a:lnTo>
                          <a:lnTo>
                            <a:pt x="108" y="12"/>
                          </a:lnTo>
                          <a:lnTo>
                            <a:pt x="114" y="8"/>
                          </a:lnTo>
                          <a:lnTo>
                            <a:pt x="121" y="6"/>
                          </a:lnTo>
                          <a:lnTo>
                            <a:pt x="129" y="4"/>
                          </a:lnTo>
                          <a:lnTo>
                            <a:pt x="137" y="3"/>
                          </a:lnTo>
                          <a:lnTo>
                            <a:pt x="146" y="1"/>
                          </a:lnTo>
                          <a:lnTo>
                            <a:pt x="156" y="0"/>
                          </a:lnTo>
                          <a:lnTo>
                            <a:pt x="165" y="0"/>
                          </a:lnTo>
                          <a:lnTo>
                            <a:pt x="174" y="0"/>
                          </a:lnTo>
                          <a:close/>
                        </a:path>
                      </a:pathLst>
                    </a:custGeom>
                    <a:solidFill>
                      <a:srgbClr val="faead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440" bIns="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592200" y="1861200"/>
                      <a:ext cx="8568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2" h="107">
                          <a:moveTo>
                            <a:pt x="130" y="0"/>
                          </a:moveTo>
                          <a:lnTo>
                            <a:pt x="130" y="0"/>
                          </a:lnTo>
                          <a:lnTo>
                            <a:pt x="130" y="2"/>
                          </a:lnTo>
                          <a:lnTo>
                            <a:pt x="130" y="4"/>
                          </a:lnTo>
                          <a:lnTo>
                            <a:pt x="130" y="6"/>
                          </a:lnTo>
                          <a:lnTo>
                            <a:pt x="129" y="10"/>
                          </a:lnTo>
                          <a:lnTo>
                            <a:pt x="129" y="12"/>
                          </a:lnTo>
                          <a:lnTo>
                            <a:pt x="129" y="15"/>
                          </a:lnTo>
                          <a:lnTo>
                            <a:pt x="129" y="17"/>
                          </a:lnTo>
                          <a:lnTo>
                            <a:pt x="129" y="19"/>
                          </a:lnTo>
                          <a:lnTo>
                            <a:pt x="129" y="21"/>
                          </a:lnTo>
                          <a:lnTo>
                            <a:pt x="129" y="23"/>
                          </a:lnTo>
                          <a:lnTo>
                            <a:pt x="129" y="25"/>
                          </a:lnTo>
                          <a:lnTo>
                            <a:pt x="129" y="29"/>
                          </a:lnTo>
                          <a:lnTo>
                            <a:pt x="129" y="32"/>
                          </a:lnTo>
                          <a:lnTo>
                            <a:pt x="130" y="36"/>
                          </a:lnTo>
                          <a:lnTo>
                            <a:pt x="130" y="39"/>
                          </a:lnTo>
                          <a:lnTo>
                            <a:pt x="130" y="43"/>
                          </a:lnTo>
                          <a:lnTo>
                            <a:pt x="130" y="45"/>
                          </a:lnTo>
                          <a:lnTo>
                            <a:pt x="132" y="48"/>
                          </a:lnTo>
                          <a:lnTo>
                            <a:pt x="132" y="48"/>
                          </a:lnTo>
                          <a:lnTo>
                            <a:pt x="130" y="48"/>
                          </a:lnTo>
                          <a:lnTo>
                            <a:pt x="130" y="48"/>
                          </a:lnTo>
                          <a:lnTo>
                            <a:pt x="129" y="48"/>
                          </a:lnTo>
                          <a:lnTo>
                            <a:pt x="128" y="48"/>
                          </a:lnTo>
                          <a:lnTo>
                            <a:pt x="126" y="48"/>
                          </a:lnTo>
                          <a:lnTo>
                            <a:pt x="124" y="48"/>
                          </a:lnTo>
                          <a:lnTo>
                            <a:pt x="122" y="48"/>
                          </a:lnTo>
                          <a:lnTo>
                            <a:pt x="120" y="48"/>
                          </a:lnTo>
                          <a:lnTo>
                            <a:pt x="117" y="49"/>
                          </a:lnTo>
                          <a:lnTo>
                            <a:pt x="116" y="49"/>
                          </a:lnTo>
                          <a:lnTo>
                            <a:pt x="113" y="50"/>
                          </a:lnTo>
                          <a:lnTo>
                            <a:pt x="109" y="52"/>
                          </a:lnTo>
                          <a:lnTo>
                            <a:pt x="106" y="54"/>
                          </a:lnTo>
                          <a:lnTo>
                            <a:pt x="102" y="56"/>
                          </a:lnTo>
                          <a:lnTo>
                            <a:pt x="98" y="58"/>
                          </a:lnTo>
                          <a:lnTo>
                            <a:pt x="94" y="61"/>
                          </a:lnTo>
                          <a:lnTo>
                            <a:pt x="90" y="63"/>
                          </a:lnTo>
                          <a:lnTo>
                            <a:pt x="88" y="65"/>
                          </a:lnTo>
                          <a:lnTo>
                            <a:pt x="85" y="68"/>
                          </a:lnTo>
                          <a:lnTo>
                            <a:pt x="82" y="70"/>
                          </a:lnTo>
                          <a:lnTo>
                            <a:pt x="80" y="71"/>
                          </a:lnTo>
                          <a:lnTo>
                            <a:pt x="77" y="74"/>
                          </a:lnTo>
                          <a:lnTo>
                            <a:pt x="74" y="76"/>
                          </a:lnTo>
                          <a:lnTo>
                            <a:pt x="72" y="80"/>
                          </a:lnTo>
                          <a:lnTo>
                            <a:pt x="69" y="82"/>
                          </a:lnTo>
                          <a:lnTo>
                            <a:pt x="68" y="85"/>
                          </a:lnTo>
                          <a:lnTo>
                            <a:pt x="65" y="88"/>
                          </a:lnTo>
                          <a:lnTo>
                            <a:pt x="62" y="90"/>
                          </a:lnTo>
                          <a:lnTo>
                            <a:pt x="60" y="91"/>
                          </a:lnTo>
                          <a:lnTo>
                            <a:pt x="58" y="93"/>
                          </a:lnTo>
                          <a:lnTo>
                            <a:pt x="56" y="94"/>
                          </a:lnTo>
                          <a:lnTo>
                            <a:pt x="54" y="96"/>
                          </a:lnTo>
                          <a:lnTo>
                            <a:pt x="52" y="97"/>
                          </a:lnTo>
                          <a:lnTo>
                            <a:pt x="49" y="100"/>
                          </a:lnTo>
                          <a:lnTo>
                            <a:pt x="46" y="101"/>
                          </a:lnTo>
                          <a:lnTo>
                            <a:pt x="42" y="103"/>
                          </a:lnTo>
                          <a:lnTo>
                            <a:pt x="40" y="104"/>
                          </a:lnTo>
                          <a:lnTo>
                            <a:pt x="37" y="106"/>
                          </a:lnTo>
                          <a:lnTo>
                            <a:pt x="34" y="107"/>
                          </a:lnTo>
                          <a:lnTo>
                            <a:pt x="32" y="107"/>
                          </a:lnTo>
                          <a:lnTo>
                            <a:pt x="29" y="107"/>
                          </a:lnTo>
                          <a:lnTo>
                            <a:pt x="26" y="107"/>
                          </a:lnTo>
                          <a:lnTo>
                            <a:pt x="24" y="107"/>
                          </a:lnTo>
                          <a:lnTo>
                            <a:pt x="21" y="107"/>
                          </a:lnTo>
                          <a:lnTo>
                            <a:pt x="20" y="106"/>
                          </a:lnTo>
                          <a:lnTo>
                            <a:pt x="17" y="106"/>
                          </a:lnTo>
                          <a:lnTo>
                            <a:pt x="14" y="104"/>
                          </a:lnTo>
                          <a:lnTo>
                            <a:pt x="13" y="104"/>
                          </a:lnTo>
                          <a:lnTo>
                            <a:pt x="12" y="103"/>
                          </a:lnTo>
                          <a:lnTo>
                            <a:pt x="10" y="103"/>
                          </a:lnTo>
                          <a:lnTo>
                            <a:pt x="9" y="102"/>
                          </a:lnTo>
                          <a:lnTo>
                            <a:pt x="8" y="101"/>
                          </a:lnTo>
                          <a:lnTo>
                            <a:pt x="6" y="101"/>
                          </a:lnTo>
                          <a:lnTo>
                            <a:pt x="5" y="100"/>
                          </a:lnTo>
                          <a:lnTo>
                            <a:pt x="4" y="98"/>
                          </a:lnTo>
                          <a:lnTo>
                            <a:pt x="2" y="98"/>
                          </a:lnTo>
                          <a:lnTo>
                            <a:pt x="1" y="97"/>
                          </a:lnTo>
                          <a:lnTo>
                            <a:pt x="1" y="97"/>
                          </a:lnTo>
                          <a:lnTo>
                            <a:pt x="0" y="96"/>
                          </a:lnTo>
                          <a:lnTo>
                            <a:pt x="0" y="96"/>
                          </a:lnTo>
                          <a:lnTo>
                            <a:pt x="0" y="96"/>
                          </a:lnTo>
                          <a:lnTo>
                            <a:pt x="0" y="96"/>
                          </a:lnTo>
                          <a:lnTo>
                            <a:pt x="1" y="95"/>
                          </a:lnTo>
                          <a:lnTo>
                            <a:pt x="2" y="94"/>
                          </a:lnTo>
                          <a:lnTo>
                            <a:pt x="2" y="94"/>
                          </a:lnTo>
                          <a:lnTo>
                            <a:pt x="4" y="93"/>
                          </a:lnTo>
                          <a:lnTo>
                            <a:pt x="5" y="91"/>
                          </a:lnTo>
                          <a:lnTo>
                            <a:pt x="6" y="90"/>
                          </a:lnTo>
                          <a:lnTo>
                            <a:pt x="8" y="90"/>
                          </a:lnTo>
                          <a:lnTo>
                            <a:pt x="9" y="89"/>
                          </a:lnTo>
                          <a:lnTo>
                            <a:pt x="10" y="89"/>
                          </a:lnTo>
                          <a:lnTo>
                            <a:pt x="13" y="88"/>
                          </a:lnTo>
                          <a:lnTo>
                            <a:pt x="16" y="87"/>
                          </a:lnTo>
                          <a:lnTo>
                            <a:pt x="18" y="84"/>
                          </a:lnTo>
                          <a:lnTo>
                            <a:pt x="22" y="82"/>
                          </a:lnTo>
                          <a:lnTo>
                            <a:pt x="26" y="80"/>
                          </a:lnTo>
                          <a:lnTo>
                            <a:pt x="30" y="77"/>
                          </a:lnTo>
                          <a:lnTo>
                            <a:pt x="33" y="75"/>
                          </a:lnTo>
                          <a:lnTo>
                            <a:pt x="36" y="72"/>
                          </a:lnTo>
                          <a:lnTo>
                            <a:pt x="38" y="70"/>
                          </a:lnTo>
                          <a:lnTo>
                            <a:pt x="40" y="68"/>
                          </a:lnTo>
                          <a:lnTo>
                            <a:pt x="42" y="64"/>
                          </a:lnTo>
                          <a:lnTo>
                            <a:pt x="44" y="61"/>
                          </a:lnTo>
                          <a:lnTo>
                            <a:pt x="45" y="58"/>
                          </a:lnTo>
                          <a:lnTo>
                            <a:pt x="46" y="55"/>
                          </a:lnTo>
                          <a:lnTo>
                            <a:pt x="48" y="51"/>
                          </a:lnTo>
                          <a:lnTo>
                            <a:pt x="49" y="48"/>
                          </a:lnTo>
                          <a:lnTo>
                            <a:pt x="50" y="45"/>
                          </a:lnTo>
                          <a:lnTo>
                            <a:pt x="50" y="43"/>
                          </a:lnTo>
                          <a:lnTo>
                            <a:pt x="52" y="41"/>
                          </a:lnTo>
                          <a:lnTo>
                            <a:pt x="53" y="38"/>
                          </a:lnTo>
                          <a:lnTo>
                            <a:pt x="54" y="36"/>
                          </a:lnTo>
                          <a:lnTo>
                            <a:pt x="57" y="34"/>
                          </a:lnTo>
                          <a:lnTo>
                            <a:pt x="58" y="30"/>
                          </a:lnTo>
                          <a:lnTo>
                            <a:pt x="61" y="26"/>
                          </a:lnTo>
                          <a:lnTo>
                            <a:pt x="64" y="23"/>
                          </a:lnTo>
                          <a:lnTo>
                            <a:pt x="66" y="19"/>
                          </a:lnTo>
                          <a:lnTo>
                            <a:pt x="69" y="17"/>
                          </a:lnTo>
                          <a:lnTo>
                            <a:pt x="72" y="15"/>
                          </a:lnTo>
                          <a:lnTo>
                            <a:pt x="74" y="12"/>
                          </a:lnTo>
                          <a:lnTo>
                            <a:pt x="77" y="11"/>
                          </a:lnTo>
                          <a:lnTo>
                            <a:pt x="81" y="9"/>
                          </a:lnTo>
                          <a:lnTo>
                            <a:pt x="85" y="8"/>
                          </a:lnTo>
                          <a:lnTo>
                            <a:pt x="90" y="5"/>
                          </a:lnTo>
                          <a:lnTo>
                            <a:pt x="97" y="4"/>
                          </a:lnTo>
                          <a:lnTo>
                            <a:pt x="104" y="2"/>
                          </a:lnTo>
                          <a:lnTo>
                            <a:pt x="110" y="0"/>
                          </a:lnTo>
                          <a:lnTo>
                            <a:pt x="117" y="0"/>
                          </a:lnTo>
                          <a:lnTo>
                            <a:pt x="124" y="0"/>
                          </a:lnTo>
                          <a:lnTo>
                            <a:pt x="130" y="0"/>
                          </a:lnTo>
                          <a:close/>
                        </a:path>
                      </a:pathLst>
                    </a:custGeom>
                    <a:solidFill>
                      <a:srgbClr val="faede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777960" y="1888920"/>
                      <a:ext cx="452520" cy="38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5" h="596">
                          <a:moveTo>
                            <a:pt x="7" y="20"/>
                          </a:moveTo>
                          <a:lnTo>
                            <a:pt x="8" y="21"/>
                          </a:lnTo>
                          <a:lnTo>
                            <a:pt x="12" y="20"/>
                          </a:lnTo>
                          <a:lnTo>
                            <a:pt x="16" y="20"/>
                          </a:lnTo>
                          <a:lnTo>
                            <a:pt x="23" y="20"/>
                          </a:lnTo>
                          <a:lnTo>
                            <a:pt x="29" y="20"/>
                          </a:lnTo>
                          <a:lnTo>
                            <a:pt x="36" y="20"/>
                          </a:lnTo>
                          <a:lnTo>
                            <a:pt x="43" y="20"/>
                          </a:lnTo>
                          <a:lnTo>
                            <a:pt x="49" y="21"/>
                          </a:lnTo>
                          <a:lnTo>
                            <a:pt x="55" y="23"/>
                          </a:lnTo>
                          <a:lnTo>
                            <a:pt x="59" y="26"/>
                          </a:lnTo>
                          <a:lnTo>
                            <a:pt x="63" y="29"/>
                          </a:lnTo>
                          <a:lnTo>
                            <a:pt x="69" y="34"/>
                          </a:lnTo>
                          <a:lnTo>
                            <a:pt x="76" y="41"/>
                          </a:lnTo>
                          <a:lnTo>
                            <a:pt x="84" y="48"/>
                          </a:lnTo>
                          <a:lnTo>
                            <a:pt x="93" y="55"/>
                          </a:lnTo>
                          <a:lnTo>
                            <a:pt x="101" y="62"/>
                          </a:lnTo>
                          <a:lnTo>
                            <a:pt x="109" y="69"/>
                          </a:lnTo>
                          <a:lnTo>
                            <a:pt x="116" y="75"/>
                          </a:lnTo>
                          <a:lnTo>
                            <a:pt x="121" y="80"/>
                          </a:lnTo>
                          <a:lnTo>
                            <a:pt x="125" y="82"/>
                          </a:lnTo>
                          <a:lnTo>
                            <a:pt x="128" y="84"/>
                          </a:lnTo>
                          <a:lnTo>
                            <a:pt x="131" y="86"/>
                          </a:lnTo>
                          <a:lnTo>
                            <a:pt x="135" y="88"/>
                          </a:lnTo>
                          <a:lnTo>
                            <a:pt x="137" y="91"/>
                          </a:lnTo>
                          <a:lnTo>
                            <a:pt x="141" y="93"/>
                          </a:lnTo>
                          <a:lnTo>
                            <a:pt x="144" y="94"/>
                          </a:lnTo>
                          <a:lnTo>
                            <a:pt x="147" y="94"/>
                          </a:lnTo>
                          <a:lnTo>
                            <a:pt x="149" y="92"/>
                          </a:lnTo>
                          <a:lnTo>
                            <a:pt x="151" y="90"/>
                          </a:lnTo>
                          <a:lnTo>
                            <a:pt x="151" y="85"/>
                          </a:lnTo>
                          <a:lnTo>
                            <a:pt x="152" y="78"/>
                          </a:lnTo>
                          <a:lnTo>
                            <a:pt x="153" y="72"/>
                          </a:lnTo>
                          <a:lnTo>
                            <a:pt x="156" y="65"/>
                          </a:lnTo>
                          <a:lnTo>
                            <a:pt x="159" y="58"/>
                          </a:lnTo>
                          <a:lnTo>
                            <a:pt x="163" y="52"/>
                          </a:lnTo>
                          <a:lnTo>
                            <a:pt x="167" y="45"/>
                          </a:lnTo>
                          <a:lnTo>
                            <a:pt x="171" y="39"/>
                          </a:lnTo>
                          <a:lnTo>
                            <a:pt x="175" y="34"/>
                          </a:lnTo>
                          <a:lnTo>
                            <a:pt x="179" y="29"/>
                          </a:lnTo>
                          <a:lnTo>
                            <a:pt x="181" y="26"/>
                          </a:lnTo>
                          <a:lnTo>
                            <a:pt x="184" y="23"/>
                          </a:lnTo>
                          <a:lnTo>
                            <a:pt x="187" y="20"/>
                          </a:lnTo>
                          <a:lnTo>
                            <a:pt x="191" y="15"/>
                          </a:lnTo>
                          <a:lnTo>
                            <a:pt x="195" y="12"/>
                          </a:lnTo>
                          <a:lnTo>
                            <a:pt x="200" y="8"/>
                          </a:lnTo>
                          <a:lnTo>
                            <a:pt x="204" y="6"/>
                          </a:lnTo>
                          <a:lnTo>
                            <a:pt x="209" y="3"/>
                          </a:lnTo>
                          <a:lnTo>
                            <a:pt x="215" y="1"/>
                          </a:lnTo>
                          <a:lnTo>
                            <a:pt x="220" y="0"/>
                          </a:lnTo>
                          <a:lnTo>
                            <a:pt x="225" y="0"/>
                          </a:lnTo>
                          <a:lnTo>
                            <a:pt x="232" y="1"/>
                          </a:lnTo>
                          <a:lnTo>
                            <a:pt x="240" y="1"/>
                          </a:lnTo>
                          <a:lnTo>
                            <a:pt x="249" y="2"/>
                          </a:lnTo>
                          <a:lnTo>
                            <a:pt x="260" y="2"/>
                          </a:lnTo>
                          <a:lnTo>
                            <a:pt x="272" y="3"/>
                          </a:lnTo>
                          <a:lnTo>
                            <a:pt x="283" y="3"/>
                          </a:lnTo>
                          <a:lnTo>
                            <a:pt x="295" y="6"/>
                          </a:lnTo>
                          <a:lnTo>
                            <a:pt x="305" y="8"/>
                          </a:lnTo>
                          <a:lnTo>
                            <a:pt x="316" y="10"/>
                          </a:lnTo>
                          <a:lnTo>
                            <a:pt x="325" y="14"/>
                          </a:lnTo>
                          <a:lnTo>
                            <a:pt x="335" y="19"/>
                          </a:lnTo>
                          <a:lnTo>
                            <a:pt x="347" y="23"/>
                          </a:lnTo>
                          <a:lnTo>
                            <a:pt x="360" y="30"/>
                          </a:lnTo>
                          <a:lnTo>
                            <a:pt x="373" y="38"/>
                          </a:lnTo>
                          <a:lnTo>
                            <a:pt x="388" y="45"/>
                          </a:lnTo>
                          <a:lnTo>
                            <a:pt x="401" y="53"/>
                          </a:lnTo>
                          <a:lnTo>
                            <a:pt x="413" y="61"/>
                          </a:lnTo>
                          <a:lnTo>
                            <a:pt x="424" y="69"/>
                          </a:lnTo>
                          <a:lnTo>
                            <a:pt x="433" y="78"/>
                          </a:lnTo>
                          <a:lnTo>
                            <a:pt x="439" y="87"/>
                          </a:lnTo>
                          <a:lnTo>
                            <a:pt x="456" y="127"/>
                          </a:lnTo>
                          <a:lnTo>
                            <a:pt x="475" y="164"/>
                          </a:lnTo>
                          <a:lnTo>
                            <a:pt x="492" y="195"/>
                          </a:lnTo>
                          <a:lnTo>
                            <a:pt x="508" y="222"/>
                          </a:lnTo>
                          <a:lnTo>
                            <a:pt x="524" y="245"/>
                          </a:lnTo>
                          <a:lnTo>
                            <a:pt x="539" y="264"/>
                          </a:lnTo>
                          <a:lnTo>
                            <a:pt x="552" y="281"/>
                          </a:lnTo>
                          <a:lnTo>
                            <a:pt x="564" y="295"/>
                          </a:lnTo>
                          <a:lnTo>
                            <a:pt x="572" y="307"/>
                          </a:lnTo>
                          <a:lnTo>
                            <a:pt x="579" y="316"/>
                          </a:lnTo>
                          <a:lnTo>
                            <a:pt x="585" y="326"/>
                          </a:lnTo>
                          <a:lnTo>
                            <a:pt x="593" y="336"/>
                          </a:lnTo>
                          <a:lnTo>
                            <a:pt x="601" y="347"/>
                          </a:lnTo>
                          <a:lnTo>
                            <a:pt x="611" y="357"/>
                          </a:lnTo>
                          <a:lnTo>
                            <a:pt x="620" y="368"/>
                          </a:lnTo>
                          <a:lnTo>
                            <a:pt x="629" y="379"/>
                          </a:lnTo>
                          <a:lnTo>
                            <a:pt x="639" y="387"/>
                          </a:lnTo>
                          <a:lnTo>
                            <a:pt x="645" y="394"/>
                          </a:lnTo>
                          <a:lnTo>
                            <a:pt x="652" y="400"/>
                          </a:lnTo>
                          <a:lnTo>
                            <a:pt x="656" y="402"/>
                          </a:lnTo>
                          <a:lnTo>
                            <a:pt x="660" y="403"/>
                          </a:lnTo>
                          <a:lnTo>
                            <a:pt x="664" y="407"/>
                          </a:lnTo>
                          <a:lnTo>
                            <a:pt x="669" y="409"/>
                          </a:lnTo>
                          <a:lnTo>
                            <a:pt x="675" y="413"/>
                          </a:lnTo>
                          <a:lnTo>
                            <a:pt x="679" y="418"/>
                          </a:lnTo>
                          <a:lnTo>
                            <a:pt x="684" y="421"/>
                          </a:lnTo>
                          <a:lnTo>
                            <a:pt x="688" y="426"/>
                          </a:lnTo>
                          <a:lnTo>
                            <a:pt x="692" y="429"/>
                          </a:lnTo>
                          <a:lnTo>
                            <a:pt x="693" y="433"/>
                          </a:lnTo>
                          <a:lnTo>
                            <a:pt x="695" y="437"/>
                          </a:lnTo>
                          <a:lnTo>
                            <a:pt x="695" y="439"/>
                          </a:lnTo>
                          <a:lnTo>
                            <a:pt x="693" y="442"/>
                          </a:lnTo>
                          <a:lnTo>
                            <a:pt x="692" y="447"/>
                          </a:lnTo>
                          <a:lnTo>
                            <a:pt x="689" y="452"/>
                          </a:lnTo>
                          <a:lnTo>
                            <a:pt x="687" y="455"/>
                          </a:lnTo>
                          <a:lnTo>
                            <a:pt x="684" y="460"/>
                          </a:lnTo>
                          <a:lnTo>
                            <a:pt x="680" y="464"/>
                          </a:lnTo>
                          <a:lnTo>
                            <a:pt x="676" y="467"/>
                          </a:lnTo>
                          <a:lnTo>
                            <a:pt x="672" y="470"/>
                          </a:lnTo>
                          <a:lnTo>
                            <a:pt x="667" y="471"/>
                          </a:lnTo>
                          <a:lnTo>
                            <a:pt x="660" y="471"/>
                          </a:lnTo>
                          <a:lnTo>
                            <a:pt x="652" y="473"/>
                          </a:lnTo>
                          <a:lnTo>
                            <a:pt x="644" y="474"/>
                          </a:lnTo>
                          <a:lnTo>
                            <a:pt x="635" y="475"/>
                          </a:lnTo>
                          <a:lnTo>
                            <a:pt x="625" y="478"/>
                          </a:lnTo>
                          <a:lnTo>
                            <a:pt x="616" y="480"/>
                          </a:lnTo>
                          <a:lnTo>
                            <a:pt x="609" y="481"/>
                          </a:lnTo>
                          <a:lnTo>
                            <a:pt x="603" y="483"/>
                          </a:lnTo>
                          <a:lnTo>
                            <a:pt x="599" y="484"/>
                          </a:lnTo>
                          <a:lnTo>
                            <a:pt x="597" y="484"/>
                          </a:lnTo>
                          <a:lnTo>
                            <a:pt x="592" y="516"/>
                          </a:lnTo>
                          <a:lnTo>
                            <a:pt x="592" y="517"/>
                          </a:lnTo>
                          <a:lnTo>
                            <a:pt x="591" y="520"/>
                          </a:lnTo>
                          <a:lnTo>
                            <a:pt x="589" y="526"/>
                          </a:lnTo>
                          <a:lnTo>
                            <a:pt x="588" y="533"/>
                          </a:lnTo>
                          <a:lnTo>
                            <a:pt x="587" y="540"/>
                          </a:lnTo>
                          <a:lnTo>
                            <a:pt x="585" y="549"/>
                          </a:lnTo>
                          <a:lnTo>
                            <a:pt x="584" y="556"/>
                          </a:lnTo>
                          <a:lnTo>
                            <a:pt x="583" y="563"/>
                          </a:lnTo>
                          <a:lnTo>
                            <a:pt x="583" y="569"/>
                          </a:lnTo>
                          <a:lnTo>
                            <a:pt x="581" y="572"/>
                          </a:lnTo>
                          <a:lnTo>
                            <a:pt x="583" y="576"/>
                          </a:lnTo>
                          <a:lnTo>
                            <a:pt x="583" y="578"/>
                          </a:lnTo>
                          <a:lnTo>
                            <a:pt x="584" y="582"/>
                          </a:lnTo>
                          <a:lnTo>
                            <a:pt x="584" y="585"/>
                          </a:lnTo>
                          <a:lnTo>
                            <a:pt x="584" y="589"/>
                          </a:lnTo>
                          <a:lnTo>
                            <a:pt x="583" y="591"/>
                          </a:lnTo>
                          <a:lnTo>
                            <a:pt x="580" y="593"/>
                          </a:lnTo>
                          <a:lnTo>
                            <a:pt x="575" y="596"/>
                          </a:lnTo>
                          <a:lnTo>
                            <a:pt x="567" y="596"/>
                          </a:lnTo>
                          <a:lnTo>
                            <a:pt x="556" y="595"/>
                          </a:lnTo>
                          <a:lnTo>
                            <a:pt x="541" y="592"/>
                          </a:lnTo>
                          <a:lnTo>
                            <a:pt x="521" y="589"/>
                          </a:lnTo>
                          <a:lnTo>
                            <a:pt x="499" y="583"/>
                          </a:lnTo>
                          <a:lnTo>
                            <a:pt x="472" y="576"/>
                          </a:lnTo>
                          <a:lnTo>
                            <a:pt x="444" y="568"/>
                          </a:lnTo>
                          <a:lnTo>
                            <a:pt x="415" y="557"/>
                          </a:lnTo>
                          <a:lnTo>
                            <a:pt x="385" y="546"/>
                          </a:lnTo>
                          <a:lnTo>
                            <a:pt x="355" y="533"/>
                          </a:lnTo>
                          <a:lnTo>
                            <a:pt x="327" y="520"/>
                          </a:lnTo>
                          <a:lnTo>
                            <a:pt x="300" y="506"/>
                          </a:lnTo>
                          <a:lnTo>
                            <a:pt x="273" y="491"/>
                          </a:lnTo>
                          <a:lnTo>
                            <a:pt x="244" y="471"/>
                          </a:lnTo>
                          <a:lnTo>
                            <a:pt x="213" y="449"/>
                          </a:lnTo>
                          <a:lnTo>
                            <a:pt x="183" y="426"/>
                          </a:lnTo>
                          <a:lnTo>
                            <a:pt x="152" y="401"/>
                          </a:lnTo>
                          <a:lnTo>
                            <a:pt x="125" y="377"/>
                          </a:lnTo>
                          <a:lnTo>
                            <a:pt x="100" y="355"/>
                          </a:lnTo>
                          <a:lnTo>
                            <a:pt x="79" y="334"/>
                          </a:lnTo>
                          <a:lnTo>
                            <a:pt x="63" y="315"/>
                          </a:lnTo>
                          <a:lnTo>
                            <a:pt x="53" y="300"/>
                          </a:lnTo>
                          <a:lnTo>
                            <a:pt x="47" y="284"/>
                          </a:lnTo>
                          <a:lnTo>
                            <a:pt x="39" y="264"/>
                          </a:lnTo>
                          <a:lnTo>
                            <a:pt x="29" y="241"/>
                          </a:lnTo>
                          <a:lnTo>
                            <a:pt x="21" y="213"/>
                          </a:lnTo>
                          <a:lnTo>
                            <a:pt x="13" y="184"/>
                          </a:lnTo>
                          <a:lnTo>
                            <a:pt x="7" y="153"/>
                          </a:lnTo>
                          <a:lnTo>
                            <a:pt x="3" y="120"/>
                          </a:lnTo>
                          <a:lnTo>
                            <a:pt x="0" y="87"/>
                          </a:lnTo>
                          <a:lnTo>
                            <a:pt x="1" y="53"/>
                          </a:lnTo>
                          <a:lnTo>
                            <a:pt x="8" y="21"/>
                          </a:lnTo>
                          <a:lnTo>
                            <a:pt x="7" y="20"/>
                          </a:lnTo>
                          <a:close/>
                        </a:path>
                      </a:pathLst>
                    </a:custGeom>
                    <a:solidFill>
                      <a:srgbClr val="ffd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>
                      <a:off x="793440" y="1490760"/>
                      <a:ext cx="194760" cy="38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9" h="582">
                          <a:moveTo>
                            <a:pt x="261" y="2"/>
                          </a:moveTo>
                          <a:lnTo>
                            <a:pt x="259" y="3"/>
                          </a:lnTo>
                          <a:lnTo>
                            <a:pt x="248" y="7"/>
                          </a:lnTo>
                          <a:lnTo>
                            <a:pt x="232" y="13"/>
                          </a:lnTo>
                          <a:lnTo>
                            <a:pt x="211" y="23"/>
                          </a:lnTo>
                          <a:lnTo>
                            <a:pt x="185" y="41"/>
                          </a:lnTo>
                          <a:lnTo>
                            <a:pt x="159" y="65"/>
                          </a:lnTo>
                          <a:lnTo>
                            <a:pt x="129" y="98"/>
                          </a:lnTo>
                          <a:lnTo>
                            <a:pt x="101" y="139"/>
                          </a:lnTo>
                          <a:lnTo>
                            <a:pt x="73" y="193"/>
                          </a:lnTo>
                          <a:lnTo>
                            <a:pt x="47" y="258"/>
                          </a:lnTo>
                          <a:lnTo>
                            <a:pt x="45" y="264"/>
                          </a:lnTo>
                          <a:lnTo>
                            <a:pt x="41" y="279"/>
                          </a:lnTo>
                          <a:lnTo>
                            <a:pt x="36" y="304"/>
                          </a:lnTo>
                          <a:lnTo>
                            <a:pt x="29" y="334"/>
                          </a:lnTo>
                          <a:lnTo>
                            <a:pt x="21" y="369"/>
                          </a:lnTo>
                          <a:lnTo>
                            <a:pt x="15" y="406"/>
                          </a:lnTo>
                          <a:lnTo>
                            <a:pt x="8" y="445"/>
                          </a:lnTo>
                          <a:lnTo>
                            <a:pt x="4" y="481"/>
                          </a:lnTo>
                          <a:lnTo>
                            <a:pt x="0" y="516"/>
                          </a:lnTo>
                          <a:lnTo>
                            <a:pt x="0" y="546"/>
                          </a:lnTo>
                          <a:lnTo>
                            <a:pt x="0" y="547"/>
                          </a:lnTo>
                          <a:lnTo>
                            <a:pt x="0" y="552"/>
                          </a:lnTo>
                          <a:lnTo>
                            <a:pt x="1" y="559"/>
                          </a:lnTo>
                          <a:lnTo>
                            <a:pt x="3" y="566"/>
                          </a:lnTo>
                          <a:lnTo>
                            <a:pt x="7" y="573"/>
                          </a:lnTo>
                          <a:lnTo>
                            <a:pt x="11" y="579"/>
                          </a:lnTo>
                          <a:lnTo>
                            <a:pt x="19" y="582"/>
                          </a:lnTo>
                          <a:lnTo>
                            <a:pt x="28" y="580"/>
                          </a:lnTo>
                          <a:lnTo>
                            <a:pt x="40" y="575"/>
                          </a:lnTo>
                          <a:lnTo>
                            <a:pt x="56" y="563"/>
                          </a:lnTo>
                          <a:lnTo>
                            <a:pt x="72" y="545"/>
                          </a:lnTo>
                          <a:lnTo>
                            <a:pt x="87" y="525"/>
                          </a:lnTo>
                          <a:lnTo>
                            <a:pt x="99" y="501"/>
                          </a:lnTo>
                          <a:lnTo>
                            <a:pt x="109" y="478"/>
                          </a:lnTo>
                          <a:lnTo>
                            <a:pt x="117" y="453"/>
                          </a:lnTo>
                          <a:lnTo>
                            <a:pt x="124" y="428"/>
                          </a:lnTo>
                          <a:lnTo>
                            <a:pt x="129" y="405"/>
                          </a:lnTo>
                          <a:lnTo>
                            <a:pt x="135" y="383"/>
                          </a:lnTo>
                          <a:lnTo>
                            <a:pt x="137" y="364"/>
                          </a:lnTo>
                          <a:lnTo>
                            <a:pt x="140" y="350"/>
                          </a:lnTo>
                          <a:lnTo>
                            <a:pt x="144" y="334"/>
                          </a:lnTo>
                          <a:lnTo>
                            <a:pt x="152" y="311"/>
                          </a:lnTo>
                          <a:lnTo>
                            <a:pt x="161" y="284"/>
                          </a:lnTo>
                          <a:lnTo>
                            <a:pt x="172" y="255"/>
                          </a:lnTo>
                          <a:lnTo>
                            <a:pt x="185" y="224"/>
                          </a:lnTo>
                          <a:lnTo>
                            <a:pt x="199" y="193"/>
                          </a:lnTo>
                          <a:lnTo>
                            <a:pt x="212" y="165"/>
                          </a:lnTo>
                          <a:lnTo>
                            <a:pt x="225" y="141"/>
                          </a:lnTo>
                          <a:lnTo>
                            <a:pt x="237" y="121"/>
                          </a:lnTo>
                          <a:lnTo>
                            <a:pt x="247" y="110"/>
                          </a:lnTo>
                          <a:lnTo>
                            <a:pt x="257" y="99"/>
                          </a:lnTo>
                          <a:lnTo>
                            <a:pt x="268" y="85"/>
                          </a:lnTo>
                          <a:lnTo>
                            <a:pt x="277" y="69"/>
                          </a:lnTo>
                          <a:lnTo>
                            <a:pt x="287" y="53"/>
                          </a:lnTo>
                          <a:lnTo>
                            <a:pt x="295" y="36"/>
                          </a:lnTo>
                          <a:lnTo>
                            <a:pt x="299" y="22"/>
                          </a:lnTo>
                          <a:lnTo>
                            <a:pt x="297" y="10"/>
                          </a:lnTo>
                          <a:lnTo>
                            <a:pt x="292" y="2"/>
                          </a:lnTo>
                          <a:lnTo>
                            <a:pt x="281" y="0"/>
                          </a:lnTo>
                          <a:lnTo>
                            <a:pt x="263" y="3"/>
                          </a:lnTo>
                          <a:lnTo>
                            <a:pt x="261" y="2"/>
                          </a:lnTo>
                          <a:close/>
                        </a:path>
                      </a:pathLst>
                    </a:custGeom>
                    <a:solidFill>
                      <a:srgbClr val="fbef7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798120" y="1499760"/>
                      <a:ext cx="177840" cy="34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" h="533">
                          <a:moveTo>
                            <a:pt x="240" y="3"/>
                          </a:moveTo>
                          <a:lnTo>
                            <a:pt x="237" y="5"/>
                          </a:lnTo>
                          <a:lnTo>
                            <a:pt x="226" y="7"/>
                          </a:lnTo>
                          <a:lnTo>
                            <a:pt x="212" y="13"/>
                          </a:lnTo>
                          <a:lnTo>
                            <a:pt x="193" y="22"/>
                          </a:lnTo>
                          <a:lnTo>
                            <a:pt x="169" y="38"/>
                          </a:lnTo>
                          <a:lnTo>
                            <a:pt x="145" y="60"/>
                          </a:lnTo>
                          <a:lnTo>
                            <a:pt x="118" y="90"/>
                          </a:lnTo>
                          <a:lnTo>
                            <a:pt x="92" y="129"/>
                          </a:lnTo>
                          <a:lnTo>
                            <a:pt x="66" y="178"/>
                          </a:lnTo>
                          <a:lnTo>
                            <a:pt x="42" y="238"/>
                          </a:lnTo>
                          <a:lnTo>
                            <a:pt x="41" y="243"/>
                          </a:lnTo>
                          <a:lnTo>
                            <a:pt x="38" y="257"/>
                          </a:lnTo>
                          <a:lnTo>
                            <a:pt x="33" y="280"/>
                          </a:lnTo>
                          <a:lnTo>
                            <a:pt x="26" y="307"/>
                          </a:lnTo>
                          <a:lnTo>
                            <a:pt x="20" y="339"/>
                          </a:lnTo>
                          <a:lnTo>
                            <a:pt x="13" y="373"/>
                          </a:lnTo>
                          <a:lnTo>
                            <a:pt x="8" y="408"/>
                          </a:lnTo>
                          <a:lnTo>
                            <a:pt x="2" y="443"/>
                          </a:lnTo>
                          <a:lnTo>
                            <a:pt x="0" y="474"/>
                          </a:lnTo>
                          <a:lnTo>
                            <a:pt x="0" y="502"/>
                          </a:lnTo>
                          <a:lnTo>
                            <a:pt x="0" y="503"/>
                          </a:lnTo>
                          <a:lnTo>
                            <a:pt x="0" y="507"/>
                          </a:lnTo>
                          <a:lnTo>
                            <a:pt x="1" y="513"/>
                          </a:lnTo>
                          <a:lnTo>
                            <a:pt x="2" y="520"/>
                          </a:lnTo>
                          <a:lnTo>
                            <a:pt x="5" y="526"/>
                          </a:lnTo>
                          <a:lnTo>
                            <a:pt x="10" y="531"/>
                          </a:lnTo>
                          <a:lnTo>
                            <a:pt x="17" y="533"/>
                          </a:lnTo>
                          <a:lnTo>
                            <a:pt x="25" y="533"/>
                          </a:lnTo>
                          <a:lnTo>
                            <a:pt x="37" y="528"/>
                          </a:lnTo>
                          <a:lnTo>
                            <a:pt x="52" y="517"/>
                          </a:lnTo>
                          <a:lnTo>
                            <a:pt x="66" y="500"/>
                          </a:lnTo>
                          <a:lnTo>
                            <a:pt x="78" y="481"/>
                          </a:lnTo>
                          <a:lnTo>
                            <a:pt x="90" y="461"/>
                          </a:lnTo>
                          <a:lnTo>
                            <a:pt x="100" y="439"/>
                          </a:lnTo>
                          <a:lnTo>
                            <a:pt x="108" y="417"/>
                          </a:lnTo>
                          <a:lnTo>
                            <a:pt x="113" y="394"/>
                          </a:lnTo>
                          <a:lnTo>
                            <a:pt x="118" y="372"/>
                          </a:lnTo>
                          <a:lnTo>
                            <a:pt x="122" y="353"/>
                          </a:lnTo>
                          <a:lnTo>
                            <a:pt x="126" y="335"/>
                          </a:lnTo>
                          <a:lnTo>
                            <a:pt x="129" y="322"/>
                          </a:lnTo>
                          <a:lnTo>
                            <a:pt x="132" y="307"/>
                          </a:lnTo>
                          <a:lnTo>
                            <a:pt x="138" y="286"/>
                          </a:lnTo>
                          <a:lnTo>
                            <a:pt x="148" y="261"/>
                          </a:lnTo>
                          <a:lnTo>
                            <a:pt x="158" y="235"/>
                          </a:lnTo>
                          <a:lnTo>
                            <a:pt x="170" y="206"/>
                          </a:lnTo>
                          <a:lnTo>
                            <a:pt x="182" y="178"/>
                          </a:lnTo>
                          <a:lnTo>
                            <a:pt x="194" y="152"/>
                          </a:lnTo>
                          <a:lnTo>
                            <a:pt x="206" y="130"/>
                          </a:lnTo>
                          <a:lnTo>
                            <a:pt x="217" y="112"/>
                          </a:lnTo>
                          <a:lnTo>
                            <a:pt x="226" y="101"/>
                          </a:lnTo>
                          <a:lnTo>
                            <a:pt x="236" y="91"/>
                          </a:lnTo>
                          <a:lnTo>
                            <a:pt x="245" y="79"/>
                          </a:lnTo>
                          <a:lnTo>
                            <a:pt x="254" y="65"/>
                          </a:lnTo>
                          <a:lnTo>
                            <a:pt x="262" y="50"/>
                          </a:lnTo>
                          <a:lnTo>
                            <a:pt x="269" y="34"/>
                          </a:lnTo>
                          <a:lnTo>
                            <a:pt x="273" y="21"/>
                          </a:lnTo>
                          <a:lnTo>
                            <a:pt x="273" y="11"/>
                          </a:lnTo>
                          <a:lnTo>
                            <a:pt x="268" y="3"/>
                          </a:lnTo>
                          <a:lnTo>
                            <a:pt x="257" y="0"/>
                          </a:lnTo>
                          <a:lnTo>
                            <a:pt x="240" y="3"/>
                          </a:lnTo>
                          <a:close/>
                        </a:path>
                      </a:pathLst>
                    </a:custGeom>
                    <a:solidFill>
                      <a:srgbClr val="fcf07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802080" y="1509840"/>
                      <a:ext cx="161280" cy="31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8" h="485">
                          <a:moveTo>
                            <a:pt x="219" y="3"/>
                          </a:moveTo>
                          <a:lnTo>
                            <a:pt x="216" y="4"/>
                          </a:lnTo>
                          <a:lnTo>
                            <a:pt x="207" y="6"/>
                          </a:lnTo>
                          <a:lnTo>
                            <a:pt x="194" y="11"/>
                          </a:lnTo>
                          <a:lnTo>
                            <a:pt x="175" y="20"/>
                          </a:lnTo>
                          <a:lnTo>
                            <a:pt x="155" y="35"/>
                          </a:lnTo>
                          <a:lnTo>
                            <a:pt x="132" y="55"/>
                          </a:lnTo>
                          <a:lnTo>
                            <a:pt x="108" y="82"/>
                          </a:lnTo>
                          <a:lnTo>
                            <a:pt x="84" y="117"/>
                          </a:lnTo>
                          <a:lnTo>
                            <a:pt x="60" y="162"/>
                          </a:lnTo>
                          <a:lnTo>
                            <a:pt x="39" y="216"/>
                          </a:lnTo>
                          <a:lnTo>
                            <a:pt x="38" y="221"/>
                          </a:lnTo>
                          <a:lnTo>
                            <a:pt x="35" y="234"/>
                          </a:lnTo>
                          <a:lnTo>
                            <a:pt x="30" y="254"/>
                          </a:lnTo>
                          <a:lnTo>
                            <a:pt x="24" y="279"/>
                          </a:lnTo>
                          <a:lnTo>
                            <a:pt x="19" y="308"/>
                          </a:lnTo>
                          <a:lnTo>
                            <a:pt x="12" y="339"/>
                          </a:lnTo>
                          <a:lnTo>
                            <a:pt x="7" y="371"/>
                          </a:lnTo>
                          <a:lnTo>
                            <a:pt x="3" y="402"/>
                          </a:lnTo>
                          <a:lnTo>
                            <a:pt x="0" y="431"/>
                          </a:lnTo>
                          <a:lnTo>
                            <a:pt x="0" y="456"/>
                          </a:lnTo>
                          <a:lnTo>
                            <a:pt x="0" y="457"/>
                          </a:lnTo>
                          <a:lnTo>
                            <a:pt x="0" y="461"/>
                          </a:lnTo>
                          <a:lnTo>
                            <a:pt x="2" y="466"/>
                          </a:lnTo>
                          <a:lnTo>
                            <a:pt x="3" y="472"/>
                          </a:lnTo>
                          <a:lnTo>
                            <a:pt x="6" y="478"/>
                          </a:lnTo>
                          <a:lnTo>
                            <a:pt x="10" y="483"/>
                          </a:lnTo>
                          <a:lnTo>
                            <a:pt x="15" y="485"/>
                          </a:lnTo>
                          <a:lnTo>
                            <a:pt x="23" y="484"/>
                          </a:lnTo>
                          <a:lnTo>
                            <a:pt x="34" y="479"/>
                          </a:lnTo>
                          <a:lnTo>
                            <a:pt x="47" y="469"/>
                          </a:lnTo>
                          <a:lnTo>
                            <a:pt x="60" y="455"/>
                          </a:lnTo>
                          <a:lnTo>
                            <a:pt x="72" y="438"/>
                          </a:lnTo>
                          <a:lnTo>
                            <a:pt x="83" y="419"/>
                          </a:lnTo>
                          <a:lnTo>
                            <a:pt x="91" y="399"/>
                          </a:lnTo>
                          <a:lnTo>
                            <a:pt x="98" y="378"/>
                          </a:lnTo>
                          <a:lnTo>
                            <a:pt x="104" y="358"/>
                          </a:lnTo>
                          <a:lnTo>
                            <a:pt x="108" y="338"/>
                          </a:lnTo>
                          <a:lnTo>
                            <a:pt x="112" y="320"/>
                          </a:lnTo>
                          <a:lnTo>
                            <a:pt x="115" y="305"/>
                          </a:lnTo>
                          <a:lnTo>
                            <a:pt x="118" y="292"/>
                          </a:lnTo>
                          <a:lnTo>
                            <a:pt x="120" y="279"/>
                          </a:lnTo>
                          <a:lnTo>
                            <a:pt x="127" y="260"/>
                          </a:lnTo>
                          <a:lnTo>
                            <a:pt x="135" y="238"/>
                          </a:lnTo>
                          <a:lnTo>
                            <a:pt x="144" y="213"/>
                          </a:lnTo>
                          <a:lnTo>
                            <a:pt x="155" y="187"/>
                          </a:lnTo>
                          <a:lnTo>
                            <a:pt x="166" y="162"/>
                          </a:lnTo>
                          <a:lnTo>
                            <a:pt x="178" y="138"/>
                          </a:lnTo>
                          <a:lnTo>
                            <a:pt x="188" y="118"/>
                          </a:lnTo>
                          <a:lnTo>
                            <a:pt x="198" y="102"/>
                          </a:lnTo>
                          <a:lnTo>
                            <a:pt x="207" y="91"/>
                          </a:lnTo>
                          <a:lnTo>
                            <a:pt x="215" y="83"/>
                          </a:lnTo>
                          <a:lnTo>
                            <a:pt x="223" y="71"/>
                          </a:lnTo>
                          <a:lnTo>
                            <a:pt x="232" y="58"/>
                          </a:lnTo>
                          <a:lnTo>
                            <a:pt x="239" y="45"/>
                          </a:lnTo>
                          <a:lnTo>
                            <a:pt x="246" y="31"/>
                          </a:lnTo>
                          <a:lnTo>
                            <a:pt x="248" y="19"/>
                          </a:lnTo>
                          <a:lnTo>
                            <a:pt x="248" y="10"/>
                          </a:lnTo>
                          <a:lnTo>
                            <a:pt x="244" y="3"/>
                          </a:lnTo>
                          <a:lnTo>
                            <a:pt x="235" y="0"/>
                          </a:lnTo>
                          <a:lnTo>
                            <a:pt x="219" y="3"/>
                          </a:lnTo>
                          <a:close/>
                        </a:path>
                      </a:pathLst>
                    </a:custGeom>
                    <a:solidFill>
                      <a:srgbClr val="fcf18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806400" y="1520280"/>
                      <a:ext cx="145800" cy="28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4" h="435">
                          <a:moveTo>
                            <a:pt x="196" y="1"/>
                          </a:moveTo>
                          <a:lnTo>
                            <a:pt x="193" y="2"/>
                          </a:lnTo>
                          <a:lnTo>
                            <a:pt x="185" y="4"/>
                          </a:lnTo>
                          <a:lnTo>
                            <a:pt x="173" y="9"/>
                          </a:lnTo>
                          <a:lnTo>
                            <a:pt x="157" y="17"/>
                          </a:lnTo>
                          <a:lnTo>
                            <a:pt x="139" y="30"/>
                          </a:lnTo>
                          <a:lnTo>
                            <a:pt x="119" y="48"/>
                          </a:lnTo>
                          <a:lnTo>
                            <a:pt x="97" y="73"/>
                          </a:lnTo>
                          <a:lnTo>
                            <a:pt x="76" y="105"/>
                          </a:lnTo>
                          <a:lnTo>
                            <a:pt x="55" y="145"/>
                          </a:lnTo>
                          <a:lnTo>
                            <a:pt x="35" y="193"/>
                          </a:lnTo>
                          <a:lnTo>
                            <a:pt x="33" y="198"/>
                          </a:lnTo>
                          <a:lnTo>
                            <a:pt x="31" y="210"/>
                          </a:lnTo>
                          <a:lnTo>
                            <a:pt x="27" y="227"/>
                          </a:lnTo>
                          <a:lnTo>
                            <a:pt x="21" y="250"/>
                          </a:lnTo>
                          <a:lnTo>
                            <a:pt x="16" y="276"/>
                          </a:lnTo>
                          <a:lnTo>
                            <a:pt x="11" y="304"/>
                          </a:lnTo>
                          <a:lnTo>
                            <a:pt x="7" y="332"/>
                          </a:lnTo>
                          <a:lnTo>
                            <a:pt x="3" y="361"/>
                          </a:lnTo>
                          <a:lnTo>
                            <a:pt x="0" y="387"/>
                          </a:lnTo>
                          <a:lnTo>
                            <a:pt x="0" y="409"/>
                          </a:lnTo>
                          <a:lnTo>
                            <a:pt x="0" y="410"/>
                          </a:lnTo>
                          <a:lnTo>
                            <a:pt x="0" y="414"/>
                          </a:lnTo>
                          <a:lnTo>
                            <a:pt x="1" y="419"/>
                          </a:lnTo>
                          <a:lnTo>
                            <a:pt x="3" y="425"/>
                          </a:lnTo>
                          <a:lnTo>
                            <a:pt x="4" y="429"/>
                          </a:lnTo>
                          <a:lnTo>
                            <a:pt x="8" y="434"/>
                          </a:lnTo>
                          <a:lnTo>
                            <a:pt x="13" y="435"/>
                          </a:lnTo>
                          <a:lnTo>
                            <a:pt x="21" y="435"/>
                          </a:lnTo>
                          <a:lnTo>
                            <a:pt x="31" y="430"/>
                          </a:lnTo>
                          <a:lnTo>
                            <a:pt x="43" y="421"/>
                          </a:lnTo>
                          <a:lnTo>
                            <a:pt x="55" y="408"/>
                          </a:lnTo>
                          <a:lnTo>
                            <a:pt x="65" y="393"/>
                          </a:lnTo>
                          <a:lnTo>
                            <a:pt x="73" y="376"/>
                          </a:lnTo>
                          <a:lnTo>
                            <a:pt x="81" y="357"/>
                          </a:lnTo>
                          <a:lnTo>
                            <a:pt x="88" y="340"/>
                          </a:lnTo>
                          <a:lnTo>
                            <a:pt x="93" y="321"/>
                          </a:lnTo>
                          <a:lnTo>
                            <a:pt x="97" y="303"/>
                          </a:lnTo>
                          <a:lnTo>
                            <a:pt x="101" y="288"/>
                          </a:lnTo>
                          <a:lnTo>
                            <a:pt x="104" y="273"/>
                          </a:lnTo>
                          <a:lnTo>
                            <a:pt x="105" y="262"/>
                          </a:lnTo>
                          <a:lnTo>
                            <a:pt x="108" y="250"/>
                          </a:lnTo>
                          <a:lnTo>
                            <a:pt x="113" y="233"/>
                          </a:lnTo>
                          <a:lnTo>
                            <a:pt x="121" y="212"/>
                          </a:lnTo>
                          <a:lnTo>
                            <a:pt x="129" y="191"/>
                          </a:lnTo>
                          <a:lnTo>
                            <a:pt x="139" y="167"/>
                          </a:lnTo>
                          <a:lnTo>
                            <a:pt x="149" y="145"/>
                          </a:lnTo>
                          <a:lnTo>
                            <a:pt x="160" y="124"/>
                          </a:lnTo>
                          <a:lnTo>
                            <a:pt x="169" y="105"/>
                          </a:lnTo>
                          <a:lnTo>
                            <a:pt x="177" y="91"/>
                          </a:lnTo>
                          <a:lnTo>
                            <a:pt x="185" y="81"/>
                          </a:lnTo>
                          <a:lnTo>
                            <a:pt x="193" y="74"/>
                          </a:lnTo>
                          <a:lnTo>
                            <a:pt x="201" y="63"/>
                          </a:lnTo>
                          <a:lnTo>
                            <a:pt x="208" y="52"/>
                          </a:lnTo>
                          <a:lnTo>
                            <a:pt x="216" y="40"/>
                          </a:lnTo>
                          <a:lnTo>
                            <a:pt x="221" y="27"/>
                          </a:lnTo>
                          <a:lnTo>
                            <a:pt x="224" y="16"/>
                          </a:lnTo>
                          <a:lnTo>
                            <a:pt x="224" y="7"/>
                          </a:lnTo>
                          <a:lnTo>
                            <a:pt x="220" y="1"/>
                          </a:lnTo>
                          <a:lnTo>
                            <a:pt x="211" y="0"/>
                          </a:lnTo>
                          <a:lnTo>
                            <a:pt x="197" y="2"/>
                          </a:lnTo>
                          <a:lnTo>
                            <a:pt x="196" y="1"/>
                          </a:lnTo>
                          <a:close/>
                        </a:path>
                      </a:pathLst>
                    </a:custGeom>
                    <a:solidFill>
                      <a:srgbClr val="fcf28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811080" y="1529280"/>
                      <a:ext cx="128880" cy="25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8" h="388">
                          <a:moveTo>
                            <a:pt x="174" y="2"/>
                          </a:moveTo>
                          <a:lnTo>
                            <a:pt x="172" y="3"/>
                          </a:lnTo>
                          <a:lnTo>
                            <a:pt x="165" y="5"/>
                          </a:lnTo>
                          <a:lnTo>
                            <a:pt x="154" y="9"/>
                          </a:lnTo>
                          <a:lnTo>
                            <a:pt x="140" y="16"/>
                          </a:lnTo>
                          <a:lnTo>
                            <a:pt x="124" y="27"/>
                          </a:lnTo>
                          <a:lnTo>
                            <a:pt x="105" y="43"/>
                          </a:lnTo>
                          <a:lnTo>
                            <a:pt x="86" y="65"/>
                          </a:lnTo>
                          <a:lnTo>
                            <a:pt x="66" y="93"/>
                          </a:lnTo>
                          <a:lnTo>
                            <a:pt x="48" y="128"/>
                          </a:lnTo>
                          <a:lnTo>
                            <a:pt x="30" y="173"/>
                          </a:lnTo>
                          <a:lnTo>
                            <a:pt x="30" y="177"/>
                          </a:lnTo>
                          <a:lnTo>
                            <a:pt x="28" y="187"/>
                          </a:lnTo>
                          <a:lnTo>
                            <a:pt x="24" y="203"/>
                          </a:lnTo>
                          <a:lnTo>
                            <a:pt x="20" y="223"/>
                          </a:lnTo>
                          <a:lnTo>
                            <a:pt x="14" y="246"/>
                          </a:lnTo>
                          <a:lnTo>
                            <a:pt x="9" y="271"/>
                          </a:lnTo>
                          <a:lnTo>
                            <a:pt x="5" y="296"/>
                          </a:lnTo>
                          <a:lnTo>
                            <a:pt x="2" y="322"/>
                          </a:lnTo>
                          <a:lnTo>
                            <a:pt x="0" y="344"/>
                          </a:lnTo>
                          <a:lnTo>
                            <a:pt x="0" y="364"/>
                          </a:lnTo>
                          <a:lnTo>
                            <a:pt x="0" y="366"/>
                          </a:lnTo>
                          <a:lnTo>
                            <a:pt x="0" y="368"/>
                          </a:lnTo>
                          <a:lnTo>
                            <a:pt x="0" y="373"/>
                          </a:lnTo>
                          <a:lnTo>
                            <a:pt x="1" y="377"/>
                          </a:lnTo>
                          <a:lnTo>
                            <a:pt x="4" y="382"/>
                          </a:lnTo>
                          <a:lnTo>
                            <a:pt x="8" y="386"/>
                          </a:lnTo>
                          <a:lnTo>
                            <a:pt x="12" y="388"/>
                          </a:lnTo>
                          <a:lnTo>
                            <a:pt x="18" y="387"/>
                          </a:lnTo>
                          <a:lnTo>
                            <a:pt x="26" y="383"/>
                          </a:lnTo>
                          <a:lnTo>
                            <a:pt x="37" y="375"/>
                          </a:lnTo>
                          <a:lnTo>
                            <a:pt x="48" y="363"/>
                          </a:lnTo>
                          <a:lnTo>
                            <a:pt x="57" y="350"/>
                          </a:lnTo>
                          <a:lnTo>
                            <a:pt x="65" y="335"/>
                          </a:lnTo>
                          <a:lnTo>
                            <a:pt x="72" y="318"/>
                          </a:lnTo>
                          <a:lnTo>
                            <a:pt x="78" y="302"/>
                          </a:lnTo>
                          <a:lnTo>
                            <a:pt x="82" y="285"/>
                          </a:lnTo>
                          <a:lnTo>
                            <a:pt x="86" y="270"/>
                          </a:lnTo>
                          <a:lnTo>
                            <a:pt x="89" y="256"/>
                          </a:lnTo>
                          <a:lnTo>
                            <a:pt x="92" y="244"/>
                          </a:lnTo>
                          <a:lnTo>
                            <a:pt x="93" y="233"/>
                          </a:lnTo>
                          <a:lnTo>
                            <a:pt x="96" y="223"/>
                          </a:lnTo>
                          <a:lnTo>
                            <a:pt x="101" y="208"/>
                          </a:lnTo>
                          <a:lnTo>
                            <a:pt x="108" y="190"/>
                          </a:lnTo>
                          <a:lnTo>
                            <a:pt x="114" y="170"/>
                          </a:lnTo>
                          <a:lnTo>
                            <a:pt x="124" y="150"/>
                          </a:lnTo>
                          <a:lnTo>
                            <a:pt x="132" y="130"/>
                          </a:lnTo>
                          <a:lnTo>
                            <a:pt x="141" y="111"/>
                          </a:lnTo>
                          <a:lnTo>
                            <a:pt x="150" y="94"/>
                          </a:lnTo>
                          <a:lnTo>
                            <a:pt x="158" y="81"/>
                          </a:lnTo>
                          <a:lnTo>
                            <a:pt x="165" y="73"/>
                          </a:lnTo>
                          <a:lnTo>
                            <a:pt x="172" y="66"/>
                          </a:lnTo>
                          <a:lnTo>
                            <a:pt x="178" y="58"/>
                          </a:lnTo>
                          <a:lnTo>
                            <a:pt x="185" y="47"/>
                          </a:lnTo>
                          <a:lnTo>
                            <a:pt x="192" y="35"/>
                          </a:lnTo>
                          <a:lnTo>
                            <a:pt x="196" y="25"/>
                          </a:lnTo>
                          <a:lnTo>
                            <a:pt x="198" y="15"/>
                          </a:lnTo>
                          <a:lnTo>
                            <a:pt x="198" y="7"/>
                          </a:lnTo>
                          <a:lnTo>
                            <a:pt x="194" y="2"/>
                          </a:lnTo>
                          <a:lnTo>
                            <a:pt x="186" y="0"/>
                          </a:lnTo>
                          <a:lnTo>
                            <a:pt x="174" y="2"/>
                          </a:lnTo>
                          <a:close/>
                        </a:path>
                      </a:pathLst>
                    </a:custGeom>
                    <a:solidFill>
                      <a:srgbClr val="fcf39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815040" y="1540440"/>
                      <a:ext cx="113040" cy="22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4" h="339">
                          <a:moveTo>
                            <a:pt x="152" y="2"/>
                          </a:moveTo>
                          <a:lnTo>
                            <a:pt x="151" y="3"/>
                          </a:lnTo>
                          <a:lnTo>
                            <a:pt x="144" y="4"/>
                          </a:lnTo>
                          <a:lnTo>
                            <a:pt x="135" y="8"/>
                          </a:lnTo>
                          <a:lnTo>
                            <a:pt x="123" y="15"/>
                          </a:lnTo>
                          <a:lnTo>
                            <a:pt x="108" y="24"/>
                          </a:lnTo>
                          <a:lnTo>
                            <a:pt x="92" y="38"/>
                          </a:lnTo>
                          <a:lnTo>
                            <a:pt x="76" y="57"/>
                          </a:lnTo>
                          <a:lnTo>
                            <a:pt x="59" y="82"/>
                          </a:lnTo>
                          <a:lnTo>
                            <a:pt x="43" y="113"/>
                          </a:lnTo>
                          <a:lnTo>
                            <a:pt x="27" y="152"/>
                          </a:lnTo>
                          <a:lnTo>
                            <a:pt x="27" y="155"/>
                          </a:lnTo>
                          <a:lnTo>
                            <a:pt x="24" y="163"/>
                          </a:lnTo>
                          <a:lnTo>
                            <a:pt x="22" y="178"/>
                          </a:lnTo>
                          <a:lnTo>
                            <a:pt x="18" y="195"/>
                          </a:lnTo>
                          <a:lnTo>
                            <a:pt x="14" y="215"/>
                          </a:lnTo>
                          <a:lnTo>
                            <a:pt x="10" y="238"/>
                          </a:lnTo>
                          <a:lnTo>
                            <a:pt x="6" y="260"/>
                          </a:lnTo>
                          <a:lnTo>
                            <a:pt x="3" y="281"/>
                          </a:lnTo>
                          <a:lnTo>
                            <a:pt x="0" y="301"/>
                          </a:lnTo>
                          <a:lnTo>
                            <a:pt x="0" y="319"/>
                          </a:lnTo>
                          <a:lnTo>
                            <a:pt x="0" y="320"/>
                          </a:lnTo>
                          <a:lnTo>
                            <a:pt x="0" y="323"/>
                          </a:lnTo>
                          <a:lnTo>
                            <a:pt x="0" y="326"/>
                          </a:lnTo>
                          <a:lnTo>
                            <a:pt x="2" y="331"/>
                          </a:lnTo>
                          <a:lnTo>
                            <a:pt x="4" y="335"/>
                          </a:lnTo>
                          <a:lnTo>
                            <a:pt x="7" y="338"/>
                          </a:lnTo>
                          <a:lnTo>
                            <a:pt x="11" y="339"/>
                          </a:lnTo>
                          <a:lnTo>
                            <a:pt x="16" y="339"/>
                          </a:lnTo>
                          <a:lnTo>
                            <a:pt x="24" y="336"/>
                          </a:lnTo>
                          <a:lnTo>
                            <a:pt x="34" y="329"/>
                          </a:lnTo>
                          <a:lnTo>
                            <a:pt x="43" y="318"/>
                          </a:lnTo>
                          <a:lnTo>
                            <a:pt x="51" y="306"/>
                          </a:lnTo>
                          <a:lnTo>
                            <a:pt x="58" y="293"/>
                          </a:lnTo>
                          <a:lnTo>
                            <a:pt x="64" y="279"/>
                          </a:lnTo>
                          <a:lnTo>
                            <a:pt x="68" y="265"/>
                          </a:lnTo>
                          <a:lnTo>
                            <a:pt x="72" y="251"/>
                          </a:lnTo>
                          <a:lnTo>
                            <a:pt x="76" y="237"/>
                          </a:lnTo>
                          <a:lnTo>
                            <a:pt x="79" y="225"/>
                          </a:lnTo>
                          <a:lnTo>
                            <a:pt x="80" y="213"/>
                          </a:lnTo>
                          <a:lnTo>
                            <a:pt x="82" y="205"/>
                          </a:lnTo>
                          <a:lnTo>
                            <a:pt x="84" y="195"/>
                          </a:lnTo>
                          <a:lnTo>
                            <a:pt x="88" y="182"/>
                          </a:lnTo>
                          <a:lnTo>
                            <a:pt x="95" y="166"/>
                          </a:lnTo>
                          <a:lnTo>
                            <a:pt x="102" y="149"/>
                          </a:lnTo>
                          <a:lnTo>
                            <a:pt x="108" y="132"/>
                          </a:lnTo>
                          <a:lnTo>
                            <a:pt x="116" y="114"/>
                          </a:lnTo>
                          <a:lnTo>
                            <a:pt x="124" y="97"/>
                          </a:lnTo>
                          <a:lnTo>
                            <a:pt x="132" y="83"/>
                          </a:lnTo>
                          <a:lnTo>
                            <a:pt x="139" y="71"/>
                          </a:lnTo>
                          <a:lnTo>
                            <a:pt x="144" y="64"/>
                          </a:lnTo>
                          <a:lnTo>
                            <a:pt x="150" y="58"/>
                          </a:lnTo>
                          <a:lnTo>
                            <a:pt x="156" y="50"/>
                          </a:lnTo>
                          <a:lnTo>
                            <a:pt x="163" y="41"/>
                          </a:lnTo>
                          <a:lnTo>
                            <a:pt x="168" y="31"/>
                          </a:lnTo>
                          <a:lnTo>
                            <a:pt x="172" y="22"/>
                          </a:lnTo>
                          <a:lnTo>
                            <a:pt x="174" y="13"/>
                          </a:lnTo>
                          <a:lnTo>
                            <a:pt x="174" y="6"/>
                          </a:lnTo>
                          <a:lnTo>
                            <a:pt x="171" y="2"/>
                          </a:lnTo>
                          <a:lnTo>
                            <a:pt x="164" y="0"/>
                          </a:lnTo>
                          <a:lnTo>
                            <a:pt x="154" y="2"/>
                          </a:lnTo>
                          <a:lnTo>
                            <a:pt x="152" y="2"/>
                          </a:lnTo>
                          <a:close/>
                        </a:path>
                      </a:pathLst>
                    </a:custGeom>
                    <a:solidFill>
                      <a:srgbClr val="fdf49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>
                      <a:off x="819720" y="1548360"/>
                      <a:ext cx="96840" cy="19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" h="292">
                          <a:moveTo>
                            <a:pt x="131" y="1"/>
                          </a:moveTo>
                          <a:lnTo>
                            <a:pt x="129" y="3"/>
                          </a:lnTo>
                          <a:lnTo>
                            <a:pt x="124" y="4"/>
                          </a:lnTo>
                          <a:lnTo>
                            <a:pt x="116" y="7"/>
                          </a:lnTo>
                          <a:lnTo>
                            <a:pt x="105" y="13"/>
                          </a:lnTo>
                          <a:lnTo>
                            <a:pt x="93" y="22"/>
                          </a:lnTo>
                          <a:lnTo>
                            <a:pt x="79" y="33"/>
                          </a:lnTo>
                          <a:lnTo>
                            <a:pt x="65" y="50"/>
                          </a:lnTo>
                          <a:lnTo>
                            <a:pt x="51" y="71"/>
                          </a:lnTo>
                          <a:lnTo>
                            <a:pt x="36" y="97"/>
                          </a:lnTo>
                          <a:lnTo>
                            <a:pt x="24" y="130"/>
                          </a:lnTo>
                          <a:lnTo>
                            <a:pt x="23" y="134"/>
                          </a:lnTo>
                          <a:lnTo>
                            <a:pt x="21" y="141"/>
                          </a:lnTo>
                          <a:lnTo>
                            <a:pt x="17" y="153"/>
                          </a:lnTo>
                          <a:lnTo>
                            <a:pt x="15" y="168"/>
                          </a:lnTo>
                          <a:lnTo>
                            <a:pt x="11" y="186"/>
                          </a:lnTo>
                          <a:lnTo>
                            <a:pt x="8" y="204"/>
                          </a:lnTo>
                          <a:lnTo>
                            <a:pt x="4" y="223"/>
                          </a:lnTo>
                          <a:lnTo>
                            <a:pt x="1" y="242"/>
                          </a:lnTo>
                          <a:lnTo>
                            <a:pt x="0" y="259"/>
                          </a:lnTo>
                          <a:lnTo>
                            <a:pt x="0" y="274"/>
                          </a:lnTo>
                          <a:lnTo>
                            <a:pt x="0" y="275"/>
                          </a:lnTo>
                          <a:lnTo>
                            <a:pt x="0" y="278"/>
                          </a:lnTo>
                          <a:lnTo>
                            <a:pt x="0" y="280"/>
                          </a:lnTo>
                          <a:lnTo>
                            <a:pt x="1" y="285"/>
                          </a:lnTo>
                          <a:lnTo>
                            <a:pt x="3" y="287"/>
                          </a:lnTo>
                          <a:lnTo>
                            <a:pt x="5" y="291"/>
                          </a:lnTo>
                          <a:lnTo>
                            <a:pt x="9" y="292"/>
                          </a:lnTo>
                          <a:lnTo>
                            <a:pt x="13" y="291"/>
                          </a:lnTo>
                          <a:lnTo>
                            <a:pt x="20" y="288"/>
                          </a:lnTo>
                          <a:lnTo>
                            <a:pt x="28" y="282"/>
                          </a:lnTo>
                          <a:lnTo>
                            <a:pt x="36" y="274"/>
                          </a:lnTo>
                          <a:lnTo>
                            <a:pt x="43" y="263"/>
                          </a:lnTo>
                          <a:lnTo>
                            <a:pt x="49" y="252"/>
                          </a:lnTo>
                          <a:lnTo>
                            <a:pt x="55" y="240"/>
                          </a:lnTo>
                          <a:lnTo>
                            <a:pt x="59" y="228"/>
                          </a:lnTo>
                          <a:lnTo>
                            <a:pt x="63" y="215"/>
                          </a:lnTo>
                          <a:lnTo>
                            <a:pt x="65" y="203"/>
                          </a:lnTo>
                          <a:lnTo>
                            <a:pt x="67" y="193"/>
                          </a:lnTo>
                          <a:lnTo>
                            <a:pt x="69" y="183"/>
                          </a:lnTo>
                          <a:lnTo>
                            <a:pt x="71" y="176"/>
                          </a:lnTo>
                          <a:lnTo>
                            <a:pt x="72" y="168"/>
                          </a:lnTo>
                          <a:lnTo>
                            <a:pt x="76" y="156"/>
                          </a:lnTo>
                          <a:lnTo>
                            <a:pt x="80" y="143"/>
                          </a:lnTo>
                          <a:lnTo>
                            <a:pt x="87" y="128"/>
                          </a:lnTo>
                          <a:lnTo>
                            <a:pt x="93" y="112"/>
                          </a:lnTo>
                          <a:lnTo>
                            <a:pt x="100" y="98"/>
                          </a:lnTo>
                          <a:lnTo>
                            <a:pt x="107" y="84"/>
                          </a:lnTo>
                          <a:lnTo>
                            <a:pt x="113" y="71"/>
                          </a:lnTo>
                          <a:lnTo>
                            <a:pt x="119" y="62"/>
                          </a:lnTo>
                          <a:lnTo>
                            <a:pt x="124" y="56"/>
                          </a:lnTo>
                          <a:lnTo>
                            <a:pt x="128" y="50"/>
                          </a:lnTo>
                          <a:lnTo>
                            <a:pt x="133" y="44"/>
                          </a:lnTo>
                          <a:lnTo>
                            <a:pt x="139" y="36"/>
                          </a:lnTo>
                          <a:lnTo>
                            <a:pt x="144" y="27"/>
                          </a:lnTo>
                          <a:lnTo>
                            <a:pt x="147" y="19"/>
                          </a:lnTo>
                          <a:lnTo>
                            <a:pt x="149" y="12"/>
                          </a:lnTo>
                          <a:lnTo>
                            <a:pt x="149" y="6"/>
                          </a:lnTo>
                          <a:lnTo>
                            <a:pt x="147" y="3"/>
                          </a:lnTo>
                          <a:lnTo>
                            <a:pt x="140" y="0"/>
                          </a:lnTo>
                          <a:lnTo>
                            <a:pt x="131" y="3"/>
                          </a:lnTo>
                          <a:lnTo>
                            <a:pt x="131" y="1"/>
                          </a:lnTo>
                          <a:close/>
                        </a:path>
                      </a:pathLst>
                    </a:custGeom>
                    <a:solidFill>
                      <a:srgbClr val="fdf5a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>
                      <a:off x="824040" y="1559160"/>
                      <a:ext cx="806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4" h="243">
                          <a:moveTo>
                            <a:pt x="109" y="1"/>
                          </a:moveTo>
                          <a:lnTo>
                            <a:pt x="108" y="2"/>
                          </a:lnTo>
                          <a:lnTo>
                            <a:pt x="102" y="3"/>
                          </a:lnTo>
                          <a:lnTo>
                            <a:pt x="96" y="6"/>
                          </a:lnTo>
                          <a:lnTo>
                            <a:pt x="88" y="10"/>
                          </a:lnTo>
                          <a:lnTo>
                            <a:pt x="77" y="18"/>
                          </a:lnTo>
                          <a:lnTo>
                            <a:pt x="65" y="27"/>
                          </a:lnTo>
                          <a:lnTo>
                            <a:pt x="54" y="41"/>
                          </a:lnTo>
                          <a:lnTo>
                            <a:pt x="42" y="59"/>
                          </a:lnTo>
                          <a:lnTo>
                            <a:pt x="30" y="81"/>
                          </a:lnTo>
                          <a:lnTo>
                            <a:pt x="20" y="108"/>
                          </a:lnTo>
                          <a:lnTo>
                            <a:pt x="18" y="111"/>
                          </a:lnTo>
                          <a:lnTo>
                            <a:pt x="17" y="117"/>
                          </a:lnTo>
                          <a:lnTo>
                            <a:pt x="14" y="127"/>
                          </a:lnTo>
                          <a:lnTo>
                            <a:pt x="12" y="140"/>
                          </a:lnTo>
                          <a:lnTo>
                            <a:pt x="9" y="154"/>
                          </a:lnTo>
                          <a:lnTo>
                            <a:pt x="6" y="170"/>
                          </a:lnTo>
                          <a:lnTo>
                            <a:pt x="4" y="185"/>
                          </a:lnTo>
                          <a:lnTo>
                            <a:pt x="1" y="202"/>
                          </a:lnTo>
                          <a:lnTo>
                            <a:pt x="0" y="216"/>
                          </a:lnTo>
                          <a:lnTo>
                            <a:pt x="0" y="228"/>
                          </a:lnTo>
                          <a:lnTo>
                            <a:pt x="0" y="229"/>
                          </a:lnTo>
                          <a:lnTo>
                            <a:pt x="0" y="231"/>
                          </a:lnTo>
                          <a:lnTo>
                            <a:pt x="0" y="234"/>
                          </a:lnTo>
                          <a:lnTo>
                            <a:pt x="1" y="237"/>
                          </a:lnTo>
                          <a:lnTo>
                            <a:pt x="2" y="239"/>
                          </a:lnTo>
                          <a:lnTo>
                            <a:pt x="4" y="242"/>
                          </a:lnTo>
                          <a:lnTo>
                            <a:pt x="8" y="243"/>
                          </a:lnTo>
                          <a:lnTo>
                            <a:pt x="12" y="242"/>
                          </a:lnTo>
                          <a:lnTo>
                            <a:pt x="17" y="239"/>
                          </a:lnTo>
                          <a:lnTo>
                            <a:pt x="24" y="235"/>
                          </a:lnTo>
                          <a:lnTo>
                            <a:pt x="30" y="228"/>
                          </a:lnTo>
                          <a:lnTo>
                            <a:pt x="36" y="219"/>
                          </a:lnTo>
                          <a:lnTo>
                            <a:pt x="41" y="210"/>
                          </a:lnTo>
                          <a:lnTo>
                            <a:pt x="45" y="199"/>
                          </a:lnTo>
                          <a:lnTo>
                            <a:pt x="49" y="190"/>
                          </a:lnTo>
                          <a:lnTo>
                            <a:pt x="52" y="179"/>
                          </a:lnTo>
                          <a:lnTo>
                            <a:pt x="54" y="170"/>
                          </a:lnTo>
                          <a:lnTo>
                            <a:pt x="56" y="160"/>
                          </a:lnTo>
                          <a:lnTo>
                            <a:pt x="57" y="152"/>
                          </a:lnTo>
                          <a:lnTo>
                            <a:pt x="58" y="146"/>
                          </a:lnTo>
                          <a:lnTo>
                            <a:pt x="60" y="139"/>
                          </a:lnTo>
                          <a:lnTo>
                            <a:pt x="62" y="130"/>
                          </a:lnTo>
                          <a:lnTo>
                            <a:pt x="66" y="119"/>
                          </a:lnTo>
                          <a:lnTo>
                            <a:pt x="72" y="106"/>
                          </a:lnTo>
                          <a:lnTo>
                            <a:pt x="77" y="94"/>
                          </a:lnTo>
                          <a:lnTo>
                            <a:pt x="82" y="81"/>
                          </a:lnTo>
                          <a:lnTo>
                            <a:pt x="88" y="69"/>
                          </a:lnTo>
                          <a:lnTo>
                            <a:pt x="93" y="59"/>
                          </a:lnTo>
                          <a:lnTo>
                            <a:pt x="98" y="52"/>
                          </a:lnTo>
                          <a:lnTo>
                            <a:pt x="102" y="46"/>
                          </a:lnTo>
                          <a:lnTo>
                            <a:pt x="106" y="41"/>
                          </a:lnTo>
                          <a:lnTo>
                            <a:pt x="112" y="36"/>
                          </a:lnTo>
                          <a:lnTo>
                            <a:pt x="116" y="29"/>
                          </a:lnTo>
                          <a:lnTo>
                            <a:pt x="120" y="22"/>
                          </a:lnTo>
                          <a:lnTo>
                            <a:pt x="122" y="16"/>
                          </a:lnTo>
                          <a:lnTo>
                            <a:pt x="124" y="9"/>
                          </a:lnTo>
                          <a:lnTo>
                            <a:pt x="124" y="5"/>
                          </a:lnTo>
                          <a:lnTo>
                            <a:pt x="121" y="1"/>
                          </a:lnTo>
                          <a:lnTo>
                            <a:pt x="117" y="0"/>
                          </a:lnTo>
                          <a:lnTo>
                            <a:pt x="109" y="2"/>
                          </a:lnTo>
                          <a:lnTo>
                            <a:pt x="109" y="1"/>
                          </a:lnTo>
                          <a:close/>
                        </a:path>
                      </a:pathLst>
                    </a:custGeom>
                    <a:solidFill>
                      <a:srgbClr val="fdf6b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>
                      <a:off x="828000" y="1569240"/>
                      <a:ext cx="65160" cy="12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0" h="194">
                          <a:moveTo>
                            <a:pt x="87" y="0"/>
                          </a:moveTo>
                          <a:lnTo>
                            <a:pt x="87" y="1"/>
                          </a:lnTo>
                          <a:lnTo>
                            <a:pt x="83" y="3"/>
                          </a:lnTo>
                          <a:lnTo>
                            <a:pt x="78" y="4"/>
                          </a:lnTo>
                          <a:lnTo>
                            <a:pt x="71" y="8"/>
                          </a:lnTo>
                          <a:lnTo>
                            <a:pt x="62" y="13"/>
                          </a:lnTo>
                          <a:lnTo>
                            <a:pt x="54" y="21"/>
                          </a:lnTo>
                          <a:lnTo>
                            <a:pt x="43" y="32"/>
                          </a:lnTo>
                          <a:lnTo>
                            <a:pt x="34" y="46"/>
                          </a:lnTo>
                          <a:lnTo>
                            <a:pt x="24" y="64"/>
                          </a:lnTo>
                          <a:lnTo>
                            <a:pt x="16" y="86"/>
                          </a:lnTo>
                          <a:lnTo>
                            <a:pt x="15" y="88"/>
                          </a:lnTo>
                          <a:lnTo>
                            <a:pt x="14" y="93"/>
                          </a:lnTo>
                          <a:lnTo>
                            <a:pt x="12" y="102"/>
                          </a:lnTo>
                          <a:lnTo>
                            <a:pt x="10" y="111"/>
                          </a:lnTo>
                          <a:lnTo>
                            <a:pt x="8" y="123"/>
                          </a:lnTo>
                          <a:lnTo>
                            <a:pt x="6" y="136"/>
                          </a:lnTo>
                          <a:lnTo>
                            <a:pt x="3" y="148"/>
                          </a:lnTo>
                          <a:lnTo>
                            <a:pt x="2" y="161"/>
                          </a:lnTo>
                          <a:lnTo>
                            <a:pt x="0" y="172"/>
                          </a:lnTo>
                          <a:lnTo>
                            <a:pt x="0" y="182"/>
                          </a:lnTo>
                          <a:lnTo>
                            <a:pt x="0" y="183"/>
                          </a:lnTo>
                          <a:lnTo>
                            <a:pt x="0" y="184"/>
                          </a:lnTo>
                          <a:lnTo>
                            <a:pt x="0" y="187"/>
                          </a:lnTo>
                          <a:lnTo>
                            <a:pt x="2" y="189"/>
                          </a:lnTo>
                          <a:lnTo>
                            <a:pt x="3" y="191"/>
                          </a:lnTo>
                          <a:lnTo>
                            <a:pt x="4" y="193"/>
                          </a:lnTo>
                          <a:lnTo>
                            <a:pt x="7" y="194"/>
                          </a:lnTo>
                          <a:lnTo>
                            <a:pt x="10" y="194"/>
                          </a:lnTo>
                          <a:lnTo>
                            <a:pt x="14" y="191"/>
                          </a:lnTo>
                          <a:lnTo>
                            <a:pt x="19" y="188"/>
                          </a:lnTo>
                          <a:lnTo>
                            <a:pt x="24" y="182"/>
                          </a:lnTo>
                          <a:lnTo>
                            <a:pt x="30" y="175"/>
                          </a:lnTo>
                          <a:lnTo>
                            <a:pt x="34" y="168"/>
                          </a:lnTo>
                          <a:lnTo>
                            <a:pt x="36" y="159"/>
                          </a:lnTo>
                          <a:lnTo>
                            <a:pt x="39" y="151"/>
                          </a:lnTo>
                          <a:lnTo>
                            <a:pt x="42" y="143"/>
                          </a:lnTo>
                          <a:lnTo>
                            <a:pt x="43" y="135"/>
                          </a:lnTo>
                          <a:lnTo>
                            <a:pt x="46" y="128"/>
                          </a:lnTo>
                          <a:lnTo>
                            <a:pt x="46" y="122"/>
                          </a:lnTo>
                          <a:lnTo>
                            <a:pt x="47" y="117"/>
                          </a:lnTo>
                          <a:lnTo>
                            <a:pt x="48" y="111"/>
                          </a:lnTo>
                          <a:lnTo>
                            <a:pt x="51" y="104"/>
                          </a:lnTo>
                          <a:lnTo>
                            <a:pt x="54" y="95"/>
                          </a:lnTo>
                          <a:lnTo>
                            <a:pt x="58" y="85"/>
                          </a:lnTo>
                          <a:lnTo>
                            <a:pt x="62" y="75"/>
                          </a:lnTo>
                          <a:lnTo>
                            <a:pt x="67" y="65"/>
                          </a:lnTo>
                          <a:lnTo>
                            <a:pt x="71" y="56"/>
                          </a:lnTo>
                          <a:lnTo>
                            <a:pt x="75" y="47"/>
                          </a:lnTo>
                          <a:lnTo>
                            <a:pt x="79" y="40"/>
                          </a:lnTo>
                          <a:lnTo>
                            <a:pt x="83" y="37"/>
                          </a:lnTo>
                          <a:lnTo>
                            <a:pt x="86" y="33"/>
                          </a:lnTo>
                          <a:lnTo>
                            <a:pt x="90" y="28"/>
                          </a:lnTo>
                          <a:lnTo>
                            <a:pt x="94" y="23"/>
                          </a:lnTo>
                          <a:lnTo>
                            <a:pt x="96" y="18"/>
                          </a:lnTo>
                          <a:lnTo>
                            <a:pt x="99" y="12"/>
                          </a:lnTo>
                          <a:lnTo>
                            <a:pt x="100" y="7"/>
                          </a:lnTo>
                          <a:lnTo>
                            <a:pt x="99" y="4"/>
                          </a:lnTo>
                          <a:lnTo>
                            <a:pt x="98" y="1"/>
                          </a:lnTo>
                          <a:lnTo>
                            <a:pt x="94" y="0"/>
                          </a:lnTo>
                          <a:lnTo>
                            <a:pt x="88" y="1"/>
                          </a:lnTo>
                          <a:lnTo>
                            <a:pt x="87" y="0"/>
                          </a:lnTo>
                          <a:close/>
                        </a:path>
                      </a:pathLst>
                    </a:custGeom>
                    <a:solidFill>
                      <a:srgbClr val="fdf7b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>
                      <a:off x="832680" y="1578240"/>
                      <a:ext cx="48600" cy="9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145">
                          <a:moveTo>
                            <a:pt x="65" y="0"/>
                          </a:moveTo>
                          <a:lnTo>
                            <a:pt x="65" y="2"/>
                          </a:lnTo>
                          <a:lnTo>
                            <a:pt x="63" y="3"/>
                          </a:lnTo>
                          <a:lnTo>
                            <a:pt x="59" y="4"/>
                          </a:lnTo>
                          <a:lnTo>
                            <a:pt x="53" y="6"/>
                          </a:lnTo>
                          <a:lnTo>
                            <a:pt x="47" y="11"/>
                          </a:lnTo>
                          <a:lnTo>
                            <a:pt x="40" y="17"/>
                          </a:lnTo>
                          <a:lnTo>
                            <a:pt x="32" y="25"/>
                          </a:lnTo>
                          <a:lnTo>
                            <a:pt x="25" y="36"/>
                          </a:lnTo>
                          <a:lnTo>
                            <a:pt x="19" y="49"/>
                          </a:lnTo>
                          <a:lnTo>
                            <a:pt x="12" y="65"/>
                          </a:lnTo>
                          <a:lnTo>
                            <a:pt x="12" y="66"/>
                          </a:lnTo>
                          <a:lnTo>
                            <a:pt x="11" y="70"/>
                          </a:lnTo>
                          <a:lnTo>
                            <a:pt x="9" y="76"/>
                          </a:lnTo>
                          <a:lnTo>
                            <a:pt x="8" y="84"/>
                          </a:lnTo>
                          <a:lnTo>
                            <a:pt x="5" y="92"/>
                          </a:lnTo>
                          <a:lnTo>
                            <a:pt x="4" y="102"/>
                          </a:lnTo>
                          <a:lnTo>
                            <a:pt x="3" y="111"/>
                          </a:lnTo>
                          <a:lnTo>
                            <a:pt x="1" y="121"/>
                          </a:lnTo>
                          <a:lnTo>
                            <a:pt x="0" y="129"/>
                          </a:lnTo>
                          <a:lnTo>
                            <a:pt x="0" y="137"/>
                          </a:lnTo>
                          <a:lnTo>
                            <a:pt x="0" y="137"/>
                          </a:lnTo>
                          <a:lnTo>
                            <a:pt x="0" y="138"/>
                          </a:lnTo>
                          <a:lnTo>
                            <a:pt x="0" y="141"/>
                          </a:lnTo>
                          <a:lnTo>
                            <a:pt x="1" y="142"/>
                          </a:lnTo>
                          <a:lnTo>
                            <a:pt x="1" y="144"/>
                          </a:lnTo>
                          <a:lnTo>
                            <a:pt x="3" y="145"/>
                          </a:lnTo>
                          <a:lnTo>
                            <a:pt x="5" y="145"/>
                          </a:lnTo>
                          <a:lnTo>
                            <a:pt x="7" y="145"/>
                          </a:lnTo>
                          <a:lnTo>
                            <a:pt x="11" y="144"/>
                          </a:lnTo>
                          <a:lnTo>
                            <a:pt x="15" y="141"/>
                          </a:lnTo>
                          <a:lnTo>
                            <a:pt x="19" y="137"/>
                          </a:lnTo>
                          <a:lnTo>
                            <a:pt x="21" y="131"/>
                          </a:lnTo>
                          <a:lnTo>
                            <a:pt x="25" y="125"/>
                          </a:lnTo>
                          <a:lnTo>
                            <a:pt x="28" y="120"/>
                          </a:lnTo>
                          <a:lnTo>
                            <a:pt x="29" y="114"/>
                          </a:lnTo>
                          <a:lnTo>
                            <a:pt x="31" y="108"/>
                          </a:lnTo>
                          <a:lnTo>
                            <a:pt x="33" y="102"/>
                          </a:lnTo>
                          <a:lnTo>
                            <a:pt x="33" y="96"/>
                          </a:lnTo>
                          <a:lnTo>
                            <a:pt x="35" y="91"/>
                          </a:lnTo>
                          <a:lnTo>
                            <a:pt x="36" y="88"/>
                          </a:lnTo>
                          <a:lnTo>
                            <a:pt x="36" y="84"/>
                          </a:lnTo>
                          <a:lnTo>
                            <a:pt x="39" y="78"/>
                          </a:lnTo>
                          <a:lnTo>
                            <a:pt x="40" y="71"/>
                          </a:lnTo>
                          <a:lnTo>
                            <a:pt x="44" y="64"/>
                          </a:lnTo>
                          <a:lnTo>
                            <a:pt x="47" y="57"/>
                          </a:lnTo>
                          <a:lnTo>
                            <a:pt x="49" y="49"/>
                          </a:lnTo>
                          <a:lnTo>
                            <a:pt x="53" y="42"/>
                          </a:lnTo>
                          <a:lnTo>
                            <a:pt x="56" y="36"/>
                          </a:lnTo>
                          <a:lnTo>
                            <a:pt x="60" y="31"/>
                          </a:lnTo>
                          <a:lnTo>
                            <a:pt x="63" y="27"/>
                          </a:lnTo>
                          <a:lnTo>
                            <a:pt x="64" y="25"/>
                          </a:lnTo>
                          <a:lnTo>
                            <a:pt x="67" y="22"/>
                          </a:lnTo>
                          <a:lnTo>
                            <a:pt x="69" y="18"/>
                          </a:lnTo>
                          <a:lnTo>
                            <a:pt x="72" y="13"/>
                          </a:lnTo>
                          <a:lnTo>
                            <a:pt x="73" y="10"/>
                          </a:lnTo>
                          <a:lnTo>
                            <a:pt x="75" y="6"/>
                          </a:lnTo>
                          <a:lnTo>
                            <a:pt x="75" y="3"/>
                          </a:lnTo>
                          <a:lnTo>
                            <a:pt x="73" y="2"/>
                          </a:lnTo>
                          <a:lnTo>
                            <a:pt x="71" y="0"/>
                          </a:lnTo>
                          <a:lnTo>
                            <a:pt x="65" y="2"/>
                          </a:lnTo>
                          <a:lnTo>
                            <a:pt x="65" y="0"/>
                          </a:lnTo>
                          <a:close/>
                        </a:path>
                      </a:pathLst>
                    </a:custGeom>
                    <a:solidFill>
                      <a:srgbClr val="fdf8c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>
                      <a:off x="869760" y="1889280"/>
                      <a:ext cx="290520" cy="24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6" h="368">
                          <a:moveTo>
                            <a:pt x="8" y="110"/>
                          </a:moveTo>
                          <a:lnTo>
                            <a:pt x="11" y="112"/>
                          </a:lnTo>
                          <a:lnTo>
                            <a:pt x="19" y="116"/>
                          </a:lnTo>
                          <a:lnTo>
                            <a:pt x="31" y="122"/>
                          </a:lnTo>
                          <a:lnTo>
                            <a:pt x="46" y="129"/>
                          </a:lnTo>
                          <a:lnTo>
                            <a:pt x="63" y="136"/>
                          </a:lnTo>
                          <a:lnTo>
                            <a:pt x="80" y="145"/>
                          </a:lnTo>
                          <a:lnTo>
                            <a:pt x="98" y="153"/>
                          </a:lnTo>
                          <a:lnTo>
                            <a:pt x="114" y="163"/>
                          </a:lnTo>
                          <a:lnTo>
                            <a:pt x="127" y="171"/>
                          </a:lnTo>
                          <a:lnTo>
                            <a:pt x="138" y="178"/>
                          </a:lnTo>
                          <a:lnTo>
                            <a:pt x="147" y="185"/>
                          </a:lnTo>
                          <a:lnTo>
                            <a:pt x="158" y="195"/>
                          </a:lnTo>
                          <a:lnTo>
                            <a:pt x="170" y="205"/>
                          </a:lnTo>
                          <a:lnTo>
                            <a:pt x="183" y="216"/>
                          </a:lnTo>
                          <a:lnTo>
                            <a:pt x="198" y="229"/>
                          </a:lnTo>
                          <a:lnTo>
                            <a:pt x="212" y="241"/>
                          </a:lnTo>
                          <a:lnTo>
                            <a:pt x="228" y="254"/>
                          </a:lnTo>
                          <a:lnTo>
                            <a:pt x="242" y="266"/>
                          </a:lnTo>
                          <a:lnTo>
                            <a:pt x="256" y="279"/>
                          </a:lnTo>
                          <a:lnTo>
                            <a:pt x="268" y="289"/>
                          </a:lnTo>
                          <a:lnTo>
                            <a:pt x="280" y="300"/>
                          </a:lnTo>
                          <a:lnTo>
                            <a:pt x="294" y="310"/>
                          </a:lnTo>
                          <a:lnTo>
                            <a:pt x="306" y="321"/>
                          </a:lnTo>
                          <a:lnTo>
                            <a:pt x="318" y="332"/>
                          </a:lnTo>
                          <a:lnTo>
                            <a:pt x="330" y="341"/>
                          </a:lnTo>
                          <a:lnTo>
                            <a:pt x="342" y="349"/>
                          </a:lnTo>
                          <a:lnTo>
                            <a:pt x="352" y="356"/>
                          </a:lnTo>
                          <a:lnTo>
                            <a:pt x="363" y="362"/>
                          </a:lnTo>
                          <a:lnTo>
                            <a:pt x="374" y="367"/>
                          </a:lnTo>
                          <a:lnTo>
                            <a:pt x="383" y="368"/>
                          </a:lnTo>
                          <a:lnTo>
                            <a:pt x="391" y="368"/>
                          </a:lnTo>
                          <a:lnTo>
                            <a:pt x="402" y="367"/>
                          </a:lnTo>
                          <a:lnTo>
                            <a:pt x="411" y="365"/>
                          </a:lnTo>
                          <a:lnTo>
                            <a:pt x="420" y="361"/>
                          </a:lnTo>
                          <a:lnTo>
                            <a:pt x="430" y="358"/>
                          </a:lnTo>
                          <a:lnTo>
                            <a:pt x="436" y="353"/>
                          </a:lnTo>
                          <a:lnTo>
                            <a:pt x="443" y="348"/>
                          </a:lnTo>
                          <a:lnTo>
                            <a:pt x="446" y="343"/>
                          </a:lnTo>
                          <a:lnTo>
                            <a:pt x="446" y="338"/>
                          </a:lnTo>
                          <a:lnTo>
                            <a:pt x="443" y="332"/>
                          </a:lnTo>
                          <a:lnTo>
                            <a:pt x="438" y="323"/>
                          </a:lnTo>
                          <a:lnTo>
                            <a:pt x="428" y="312"/>
                          </a:lnTo>
                          <a:lnTo>
                            <a:pt x="416" y="299"/>
                          </a:lnTo>
                          <a:lnTo>
                            <a:pt x="403" y="284"/>
                          </a:lnTo>
                          <a:lnTo>
                            <a:pt x="390" y="268"/>
                          </a:lnTo>
                          <a:lnTo>
                            <a:pt x="378" y="254"/>
                          </a:lnTo>
                          <a:lnTo>
                            <a:pt x="364" y="240"/>
                          </a:lnTo>
                          <a:lnTo>
                            <a:pt x="355" y="228"/>
                          </a:lnTo>
                          <a:lnTo>
                            <a:pt x="347" y="218"/>
                          </a:lnTo>
                          <a:lnTo>
                            <a:pt x="343" y="214"/>
                          </a:lnTo>
                          <a:lnTo>
                            <a:pt x="340" y="210"/>
                          </a:lnTo>
                          <a:lnTo>
                            <a:pt x="339" y="205"/>
                          </a:lnTo>
                          <a:lnTo>
                            <a:pt x="336" y="199"/>
                          </a:lnTo>
                          <a:lnTo>
                            <a:pt x="334" y="192"/>
                          </a:lnTo>
                          <a:lnTo>
                            <a:pt x="332" y="185"/>
                          </a:lnTo>
                          <a:lnTo>
                            <a:pt x="330" y="177"/>
                          </a:lnTo>
                          <a:lnTo>
                            <a:pt x="328" y="169"/>
                          </a:lnTo>
                          <a:lnTo>
                            <a:pt x="326" y="161"/>
                          </a:lnTo>
                          <a:lnTo>
                            <a:pt x="324" y="152"/>
                          </a:lnTo>
                          <a:lnTo>
                            <a:pt x="322" y="144"/>
                          </a:lnTo>
                          <a:lnTo>
                            <a:pt x="320" y="137"/>
                          </a:lnTo>
                          <a:lnTo>
                            <a:pt x="318" y="129"/>
                          </a:lnTo>
                          <a:lnTo>
                            <a:pt x="316" y="120"/>
                          </a:lnTo>
                          <a:lnTo>
                            <a:pt x="314" y="112"/>
                          </a:lnTo>
                          <a:lnTo>
                            <a:pt x="310" y="104"/>
                          </a:lnTo>
                          <a:lnTo>
                            <a:pt x="306" y="96"/>
                          </a:lnTo>
                          <a:lnTo>
                            <a:pt x="299" y="87"/>
                          </a:lnTo>
                          <a:lnTo>
                            <a:pt x="291" y="79"/>
                          </a:lnTo>
                          <a:lnTo>
                            <a:pt x="282" y="70"/>
                          </a:lnTo>
                          <a:lnTo>
                            <a:pt x="268" y="60"/>
                          </a:lnTo>
                          <a:lnTo>
                            <a:pt x="254" y="51"/>
                          </a:lnTo>
                          <a:lnTo>
                            <a:pt x="238" y="41"/>
                          </a:lnTo>
                          <a:lnTo>
                            <a:pt x="220" y="33"/>
                          </a:lnTo>
                          <a:lnTo>
                            <a:pt x="204" y="25"/>
                          </a:lnTo>
                          <a:lnTo>
                            <a:pt x="187" y="18"/>
                          </a:lnTo>
                          <a:lnTo>
                            <a:pt x="172" y="12"/>
                          </a:lnTo>
                          <a:lnTo>
                            <a:pt x="159" y="7"/>
                          </a:lnTo>
                          <a:lnTo>
                            <a:pt x="147" y="4"/>
                          </a:lnTo>
                          <a:lnTo>
                            <a:pt x="139" y="1"/>
                          </a:lnTo>
                          <a:lnTo>
                            <a:pt x="134" y="0"/>
                          </a:lnTo>
                          <a:lnTo>
                            <a:pt x="128" y="0"/>
                          </a:lnTo>
                          <a:lnTo>
                            <a:pt x="122" y="0"/>
                          </a:lnTo>
                          <a:lnTo>
                            <a:pt x="112" y="1"/>
                          </a:lnTo>
                          <a:lnTo>
                            <a:pt x="102" y="2"/>
                          </a:lnTo>
                          <a:lnTo>
                            <a:pt x="91" y="4"/>
                          </a:lnTo>
                          <a:lnTo>
                            <a:pt x="79" y="5"/>
                          </a:lnTo>
                          <a:lnTo>
                            <a:pt x="68" y="7"/>
                          </a:lnTo>
                          <a:lnTo>
                            <a:pt x="59" y="8"/>
                          </a:lnTo>
                          <a:lnTo>
                            <a:pt x="51" y="11"/>
                          </a:lnTo>
                          <a:lnTo>
                            <a:pt x="46" y="13"/>
                          </a:lnTo>
                          <a:lnTo>
                            <a:pt x="42" y="17"/>
                          </a:lnTo>
                          <a:lnTo>
                            <a:pt x="35" y="22"/>
                          </a:lnTo>
                          <a:lnTo>
                            <a:pt x="27" y="29"/>
                          </a:lnTo>
                          <a:lnTo>
                            <a:pt x="19" y="39"/>
                          </a:lnTo>
                          <a:lnTo>
                            <a:pt x="12" y="50"/>
                          </a:lnTo>
                          <a:lnTo>
                            <a:pt x="6" y="60"/>
                          </a:lnTo>
                          <a:lnTo>
                            <a:pt x="2" y="73"/>
                          </a:lnTo>
                          <a:lnTo>
                            <a:pt x="0" y="85"/>
                          </a:lnTo>
                          <a:lnTo>
                            <a:pt x="3" y="98"/>
                          </a:lnTo>
                          <a:lnTo>
                            <a:pt x="8" y="111"/>
                          </a:lnTo>
                          <a:lnTo>
                            <a:pt x="8" y="110"/>
                          </a:lnTo>
                          <a:close/>
                        </a:path>
                      </a:pathLst>
                    </a:custGeom>
                    <a:solidFill>
                      <a:srgbClr val="ffd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>
                      <a:off x="879480" y="1890000"/>
                      <a:ext cx="265680" cy="22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8" h="338">
                          <a:moveTo>
                            <a:pt x="7" y="102"/>
                          </a:moveTo>
                          <a:lnTo>
                            <a:pt x="9" y="103"/>
                          </a:lnTo>
                          <a:lnTo>
                            <a:pt x="17" y="106"/>
                          </a:lnTo>
                          <a:lnTo>
                            <a:pt x="28" y="111"/>
                          </a:lnTo>
                          <a:lnTo>
                            <a:pt x="41" y="118"/>
                          </a:lnTo>
                          <a:lnTo>
                            <a:pt x="57" y="125"/>
                          </a:lnTo>
                          <a:lnTo>
                            <a:pt x="73" y="134"/>
                          </a:lnTo>
                          <a:lnTo>
                            <a:pt x="89" y="142"/>
                          </a:lnTo>
                          <a:lnTo>
                            <a:pt x="104" y="150"/>
                          </a:lnTo>
                          <a:lnTo>
                            <a:pt x="116" y="157"/>
                          </a:lnTo>
                          <a:lnTo>
                            <a:pt x="125" y="164"/>
                          </a:lnTo>
                          <a:lnTo>
                            <a:pt x="133" y="170"/>
                          </a:lnTo>
                          <a:lnTo>
                            <a:pt x="144" y="178"/>
                          </a:lnTo>
                          <a:lnTo>
                            <a:pt x="155" y="189"/>
                          </a:lnTo>
                          <a:lnTo>
                            <a:pt x="168" y="198"/>
                          </a:lnTo>
                          <a:lnTo>
                            <a:pt x="181" y="210"/>
                          </a:lnTo>
                          <a:lnTo>
                            <a:pt x="195" y="222"/>
                          </a:lnTo>
                          <a:lnTo>
                            <a:pt x="208" y="233"/>
                          </a:lnTo>
                          <a:lnTo>
                            <a:pt x="221" y="244"/>
                          </a:lnTo>
                          <a:lnTo>
                            <a:pt x="233" y="255"/>
                          </a:lnTo>
                          <a:lnTo>
                            <a:pt x="245" y="266"/>
                          </a:lnTo>
                          <a:lnTo>
                            <a:pt x="256" y="275"/>
                          </a:lnTo>
                          <a:lnTo>
                            <a:pt x="268" y="286"/>
                          </a:lnTo>
                          <a:lnTo>
                            <a:pt x="279" y="295"/>
                          </a:lnTo>
                          <a:lnTo>
                            <a:pt x="291" y="305"/>
                          </a:lnTo>
                          <a:lnTo>
                            <a:pt x="301" y="313"/>
                          </a:lnTo>
                          <a:lnTo>
                            <a:pt x="312" y="321"/>
                          </a:lnTo>
                          <a:lnTo>
                            <a:pt x="323" y="328"/>
                          </a:lnTo>
                          <a:lnTo>
                            <a:pt x="332" y="333"/>
                          </a:lnTo>
                          <a:lnTo>
                            <a:pt x="341" y="337"/>
                          </a:lnTo>
                          <a:lnTo>
                            <a:pt x="349" y="338"/>
                          </a:lnTo>
                          <a:lnTo>
                            <a:pt x="359" y="338"/>
                          </a:lnTo>
                          <a:lnTo>
                            <a:pt x="367" y="337"/>
                          </a:lnTo>
                          <a:lnTo>
                            <a:pt x="376" y="335"/>
                          </a:lnTo>
                          <a:lnTo>
                            <a:pt x="385" y="332"/>
                          </a:lnTo>
                          <a:lnTo>
                            <a:pt x="393" y="328"/>
                          </a:lnTo>
                          <a:lnTo>
                            <a:pt x="400" y="325"/>
                          </a:lnTo>
                          <a:lnTo>
                            <a:pt x="405" y="320"/>
                          </a:lnTo>
                          <a:lnTo>
                            <a:pt x="408" y="315"/>
                          </a:lnTo>
                          <a:lnTo>
                            <a:pt x="408" y="309"/>
                          </a:lnTo>
                          <a:lnTo>
                            <a:pt x="405" y="303"/>
                          </a:lnTo>
                          <a:lnTo>
                            <a:pt x="400" y="296"/>
                          </a:lnTo>
                          <a:lnTo>
                            <a:pt x="392" y="287"/>
                          </a:lnTo>
                          <a:lnTo>
                            <a:pt x="381" y="274"/>
                          </a:lnTo>
                          <a:lnTo>
                            <a:pt x="369" y="261"/>
                          </a:lnTo>
                          <a:lnTo>
                            <a:pt x="357" y="247"/>
                          </a:lnTo>
                          <a:lnTo>
                            <a:pt x="345" y="233"/>
                          </a:lnTo>
                          <a:lnTo>
                            <a:pt x="333" y="220"/>
                          </a:lnTo>
                          <a:lnTo>
                            <a:pt x="324" y="209"/>
                          </a:lnTo>
                          <a:lnTo>
                            <a:pt x="317" y="201"/>
                          </a:lnTo>
                          <a:lnTo>
                            <a:pt x="313" y="196"/>
                          </a:lnTo>
                          <a:lnTo>
                            <a:pt x="311" y="193"/>
                          </a:lnTo>
                          <a:lnTo>
                            <a:pt x="309" y="188"/>
                          </a:lnTo>
                          <a:lnTo>
                            <a:pt x="308" y="183"/>
                          </a:lnTo>
                          <a:lnTo>
                            <a:pt x="305" y="177"/>
                          </a:lnTo>
                          <a:lnTo>
                            <a:pt x="304" y="170"/>
                          </a:lnTo>
                          <a:lnTo>
                            <a:pt x="301" y="163"/>
                          </a:lnTo>
                          <a:lnTo>
                            <a:pt x="300" y="156"/>
                          </a:lnTo>
                          <a:lnTo>
                            <a:pt x="299" y="148"/>
                          </a:lnTo>
                          <a:lnTo>
                            <a:pt x="296" y="141"/>
                          </a:lnTo>
                          <a:lnTo>
                            <a:pt x="295" y="132"/>
                          </a:lnTo>
                          <a:lnTo>
                            <a:pt x="292" y="125"/>
                          </a:lnTo>
                          <a:lnTo>
                            <a:pt x="291" y="118"/>
                          </a:lnTo>
                          <a:lnTo>
                            <a:pt x="289" y="111"/>
                          </a:lnTo>
                          <a:lnTo>
                            <a:pt x="287" y="104"/>
                          </a:lnTo>
                          <a:lnTo>
                            <a:pt x="284" y="96"/>
                          </a:lnTo>
                          <a:lnTo>
                            <a:pt x="280" y="89"/>
                          </a:lnTo>
                          <a:lnTo>
                            <a:pt x="273" y="80"/>
                          </a:lnTo>
                          <a:lnTo>
                            <a:pt x="267" y="72"/>
                          </a:lnTo>
                          <a:lnTo>
                            <a:pt x="257" y="64"/>
                          </a:lnTo>
                          <a:lnTo>
                            <a:pt x="245" y="56"/>
                          </a:lnTo>
                          <a:lnTo>
                            <a:pt x="232" y="47"/>
                          </a:lnTo>
                          <a:lnTo>
                            <a:pt x="217" y="39"/>
                          </a:lnTo>
                          <a:lnTo>
                            <a:pt x="201" y="31"/>
                          </a:lnTo>
                          <a:lnTo>
                            <a:pt x="187" y="24"/>
                          </a:lnTo>
                          <a:lnTo>
                            <a:pt x="171" y="17"/>
                          </a:lnTo>
                          <a:lnTo>
                            <a:pt x="157" y="12"/>
                          </a:lnTo>
                          <a:lnTo>
                            <a:pt x="145" y="7"/>
                          </a:lnTo>
                          <a:lnTo>
                            <a:pt x="135" y="4"/>
                          </a:lnTo>
                          <a:lnTo>
                            <a:pt x="127" y="1"/>
                          </a:lnTo>
                          <a:lnTo>
                            <a:pt x="121" y="0"/>
                          </a:lnTo>
                          <a:lnTo>
                            <a:pt x="117" y="0"/>
                          </a:lnTo>
                          <a:lnTo>
                            <a:pt x="111" y="1"/>
                          </a:lnTo>
                          <a:lnTo>
                            <a:pt x="103" y="1"/>
                          </a:lnTo>
                          <a:lnTo>
                            <a:pt x="92" y="3"/>
                          </a:lnTo>
                          <a:lnTo>
                            <a:pt x="83" y="4"/>
                          </a:lnTo>
                          <a:lnTo>
                            <a:pt x="72" y="5"/>
                          </a:lnTo>
                          <a:lnTo>
                            <a:pt x="63" y="6"/>
                          </a:lnTo>
                          <a:lnTo>
                            <a:pt x="53" y="8"/>
                          </a:lnTo>
                          <a:lnTo>
                            <a:pt x="47" y="11"/>
                          </a:lnTo>
                          <a:lnTo>
                            <a:pt x="41" y="13"/>
                          </a:lnTo>
                          <a:lnTo>
                            <a:pt x="37" y="16"/>
                          </a:lnTo>
                          <a:lnTo>
                            <a:pt x="31" y="21"/>
                          </a:lnTo>
                          <a:lnTo>
                            <a:pt x="24" y="28"/>
                          </a:lnTo>
                          <a:lnTo>
                            <a:pt x="17" y="37"/>
                          </a:lnTo>
                          <a:lnTo>
                            <a:pt x="11" y="46"/>
                          </a:lnTo>
                          <a:lnTo>
                            <a:pt x="5" y="56"/>
                          </a:lnTo>
                          <a:lnTo>
                            <a:pt x="1" y="67"/>
                          </a:lnTo>
                          <a:lnTo>
                            <a:pt x="0" y="79"/>
                          </a:lnTo>
                          <a:lnTo>
                            <a:pt x="1" y="90"/>
                          </a:lnTo>
                          <a:lnTo>
                            <a:pt x="7" y="102"/>
                          </a:lnTo>
                          <a:close/>
                        </a:path>
                      </a:pathLst>
                    </a:custGeom>
                    <a:solidFill>
                      <a:srgbClr val="fac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>
                      <a:off x="886680" y="1890720"/>
                      <a:ext cx="242280" cy="20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2" h="307">
                          <a:moveTo>
                            <a:pt x="6" y="92"/>
                          </a:moveTo>
                          <a:lnTo>
                            <a:pt x="9" y="95"/>
                          </a:lnTo>
                          <a:lnTo>
                            <a:pt x="16" y="97"/>
                          </a:lnTo>
                          <a:lnTo>
                            <a:pt x="25" y="102"/>
                          </a:lnTo>
                          <a:lnTo>
                            <a:pt x="38" y="108"/>
                          </a:lnTo>
                          <a:lnTo>
                            <a:pt x="52" y="115"/>
                          </a:lnTo>
                          <a:lnTo>
                            <a:pt x="66" y="122"/>
                          </a:lnTo>
                          <a:lnTo>
                            <a:pt x="81" y="129"/>
                          </a:lnTo>
                          <a:lnTo>
                            <a:pt x="94" y="136"/>
                          </a:lnTo>
                          <a:lnTo>
                            <a:pt x="105" y="143"/>
                          </a:lnTo>
                          <a:lnTo>
                            <a:pt x="114" y="149"/>
                          </a:lnTo>
                          <a:lnTo>
                            <a:pt x="121" y="156"/>
                          </a:lnTo>
                          <a:lnTo>
                            <a:pt x="130" y="163"/>
                          </a:lnTo>
                          <a:lnTo>
                            <a:pt x="141" y="171"/>
                          </a:lnTo>
                          <a:lnTo>
                            <a:pt x="153" y="181"/>
                          </a:lnTo>
                          <a:lnTo>
                            <a:pt x="165" y="192"/>
                          </a:lnTo>
                          <a:lnTo>
                            <a:pt x="177" y="202"/>
                          </a:lnTo>
                          <a:lnTo>
                            <a:pt x="189" y="213"/>
                          </a:lnTo>
                          <a:lnTo>
                            <a:pt x="201" y="222"/>
                          </a:lnTo>
                          <a:lnTo>
                            <a:pt x="213" y="233"/>
                          </a:lnTo>
                          <a:lnTo>
                            <a:pt x="224" y="242"/>
                          </a:lnTo>
                          <a:lnTo>
                            <a:pt x="233" y="251"/>
                          </a:lnTo>
                          <a:lnTo>
                            <a:pt x="244" y="260"/>
                          </a:lnTo>
                          <a:lnTo>
                            <a:pt x="254" y="269"/>
                          </a:lnTo>
                          <a:lnTo>
                            <a:pt x="264" y="278"/>
                          </a:lnTo>
                          <a:lnTo>
                            <a:pt x="274" y="285"/>
                          </a:lnTo>
                          <a:lnTo>
                            <a:pt x="284" y="293"/>
                          </a:lnTo>
                          <a:lnTo>
                            <a:pt x="293" y="299"/>
                          </a:lnTo>
                          <a:lnTo>
                            <a:pt x="302" y="304"/>
                          </a:lnTo>
                          <a:lnTo>
                            <a:pt x="310" y="306"/>
                          </a:lnTo>
                          <a:lnTo>
                            <a:pt x="318" y="307"/>
                          </a:lnTo>
                          <a:lnTo>
                            <a:pt x="326" y="307"/>
                          </a:lnTo>
                          <a:lnTo>
                            <a:pt x="334" y="307"/>
                          </a:lnTo>
                          <a:lnTo>
                            <a:pt x="342" y="305"/>
                          </a:lnTo>
                          <a:lnTo>
                            <a:pt x="350" y="302"/>
                          </a:lnTo>
                          <a:lnTo>
                            <a:pt x="357" y="299"/>
                          </a:lnTo>
                          <a:lnTo>
                            <a:pt x="364" y="295"/>
                          </a:lnTo>
                          <a:lnTo>
                            <a:pt x="368" y="292"/>
                          </a:lnTo>
                          <a:lnTo>
                            <a:pt x="370" y="287"/>
                          </a:lnTo>
                          <a:lnTo>
                            <a:pt x="372" y="282"/>
                          </a:lnTo>
                          <a:lnTo>
                            <a:pt x="369" y="277"/>
                          </a:lnTo>
                          <a:lnTo>
                            <a:pt x="364" y="271"/>
                          </a:lnTo>
                          <a:lnTo>
                            <a:pt x="356" y="261"/>
                          </a:lnTo>
                          <a:lnTo>
                            <a:pt x="346" y="249"/>
                          </a:lnTo>
                          <a:lnTo>
                            <a:pt x="336" y="238"/>
                          </a:lnTo>
                          <a:lnTo>
                            <a:pt x="325" y="225"/>
                          </a:lnTo>
                          <a:lnTo>
                            <a:pt x="313" y="212"/>
                          </a:lnTo>
                          <a:lnTo>
                            <a:pt x="304" y="201"/>
                          </a:lnTo>
                          <a:lnTo>
                            <a:pt x="294" y="190"/>
                          </a:lnTo>
                          <a:lnTo>
                            <a:pt x="289" y="183"/>
                          </a:lnTo>
                          <a:lnTo>
                            <a:pt x="285" y="179"/>
                          </a:lnTo>
                          <a:lnTo>
                            <a:pt x="284" y="176"/>
                          </a:lnTo>
                          <a:lnTo>
                            <a:pt x="281" y="171"/>
                          </a:lnTo>
                          <a:lnTo>
                            <a:pt x="280" y="167"/>
                          </a:lnTo>
                          <a:lnTo>
                            <a:pt x="278" y="161"/>
                          </a:lnTo>
                          <a:lnTo>
                            <a:pt x="276" y="155"/>
                          </a:lnTo>
                          <a:lnTo>
                            <a:pt x="274" y="149"/>
                          </a:lnTo>
                          <a:lnTo>
                            <a:pt x="273" y="142"/>
                          </a:lnTo>
                          <a:lnTo>
                            <a:pt x="272" y="135"/>
                          </a:lnTo>
                          <a:lnTo>
                            <a:pt x="269" y="128"/>
                          </a:lnTo>
                          <a:lnTo>
                            <a:pt x="268" y="122"/>
                          </a:lnTo>
                          <a:lnTo>
                            <a:pt x="266" y="115"/>
                          </a:lnTo>
                          <a:lnTo>
                            <a:pt x="264" y="108"/>
                          </a:lnTo>
                          <a:lnTo>
                            <a:pt x="262" y="102"/>
                          </a:lnTo>
                          <a:lnTo>
                            <a:pt x="261" y="95"/>
                          </a:lnTo>
                          <a:lnTo>
                            <a:pt x="258" y="88"/>
                          </a:lnTo>
                          <a:lnTo>
                            <a:pt x="254" y="81"/>
                          </a:lnTo>
                          <a:lnTo>
                            <a:pt x="249" y="74"/>
                          </a:lnTo>
                          <a:lnTo>
                            <a:pt x="242" y="66"/>
                          </a:lnTo>
                          <a:lnTo>
                            <a:pt x="234" y="59"/>
                          </a:lnTo>
                          <a:lnTo>
                            <a:pt x="224" y="51"/>
                          </a:lnTo>
                          <a:lnTo>
                            <a:pt x="210" y="43"/>
                          </a:lnTo>
                          <a:lnTo>
                            <a:pt x="197" y="36"/>
                          </a:lnTo>
                          <a:lnTo>
                            <a:pt x="184" y="29"/>
                          </a:lnTo>
                          <a:lnTo>
                            <a:pt x="169" y="22"/>
                          </a:lnTo>
                          <a:lnTo>
                            <a:pt x="156" y="16"/>
                          </a:lnTo>
                          <a:lnTo>
                            <a:pt x="144" y="11"/>
                          </a:lnTo>
                          <a:lnTo>
                            <a:pt x="132" y="6"/>
                          </a:lnTo>
                          <a:lnTo>
                            <a:pt x="122" y="4"/>
                          </a:lnTo>
                          <a:lnTo>
                            <a:pt x="116" y="2"/>
                          </a:lnTo>
                          <a:lnTo>
                            <a:pt x="110" y="0"/>
                          </a:lnTo>
                          <a:lnTo>
                            <a:pt x="106" y="2"/>
                          </a:lnTo>
                          <a:lnTo>
                            <a:pt x="101" y="2"/>
                          </a:lnTo>
                          <a:lnTo>
                            <a:pt x="93" y="2"/>
                          </a:lnTo>
                          <a:lnTo>
                            <a:pt x="84" y="3"/>
                          </a:lnTo>
                          <a:lnTo>
                            <a:pt x="74" y="4"/>
                          </a:lnTo>
                          <a:lnTo>
                            <a:pt x="65" y="5"/>
                          </a:lnTo>
                          <a:lnTo>
                            <a:pt x="57" y="6"/>
                          </a:lnTo>
                          <a:lnTo>
                            <a:pt x="49" y="9"/>
                          </a:lnTo>
                          <a:lnTo>
                            <a:pt x="42" y="10"/>
                          </a:lnTo>
                          <a:lnTo>
                            <a:pt x="38" y="12"/>
                          </a:lnTo>
                          <a:lnTo>
                            <a:pt x="34" y="15"/>
                          </a:lnTo>
                          <a:lnTo>
                            <a:pt x="28" y="19"/>
                          </a:lnTo>
                          <a:lnTo>
                            <a:pt x="22" y="26"/>
                          </a:lnTo>
                          <a:lnTo>
                            <a:pt x="16" y="33"/>
                          </a:lnTo>
                          <a:lnTo>
                            <a:pt x="9" y="42"/>
                          </a:lnTo>
                          <a:lnTo>
                            <a:pt x="5" y="51"/>
                          </a:lnTo>
                          <a:lnTo>
                            <a:pt x="1" y="62"/>
                          </a:lnTo>
                          <a:lnTo>
                            <a:pt x="0" y="72"/>
                          </a:lnTo>
                          <a:lnTo>
                            <a:pt x="1" y="83"/>
                          </a:lnTo>
                          <a:lnTo>
                            <a:pt x="6" y="94"/>
                          </a:lnTo>
                          <a:lnTo>
                            <a:pt x="6" y="92"/>
                          </a:lnTo>
                          <a:close/>
                        </a:path>
                      </a:pathLst>
                    </a:custGeom>
                    <a:solidFill>
                      <a:srgbClr val="f5b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>
                      <a:off x="895680" y="1892520"/>
                      <a:ext cx="21744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4" h="276">
                          <a:moveTo>
                            <a:pt x="6" y="82"/>
                          </a:moveTo>
                          <a:lnTo>
                            <a:pt x="8" y="84"/>
                          </a:lnTo>
                          <a:lnTo>
                            <a:pt x="14" y="86"/>
                          </a:lnTo>
                          <a:lnTo>
                            <a:pt x="23" y="91"/>
                          </a:lnTo>
                          <a:lnTo>
                            <a:pt x="34" y="95"/>
                          </a:lnTo>
                          <a:lnTo>
                            <a:pt x="47" y="101"/>
                          </a:lnTo>
                          <a:lnTo>
                            <a:pt x="60" y="108"/>
                          </a:lnTo>
                          <a:lnTo>
                            <a:pt x="72" y="115"/>
                          </a:lnTo>
                          <a:lnTo>
                            <a:pt x="84" y="121"/>
                          </a:lnTo>
                          <a:lnTo>
                            <a:pt x="95" y="127"/>
                          </a:lnTo>
                          <a:lnTo>
                            <a:pt x="103" y="133"/>
                          </a:lnTo>
                          <a:lnTo>
                            <a:pt x="110" y="139"/>
                          </a:lnTo>
                          <a:lnTo>
                            <a:pt x="118" y="146"/>
                          </a:lnTo>
                          <a:lnTo>
                            <a:pt x="127" y="153"/>
                          </a:lnTo>
                          <a:lnTo>
                            <a:pt x="138" y="161"/>
                          </a:lnTo>
                          <a:lnTo>
                            <a:pt x="148" y="171"/>
                          </a:lnTo>
                          <a:lnTo>
                            <a:pt x="159" y="180"/>
                          </a:lnTo>
                          <a:lnTo>
                            <a:pt x="170" y="190"/>
                          </a:lnTo>
                          <a:lnTo>
                            <a:pt x="182" y="199"/>
                          </a:lnTo>
                          <a:lnTo>
                            <a:pt x="191" y="207"/>
                          </a:lnTo>
                          <a:lnTo>
                            <a:pt x="200" y="217"/>
                          </a:lnTo>
                          <a:lnTo>
                            <a:pt x="210" y="224"/>
                          </a:lnTo>
                          <a:lnTo>
                            <a:pt x="219" y="232"/>
                          </a:lnTo>
                          <a:lnTo>
                            <a:pt x="228" y="240"/>
                          </a:lnTo>
                          <a:lnTo>
                            <a:pt x="238" y="249"/>
                          </a:lnTo>
                          <a:lnTo>
                            <a:pt x="247" y="256"/>
                          </a:lnTo>
                          <a:lnTo>
                            <a:pt x="256" y="262"/>
                          </a:lnTo>
                          <a:lnTo>
                            <a:pt x="264" y="268"/>
                          </a:lnTo>
                          <a:lnTo>
                            <a:pt x="272" y="271"/>
                          </a:lnTo>
                          <a:lnTo>
                            <a:pt x="280" y="275"/>
                          </a:lnTo>
                          <a:lnTo>
                            <a:pt x="287" y="276"/>
                          </a:lnTo>
                          <a:lnTo>
                            <a:pt x="294" y="276"/>
                          </a:lnTo>
                          <a:lnTo>
                            <a:pt x="300" y="275"/>
                          </a:lnTo>
                          <a:lnTo>
                            <a:pt x="308" y="274"/>
                          </a:lnTo>
                          <a:lnTo>
                            <a:pt x="315" y="271"/>
                          </a:lnTo>
                          <a:lnTo>
                            <a:pt x="322" y="268"/>
                          </a:lnTo>
                          <a:lnTo>
                            <a:pt x="327" y="264"/>
                          </a:lnTo>
                          <a:lnTo>
                            <a:pt x="331" y="261"/>
                          </a:lnTo>
                          <a:lnTo>
                            <a:pt x="334" y="257"/>
                          </a:lnTo>
                          <a:lnTo>
                            <a:pt x="334" y="252"/>
                          </a:lnTo>
                          <a:lnTo>
                            <a:pt x="332" y="248"/>
                          </a:lnTo>
                          <a:lnTo>
                            <a:pt x="327" y="242"/>
                          </a:lnTo>
                          <a:lnTo>
                            <a:pt x="320" y="233"/>
                          </a:lnTo>
                          <a:lnTo>
                            <a:pt x="312" y="224"/>
                          </a:lnTo>
                          <a:lnTo>
                            <a:pt x="302" y="212"/>
                          </a:lnTo>
                          <a:lnTo>
                            <a:pt x="292" y="200"/>
                          </a:lnTo>
                          <a:lnTo>
                            <a:pt x="282" y="190"/>
                          </a:lnTo>
                          <a:lnTo>
                            <a:pt x="274" y="179"/>
                          </a:lnTo>
                          <a:lnTo>
                            <a:pt x="266" y="170"/>
                          </a:lnTo>
                          <a:lnTo>
                            <a:pt x="260" y="164"/>
                          </a:lnTo>
                          <a:lnTo>
                            <a:pt x="256" y="159"/>
                          </a:lnTo>
                          <a:lnTo>
                            <a:pt x="255" y="157"/>
                          </a:lnTo>
                          <a:lnTo>
                            <a:pt x="254" y="153"/>
                          </a:lnTo>
                          <a:lnTo>
                            <a:pt x="252" y="148"/>
                          </a:lnTo>
                          <a:lnTo>
                            <a:pt x="250" y="144"/>
                          </a:lnTo>
                          <a:lnTo>
                            <a:pt x="248" y="139"/>
                          </a:lnTo>
                          <a:lnTo>
                            <a:pt x="247" y="133"/>
                          </a:lnTo>
                          <a:lnTo>
                            <a:pt x="246" y="126"/>
                          </a:lnTo>
                          <a:lnTo>
                            <a:pt x="244" y="120"/>
                          </a:lnTo>
                          <a:lnTo>
                            <a:pt x="243" y="114"/>
                          </a:lnTo>
                          <a:lnTo>
                            <a:pt x="240" y="108"/>
                          </a:lnTo>
                          <a:lnTo>
                            <a:pt x="239" y="102"/>
                          </a:lnTo>
                          <a:lnTo>
                            <a:pt x="238" y="95"/>
                          </a:lnTo>
                          <a:lnTo>
                            <a:pt x="236" y="89"/>
                          </a:lnTo>
                          <a:lnTo>
                            <a:pt x="235" y="84"/>
                          </a:lnTo>
                          <a:lnTo>
                            <a:pt x="232" y="78"/>
                          </a:lnTo>
                          <a:lnTo>
                            <a:pt x="228" y="72"/>
                          </a:lnTo>
                          <a:lnTo>
                            <a:pt x="224" y="65"/>
                          </a:lnTo>
                          <a:lnTo>
                            <a:pt x="218" y="59"/>
                          </a:lnTo>
                          <a:lnTo>
                            <a:pt x="211" y="52"/>
                          </a:lnTo>
                          <a:lnTo>
                            <a:pt x="200" y="45"/>
                          </a:lnTo>
                          <a:lnTo>
                            <a:pt x="190" y="37"/>
                          </a:lnTo>
                          <a:lnTo>
                            <a:pt x="178" y="30"/>
                          </a:lnTo>
                          <a:lnTo>
                            <a:pt x="166" y="24"/>
                          </a:lnTo>
                          <a:lnTo>
                            <a:pt x="152" y="19"/>
                          </a:lnTo>
                          <a:lnTo>
                            <a:pt x="140" y="13"/>
                          </a:lnTo>
                          <a:lnTo>
                            <a:pt x="128" y="8"/>
                          </a:lnTo>
                          <a:lnTo>
                            <a:pt x="119" y="4"/>
                          </a:lnTo>
                          <a:lnTo>
                            <a:pt x="110" y="2"/>
                          </a:lnTo>
                          <a:lnTo>
                            <a:pt x="104" y="0"/>
                          </a:lnTo>
                          <a:lnTo>
                            <a:pt x="100" y="0"/>
                          </a:lnTo>
                          <a:lnTo>
                            <a:pt x="96" y="0"/>
                          </a:lnTo>
                          <a:lnTo>
                            <a:pt x="91" y="0"/>
                          </a:lnTo>
                          <a:lnTo>
                            <a:pt x="84" y="1"/>
                          </a:lnTo>
                          <a:lnTo>
                            <a:pt x="76" y="1"/>
                          </a:lnTo>
                          <a:lnTo>
                            <a:pt x="67" y="2"/>
                          </a:lnTo>
                          <a:lnTo>
                            <a:pt x="59" y="3"/>
                          </a:lnTo>
                          <a:lnTo>
                            <a:pt x="51" y="4"/>
                          </a:lnTo>
                          <a:lnTo>
                            <a:pt x="44" y="6"/>
                          </a:lnTo>
                          <a:lnTo>
                            <a:pt x="38" y="8"/>
                          </a:lnTo>
                          <a:lnTo>
                            <a:pt x="34" y="9"/>
                          </a:lnTo>
                          <a:lnTo>
                            <a:pt x="31" y="13"/>
                          </a:lnTo>
                          <a:lnTo>
                            <a:pt x="26" y="16"/>
                          </a:lnTo>
                          <a:lnTo>
                            <a:pt x="20" y="22"/>
                          </a:lnTo>
                          <a:lnTo>
                            <a:pt x="14" y="29"/>
                          </a:lnTo>
                          <a:lnTo>
                            <a:pt x="8" y="36"/>
                          </a:lnTo>
                          <a:lnTo>
                            <a:pt x="4" y="45"/>
                          </a:lnTo>
                          <a:lnTo>
                            <a:pt x="2" y="54"/>
                          </a:lnTo>
                          <a:lnTo>
                            <a:pt x="0" y="63"/>
                          </a:lnTo>
                          <a:lnTo>
                            <a:pt x="2" y="73"/>
                          </a:lnTo>
                          <a:lnTo>
                            <a:pt x="6" y="82"/>
                          </a:lnTo>
                          <a:close/>
                        </a:path>
                      </a:pathLst>
                    </a:custGeom>
                    <a:solidFill>
                      <a:srgbClr val="f0b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905400" y="1893240"/>
                      <a:ext cx="193320" cy="15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7" h="245">
                          <a:moveTo>
                            <a:pt x="4" y="73"/>
                          </a:moveTo>
                          <a:lnTo>
                            <a:pt x="7" y="74"/>
                          </a:lnTo>
                          <a:lnTo>
                            <a:pt x="12" y="77"/>
                          </a:lnTo>
                          <a:lnTo>
                            <a:pt x="20" y="81"/>
                          </a:lnTo>
                          <a:lnTo>
                            <a:pt x="31" y="85"/>
                          </a:lnTo>
                          <a:lnTo>
                            <a:pt x="41" y="91"/>
                          </a:lnTo>
                          <a:lnTo>
                            <a:pt x="53" y="97"/>
                          </a:lnTo>
                          <a:lnTo>
                            <a:pt x="64" y="103"/>
                          </a:lnTo>
                          <a:lnTo>
                            <a:pt x="75" y="108"/>
                          </a:lnTo>
                          <a:lnTo>
                            <a:pt x="84" y="114"/>
                          </a:lnTo>
                          <a:lnTo>
                            <a:pt x="91" y="119"/>
                          </a:lnTo>
                          <a:lnTo>
                            <a:pt x="97" y="124"/>
                          </a:lnTo>
                          <a:lnTo>
                            <a:pt x="104" y="130"/>
                          </a:lnTo>
                          <a:lnTo>
                            <a:pt x="113" y="137"/>
                          </a:lnTo>
                          <a:lnTo>
                            <a:pt x="121" y="144"/>
                          </a:lnTo>
                          <a:lnTo>
                            <a:pt x="132" y="152"/>
                          </a:lnTo>
                          <a:lnTo>
                            <a:pt x="141" y="160"/>
                          </a:lnTo>
                          <a:lnTo>
                            <a:pt x="151" y="169"/>
                          </a:lnTo>
                          <a:lnTo>
                            <a:pt x="161" y="177"/>
                          </a:lnTo>
                          <a:lnTo>
                            <a:pt x="169" y="185"/>
                          </a:lnTo>
                          <a:lnTo>
                            <a:pt x="179" y="192"/>
                          </a:lnTo>
                          <a:lnTo>
                            <a:pt x="187" y="199"/>
                          </a:lnTo>
                          <a:lnTo>
                            <a:pt x="195" y="208"/>
                          </a:lnTo>
                          <a:lnTo>
                            <a:pt x="203" y="215"/>
                          </a:lnTo>
                          <a:lnTo>
                            <a:pt x="211" y="221"/>
                          </a:lnTo>
                          <a:lnTo>
                            <a:pt x="219" y="228"/>
                          </a:lnTo>
                          <a:lnTo>
                            <a:pt x="227" y="234"/>
                          </a:lnTo>
                          <a:lnTo>
                            <a:pt x="235" y="238"/>
                          </a:lnTo>
                          <a:lnTo>
                            <a:pt x="241" y="242"/>
                          </a:lnTo>
                          <a:lnTo>
                            <a:pt x="248" y="244"/>
                          </a:lnTo>
                          <a:lnTo>
                            <a:pt x="255" y="245"/>
                          </a:lnTo>
                          <a:lnTo>
                            <a:pt x="260" y="245"/>
                          </a:lnTo>
                          <a:lnTo>
                            <a:pt x="267" y="244"/>
                          </a:lnTo>
                          <a:lnTo>
                            <a:pt x="273" y="243"/>
                          </a:lnTo>
                          <a:lnTo>
                            <a:pt x="280" y="241"/>
                          </a:lnTo>
                          <a:lnTo>
                            <a:pt x="285" y="238"/>
                          </a:lnTo>
                          <a:lnTo>
                            <a:pt x="291" y="236"/>
                          </a:lnTo>
                          <a:lnTo>
                            <a:pt x="295" y="232"/>
                          </a:lnTo>
                          <a:lnTo>
                            <a:pt x="296" y="229"/>
                          </a:lnTo>
                          <a:lnTo>
                            <a:pt x="297" y="225"/>
                          </a:lnTo>
                          <a:lnTo>
                            <a:pt x="295" y="221"/>
                          </a:lnTo>
                          <a:lnTo>
                            <a:pt x="291" y="216"/>
                          </a:lnTo>
                          <a:lnTo>
                            <a:pt x="284" y="208"/>
                          </a:lnTo>
                          <a:lnTo>
                            <a:pt x="277" y="199"/>
                          </a:lnTo>
                          <a:lnTo>
                            <a:pt x="268" y="189"/>
                          </a:lnTo>
                          <a:lnTo>
                            <a:pt x="260" y="179"/>
                          </a:lnTo>
                          <a:lnTo>
                            <a:pt x="251" y="169"/>
                          </a:lnTo>
                          <a:lnTo>
                            <a:pt x="243" y="159"/>
                          </a:lnTo>
                          <a:lnTo>
                            <a:pt x="236" y="152"/>
                          </a:lnTo>
                          <a:lnTo>
                            <a:pt x="231" y="146"/>
                          </a:lnTo>
                          <a:lnTo>
                            <a:pt x="228" y="143"/>
                          </a:lnTo>
                          <a:lnTo>
                            <a:pt x="227" y="140"/>
                          </a:lnTo>
                          <a:lnTo>
                            <a:pt x="225" y="137"/>
                          </a:lnTo>
                          <a:lnTo>
                            <a:pt x="224" y="133"/>
                          </a:lnTo>
                          <a:lnTo>
                            <a:pt x="223" y="129"/>
                          </a:lnTo>
                          <a:lnTo>
                            <a:pt x="221" y="124"/>
                          </a:lnTo>
                          <a:lnTo>
                            <a:pt x="220" y="118"/>
                          </a:lnTo>
                          <a:lnTo>
                            <a:pt x="219" y="113"/>
                          </a:lnTo>
                          <a:lnTo>
                            <a:pt x="217" y="107"/>
                          </a:lnTo>
                          <a:lnTo>
                            <a:pt x="216" y="101"/>
                          </a:lnTo>
                          <a:lnTo>
                            <a:pt x="213" y="97"/>
                          </a:lnTo>
                          <a:lnTo>
                            <a:pt x="212" y="91"/>
                          </a:lnTo>
                          <a:lnTo>
                            <a:pt x="211" y="86"/>
                          </a:lnTo>
                          <a:lnTo>
                            <a:pt x="209" y="80"/>
                          </a:lnTo>
                          <a:lnTo>
                            <a:pt x="208" y="75"/>
                          </a:lnTo>
                          <a:lnTo>
                            <a:pt x="207" y="70"/>
                          </a:lnTo>
                          <a:lnTo>
                            <a:pt x="203" y="64"/>
                          </a:lnTo>
                          <a:lnTo>
                            <a:pt x="199" y="59"/>
                          </a:lnTo>
                          <a:lnTo>
                            <a:pt x="193" y="53"/>
                          </a:lnTo>
                          <a:lnTo>
                            <a:pt x="187" y="46"/>
                          </a:lnTo>
                          <a:lnTo>
                            <a:pt x="179" y="40"/>
                          </a:lnTo>
                          <a:lnTo>
                            <a:pt x="168" y="34"/>
                          </a:lnTo>
                          <a:lnTo>
                            <a:pt x="157" y="28"/>
                          </a:lnTo>
                          <a:lnTo>
                            <a:pt x="147" y="22"/>
                          </a:lnTo>
                          <a:lnTo>
                            <a:pt x="135" y="16"/>
                          </a:lnTo>
                          <a:lnTo>
                            <a:pt x="124" y="12"/>
                          </a:lnTo>
                          <a:lnTo>
                            <a:pt x="115" y="8"/>
                          </a:lnTo>
                          <a:lnTo>
                            <a:pt x="105" y="5"/>
                          </a:lnTo>
                          <a:lnTo>
                            <a:pt x="97" y="2"/>
                          </a:lnTo>
                          <a:lnTo>
                            <a:pt x="92" y="0"/>
                          </a:lnTo>
                          <a:lnTo>
                            <a:pt x="88" y="0"/>
                          </a:lnTo>
                          <a:lnTo>
                            <a:pt x="85" y="0"/>
                          </a:lnTo>
                          <a:lnTo>
                            <a:pt x="80" y="0"/>
                          </a:lnTo>
                          <a:lnTo>
                            <a:pt x="75" y="1"/>
                          </a:lnTo>
                          <a:lnTo>
                            <a:pt x="67" y="1"/>
                          </a:lnTo>
                          <a:lnTo>
                            <a:pt x="60" y="2"/>
                          </a:lnTo>
                          <a:lnTo>
                            <a:pt x="52" y="3"/>
                          </a:lnTo>
                          <a:lnTo>
                            <a:pt x="45" y="5"/>
                          </a:lnTo>
                          <a:lnTo>
                            <a:pt x="39" y="6"/>
                          </a:lnTo>
                          <a:lnTo>
                            <a:pt x="33" y="7"/>
                          </a:lnTo>
                          <a:lnTo>
                            <a:pt x="31" y="9"/>
                          </a:lnTo>
                          <a:lnTo>
                            <a:pt x="27" y="12"/>
                          </a:lnTo>
                          <a:lnTo>
                            <a:pt x="23" y="15"/>
                          </a:lnTo>
                          <a:lnTo>
                            <a:pt x="17" y="20"/>
                          </a:lnTo>
                          <a:lnTo>
                            <a:pt x="12" y="26"/>
                          </a:lnTo>
                          <a:lnTo>
                            <a:pt x="8" y="33"/>
                          </a:lnTo>
                          <a:lnTo>
                            <a:pt x="4" y="40"/>
                          </a:lnTo>
                          <a:lnTo>
                            <a:pt x="1" y="48"/>
                          </a:lnTo>
                          <a:lnTo>
                            <a:pt x="0" y="57"/>
                          </a:lnTo>
                          <a:lnTo>
                            <a:pt x="1" y="65"/>
                          </a:lnTo>
                          <a:lnTo>
                            <a:pt x="5" y="74"/>
                          </a:lnTo>
                          <a:lnTo>
                            <a:pt x="4" y="73"/>
                          </a:lnTo>
                          <a:close/>
                        </a:path>
                      </a:pathLst>
                    </a:custGeom>
                    <a:solidFill>
                      <a:srgbClr val="eba4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915120" y="1893960"/>
                      <a:ext cx="16920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0" h="215">
                          <a:moveTo>
                            <a:pt x="4" y="65"/>
                          </a:moveTo>
                          <a:lnTo>
                            <a:pt x="5" y="66"/>
                          </a:lnTo>
                          <a:lnTo>
                            <a:pt x="10" y="69"/>
                          </a:lnTo>
                          <a:lnTo>
                            <a:pt x="17" y="71"/>
                          </a:lnTo>
                          <a:lnTo>
                            <a:pt x="26" y="76"/>
                          </a:lnTo>
                          <a:lnTo>
                            <a:pt x="36" y="80"/>
                          </a:lnTo>
                          <a:lnTo>
                            <a:pt x="46" y="85"/>
                          </a:lnTo>
                          <a:lnTo>
                            <a:pt x="56" y="90"/>
                          </a:lnTo>
                          <a:lnTo>
                            <a:pt x="65" y="96"/>
                          </a:lnTo>
                          <a:lnTo>
                            <a:pt x="73" y="100"/>
                          </a:lnTo>
                          <a:lnTo>
                            <a:pt x="80" y="104"/>
                          </a:lnTo>
                          <a:lnTo>
                            <a:pt x="84" y="109"/>
                          </a:lnTo>
                          <a:lnTo>
                            <a:pt x="90" y="115"/>
                          </a:lnTo>
                          <a:lnTo>
                            <a:pt x="98" y="120"/>
                          </a:lnTo>
                          <a:lnTo>
                            <a:pt x="106" y="126"/>
                          </a:lnTo>
                          <a:lnTo>
                            <a:pt x="114" y="133"/>
                          </a:lnTo>
                          <a:lnTo>
                            <a:pt x="124" y="142"/>
                          </a:lnTo>
                          <a:lnTo>
                            <a:pt x="132" y="149"/>
                          </a:lnTo>
                          <a:lnTo>
                            <a:pt x="140" y="156"/>
                          </a:lnTo>
                          <a:lnTo>
                            <a:pt x="148" y="163"/>
                          </a:lnTo>
                          <a:lnTo>
                            <a:pt x="156" y="169"/>
                          </a:lnTo>
                          <a:lnTo>
                            <a:pt x="162" y="176"/>
                          </a:lnTo>
                          <a:lnTo>
                            <a:pt x="170" y="182"/>
                          </a:lnTo>
                          <a:lnTo>
                            <a:pt x="177" y="188"/>
                          </a:lnTo>
                          <a:lnTo>
                            <a:pt x="184" y="194"/>
                          </a:lnTo>
                          <a:lnTo>
                            <a:pt x="192" y="200"/>
                          </a:lnTo>
                          <a:lnTo>
                            <a:pt x="198" y="204"/>
                          </a:lnTo>
                          <a:lnTo>
                            <a:pt x="205" y="209"/>
                          </a:lnTo>
                          <a:lnTo>
                            <a:pt x="210" y="213"/>
                          </a:lnTo>
                          <a:lnTo>
                            <a:pt x="217" y="215"/>
                          </a:lnTo>
                          <a:lnTo>
                            <a:pt x="222" y="215"/>
                          </a:lnTo>
                          <a:lnTo>
                            <a:pt x="228" y="215"/>
                          </a:lnTo>
                          <a:lnTo>
                            <a:pt x="233" y="215"/>
                          </a:lnTo>
                          <a:lnTo>
                            <a:pt x="238" y="214"/>
                          </a:lnTo>
                          <a:lnTo>
                            <a:pt x="244" y="211"/>
                          </a:lnTo>
                          <a:lnTo>
                            <a:pt x="249" y="209"/>
                          </a:lnTo>
                          <a:lnTo>
                            <a:pt x="253" y="207"/>
                          </a:lnTo>
                          <a:lnTo>
                            <a:pt x="257" y="204"/>
                          </a:lnTo>
                          <a:lnTo>
                            <a:pt x="258" y="201"/>
                          </a:lnTo>
                          <a:lnTo>
                            <a:pt x="260" y="197"/>
                          </a:lnTo>
                          <a:lnTo>
                            <a:pt x="257" y="194"/>
                          </a:lnTo>
                          <a:lnTo>
                            <a:pt x="254" y="189"/>
                          </a:lnTo>
                          <a:lnTo>
                            <a:pt x="249" y="183"/>
                          </a:lnTo>
                          <a:lnTo>
                            <a:pt x="242" y="175"/>
                          </a:lnTo>
                          <a:lnTo>
                            <a:pt x="234" y="166"/>
                          </a:lnTo>
                          <a:lnTo>
                            <a:pt x="226" y="157"/>
                          </a:lnTo>
                          <a:lnTo>
                            <a:pt x="218" y="149"/>
                          </a:lnTo>
                          <a:lnTo>
                            <a:pt x="212" y="141"/>
                          </a:lnTo>
                          <a:lnTo>
                            <a:pt x="206" y="133"/>
                          </a:lnTo>
                          <a:lnTo>
                            <a:pt x="201" y="128"/>
                          </a:lnTo>
                          <a:lnTo>
                            <a:pt x="198" y="125"/>
                          </a:lnTo>
                          <a:lnTo>
                            <a:pt x="197" y="123"/>
                          </a:lnTo>
                          <a:lnTo>
                            <a:pt x="196" y="120"/>
                          </a:lnTo>
                          <a:lnTo>
                            <a:pt x="196" y="117"/>
                          </a:lnTo>
                          <a:lnTo>
                            <a:pt x="194" y="113"/>
                          </a:lnTo>
                          <a:lnTo>
                            <a:pt x="193" y="109"/>
                          </a:lnTo>
                          <a:lnTo>
                            <a:pt x="192" y="104"/>
                          </a:lnTo>
                          <a:lnTo>
                            <a:pt x="190" y="99"/>
                          </a:lnTo>
                          <a:lnTo>
                            <a:pt x="189" y="94"/>
                          </a:lnTo>
                          <a:lnTo>
                            <a:pt x="188" y="90"/>
                          </a:lnTo>
                          <a:lnTo>
                            <a:pt x="186" y="85"/>
                          </a:lnTo>
                          <a:lnTo>
                            <a:pt x="185" y="80"/>
                          </a:lnTo>
                          <a:lnTo>
                            <a:pt x="184" y="76"/>
                          </a:lnTo>
                          <a:lnTo>
                            <a:pt x="184" y="71"/>
                          </a:lnTo>
                          <a:lnTo>
                            <a:pt x="182" y="66"/>
                          </a:lnTo>
                          <a:lnTo>
                            <a:pt x="180" y="61"/>
                          </a:lnTo>
                          <a:lnTo>
                            <a:pt x="177" y="57"/>
                          </a:lnTo>
                          <a:lnTo>
                            <a:pt x="173" y="52"/>
                          </a:lnTo>
                          <a:lnTo>
                            <a:pt x="169" y="46"/>
                          </a:lnTo>
                          <a:lnTo>
                            <a:pt x="164" y="41"/>
                          </a:lnTo>
                          <a:lnTo>
                            <a:pt x="156" y="35"/>
                          </a:lnTo>
                          <a:lnTo>
                            <a:pt x="146" y="31"/>
                          </a:lnTo>
                          <a:lnTo>
                            <a:pt x="137" y="25"/>
                          </a:lnTo>
                          <a:lnTo>
                            <a:pt x="128" y="20"/>
                          </a:lnTo>
                          <a:lnTo>
                            <a:pt x="118" y="15"/>
                          </a:lnTo>
                          <a:lnTo>
                            <a:pt x="108" y="11"/>
                          </a:lnTo>
                          <a:lnTo>
                            <a:pt x="100" y="7"/>
                          </a:lnTo>
                          <a:lnTo>
                            <a:pt x="92" y="5"/>
                          </a:lnTo>
                          <a:lnTo>
                            <a:pt x="85" y="2"/>
                          </a:lnTo>
                          <a:lnTo>
                            <a:pt x="80" y="1"/>
                          </a:lnTo>
                          <a:lnTo>
                            <a:pt x="77" y="0"/>
                          </a:lnTo>
                          <a:lnTo>
                            <a:pt x="74" y="0"/>
                          </a:lnTo>
                          <a:lnTo>
                            <a:pt x="70" y="1"/>
                          </a:lnTo>
                          <a:lnTo>
                            <a:pt x="65" y="1"/>
                          </a:lnTo>
                          <a:lnTo>
                            <a:pt x="58" y="1"/>
                          </a:lnTo>
                          <a:lnTo>
                            <a:pt x="52" y="2"/>
                          </a:lnTo>
                          <a:lnTo>
                            <a:pt x="45" y="4"/>
                          </a:lnTo>
                          <a:lnTo>
                            <a:pt x="40" y="5"/>
                          </a:lnTo>
                          <a:lnTo>
                            <a:pt x="33" y="6"/>
                          </a:lnTo>
                          <a:lnTo>
                            <a:pt x="29" y="7"/>
                          </a:lnTo>
                          <a:lnTo>
                            <a:pt x="26" y="8"/>
                          </a:lnTo>
                          <a:lnTo>
                            <a:pt x="22" y="11"/>
                          </a:lnTo>
                          <a:lnTo>
                            <a:pt x="20" y="14"/>
                          </a:lnTo>
                          <a:lnTo>
                            <a:pt x="14" y="18"/>
                          </a:lnTo>
                          <a:lnTo>
                            <a:pt x="10" y="24"/>
                          </a:lnTo>
                          <a:lnTo>
                            <a:pt x="6" y="30"/>
                          </a:lnTo>
                          <a:lnTo>
                            <a:pt x="2" y="35"/>
                          </a:lnTo>
                          <a:lnTo>
                            <a:pt x="0" y="43"/>
                          </a:lnTo>
                          <a:lnTo>
                            <a:pt x="0" y="51"/>
                          </a:lnTo>
                          <a:lnTo>
                            <a:pt x="0" y="58"/>
                          </a:lnTo>
                          <a:lnTo>
                            <a:pt x="4" y="65"/>
                          </a:lnTo>
                          <a:close/>
                        </a:path>
                      </a:pathLst>
                    </a:custGeom>
                    <a:solidFill>
                      <a:srgbClr val="e698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924480" y="1895400"/>
                      <a:ext cx="14508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3" h="185">
                          <a:moveTo>
                            <a:pt x="3" y="55"/>
                          </a:moveTo>
                          <a:lnTo>
                            <a:pt x="4" y="56"/>
                          </a:lnTo>
                          <a:lnTo>
                            <a:pt x="8" y="58"/>
                          </a:lnTo>
                          <a:lnTo>
                            <a:pt x="15" y="61"/>
                          </a:lnTo>
                          <a:lnTo>
                            <a:pt x="23" y="64"/>
                          </a:lnTo>
                          <a:lnTo>
                            <a:pt x="31" y="68"/>
                          </a:lnTo>
                          <a:lnTo>
                            <a:pt x="39" y="72"/>
                          </a:lnTo>
                          <a:lnTo>
                            <a:pt x="48" y="77"/>
                          </a:lnTo>
                          <a:lnTo>
                            <a:pt x="56" y="82"/>
                          </a:lnTo>
                          <a:lnTo>
                            <a:pt x="63" y="85"/>
                          </a:lnTo>
                          <a:lnTo>
                            <a:pt x="68" y="89"/>
                          </a:lnTo>
                          <a:lnTo>
                            <a:pt x="72" y="92"/>
                          </a:lnTo>
                          <a:lnTo>
                            <a:pt x="78" y="97"/>
                          </a:lnTo>
                          <a:lnTo>
                            <a:pt x="84" y="102"/>
                          </a:lnTo>
                          <a:lnTo>
                            <a:pt x="91" y="108"/>
                          </a:lnTo>
                          <a:lnTo>
                            <a:pt x="99" y="114"/>
                          </a:lnTo>
                          <a:lnTo>
                            <a:pt x="106" y="121"/>
                          </a:lnTo>
                          <a:lnTo>
                            <a:pt x="114" y="127"/>
                          </a:lnTo>
                          <a:lnTo>
                            <a:pt x="120" y="133"/>
                          </a:lnTo>
                          <a:lnTo>
                            <a:pt x="127" y="139"/>
                          </a:lnTo>
                          <a:lnTo>
                            <a:pt x="134" y="144"/>
                          </a:lnTo>
                          <a:lnTo>
                            <a:pt x="140" y="150"/>
                          </a:lnTo>
                          <a:lnTo>
                            <a:pt x="146" y="155"/>
                          </a:lnTo>
                          <a:lnTo>
                            <a:pt x="152" y="161"/>
                          </a:lnTo>
                          <a:lnTo>
                            <a:pt x="158" y="166"/>
                          </a:lnTo>
                          <a:lnTo>
                            <a:pt x="164" y="170"/>
                          </a:lnTo>
                          <a:lnTo>
                            <a:pt x="170" y="175"/>
                          </a:lnTo>
                          <a:lnTo>
                            <a:pt x="176" y="179"/>
                          </a:lnTo>
                          <a:lnTo>
                            <a:pt x="182" y="181"/>
                          </a:lnTo>
                          <a:lnTo>
                            <a:pt x="186" y="183"/>
                          </a:lnTo>
                          <a:lnTo>
                            <a:pt x="191" y="185"/>
                          </a:lnTo>
                          <a:lnTo>
                            <a:pt x="195" y="185"/>
                          </a:lnTo>
                          <a:lnTo>
                            <a:pt x="200" y="183"/>
                          </a:lnTo>
                          <a:lnTo>
                            <a:pt x="204" y="182"/>
                          </a:lnTo>
                          <a:lnTo>
                            <a:pt x="210" y="181"/>
                          </a:lnTo>
                          <a:lnTo>
                            <a:pt x="214" y="179"/>
                          </a:lnTo>
                          <a:lnTo>
                            <a:pt x="218" y="176"/>
                          </a:lnTo>
                          <a:lnTo>
                            <a:pt x="220" y="174"/>
                          </a:lnTo>
                          <a:lnTo>
                            <a:pt x="222" y="172"/>
                          </a:lnTo>
                          <a:lnTo>
                            <a:pt x="223" y="168"/>
                          </a:lnTo>
                          <a:lnTo>
                            <a:pt x="222" y="166"/>
                          </a:lnTo>
                          <a:lnTo>
                            <a:pt x="218" y="162"/>
                          </a:lnTo>
                          <a:lnTo>
                            <a:pt x="214" y="156"/>
                          </a:lnTo>
                          <a:lnTo>
                            <a:pt x="207" y="149"/>
                          </a:lnTo>
                          <a:lnTo>
                            <a:pt x="202" y="142"/>
                          </a:lnTo>
                          <a:lnTo>
                            <a:pt x="195" y="134"/>
                          </a:lnTo>
                          <a:lnTo>
                            <a:pt x="188" y="127"/>
                          </a:lnTo>
                          <a:lnTo>
                            <a:pt x="182" y="120"/>
                          </a:lnTo>
                          <a:lnTo>
                            <a:pt x="176" y="114"/>
                          </a:lnTo>
                          <a:lnTo>
                            <a:pt x="172" y="109"/>
                          </a:lnTo>
                          <a:lnTo>
                            <a:pt x="171" y="107"/>
                          </a:lnTo>
                          <a:lnTo>
                            <a:pt x="170" y="104"/>
                          </a:lnTo>
                          <a:lnTo>
                            <a:pt x="168" y="102"/>
                          </a:lnTo>
                          <a:lnTo>
                            <a:pt x="167" y="100"/>
                          </a:lnTo>
                          <a:lnTo>
                            <a:pt x="167" y="96"/>
                          </a:lnTo>
                          <a:lnTo>
                            <a:pt x="166" y="92"/>
                          </a:lnTo>
                          <a:lnTo>
                            <a:pt x="164" y="89"/>
                          </a:lnTo>
                          <a:lnTo>
                            <a:pt x="163" y="84"/>
                          </a:lnTo>
                          <a:lnTo>
                            <a:pt x="163" y="81"/>
                          </a:lnTo>
                          <a:lnTo>
                            <a:pt x="162" y="76"/>
                          </a:lnTo>
                          <a:lnTo>
                            <a:pt x="160" y="72"/>
                          </a:lnTo>
                          <a:lnTo>
                            <a:pt x="159" y="68"/>
                          </a:lnTo>
                          <a:lnTo>
                            <a:pt x="158" y="64"/>
                          </a:lnTo>
                          <a:lnTo>
                            <a:pt x="158" y="61"/>
                          </a:lnTo>
                          <a:lnTo>
                            <a:pt x="156" y="56"/>
                          </a:lnTo>
                          <a:lnTo>
                            <a:pt x="155" y="52"/>
                          </a:lnTo>
                          <a:lnTo>
                            <a:pt x="152" y="48"/>
                          </a:lnTo>
                          <a:lnTo>
                            <a:pt x="150" y="44"/>
                          </a:lnTo>
                          <a:lnTo>
                            <a:pt x="146" y="39"/>
                          </a:lnTo>
                          <a:lnTo>
                            <a:pt x="140" y="35"/>
                          </a:lnTo>
                          <a:lnTo>
                            <a:pt x="134" y="30"/>
                          </a:lnTo>
                          <a:lnTo>
                            <a:pt x="126" y="25"/>
                          </a:lnTo>
                          <a:lnTo>
                            <a:pt x="118" y="20"/>
                          </a:lnTo>
                          <a:lnTo>
                            <a:pt x="110" y="17"/>
                          </a:lnTo>
                          <a:lnTo>
                            <a:pt x="102" y="12"/>
                          </a:lnTo>
                          <a:lnTo>
                            <a:pt x="94" y="9"/>
                          </a:lnTo>
                          <a:lnTo>
                            <a:pt x="86" y="6"/>
                          </a:lnTo>
                          <a:lnTo>
                            <a:pt x="79" y="4"/>
                          </a:lnTo>
                          <a:lnTo>
                            <a:pt x="74" y="2"/>
                          </a:lnTo>
                          <a:lnTo>
                            <a:pt x="68" y="0"/>
                          </a:lnTo>
                          <a:lnTo>
                            <a:pt x="66" y="0"/>
                          </a:lnTo>
                          <a:lnTo>
                            <a:pt x="64" y="0"/>
                          </a:lnTo>
                          <a:lnTo>
                            <a:pt x="60" y="0"/>
                          </a:lnTo>
                          <a:lnTo>
                            <a:pt x="55" y="0"/>
                          </a:lnTo>
                          <a:lnTo>
                            <a:pt x="50" y="2"/>
                          </a:lnTo>
                          <a:lnTo>
                            <a:pt x="44" y="2"/>
                          </a:lnTo>
                          <a:lnTo>
                            <a:pt x="39" y="3"/>
                          </a:lnTo>
                          <a:lnTo>
                            <a:pt x="34" y="3"/>
                          </a:lnTo>
                          <a:lnTo>
                            <a:pt x="30" y="4"/>
                          </a:lnTo>
                          <a:lnTo>
                            <a:pt x="26" y="5"/>
                          </a:lnTo>
                          <a:lnTo>
                            <a:pt x="23" y="6"/>
                          </a:lnTo>
                          <a:lnTo>
                            <a:pt x="20" y="9"/>
                          </a:lnTo>
                          <a:lnTo>
                            <a:pt x="16" y="11"/>
                          </a:lnTo>
                          <a:lnTo>
                            <a:pt x="12" y="15"/>
                          </a:lnTo>
                          <a:lnTo>
                            <a:pt x="10" y="19"/>
                          </a:lnTo>
                          <a:lnTo>
                            <a:pt x="6" y="25"/>
                          </a:lnTo>
                          <a:lnTo>
                            <a:pt x="3" y="30"/>
                          </a:lnTo>
                          <a:lnTo>
                            <a:pt x="0" y="36"/>
                          </a:lnTo>
                          <a:lnTo>
                            <a:pt x="0" y="43"/>
                          </a:lnTo>
                          <a:lnTo>
                            <a:pt x="0" y="49"/>
                          </a:lnTo>
                          <a:lnTo>
                            <a:pt x="3" y="56"/>
                          </a:lnTo>
                          <a:lnTo>
                            <a:pt x="3" y="55"/>
                          </a:lnTo>
                          <a:close/>
                        </a:path>
                      </a:pathLst>
                    </a:custGeom>
                    <a:solidFill>
                      <a:srgbClr val="e08d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>
                      <a:off x="933480" y="1896480"/>
                      <a:ext cx="120960" cy="9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6" h="153">
                          <a:moveTo>
                            <a:pt x="2" y="46"/>
                          </a:moveTo>
                          <a:lnTo>
                            <a:pt x="5" y="46"/>
                          </a:lnTo>
                          <a:lnTo>
                            <a:pt x="8" y="48"/>
                          </a:lnTo>
                          <a:lnTo>
                            <a:pt x="13" y="50"/>
                          </a:lnTo>
                          <a:lnTo>
                            <a:pt x="20" y="53"/>
                          </a:lnTo>
                          <a:lnTo>
                            <a:pt x="26" y="56"/>
                          </a:lnTo>
                          <a:lnTo>
                            <a:pt x="33" y="60"/>
                          </a:lnTo>
                          <a:lnTo>
                            <a:pt x="41" y="63"/>
                          </a:lnTo>
                          <a:lnTo>
                            <a:pt x="48" y="67"/>
                          </a:lnTo>
                          <a:lnTo>
                            <a:pt x="53" y="70"/>
                          </a:lnTo>
                          <a:lnTo>
                            <a:pt x="57" y="74"/>
                          </a:lnTo>
                          <a:lnTo>
                            <a:pt x="61" y="76"/>
                          </a:lnTo>
                          <a:lnTo>
                            <a:pt x="65" y="81"/>
                          </a:lnTo>
                          <a:lnTo>
                            <a:pt x="70" y="85"/>
                          </a:lnTo>
                          <a:lnTo>
                            <a:pt x="76" y="89"/>
                          </a:lnTo>
                          <a:lnTo>
                            <a:pt x="82" y="95"/>
                          </a:lnTo>
                          <a:lnTo>
                            <a:pt x="89" y="100"/>
                          </a:lnTo>
                          <a:lnTo>
                            <a:pt x="94" y="105"/>
                          </a:lnTo>
                          <a:lnTo>
                            <a:pt x="101" y="111"/>
                          </a:lnTo>
                          <a:lnTo>
                            <a:pt x="106" y="115"/>
                          </a:lnTo>
                          <a:lnTo>
                            <a:pt x="112" y="120"/>
                          </a:lnTo>
                          <a:lnTo>
                            <a:pt x="117" y="125"/>
                          </a:lnTo>
                          <a:lnTo>
                            <a:pt x="122" y="129"/>
                          </a:lnTo>
                          <a:lnTo>
                            <a:pt x="128" y="133"/>
                          </a:lnTo>
                          <a:lnTo>
                            <a:pt x="132" y="138"/>
                          </a:lnTo>
                          <a:lnTo>
                            <a:pt x="137" y="141"/>
                          </a:lnTo>
                          <a:lnTo>
                            <a:pt x="142" y="145"/>
                          </a:lnTo>
                          <a:lnTo>
                            <a:pt x="146" y="148"/>
                          </a:lnTo>
                          <a:lnTo>
                            <a:pt x="152" y="151"/>
                          </a:lnTo>
                          <a:lnTo>
                            <a:pt x="156" y="152"/>
                          </a:lnTo>
                          <a:lnTo>
                            <a:pt x="160" y="153"/>
                          </a:lnTo>
                          <a:lnTo>
                            <a:pt x="164" y="153"/>
                          </a:lnTo>
                          <a:lnTo>
                            <a:pt x="168" y="152"/>
                          </a:lnTo>
                          <a:lnTo>
                            <a:pt x="172" y="152"/>
                          </a:lnTo>
                          <a:lnTo>
                            <a:pt x="176" y="151"/>
                          </a:lnTo>
                          <a:lnTo>
                            <a:pt x="178" y="148"/>
                          </a:lnTo>
                          <a:lnTo>
                            <a:pt x="182" y="147"/>
                          </a:lnTo>
                          <a:lnTo>
                            <a:pt x="184" y="145"/>
                          </a:lnTo>
                          <a:lnTo>
                            <a:pt x="185" y="142"/>
                          </a:lnTo>
                          <a:lnTo>
                            <a:pt x="186" y="140"/>
                          </a:lnTo>
                          <a:lnTo>
                            <a:pt x="185" y="138"/>
                          </a:lnTo>
                          <a:lnTo>
                            <a:pt x="182" y="134"/>
                          </a:lnTo>
                          <a:lnTo>
                            <a:pt x="178" y="129"/>
                          </a:lnTo>
                          <a:lnTo>
                            <a:pt x="173" y="124"/>
                          </a:lnTo>
                          <a:lnTo>
                            <a:pt x="168" y="118"/>
                          </a:lnTo>
                          <a:lnTo>
                            <a:pt x="162" y="112"/>
                          </a:lnTo>
                          <a:lnTo>
                            <a:pt x="157" y="105"/>
                          </a:lnTo>
                          <a:lnTo>
                            <a:pt x="152" y="99"/>
                          </a:lnTo>
                          <a:lnTo>
                            <a:pt x="148" y="94"/>
                          </a:lnTo>
                          <a:lnTo>
                            <a:pt x="145" y="90"/>
                          </a:lnTo>
                          <a:lnTo>
                            <a:pt x="142" y="88"/>
                          </a:lnTo>
                          <a:lnTo>
                            <a:pt x="142" y="87"/>
                          </a:lnTo>
                          <a:lnTo>
                            <a:pt x="141" y="85"/>
                          </a:lnTo>
                          <a:lnTo>
                            <a:pt x="140" y="82"/>
                          </a:lnTo>
                          <a:lnTo>
                            <a:pt x="140" y="80"/>
                          </a:lnTo>
                          <a:lnTo>
                            <a:pt x="138" y="76"/>
                          </a:lnTo>
                          <a:lnTo>
                            <a:pt x="137" y="74"/>
                          </a:lnTo>
                          <a:lnTo>
                            <a:pt x="137" y="70"/>
                          </a:lnTo>
                          <a:lnTo>
                            <a:pt x="136" y="67"/>
                          </a:lnTo>
                          <a:lnTo>
                            <a:pt x="134" y="63"/>
                          </a:lnTo>
                          <a:lnTo>
                            <a:pt x="134" y="60"/>
                          </a:lnTo>
                          <a:lnTo>
                            <a:pt x="133" y="56"/>
                          </a:lnTo>
                          <a:lnTo>
                            <a:pt x="132" y="53"/>
                          </a:lnTo>
                          <a:lnTo>
                            <a:pt x="132" y="49"/>
                          </a:lnTo>
                          <a:lnTo>
                            <a:pt x="130" y="47"/>
                          </a:lnTo>
                          <a:lnTo>
                            <a:pt x="129" y="43"/>
                          </a:lnTo>
                          <a:lnTo>
                            <a:pt x="128" y="40"/>
                          </a:lnTo>
                          <a:lnTo>
                            <a:pt x="125" y="36"/>
                          </a:lnTo>
                          <a:lnTo>
                            <a:pt x="121" y="33"/>
                          </a:lnTo>
                          <a:lnTo>
                            <a:pt x="117" y="29"/>
                          </a:lnTo>
                          <a:lnTo>
                            <a:pt x="112" y="24"/>
                          </a:lnTo>
                          <a:lnTo>
                            <a:pt x="105" y="21"/>
                          </a:lnTo>
                          <a:lnTo>
                            <a:pt x="98" y="17"/>
                          </a:lnTo>
                          <a:lnTo>
                            <a:pt x="92" y="14"/>
                          </a:lnTo>
                          <a:lnTo>
                            <a:pt x="85" y="10"/>
                          </a:lnTo>
                          <a:lnTo>
                            <a:pt x="78" y="7"/>
                          </a:lnTo>
                          <a:lnTo>
                            <a:pt x="72" y="4"/>
                          </a:lnTo>
                          <a:lnTo>
                            <a:pt x="66" y="2"/>
                          </a:lnTo>
                          <a:lnTo>
                            <a:pt x="61" y="1"/>
                          </a:lnTo>
                          <a:lnTo>
                            <a:pt x="58" y="0"/>
                          </a:lnTo>
                          <a:lnTo>
                            <a:pt x="56" y="0"/>
                          </a:lnTo>
                          <a:lnTo>
                            <a:pt x="53" y="0"/>
                          </a:lnTo>
                          <a:lnTo>
                            <a:pt x="50" y="0"/>
                          </a:lnTo>
                          <a:lnTo>
                            <a:pt x="46" y="0"/>
                          </a:lnTo>
                          <a:lnTo>
                            <a:pt x="42" y="1"/>
                          </a:lnTo>
                          <a:lnTo>
                            <a:pt x="37" y="1"/>
                          </a:lnTo>
                          <a:lnTo>
                            <a:pt x="33" y="2"/>
                          </a:lnTo>
                          <a:lnTo>
                            <a:pt x="29" y="2"/>
                          </a:lnTo>
                          <a:lnTo>
                            <a:pt x="25" y="3"/>
                          </a:lnTo>
                          <a:lnTo>
                            <a:pt x="21" y="4"/>
                          </a:lnTo>
                          <a:lnTo>
                            <a:pt x="20" y="6"/>
                          </a:lnTo>
                          <a:lnTo>
                            <a:pt x="17" y="7"/>
                          </a:lnTo>
                          <a:lnTo>
                            <a:pt x="14" y="9"/>
                          </a:lnTo>
                          <a:lnTo>
                            <a:pt x="12" y="13"/>
                          </a:lnTo>
                          <a:lnTo>
                            <a:pt x="8" y="16"/>
                          </a:lnTo>
                          <a:lnTo>
                            <a:pt x="5" y="20"/>
                          </a:lnTo>
                          <a:lnTo>
                            <a:pt x="2" y="24"/>
                          </a:lnTo>
                          <a:lnTo>
                            <a:pt x="1" y="30"/>
                          </a:lnTo>
                          <a:lnTo>
                            <a:pt x="0" y="35"/>
                          </a:lnTo>
                          <a:lnTo>
                            <a:pt x="1" y="41"/>
                          </a:lnTo>
                          <a:lnTo>
                            <a:pt x="4" y="46"/>
                          </a:lnTo>
                          <a:lnTo>
                            <a:pt x="2" y="46"/>
                          </a:lnTo>
                          <a:close/>
                        </a:path>
                      </a:pathLst>
                    </a:custGeom>
                    <a:solidFill>
                      <a:srgbClr val="db82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>
                      <a:off x="942480" y="1897200"/>
                      <a:ext cx="9756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0" h="123">
                          <a:moveTo>
                            <a:pt x="3" y="36"/>
                          </a:moveTo>
                          <a:lnTo>
                            <a:pt x="4" y="38"/>
                          </a:lnTo>
                          <a:lnTo>
                            <a:pt x="7" y="39"/>
                          </a:lnTo>
                          <a:lnTo>
                            <a:pt x="11" y="40"/>
                          </a:lnTo>
                          <a:lnTo>
                            <a:pt x="15" y="42"/>
                          </a:lnTo>
                          <a:lnTo>
                            <a:pt x="22" y="46"/>
                          </a:lnTo>
                          <a:lnTo>
                            <a:pt x="27" y="48"/>
                          </a:lnTo>
                          <a:lnTo>
                            <a:pt x="32" y="52"/>
                          </a:lnTo>
                          <a:lnTo>
                            <a:pt x="38" y="54"/>
                          </a:lnTo>
                          <a:lnTo>
                            <a:pt x="43" y="56"/>
                          </a:lnTo>
                          <a:lnTo>
                            <a:pt x="46" y="59"/>
                          </a:lnTo>
                          <a:lnTo>
                            <a:pt x="50" y="62"/>
                          </a:lnTo>
                          <a:lnTo>
                            <a:pt x="52" y="65"/>
                          </a:lnTo>
                          <a:lnTo>
                            <a:pt x="56" y="68"/>
                          </a:lnTo>
                          <a:lnTo>
                            <a:pt x="62" y="72"/>
                          </a:lnTo>
                          <a:lnTo>
                            <a:pt x="66" y="77"/>
                          </a:lnTo>
                          <a:lnTo>
                            <a:pt x="71" y="80"/>
                          </a:lnTo>
                          <a:lnTo>
                            <a:pt x="76" y="85"/>
                          </a:lnTo>
                          <a:lnTo>
                            <a:pt x="82" y="88"/>
                          </a:lnTo>
                          <a:lnTo>
                            <a:pt x="86" y="93"/>
                          </a:lnTo>
                          <a:lnTo>
                            <a:pt x="90" y="97"/>
                          </a:lnTo>
                          <a:lnTo>
                            <a:pt x="94" y="100"/>
                          </a:lnTo>
                          <a:lnTo>
                            <a:pt x="98" y="104"/>
                          </a:lnTo>
                          <a:lnTo>
                            <a:pt x="102" y="107"/>
                          </a:lnTo>
                          <a:lnTo>
                            <a:pt x="106" y="111"/>
                          </a:lnTo>
                          <a:lnTo>
                            <a:pt x="110" y="114"/>
                          </a:lnTo>
                          <a:lnTo>
                            <a:pt x="114" y="117"/>
                          </a:lnTo>
                          <a:lnTo>
                            <a:pt x="118" y="119"/>
                          </a:lnTo>
                          <a:lnTo>
                            <a:pt x="122" y="121"/>
                          </a:lnTo>
                          <a:lnTo>
                            <a:pt x="124" y="123"/>
                          </a:lnTo>
                          <a:lnTo>
                            <a:pt x="128" y="123"/>
                          </a:lnTo>
                          <a:lnTo>
                            <a:pt x="131" y="123"/>
                          </a:lnTo>
                          <a:lnTo>
                            <a:pt x="134" y="123"/>
                          </a:lnTo>
                          <a:lnTo>
                            <a:pt x="138" y="121"/>
                          </a:lnTo>
                          <a:lnTo>
                            <a:pt x="140" y="120"/>
                          </a:lnTo>
                          <a:lnTo>
                            <a:pt x="143" y="119"/>
                          </a:lnTo>
                          <a:lnTo>
                            <a:pt x="146" y="118"/>
                          </a:lnTo>
                          <a:lnTo>
                            <a:pt x="148" y="117"/>
                          </a:lnTo>
                          <a:lnTo>
                            <a:pt x="148" y="114"/>
                          </a:lnTo>
                          <a:lnTo>
                            <a:pt x="150" y="112"/>
                          </a:lnTo>
                          <a:lnTo>
                            <a:pt x="148" y="111"/>
                          </a:lnTo>
                          <a:lnTo>
                            <a:pt x="146" y="107"/>
                          </a:lnTo>
                          <a:lnTo>
                            <a:pt x="143" y="104"/>
                          </a:lnTo>
                          <a:lnTo>
                            <a:pt x="139" y="100"/>
                          </a:lnTo>
                          <a:lnTo>
                            <a:pt x="135" y="94"/>
                          </a:lnTo>
                          <a:lnTo>
                            <a:pt x="131" y="89"/>
                          </a:lnTo>
                          <a:lnTo>
                            <a:pt x="126" y="85"/>
                          </a:lnTo>
                          <a:lnTo>
                            <a:pt x="122" y="80"/>
                          </a:lnTo>
                          <a:lnTo>
                            <a:pt x="119" y="75"/>
                          </a:lnTo>
                          <a:lnTo>
                            <a:pt x="116" y="73"/>
                          </a:lnTo>
                          <a:lnTo>
                            <a:pt x="115" y="71"/>
                          </a:lnTo>
                          <a:lnTo>
                            <a:pt x="114" y="69"/>
                          </a:lnTo>
                          <a:lnTo>
                            <a:pt x="114" y="68"/>
                          </a:lnTo>
                          <a:lnTo>
                            <a:pt x="112" y="66"/>
                          </a:lnTo>
                          <a:lnTo>
                            <a:pt x="112" y="65"/>
                          </a:lnTo>
                          <a:lnTo>
                            <a:pt x="111" y="61"/>
                          </a:lnTo>
                          <a:lnTo>
                            <a:pt x="111" y="59"/>
                          </a:lnTo>
                          <a:lnTo>
                            <a:pt x="110" y="56"/>
                          </a:lnTo>
                          <a:lnTo>
                            <a:pt x="110" y="54"/>
                          </a:lnTo>
                          <a:lnTo>
                            <a:pt x="108" y="51"/>
                          </a:lnTo>
                          <a:lnTo>
                            <a:pt x="107" y="48"/>
                          </a:lnTo>
                          <a:lnTo>
                            <a:pt x="107" y="46"/>
                          </a:lnTo>
                          <a:lnTo>
                            <a:pt x="106" y="42"/>
                          </a:lnTo>
                          <a:lnTo>
                            <a:pt x="106" y="40"/>
                          </a:lnTo>
                          <a:lnTo>
                            <a:pt x="104" y="38"/>
                          </a:lnTo>
                          <a:lnTo>
                            <a:pt x="104" y="35"/>
                          </a:lnTo>
                          <a:lnTo>
                            <a:pt x="102" y="32"/>
                          </a:lnTo>
                          <a:lnTo>
                            <a:pt x="100" y="29"/>
                          </a:lnTo>
                          <a:lnTo>
                            <a:pt x="98" y="26"/>
                          </a:lnTo>
                          <a:lnTo>
                            <a:pt x="94" y="23"/>
                          </a:lnTo>
                          <a:lnTo>
                            <a:pt x="90" y="20"/>
                          </a:lnTo>
                          <a:lnTo>
                            <a:pt x="84" y="17"/>
                          </a:lnTo>
                          <a:lnTo>
                            <a:pt x="79" y="14"/>
                          </a:lnTo>
                          <a:lnTo>
                            <a:pt x="74" y="12"/>
                          </a:lnTo>
                          <a:lnTo>
                            <a:pt x="68" y="8"/>
                          </a:lnTo>
                          <a:lnTo>
                            <a:pt x="63" y="6"/>
                          </a:lnTo>
                          <a:lnTo>
                            <a:pt x="58" y="5"/>
                          </a:lnTo>
                          <a:lnTo>
                            <a:pt x="54" y="2"/>
                          </a:lnTo>
                          <a:lnTo>
                            <a:pt x="50" y="1"/>
                          </a:lnTo>
                          <a:lnTo>
                            <a:pt x="47" y="0"/>
                          </a:lnTo>
                          <a:lnTo>
                            <a:pt x="44" y="0"/>
                          </a:lnTo>
                          <a:lnTo>
                            <a:pt x="43" y="0"/>
                          </a:lnTo>
                          <a:lnTo>
                            <a:pt x="40" y="0"/>
                          </a:lnTo>
                          <a:lnTo>
                            <a:pt x="38" y="0"/>
                          </a:lnTo>
                          <a:lnTo>
                            <a:pt x="34" y="1"/>
                          </a:lnTo>
                          <a:lnTo>
                            <a:pt x="31" y="1"/>
                          </a:lnTo>
                          <a:lnTo>
                            <a:pt x="27" y="2"/>
                          </a:lnTo>
                          <a:lnTo>
                            <a:pt x="23" y="2"/>
                          </a:lnTo>
                          <a:lnTo>
                            <a:pt x="20" y="3"/>
                          </a:lnTo>
                          <a:lnTo>
                            <a:pt x="18" y="3"/>
                          </a:lnTo>
                          <a:lnTo>
                            <a:pt x="16" y="5"/>
                          </a:lnTo>
                          <a:lnTo>
                            <a:pt x="14" y="6"/>
                          </a:lnTo>
                          <a:lnTo>
                            <a:pt x="12" y="8"/>
                          </a:lnTo>
                          <a:lnTo>
                            <a:pt x="10" y="10"/>
                          </a:lnTo>
                          <a:lnTo>
                            <a:pt x="7" y="13"/>
                          </a:lnTo>
                          <a:lnTo>
                            <a:pt x="4" y="16"/>
                          </a:lnTo>
                          <a:lnTo>
                            <a:pt x="3" y="20"/>
                          </a:lnTo>
                          <a:lnTo>
                            <a:pt x="2" y="25"/>
                          </a:lnTo>
                          <a:lnTo>
                            <a:pt x="0" y="28"/>
                          </a:lnTo>
                          <a:lnTo>
                            <a:pt x="2" y="33"/>
                          </a:lnTo>
                          <a:lnTo>
                            <a:pt x="3" y="36"/>
                          </a:lnTo>
                          <a:close/>
                        </a:path>
                      </a:pathLst>
                    </a:custGeom>
                    <a:solidFill>
                      <a:srgbClr val="d677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952560" y="1897920"/>
                      <a:ext cx="72360" cy="6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92">
                          <a:moveTo>
                            <a:pt x="1" y="28"/>
                          </a:moveTo>
                          <a:lnTo>
                            <a:pt x="3" y="28"/>
                          </a:lnTo>
                          <a:lnTo>
                            <a:pt x="4" y="29"/>
                          </a:lnTo>
                          <a:lnTo>
                            <a:pt x="8" y="31"/>
                          </a:lnTo>
                          <a:lnTo>
                            <a:pt x="11" y="33"/>
                          </a:lnTo>
                          <a:lnTo>
                            <a:pt x="16" y="34"/>
                          </a:lnTo>
                          <a:lnTo>
                            <a:pt x="20" y="37"/>
                          </a:lnTo>
                          <a:lnTo>
                            <a:pt x="24" y="39"/>
                          </a:lnTo>
                          <a:lnTo>
                            <a:pt x="28" y="41"/>
                          </a:lnTo>
                          <a:lnTo>
                            <a:pt x="32" y="44"/>
                          </a:lnTo>
                          <a:lnTo>
                            <a:pt x="35" y="45"/>
                          </a:lnTo>
                          <a:lnTo>
                            <a:pt x="36" y="47"/>
                          </a:lnTo>
                          <a:lnTo>
                            <a:pt x="39" y="50"/>
                          </a:lnTo>
                          <a:lnTo>
                            <a:pt x="43" y="52"/>
                          </a:lnTo>
                          <a:lnTo>
                            <a:pt x="45" y="54"/>
                          </a:lnTo>
                          <a:lnTo>
                            <a:pt x="49" y="58"/>
                          </a:lnTo>
                          <a:lnTo>
                            <a:pt x="53" y="61"/>
                          </a:lnTo>
                          <a:lnTo>
                            <a:pt x="57" y="64"/>
                          </a:lnTo>
                          <a:lnTo>
                            <a:pt x="60" y="67"/>
                          </a:lnTo>
                          <a:lnTo>
                            <a:pt x="64" y="70"/>
                          </a:lnTo>
                          <a:lnTo>
                            <a:pt x="67" y="73"/>
                          </a:lnTo>
                          <a:lnTo>
                            <a:pt x="69" y="76"/>
                          </a:lnTo>
                          <a:lnTo>
                            <a:pt x="73" y="78"/>
                          </a:lnTo>
                          <a:lnTo>
                            <a:pt x="76" y="81"/>
                          </a:lnTo>
                          <a:lnTo>
                            <a:pt x="79" y="84"/>
                          </a:lnTo>
                          <a:lnTo>
                            <a:pt x="83" y="86"/>
                          </a:lnTo>
                          <a:lnTo>
                            <a:pt x="85" y="88"/>
                          </a:lnTo>
                          <a:lnTo>
                            <a:pt x="88" y="90"/>
                          </a:lnTo>
                          <a:lnTo>
                            <a:pt x="91" y="91"/>
                          </a:lnTo>
                          <a:lnTo>
                            <a:pt x="93" y="92"/>
                          </a:lnTo>
                          <a:lnTo>
                            <a:pt x="96" y="92"/>
                          </a:lnTo>
                          <a:lnTo>
                            <a:pt x="97" y="92"/>
                          </a:lnTo>
                          <a:lnTo>
                            <a:pt x="100" y="92"/>
                          </a:lnTo>
                          <a:lnTo>
                            <a:pt x="103" y="92"/>
                          </a:lnTo>
                          <a:lnTo>
                            <a:pt x="105" y="91"/>
                          </a:lnTo>
                          <a:lnTo>
                            <a:pt x="107" y="90"/>
                          </a:lnTo>
                          <a:lnTo>
                            <a:pt x="109" y="88"/>
                          </a:lnTo>
                          <a:lnTo>
                            <a:pt x="111" y="87"/>
                          </a:lnTo>
                          <a:lnTo>
                            <a:pt x="111" y="86"/>
                          </a:lnTo>
                          <a:lnTo>
                            <a:pt x="111" y="85"/>
                          </a:lnTo>
                          <a:lnTo>
                            <a:pt x="111" y="84"/>
                          </a:lnTo>
                          <a:lnTo>
                            <a:pt x="109" y="81"/>
                          </a:lnTo>
                          <a:lnTo>
                            <a:pt x="107" y="79"/>
                          </a:lnTo>
                          <a:lnTo>
                            <a:pt x="104" y="76"/>
                          </a:lnTo>
                          <a:lnTo>
                            <a:pt x="101" y="72"/>
                          </a:lnTo>
                          <a:lnTo>
                            <a:pt x="97" y="67"/>
                          </a:lnTo>
                          <a:lnTo>
                            <a:pt x="95" y="64"/>
                          </a:lnTo>
                          <a:lnTo>
                            <a:pt x="91" y="60"/>
                          </a:lnTo>
                          <a:lnTo>
                            <a:pt x="88" y="58"/>
                          </a:lnTo>
                          <a:lnTo>
                            <a:pt x="87" y="55"/>
                          </a:lnTo>
                          <a:lnTo>
                            <a:pt x="85" y="54"/>
                          </a:lnTo>
                          <a:lnTo>
                            <a:pt x="85" y="53"/>
                          </a:lnTo>
                          <a:lnTo>
                            <a:pt x="84" y="52"/>
                          </a:lnTo>
                          <a:lnTo>
                            <a:pt x="84" y="51"/>
                          </a:lnTo>
                          <a:lnTo>
                            <a:pt x="84" y="48"/>
                          </a:lnTo>
                          <a:lnTo>
                            <a:pt x="83" y="47"/>
                          </a:lnTo>
                          <a:lnTo>
                            <a:pt x="83" y="45"/>
                          </a:lnTo>
                          <a:lnTo>
                            <a:pt x="81" y="42"/>
                          </a:lnTo>
                          <a:lnTo>
                            <a:pt x="81" y="41"/>
                          </a:lnTo>
                          <a:lnTo>
                            <a:pt x="81" y="39"/>
                          </a:lnTo>
                          <a:lnTo>
                            <a:pt x="80" y="37"/>
                          </a:lnTo>
                          <a:lnTo>
                            <a:pt x="80" y="34"/>
                          </a:lnTo>
                          <a:lnTo>
                            <a:pt x="79" y="33"/>
                          </a:lnTo>
                          <a:lnTo>
                            <a:pt x="79" y="31"/>
                          </a:lnTo>
                          <a:lnTo>
                            <a:pt x="79" y="28"/>
                          </a:lnTo>
                          <a:lnTo>
                            <a:pt x="77" y="27"/>
                          </a:lnTo>
                          <a:lnTo>
                            <a:pt x="76" y="25"/>
                          </a:lnTo>
                          <a:lnTo>
                            <a:pt x="75" y="22"/>
                          </a:lnTo>
                          <a:lnTo>
                            <a:pt x="73" y="20"/>
                          </a:lnTo>
                          <a:lnTo>
                            <a:pt x="71" y="18"/>
                          </a:lnTo>
                          <a:lnTo>
                            <a:pt x="67" y="15"/>
                          </a:lnTo>
                          <a:lnTo>
                            <a:pt x="63" y="13"/>
                          </a:lnTo>
                          <a:lnTo>
                            <a:pt x="59" y="11"/>
                          </a:lnTo>
                          <a:lnTo>
                            <a:pt x="55" y="8"/>
                          </a:lnTo>
                          <a:lnTo>
                            <a:pt x="51" y="7"/>
                          </a:lnTo>
                          <a:lnTo>
                            <a:pt x="47" y="5"/>
                          </a:lnTo>
                          <a:lnTo>
                            <a:pt x="43" y="4"/>
                          </a:lnTo>
                          <a:lnTo>
                            <a:pt x="40" y="2"/>
                          </a:lnTo>
                          <a:lnTo>
                            <a:pt x="36" y="1"/>
                          </a:lnTo>
                          <a:lnTo>
                            <a:pt x="35" y="1"/>
                          </a:lnTo>
                          <a:lnTo>
                            <a:pt x="33" y="0"/>
                          </a:lnTo>
                          <a:lnTo>
                            <a:pt x="32" y="0"/>
                          </a:lnTo>
                          <a:lnTo>
                            <a:pt x="31" y="1"/>
                          </a:lnTo>
                          <a:lnTo>
                            <a:pt x="28" y="1"/>
                          </a:lnTo>
                          <a:lnTo>
                            <a:pt x="25" y="1"/>
                          </a:lnTo>
                          <a:lnTo>
                            <a:pt x="23" y="1"/>
                          </a:lnTo>
                          <a:lnTo>
                            <a:pt x="20" y="1"/>
                          </a:lnTo>
                          <a:lnTo>
                            <a:pt x="17" y="2"/>
                          </a:lnTo>
                          <a:lnTo>
                            <a:pt x="15" y="2"/>
                          </a:lnTo>
                          <a:lnTo>
                            <a:pt x="13" y="4"/>
                          </a:lnTo>
                          <a:lnTo>
                            <a:pt x="12" y="4"/>
                          </a:lnTo>
                          <a:lnTo>
                            <a:pt x="11" y="5"/>
                          </a:lnTo>
                          <a:lnTo>
                            <a:pt x="8" y="6"/>
                          </a:lnTo>
                          <a:lnTo>
                            <a:pt x="7" y="8"/>
                          </a:lnTo>
                          <a:lnTo>
                            <a:pt x="4" y="11"/>
                          </a:lnTo>
                          <a:lnTo>
                            <a:pt x="3" y="13"/>
                          </a:lnTo>
                          <a:lnTo>
                            <a:pt x="1" y="15"/>
                          </a:lnTo>
                          <a:lnTo>
                            <a:pt x="0" y="19"/>
                          </a:lnTo>
                          <a:lnTo>
                            <a:pt x="0" y="22"/>
                          </a:lnTo>
                          <a:lnTo>
                            <a:pt x="0" y="25"/>
                          </a:lnTo>
                          <a:lnTo>
                            <a:pt x="1" y="28"/>
                          </a:lnTo>
                          <a:close/>
                        </a:path>
                      </a:pathLst>
                    </a:custGeom>
                    <a:solidFill>
                      <a:srgbClr val="d16d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807120" y="2049480"/>
                      <a:ext cx="311760" cy="21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9" h="337">
                          <a:moveTo>
                            <a:pt x="11" y="50"/>
                          </a:moveTo>
                          <a:lnTo>
                            <a:pt x="19" y="58"/>
                          </a:lnTo>
                          <a:lnTo>
                            <a:pt x="39" y="80"/>
                          </a:lnTo>
                          <a:lnTo>
                            <a:pt x="70" y="110"/>
                          </a:lnTo>
                          <a:lnTo>
                            <a:pt x="111" y="148"/>
                          </a:lnTo>
                          <a:lnTo>
                            <a:pt x="160" y="189"/>
                          </a:lnTo>
                          <a:lnTo>
                            <a:pt x="215" y="231"/>
                          </a:lnTo>
                          <a:lnTo>
                            <a:pt x="276" y="270"/>
                          </a:lnTo>
                          <a:lnTo>
                            <a:pt x="339" y="301"/>
                          </a:lnTo>
                          <a:lnTo>
                            <a:pt x="404" y="325"/>
                          </a:lnTo>
                          <a:lnTo>
                            <a:pt x="468" y="337"/>
                          </a:lnTo>
                          <a:lnTo>
                            <a:pt x="470" y="337"/>
                          </a:lnTo>
                          <a:lnTo>
                            <a:pt x="472" y="335"/>
                          </a:lnTo>
                          <a:lnTo>
                            <a:pt x="475" y="332"/>
                          </a:lnTo>
                          <a:lnTo>
                            <a:pt x="478" y="329"/>
                          </a:lnTo>
                          <a:lnTo>
                            <a:pt x="479" y="324"/>
                          </a:lnTo>
                          <a:lnTo>
                            <a:pt x="478" y="318"/>
                          </a:lnTo>
                          <a:lnTo>
                            <a:pt x="472" y="310"/>
                          </a:lnTo>
                          <a:lnTo>
                            <a:pt x="463" y="300"/>
                          </a:lnTo>
                          <a:lnTo>
                            <a:pt x="450" y="288"/>
                          </a:lnTo>
                          <a:lnTo>
                            <a:pt x="428" y="275"/>
                          </a:lnTo>
                          <a:lnTo>
                            <a:pt x="402" y="258"/>
                          </a:lnTo>
                          <a:lnTo>
                            <a:pt x="368" y="235"/>
                          </a:lnTo>
                          <a:lnTo>
                            <a:pt x="330" y="209"/>
                          </a:lnTo>
                          <a:lnTo>
                            <a:pt x="290" y="182"/>
                          </a:lnTo>
                          <a:lnTo>
                            <a:pt x="250" y="153"/>
                          </a:lnTo>
                          <a:lnTo>
                            <a:pt x="211" y="126"/>
                          </a:lnTo>
                          <a:lnTo>
                            <a:pt x="176" y="100"/>
                          </a:lnTo>
                          <a:lnTo>
                            <a:pt x="146" y="78"/>
                          </a:lnTo>
                          <a:lnTo>
                            <a:pt x="124" y="62"/>
                          </a:lnTo>
                          <a:lnTo>
                            <a:pt x="111" y="51"/>
                          </a:lnTo>
                          <a:lnTo>
                            <a:pt x="100" y="43"/>
                          </a:lnTo>
                          <a:lnTo>
                            <a:pt x="87" y="32"/>
                          </a:lnTo>
                          <a:lnTo>
                            <a:pt x="70" y="22"/>
                          </a:lnTo>
                          <a:lnTo>
                            <a:pt x="51" y="12"/>
                          </a:lnTo>
                          <a:lnTo>
                            <a:pt x="34" y="5"/>
                          </a:lnTo>
                          <a:lnTo>
                            <a:pt x="18" y="0"/>
                          </a:lnTo>
                          <a:lnTo>
                            <a:pt x="7" y="3"/>
                          </a:lnTo>
                          <a:lnTo>
                            <a:pt x="0" y="10"/>
                          </a:lnTo>
                          <a:lnTo>
                            <a:pt x="2" y="25"/>
                          </a:lnTo>
                          <a:lnTo>
                            <a:pt x="12" y="51"/>
                          </a:lnTo>
                          <a:lnTo>
                            <a:pt x="11" y="50"/>
                          </a:lnTo>
                          <a:close/>
                        </a:path>
                      </a:pathLst>
                    </a:custGeom>
                    <a:solidFill>
                      <a:srgbClr val="ffd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814320" y="2057400"/>
                      <a:ext cx="284400" cy="20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7" h="308">
                          <a:moveTo>
                            <a:pt x="9" y="46"/>
                          </a:moveTo>
                          <a:lnTo>
                            <a:pt x="16" y="53"/>
                          </a:lnTo>
                          <a:lnTo>
                            <a:pt x="35" y="72"/>
                          </a:lnTo>
                          <a:lnTo>
                            <a:pt x="64" y="101"/>
                          </a:lnTo>
                          <a:lnTo>
                            <a:pt x="101" y="135"/>
                          </a:lnTo>
                          <a:lnTo>
                            <a:pt x="147" y="173"/>
                          </a:lnTo>
                          <a:lnTo>
                            <a:pt x="197" y="212"/>
                          </a:lnTo>
                          <a:lnTo>
                            <a:pt x="252" y="247"/>
                          </a:lnTo>
                          <a:lnTo>
                            <a:pt x="311" y="276"/>
                          </a:lnTo>
                          <a:lnTo>
                            <a:pt x="369" y="298"/>
                          </a:lnTo>
                          <a:lnTo>
                            <a:pt x="429" y="308"/>
                          </a:lnTo>
                          <a:lnTo>
                            <a:pt x="429" y="308"/>
                          </a:lnTo>
                          <a:lnTo>
                            <a:pt x="432" y="307"/>
                          </a:lnTo>
                          <a:lnTo>
                            <a:pt x="435" y="305"/>
                          </a:lnTo>
                          <a:lnTo>
                            <a:pt x="437" y="301"/>
                          </a:lnTo>
                          <a:lnTo>
                            <a:pt x="437" y="297"/>
                          </a:lnTo>
                          <a:lnTo>
                            <a:pt x="437" y="291"/>
                          </a:lnTo>
                          <a:lnTo>
                            <a:pt x="432" y="284"/>
                          </a:lnTo>
                          <a:lnTo>
                            <a:pt x="424" y="275"/>
                          </a:lnTo>
                          <a:lnTo>
                            <a:pt x="411" y="265"/>
                          </a:lnTo>
                          <a:lnTo>
                            <a:pt x="392" y="252"/>
                          </a:lnTo>
                          <a:lnTo>
                            <a:pt x="367" y="236"/>
                          </a:lnTo>
                          <a:lnTo>
                            <a:pt x="336" y="215"/>
                          </a:lnTo>
                          <a:lnTo>
                            <a:pt x="301" y="191"/>
                          </a:lnTo>
                          <a:lnTo>
                            <a:pt x="265" y="167"/>
                          </a:lnTo>
                          <a:lnTo>
                            <a:pt x="228" y="141"/>
                          </a:lnTo>
                          <a:lnTo>
                            <a:pt x="192" y="115"/>
                          </a:lnTo>
                          <a:lnTo>
                            <a:pt x="160" y="91"/>
                          </a:lnTo>
                          <a:lnTo>
                            <a:pt x="133" y="71"/>
                          </a:lnTo>
                          <a:lnTo>
                            <a:pt x="113" y="56"/>
                          </a:lnTo>
                          <a:lnTo>
                            <a:pt x="101" y="46"/>
                          </a:lnTo>
                          <a:lnTo>
                            <a:pt x="92" y="39"/>
                          </a:lnTo>
                          <a:lnTo>
                            <a:pt x="79" y="30"/>
                          </a:lnTo>
                          <a:lnTo>
                            <a:pt x="63" y="20"/>
                          </a:lnTo>
                          <a:lnTo>
                            <a:pt x="47" y="11"/>
                          </a:lnTo>
                          <a:lnTo>
                            <a:pt x="29" y="4"/>
                          </a:lnTo>
                          <a:lnTo>
                            <a:pt x="16" y="0"/>
                          </a:lnTo>
                          <a:lnTo>
                            <a:pt x="5" y="1"/>
                          </a:lnTo>
                          <a:lnTo>
                            <a:pt x="0" y="9"/>
                          </a:lnTo>
                          <a:lnTo>
                            <a:pt x="1" y="24"/>
                          </a:lnTo>
                          <a:lnTo>
                            <a:pt x="11" y="46"/>
                          </a:lnTo>
                          <a:lnTo>
                            <a:pt x="9" y="46"/>
                          </a:lnTo>
                          <a:close/>
                        </a:path>
                      </a:pathLst>
                    </a:custGeom>
                    <a:solidFill>
                      <a:srgbClr val="ffdb1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>
                      <a:off x="821520" y="2064960"/>
                      <a:ext cx="258480" cy="18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7" h="280">
                          <a:moveTo>
                            <a:pt x="8" y="41"/>
                          </a:moveTo>
                          <a:lnTo>
                            <a:pt x="14" y="48"/>
                          </a:lnTo>
                          <a:lnTo>
                            <a:pt x="30" y="66"/>
                          </a:lnTo>
                          <a:lnTo>
                            <a:pt x="57" y="91"/>
                          </a:lnTo>
                          <a:lnTo>
                            <a:pt x="92" y="123"/>
                          </a:lnTo>
                          <a:lnTo>
                            <a:pt x="132" y="157"/>
                          </a:lnTo>
                          <a:lnTo>
                            <a:pt x="178" y="191"/>
                          </a:lnTo>
                          <a:lnTo>
                            <a:pt x="228" y="224"/>
                          </a:lnTo>
                          <a:lnTo>
                            <a:pt x="281" y="251"/>
                          </a:lnTo>
                          <a:lnTo>
                            <a:pt x="336" y="270"/>
                          </a:lnTo>
                          <a:lnTo>
                            <a:pt x="389" y="280"/>
                          </a:lnTo>
                          <a:lnTo>
                            <a:pt x="390" y="280"/>
                          </a:lnTo>
                          <a:lnTo>
                            <a:pt x="392" y="279"/>
                          </a:lnTo>
                          <a:lnTo>
                            <a:pt x="394" y="276"/>
                          </a:lnTo>
                          <a:lnTo>
                            <a:pt x="397" y="274"/>
                          </a:lnTo>
                          <a:lnTo>
                            <a:pt x="397" y="269"/>
                          </a:lnTo>
                          <a:lnTo>
                            <a:pt x="396" y="264"/>
                          </a:lnTo>
                          <a:lnTo>
                            <a:pt x="392" y="257"/>
                          </a:lnTo>
                          <a:lnTo>
                            <a:pt x="385" y="249"/>
                          </a:lnTo>
                          <a:lnTo>
                            <a:pt x="373" y="240"/>
                          </a:lnTo>
                          <a:lnTo>
                            <a:pt x="356" y="229"/>
                          </a:lnTo>
                          <a:lnTo>
                            <a:pt x="333" y="215"/>
                          </a:lnTo>
                          <a:lnTo>
                            <a:pt x="305" y="196"/>
                          </a:lnTo>
                          <a:lnTo>
                            <a:pt x="273" y="175"/>
                          </a:lnTo>
                          <a:lnTo>
                            <a:pt x="240" y="151"/>
                          </a:lnTo>
                          <a:lnTo>
                            <a:pt x="206" y="128"/>
                          </a:lnTo>
                          <a:lnTo>
                            <a:pt x="174" y="104"/>
                          </a:lnTo>
                          <a:lnTo>
                            <a:pt x="145" y="83"/>
                          </a:lnTo>
                          <a:lnTo>
                            <a:pt x="120" y="65"/>
                          </a:lnTo>
                          <a:lnTo>
                            <a:pt x="102" y="51"/>
                          </a:lnTo>
                          <a:lnTo>
                            <a:pt x="92" y="43"/>
                          </a:lnTo>
                          <a:lnTo>
                            <a:pt x="82" y="35"/>
                          </a:lnTo>
                          <a:lnTo>
                            <a:pt x="70" y="27"/>
                          </a:lnTo>
                          <a:lnTo>
                            <a:pt x="56" y="18"/>
                          </a:lnTo>
                          <a:lnTo>
                            <a:pt x="41" y="10"/>
                          </a:lnTo>
                          <a:lnTo>
                            <a:pt x="26" y="4"/>
                          </a:lnTo>
                          <a:lnTo>
                            <a:pt x="13" y="0"/>
                          </a:lnTo>
                          <a:lnTo>
                            <a:pt x="4" y="1"/>
                          </a:lnTo>
                          <a:lnTo>
                            <a:pt x="0" y="8"/>
                          </a:lnTo>
                          <a:lnTo>
                            <a:pt x="0" y="21"/>
                          </a:lnTo>
                          <a:lnTo>
                            <a:pt x="9" y="43"/>
                          </a:lnTo>
                          <a:lnTo>
                            <a:pt x="8" y="41"/>
                          </a:lnTo>
                          <a:close/>
                        </a:path>
                      </a:pathLst>
                    </a:custGeom>
                    <a:solidFill>
                      <a:srgbClr val="ffdf3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>
                      <a:off x="827280" y="2072880"/>
                      <a:ext cx="233640" cy="16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9" h="252">
                          <a:moveTo>
                            <a:pt x="8" y="38"/>
                          </a:moveTo>
                          <a:lnTo>
                            <a:pt x="13" y="44"/>
                          </a:lnTo>
                          <a:lnTo>
                            <a:pt x="29" y="59"/>
                          </a:lnTo>
                          <a:lnTo>
                            <a:pt x="52" y="83"/>
                          </a:lnTo>
                          <a:lnTo>
                            <a:pt x="83" y="110"/>
                          </a:lnTo>
                          <a:lnTo>
                            <a:pt x="120" y="142"/>
                          </a:lnTo>
                          <a:lnTo>
                            <a:pt x="161" y="172"/>
                          </a:lnTo>
                          <a:lnTo>
                            <a:pt x="207" y="202"/>
                          </a:lnTo>
                          <a:lnTo>
                            <a:pt x="255" y="225"/>
                          </a:lnTo>
                          <a:lnTo>
                            <a:pt x="303" y="243"/>
                          </a:lnTo>
                          <a:lnTo>
                            <a:pt x="351" y="252"/>
                          </a:lnTo>
                          <a:lnTo>
                            <a:pt x="352" y="251"/>
                          </a:lnTo>
                          <a:lnTo>
                            <a:pt x="353" y="250"/>
                          </a:lnTo>
                          <a:lnTo>
                            <a:pt x="356" y="249"/>
                          </a:lnTo>
                          <a:lnTo>
                            <a:pt x="357" y="247"/>
                          </a:lnTo>
                          <a:lnTo>
                            <a:pt x="359" y="242"/>
                          </a:lnTo>
                          <a:lnTo>
                            <a:pt x="357" y="237"/>
                          </a:lnTo>
                          <a:lnTo>
                            <a:pt x="355" y="231"/>
                          </a:lnTo>
                          <a:lnTo>
                            <a:pt x="348" y="224"/>
                          </a:lnTo>
                          <a:lnTo>
                            <a:pt x="337" y="216"/>
                          </a:lnTo>
                          <a:lnTo>
                            <a:pt x="321" y="205"/>
                          </a:lnTo>
                          <a:lnTo>
                            <a:pt x="301" y="192"/>
                          </a:lnTo>
                          <a:lnTo>
                            <a:pt x="276" y="176"/>
                          </a:lnTo>
                          <a:lnTo>
                            <a:pt x="247" y="157"/>
                          </a:lnTo>
                          <a:lnTo>
                            <a:pt x="217" y="136"/>
                          </a:lnTo>
                          <a:lnTo>
                            <a:pt x="187" y="114"/>
                          </a:lnTo>
                          <a:lnTo>
                            <a:pt x="157" y="93"/>
                          </a:lnTo>
                          <a:lnTo>
                            <a:pt x="132" y="74"/>
                          </a:lnTo>
                          <a:lnTo>
                            <a:pt x="109" y="58"/>
                          </a:lnTo>
                          <a:lnTo>
                            <a:pt x="93" y="46"/>
                          </a:lnTo>
                          <a:lnTo>
                            <a:pt x="83" y="38"/>
                          </a:lnTo>
                          <a:lnTo>
                            <a:pt x="76" y="32"/>
                          </a:lnTo>
                          <a:lnTo>
                            <a:pt x="64" y="23"/>
                          </a:lnTo>
                          <a:lnTo>
                            <a:pt x="52" y="16"/>
                          </a:lnTo>
                          <a:lnTo>
                            <a:pt x="39" y="8"/>
                          </a:lnTo>
                          <a:lnTo>
                            <a:pt x="25" y="3"/>
                          </a:lnTo>
                          <a:lnTo>
                            <a:pt x="13" y="0"/>
                          </a:lnTo>
                          <a:lnTo>
                            <a:pt x="5" y="1"/>
                          </a:lnTo>
                          <a:lnTo>
                            <a:pt x="0" y="7"/>
                          </a:lnTo>
                          <a:lnTo>
                            <a:pt x="1" y="19"/>
                          </a:lnTo>
                          <a:lnTo>
                            <a:pt x="8" y="38"/>
                          </a:lnTo>
                          <a:close/>
                        </a:path>
                      </a:pathLst>
                    </a:custGeom>
                    <a:solidFill>
                      <a:srgbClr val="ffe45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>
                      <a:off x="834480" y="2080800"/>
                      <a:ext cx="207000" cy="14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8" h="224">
                          <a:moveTo>
                            <a:pt x="6" y="33"/>
                          </a:moveTo>
                          <a:lnTo>
                            <a:pt x="12" y="39"/>
                          </a:lnTo>
                          <a:lnTo>
                            <a:pt x="25" y="52"/>
                          </a:lnTo>
                          <a:lnTo>
                            <a:pt x="46" y="73"/>
                          </a:lnTo>
                          <a:lnTo>
                            <a:pt x="73" y="98"/>
                          </a:lnTo>
                          <a:lnTo>
                            <a:pt x="106" y="125"/>
                          </a:lnTo>
                          <a:lnTo>
                            <a:pt x="142" y="153"/>
                          </a:lnTo>
                          <a:lnTo>
                            <a:pt x="182" y="179"/>
                          </a:lnTo>
                          <a:lnTo>
                            <a:pt x="225" y="200"/>
                          </a:lnTo>
                          <a:lnTo>
                            <a:pt x="268" y="216"/>
                          </a:lnTo>
                          <a:lnTo>
                            <a:pt x="312" y="224"/>
                          </a:lnTo>
                          <a:lnTo>
                            <a:pt x="312" y="224"/>
                          </a:lnTo>
                          <a:lnTo>
                            <a:pt x="314" y="223"/>
                          </a:lnTo>
                          <a:lnTo>
                            <a:pt x="316" y="220"/>
                          </a:lnTo>
                          <a:lnTo>
                            <a:pt x="317" y="218"/>
                          </a:lnTo>
                          <a:lnTo>
                            <a:pt x="318" y="216"/>
                          </a:lnTo>
                          <a:lnTo>
                            <a:pt x="317" y="211"/>
                          </a:lnTo>
                          <a:lnTo>
                            <a:pt x="314" y="206"/>
                          </a:lnTo>
                          <a:lnTo>
                            <a:pt x="308" y="199"/>
                          </a:lnTo>
                          <a:lnTo>
                            <a:pt x="298" y="192"/>
                          </a:lnTo>
                          <a:lnTo>
                            <a:pt x="285" y="183"/>
                          </a:lnTo>
                          <a:lnTo>
                            <a:pt x="266" y="171"/>
                          </a:lnTo>
                          <a:lnTo>
                            <a:pt x="244" y="157"/>
                          </a:lnTo>
                          <a:lnTo>
                            <a:pt x="218" y="139"/>
                          </a:lnTo>
                          <a:lnTo>
                            <a:pt x="192" y="120"/>
                          </a:lnTo>
                          <a:lnTo>
                            <a:pt x="165" y="101"/>
                          </a:lnTo>
                          <a:lnTo>
                            <a:pt x="140" y="82"/>
                          </a:lnTo>
                          <a:lnTo>
                            <a:pt x="116" y="66"/>
                          </a:lnTo>
                          <a:lnTo>
                            <a:pt x="97" y="52"/>
                          </a:lnTo>
                          <a:lnTo>
                            <a:pt x="81" y="40"/>
                          </a:lnTo>
                          <a:lnTo>
                            <a:pt x="73" y="33"/>
                          </a:lnTo>
                          <a:lnTo>
                            <a:pt x="66" y="28"/>
                          </a:lnTo>
                          <a:lnTo>
                            <a:pt x="57" y="21"/>
                          </a:lnTo>
                          <a:lnTo>
                            <a:pt x="45" y="14"/>
                          </a:lnTo>
                          <a:lnTo>
                            <a:pt x="33" y="8"/>
                          </a:lnTo>
                          <a:lnTo>
                            <a:pt x="21" y="2"/>
                          </a:lnTo>
                          <a:lnTo>
                            <a:pt x="12" y="0"/>
                          </a:lnTo>
                          <a:lnTo>
                            <a:pt x="4" y="1"/>
                          </a:lnTo>
                          <a:lnTo>
                            <a:pt x="0" y="6"/>
                          </a:lnTo>
                          <a:lnTo>
                            <a:pt x="0" y="16"/>
                          </a:lnTo>
                          <a:lnTo>
                            <a:pt x="6" y="33"/>
                          </a:lnTo>
                          <a:close/>
                        </a:path>
                      </a:pathLst>
                    </a:custGeom>
                    <a:solidFill>
                      <a:srgbClr val="ffe87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>
                      <a:off x="840960" y="2088000"/>
                      <a:ext cx="181800" cy="12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9" h="196">
                          <a:moveTo>
                            <a:pt x="6" y="29"/>
                          </a:moveTo>
                          <a:lnTo>
                            <a:pt x="10" y="35"/>
                          </a:lnTo>
                          <a:lnTo>
                            <a:pt x="22" y="47"/>
                          </a:lnTo>
                          <a:lnTo>
                            <a:pt x="40" y="64"/>
                          </a:lnTo>
                          <a:lnTo>
                            <a:pt x="64" y="87"/>
                          </a:lnTo>
                          <a:lnTo>
                            <a:pt x="92" y="110"/>
                          </a:lnTo>
                          <a:lnTo>
                            <a:pt x="126" y="134"/>
                          </a:lnTo>
                          <a:lnTo>
                            <a:pt x="160" y="157"/>
                          </a:lnTo>
                          <a:lnTo>
                            <a:pt x="198" y="176"/>
                          </a:lnTo>
                          <a:lnTo>
                            <a:pt x="235" y="189"/>
                          </a:lnTo>
                          <a:lnTo>
                            <a:pt x="272" y="196"/>
                          </a:lnTo>
                          <a:lnTo>
                            <a:pt x="274" y="196"/>
                          </a:lnTo>
                          <a:lnTo>
                            <a:pt x="275" y="195"/>
                          </a:lnTo>
                          <a:lnTo>
                            <a:pt x="276" y="194"/>
                          </a:lnTo>
                          <a:lnTo>
                            <a:pt x="278" y="192"/>
                          </a:lnTo>
                          <a:lnTo>
                            <a:pt x="279" y="189"/>
                          </a:lnTo>
                          <a:lnTo>
                            <a:pt x="278" y="186"/>
                          </a:lnTo>
                          <a:lnTo>
                            <a:pt x="275" y="181"/>
                          </a:lnTo>
                          <a:lnTo>
                            <a:pt x="270" y="175"/>
                          </a:lnTo>
                          <a:lnTo>
                            <a:pt x="262" y="168"/>
                          </a:lnTo>
                          <a:lnTo>
                            <a:pt x="250" y="161"/>
                          </a:lnTo>
                          <a:lnTo>
                            <a:pt x="234" y="150"/>
                          </a:lnTo>
                          <a:lnTo>
                            <a:pt x="214" y="137"/>
                          </a:lnTo>
                          <a:lnTo>
                            <a:pt x="192" y="122"/>
                          </a:lnTo>
                          <a:lnTo>
                            <a:pt x="168" y="106"/>
                          </a:lnTo>
                          <a:lnTo>
                            <a:pt x="144" y="89"/>
                          </a:lnTo>
                          <a:lnTo>
                            <a:pt x="122" y="74"/>
                          </a:lnTo>
                          <a:lnTo>
                            <a:pt x="102" y="58"/>
                          </a:lnTo>
                          <a:lnTo>
                            <a:pt x="84" y="45"/>
                          </a:lnTo>
                          <a:lnTo>
                            <a:pt x="71" y="36"/>
                          </a:lnTo>
                          <a:lnTo>
                            <a:pt x="64" y="30"/>
                          </a:lnTo>
                          <a:lnTo>
                            <a:pt x="58" y="25"/>
                          </a:lnTo>
                          <a:lnTo>
                            <a:pt x="50" y="19"/>
                          </a:lnTo>
                          <a:lnTo>
                            <a:pt x="40" y="13"/>
                          </a:lnTo>
                          <a:lnTo>
                            <a:pt x="30" y="8"/>
                          </a:lnTo>
                          <a:lnTo>
                            <a:pt x="19" y="3"/>
                          </a:lnTo>
                          <a:lnTo>
                            <a:pt x="10" y="0"/>
                          </a:lnTo>
                          <a:lnTo>
                            <a:pt x="3" y="2"/>
                          </a:lnTo>
                          <a:lnTo>
                            <a:pt x="0" y="6"/>
                          </a:lnTo>
                          <a:lnTo>
                            <a:pt x="0" y="15"/>
                          </a:lnTo>
                          <a:lnTo>
                            <a:pt x="6" y="30"/>
                          </a:lnTo>
                          <a:lnTo>
                            <a:pt x="6" y="29"/>
                          </a:lnTo>
                          <a:close/>
                        </a:path>
                      </a:pathLst>
                    </a:custGeom>
                    <a:solidFill>
                      <a:srgbClr val="ffed8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847440" y="2095920"/>
                      <a:ext cx="154800" cy="10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8" h="168">
                          <a:moveTo>
                            <a:pt x="5" y="25"/>
                          </a:moveTo>
                          <a:lnTo>
                            <a:pt x="9" y="29"/>
                          </a:lnTo>
                          <a:lnTo>
                            <a:pt x="18" y="39"/>
                          </a:lnTo>
                          <a:lnTo>
                            <a:pt x="34" y="55"/>
                          </a:lnTo>
                          <a:lnTo>
                            <a:pt x="56" y="73"/>
                          </a:lnTo>
                          <a:lnTo>
                            <a:pt x="80" y="95"/>
                          </a:lnTo>
                          <a:lnTo>
                            <a:pt x="108" y="115"/>
                          </a:lnTo>
                          <a:lnTo>
                            <a:pt x="137" y="135"/>
                          </a:lnTo>
                          <a:lnTo>
                            <a:pt x="169" y="150"/>
                          </a:lnTo>
                          <a:lnTo>
                            <a:pt x="201" y="162"/>
                          </a:lnTo>
                          <a:lnTo>
                            <a:pt x="234" y="168"/>
                          </a:lnTo>
                          <a:lnTo>
                            <a:pt x="234" y="168"/>
                          </a:lnTo>
                          <a:lnTo>
                            <a:pt x="236" y="167"/>
                          </a:lnTo>
                          <a:lnTo>
                            <a:pt x="237" y="166"/>
                          </a:lnTo>
                          <a:lnTo>
                            <a:pt x="238" y="164"/>
                          </a:lnTo>
                          <a:lnTo>
                            <a:pt x="238" y="162"/>
                          </a:lnTo>
                          <a:lnTo>
                            <a:pt x="238" y="158"/>
                          </a:lnTo>
                          <a:lnTo>
                            <a:pt x="236" y="155"/>
                          </a:lnTo>
                          <a:lnTo>
                            <a:pt x="232" y="150"/>
                          </a:lnTo>
                          <a:lnTo>
                            <a:pt x="224" y="144"/>
                          </a:lnTo>
                          <a:lnTo>
                            <a:pt x="214" y="137"/>
                          </a:lnTo>
                          <a:lnTo>
                            <a:pt x="200" y="129"/>
                          </a:lnTo>
                          <a:lnTo>
                            <a:pt x="184" y="117"/>
                          </a:lnTo>
                          <a:lnTo>
                            <a:pt x="165" y="104"/>
                          </a:lnTo>
                          <a:lnTo>
                            <a:pt x="145" y="91"/>
                          </a:lnTo>
                          <a:lnTo>
                            <a:pt x="124" y="76"/>
                          </a:lnTo>
                          <a:lnTo>
                            <a:pt x="105" y="63"/>
                          </a:lnTo>
                          <a:lnTo>
                            <a:pt x="88" y="50"/>
                          </a:lnTo>
                          <a:lnTo>
                            <a:pt x="73" y="39"/>
                          </a:lnTo>
                          <a:lnTo>
                            <a:pt x="61" y="31"/>
                          </a:lnTo>
                          <a:lnTo>
                            <a:pt x="56" y="25"/>
                          </a:lnTo>
                          <a:lnTo>
                            <a:pt x="50" y="22"/>
                          </a:lnTo>
                          <a:lnTo>
                            <a:pt x="42" y="16"/>
                          </a:lnTo>
                          <a:lnTo>
                            <a:pt x="34" y="11"/>
                          </a:lnTo>
                          <a:lnTo>
                            <a:pt x="25" y="6"/>
                          </a:lnTo>
                          <a:lnTo>
                            <a:pt x="16" y="3"/>
                          </a:lnTo>
                          <a:lnTo>
                            <a:pt x="9" y="0"/>
                          </a:lnTo>
                          <a:lnTo>
                            <a:pt x="2" y="0"/>
                          </a:lnTo>
                          <a:lnTo>
                            <a:pt x="0" y="5"/>
                          </a:lnTo>
                          <a:lnTo>
                            <a:pt x="1" y="12"/>
                          </a:lnTo>
                          <a:lnTo>
                            <a:pt x="5" y="25"/>
                          </a:lnTo>
                          <a:close/>
                        </a:path>
                      </a:pathLst>
                    </a:custGeom>
                    <a:solidFill>
                      <a:srgbClr val="fff1a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853920" y="2103480"/>
                      <a:ext cx="12960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9" h="139">
                          <a:moveTo>
                            <a:pt x="4" y="20"/>
                          </a:moveTo>
                          <a:lnTo>
                            <a:pt x="7" y="24"/>
                          </a:lnTo>
                          <a:lnTo>
                            <a:pt x="16" y="33"/>
                          </a:lnTo>
                          <a:lnTo>
                            <a:pt x="28" y="45"/>
                          </a:lnTo>
                          <a:lnTo>
                            <a:pt x="46" y="61"/>
                          </a:lnTo>
                          <a:lnTo>
                            <a:pt x="67" y="78"/>
                          </a:lnTo>
                          <a:lnTo>
                            <a:pt x="90" y="96"/>
                          </a:lnTo>
                          <a:lnTo>
                            <a:pt x="115" y="112"/>
                          </a:lnTo>
                          <a:lnTo>
                            <a:pt x="142" y="125"/>
                          </a:lnTo>
                          <a:lnTo>
                            <a:pt x="168" y="135"/>
                          </a:lnTo>
                          <a:lnTo>
                            <a:pt x="195" y="139"/>
                          </a:lnTo>
                          <a:lnTo>
                            <a:pt x="195" y="139"/>
                          </a:lnTo>
                          <a:lnTo>
                            <a:pt x="196" y="139"/>
                          </a:lnTo>
                          <a:lnTo>
                            <a:pt x="198" y="138"/>
                          </a:lnTo>
                          <a:lnTo>
                            <a:pt x="199" y="137"/>
                          </a:lnTo>
                          <a:lnTo>
                            <a:pt x="199" y="135"/>
                          </a:lnTo>
                          <a:lnTo>
                            <a:pt x="199" y="132"/>
                          </a:lnTo>
                          <a:lnTo>
                            <a:pt x="196" y="129"/>
                          </a:lnTo>
                          <a:lnTo>
                            <a:pt x="192" y="124"/>
                          </a:lnTo>
                          <a:lnTo>
                            <a:pt x="187" y="119"/>
                          </a:lnTo>
                          <a:lnTo>
                            <a:pt x="179" y="115"/>
                          </a:lnTo>
                          <a:lnTo>
                            <a:pt x="167" y="108"/>
                          </a:lnTo>
                          <a:lnTo>
                            <a:pt x="152" y="98"/>
                          </a:lnTo>
                          <a:lnTo>
                            <a:pt x="138" y="87"/>
                          </a:lnTo>
                          <a:lnTo>
                            <a:pt x="120" y="76"/>
                          </a:lnTo>
                          <a:lnTo>
                            <a:pt x="104" y="64"/>
                          </a:lnTo>
                          <a:lnTo>
                            <a:pt x="87" y="52"/>
                          </a:lnTo>
                          <a:lnTo>
                            <a:pt x="72" y="41"/>
                          </a:lnTo>
                          <a:lnTo>
                            <a:pt x="60" y="32"/>
                          </a:lnTo>
                          <a:lnTo>
                            <a:pt x="51" y="25"/>
                          </a:lnTo>
                          <a:lnTo>
                            <a:pt x="46" y="21"/>
                          </a:lnTo>
                          <a:lnTo>
                            <a:pt x="42" y="18"/>
                          </a:lnTo>
                          <a:lnTo>
                            <a:pt x="36" y="13"/>
                          </a:lnTo>
                          <a:lnTo>
                            <a:pt x="28" y="8"/>
                          </a:lnTo>
                          <a:lnTo>
                            <a:pt x="22" y="5"/>
                          </a:lnTo>
                          <a:lnTo>
                            <a:pt x="14" y="1"/>
                          </a:lnTo>
                          <a:lnTo>
                            <a:pt x="7" y="0"/>
                          </a:lnTo>
                          <a:lnTo>
                            <a:pt x="3" y="0"/>
                          </a:lnTo>
                          <a:lnTo>
                            <a:pt x="0" y="4"/>
                          </a:lnTo>
                          <a:lnTo>
                            <a:pt x="0" y="11"/>
                          </a:lnTo>
                          <a:lnTo>
                            <a:pt x="4" y="21"/>
                          </a:lnTo>
                          <a:lnTo>
                            <a:pt x="4" y="20"/>
                          </a:lnTo>
                          <a:close/>
                        </a:path>
                      </a:pathLst>
                    </a:custGeom>
                    <a:solidFill>
                      <a:srgbClr val="fff6c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>
                      <a:off x="861840" y="2111400"/>
                      <a:ext cx="10368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112">
                          <a:moveTo>
                            <a:pt x="3" y="16"/>
                          </a:moveTo>
                          <a:lnTo>
                            <a:pt x="6" y="19"/>
                          </a:lnTo>
                          <a:lnTo>
                            <a:pt x="12" y="26"/>
                          </a:lnTo>
                          <a:lnTo>
                            <a:pt x="23" y="36"/>
                          </a:lnTo>
                          <a:lnTo>
                            <a:pt x="36" y="48"/>
                          </a:lnTo>
                          <a:lnTo>
                            <a:pt x="54" y="62"/>
                          </a:lnTo>
                          <a:lnTo>
                            <a:pt x="71" y="77"/>
                          </a:lnTo>
                          <a:lnTo>
                            <a:pt x="91" y="90"/>
                          </a:lnTo>
                          <a:lnTo>
                            <a:pt x="112" y="100"/>
                          </a:lnTo>
                          <a:lnTo>
                            <a:pt x="134" y="107"/>
                          </a:lnTo>
                          <a:lnTo>
                            <a:pt x="156" y="112"/>
                          </a:lnTo>
                          <a:lnTo>
                            <a:pt x="156" y="111"/>
                          </a:lnTo>
                          <a:lnTo>
                            <a:pt x="158" y="111"/>
                          </a:lnTo>
                          <a:lnTo>
                            <a:pt x="158" y="110"/>
                          </a:lnTo>
                          <a:lnTo>
                            <a:pt x="159" y="108"/>
                          </a:lnTo>
                          <a:lnTo>
                            <a:pt x="159" y="107"/>
                          </a:lnTo>
                          <a:lnTo>
                            <a:pt x="159" y="105"/>
                          </a:lnTo>
                          <a:lnTo>
                            <a:pt x="158" y="103"/>
                          </a:lnTo>
                          <a:lnTo>
                            <a:pt x="154" y="99"/>
                          </a:lnTo>
                          <a:lnTo>
                            <a:pt x="150" y="96"/>
                          </a:lnTo>
                          <a:lnTo>
                            <a:pt x="143" y="91"/>
                          </a:lnTo>
                          <a:lnTo>
                            <a:pt x="134" y="85"/>
                          </a:lnTo>
                          <a:lnTo>
                            <a:pt x="122" y="78"/>
                          </a:lnTo>
                          <a:lnTo>
                            <a:pt x="110" y="70"/>
                          </a:lnTo>
                          <a:lnTo>
                            <a:pt x="96" y="60"/>
                          </a:lnTo>
                          <a:lnTo>
                            <a:pt x="83" y="51"/>
                          </a:lnTo>
                          <a:lnTo>
                            <a:pt x="70" y="41"/>
                          </a:lnTo>
                          <a:lnTo>
                            <a:pt x="58" y="33"/>
                          </a:lnTo>
                          <a:lnTo>
                            <a:pt x="48" y="26"/>
                          </a:lnTo>
                          <a:lnTo>
                            <a:pt x="40" y="20"/>
                          </a:lnTo>
                          <a:lnTo>
                            <a:pt x="36" y="16"/>
                          </a:lnTo>
                          <a:lnTo>
                            <a:pt x="34" y="14"/>
                          </a:lnTo>
                          <a:lnTo>
                            <a:pt x="28" y="11"/>
                          </a:lnTo>
                          <a:lnTo>
                            <a:pt x="23" y="7"/>
                          </a:lnTo>
                          <a:lnTo>
                            <a:pt x="16" y="3"/>
                          </a:lnTo>
                          <a:lnTo>
                            <a:pt x="11" y="1"/>
                          </a:lnTo>
                          <a:lnTo>
                            <a:pt x="6" y="0"/>
                          </a:lnTo>
                          <a:lnTo>
                            <a:pt x="2" y="0"/>
                          </a:lnTo>
                          <a:lnTo>
                            <a:pt x="0" y="2"/>
                          </a:lnTo>
                          <a:lnTo>
                            <a:pt x="0" y="8"/>
                          </a:lnTo>
                          <a:lnTo>
                            <a:pt x="3" y="16"/>
                          </a:lnTo>
                          <a:close/>
                        </a:path>
                      </a:pathLst>
                    </a:custGeom>
                    <a:solidFill>
                      <a:srgbClr val="fffae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>
                      <a:off x="866520" y="2119320"/>
                      <a:ext cx="7812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84">
                          <a:moveTo>
                            <a:pt x="3" y="12"/>
                          </a:moveTo>
                          <a:lnTo>
                            <a:pt x="5" y="14"/>
                          </a:lnTo>
                          <a:lnTo>
                            <a:pt x="9" y="19"/>
                          </a:lnTo>
                          <a:lnTo>
                            <a:pt x="17" y="27"/>
                          </a:lnTo>
                          <a:lnTo>
                            <a:pt x="28" y="36"/>
                          </a:lnTo>
                          <a:lnTo>
                            <a:pt x="40" y="47"/>
                          </a:lnTo>
                          <a:lnTo>
                            <a:pt x="55" y="56"/>
                          </a:lnTo>
                          <a:lnTo>
                            <a:pt x="69" y="67"/>
                          </a:lnTo>
                          <a:lnTo>
                            <a:pt x="85" y="74"/>
                          </a:lnTo>
                          <a:lnTo>
                            <a:pt x="101" y="80"/>
                          </a:lnTo>
                          <a:lnTo>
                            <a:pt x="117" y="84"/>
                          </a:lnTo>
                          <a:lnTo>
                            <a:pt x="117" y="84"/>
                          </a:lnTo>
                          <a:lnTo>
                            <a:pt x="119" y="82"/>
                          </a:lnTo>
                          <a:lnTo>
                            <a:pt x="119" y="82"/>
                          </a:lnTo>
                          <a:lnTo>
                            <a:pt x="120" y="81"/>
                          </a:lnTo>
                          <a:lnTo>
                            <a:pt x="120" y="80"/>
                          </a:lnTo>
                          <a:lnTo>
                            <a:pt x="120" y="79"/>
                          </a:lnTo>
                          <a:lnTo>
                            <a:pt x="119" y="76"/>
                          </a:lnTo>
                          <a:lnTo>
                            <a:pt x="116" y="74"/>
                          </a:lnTo>
                          <a:lnTo>
                            <a:pt x="112" y="72"/>
                          </a:lnTo>
                          <a:lnTo>
                            <a:pt x="108" y="68"/>
                          </a:lnTo>
                          <a:lnTo>
                            <a:pt x="100" y="63"/>
                          </a:lnTo>
                          <a:lnTo>
                            <a:pt x="92" y="58"/>
                          </a:lnTo>
                          <a:lnTo>
                            <a:pt x="83" y="52"/>
                          </a:lnTo>
                          <a:lnTo>
                            <a:pt x="72" y="45"/>
                          </a:lnTo>
                          <a:lnTo>
                            <a:pt x="63" y="37"/>
                          </a:lnTo>
                          <a:lnTo>
                            <a:pt x="53" y="30"/>
                          </a:lnTo>
                          <a:lnTo>
                            <a:pt x="44" y="24"/>
                          </a:lnTo>
                          <a:lnTo>
                            <a:pt x="37" y="19"/>
                          </a:lnTo>
                          <a:lnTo>
                            <a:pt x="31" y="14"/>
                          </a:lnTo>
                          <a:lnTo>
                            <a:pt x="28" y="12"/>
                          </a:lnTo>
                          <a:lnTo>
                            <a:pt x="25" y="10"/>
                          </a:lnTo>
                          <a:lnTo>
                            <a:pt x="21" y="7"/>
                          </a:lnTo>
                          <a:lnTo>
                            <a:pt x="17" y="4"/>
                          </a:lnTo>
                          <a:lnTo>
                            <a:pt x="13" y="2"/>
                          </a:lnTo>
                          <a:lnTo>
                            <a:pt x="8" y="1"/>
                          </a:lnTo>
                          <a:lnTo>
                            <a:pt x="5" y="0"/>
                          </a:lnTo>
                          <a:lnTo>
                            <a:pt x="1" y="0"/>
                          </a:lnTo>
                          <a:lnTo>
                            <a:pt x="0" y="2"/>
                          </a:lnTo>
                          <a:lnTo>
                            <a:pt x="0" y="6"/>
                          </a:lnTo>
                          <a:lnTo>
                            <a:pt x="3" y="1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>
                      <a:off x="784800" y="1471320"/>
                      <a:ext cx="30744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2" h="653">
                          <a:moveTo>
                            <a:pt x="26" y="639"/>
                          </a:moveTo>
                          <a:lnTo>
                            <a:pt x="24" y="615"/>
                          </a:lnTo>
                          <a:lnTo>
                            <a:pt x="22" y="592"/>
                          </a:lnTo>
                          <a:lnTo>
                            <a:pt x="22" y="568"/>
                          </a:lnTo>
                          <a:lnTo>
                            <a:pt x="24" y="543"/>
                          </a:lnTo>
                          <a:lnTo>
                            <a:pt x="25" y="520"/>
                          </a:lnTo>
                          <a:lnTo>
                            <a:pt x="28" y="495"/>
                          </a:lnTo>
                          <a:lnTo>
                            <a:pt x="32" y="470"/>
                          </a:lnTo>
                          <a:lnTo>
                            <a:pt x="36" y="446"/>
                          </a:lnTo>
                          <a:lnTo>
                            <a:pt x="40" y="423"/>
                          </a:lnTo>
                          <a:lnTo>
                            <a:pt x="44" y="400"/>
                          </a:lnTo>
                          <a:lnTo>
                            <a:pt x="50" y="361"/>
                          </a:lnTo>
                          <a:lnTo>
                            <a:pt x="60" y="321"/>
                          </a:lnTo>
                          <a:lnTo>
                            <a:pt x="72" y="280"/>
                          </a:lnTo>
                          <a:lnTo>
                            <a:pt x="85" y="239"/>
                          </a:lnTo>
                          <a:lnTo>
                            <a:pt x="102" y="199"/>
                          </a:lnTo>
                          <a:lnTo>
                            <a:pt x="124" y="160"/>
                          </a:lnTo>
                          <a:lnTo>
                            <a:pt x="148" y="124"/>
                          </a:lnTo>
                          <a:lnTo>
                            <a:pt x="177" y="92"/>
                          </a:lnTo>
                          <a:lnTo>
                            <a:pt x="210" y="65"/>
                          </a:lnTo>
                          <a:lnTo>
                            <a:pt x="248" y="44"/>
                          </a:lnTo>
                          <a:lnTo>
                            <a:pt x="261" y="38"/>
                          </a:lnTo>
                          <a:lnTo>
                            <a:pt x="274" y="33"/>
                          </a:lnTo>
                          <a:lnTo>
                            <a:pt x="289" y="29"/>
                          </a:lnTo>
                          <a:lnTo>
                            <a:pt x="304" y="24"/>
                          </a:lnTo>
                          <a:lnTo>
                            <a:pt x="318" y="22"/>
                          </a:lnTo>
                          <a:lnTo>
                            <a:pt x="334" y="19"/>
                          </a:lnTo>
                          <a:lnTo>
                            <a:pt x="349" y="19"/>
                          </a:lnTo>
                          <a:lnTo>
                            <a:pt x="364" y="20"/>
                          </a:lnTo>
                          <a:lnTo>
                            <a:pt x="378" y="23"/>
                          </a:lnTo>
                          <a:lnTo>
                            <a:pt x="392" y="27"/>
                          </a:lnTo>
                          <a:lnTo>
                            <a:pt x="401" y="33"/>
                          </a:lnTo>
                          <a:lnTo>
                            <a:pt x="410" y="40"/>
                          </a:lnTo>
                          <a:lnTo>
                            <a:pt x="417" y="49"/>
                          </a:lnTo>
                          <a:lnTo>
                            <a:pt x="422" y="57"/>
                          </a:lnTo>
                          <a:lnTo>
                            <a:pt x="428" y="68"/>
                          </a:lnTo>
                          <a:lnTo>
                            <a:pt x="432" y="77"/>
                          </a:lnTo>
                          <a:lnTo>
                            <a:pt x="436" y="88"/>
                          </a:lnTo>
                          <a:lnTo>
                            <a:pt x="438" y="97"/>
                          </a:lnTo>
                          <a:lnTo>
                            <a:pt x="441" y="108"/>
                          </a:lnTo>
                          <a:lnTo>
                            <a:pt x="442" y="117"/>
                          </a:lnTo>
                          <a:lnTo>
                            <a:pt x="445" y="132"/>
                          </a:lnTo>
                          <a:lnTo>
                            <a:pt x="446" y="147"/>
                          </a:lnTo>
                          <a:lnTo>
                            <a:pt x="445" y="161"/>
                          </a:lnTo>
                          <a:lnTo>
                            <a:pt x="444" y="175"/>
                          </a:lnTo>
                          <a:lnTo>
                            <a:pt x="441" y="188"/>
                          </a:lnTo>
                          <a:lnTo>
                            <a:pt x="438" y="201"/>
                          </a:lnTo>
                          <a:lnTo>
                            <a:pt x="434" y="214"/>
                          </a:lnTo>
                          <a:lnTo>
                            <a:pt x="429" y="227"/>
                          </a:lnTo>
                          <a:lnTo>
                            <a:pt x="425" y="240"/>
                          </a:lnTo>
                          <a:lnTo>
                            <a:pt x="420" y="255"/>
                          </a:lnTo>
                          <a:lnTo>
                            <a:pt x="410" y="282"/>
                          </a:lnTo>
                          <a:lnTo>
                            <a:pt x="400" y="312"/>
                          </a:lnTo>
                          <a:lnTo>
                            <a:pt x="390" y="344"/>
                          </a:lnTo>
                          <a:lnTo>
                            <a:pt x="381" y="376"/>
                          </a:lnTo>
                          <a:lnTo>
                            <a:pt x="374" y="409"/>
                          </a:lnTo>
                          <a:lnTo>
                            <a:pt x="369" y="442"/>
                          </a:lnTo>
                          <a:lnTo>
                            <a:pt x="366" y="474"/>
                          </a:lnTo>
                          <a:lnTo>
                            <a:pt x="368" y="505"/>
                          </a:lnTo>
                          <a:lnTo>
                            <a:pt x="373" y="535"/>
                          </a:lnTo>
                          <a:lnTo>
                            <a:pt x="384" y="563"/>
                          </a:lnTo>
                          <a:lnTo>
                            <a:pt x="386" y="566"/>
                          </a:lnTo>
                          <a:lnTo>
                            <a:pt x="389" y="568"/>
                          </a:lnTo>
                          <a:lnTo>
                            <a:pt x="392" y="568"/>
                          </a:lnTo>
                          <a:lnTo>
                            <a:pt x="396" y="567"/>
                          </a:lnTo>
                          <a:lnTo>
                            <a:pt x="398" y="566"/>
                          </a:lnTo>
                          <a:lnTo>
                            <a:pt x="402" y="564"/>
                          </a:lnTo>
                          <a:lnTo>
                            <a:pt x="404" y="562"/>
                          </a:lnTo>
                          <a:lnTo>
                            <a:pt x="406" y="559"/>
                          </a:lnTo>
                          <a:lnTo>
                            <a:pt x="406" y="556"/>
                          </a:lnTo>
                          <a:lnTo>
                            <a:pt x="406" y="554"/>
                          </a:lnTo>
                          <a:lnTo>
                            <a:pt x="398" y="534"/>
                          </a:lnTo>
                          <a:lnTo>
                            <a:pt x="394" y="514"/>
                          </a:lnTo>
                          <a:lnTo>
                            <a:pt x="392" y="492"/>
                          </a:lnTo>
                          <a:lnTo>
                            <a:pt x="392" y="471"/>
                          </a:lnTo>
                          <a:lnTo>
                            <a:pt x="393" y="450"/>
                          </a:lnTo>
                          <a:lnTo>
                            <a:pt x="396" y="429"/>
                          </a:lnTo>
                          <a:lnTo>
                            <a:pt x="400" y="407"/>
                          </a:lnTo>
                          <a:lnTo>
                            <a:pt x="405" y="386"/>
                          </a:lnTo>
                          <a:lnTo>
                            <a:pt x="409" y="366"/>
                          </a:lnTo>
                          <a:lnTo>
                            <a:pt x="414" y="346"/>
                          </a:lnTo>
                          <a:lnTo>
                            <a:pt x="418" y="331"/>
                          </a:lnTo>
                          <a:lnTo>
                            <a:pt x="422" y="314"/>
                          </a:lnTo>
                          <a:lnTo>
                            <a:pt x="428" y="299"/>
                          </a:lnTo>
                          <a:lnTo>
                            <a:pt x="433" y="282"/>
                          </a:lnTo>
                          <a:lnTo>
                            <a:pt x="437" y="267"/>
                          </a:lnTo>
                          <a:lnTo>
                            <a:pt x="442" y="252"/>
                          </a:lnTo>
                          <a:lnTo>
                            <a:pt x="448" y="235"/>
                          </a:lnTo>
                          <a:lnTo>
                            <a:pt x="453" y="220"/>
                          </a:lnTo>
                          <a:lnTo>
                            <a:pt x="460" y="204"/>
                          </a:lnTo>
                          <a:lnTo>
                            <a:pt x="465" y="189"/>
                          </a:lnTo>
                          <a:lnTo>
                            <a:pt x="469" y="174"/>
                          </a:lnTo>
                          <a:lnTo>
                            <a:pt x="472" y="158"/>
                          </a:lnTo>
                          <a:lnTo>
                            <a:pt x="472" y="142"/>
                          </a:lnTo>
                          <a:lnTo>
                            <a:pt x="470" y="125"/>
                          </a:lnTo>
                          <a:lnTo>
                            <a:pt x="468" y="109"/>
                          </a:lnTo>
                          <a:lnTo>
                            <a:pt x="464" y="91"/>
                          </a:lnTo>
                          <a:lnTo>
                            <a:pt x="457" y="76"/>
                          </a:lnTo>
                          <a:lnTo>
                            <a:pt x="450" y="60"/>
                          </a:lnTo>
                          <a:lnTo>
                            <a:pt x="442" y="46"/>
                          </a:lnTo>
                          <a:lnTo>
                            <a:pt x="434" y="33"/>
                          </a:lnTo>
                          <a:lnTo>
                            <a:pt x="421" y="19"/>
                          </a:lnTo>
                          <a:lnTo>
                            <a:pt x="406" y="10"/>
                          </a:lnTo>
                          <a:lnTo>
                            <a:pt x="389" y="4"/>
                          </a:lnTo>
                          <a:lnTo>
                            <a:pt x="370" y="0"/>
                          </a:lnTo>
                          <a:lnTo>
                            <a:pt x="350" y="0"/>
                          </a:lnTo>
                          <a:lnTo>
                            <a:pt x="330" y="3"/>
                          </a:lnTo>
                          <a:lnTo>
                            <a:pt x="310" y="6"/>
                          </a:lnTo>
                          <a:lnTo>
                            <a:pt x="292" y="11"/>
                          </a:lnTo>
                          <a:lnTo>
                            <a:pt x="273" y="17"/>
                          </a:lnTo>
                          <a:lnTo>
                            <a:pt x="256" y="23"/>
                          </a:lnTo>
                          <a:lnTo>
                            <a:pt x="217" y="42"/>
                          </a:lnTo>
                          <a:lnTo>
                            <a:pt x="181" y="65"/>
                          </a:lnTo>
                          <a:lnTo>
                            <a:pt x="152" y="94"/>
                          </a:lnTo>
                          <a:lnTo>
                            <a:pt x="125" y="125"/>
                          </a:lnTo>
                          <a:lnTo>
                            <a:pt x="102" y="161"/>
                          </a:lnTo>
                          <a:lnTo>
                            <a:pt x="84" y="197"/>
                          </a:lnTo>
                          <a:lnTo>
                            <a:pt x="66" y="235"/>
                          </a:lnTo>
                          <a:lnTo>
                            <a:pt x="53" y="274"/>
                          </a:lnTo>
                          <a:lnTo>
                            <a:pt x="41" y="313"/>
                          </a:lnTo>
                          <a:lnTo>
                            <a:pt x="32" y="350"/>
                          </a:lnTo>
                          <a:lnTo>
                            <a:pt x="25" y="378"/>
                          </a:lnTo>
                          <a:lnTo>
                            <a:pt x="18" y="407"/>
                          </a:lnTo>
                          <a:lnTo>
                            <a:pt x="13" y="437"/>
                          </a:lnTo>
                          <a:lnTo>
                            <a:pt x="8" y="468"/>
                          </a:lnTo>
                          <a:lnTo>
                            <a:pt x="4" y="498"/>
                          </a:lnTo>
                          <a:lnTo>
                            <a:pt x="1" y="529"/>
                          </a:lnTo>
                          <a:lnTo>
                            <a:pt x="0" y="560"/>
                          </a:lnTo>
                          <a:lnTo>
                            <a:pt x="0" y="590"/>
                          </a:lnTo>
                          <a:lnTo>
                            <a:pt x="1" y="620"/>
                          </a:lnTo>
                          <a:lnTo>
                            <a:pt x="5" y="648"/>
                          </a:lnTo>
                          <a:lnTo>
                            <a:pt x="5" y="652"/>
                          </a:lnTo>
                          <a:lnTo>
                            <a:pt x="8" y="653"/>
                          </a:lnTo>
                          <a:lnTo>
                            <a:pt x="10" y="653"/>
                          </a:lnTo>
                          <a:lnTo>
                            <a:pt x="14" y="653"/>
                          </a:lnTo>
                          <a:lnTo>
                            <a:pt x="17" y="652"/>
                          </a:lnTo>
                          <a:lnTo>
                            <a:pt x="21" y="649"/>
                          </a:lnTo>
                          <a:lnTo>
                            <a:pt x="24" y="647"/>
                          </a:lnTo>
                          <a:lnTo>
                            <a:pt x="25" y="645"/>
                          </a:lnTo>
                          <a:lnTo>
                            <a:pt x="26" y="642"/>
                          </a:lnTo>
                          <a:lnTo>
                            <a:pt x="28" y="639"/>
                          </a:lnTo>
                          <a:lnTo>
                            <a:pt x="26" y="63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>
                      <a:off x="864360" y="1952640"/>
                      <a:ext cx="2955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4" h="395">
                          <a:moveTo>
                            <a:pt x="0" y="13"/>
                          </a:moveTo>
                          <a:lnTo>
                            <a:pt x="10" y="47"/>
                          </a:lnTo>
                          <a:lnTo>
                            <a:pt x="22" y="79"/>
                          </a:lnTo>
                          <a:lnTo>
                            <a:pt x="38" y="110"/>
                          </a:lnTo>
                          <a:lnTo>
                            <a:pt x="56" y="139"/>
                          </a:lnTo>
                          <a:lnTo>
                            <a:pt x="78" y="167"/>
                          </a:lnTo>
                          <a:lnTo>
                            <a:pt x="100" y="193"/>
                          </a:lnTo>
                          <a:lnTo>
                            <a:pt x="127" y="219"/>
                          </a:lnTo>
                          <a:lnTo>
                            <a:pt x="155" y="243"/>
                          </a:lnTo>
                          <a:lnTo>
                            <a:pt x="183" y="265"/>
                          </a:lnTo>
                          <a:lnTo>
                            <a:pt x="214" y="287"/>
                          </a:lnTo>
                          <a:lnTo>
                            <a:pt x="234" y="300"/>
                          </a:lnTo>
                          <a:lnTo>
                            <a:pt x="254" y="313"/>
                          </a:lnTo>
                          <a:lnTo>
                            <a:pt x="275" y="326"/>
                          </a:lnTo>
                          <a:lnTo>
                            <a:pt x="296" y="339"/>
                          </a:lnTo>
                          <a:lnTo>
                            <a:pt x="319" y="350"/>
                          </a:lnTo>
                          <a:lnTo>
                            <a:pt x="342" y="361"/>
                          </a:lnTo>
                          <a:lnTo>
                            <a:pt x="364" y="372"/>
                          </a:lnTo>
                          <a:lnTo>
                            <a:pt x="388" y="381"/>
                          </a:lnTo>
                          <a:lnTo>
                            <a:pt x="411" y="388"/>
                          </a:lnTo>
                          <a:lnTo>
                            <a:pt x="435" y="395"/>
                          </a:lnTo>
                          <a:lnTo>
                            <a:pt x="438" y="395"/>
                          </a:lnTo>
                          <a:lnTo>
                            <a:pt x="442" y="395"/>
                          </a:lnTo>
                          <a:lnTo>
                            <a:pt x="446" y="393"/>
                          </a:lnTo>
                          <a:lnTo>
                            <a:pt x="448" y="392"/>
                          </a:lnTo>
                          <a:lnTo>
                            <a:pt x="451" y="389"/>
                          </a:lnTo>
                          <a:lnTo>
                            <a:pt x="452" y="386"/>
                          </a:lnTo>
                          <a:lnTo>
                            <a:pt x="454" y="383"/>
                          </a:lnTo>
                          <a:lnTo>
                            <a:pt x="454" y="381"/>
                          </a:lnTo>
                          <a:lnTo>
                            <a:pt x="451" y="379"/>
                          </a:lnTo>
                          <a:lnTo>
                            <a:pt x="448" y="377"/>
                          </a:lnTo>
                          <a:lnTo>
                            <a:pt x="427" y="372"/>
                          </a:lnTo>
                          <a:lnTo>
                            <a:pt x="404" y="364"/>
                          </a:lnTo>
                          <a:lnTo>
                            <a:pt x="383" y="356"/>
                          </a:lnTo>
                          <a:lnTo>
                            <a:pt x="362" y="346"/>
                          </a:lnTo>
                          <a:lnTo>
                            <a:pt x="342" y="336"/>
                          </a:lnTo>
                          <a:lnTo>
                            <a:pt x="320" y="326"/>
                          </a:lnTo>
                          <a:lnTo>
                            <a:pt x="300" y="314"/>
                          </a:lnTo>
                          <a:lnTo>
                            <a:pt x="280" y="302"/>
                          </a:lnTo>
                          <a:lnTo>
                            <a:pt x="262" y="290"/>
                          </a:lnTo>
                          <a:lnTo>
                            <a:pt x="243" y="278"/>
                          </a:lnTo>
                          <a:lnTo>
                            <a:pt x="212" y="258"/>
                          </a:lnTo>
                          <a:lnTo>
                            <a:pt x="182" y="236"/>
                          </a:lnTo>
                          <a:lnTo>
                            <a:pt x="154" y="212"/>
                          </a:lnTo>
                          <a:lnTo>
                            <a:pt x="127" y="186"/>
                          </a:lnTo>
                          <a:lnTo>
                            <a:pt x="103" y="160"/>
                          </a:lnTo>
                          <a:lnTo>
                            <a:pt x="80" y="132"/>
                          </a:lnTo>
                          <a:lnTo>
                            <a:pt x="62" y="102"/>
                          </a:lnTo>
                          <a:lnTo>
                            <a:pt x="46" y="71"/>
                          </a:lnTo>
                          <a:lnTo>
                            <a:pt x="34" y="39"/>
                          </a:lnTo>
                          <a:lnTo>
                            <a:pt x="24" y="4"/>
                          </a:lnTo>
                          <a:lnTo>
                            <a:pt x="23" y="1"/>
                          </a:lnTo>
                          <a:lnTo>
                            <a:pt x="22" y="0"/>
                          </a:lnTo>
                          <a:lnTo>
                            <a:pt x="19" y="0"/>
                          </a:lnTo>
                          <a:lnTo>
                            <a:pt x="15" y="0"/>
                          </a:lnTo>
                          <a:lnTo>
                            <a:pt x="11" y="1"/>
                          </a:lnTo>
                          <a:lnTo>
                            <a:pt x="8" y="2"/>
                          </a:lnTo>
                          <a:lnTo>
                            <a:pt x="6" y="4"/>
                          </a:lnTo>
                          <a:lnTo>
                            <a:pt x="3" y="7"/>
                          </a:lnTo>
                          <a:lnTo>
                            <a:pt x="2" y="9"/>
                          </a:lnTo>
                          <a:lnTo>
                            <a:pt x="2" y="13"/>
                          </a:lnTo>
                          <a:lnTo>
                            <a:pt x="0" y="1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"/>
                    <p:cNvSpPr/>
                    <p:nvPr/>
                  </p:nvSpPr>
                  <p:spPr>
                    <a:xfrm>
                      <a:off x="867240" y="1881360"/>
                      <a:ext cx="520560" cy="18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9" h="287">
                          <a:moveTo>
                            <a:pt x="24" y="112"/>
                          </a:moveTo>
                          <a:lnTo>
                            <a:pt x="23" y="92"/>
                          </a:lnTo>
                          <a:lnTo>
                            <a:pt x="27" y="73"/>
                          </a:lnTo>
                          <a:lnTo>
                            <a:pt x="34" y="58"/>
                          </a:lnTo>
                          <a:lnTo>
                            <a:pt x="46" y="46"/>
                          </a:lnTo>
                          <a:lnTo>
                            <a:pt x="59" y="36"/>
                          </a:lnTo>
                          <a:lnTo>
                            <a:pt x="76" y="30"/>
                          </a:lnTo>
                          <a:lnTo>
                            <a:pt x="95" y="25"/>
                          </a:lnTo>
                          <a:lnTo>
                            <a:pt x="115" y="24"/>
                          </a:lnTo>
                          <a:lnTo>
                            <a:pt x="135" y="25"/>
                          </a:lnTo>
                          <a:lnTo>
                            <a:pt x="156" y="29"/>
                          </a:lnTo>
                          <a:lnTo>
                            <a:pt x="171" y="33"/>
                          </a:lnTo>
                          <a:lnTo>
                            <a:pt x="184" y="38"/>
                          </a:lnTo>
                          <a:lnTo>
                            <a:pt x="198" y="44"/>
                          </a:lnTo>
                          <a:lnTo>
                            <a:pt x="210" y="51"/>
                          </a:lnTo>
                          <a:lnTo>
                            <a:pt x="222" y="58"/>
                          </a:lnTo>
                          <a:lnTo>
                            <a:pt x="234" y="65"/>
                          </a:lnTo>
                          <a:lnTo>
                            <a:pt x="246" y="73"/>
                          </a:lnTo>
                          <a:lnTo>
                            <a:pt x="256" y="83"/>
                          </a:lnTo>
                          <a:lnTo>
                            <a:pt x="268" y="91"/>
                          </a:lnTo>
                          <a:lnTo>
                            <a:pt x="279" y="99"/>
                          </a:lnTo>
                          <a:lnTo>
                            <a:pt x="296" y="115"/>
                          </a:lnTo>
                          <a:lnTo>
                            <a:pt x="312" y="129"/>
                          </a:lnTo>
                          <a:lnTo>
                            <a:pt x="330" y="144"/>
                          </a:lnTo>
                          <a:lnTo>
                            <a:pt x="346" y="160"/>
                          </a:lnTo>
                          <a:lnTo>
                            <a:pt x="362" y="175"/>
                          </a:lnTo>
                          <a:lnTo>
                            <a:pt x="378" y="190"/>
                          </a:lnTo>
                          <a:lnTo>
                            <a:pt x="394" y="206"/>
                          </a:lnTo>
                          <a:lnTo>
                            <a:pt x="411" y="221"/>
                          </a:lnTo>
                          <a:lnTo>
                            <a:pt x="428" y="235"/>
                          </a:lnTo>
                          <a:lnTo>
                            <a:pt x="446" y="249"/>
                          </a:lnTo>
                          <a:lnTo>
                            <a:pt x="479" y="268"/>
                          </a:lnTo>
                          <a:lnTo>
                            <a:pt x="514" y="281"/>
                          </a:lnTo>
                          <a:lnTo>
                            <a:pt x="551" y="286"/>
                          </a:lnTo>
                          <a:lnTo>
                            <a:pt x="588" y="287"/>
                          </a:lnTo>
                          <a:lnTo>
                            <a:pt x="626" y="281"/>
                          </a:lnTo>
                          <a:lnTo>
                            <a:pt x="663" y="272"/>
                          </a:lnTo>
                          <a:lnTo>
                            <a:pt x="699" y="259"/>
                          </a:lnTo>
                          <a:lnTo>
                            <a:pt x="734" y="242"/>
                          </a:lnTo>
                          <a:lnTo>
                            <a:pt x="764" y="223"/>
                          </a:lnTo>
                          <a:lnTo>
                            <a:pt x="794" y="203"/>
                          </a:lnTo>
                          <a:lnTo>
                            <a:pt x="796" y="201"/>
                          </a:lnTo>
                          <a:lnTo>
                            <a:pt x="798" y="197"/>
                          </a:lnTo>
                          <a:lnTo>
                            <a:pt x="799" y="195"/>
                          </a:lnTo>
                          <a:lnTo>
                            <a:pt x="799" y="191"/>
                          </a:lnTo>
                          <a:lnTo>
                            <a:pt x="798" y="190"/>
                          </a:lnTo>
                          <a:lnTo>
                            <a:pt x="795" y="188"/>
                          </a:lnTo>
                          <a:lnTo>
                            <a:pt x="792" y="187"/>
                          </a:lnTo>
                          <a:lnTo>
                            <a:pt x="790" y="187"/>
                          </a:lnTo>
                          <a:lnTo>
                            <a:pt x="787" y="188"/>
                          </a:lnTo>
                          <a:lnTo>
                            <a:pt x="783" y="190"/>
                          </a:lnTo>
                          <a:lnTo>
                            <a:pt x="755" y="210"/>
                          </a:lnTo>
                          <a:lnTo>
                            <a:pt x="726" y="228"/>
                          </a:lnTo>
                          <a:lnTo>
                            <a:pt x="695" y="242"/>
                          </a:lnTo>
                          <a:lnTo>
                            <a:pt x="662" y="254"/>
                          </a:lnTo>
                          <a:lnTo>
                            <a:pt x="630" y="262"/>
                          </a:lnTo>
                          <a:lnTo>
                            <a:pt x="595" y="267"/>
                          </a:lnTo>
                          <a:lnTo>
                            <a:pt x="562" y="266"/>
                          </a:lnTo>
                          <a:lnTo>
                            <a:pt x="528" y="260"/>
                          </a:lnTo>
                          <a:lnTo>
                            <a:pt x="495" y="249"/>
                          </a:lnTo>
                          <a:lnTo>
                            <a:pt x="463" y="233"/>
                          </a:lnTo>
                          <a:lnTo>
                            <a:pt x="440" y="216"/>
                          </a:lnTo>
                          <a:lnTo>
                            <a:pt x="419" y="200"/>
                          </a:lnTo>
                          <a:lnTo>
                            <a:pt x="398" y="181"/>
                          </a:lnTo>
                          <a:lnTo>
                            <a:pt x="378" y="163"/>
                          </a:lnTo>
                          <a:lnTo>
                            <a:pt x="358" y="143"/>
                          </a:lnTo>
                          <a:lnTo>
                            <a:pt x="339" y="124"/>
                          </a:lnTo>
                          <a:lnTo>
                            <a:pt x="319" y="105"/>
                          </a:lnTo>
                          <a:lnTo>
                            <a:pt x="298" y="86"/>
                          </a:lnTo>
                          <a:lnTo>
                            <a:pt x="278" y="69"/>
                          </a:lnTo>
                          <a:lnTo>
                            <a:pt x="255" y="51"/>
                          </a:lnTo>
                          <a:lnTo>
                            <a:pt x="242" y="41"/>
                          </a:lnTo>
                          <a:lnTo>
                            <a:pt x="224" y="32"/>
                          </a:lnTo>
                          <a:lnTo>
                            <a:pt x="207" y="24"/>
                          </a:lnTo>
                          <a:lnTo>
                            <a:pt x="188" y="16"/>
                          </a:lnTo>
                          <a:lnTo>
                            <a:pt x="168" y="8"/>
                          </a:lnTo>
                          <a:lnTo>
                            <a:pt x="148" y="4"/>
                          </a:lnTo>
                          <a:lnTo>
                            <a:pt x="128" y="1"/>
                          </a:lnTo>
                          <a:lnTo>
                            <a:pt x="108" y="0"/>
                          </a:lnTo>
                          <a:lnTo>
                            <a:pt x="90" y="3"/>
                          </a:lnTo>
                          <a:lnTo>
                            <a:pt x="71" y="8"/>
                          </a:lnTo>
                          <a:lnTo>
                            <a:pt x="56" y="16"/>
                          </a:lnTo>
                          <a:lnTo>
                            <a:pt x="43" y="24"/>
                          </a:lnTo>
                          <a:lnTo>
                            <a:pt x="31" y="33"/>
                          </a:lnTo>
                          <a:lnTo>
                            <a:pt x="22" y="44"/>
                          </a:lnTo>
                          <a:lnTo>
                            <a:pt x="14" y="54"/>
                          </a:lnTo>
                          <a:lnTo>
                            <a:pt x="7" y="66"/>
                          </a:lnTo>
                          <a:lnTo>
                            <a:pt x="3" y="79"/>
                          </a:lnTo>
                          <a:lnTo>
                            <a:pt x="0" y="93"/>
                          </a:lnTo>
                          <a:lnTo>
                            <a:pt x="0" y="108"/>
                          </a:lnTo>
                          <a:lnTo>
                            <a:pt x="2" y="123"/>
                          </a:lnTo>
                          <a:lnTo>
                            <a:pt x="3" y="125"/>
                          </a:lnTo>
                          <a:lnTo>
                            <a:pt x="6" y="126"/>
                          </a:lnTo>
                          <a:lnTo>
                            <a:pt x="8" y="126"/>
                          </a:lnTo>
                          <a:lnTo>
                            <a:pt x="11" y="126"/>
                          </a:lnTo>
                          <a:lnTo>
                            <a:pt x="15" y="125"/>
                          </a:lnTo>
                          <a:lnTo>
                            <a:pt x="18" y="124"/>
                          </a:lnTo>
                          <a:lnTo>
                            <a:pt x="20" y="122"/>
                          </a:lnTo>
                          <a:lnTo>
                            <a:pt x="23" y="118"/>
                          </a:lnTo>
                          <a:lnTo>
                            <a:pt x="24" y="116"/>
                          </a:lnTo>
                          <a:lnTo>
                            <a:pt x="24" y="11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>
                      <a:off x="882000" y="1804320"/>
                      <a:ext cx="20052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8" h="162">
                          <a:moveTo>
                            <a:pt x="21" y="155"/>
                          </a:moveTo>
                          <a:lnTo>
                            <a:pt x="32" y="142"/>
                          </a:lnTo>
                          <a:lnTo>
                            <a:pt x="44" y="131"/>
                          </a:lnTo>
                          <a:lnTo>
                            <a:pt x="57" y="124"/>
                          </a:lnTo>
                          <a:lnTo>
                            <a:pt x="72" y="118"/>
                          </a:lnTo>
                          <a:lnTo>
                            <a:pt x="88" y="113"/>
                          </a:lnTo>
                          <a:lnTo>
                            <a:pt x="104" y="110"/>
                          </a:lnTo>
                          <a:lnTo>
                            <a:pt x="120" y="106"/>
                          </a:lnTo>
                          <a:lnTo>
                            <a:pt x="137" y="104"/>
                          </a:lnTo>
                          <a:lnTo>
                            <a:pt x="153" y="100"/>
                          </a:lnTo>
                          <a:lnTo>
                            <a:pt x="169" y="96"/>
                          </a:lnTo>
                          <a:lnTo>
                            <a:pt x="176" y="95"/>
                          </a:lnTo>
                          <a:lnTo>
                            <a:pt x="183" y="92"/>
                          </a:lnTo>
                          <a:lnTo>
                            <a:pt x="188" y="90"/>
                          </a:lnTo>
                          <a:lnTo>
                            <a:pt x="195" y="87"/>
                          </a:lnTo>
                          <a:lnTo>
                            <a:pt x="201" y="85"/>
                          </a:lnTo>
                          <a:lnTo>
                            <a:pt x="207" y="83"/>
                          </a:lnTo>
                          <a:lnTo>
                            <a:pt x="213" y="80"/>
                          </a:lnTo>
                          <a:lnTo>
                            <a:pt x="219" y="78"/>
                          </a:lnTo>
                          <a:lnTo>
                            <a:pt x="225" y="75"/>
                          </a:lnTo>
                          <a:lnTo>
                            <a:pt x="231" y="72"/>
                          </a:lnTo>
                          <a:lnTo>
                            <a:pt x="239" y="67"/>
                          </a:lnTo>
                          <a:lnTo>
                            <a:pt x="247" y="63"/>
                          </a:lnTo>
                          <a:lnTo>
                            <a:pt x="253" y="57"/>
                          </a:lnTo>
                          <a:lnTo>
                            <a:pt x="260" y="51"/>
                          </a:lnTo>
                          <a:lnTo>
                            <a:pt x="267" y="44"/>
                          </a:lnTo>
                          <a:lnTo>
                            <a:pt x="273" y="38"/>
                          </a:lnTo>
                          <a:lnTo>
                            <a:pt x="280" y="32"/>
                          </a:lnTo>
                          <a:lnTo>
                            <a:pt x="287" y="26"/>
                          </a:lnTo>
                          <a:lnTo>
                            <a:pt x="293" y="20"/>
                          </a:lnTo>
                          <a:lnTo>
                            <a:pt x="301" y="15"/>
                          </a:lnTo>
                          <a:lnTo>
                            <a:pt x="305" y="13"/>
                          </a:lnTo>
                          <a:lnTo>
                            <a:pt x="308" y="11"/>
                          </a:lnTo>
                          <a:lnTo>
                            <a:pt x="308" y="8"/>
                          </a:lnTo>
                          <a:lnTo>
                            <a:pt x="308" y="6"/>
                          </a:lnTo>
                          <a:lnTo>
                            <a:pt x="307" y="4"/>
                          </a:lnTo>
                          <a:lnTo>
                            <a:pt x="305" y="3"/>
                          </a:lnTo>
                          <a:lnTo>
                            <a:pt x="303" y="1"/>
                          </a:lnTo>
                          <a:lnTo>
                            <a:pt x="300" y="0"/>
                          </a:lnTo>
                          <a:lnTo>
                            <a:pt x="296" y="1"/>
                          </a:lnTo>
                          <a:lnTo>
                            <a:pt x="292" y="3"/>
                          </a:lnTo>
                          <a:lnTo>
                            <a:pt x="284" y="7"/>
                          </a:lnTo>
                          <a:lnTo>
                            <a:pt x="276" y="13"/>
                          </a:lnTo>
                          <a:lnTo>
                            <a:pt x="269" y="18"/>
                          </a:lnTo>
                          <a:lnTo>
                            <a:pt x="263" y="24"/>
                          </a:lnTo>
                          <a:lnTo>
                            <a:pt x="256" y="31"/>
                          </a:lnTo>
                          <a:lnTo>
                            <a:pt x="249" y="37"/>
                          </a:lnTo>
                          <a:lnTo>
                            <a:pt x="243" y="43"/>
                          </a:lnTo>
                          <a:lnTo>
                            <a:pt x="236" y="49"/>
                          </a:lnTo>
                          <a:lnTo>
                            <a:pt x="228" y="53"/>
                          </a:lnTo>
                          <a:lnTo>
                            <a:pt x="220" y="59"/>
                          </a:lnTo>
                          <a:lnTo>
                            <a:pt x="211" y="64"/>
                          </a:lnTo>
                          <a:lnTo>
                            <a:pt x="201" y="69"/>
                          </a:lnTo>
                          <a:lnTo>
                            <a:pt x="191" y="73"/>
                          </a:lnTo>
                          <a:lnTo>
                            <a:pt x="180" y="77"/>
                          </a:lnTo>
                          <a:lnTo>
                            <a:pt x="169" y="79"/>
                          </a:lnTo>
                          <a:lnTo>
                            <a:pt x="157" y="83"/>
                          </a:lnTo>
                          <a:lnTo>
                            <a:pt x="147" y="85"/>
                          </a:lnTo>
                          <a:lnTo>
                            <a:pt x="135" y="86"/>
                          </a:lnTo>
                          <a:lnTo>
                            <a:pt x="124" y="89"/>
                          </a:lnTo>
                          <a:lnTo>
                            <a:pt x="113" y="91"/>
                          </a:lnTo>
                          <a:lnTo>
                            <a:pt x="100" y="93"/>
                          </a:lnTo>
                          <a:lnTo>
                            <a:pt x="85" y="96"/>
                          </a:lnTo>
                          <a:lnTo>
                            <a:pt x="73" y="99"/>
                          </a:lnTo>
                          <a:lnTo>
                            <a:pt x="61" y="104"/>
                          </a:lnTo>
                          <a:lnTo>
                            <a:pt x="49" y="109"/>
                          </a:lnTo>
                          <a:lnTo>
                            <a:pt x="39" y="115"/>
                          </a:lnTo>
                          <a:lnTo>
                            <a:pt x="28" y="122"/>
                          </a:lnTo>
                          <a:lnTo>
                            <a:pt x="19" y="130"/>
                          </a:lnTo>
                          <a:lnTo>
                            <a:pt x="9" y="139"/>
                          </a:lnTo>
                          <a:lnTo>
                            <a:pt x="1" y="150"/>
                          </a:lnTo>
                          <a:lnTo>
                            <a:pt x="0" y="154"/>
                          </a:lnTo>
                          <a:lnTo>
                            <a:pt x="0" y="157"/>
                          </a:lnTo>
                          <a:lnTo>
                            <a:pt x="1" y="158"/>
                          </a:lnTo>
                          <a:lnTo>
                            <a:pt x="4" y="161"/>
                          </a:lnTo>
                          <a:lnTo>
                            <a:pt x="7" y="161"/>
                          </a:lnTo>
                          <a:lnTo>
                            <a:pt x="9" y="162"/>
                          </a:lnTo>
                          <a:lnTo>
                            <a:pt x="13" y="161"/>
                          </a:lnTo>
                          <a:lnTo>
                            <a:pt x="16" y="159"/>
                          </a:lnTo>
                          <a:lnTo>
                            <a:pt x="19" y="157"/>
                          </a:lnTo>
                          <a:lnTo>
                            <a:pt x="21" y="15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>
                      <a:off x="1070280" y="1805040"/>
                      <a:ext cx="351000" cy="21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9" h="325">
                          <a:moveTo>
                            <a:pt x="6" y="17"/>
                          </a:moveTo>
                          <a:lnTo>
                            <a:pt x="26" y="19"/>
                          </a:lnTo>
                          <a:lnTo>
                            <a:pt x="44" y="22"/>
                          </a:lnTo>
                          <a:lnTo>
                            <a:pt x="63" y="25"/>
                          </a:lnTo>
                          <a:lnTo>
                            <a:pt x="80" y="29"/>
                          </a:lnTo>
                          <a:lnTo>
                            <a:pt x="96" y="33"/>
                          </a:lnTo>
                          <a:lnTo>
                            <a:pt x="112" y="40"/>
                          </a:lnTo>
                          <a:lnTo>
                            <a:pt x="128" y="48"/>
                          </a:lnTo>
                          <a:lnTo>
                            <a:pt x="143" y="57"/>
                          </a:lnTo>
                          <a:lnTo>
                            <a:pt x="158" y="68"/>
                          </a:lnTo>
                          <a:lnTo>
                            <a:pt x="172" y="79"/>
                          </a:lnTo>
                          <a:lnTo>
                            <a:pt x="180" y="88"/>
                          </a:lnTo>
                          <a:lnTo>
                            <a:pt x="190" y="97"/>
                          </a:lnTo>
                          <a:lnTo>
                            <a:pt x="199" y="108"/>
                          </a:lnTo>
                          <a:lnTo>
                            <a:pt x="207" y="117"/>
                          </a:lnTo>
                          <a:lnTo>
                            <a:pt x="216" y="127"/>
                          </a:lnTo>
                          <a:lnTo>
                            <a:pt x="226" y="136"/>
                          </a:lnTo>
                          <a:lnTo>
                            <a:pt x="235" y="146"/>
                          </a:lnTo>
                          <a:lnTo>
                            <a:pt x="246" y="154"/>
                          </a:lnTo>
                          <a:lnTo>
                            <a:pt x="256" y="161"/>
                          </a:lnTo>
                          <a:lnTo>
                            <a:pt x="268" y="167"/>
                          </a:lnTo>
                          <a:lnTo>
                            <a:pt x="279" y="171"/>
                          </a:lnTo>
                          <a:lnTo>
                            <a:pt x="290" y="176"/>
                          </a:lnTo>
                          <a:lnTo>
                            <a:pt x="302" y="181"/>
                          </a:lnTo>
                          <a:lnTo>
                            <a:pt x="312" y="184"/>
                          </a:lnTo>
                          <a:lnTo>
                            <a:pt x="323" y="188"/>
                          </a:lnTo>
                          <a:lnTo>
                            <a:pt x="335" y="190"/>
                          </a:lnTo>
                          <a:lnTo>
                            <a:pt x="347" y="193"/>
                          </a:lnTo>
                          <a:lnTo>
                            <a:pt x="358" y="194"/>
                          </a:lnTo>
                          <a:lnTo>
                            <a:pt x="371" y="195"/>
                          </a:lnTo>
                          <a:lnTo>
                            <a:pt x="383" y="196"/>
                          </a:lnTo>
                          <a:lnTo>
                            <a:pt x="391" y="196"/>
                          </a:lnTo>
                          <a:lnTo>
                            <a:pt x="399" y="195"/>
                          </a:lnTo>
                          <a:lnTo>
                            <a:pt x="407" y="194"/>
                          </a:lnTo>
                          <a:lnTo>
                            <a:pt x="415" y="193"/>
                          </a:lnTo>
                          <a:lnTo>
                            <a:pt x="422" y="192"/>
                          </a:lnTo>
                          <a:lnTo>
                            <a:pt x="430" y="190"/>
                          </a:lnTo>
                          <a:lnTo>
                            <a:pt x="438" y="189"/>
                          </a:lnTo>
                          <a:lnTo>
                            <a:pt x="446" y="188"/>
                          </a:lnTo>
                          <a:lnTo>
                            <a:pt x="454" y="187"/>
                          </a:lnTo>
                          <a:lnTo>
                            <a:pt x="462" y="188"/>
                          </a:lnTo>
                          <a:lnTo>
                            <a:pt x="484" y="192"/>
                          </a:lnTo>
                          <a:lnTo>
                            <a:pt x="498" y="200"/>
                          </a:lnTo>
                          <a:lnTo>
                            <a:pt x="507" y="212"/>
                          </a:lnTo>
                          <a:lnTo>
                            <a:pt x="510" y="226"/>
                          </a:lnTo>
                          <a:lnTo>
                            <a:pt x="508" y="241"/>
                          </a:lnTo>
                          <a:lnTo>
                            <a:pt x="504" y="258"/>
                          </a:lnTo>
                          <a:lnTo>
                            <a:pt x="498" y="274"/>
                          </a:lnTo>
                          <a:lnTo>
                            <a:pt x="490" y="290"/>
                          </a:lnTo>
                          <a:lnTo>
                            <a:pt x="482" y="304"/>
                          </a:lnTo>
                          <a:lnTo>
                            <a:pt x="474" y="315"/>
                          </a:lnTo>
                          <a:lnTo>
                            <a:pt x="472" y="319"/>
                          </a:lnTo>
                          <a:lnTo>
                            <a:pt x="472" y="321"/>
                          </a:lnTo>
                          <a:lnTo>
                            <a:pt x="474" y="324"/>
                          </a:lnTo>
                          <a:lnTo>
                            <a:pt x="476" y="325"/>
                          </a:lnTo>
                          <a:lnTo>
                            <a:pt x="479" y="325"/>
                          </a:lnTo>
                          <a:lnTo>
                            <a:pt x="483" y="325"/>
                          </a:lnTo>
                          <a:lnTo>
                            <a:pt x="487" y="325"/>
                          </a:lnTo>
                          <a:lnTo>
                            <a:pt x="490" y="324"/>
                          </a:lnTo>
                          <a:lnTo>
                            <a:pt x="494" y="321"/>
                          </a:lnTo>
                          <a:lnTo>
                            <a:pt x="496" y="319"/>
                          </a:lnTo>
                          <a:lnTo>
                            <a:pt x="503" y="311"/>
                          </a:lnTo>
                          <a:lnTo>
                            <a:pt x="510" y="300"/>
                          </a:lnTo>
                          <a:lnTo>
                            <a:pt x="518" y="288"/>
                          </a:lnTo>
                          <a:lnTo>
                            <a:pt x="524" y="277"/>
                          </a:lnTo>
                          <a:lnTo>
                            <a:pt x="531" y="265"/>
                          </a:lnTo>
                          <a:lnTo>
                            <a:pt x="536" y="253"/>
                          </a:lnTo>
                          <a:lnTo>
                            <a:pt x="539" y="240"/>
                          </a:lnTo>
                          <a:lnTo>
                            <a:pt x="539" y="228"/>
                          </a:lnTo>
                          <a:lnTo>
                            <a:pt x="536" y="216"/>
                          </a:lnTo>
                          <a:lnTo>
                            <a:pt x="530" y="206"/>
                          </a:lnTo>
                          <a:lnTo>
                            <a:pt x="520" y="196"/>
                          </a:lnTo>
                          <a:lnTo>
                            <a:pt x="511" y="188"/>
                          </a:lnTo>
                          <a:lnTo>
                            <a:pt x="502" y="182"/>
                          </a:lnTo>
                          <a:lnTo>
                            <a:pt x="491" y="177"/>
                          </a:lnTo>
                          <a:lnTo>
                            <a:pt x="482" y="174"/>
                          </a:lnTo>
                          <a:lnTo>
                            <a:pt x="471" y="171"/>
                          </a:lnTo>
                          <a:lnTo>
                            <a:pt x="459" y="170"/>
                          </a:lnTo>
                          <a:lnTo>
                            <a:pt x="447" y="170"/>
                          </a:lnTo>
                          <a:lnTo>
                            <a:pt x="434" y="171"/>
                          </a:lnTo>
                          <a:lnTo>
                            <a:pt x="420" y="174"/>
                          </a:lnTo>
                          <a:lnTo>
                            <a:pt x="390" y="176"/>
                          </a:lnTo>
                          <a:lnTo>
                            <a:pt x="362" y="175"/>
                          </a:lnTo>
                          <a:lnTo>
                            <a:pt x="336" y="170"/>
                          </a:lnTo>
                          <a:lnTo>
                            <a:pt x="312" y="162"/>
                          </a:lnTo>
                          <a:lnTo>
                            <a:pt x="290" y="150"/>
                          </a:lnTo>
                          <a:lnTo>
                            <a:pt x="270" y="137"/>
                          </a:lnTo>
                          <a:lnTo>
                            <a:pt x="250" y="121"/>
                          </a:lnTo>
                          <a:lnTo>
                            <a:pt x="231" y="104"/>
                          </a:lnTo>
                          <a:lnTo>
                            <a:pt x="211" y="85"/>
                          </a:lnTo>
                          <a:lnTo>
                            <a:pt x="192" y="66"/>
                          </a:lnTo>
                          <a:lnTo>
                            <a:pt x="178" y="53"/>
                          </a:lnTo>
                          <a:lnTo>
                            <a:pt x="163" y="42"/>
                          </a:lnTo>
                          <a:lnTo>
                            <a:pt x="147" y="32"/>
                          </a:lnTo>
                          <a:lnTo>
                            <a:pt x="131" y="24"/>
                          </a:lnTo>
                          <a:lnTo>
                            <a:pt x="114" y="18"/>
                          </a:lnTo>
                          <a:lnTo>
                            <a:pt x="95" y="12"/>
                          </a:lnTo>
                          <a:lnTo>
                            <a:pt x="76" y="7"/>
                          </a:lnTo>
                          <a:lnTo>
                            <a:pt x="58" y="5"/>
                          </a:lnTo>
                          <a:lnTo>
                            <a:pt x="38" y="2"/>
                          </a:lnTo>
                          <a:lnTo>
                            <a:pt x="18" y="0"/>
                          </a:lnTo>
                          <a:lnTo>
                            <a:pt x="14" y="0"/>
                          </a:lnTo>
                          <a:lnTo>
                            <a:pt x="11" y="2"/>
                          </a:lnTo>
                          <a:lnTo>
                            <a:pt x="7" y="3"/>
                          </a:lnTo>
                          <a:lnTo>
                            <a:pt x="4" y="5"/>
                          </a:lnTo>
                          <a:lnTo>
                            <a:pt x="2" y="7"/>
                          </a:lnTo>
                          <a:lnTo>
                            <a:pt x="0" y="10"/>
                          </a:lnTo>
                          <a:lnTo>
                            <a:pt x="0" y="12"/>
                          </a:lnTo>
                          <a:lnTo>
                            <a:pt x="0" y="14"/>
                          </a:lnTo>
                          <a:lnTo>
                            <a:pt x="3" y="16"/>
                          </a:lnTo>
                          <a:lnTo>
                            <a:pt x="7" y="17"/>
                          </a:lnTo>
                          <a:lnTo>
                            <a:pt x="6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1149840" y="2168280"/>
                      <a:ext cx="8316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8" h="66">
                          <a:moveTo>
                            <a:pt x="106" y="11"/>
                          </a:moveTo>
                          <a:lnTo>
                            <a:pt x="104" y="20"/>
                          </a:lnTo>
                          <a:lnTo>
                            <a:pt x="97" y="27"/>
                          </a:lnTo>
                          <a:lnTo>
                            <a:pt x="89" y="33"/>
                          </a:lnTo>
                          <a:lnTo>
                            <a:pt x="80" y="37"/>
                          </a:lnTo>
                          <a:lnTo>
                            <a:pt x="68" y="39"/>
                          </a:lnTo>
                          <a:lnTo>
                            <a:pt x="57" y="42"/>
                          </a:lnTo>
                          <a:lnTo>
                            <a:pt x="45" y="43"/>
                          </a:lnTo>
                          <a:lnTo>
                            <a:pt x="33" y="44"/>
                          </a:lnTo>
                          <a:lnTo>
                            <a:pt x="22" y="45"/>
                          </a:lnTo>
                          <a:lnTo>
                            <a:pt x="12" y="47"/>
                          </a:lnTo>
                          <a:lnTo>
                            <a:pt x="9" y="49"/>
                          </a:lnTo>
                          <a:lnTo>
                            <a:pt x="6" y="50"/>
                          </a:lnTo>
                          <a:lnTo>
                            <a:pt x="4" y="52"/>
                          </a:lnTo>
                          <a:lnTo>
                            <a:pt x="1" y="56"/>
                          </a:lnTo>
                          <a:lnTo>
                            <a:pt x="0" y="58"/>
                          </a:lnTo>
                          <a:lnTo>
                            <a:pt x="0" y="62"/>
                          </a:lnTo>
                          <a:lnTo>
                            <a:pt x="0" y="64"/>
                          </a:lnTo>
                          <a:lnTo>
                            <a:pt x="1" y="65"/>
                          </a:lnTo>
                          <a:lnTo>
                            <a:pt x="4" y="66"/>
                          </a:lnTo>
                          <a:lnTo>
                            <a:pt x="8" y="66"/>
                          </a:lnTo>
                          <a:lnTo>
                            <a:pt x="21" y="64"/>
                          </a:lnTo>
                          <a:lnTo>
                            <a:pt x="36" y="62"/>
                          </a:lnTo>
                          <a:lnTo>
                            <a:pt x="52" y="59"/>
                          </a:lnTo>
                          <a:lnTo>
                            <a:pt x="66" y="57"/>
                          </a:lnTo>
                          <a:lnTo>
                            <a:pt x="81" y="53"/>
                          </a:lnTo>
                          <a:lnTo>
                            <a:pt x="94" y="49"/>
                          </a:lnTo>
                          <a:lnTo>
                            <a:pt x="106" y="42"/>
                          </a:lnTo>
                          <a:lnTo>
                            <a:pt x="117" y="33"/>
                          </a:lnTo>
                          <a:lnTo>
                            <a:pt x="124" y="23"/>
                          </a:lnTo>
                          <a:lnTo>
                            <a:pt x="128" y="9"/>
                          </a:lnTo>
                          <a:lnTo>
                            <a:pt x="128" y="5"/>
                          </a:lnTo>
                          <a:lnTo>
                            <a:pt x="126" y="3"/>
                          </a:lnTo>
                          <a:lnTo>
                            <a:pt x="125" y="1"/>
                          </a:lnTo>
                          <a:lnTo>
                            <a:pt x="122" y="0"/>
                          </a:lnTo>
                          <a:lnTo>
                            <a:pt x="118" y="0"/>
                          </a:lnTo>
                          <a:lnTo>
                            <a:pt x="116" y="1"/>
                          </a:lnTo>
                          <a:lnTo>
                            <a:pt x="112" y="4"/>
                          </a:lnTo>
                          <a:lnTo>
                            <a:pt x="109" y="6"/>
                          </a:lnTo>
                          <a:lnTo>
                            <a:pt x="108" y="9"/>
                          </a:lnTo>
                          <a:lnTo>
                            <a:pt x="106" y="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1210680" y="2163960"/>
                      <a:ext cx="40680" cy="10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161">
                          <a:moveTo>
                            <a:pt x="21" y="13"/>
                          </a:moveTo>
                          <a:lnTo>
                            <a:pt x="24" y="20"/>
                          </a:lnTo>
                          <a:lnTo>
                            <a:pt x="28" y="27"/>
                          </a:lnTo>
                          <a:lnTo>
                            <a:pt x="31" y="33"/>
                          </a:lnTo>
                          <a:lnTo>
                            <a:pt x="32" y="40"/>
                          </a:lnTo>
                          <a:lnTo>
                            <a:pt x="35" y="46"/>
                          </a:lnTo>
                          <a:lnTo>
                            <a:pt x="36" y="53"/>
                          </a:lnTo>
                          <a:lnTo>
                            <a:pt x="39" y="59"/>
                          </a:lnTo>
                          <a:lnTo>
                            <a:pt x="40" y="66"/>
                          </a:lnTo>
                          <a:lnTo>
                            <a:pt x="40" y="73"/>
                          </a:lnTo>
                          <a:lnTo>
                            <a:pt x="41" y="80"/>
                          </a:lnTo>
                          <a:lnTo>
                            <a:pt x="41" y="89"/>
                          </a:lnTo>
                          <a:lnTo>
                            <a:pt x="40" y="97"/>
                          </a:lnTo>
                          <a:lnTo>
                            <a:pt x="37" y="104"/>
                          </a:lnTo>
                          <a:lnTo>
                            <a:pt x="35" y="111"/>
                          </a:lnTo>
                          <a:lnTo>
                            <a:pt x="31" y="118"/>
                          </a:lnTo>
                          <a:lnTo>
                            <a:pt x="27" y="124"/>
                          </a:lnTo>
                          <a:lnTo>
                            <a:pt x="21" y="130"/>
                          </a:lnTo>
                          <a:lnTo>
                            <a:pt x="16" y="137"/>
                          </a:lnTo>
                          <a:lnTo>
                            <a:pt x="9" y="142"/>
                          </a:lnTo>
                          <a:lnTo>
                            <a:pt x="4" y="148"/>
                          </a:lnTo>
                          <a:lnTo>
                            <a:pt x="1" y="151"/>
                          </a:lnTo>
                          <a:lnTo>
                            <a:pt x="0" y="154"/>
                          </a:lnTo>
                          <a:lnTo>
                            <a:pt x="0" y="156"/>
                          </a:lnTo>
                          <a:lnTo>
                            <a:pt x="1" y="158"/>
                          </a:lnTo>
                          <a:lnTo>
                            <a:pt x="3" y="160"/>
                          </a:lnTo>
                          <a:lnTo>
                            <a:pt x="7" y="161"/>
                          </a:lnTo>
                          <a:lnTo>
                            <a:pt x="9" y="161"/>
                          </a:lnTo>
                          <a:lnTo>
                            <a:pt x="13" y="161"/>
                          </a:lnTo>
                          <a:lnTo>
                            <a:pt x="16" y="160"/>
                          </a:lnTo>
                          <a:lnTo>
                            <a:pt x="20" y="157"/>
                          </a:lnTo>
                          <a:lnTo>
                            <a:pt x="33" y="143"/>
                          </a:lnTo>
                          <a:lnTo>
                            <a:pt x="44" y="130"/>
                          </a:lnTo>
                          <a:lnTo>
                            <a:pt x="52" y="115"/>
                          </a:lnTo>
                          <a:lnTo>
                            <a:pt x="59" y="100"/>
                          </a:lnTo>
                          <a:lnTo>
                            <a:pt x="61" y="85"/>
                          </a:lnTo>
                          <a:lnTo>
                            <a:pt x="63" y="70"/>
                          </a:lnTo>
                          <a:lnTo>
                            <a:pt x="61" y="54"/>
                          </a:lnTo>
                          <a:lnTo>
                            <a:pt x="57" y="38"/>
                          </a:lnTo>
                          <a:lnTo>
                            <a:pt x="52" y="21"/>
                          </a:lnTo>
                          <a:lnTo>
                            <a:pt x="44" y="5"/>
                          </a:lnTo>
                          <a:lnTo>
                            <a:pt x="43" y="3"/>
                          </a:lnTo>
                          <a:lnTo>
                            <a:pt x="39" y="0"/>
                          </a:lnTo>
                          <a:lnTo>
                            <a:pt x="36" y="0"/>
                          </a:lnTo>
                          <a:lnTo>
                            <a:pt x="32" y="0"/>
                          </a:lnTo>
                          <a:lnTo>
                            <a:pt x="29" y="3"/>
                          </a:lnTo>
                          <a:lnTo>
                            <a:pt x="25" y="4"/>
                          </a:lnTo>
                          <a:lnTo>
                            <a:pt x="23" y="6"/>
                          </a:lnTo>
                          <a:lnTo>
                            <a:pt x="21" y="8"/>
                          </a:lnTo>
                          <a:lnTo>
                            <a:pt x="21" y="11"/>
                          </a:lnTo>
                          <a:lnTo>
                            <a:pt x="21" y="14"/>
                          </a:lnTo>
                          <a:lnTo>
                            <a:pt x="21" y="1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>
                      <a:off x="1144800" y="2198880"/>
                      <a:ext cx="2664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107">
                          <a:moveTo>
                            <a:pt x="6" y="18"/>
                          </a:moveTo>
                          <a:lnTo>
                            <a:pt x="9" y="19"/>
                          </a:lnTo>
                          <a:lnTo>
                            <a:pt x="12" y="22"/>
                          </a:lnTo>
                          <a:lnTo>
                            <a:pt x="13" y="25"/>
                          </a:lnTo>
                          <a:lnTo>
                            <a:pt x="14" y="30"/>
                          </a:lnTo>
                          <a:lnTo>
                            <a:pt x="14" y="35"/>
                          </a:lnTo>
                          <a:lnTo>
                            <a:pt x="16" y="39"/>
                          </a:lnTo>
                          <a:lnTo>
                            <a:pt x="16" y="44"/>
                          </a:lnTo>
                          <a:lnTo>
                            <a:pt x="16" y="49"/>
                          </a:lnTo>
                          <a:lnTo>
                            <a:pt x="16" y="51"/>
                          </a:lnTo>
                          <a:lnTo>
                            <a:pt x="16" y="54"/>
                          </a:lnTo>
                          <a:lnTo>
                            <a:pt x="16" y="56"/>
                          </a:lnTo>
                          <a:lnTo>
                            <a:pt x="16" y="57"/>
                          </a:lnTo>
                          <a:lnTo>
                            <a:pt x="16" y="59"/>
                          </a:lnTo>
                          <a:lnTo>
                            <a:pt x="16" y="61"/>
                          </a:lnTo>
                          <a:lnTo>
                            <a:pt x="16" y="62"/>
                          </a:lnTo>
                          <a:lnTo>
                            <a:pt x="16" y="64"/>
                          </a:lnTo>
                          <a:lnTo>
                            <a:pt x="16" y="65"/>
                          </a:lnTo>
                          <a:lnTo>
                            <a:pt x="16" y="67"/>
                          </a:lnTo>
                          <a:lnTo>
                            <a:pt x="16" y="69"/>
                          </a:lnTo>
                          <a:lnTo>
                            <a:pt x="17" y="70"/>
                          </a:lnTo>
                          <a:lnTo>
                            <a:pt x="17" y="74"/>
                          </a:lnTo>
                          <a:lnTo>
                            <a:pt x="16" y="76"/>
                          </a:lnTo>
                          <a:lnTo>
                            <a:pt x="16" y="80"/>
                          </a:lnTo>
                          <a:lnTo>
                            <a:pt x="14" y="82"/>
                          </a:lnTo>
                          <a:lnTo>
                            <a:pt x="13" y="84"/>
                          </a:lnTo>
                          <a:lnTo>
                            <a:pt x="10" y="88"/>
                          </a:lnTo>
                          <a:lnTo>
                            <a:pt x="9" y="90"/>
                          </a:lnTo>
                          <a:lnTo>
                            <a:pt x="6" y="93"/>
                          </a:lnTo>
                          <a:lnTo>
                            <a:pt x="5" y="95"/>
                          </a:lnTo>
                          <a:lnTo>
                            <a:pt x="4" y="97"/>
                          </a:lnTo>
                          <a:lnTo>
                            <a:pt x="2" y="101"/>
                          </a:lnTo>
                          <a:lnTo>
                            <a:pt x="2" y="103"/>
                          </a:lnTo>
                          <a:lnTo>
                            <a:pt x="4" y="106"/>
                          </a:lnTo>
                          <a:lnTo>
                            <a:pt x="6" y="107"/>
                          </a:lnTo>
                          <a:lnTo>
                            <a:pt x="10" y="107"/>
                          </a:lnTo>
                          <a:lnTo>
                            <a:pt x="13" y="107"/>
                          </a:lnTo>
                          <a:lnTo>
                            <a:pt x="17" y="106"/>
                          </a:lnTo>
                          <a:lnTo>
                            <a:pt x="21" y="104"/>
                          </a:lnTo>
                          <a:lnTo>
                            <a:pt x="24" y="102"/>
                          </a:lnTo>
                          <a:lnTo>
                            <a:pt x="25" y="100"/>
                          </a:lnTo>
                          <a:lnTo>
                            <a:pt x="28" y="96"/>
                          </a:lnTo>
                          <a:lnTo>
                            <a:pt x="29" y="94"/>
                          </a:lnTo>
                          <a:lnTo>
                            <a:pt x="32" y="91"/>
                          </a:lnTo>
                          <a:lnTo>
                            <a:pt x="33" y="88"/>
                          </a:lnTo>
                          <a:lnTo>
                            <a:pt x="34" y="85"/>
                          </a:lnTo>
                          <a:lnTo>
                            <a:pt x="36" y="82"/>
                          </a:lnTo>
                          <a:lnTo>
                            <a:pt x="37" y="80"/>
                          </a:lnTo>
                          <a:lnTo>
                            <a:pt x="38" y="76"/>
                          </a:lnTo>
                          <a:lnTo>
                            <a:pt x="40" y="74"/>
                          </a:lnTo>
                          <a:lnTo>
                            <a:pt x="40" y="70"/>
                          </a:lnTo>
                          <a:lnTo>
                            <a:pt x="41" y="68"/>
                          </a:lnTo>
                          <a:lnTo>
                            <a:pt x="41" y="64"/>
                          </a:lnTo>
                          <a:lnTo>
                            <a:pt x="41" y="62"/>
                          </a:lnTo>
                          <a:lnTo>
                            <a:pt x="41" y="58"/>
                          </a:lnTo>
                          <a:lnTo>
                            <a:pt x="40" y="55"/>
                          </a:lnTo>
                          <a:lnTo>
                            <a:pt x="40" y="52"/>
                          </a:lnTo>
                          <a:lnTo>
                            <a:pt x="40" y="49"/>
                          </a:lnTo>
                          <a:lnTo>
                            <a:pt x="40" y="46"/>
                          </a:lnTo>
                          <a:lnTo>
                            <a:pt x="40" y="43"/>
                          </a:lnTo>
                          <a:lnTo>
                            <a:pt x="40" y="41"/>
                          </a:lnTo>
                          <a:lnTo>
                            <a:pt x="38" y="36"/>
                          </a:lnTo>
                          <a:lnTo>
                            <a:pt x="38" y="31"/>
                          </a:lnTo>
                          <a:lnTo>
                            <a:pt x="38" y="25"/>
                          </a:lnTo>
                          <a:lnTo>
                            <a:pt x="37" y="21"/>
                          </a:lnTo>
                          <a:lnTo>
                            <a:pt x="36" y="16"/>
                          </a:lnTo>
                          <a:lnTo>
                            <a:pt x="33" y="11"/>
                          </a:lnTo>
                          <a:lnTo>
                            <a:pt x="30" y="8"/>
                          </a:lnTo>
                          <a:lnTo>
                            <a:pt x="26" y="4"/>
                          </a:lnTo>
                          <a:lnTo>
                            <a:pt x="22" y="2"/>
                          </a:lnTo>
                          <a:lnTo>
                            <a:pt x="16" y="0"/>
                          </a:lnTo>
                          <a:lnTo>
                            <a:pt x="13" y="0"/>
                          </a:lnTo>
                          <a:lnTo>
                            <a:pt x="9" y="2"/>
                          </a:lnTo>
                          <a:lnTo>
                            <a:pt x="6" y="4"/>
                          </a:lnTo>
                          <a:lnTo>
                            <a:pt x="4" y="5"/>
                          </a:lnTo>
                          <a:lnTo>
                            <a:pt x="1" y="9"/>
                          </a:lnTo>
                          <a:lnTo>
                            <a:pt x="0" y="11"/>
                          </a:lnTo>
                          <a:lnTo>
                            <a:pt x="0" y="13"/>
                          </a:lnTo>
                          <a:lnTo>
                            <a:pt x="1" y="16"/>
                          </a:lnTo>
                          <a:lnTo>
                            <a:pt x="2" y="17"/>
                          </a:lnTo>
                          <a:lnTo>
                            <a:pt x="6" y="1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>
                      <a:off x="1148760" y="2262600"/>
                      <a:ext cx="7164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33">
                          <a:moveTo>
                            <a:pt x="3" y="17"/>
                          </a:moveTo>
                          <a:lnTo>
                            <a:pt x="10" y="20"/>
                          </a:lnTo>
                          <a:lnTo>
                            <a:pt x="15" y="23"/>
                          </a:lnTo>
                          <a:lnTo>
                            <a:pt x="20" y="25"/>
                          </a:lnTo>
                          <a:lnTo>
                            <a:pt x="26" y="27"/>
                          </a:lnTo>
                          <a:lnTo>
                            <a:pt x="31" y="30"/>
                          </a:lnTo>
                          <a:lnTo>
                            <a:pt x="36" y="31"/>
                          </a:lnTo>
                          <a:lnTo>
                            <a:pt x="43" y="32"/>
                          </a:lnTo>
                          <a:lnTo>
                            <a:pt x="48" y="33"/>
                          </a:lnTo>
                          <a:lnTo>
                            <a:pt x="55" y="33"/>
                          </a:lnTo>
                          <a:lnTo>
                            <a:pt x="62" y="33"/>
                          </a:lnTo>
                          <a:lnTo>
                            <a:pt x="67" y="32"/>
                          </a:lnTo>
                          <a:lnTo>
                            <a:pt x="71" y="32"/>
                          </a:lnTo>
                          <a:lnTo>
                            <a:pt x="76" y="31"/>
                          </a:lnTo>
                          <a:lnTo>
                            <a:pt x="82" y="30"/>
                          </a:lnTo>
                          <a:lnTo>
                            <a:pt x="87" y="29"/>
                          </a:lnTo>
                          <a:lnTo>
                            <a:pt x="91" y="26"/>
                          </a:lnTo>
                          <a:lnTo>
                            <a:pt x="96" y="25"/>
                          </a:lnTo>
                          <a:lnTo>
                            <a:pt x="100" y="21"/>
                          </a:lnTo>
                          <a:lnTo>
                            <a:pt x="104" y="19"/>
                          </a:lnTo>
                          <a:lnTo>
                            <a:pt x="107" y="16"/>
                          </a:lnTo>
                          <a:lnTo>
                            <a:pt x="110" y="12"/>
                          </a:lnTo>
                          <a:lnTo>
                            <a:pt x="110" y="10"/>
                          </a:lnTo>
                          <a:lnTo>
                            <a:pt x="110" y="7"/>
                          </a:lnTo>
                          <a:lnTo>
                            <a:pt x="107" y="6"/>
                          </a:lnTo>
                          <a:lnTo>
                            <a:pt x="104" y="5"/>
                          </a:lnTo>
                          <a:lnTo>
                            <a:pt x="102" y="5"/>
                          </a:lnTo>
                          <a:lnTo>
                            <a:pt x="98" y="5"/>
                          </a:lnTo>
                          <a:lnTo>
                            <a:pt x="94" y="6"/>
                          </a:lnTo>
                          <a:lnTo>
                            <a:pt x="91" y="7"/>
                          </a:lnTo>
                          <a:lnTo>
                            <a:pt x="88" y="10"/>
                          </a:lnTo>
                          <a:lnTo>
                            <a:pt x="87" y="11"/>
                          </a:lnTo>
                          <a:lnTo>
                            <a:pt x="84" y="12"/>
                          </a:lnTo>
                          <a:lnTo>
                            <a:pt x="82" y="13"/>
                          </a:lnTo>
                          <a:lnTo>
                            <a:pt x="78" y="14"/>
                          </a:lnTo>
                          <a:lnTo>
                            <a:pt x="75" y="14"/>
                          </a:lnTo>
                          <a:lnTo>
                            <a:pt x="71" y="14"/>
                          </a:lnTo>
                          <a:lnTo>
                            <a:pt x="68" y="14"/>
                          </a:lnTo>
                          <a:lnTo>
                            <a:pt x="64" y="14"/>
                          </a:lnTo>
                          <a:lnTo>
                            <a:pt x="62" y="16"/>
                          </a:lnTo>
                          <a:lnTo>
                            <a:pt x="59" y="16"/>
                          </a:lnTo>
                          <a:lnTo>
                            <a:pt x="55" y="14"/>
                          </a:lnTo>
                          <a:lnTo>
                            <a:pt x="51" y="14"/>
                          </a:lnTo>
                          <a:lnTo>
                            <a:pt x="47" y="13"/>
                          </a:lnTo>
                          <a:lnTo>
                            <a:pt x="43" y="12"/>
                          </a:lnTo>
                          <a:lnTo>
                            <a:pt x="40" y="11"/>
                          </a:lnTo>
                          <a:lnTo>
                            <a:pt x="36" y="10"/>
                          </a:lnTo>
                          <a:lnTo>
                            <a:pt x="32" y="7"/>
                          </a:lnTo>
                          <a:lnTo>
                            <a:pt x="28" y="5"/>
                          </a:lnTo>
                          <a:lnTo>
                            <a:pt x="26" y="4"/>
                          </a:lnTo>
                          <a:lnTo>
                            <a:pt x="22" y="1"/>
                          </a:lnTo>
                          <a:lnTo>
                            <a:pt x="19" y="0"/>
                          </a:lnTo>
                          <a:lnTo>
                            <a:pt x="15" y="0"/>
                          </a:lnTo>
                          <a:lnTo>
                            <a:pt x="12" y="1"/>
                          </a:lnTo>
                          <a:lnTo>
                            <a:pt x="8" y="3"/>
                          </a:lnTo>
                          <a:lnTo>
                            <a:pt x="6" y="5"/>
                          </a:lnTo>
                          <a:lnTo>
                            <a:pt x="3" y="7"/>
                          </a:lnTo>
                          <a:lnTo>
                            <a:pt x="2" y="10"/>
                          </a:lnTo>
                          <a:lnTo>
                            <a:pt x="0" y="12"/>
                          </a:lnTo>
                          <a:lnTo>
                            <a:pt x="2" y="14"/>
                          </a:lnTo>
                          <a:lnTo>
                            <a:pt x="3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438480" y="1893240"/>
                      <a:ext cx="431280" cy="16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2" h="251">
                          <a:moveTo>
                            <a:pt x="660" y="78"/>
                          </a:moveTo>
                          <a:lnTo>
                            <a:pt x="641" y="57"/>
                          </a:lnTo>
                          <a:lnTo>
                            <a:pt x="620" y="39"/>
                          </a:lnTo>
                          <a:lnTo>
                            <a:pt x="598" y="23"/>
                          </a:lnTo>
                          <a:lnTo>
                            <a:pt x="577" y="12"/>
                          </a:lnTo>
                          <a:lnTo>
                            <a:pt x="553" y="3"/>
                          </a:lnTo>
                          <a:lnTo>
                            <a:pt x="529" y="0"/>
                          </a:lnTo>
                          <a:lnTo>
                            <a:pt x="505" y="0"/>
                          </a:lnTo>
                          <a:lnTo>
                            <a:pt x="478" y="3"/>
                          </a:lnTo>
                          <a:lnTo>
                            <a:pt x="452" y="12"/>
                          </a:lnTo>
                          <a:lnTo>
                            <a:pt x="422" y="25"/>
                          </a:lnTo>
                          <a:lnTo>
                            <a:pt x="406" y="35"/>
                          </a:lnTo>
                          <a:lnTo>
                            <a:pt x="390" y="45"/>
                          </a:lnTo>
                          <a:lnTo>
                            <a:pt x="374" y="55"/>
                          </a:lnTo>
                          <a:lnTo>
                            <a:pt x="361" y="66"/>
                          </a:lnTo>
                          <a:lnTo>
                            <a:pt x="348" y="78"/>
                          </a:lnTo>
                          <a:lnTo>
                            <a:pt x="334" y="90"/>
                          </a:lnTo>
                          <a:lnTo>
                            <a:pt x="322" y="103"/>
                          </a:lnTo>
                          <a:lnTo>
                            <a:pt x="309" y="114"/>
                          </a:lnTo>
                          <a:lnTo>
                            <a:pt x="297" y="129"/>
                          </a:lnTo>
                          <a:lnTo>
                            <a:pt x="285" y="143"/>
                          </a:lnTo>
                          <a:lnTo>
                            <a:pt x="264" y="164"/>
                          </a:lnTo>
                          <a:lnTo>
                            <a:pt x="241" y="184"/>
                          </a:lnTo>
                          <a:lnTo>
                            <a:pt x="217" y="202"/>
                          </a:lnTo>
                          <a:lnTo>
                            <a:pt x="190" y="216"/>
                          </a:lnTo>
                          <a:lnTo>
                            <a:pt x="164" y="226"/>
                          </a:lnTo>
                          <a:lnTo>
                            <a:pt x="136" y="234"/>
                          </a:lnTo>
                          <a:lnTo>
                            <a:pt x="108" y="234"/>
                          </a:lnTo>
                          <a:lnTo>
                            <a:pt x="80" y="229"/>
                          </a:lnTo>
                          <a:lnTo>
                            <a:pt x="50" y="217"/>
                          </a:lnTo>
                          <a:lnTo>
                            <a:pt x="21" y="198"/>
                          </a:lnTo>
                          <a:lnTo>
                            <a:pt x="18" y="197"/>
                          </a:lnTo>
                          <a:lnTo>
                            <a:pt x="16" y="197"/>
                          </a:lnTo>
                          <a:lnTo>
                            <a:pt x="12" y="197"/>
                          </a:lnTo>
                          <a:lnTo>
                            <a:pt x="8" y="198"/>
                          </a:lnTo>
                          <a:lnTo>
                            <a:pt x="5" y="199"/>
                          </a:lnTo>
                          <a:lnTo>
                            <a:pt x="1" y="202"/>
                          </a:lnTo>
                          <a:lnTo>
                            <a:pt x="1" y="204"/>
                          </a:lnTo>
                          <a:lnTo>
                            <a:pt x="0" y="206"/>
                          </a:lnTo>
                          <a:lnTo>
                            <a:pt x="0" y="209"/>
                          </a:lnTo>
                          <a:lnTo>
                            <a:pt x="1" y="211"/>
                          </a:lnTo>
                          <a:lnTo>
                            <a:pt x="25" y="228"/>
                          </a:lnTo>
                          <a:lnTo>
                            <a:pt x="49" y="239"/>
                          </a:lnTo>
                          <a:lnTo>
                            <a:pt x="74" y="248"/>
                          </a:lnTo>
                          <a:lnTo>
                            <a:pt x="100" y="251"/>
                          </a:lnTo>
                          <a:lnTo>
                            <a:pt x="125" y="251"/>
                          </a:lnTo>
                          <a:lnTo>
                            <a:pt x="150" y="248"/>
                          </a:lnTo>
                          <a:lnTo>
                            <a:pt x="176" y="242"/>
                          </a:lnTo>
                          <a:lnTo>
                            <a:pt x="200" y="231"/>
                          </a:lnTo>
                          <a:lnTo>
                            <a:pt x="224" y="218"/>
                          </a:lnTo>
                          <a:lnTo>
                            <a:pt x="248" y="203"/>
                          </a:lnTo>
                          <a:lnTo>
                            <a:pt x="261" y="192"/>
                          </a:lnTo>
                          <a:lnTo>
                            <a:pt x="274" y="180"/>
                          </a:lnTo>
                          <a:lnTo>
                            <a:pt x="286" y="169"/>
                          </a:lnTo>
                          <a:lnTo>
                            <a:pt x="298" y="156"/>
                          </a:lnTo>
                          <a:lnTo>
                            <a:pt x="309" y="143"/>
                          </a:lnTo>
                          <a:lnTo>
                            <a:pt x="321" y="130"/>
                          </a:lnTo>
                          <a:lnTo>
                            <a:pt x="332" y="117"/>
                          </a:lnTo>
                          <a:lnTo>
                            <a:pt x="344" y="105"/>
                          </a:lnTo>
                          <a:lnTo>
                            <a:pt x="356" y="92"/>
                          </a:lnTo>
                          <a:lnTo>
                            <a:pt x="368" y="80"/>
                          </a:lnTo>
                          <a:lnTo>
                            <a:pt x="382" y="70"/>
                          </a:lnTo>
                          <a:lnTo>
                            <a:pt x="397" y="58"/>
                          </a:lnTo>
                          <a:lnTo>
                            <a:pt x="414" y="47"/>
                          </a:lnTo>
                          <a:lnTo>
                            <a:pt x="432" y="38"/>
                          </a:lnTo>
                          <a:lnTo>
                            <a:pt x="450" y="28"/>
                          </a:lnTo>
                          <a:lnTo>
                            <a:pt x="470" y="22"/>
                          </a:lnTo>
                          <a:lnTo>
                            <a:pt x="490" y="16"/>
                          </a:lnTo>
                          <a:lnTo>
                            <a:pt x="509" y="14"/>
                          </a:lnTo>
                          <a:lnTo>
                            <a:pt x="529" y="15"/>
                          </a:lnTo>
                          <a:lnTo>
                            <a:pt x="548" y="19"/>
                          </a:lnTo>
                          <a:lnTo>
                            <a:pt x="560" y="23"/>
                          </a:lnTo>
                          <a:lnTo>
                            <a:pt x="570" y="28"/>
                          </a:lnTo>
                          <a:lnTo>
                            <a:pt x="580" y="34"/>
                          </a:lnTo>
                          <a:lnTo>
                            <a:pt x="590" y="41"/>
                          </a:lnTo>
                          <a:lnTo>
                            <a:pt x="600" y="49"/>
                          </a:lnTo>
                          <a:lnTo>
                            <a:pt x="608" y="57"/>
                          </a:lnTo>
                          <a:lnTo>
                            <a:pt x="617" y="66"/>
                          </a:lnTo>
                          <a:lnTo>
                            <a:pt x="625" y="74"/>
                          </a:lnTo>
                          <a:lnTo>
                            <a:pt x="633" y="83"/>
                          </a:lnTo>
                          <a:lnTo>
                            <a:pt x="640" y="91"/>
                          </a:lnTo>
                          <a:lnTo>
                            <a:pt x="642" y="93"/>
                          </a:lnTo>
                          <a:lnTo>
                            <a:pt x="645" y="93"/>
                          </a:lnTo>
                          <a:lnTo>
                            <a:pt x="649" y="93"/>
                          </a:lnTo>
                          <a:lnTo>
                            <a:pt x="652" y="92"/>
                          </a:lnTo>
                          <a:lnTo>
                            <a:pt x="656" y="91"/>
                          </a:lnTo>
                          <a:lnTo>
                            <a:pt x="658" y="88"/>
                          </a:lnTo>
                          <a:lnTo>
                            <a:pt x="661" y="86"/>
                          </a:lnTo>
                          <a:lnTo>
                            <a:pt x="662" y="84"/>
                          </a:lnTo>
                          <a:lnTo>
                            <a:pt x="662" y="81"/>
                          </a:lnTo>
                          <a:lnTo>
                            <a:pt x="661" y="78"/>
                          </a:lnTo>
                          <a:lnTo>
                            <a:pt x="660" y="7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>
                      <a:off x="439560" y="1769760"/>
                      <a:ext cx="351720" cy="25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0" h="394">
                          <a:moveTo>
                            <a:pt x="531" y="0"/>
                          </a:moveTo>
                          <a:lnTo>
                            <a:pt x="496" y="0"/>
                          </a:lnTo>
                          <a:lnTo>
                            <a:pt x="460" y="1"/>
                          </a:lnTo>
                          <a:lnTo>
                            <a:pt x="427" y="5"/>
                          </a:lnTo>
                          <a:lnTo>
                            <a:pt x="395" y="13"/>
                          </a:lnTo>
                          <a:lnTo>
                            <a:pt x="364" y="22"/>
                          </a:lnTo>
                          <a:lnTo>
                            <a:pt x="335" y="37"/>
                          </a:lnTo>
                          <a:lnTo>
                            <a:pt x="308" y="53"/>
                          </a:lnTo>
                          <a:lnTo>
                            <a:pt x="283" y="73"/>
                          </a:lnTo>
                          <a:lnTo>
                            <a:pt x="260" y="97"/>
                          </a:lnTo>
                          <a:lnTo>
                            <a:pt x="239" y="124"/>
                          </a:lnTo>
                          <a:lnTo>
                            <a:pt x="236" y="130"/>
                          </a:lnTo>
                          <a:lnTo>
                            <a:pt x="232" y="136"/>
                          </a:lnTo>
                          <a:lnTo>
                            <a:pt x="230" y="142"/>
                          </a:lnTo>
                          <a:lnTo>
                            <a:pt x="227" y="149"/>
                          </a:lnTo>
                          <a:lnTo>
                            <a:pt x="224" y="155"/>
                          </a:lnTo>
                          <a:lnTo>
                            <a:pt x="222" y="161"/>
                          </a:lnTo>
                          <a:lnTo>
                            <a:pt x="220" y="168"/>
                          </a:lnTo>
                          <a:lnTo>
                            <a:pt x="218" y="174"/>
                          </a:lnTo>
                          <a:lnTo>
                            <a:pt x="216" y="181"/>
                          </a:lnTo>
                          <a:lnTo>
                            <a:pt x="215" y="187"/>
                          </a:lnTo>
                          <a:lnTo>
                            <a:pt x="210" y="200"/>
                          </a:lnTo>
                          <a:lnTo>
                            <a:pt x="204" y="214"/>
                          </a:lnTo>
                          <a:lnTo>
                            <a:pt x="198" y="225"/>
                          </a:lnTo>
                          <a:lnTo>
                            <a:pt x="191" y="238"/>
                          </a:lnTo>
                          <a:lnTo>
                            <a:pt x="182" y="250"/>
                          </a:lnTo>
                          <a:lnTo>
                            <a:pt x="174" y="262"/>
                          </a:lnTo>
                          <a:lnTo>
                            <a:pt x="163" y="274"/>
                          </a:lnTo>
                          <a:lnTo>
                            <a:pt x="154" y="284"/>
                          </a:lnTo>
                          <a:lnTo>
                            <a:pt x="143" y="295"/>
                          </a:lnTo>
                          <a:lnTo>
                            <a:pt x="132" y="305"/>
                          </a:lnTo>
                          <a:lnTo>
                            <a:pt x="120" y="315"/>
                          </a:lnTo>
                          <a:lnTo>
                            <a:pt x="106" y="323"/>
                          </a:lnTo>
                          <a:lnTo>
                            <a:pt x="92" y="331"/>
                          </a:lnTo>
                          <a:lnTo>
                            <a:pt x="76" y="336"/>
                          </a:lnTo>
                          <a:lnTo>
                            <a:pt x="62" y="342"/>
                          </a:lnTo>
                          <a:lnTo>
                            <a:pt x="47" y="348"/>
                          </a:lnTo>
                          <a:lnTo>
                            <a:pt x="34" y="355"/>
                          </a:lnTo>
                          <a:lnTo>
                            <a:pt x="22" y="364"/>
                          </a:lnTo>
                          <a:lnTo>
                            <a:pt x="10" y="373"/>
                          </a:lnTo>
                          <a:lnTo>
                            <a:pt x="2" y="386"/>
                          </a:lnTo>
                          <a:lnTo>
                            <a:pt x="0" y="390"/>
                          </a:lnTo>
                          <a:lnTo>
                            <a:pt x="2" y="392"/>
                          </a:lnTo>
                          <a:lnTo>
                            <a:pt x="3" y="393"/>
                          </a:lnTo>
                          <a:lnTo>
                            <a:pt x="6" y="394"/>
                          </a:lnTo>
                          <a:lnTo>
                            <a:pt x="10" y="394"/>
                          </a:lnTo>
                          <a:lnTo>
                            <a:pt x="14" y="393"/>
                          </a:lnTo>
                          <a:lnTo>
                            <a:pt x="18" y="393"/>
                          </a:lnTo>
                          <a:lnTo>
                            <a:pt x="20" y="391"/>
                          </a:lnTo>
                          <a:lnTo>
                            <a:pt x="23" y="390"/>
                          </a:lnTo>
                          <a:lnTo>
                            <a:pt x="26" y="387"/>
                          </a:lnTo>
                          <a:lnTo>
                            <a:pt x="30" y="380"/>
                          </a:lnTo>
                          <a:lnTo>
                            <a:pt x="38" y="375"/>
                          </a:lnTo>
                          <a:lnTo>
                            <a:pt x="47" y="369"/>
                          </a:lnTo>
                          <a:lnTo>
                            <a:pt x="58" y="366"/>
                          </a:lnTo>
                          <a:lnTo>
                            <a:pt x="68" y="361"/>
                          </a:lnTo>
                          <a:lnTo>
                            <a:pt x="80" y="356"/>
                          </a:lnTo>
                          <a:lnTo>
                            <a:pt x="92" y="352"/>
                          </a:lnTo>
                          <a:lnTo>
                            <a:pt x="103" y="348"/>
                          </a:lnTo>
                          <a:lnTo>
                            <a:pt x="112" y="344"/>
                          </a:lnTo>
                          <a:lnTo>
                            <a:pt x="120" y="338"/>
                          </a:lnTo>
                          <a:lnTo>
                            <a:pt x="131" y="329"/>
                          </a:lnTo>
                          <a:lnTo>
                            <a:pt x="143" y="320"/>
                          </a:lnTo>
                          <a:lnTo>
                            <a:pt x="154" y="310"/>
                          </a:lnTo>
                          <a:lnTo>
                            <a:pt x="163" y="301"/>
                          </a:lnTo>
                          <a:lnTo>
                            <a:pt x="174" y="292"/>
                          </a:lnTo>
                          <a:lnTo>
                            <a:pt x="183" y="281"/>
                          </a:lnTo>
                          <a:lnTo>
                            <a:pt x="192" y="270"/>
                          </a:lnTo>
                          <a:lnTo>
                            <a:pt x="200" y="260"/>
                          </a:lnTo>
                          <a:lnTo>
                            <a:pt x="208" y="248"/>
                          </a:lnTo>
                          <a:lnTo>
                            <a:pt x="215" y="236"/>
                          </a:lnTo>
                          <a:lnTo>
                            <a:pt x="224" y="221"/>
                          </a:lnTo>
                          <a:lnTo>
                            <a:pt x="231" y="204"/>
                          </a:lnTo>
                          <a:lnTo>
                            <a:pt x="238" y="188"/>
                          </a:lnTo>
                          <a:lnTo>
                            <a:pt x="244" y="172"/>
                          </a:lnTo>
                          <a:lnTo>
                            <a:pt x="251" y="156"/>
                          </a:lnTo>
                          <a:lnTo>
                            <a:pt x="259" y="140"/>
                          </a:lnTo>
                          <a:lnTo>
                            <a:pt x="267" y="125"/>
                          </a:lnTo>
                          <a:lnTo>
                            <a:pt x="276" y="111"/>
                          </a:lnTo>
                          <a:lnTo>
                            <a:pt x="287" y="96"/>
                          </a:lnTo>
                          <a:lnTo>
                            <a:pt x="300" y="81"/>
                          </a:lnTo>
                          <a:lnTo>
                            <a:pt x="319" y="66"/>
                          </a:lnTo>
                          <a:lnTo>
                            <a:pt x="339" y="52"/>
                          </a:lnTo>
                          <a:lnTo>
                            <a:pt x="360" y="41"/>
                          </a:lnTo>
                          <a:lnTo>
                            <a:pt x="382" y="32"/>
                          </a:lnTo>
                          <a:lnTo>
                            <a:pt x="404" y="26"/>
                          </a:lnTo>
                          <a:lnTo>
                            <a:pt x="427" y="21"/>
                          </a:lnTo>
                          <a:lnTo>
                            <a:pt x="451" y="18"/>
                          </a:lnTo>
                          <a:lnTo>
                            <a:pt x="475" y="17"/>
                          </a:lnTo>
                          <a:lnTo>
                            <a:pt x="500" y="17"/>
                          </a:lnTo>
                          <a:lnTo>
                            <a:pt x="526" y="18"/>
                          </a:lnTo>
                          <a:lnTo>
                            <a:pt x="530" y="18"/>
                          </a:lnTo>
                          <a:lnTo>
                            <a:pt x="532" y="17"/>
                          </a:lnTo>
                          <a:lnTo>
                            <a:pt x="535" y="15"/>
                          </a:lnTo>
                          <a:lnTo>
                            <a:pt x="538" y="13"/>
                          </a:lnTo>
                          <a:lnTo>
                            <a:pt x="540" y="11"/>
                          </a:lnTo>
                          <a:lnTo>
                            <a:pt x="540" y="8"/>
                          </a:lnTo>
                          <a:lnTo>
                            <a:pt x="540" y="6"/>
                          </a:lnTo>
                          <a:lnTo>
                            <a:pt x="539" y="4"/>
                          </a:lnTo>
                          <a:lnTo>
                            <a:pt x="536" y="2"/>
                          </a:lnTo>
                          <a:lnTo>
                            <a:pt x="532" y="1"/>
                          </a:lnTo>
                          <a:lnTo>
                            <a:pt x="53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>
                      <a:off x="771840" y="1901160"/>
                      <a:ext cx="396000" cy="38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8" h="584">
                          <a:moveTo>
                            <a:pt x="2" y="9"/>
                          </a:moveTo>
                          <a:lnTo>
                            <a:pt x="0" y="46"/>
                          </a:lnTo>
                          <a:lnTo>
                            <a:pt x="0" y="82"/>
                          </a:lnTo>
                          <a:lnTo>
                            <a:pt x="4" y="118"/>
                          </a:lnTo>
                          <a:lnTo>
                            <a:pt x="9" y="152"/>
                          </a:lnTo>
                          <a:lnTo>
                            <a:pt x="18" y="186"/>
                          </a:lnTo>
                          <a:lnTo>
                            <a:pt x="30" y="219"/>
                          </a:lnTo>
                          <a:lnTo>
                            <a:pt x="45" y="252"/>
                          </a:lnTo>
                          <a:lnTo>
                            <a:pt x="64" y="284"/>
                          </a:lnTo>
                          <a:lnTo>
                            <a:pt x="85" y="315"/>
                          </a:lnTo>
                          <a:lnTo>
                            <a:pt x="110" y="344"/>
                          </a:lnTo>
                          <a:lnTo>
                            <a:pt x="128" y="363"/>
                          </a:lnTo>
                          <a:lnTo>
                            <a:pt x="146" y="381"/>
                          </a:lnTo>
                          <a:lnTo>
                            <a:pt x="166" y="399"/>
                          </a:lnTo>
                          <a:lnTo>
                            <a:pt x="188" y="415"/>
                          </a:lnTo>
                          <a:lnTo>
                            <a:pt x="209" y="430"/>
                          </a:lnTo>
                          <a:lnTo>
                            <a:pt x="232" y="446"/>
                          </a:lnTo>
                          <a:lnTo>
                            <a:pt x="254" y="460"/>
                          </a:lnTo>
                          <a:lnTo>
                            <a:pt x="277" y="474"/>
                          </a:lnTo>
                          <a:lnTo>
                            <a:pt x="300" y="488"/>
                          </a:lnTo>
                          <a:lnTo>
                            <a:pt x="322" y="501"/>
                          </a:lnTo>
                          <a:lnTo>
                            <a:pt x="348" y="515"/>
                          </a:lnTo>
                          <a:lnTo>
                            <a:pt x="372" y="527"/>
                          </a:lnTo>
                          <a:lnTo>
                            <a:pt x="398" y="539"/>
                          </a:lnTo>
                          <a:lnTo>
                            <a:pt x="424" y="550"/>
                          </a:lnTo>
                          <a:lnTo>
                            <a:pt x="450" y="559"/>
                          </a:lnTo>
                          <a:lnTo>
                            <a:pt x="478" y="567"/>
                          </a:lnTo>
                          <a:lnTo>
                            <a:pt x="505" y="574"/>
                          </a:lnTo>
                          <a:lnTo>
                            <a:pt x="533" y="579"/>
                          </a:lnTo>
                          <a:lnTo>
                            <a:pt x="562" y="583"/>
                          </a:lnTo>
                          <a:lnTo>
                            <a:pt x="590" y="584"/>
                          </a:lnTo>
                          <a:lnTo>
                            <a:pt x="594" y="584"/>
                          </a:lnTo>
                          <a:lnTo>
                            <a:pt x="598" y="583"/>
                          </a:lnTo>
                          <a:lnTo>
                            <a:pt x="601" y="580"/>
                          </a:lnTo>
                          <a:lnTo>
                            <a:pt x="604" y="578"/>
                          </a:lnTo>
                          <a:lnTo>
                            <a:pt x="606" y="576"/>
                          </a:lnTo>
                          <a:lnTo>
                            <a:pt x="608" y="573"/>
                          </a:lnTo>
                          <a:lnTo>
                            <a:pt x="608" y="571"/>
                          </a:lnTo>
                          <a:lnTo>
                            <a:pt x="608" y="569"/>
                          </a:lnTo>
                          <a:lnTo>
                            <a:pt x="605" y="567"/>
                          </a:lnTo>
                          <a:lnTo>
                            <a:pt x="601" y="567"/>
                          </a:lnTo>
                          <a:lnTo>
                            <a:pt x="550" y="563"/>
                          </a:lnTo>
                          <a:lnTo>
                            <a:pt x="501" y="553"/>
                          </a:lnTo>
                          <a:lnTo>
                            <a:pt x="453" y="539"/>
                          </a:lnTo>
                          <a:lnTo>
                            <a:pt x="405" y="520"/>
                          </a:lnTo>
                          <a:lnTo>
                            <a:pt x="358" y="499"/>
                          </a:lnTo>
                          <a:lnTo>
                            <a:pt x="314" y="474"/>
                          </a:lnTo>
                          <a:lnTo>
                            <a:pt x="272" y="447"/>
                          </a:lnTo>
                          <a:lnTo>
                            <a:pt x="230" y="419"/>
                          </a:lnTo>
                          <a:lnTo>
                            <a:pt x="192" y="388"/>
                          </a:lnTo>
                          <a:lnTo>
                            <a:pt x="156" y="357"/>
                          </a:lnTo>
                          <a:lnTo>
                            <a:pt x="126" y="328"/>
                          </a:lnTo>
                          <a:lnTo>
                            <a:pt x="101" y="297"/>
                          </a:lnTo>
                          <a:lnTo>
                            <a:pt x="80" y="265"/>
                          </a:lnTo>
                          <a:lnTo>
                            <a:pt x="61" y="231"/>
                          </a:lnTo>
                          <a:lnTo>
                            <a:pt x="46" y="196"/>
                          </a:lnTo>
                          <a:lnTo>
                            <a:pt x="36" y="159"/>
                          </a:lnTo>
                          <a:lnTo>
                            <a:pt x="29" y="121"/>
                          </a:lnTo>
                          <a:lnTo>
                            <a:pt x="25" y="83"/>
                          </a:lnTo>
                          <a:lnTo>
                            <a:pt x="24" y="46"/>
                          </a:lnTo>
                          <a:lnTo>
                            <a:pt x="26" y="8"/>
                          </a:lnTo>
                          <a:lnTo>
                            <a:pt x="26" y="4"/>
                          </a:lnTo>
                          <a:lnTo>
                            <a:pt x="25" y="2"/>
                          </a:lnTo>
                          <a:lnTo>
                            <a:pt x="22" y="1"/>
                          </a:lnTo>
                          <a:lnTo>
                            <a:pt x="18" y="0"/>
                          </a:lnTo>
                          <a:lnTo>
                            <a:pt x="16" y="0"/>
                          </a:lnTo>
                          <a:lnTo>
                            <a:pt x="12" y="1"/>
                          </a:lnTo>
                          <a:lnTo>
                            <a:pt x="9" y="2"/>
                          </a:lnTo>
                          <a:lnTo>
                            <a:pt x="5" y="4"/>
                          </a:lnTo>
                          <a:lnTo>
                            <a:pt x="4" y="7"/>
                          </a:lnTo>
                          <a:lnTo>
                            <a:pt x="2" y="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>
                      <a:off x="1067040" y="1947600"/>
                      <a:ext cx="169200" cy="22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0" h="349">
                          <a:moveTo>
                            <a:pt x="0" y="0"/>
                          </a:moveTo>
                          <a:lnTo>
                            <a:pt x="1" y="34"/>
                          </a:lnTo>
                          <a:lnTo>
                            <a:pt x="12" y="69"/>
                          </a:lnTo>
                          <a:lnTo>
                            <a:pt x="31" y="108"/>
                          </a:lnTo>
                          <a:lnTo>
                            <a:pt x="56" y="147"/>
                          </a:lnTo>
                          <a:lnTo>
                            <a:pt x="87" y="186"/>
                          </a:lnTo>
                          <a:lnTo>
                            <a:pt x="119" y="225"/>
                          </a:lnTo>
                          <a:lnTo>
                            <a:pt x="152" y="260"/>
                          </a:lnTo>
                          <a:lnTo>
                            <a:pt x="184" y="293"/>
                          </a:lnTo>
                          <a:lnTo>
                            <a:pt x="213" y="323"/>
                          </a:lnTo>
                          <a:lnTo>
                            <a:pt x="239" y="347"/>
                          </a:lnTo>
                          <a:lnTo>
                            <a:pt x="241" y="348"/>
                          </a:lnTo>
                          <a:lnTo>
                            <a:pt x="244" y="349"/>
                          </a:lnTo>
                          <a:lnTo>
                            <a:pt x="248" y="349"/>
                          </a:lnTo>
                          <a:lnTo>
                            <a:pt x="252" y="348"/>
                          </a:lnTo>
                          <a:lnTo>
                            <a:pt x="255" y="345"/>
                          </a:lnTo>
                          <a:lnTo>
                            <a:pt x="257" y="343"/>
                          </a:lnTo>
                          <a:lnTo>
                            <a:pt x="260" y="341"/>
                          </a:lnTo>
                          <a:lnTo>
                            <a:pt x="260" y="338"/>
                          </a:lnTo>
                          <a:lnTo>
                            <a:pt x="260" y="335"/>
                          </a:lnTo>
                          <a:lnTo>
                            <a:pt x="259" y="332"/>
                          </a:lnTo>
                          <a:lnTo>
                            <a:pt x="236" y="311"/>
                          </a:lnTo>
                          <a:lnTo>
                            <a:pt x="209" y="286"/>
                          </a:lnTo>
                          <a:lnTo>
                            <a:pt x="180" y="260"/>
                          </a:lnTo>
                          <a:lnTo>
                            <a:pt x="151" y="232"/>
                          </a:lnTo>
                          <a:lnTo>
                            <a:pt x="121" y="201"/>
                          </a:lnTo>
                          <a:lnTo>
                            <a:pt x="93" y="169"/>
                          </a:lnTo>
                          <a:lnTo>
                            <a:pt x="69" y="138"/>
                          </a:lnTo>
                          <a:lnTo>
                            <a:pt x="51" y="105"/>
                          </a:lnTo>
                          <a:lnTo>
                            <a:pt x="39" y="73"/>
                          </a:lnTo>
                          <a:lnTo>
                            <a:pt x="33" y="41"/>
                          </a:lnTo>
                          <a:lnTo>
                            <a:pt x="32" y="36"/>
                          </a:lnTo>
                          <a:lnTo>
                            <a:pt x="29" y="31"/>
                          </a:lnTo>
                          <a:lnTo>
                            <a:pt x="27" y="27"/>
                          </a:lnTo>
                          <a:lnTo>
                            <a:pt x="21" y="21"/>
                          </a:lnTo>
                          <a:lnTo>
                            <a:pt x="17" y="15"/>
                          </a:lnTo>
                          <a:lnTo>
                            <a:pt x="12" y="10"/>
                          </a:lnTo>
                          <a:lnTo>
                            <a:pt x="8" y="7"/>
                          </a:lnTo>
                          <a:lnTo>
                            <a:pt x="4" y="3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>
                      <a:off x="832680" y="2016720"/>
                      <a:ext cx="63000" cy="6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" h="94">
                          <a:moveTo>
                            <a:pt x="0" y="13"/>
                          </a:moveTo>
                          <a:lnTo>
                            <a:pt x="7" y="22"/>
                          </a:lnTo>
                          <a:lnTo>
                            <a:pt x="13" y="32"/>
                          </a:lnTo>
                          <a:lnTo>
                            <a:pt x="19" y="41"/>
                          </a:lnTo>
                          <a:lnTo>
                            <a:pt x="25" y="49"/>
                          </a:lnTo>
                          <a:lnTo>
                            <a:pt x="32" y="59"/>
                          </a:lnTo>
                          <a:lnTo>
                            <a:pt x="40" y="66"/>
                          </a:lnTo>
                          <a:lnTo>
                            <a:pt x="48" y="74"/>
                          </a:lnTo>
                          <a:lnTo>
                            <a:pt x="56" y="81"/>
                          </a:lnTo>
                          <a:lnTo>
                            <a:pt x="65" y="87"/>
                          </a:lnTo>
                          <a:lnTo>
                            <a:pt x="77" y="93"/>
                          </a:lnTo>
                          <a:lnTo>
                            <a:pt x="80" y="94"/>
                          </a:lnTo>
                          <a:lnTo>
                            <a:pt x="84" y="93"/>
                          </a:lnTo>
                          <a:lnTo>
                            <a:pt x="87" y="93"/>
                          </a:lnTo>
                          <a:lnTo>
                            <a:pt x="91" y="91"/>
                          </a:lnTo>
                          <a:lnTo>
                            <a:pt x="93" y="88"/>
                          </a:lnTo>
                          <a:lnTo>
                            <a:pt x="96" y="86"/>
                          </a:lnTo>
                          <a:lnTo>
                            <a:pt x="97" y="84"/>
                          </a:lnTo>
                          <a:lnTo>
                            <a:pt x="97" y="81"/>
                          </a:lnTo>
                          <a:lnTo>
                            <a:pt x="96" y="79"/>
                          </a:lnTo>
                          <a:lnTo>
                            <a:pt x="92" y="76"/>
                          </a:lnTo>
                          <a:lnTo>
                            <a:pt x="83" y="72"/>
                          </a:lnTo>
                          <a:lnTo>
                            <a:pt x="75" y="66"/>
                          </a:lnTo>
                          <a:lnTo>
                            <a:pt x="67" y="59"/>
                          </a:lnTo>
                          <a:lnTo>
                            <a:pt x="59" y="52"/>
                          </a:lnTo>
                          <a:lnTo>
                            <a:pt x="52" y="45"/>
                          </a:lnTo>
                          <a:lnTo>
                            <a:pt x="47" y="36"/>
                          </a:lnTo>
                          <a:lnTo>
                            <a:pt x="40" y="28"/>
                          </a:lnTo>
                          <a:lnTo>
                            <a:pt x="35" y="20"/>
                          </a:lnTo>
                          <a:lnTo>
                            <a:pt x="29" y="12"/>
                          </a:lnTo>
                          <a:lnTo>
                            <a:pt x="24" y="3"/>
                          </a:lnTo>
                          <a:lnTo>
                            <a:pt x="21" y="1"/>
                          </a:lnTo>
                          <a:lnTo>
                            <a:pt x="19" y="0"/>
                          </a:lnTo>
                          <a:lnTo>
                            <a:pt x="15" y="0"/>
                          </a:lnTo>
                          <a:lnTo>
                            <a:pt x="12" y="0"/>
                          </a:lnTo>
                          <a:lnTo>
                            <a:pt x="8" y="1"/>
                          </a:lnTo>
                          <a:lnTo>
                            <a:pt x="4" y="3"/>
                          </a:lnTo>
                          <a:lnTo>
                            <a:pt x="3" y="4"/>
                          </a:lnTo>
                          <a:lnTo>
                            <a:pt x="0" y="8"/>
                          </a:lnTo>
                          <a:lnTo>
                            <a:pt x="0" y="10"/>
                          </a:lnTo>
                          <a:lnTo>
                            <a:pt x="1" y="13"/>
                          </a:lnTo>
                          <a:lnTo>
                            <a:pt x="0" y="13"/>
                          </a:lnTo>
                          <a:close/>
                        </a:path>
                      </a:pathLst>
                    </a:custGeom>
                    <a:solidFill>
                      <a:srgbClr val="4d17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>
                      <a:off x="864360" y="2093760"/>
                      <a:ext cx="5328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2" h="66">
                          <a:moveTo>
                            <a:pt x="2" y="16"/>
                          </a:moveTo>
                          <a:lnTo>
                            <a:pt x="8" y="22"/>
                          </a:lnTo>
                          <a:lnTo>
                            <a:pt x="14" y="27"/>
                          </a:lnTo>
                          <a:lnTo>
                            <a:pt x="19" y="32"/>
                          </a:lnTo>
                          <a:lnTo>
                            <a:pt x="24" y="36"/>
                          </a:lnTo>
                          <a:lnTo>
                            <a:pt x="31" y="41"/>
                          </a:lnTo>
                          <a:lnTo>
                            <a:pt x="36" y="46"/>
                          </a:lnTo>
                          <a:lnTo>
                            <a:pt x="42" y="51"/>
                          </a:lnTo>
                          <a:lnTo>
                            <a:pt x="48" y="55"/>
                          </a:lnTo>
                          <a:lnTo>
                            <a:pt x="54" y="60"/>
                          </a:lnTo>
                          <a:lnTo>
                            <a:pt x="60" y="63"/>
                          </a:lnTo>
                          <a:lnTo>
                            <a:pt x="63" y="66"/>
                          </a:lnTo>
                          <a:lnTo>
                            <a:pt x="67" y="66"/>
                          </a:lnTo>
                          <a:lnTo>
                            <a:pt x="70" y="65"/>
                          </a:lnTo>
                          <a:lnTo>
                            <a:pt x="74" y="63"/>
                          </a:lnTo>
                          <a:lnTo>
                            <a:pt x="76" y="61"/>
                          </a:lnTo>
                          <a:lnTo>
                            <a:pt x="79" y="59"/>
                          </a:lnTo>
                          <a:lnTo>
                            <a:pt x="80" y="56"/>
                          </a:lnTo>
                          <a:lnTo>
                            <a:pt x="82" y="54"/>
                          </a:lnTo>
                          <a:lnTo>
                            <a:pt x="80" y="51"/>
                          </a:lnTo>
                          <a:lnTo>
                            <a:pt x="79" y="48"/>
                          </a:lnTo>
                          <a:lnTo>
                            <a:pt x="72" y="45"/>
                          </a:lnTo>
                          <a:lnTo>
                            <a:pt x="66" y="40"/>
                          </a:lnTo>
                          <a:lnTo>
                            <a:pt x="60" y="35"/>
                          </a:lnTo>
                          <a:lnTo>
                            <a:pt x="55" y="30"/>
                          </a:lnTo>
                          <a:lnTo>
                            <a:pt x="48" y="26"/>
                          </a:lnTo>
                          <a:lnTo>
                            <a:pt x="43" y="21"/>
                          </a:lnTo>
                          <a:lnTo>
                            <a:pt x="38" y="16"/>
                          </a:lnTo>
                          <a:lnTo>
                            <a:pt x="32" y="12"/>
                          </a:lnTo>
                          <a:lnTo>
                            <a:pt x="26" y="7"/>
                          </a:lnTo>
                          <a:lnTo>
                            <a:pt x="20" y="2"/>
                          </a:lnTo>
                          <a:lnTo>
                            <a:pt x="18" y="0"/>
                          </a:lnTo>
                          <a:lnTo>
                            <a:pt x="15" y="0"/>
                          </a:lnTo>
                          <a:lnTo>
                            <a:pt x="11" y="0"/>
                          </a:lnTo>
                          <a:lnTo>
                            <a:pt x="8" y="2"/>
                          </a:lnTo>
                          <a:lnTo>
                            <a:pt x="4" y="3"/>
                          </a:lnTo>
                          <a:lnTo>
                            <a:pt x="3" y="6"/>
                          </a:lnTo>
                          <a:lnTo>
                            <a:pt x="0" y="9"/>
                          </a:lnTo>
                          <a:lnTo>
                            <a:pt x="0" y="12"/>
                          </a:lnTo>
                          <a:lnTo>
                            <a:pt x="0" y="14"/>
                          </a:lnTo>
                          <a:lnTo>
                            <a:pt x="3" y="17"/>
                          </a:lnTo>
                          <a:lnTo>
                            <a:pt x="2" y="16"/>
                          </a:lnTo>
                          <a:close/>
                        </a:path>
                      </a:pathLst>
                    </a:custGeom>
                    <a:solidFill>
                      <a:srgbClr val="4d17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>
                      <a:off x="931680" y="1927440"/>
                      <a:ext cx="36360" cy="7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115">
                          <a:moveTo>
                            <a:pt x="3" y="8"/>
                          </a:moveTo>
                          <a:lnTo>
                            <a:pt x="1" y="20"/>
                          </a:lnTo>
                          <a:lnTo>
                            <a:pt x="0" y="31"/>
                          </a:lnTo>
                          <a:lnTo>
                            <a:pt x="1" y="41"/>
                          </a:lnTo>
                          <a:lnTo>
                            <a:pt x="3" y="53"/>
                          </a:lnTo>
                          <a:lnTo>
                            <a:pt x="5" y="64"/>
                          </a:lnTo>
                          <a:lnTo>
                            <a:pt x="9" y="74"/>
                          </a:lnTo>
                          <a:lnTo>
                            <a:pt x="13" y="85"/>
                          </a:lnTo>
                          <a:lnTo>
                            <a:pt x="20" y="94"/>
                          </a:lnTo>
                          <a:lnTo>
                            <a:pt x="25" y="105"/>
                          </a:lnTo>
                          <a:lnTo>
                            <a:pt x="33" y="113"/>
                          </a:lnTo>
                          <a:lnTo>
                            <a:pt x="36" y="115"/>
                          </a:lnTo>
                          <a:lnTo>
                            <a:pt x="39" y="115"/>
                          </a:lnTo>
                          <a:lnTo>
                            <a:pt x="43" y="115"/>
                          </a:lnTo>
                          <a:lnTo>
                            <a:pt x="45" y="114"/>
                          </a:lnTo>
                          <a:lnTo>
                            <a:pt x="49" y="113"/>
                          </a:lnTo>
                          <a:lnTo>
                            <a:pt x="52" y="111"/>
                          </a:lnTo>
                          <a:lnTo>
                            <a:pt x="55" y="108"/>
                          </a:lnTo>
                          <a:lnTo>
                            <a:pt x="55" y="106"/>
                          </a:lnTo>
                          <a:lnTo>
                            <a:pt x="56" y="103"/>
                          </a:lnTo>
                          <a:lnTo>
                            <a:pt x="55" y="100"/>
                          </a:lnTo>
                          <a:lnTo>
                            <a:pt x="48" y="92"/>
                          </a:lnTo>
                          <a:lnTo>
                            <a:pt x="43" y="84"/>
                          </a:lnTo>
                          <a:lnTo>
                            <a:pt x="37" y="75"/>
                          </a:lnTo>
                          <a:lnTo>
                            <a:pt x="33" y="66"/>
                          </a:lnTo>
                          <a:lnTo>
                            <a:pt x="29" y="56"/>
                          </a:lnTo>
                          <a:lnTo>
                            <a:pt x="27" y="47"/>
                          </a:lnTo>
                          <a:lnTo>
                            <a:pt x="24" y="38"/>
                          </a:lnTo>
                          <a:lnTo>
                            <a:pt x="24" y="27"/>
                          </a:lnTo>
                          <a:lnTo>
                            <a:pt x="24" y="18"/>
                          </a:lnTo>
                          <a:lnTo>
                            <a:pt x="25" y="8"/>
                          </a:lnTo>
                          <a:lnTo>
                            <a:pt x="27" y="5"/>
                          </a:lnTo>
                          <a:lnTo>
                            <a:pt x="25" y="2"/>
                          </a:lnTo>
                          <a:lnTo>
                            <a:pt x="23" y="1"/>
                          </a:lnTo>
                          <a:lnTo>
                            <a:pt x="20" y="0"/>
                          </a:lnTo>
                          <a:lnTo>
                            <a:pt x="17" y="0"/>
                          </a:lnTo>
                          <a:lnTo>
                            <a:pt x="13" y="0"/>
                          </a:lnTo>
                          <a:lnTo>
                            <a:pt x="11" y="1"/>
                          </a:lnTo>
                          <a:lnTo>
                            <a:pt x="7" y="3"/>
                          </a:lnTo>
                          <a:lnTo>
                            <a:pt x="5" y="6"/>
                          </a:lnTo>
                          <a:lnTo>
                            <a:pt x="4" y="8"/>
                          </a:lnTo>
                          <a:lnTo>
                            <a:pt x="3" y="8"/>
                          </a:lnTo>
                          <a:close/>
                        </a:path>
                      </a:pathLst>
                    </a:custGeom>
                    <a:solidFill>
                      <a:srgbClr val="4d17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080" bIns="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955800" y="1957320"/>
                      <a:ext cx="3384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61">
                          <a:moveTo>
                            <a:pt x="0" y="16"/>
                          </a:moveTo>
                          <a:lnTo>
                            <a:pt x="4" y="21"/>
                          </a:lnTo>
                          <a:lnTo>
                            <a:pt x="7" y="25"/>
                          </a:lnTo>
                          <a:lnTo>
                            <a:pt x="10" y="29"/>
                          </a:lnTo>
                          <a:lnTo>
                            <a:pt x="12" y="34"/>
                          </a:lnTo>
                          <a:lnTo>
                            <a:pt x="15" y="39"/>
                          </a:lnTo>
                          <a:lnTo>
                            <a:pt x="18" y="42"/>
                          </a:lnTo>
                          <a:lnTo>
                            <a:pt x="20" y="47"/>
                          </a:lnTo>
                          <a:lnTo>
                            <a:pt x="23" y="52"/>
                          </a:lnTo>
                          <a:lnTo>
                            <a:pt x="26" y="55"/>
                          </a:lnTo>
                          <a:lnTo>
                            <a:pt x="30" y="59"/>
                          </a:lnTo>
                          <a:lnTo>
                            <a:pt x="32" y="61"/>
                          </a:lnTo>
                          <a:lnTo>
                            <a:pt x="36" y="61"/>
                          </a:lnTo>
                          <a:lnTo>
                            <a:pt x="39" y="61"/>
                          </a:lnTo>
                          <a:lnTo>
                            <a:pt x="43" y="60"/>
                          </a:lnTo>
                          <a:lnTo>
                            <a:pt x="47" y="58"/>
                          </a:lnTo>
                          <a:lnTo>
                            <a:pt x="50" y="55"/>
                          </a:lnTo>
                          <a:lnTo>
                            <a:pt x="51" y="53"/>
                          </a:lnTo>
                          <a:lnTo>
                            <a:pt x="52" y="51"/>
                          </a:lnTo>
                          <a:lnTo>
                            <a:pt x="52" y="48"/>
                          </a:lnTo>
                          <a:lnTo>
                            <a:pt x="51" y="45"/>
                          </a:lnTo>
                          <a:lnTo>
                            <a:pt x="47" y="41"/>
                          </a:lnTo>
                          <a:lnTo>
                            <a:pt x="43" y="38"/>
                          </a:lnTo>
                          <a:lnTo>
                            <a:pt x="40" y="33"/>
                          </a:lnTo>
                          <a:lnTo>
                            <a:pt x="38" y="29"/>
                          </a:lnTo>
                          <a:lnTo>
                            <a:pt x="35" y="25"/>
                          </a:lnTo>
                          <a:lnTo>
                            <a:pt x="32" y="20"/>
                          </a:lnTo>
                          <a:lnTo>
                            <a:pt x="30" y="15"/>
                          </a:lnTo>
                          <a:lnTo>
                            <a:pt x="27" y="12"/>
                          </a:lnTo>
                          <a:lnTo>
                            <a:pt x="24" y="7"/>
                          </a:lnTo>
                          <a:lnTo>
                            <a:pt x="22" y="2"/>
                          </a:lnTo>
                          <a:lnTo>
                            <a:pt x="19" y="1"/>
                          </a:lnTo>
                          <a:lnTo>
                            <a:pt x="16" y="0"/>
                          </a:lnTo>
                          <a:lnTo>
                            <a:pt x="12" y="0"/>
                          </a:lnTo>
                          <a:lnTo>
                            <a:pt x="10" y="1"/>
                          </a:lnTo>
                          <a:lnTo>
                            <a:pt x="6" y="2"/>
                          </a:lnTo>
                          <a:lnTo>
                            <a:pt x="3" y="5"/>
                          </a:lnTo>
                          <a:lnTo>
                            <a:pt x="2" y="8"/>
                          </a:lnTo>
                          <a:lnTo>
                            <a:pt x="0" y="10"/>
                          </a:lnTo>
                          <a:lnTo>
                            <a:pt x="0" y="14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4d17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>
                      <a:off x="1121040" y="2155320"/>
                      <a:ext cx="3780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40">
                          <a:moveTo>
                            <a:pt x="0" y="13"/>
                          </a:moveTo>
                          <a:lnTo>
                            <a:pt x="4" y="18"/>
                          </a:lnTo>
                          <a:lnTo>
                            <a:pt x="6" y="21"/>
                          </a:lnTo>
                          <a:lnTo>
                            <a:pt x="9" y="25"/>
                          </a:lnTo>
                          <a:lnTo>
                            <a:pt x="13" y="27"/>
                          </a:lnTo>
                          <a:lnTo>
                            <a:pt x="17" y="30"/>
                          </a:lnTo>
                          <a:lnTo>
                            <a:pt x="21" y="32"/>
                          </a:lnTo>
                          <a:lnTo>
                            <a:pt x="25" y="33"/>
                          </a:lnTo>
                          <a:lnTo>
                            <a:pt x="30" y="36"/>
                          </a:lnTo>
                          <a:lnTo>
                            <a:pt x="34" y="38"/>
                          </a:lnTo>
                          <a:lnTo>
                            <a:pt x="40" y="39"/>
                          </a:lnTo>
                          <a:lnTo>
                            <a:pt x="42" y="40"/>
                          </a:lnTo>
                          <a:lnTo>
                            <a:pt x="46" y="39"/>
                          </a:lnTo>
                          <a:lnTo>
                            <a:pt x="49" y="38"/>
                          </a:lnTo>
                          <a:lnTo>
                            <a:pt x="53" y="37"/>
                          </a:lnTo>
                          <a:lnTo>
                            <a:pt x="56" y="34"/>
                          </a:lnTo>
                          <a:lnTo>
                            <a:pt x="57" y="32"/>
                          </a:lnTo>
                          <a:lnTo>
                            <a:pt x="58" y="29"/>
                          </a:lnTo>
                          <a:lnTo>
                            <a:pt x="58" y="26"/>
                          </a:lnTo>
                          <a:lnTo>
                            <a:pt x="56" y="24"/>
                          </a:lnTo>
                          <a:lnTo>
                            <a:pt x="53" y="21"/>
                          </a:lnTo>
                          <a:lnTo>
                            <a:pt x="50" y="20"/>
                          </a:lnTo>
                          <a:lnTo>
                            <a:pt x="46" y="19"/>
                          </a:lnTo>
                          <a:lnTo>
                            <a:pt x="44" y="18"/>
                          </a:lnTo>
                          <a:lnTo>
                            <a:pt x="40" y="17"/>
                          </a:lnTo>
                          <a:lnTo>
                            <a:pt x="37" y="16"/>
                          </a:lnTo>
                          <a:lnTo>
                            <a:pt x="33" y="14"/>
                          </a:lnTo>
                          <a:lnTo>
                            <a:pt x="30" y="12"/>
                          </a:lnTo>
                          <a:lnTo>
                            <a:pt x="28" y="10"/>
                          </a:lnTo>
                          <a:lnTo>
                            <a:pt x="26" y="7"/>
                          </a:lnTo>
                          <a:lnTo>
                            <a:pt x="24" y="5"/>
                          </a:lnTo>
                          <a:lnTo>
                            <a:pt x="22" y="3"/>
                          </a:lnTo>
                          <a:lnTo>
                            <a:pt x="20" y="0"/>
                          </a:lnTo>
                          <a:lnTo>
                            <a:pt x="17" y="0"/>
                          </a:lnTo>
                          <a:lnTo>
                            <a:pt x="13" y="0"/>
                          </a:lnTo>
                          <a:lnTo>
                            <a:pt x="9" y="1"/>
                          </a:lnTo>
                          <a:lnTo>
                            <a:pt x="6" y="4"/>
                          </a:lnTo>
                          <a:lnTo>
                            <a:pt x="4" y="5"/>
                          </a:lnTo>
                          <a:lnTo>
                            <a:pt x="1" y="7"/>
                          </a:lnTo>
                          <a:lnTo>
                            <a:pt x="0" y="11"/>
                          </a:lnTo>
                          <a:lnTo>
                            <a:pt x="1" y="13"/>
                          </a:lnTo>
                          <a:lnTo>
                            <a:pt x="0" y="13"/>
                          </a:lnTo>
                          <a:close/>
                        </a:path>
                      </a:pathLst>
                    </a:custGeom>
                    <a:solidFill>
                      <a:srgbClr val="4d17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>
                      <a:off x="1137600" y="2135160"/>
                      <a:ext cx="4356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62">
                          <a:moveTo>
                            <a:pt x="0" y="16"/>
                          </a:moveTo>
                          <a:lnTo>
                            <a:pt x="4" y="22"/>
                          </a:lnTo>
                          <a:lnTo>
                            <a:pt x="8" y="26"/>
                          </a:lnTo>
                          <a:lnTo>
                            <a:pt x="12" y="32"/>
                          </a:lnTo>
                          <a:lnTo>
                            <a:pt x="16" y="37"/>
                          </a:lnTo>
                          <a:lnTo>
                            <a:pt x="20" y="41"/>
                          </a:lnTo>
                          <a:lnTo>
                            <a:pt x="25" y="45"/>
                          </a:lnTo>
                          <a:lnTo>
                            <a:pt x="31" y="50"/>
                          </a:lnTo>
                          <a:lnTo>
                            <a:pt x="35" y="54"/>
                          </a:lnTo>
                          <a:lnTo>
                            <a:pt x="40" y="57"/>
                          </a:lnTo>
                          <a:lnTo>
                            <a:pt x="45" y="61"/>
                          </a:lnTo>
                          <a:lnTo>
                            <a:pt x="49" y="62"/>
                          </a:lnTo>
                          <a:lnTo>
                            <a:pt x="52" y="62"/>
                          </a:lnTo>
                          <a:lnTo>
                            <a:pt x="56" y="61"/>
                          </a:lnTo>
                          <a:lnTo>
                            <a:pt x="60" y="60"/>
                          </a:lnTo>
                          <a:lnTo>
                            <a:pt x="63" y="57"/>
                          </a:lnTo>
                          <a:lnTo>
                            <a:pt x="65" y="55"/>
                          </a:lnTo>
                          <a:lnTo>
                            <a:pt x="67" y="52"/>
                          </a:lnTo>
                          <a:lnTo>
                            <a:pt x="67" y="50"/>
                          </a:lnTo>
                          <a:lnTo>
                            <a:pt x="67" y="48"/>
                          </a:lnTo>
                          <a:lnTo>
                            <a:pt x="64" y="45"/>
                          </a:lnTo>
                          <a:lnTo>
                            <a:pt x="59" y="42"/>
                          </a:lnTo>
                          <a:lnTo>
                            <a:pt x="55" y="38"/>
                          </a:lnTo>
                          <a:lnTo>
                            <a:pt x="49" y="35"/>
                          </a:lnTo>
                          <a:lnTo>
                            <a:pt x="45" y="31"/>
                          </a:lnTo>
                          <a:lnTo>
                            <a:pt x="40" y="26"/>
                          </a:lnTo>
                          <a:lnTo>
                            <a:pt x="36" y="23"/>
                          </a:lnTo>
                          <a:lnTo>
                            <a:pt x="32" y="18"/>
                          </a:lnTo>
                          <a:lnTo>
                            <a:pt x="29" y="13"/>
                          </a:lnTo>
                          <a:lnTo>
                            <a:pt x="25" y="9"/>
                          </a:lnTo>
                          <a:lnTo>
                            <a:pt x="23" y="4"/>
                          </a:lnTo>
                          <a:lnTo>
                            <a:pt x="20" y="2"/>
                          </a:lnTo>
                          <a:lnTo>
                            <a:pt x="17" y="0"/>
                          </a:lnTo>
                          <a:lnTo>
                            <a:pt x="15" y="0"/>
                          </a:lnTo>
                          <a:lnTo>
                            <a:pt x="11" y="2"/>
                          </a:lnTo>
                          <a:lnTo>
                            <a:pt x="8" y="3"/>
                          </a:lnTo>
                          <a:lnTo>
                            <a:pt x="4" y="5"/>
                          </a:lnTo>
                          <a:lnTo>
                            <a:pt x="1" y="8"/>
                          </a:lnTo>
                          <a:lnTo>
                            <a:pt x="0" y="11"/>
                          </a:lnTo>
                          <a:lnTo>
                            <a:pt x="0" y="13"/>
                          </a:lnTo>
                          <a:lnTo>
                            <a:pt x="1" y="17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4d17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86" name=""/>
                <p:cNvSpPr/>
                <p:nvPr/>
              </p:nvSpPr>
              <p:spPr>
                <a:xfrm>
                  <a:off x="331920" y="2999880"/>
                  <a:ext cx="1492920" cy="573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..........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571480" y="2999880"/>
                  <a:ext cx="1493280" cy="573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..........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8" name=""/>
                <p:cNvGrpSpPr/>
                <p:nvPr/>
              </p:nvGrpSpPr>
              <p:grpSpPr>
                <a:xfrm>
                  <a:off x="2571480" y="1471320"/>
                  <a:ext cx="1493280" cy="1051200"/>
                  <a:chOff x="2571480" y="1471320"/>
                  <a:chExt cx="1493280" cy="105120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2571480" y="1471320"/>
                    <a:ext cx="1493280" cy="1051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3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78040" y="1566720"/>
                    <a:ext cx="12798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pic>
          <p:nvPicPr>
            <p:cNvPr id="392" name="" descr=""/>
            <p:cNvPicPr/>
            <p:nvPr/>
          </p:nvPicPr>
          <p:blipFill>
            <a:blip r:embed="rId1"/>
            <a:stretch/>
          </p:blipFill>
          <p:spPr>
            <a:xfrm>
              <a:off x="214200" y="0"/>
              <a:ext cx="6643800" cy="914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3" name=""/>
            <p:cNvGrpSpPr/>
            <p:nvPr/>
          </p:nvGrpSpPr>
          <p:grpSpPr>
            <a:xfrm>
              <a:off x="0" y="0"/>
              <a:ext cx="6429240" cy="8407800"/>
              <a:chOff x="0" y="0"/>
              <a:chExt cx="6429240" cy="8407800"/>
            </a:xfrm>
          </p:grpSpPr>
          <p:grpSp>
            <p:nvGrpSpPr>
              <p:cNvPr id="394" name=""/>
              <p:cNvGrpSpPr/>
              <p:nvPr/>
            </p:nvGrpSpPr>
            <p:grpSpPr>
              <a:xfrm>
                <a:off x="214200" y="0"/>
                <a:ext cx="6215040" cy="3888720"/>
                <a:chOff x="214200" y="0"/>
                <a:chExt cx="6215040" cy="3888720"/>
              </a:xfrm>
            </p:grpSpPr>
            <p:grpSp>
              <p:nvGrpSpPr>
                <p:cNvPr id="395" name=""/>
                <p:cNvGrpSpPr/>
                <p:nvPr/>
              </p:nvGrpSpPr>
              <p:grpSpPr>
                <a:xfrm>
                  <a:off x="214200" y="0"/>
                  <a:ext cx="6215040" cy="3888720"/>
                  <a:chOff x="214200" y="0"/>
                  <a:chExt cx="6215040" cy="388872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>
                    <a:off x="214200" y="735480"/>
                    <a:ext cx="6215040" cy="31532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857160" y="0"/>
                    <a:ext cx="4821840" cy="1037520"/>
                    <a:chOff x="857160" y="0"/>
                    <a:chExt cx="4821840" cy="1037520"/>
                  </a:xfrm>
                </p:grpSpPr>
                <p:pic>
                  <p:nvPicPr>
                    <p:cNvPr id="3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4080" y="315360"/>
                      <a:ext cx="4714920" cy="72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1928520" y="420120"/>
                      <a:ext cx="2801520" cy="420120"/>
                    </a:xfrm>
                    <a:prstGeom prst="rect">
                      <a:avLst/>
                    </a:prstGeom>
                    <a:solidFill>
                      <a:srgbClr val="ffffff">
                        <a:alpha val="7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كتب اسم الصورة بتنوين الض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40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7160" y="0"/>
                      <a:ext cx="2750040" cy="63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sp>
              <p:nvSpPr>
                <p:cNvPr id="401" name=""/>
                <p:cNvSpPr/>
                <p:nvPr/>
              </p:nvSpPr>
              <p:spPr>
                <a:xfrm>
                  <a:off x="4768200" y="2999880"/>
                  <a:ext cx="1446480" cy="573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..........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28400" y="2999880"/>
                  <a:ext cx="1446480" cy="573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..........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598480" y="2999880"/>
                  <a:ext cx="1446480" cy="573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..........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4" name=""/>
                <p:cNvGrpSpPr/>
                <p:nvPr/>
              </p:nvGrpSpPr>
              <p:grpSpPr>
                <a:xfrm>
                  <a:off x="4768200" y="1471320"/>
                  <a:ext cx="1446480" cy="1050840"/>
                  <a:chOff x="4768200" y="1471320"/>
                  <a:chExt cx="1446480" cy="105084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>
                    <a:off x="4768200" y="1471320"/>
                    <a:ext cx="1446480" cy="105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4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36040" y="1576440"/>
                    <a:ext cx="93384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428400" y="1366200"/>
                  <a:ext cx="1446480" cy="1155600"/>
                  <a:chOff x="428400" y="1366200"/>
                  <a:chExt cx="1446480" cy="115560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>
                    <a:off x="428400" y="1470960"/>
                    <a:ext cx="1446480" cy="105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4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5320" y="1366200"/>
                    <a:ext cx="118404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2598480" y="1471320"/>
                  <a:ext cx="1446480" cy="1050840"/>
                  <a:chOff x="2598480" y="1471320"/>
                  <a:chExt cx="1446480" cy="105084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>
                    <a:off x="2598480" y="1471320"/>
                    <a:ext cx="1446480" cy="105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2" name=""/>
                  <p:cNvGrpSpPr/>
                  <p:nvPr/>
                </p:nvGrpSpPr>
                <p:grpSpPr>
                  <a:xfrm>
                    <a:off x="2892960" y="1681560"/>
                    <a:ext cx="941760" cy="758880"/>
                    <a:chOff x="2892960" y="1681560"/>
                    <a:chExt cx="941760" cy="758880"/>
                  </a:xfrm>
                </p:grpSpPr>
                <p:pic>
                  <p:nvPicPr>
                    <p:cNvPr id="41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92960" y="1681560"/>
                      <a:ext cx="521640" cy="50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1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 flipH="1">
                      <a:off x="3327480" y="1681560"/>
                      <a:ext cx="507240" cy="44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1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110400" y="1931040"/>
                      <a:ext cx="521640" cy="50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  <p:grpSp>
            <p:nvGrpSpPr>
              <p:cNvPr id="416" name=""/>
              <p:cNvGrpSpPr/>
              <p:nvPr/>
            </p:nvGrpSpPr>
            <p:grpSpPr>
              <a:xfrm>
                <a:off x="0" y="4204080"/>
                <a:ext cx="6429240" cy="4203720"/>
                <a:chOff x="0" y="4204080"/>
                <a:chExt cx="6429240" cy="4203720"/>
              </a:xfrm>
            </p:grpSpPr>
            <p:grpSp>
              <p:nvGrpSpPr>
                <p:cNvPr id="417" name=""/>
                <p:cNvGrpSpPr/>
                <p:nvPr/>
              </p:nvGrpSpPr>
              <p:grpSpPr>
                <a:xfrm>
                  <a:off x="0" y="4204080"/>
                  <a:ext cx="6429240" cy="4203720"/>
                  <a:chOff x="0" y="4204080"/>
                  <a:chExt cx="6429240" cy="420372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>
                    <a:off x="214200" y="5044680"/>
                    <a:ext cx="6215040" cy="315288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381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41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64080" y="4519080"/>
                    <a:ext cx="471492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0" name=""/>
                  <p:cNvSpPr/>
                  <p:nvPr/>
                </p:nvSpPr>
                <p:spPr>
                  <a:xfrm>
                    <a:off x="1714320" y="4624200"/>
                    <a:ext cx="3321720" cy="420120"/>
                  </a:xfrm>
                  <a:prstGeom prst="rect">
                    <a:avLst/>
                  </a:prstGeom>
                  <a:solidFill>
                    <a:srgbClr val="ffffff">
                      <a:alpha val="7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2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أدخل تنوين الضم على الكلمات التالية</a:t>
                    </a: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42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57160" y="4204080"/>
                    <a:ext cx="2750040" cy="6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5149800"/>
                    <a:ext cx="2594520" cy="32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2892960" y="5570280"/>
                  <a:ext cx="2999880" cy="2311920"/>
                  <a:chOff x="2892960" y="5570280"/>
                  <a:chExt cx="2999880" cy="231192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4692960" y="5570280"/>
                    <a:ext cx="1199880" cy="577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المدرسة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4692960" y="6437520"/>
                    <a:ext cx="1199880" cy="577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الأرنب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4692960" y="7304400"/>
                    <a:ext cx="1199880" cy="577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الجمل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2892960" y="5570280"/>
                    <a:ext cx="1350000" cy="577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......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2892960" y="6437520"/>
                    <a:ext cx="1350000" cy="577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......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2892960" y="7304400"/>
                    <a:ext cx="1350000" cy="577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......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pic>
          <p:nvPicPr>
            <p:cNvPr id="43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0" cy="914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2" name=""/>
            <p:cNvGrpSpPr/>
            <p:nvPr/>
          </p:nvGrpSpPr>
          <p:grpSpPr>
            <a:xfrm>
              <a:off x="221040" y="0"/>
              <a:ext cx="6415560" cy="8437320"/>
              <a:chOff x="221040" y="0"/>
              <a:chExt cx="6415560" cy="843732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221040" y="4204080"/>
                <a:ext cx="6415560" cy="4233240"/>
                <a:chOff x="221040" y="4204080"/>
                <a:chExt cx="6415560" cy="423324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221040" y="5044680"/>
                  <a:ext cx="6415560" cy="3152880"/>
                </a:xfrm>
                <a:prstGeom prst="roundRect">
                  <a:avLst>
                    <a:gd name="adj" fmla="val 16667"/>
                  </a:avLst>
                </a:prstGeom>
                <a:noFill/>
                <a:ln w="38160">
                  <a:solidFill>
                    <a:srgbClr val="cc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3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95040" y="4519080"/>
                  <a:ext cx="4866840" cy="722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"/>
                <p:cNvSpPr/>
                <p:nvPr/>
              </p:nvSpPr>
              <p:spPr>
                <a:xfrm>
                  <a:off x="1879920" y="4624200"/>
                  <a:ext cx="3429000" cy="420120"/>
                </a:xfrm>
                <a:prstGeom prst="rect">
                  <a:avLst/>
                </a:prstGeom>
                <a:solidFill>
                  <a:srgbClr val="ffffff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2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أدخل تنوين الكسر على الكلمات التالية</a:t>
                  </a:r>
                  <a:r>
                    <a:rPr b="0" lang="ar-SA" sz="20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3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520" y="4204080"/>
                  <a:ext cx="2838960" cy="638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31560" y="5360040"/>
                  <a:ext cx="1658880" cy="30772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39" name=""/>
                <p:cNvGrpSpPr/>
                <p:nvPr/>
              </p:nvGrpSpPr>
              <p:grpSpPr>
                <a:xfrm>
                  <a:off x="2875680" y="5570280"/>
                  <a:ext cx="3097080" cy="2311920"/>
                  <a:chOff x="2875680" y="5570280"/>
                  <a:chExt cx="3097080" cy="231192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4734000" y="5570280"/>
                    <a:ext cx="1238760" cy="577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السلام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4734000" y="6437520"/>
                    <a:ext cx="1238760" cy="577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العلم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4734000" y="7304400"/>
                    <a:ext cx="1238760" cy="577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الذهب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875680" y="5570280"/>
                    <a:ext cx="1393560" cy="577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......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2875680" y="6437520"/>
                    <a:ext cx="1393560" cy="577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......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875680" y="7304400"/>
                    <a:ext cx="1393560" cy="577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......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6" name=""/>
              <p:cNvGrpSpPr/>
              <p:nvPr/>
            </p:nvGrpSpPr>
            <p:grpSpPr>
              <a:xfrm>
                <a:off x="221040" y="0"/>
                <a:ext cx="6415560" cy="3888720"/>
                <a:chOff x="221040" y="0"/>
                <a:chExt cx="6415560" cy="3888720"/>
              </a:xfrm>
            </p:grpSpPr>
            <p:grpSp>
              <p:nvGrpSpPr>
                <p:cNvPr id="447" name=""/>
                <p:cNvGrpSpPr/>
                <p:nvPr/>
              </p:nvGrpSpPr>
              <p:grpSpPr>
                <a:xfrm>
                  <a:off x="221040" y="0"/>
                  <a:ext cx="6415560" cy="3888720"/>
                  <a:chOff x="221040" y="0"/>
                  <a:chExt cx="6415560" cy="388872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>
                    <a:off x="221040" y="735480"/>
                    <a:ext cx="6415560" cy="315324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38160">
                    <a:solidFill>
                      <a:srgbClr val="00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9" name=""/>
                  <p:cNvGrpSpPr/>
                  <p:nvPr/>
                </p:nvGrpSpPr>
                <p:grpSpPr>
                  <a:xfrm>
                    <a:off x="884520" y="0"/>
                    <a:ext cx="4977000" cy="1037520"/>
                    <a:chOff x="884520" y="0"/>
                    <a:chExt cx="4977000" cy="1037520"/>
                  </a:xfrm>
                </p:grpSpPr>
                <p:pic>
                  <p:nvPicPr>
                    <p:cNvPr id="45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994680" y="315360"/>
                      <a:ext cx="4866840" cy="72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1990440" y="420120"/>
                      <a:ext cx="2891880" cy="420120"/>
                    </a:xfrm>
                    <a:prstGeom prst="rect">
                      <a:avLst/>
                    </a:prstGeom>
                    <a:solidFill>
                      <a:srgbClr val="ffffff">
                        <a:alpha val="7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كتب اسم الصورة بتنوين الكس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45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84520" y="0"/>
                      <a:ext cx="2838960" cy="63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grpSp>
              <p:nvGrpSpPr>
                <p:cNvPr id="453" name=""/>
                <p:cNvGrpSpPr/>
                <p:nvPr/>
              </p:nvGrpSpPr>
              <p:grpSpPr>
                <a:xfrm>
                  <a:off x="442080" y="1366200"/>
                  <a:ext cx="5973120" cy="2102040"/>
                  <a:chOff x="442080" y="1366200"/>
                  <a:chExt cx="5973120" cy="210204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4921920" y="2894760"/>
                    <a:ext cx="1493280" cy="57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..........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442080" y="2894760"/>
                    <a:ext cx="1492920" cy="57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..........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2682000" y="2894760"/>
                    <a:ext cx="1493280" cy="57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..........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2682000" y="1366200"/>
                    <a:ext cx="1493280" cy="1050840"/>
                    <a:chOff x="2682000" y="1366200"/>
                    <a:chExt cx="1493280" cy="105084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2682000" y="1366200"/>
                      <a:ext cx="1493280" cy="1050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45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764800" y="1385280"/>
                      <a:ext cx="1327320" cy="103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460" name=""/>
                  <p:cNvGrpSpPr/>
                  <p:nvPr/>
                </p:nvGrpSpPr>
                <p:grpSpPr>
                  <a:xfrm>
                    <a:off x="4921920" y="1366200"/>
                    <a:ext cx="1493280" cy="1050840"/>
                    <a:chOff x="4921920" y="1366200"/>
                    <a:chExt cx="1493280" cy="1050840"/>
                  </a:xfrm>
                </p:grpSpPr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4921920" y="1366200"/>
                      <a:ext cx="1493280" cy="1050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46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77000" y="1366200"/>
                      <a:ext cx="1327320" cy="105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463" name=""/>
                  <p:cNvGrpSpPr/>
                  <p:nvPr/>
                </p:nvGrpSpPr>
                <p:grpSpPr>
                  <a:xfrm>
                    <a:off x="442080" y="1366200"/>
                    <a:ext cx="1492920" cy="1050840"/>
                    <a:chOff x="442080" y="1366200"/>
                    <a:chExt cx="1492920" cy="1050840"/>
                  </a:xfrm>
                </p:grpSpPr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442080" y="1366200"/>
                      <a:ext cx="1492920" cy="1050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65" name=""/>
                    <p:cNvGrpSpPr/>
                    <p:nvPr/>
                  </p:nvGrpSpPr>
                  <p:grpSpPr>
                    <a:xfrm>
                      <a:off x="552240" y="1366200"/>
                      <a:ext cx="1216800" cy="1050840"/>
                      <a:chOff x="552240" y="1366200"/>
                      <a:chExt cx="1216800" cy="1050840"/>
                    </a:xfrm>
                  </p:grpSpPr>
                  <p:grpSp>
                    <p:nvGrpSpPr>
                      <p:cNvPr id="466" name=""/>
                      <p:cNvGrpSpPr/>
                      <p:nvPr/>
                    </p:nvGrpSpPr>
                    <p:grpSpPr>
                      <a:xfrm>
                        <a:off x="555480" y="1366200"/>
                        <a:ext cx="1213560" cy="1050840"/>
                        <a:chOff x="555480" y="1366200"/>
                        <a:chExt cx="1213560" cy="1050840"/>
                      </a:xfrm>
                    </p:grpSpPr>
                    <p:sp>
                      <p:nvSpPr>
                        <p:cNvPr id="467" name=""/>
                        <p:cNvSpPr/>
                        <p:nvPr/>
                      </p:nvSpPr>
                      <p:spPr>
                        <a:xfrm>
                          <a:off x="555480" y="1373400"/>
                          <a:ext cx="1213560" cy="104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668" h="3676">
                              <a:moveTo>
                                <a:pt x="3664" y="1945"/>
                              </a:moveTo>
                              <a:lnTo>
                                <a:pt x="3657" y="1936"/>
                              </a:lnTo>
                              <a:lnTo>
                                <a:pt x="3647" y="1933"/>
                              </a:lnTo>
                              <a:lnTo>
                                <a:pt x="3626" y="1929"/>
                              </a:lnTo>
                              <a:lnTo>
                                <a:pt x="3616" y="1929"/>
                              </a:lnTo>
                              <a:lnTo>
                                <a:pt x="3605" y="1929"/>
                              </a:lnTo>
                              <a:lnTo>
                                <a:pt x="3599" y="1926"/>
                              </a:lnTo>
                              <a:lnTo>
                                <a:pt x="3592" y="1920"/>
                              </a:lnTo>
                              <a:lnTo>
                                <a:pt x="3588" y="1910"/>
                              </a:lnTo>
                              <a:lnTo>
                                <a:pt x="3595" y="1907"/>
                              </a:lnTo>
                              <a:lnTo>
                                <a:pt x="3605" y="1901"/>
                              </a:lnTo>
                              <a:lnTo>
                                <a:pt x="3612" y="1895"/>
                              </a:lnTo>
                              <a:lnTo>
                                <a:pt x="3605" y="1882"/>
                              </a:lnTo>
                              <a:lnTo>
                                <a:pt x="3592" y="1854"/>
                              </a:lnTo>
                              <a:lnTo>
                                <a:pt x="3547" y="1772"/>
                              </a:lnTo>
                              <a:lnTo>
                                <a:pt x="3523" y="1728"/>
                              </a:lnTo>
                              <a:lnTo>
                                <a:pt x="3498" y="1690"/>
                              </a:lnTo>
                              <a:lnTo>
                                <a:pt x="3481" y="1658"/>
                              </a:lnTo>
                              <a:lnTo>
                                <a:pt x="3471" y="1646"/>
                              </a:lnTo>
                              <a:lnTo>
                                <a:pt x="3471" y="1639"/>
                              </a:lnTo>
                              <a:lnTo>
                                <a:pt x="3471" y="1639"/>
                              </a:lnTo>
                              <a:lnTo>
                                <a:pt x="3464" y="1630"/>
                              </a:lnTo>
                              <a:lnTo>
                                <a:pt x="3454" y="1617"/>
                              </a:lnTo>
                              <a:lnTo>
                                <a:pt x="3447" y="1601"/>
                              </a:lnTo>
                              <a:lnTo>
                                <a:pt x="3429" y="1557"/>
                              </a:lnTo>
                              <a:lnTo>
                                <a:pt x="3371" y="1428"/>
                              </a:lnTo>
                              <a:lnTo>
                                <a:pt x="3308" y="1292"/>
                              </a:lnTo>
                              <a:lnTo>
                                <a:pt x="3288" y="1242"/>
                              </a:lnTo>
                              <a:lnTo>
                                <a:pt x="3277" y="1214"/>
                              </a:lnTo>
                              <a:lnTo>
                                <a:pt x="3274" y="1192"/>
                              </a:lnTo>
                              <a:lnTo>
                                <a:pt x="3274" y="1182"/>
                              </a:lnTo>
                              <a:lnTo>
                                <a:pt x="3270" y="1179"/>
                              </a:lnTo>
                              <a:lnTo>
                                <a:pt x="3264" y="1157"/>
                              </a:lnTo>
                              <a:lnTo>
                                <a:pt x="3257" y="1132"/>
                              </a:lnTo>
                              <a:lnTo>
                                <a:pt x="3250" y="1106"/>
                              </a:lnTo>
                              <a:lnTo>
                                <a:pt x="3246" y="1081"/>
                              </a:lnTo>
                              <a:lnTo>
                                <a:pt x="3239" y="1075"/>
                              </a:lnTo>
                              <a:lnTo>
                                <a:pt x="3229" y="1072"/>
                              </a:lnTo>
                              <a:lnTo>
                                <a:pt x="3219" y="1069"/>
                              </a:lnTo>
                              <a:lnTo>
                                <a:pt x="3212" y="1062"/>
                              </a:lnTo>
                              <a:lnTo>
                                <a:pt x="3226" y="1002"/>
                              </a:lnTo>
                              <a:lnTo>
                                <a:pt x="3219" y="993"/>
                              </a:lnTo>
                              <a:lnTo>
                                <a:pt x="3212" y="990"/>
                              </a:lnTo>
                              <a:lnTo>
                                <a:pt x="3205" y="987"/>
                              </a:lnTo>
                              <a:lnTo>
                                <a:pt x="3198" y="983"/>
                              </a:lnTo>
                              <a:lnTo>
                                <a:pt x="3205" y="715"/>
                              </a:lnTo>
                              <a:lnTo>
                                <a:pt x="3208" y="681"/>
                              </a:lnTo>
                              <a:lnTo>
                                <a:pt x="3212" y="611"/>
                              </a:lnTo>
                              <a:lnTo>
                                <a:pt x="3215" y="520"/>
                              </a:lnTo>
                              <a:lnTo>
                                <a:pt x="3219" y="419"/>
                              </a:lnTo>
                              <a:lnTo>
                                <a:pt x="3222" y="230"/>
                              </a:lnTo>
                              <a:lnTo>
                                <a:pt x="3226" y="138"/>
                              </a:lnTo>
                              <a:lnTo>
                                <a:pt x="3253" y="119"/>
                              </a:lnTo>
                              <a:lnTo>
                                <a:pt x="3264" y="113"/>
                              </a:lnTo>
                              <a:lnTo>
                                <a:pt x="3270" y="104"/>
                              </a:lnTo>
                              <a:lnTo>
                                <a:pt x="3274" y="85"/>
                              </a:lnTo>
                              <a:lnTo>
                                <a:pt x="3274" y="63"/>
                              </a:lnTo>
                              <a:lnTo>
                                <a:pt x="3277" y="41"/>
                              </a:lnTo>
                              <a:lnTo>
                                <a:pt x="3267" y="28"/>
                              </a:lnTo>
                              <a:lnTo>
                                <a:pt x="3253" y="19"/>
                              </a:lnTo>
                              <a:lnTo>
                                <a:pt x="3239" y="9"/>
                              </a:lnTo>
                              <a:lnTo>
                                <a:pt x="3222" y="6"/>
                              </a:lnTo>
                              <a:lnTo>
                                <a:pt x="3205" y="3"/>
                              </a:lnTo>
                              <a:lnTo>
                                <a:pt x="3188" y="0"/>
                              </a:lnTo>
                              <a:lnTo>
                                <a:pt x="3170" y="0"/>
                              </a:lnTo>
                              <a:lnTo>
                                <a:pt x="3153" y="3"/>
                              </a:lnTo>
                              <a:lnTo>
                                <a:pt x="3139" y="12"/>
                              </a:lnTo>
                              <a:lnTo>
                                <a:pt x="3125" y="22"/>
                              </a:lnTo>
                              <a:lnTo>
                                <a:pt x="3119" y="31"/>
                              </a:lnTo>
                              <a:lnTo>
                                <a:pt x="3112" y="44"/>
                              </a:lnTo>
                              <a:lnTo>
                                <a:pt x="3105" y="60"/>
                              </a:lnTo>
                              <a:lnTo>
                                <a:pt x="3101" y="75"/>
                              </a:lnTo>
                              <a:lnTo>
                                <a:pt x="3101" y="91"/>
                              </a:lnTo>
                              <a:lnTo>
                                <a:pt x="3105" y="107"/>
                              </a:lnTo>
                              <a:lnTo>
                                <a:pt x="3112" y="119"/>
                              </a:lnTo>
                              <a:lnTo>
                                <a:pt x="3125" y="126"/>
                              </a:lnTo>
                              <a:lnTo>
                                <a:pt x="3139" y="135"/>
                              </a:lnTo>
                              <a:lnTo>
                                <a:pt x="3143" y="138"/>
                              </a:lnTo>
                              <a:lnTo>
                                <a:pt x="3146" y="148"/>
                              </a:lnTo>
                              <a:lnTo>
                                <a:pt x="3150" y="170"/>
                              </a:lnTo>
                              <a:lnTo>
                                <a:pt x="3150" y="192"/>
                              </a:lnTo>
                              <a:lnTo>
                                <a:pt x="3150" y="236"/>
                              </a:lnTo>
                              <a:lnTo>
                                <a:pt x="3146" y="280"/>
                              </a:lnTo>
                              <a:lnTo>
                                <a:pt x="3143" y="324"/>
                              </a:lnTo>
                              <a:lnTo>
                                <a:pt x="3139" y="369"/>
                              </a:lnTo>
                              <a:lnTo>
                                <a:pt x="3132" y="410"/>
                              </a:lnTo>
                              <a:lnTo>
                                <a:pt x="3132" y="451"/>
                              </a:lnTo>
                              <a:lnTo>
                                <a:pt x="3132" y="473"/>
                              </a:lnTo>
                              <a:lnTo>
                                <a:pt x="3132" y="495"/>
                              </a:lnTo>
                              <a:lnTo>
                                <a:pt x="3132" y="539"/>
                              </a:lnTo>
                              <a:lnTo>
                                <a:pt x="3132" y="548"/>
                              </a:lnTo>
                              <a:lnTo>
                                <a:pt x="3125" y="551"/>
                              </a:lnTo>
                              <a:lnTo>
                                <a:pt x="3125" y="684"/>
                              </a:lnTo>
                              <a:lnTo>
                                <a:pt x="3122" y="797"/>
                              </a:lnTo>
                              <a:lnTo>
                                <a:pt x="3119" y="892"/>
                              </a:lnTo>
                              <a:lnTo>
                                <a:pt x="3119" y="939"/>
                              </a:lnTo>
                              <a:lnTo>
                                <a:pt x="3119" y="977"/>
                              </a:lnTo>
                              <a:lnTo>
                                <a:pt x="3112" y="983"/>
                              </a:lnTo>
                              <a:lnTo>
                                <a:pt x="3108" y="987"/>
                              </a:lnTo>
                              <a:lnTo>
                                <a:pt x="3098" y="983"/>
                              </a:lnTo>
                              <a:lnTo>
                                <a:pt x="3091" y="990"/>
                              </a:lnTo>
                              <a:lnTo>
                                <a:pt x="3087" y="996"/>
                              </a:lnTo>
                              <a:lnTo>
                                <a:pt x="3084" y="1009"/>
                              </a:lnTo>
                              <a:lnTo>
                                <a:pt x="3087" y="1024"/>
                              </a:lnTo>
                              <a:lnTo>
                                <a:pt x="3091" y="1037"/>
                              </a:lnTo>
                              <a:lnTo>
                                <a:pt x="3091" y="1037"/>
                              </a:lnTo>
                              <a:lnTo>
                                <a:pt x="3091" y="1081"/>
                              </a:lnTo>
                              <a:lnTo>
                                <a:pt x="3070" y="1084"/>
                              </a:lnTo>
                              <a:lnTo>
                                <a:pt x="3053" y="1084"/>
                              </a:lnTo>
                              <a:lnTo>
                                <a:pt x="3043" y="1084"/>
                              </a:lnTo>
                              <a:lnTo>
                                <a:pt x="3036" y="1087"/>
                              </a:lnTo>
                              <a:lnTo>
                                <a:pt x="3029" y="1094"/>
                              </a:lnTo>
                              <a:lnTo>
                                <a:pt x="3025" y="1103"/>
                              </a:lnTo>
                              <a:lnTo>
                                <a:pt x="2980" y="1103"/>
                              </a:lnTo>
                              <a:lnTo>
                                <a:pt x="2908" y="1106"/>
                              </a:lnTo>
                              <a:lnTo>
                                <a:pt x="2815" y="1106"/>
                              </a:lnTo>
                              <a:lnTo>
                                <a:pt x="2714" y="1110"/>
                              </a:lnTo>
                              <a:lnTo>
                                <a:pt x="2614" y="1110"/>
                              </a:lnTo>
                              <a:lnTo>
                                <a:pt x="2528" y="1110"/>
                              </a:lnTo>
                              <a:lnTo>
                                <a:pt x="2469" y="1113"/>
                              </a:lnTo>
                              <a:lnTo>
                                <a:pt x="2445" y="1116"/>
                              </a:lnTo>
                              <a:lnTo>
                                <a:pt x="2307" y="1116"/>
                              </a:lnTo>
                              <a:lnTo>
                                <a:pt x="2300" y="1110"/>
                              </a:lnTo>
                              <a:lnTo>
                                <a:pt x="2290" y="1106"/>
                              </a:lnTo>
                              <a:lnTo>
                                <a:pt x="2272" y="1110"/>
                              </a:lnTo>
                              <a:lnTo>
                                <a:pt x="2269" y="1094"/>
                              </a:lnTo>
                              <a:lnTo>
                                <a:pt x="2262" y="1087"/>
                              </a:lnTo>
                              <a:lnTo>
                                <a:pt x="2259" y="1081"/>
                              </a:lnTo>
                              <a:lnTo>
                                <a:pt x="2245" y="1087"/>
                              </a:lnTo>
                              <a:lnTo>
                                <a:pt x="2231" y="1091"/>
                              </a:lnTo>
                              <a:lnTo>
                                <a:pt x="2200" y="1087"/>
                              </a:lnTo>
                              <a:lnTo>
                                <a:pt x="2196" y="1056"/>
                              </a:lnTo>
                              <a:lnTo>
                                <a:pt x="2196" y="1024"/>
                              </a:lnTo>
                              <a:lnTo>
                                <a:pt x="2196" y="1009"/>
                              </a:lnTo>
                              <a:lnTo>
                                <a:pt x="2200" y="993"/>
                              </a:lnTo>
                              <a:lnTo>
                                <a:pt x="2203" y="977"/>
                              </a:lnTo>
                              <a:lnTo>
                                <a:pt x="2207" y="965"/>
                              </a:lnTo>
                              <a:lnTo>
                                <a:pt x="2207" y="965"/>
                              </a:lnTo>
                              <a:lnTo>
                                <a:pt x="2200" y="958"/>
                              </a:lnTo>
                              <a:lnTo>
                                <a:pt x="2207" y="958"/>
                              </a:lnTo>
                              <a:lnTo>
                                <a:pt x="2203" y="955"/>
                              </a:lnTo>
                              <a:lnTo>
                                <a:pt x="2200" y="952"/>
                              </a:lnTo>
                              <a:lnTo>
                                <a:pt x="2224" y="949"/>
                              </a:lnTo>
                              <a:lnTo>
                                <a:pt x="2234" y="946"/>
                              </a:lnTo>
                              <a:lnTo>
                                <a:pt x="2245" y="946"/>
                              </a:lnTo>
                              <a:lnTo>
                                <a:pt x="2255" y="942"/>
                              </a:lnTo>
                              <a:lnTo>
                                <a:pt x="2266" y="942"/>
                              </a:lnTo>
                              <a:lnTo>
                                <a:pt x="2279" y="933"/>
                              </a:lnTo>
                              <a:lnTo>
                                <a:pt x="2293" y="920"/>
                              </a:lnTo>
                              <a:lnTo>
                                <a:pt x="2300" y="905"/>
                              </a:lnTo>
                              <a:lnTo>
                                <a:pt x="2300" y="901"/>
                              </a:lnTo>
                              <a:lnTo>
                                <a:pt x="2300" y="892"/>
                              </a:lnTo>
                              <a:lnTo>
                                <a:pt x="2307" y="879"/>
                              </a:lnTo>
                              <a:lnTo>
                                <a:pt x="2307" y="867"/>
                              </a:lnTo>
                              <a:lnTo>
                                <a:pt x="2307" y="854"/>
                              </a:lnTo>
                              <a:lnTo>
                                <a:pt x="2304" y="842"/>
                              </a:lnTo>
                              <a:lnTo>
                                <a:pt x="2297" y="829"/>
                              </a:lnTo>
                              <a:lnTo>
                                <a:pt x="2290" y="819"/>
                              </a:lnTo>
                              <a:lnTo>
                                <a:pt x="2283" y="810"/>
                              </a:lnTo>
                              <a:lnTo>
                                <a:pt x="2272" y="801"/>
                              </a:lnTo>
                              <a:lnTo>
                                <a:pt x="2259" y="797"/>
                              </a:lnTo>
                              <a:lnTo>
                                <a:pt x="2245" y="794"/>
                              </a:lnTo>
                              <a:lnTo>
                                <a:pt x="2214" y="794"/>
                              </a:lnTo>
                              <a:lnTo>
                                <a:pt x="2203" y="797"/>
                              </a:lnTo>
                              <a:lnTo>
                                <a:pt x="2190" y="797"/>
                              </a:lnTo>
                              <a:lnTo>
                                <a:pt x="2155" y="794"/>
                              </a:lnTo>
                              <a:lnTo>
                                <a:pt x="2110" y="791"/>
                              </a:lnTo>
                              <a:lnTo>
                                <a:pt x="2065" y="788"/>
                              </a:lnTo>
                              <a:lnTo>
                                <a:pt x="2020" y="785"/>
                              </a:lnTo>
                              <a:lnTo>
                                <a:pt x="2000" y="782"/>
                              </a:lnTo>
                              <a:lnTo>
                                <a:pt x="1979" y="782"/>
                              </a:lnTo>
                              <a:lnTo>
                                <a:pt x="1962" y="782"/>
                              </a:lnTo>
                              <a:lnTo>
                                <a:pt x="1944" y="785"/>
                              </a:lnTo>
                              <a:lnTo>
                                <a:pt x="1931" y="788"/>
                              </a:lnTo>
                              <a:lnTo>
                                <a:pt x="1920" y="794"/>
                              </a:lnTo>
                              <a:lnTo>
                                <a:pt x="1910" y="807"/>
                              </a:lnTo>
                              <a:lnTo>
                                <a:pt x="1899" y="813"/>
                              </a:lnTo>
                              <a:lnTo>
                                <a:pt x="1899" y="823"/>
                              </a:lnTo>
                              <a:lnTo>
                                <a:pt x="1899" y="829"/>
                              </a:lnTo>
                              <a:lnTo>
                                <a:pt x="1903" y="845"/>
                              </a:lnTo>
                              <a:lnTo>
                                <a:pt x="1906" y="854"/>
                              </a:lnTo>
                              <a:lnTo>
                                <a:pt x="1906" y="867"/>
                              </a:lnTo>
                              <a:lnTo>
                                <a:pt x="1906" y="883"/>
                              </a:lnTo>
                              <a:lnTo>
                                <a:pt x="1910" y="898"/>
                              </a:lnTo>
                              <a:lnTo>
                                <a:pt x="1917" y="911"/>
                              </a:lnTo>
                              <a:lnTo>
                                <a:pt x="1927" y="920"/>
                              </a:lnTo>
                              <a:lnTo>
                                <a:pt x="1955" y="939"/>
                              </a:lnTo>
                              <a:lnTo>
                                <a:pt x="1965" y="952"/>
                              </a:lnTo>
                              <a:lnTo>
                                <a:pt x="1972" y="965"/>
                              </a:lnTo>
                              <a:lnTo>
                                <a:pt x="1982" y="958"/>
                              </a:lnTo>
                              <a:lnTo>
                                <a:pt x="2000" y="958"/>
                              </a:lnTo>
                              <a:lnTo>
                                <a:pt x="2000" y="974"/>
                              </a:lnTo>
                              <a:lnTo>
                                <a:pt x="2000" y="993"/>
                              </a:lnTo>
                              <a:lnTo>
                                <a:pt x="2000" y="1028"/>
                              </a:lnTo>
                              <a:lnTo>
                                <a:pt x="2000" y="1043"/>
                              </a:lnTo>
                              <a:lnTo>
                                <a:pt x="2000" y="1062"/>
                              </a:lnTo>
                              <a:lnTo>
                                <a:pt x="1996" y="1078"/>
                              </a:lnTo>
                              <a:lnTo>
                                <a:pt x="1993" y="1094"/>
                              </a:lnTo>
                              <a:lnTo>
                                <a:pt x="1972" y="1097"/>
                              </a:lnTo>
                              <a:lnTo>
                                <a:pt x="1955" y="1097"/>
                              </a:lnTo>
                              <a:lnTo>
                                <a:pt x="1934" y="1100"/>
                              </a:lnTo>
                              <a:lnTo>
                                <a:pt x="1913" y="1103"/>
                              </a:lnTo>
                              <a:lnTo>
                                <a:pt x="1906" y="1100"/>
                              </a:lnTo>
                              <a:lnTo>
                                <a:pt x="1903" y="1103"/>
                              </a:lnTo>
                              <a:lnTo>
                                <a:pt x="1899" y="1122"/>
                              </a:lnTo>
                              <a:lnTo>
                                <a:pt x="1872" y="1119"/>
                              </a:lnTo>
                              <a:lnTo>
                                <a:pt x="1841" y="1119"/>
                              </a:lnTo>
                              <a:lnTo>
                                <a:pt x="1779" y="1122"/>
                              </a:lnTo>
                              <a:lnTo>
                                <a:pt x="1744" y="1122"/>
                              </a:lnTo>
                              <a:lnTo>
                                <a:pt x="1713" y="1122"/>
                              </a:lnTo>
                              <a:lnTo>
                                <a:pt x="1682" y="1122"/>
                              </a:lnTo>
                              <a:lnTo>
                                <a:pt x="1651" y="1122"/>
                              </a:lnTo>
                              <a:lnTo>
                                <a:pt x="1640" y="1128"/>
                              </a:lnTo>
                              <a:lnTo>
                                <a:pt x="1568" y="1040"/>
                              </a:lnTo>
                              <a:lnTo>
                                <a:pt x="1530" y="996"/>
                              </a:lnTo>
                              <a:lnTo>
                                <a:pt x="1492" y="952"/>
                              </a:lnTo>
                              <a:lnTo>
                                <a:pt x="1454" y="905"/>
                              </a:lnTo>
                              <a:lnTo>
                                <a:pt x="1419" y="860"/>
                              </a:lnTo>
                              <a:lnTo>
                                <a:pt x="1385" y="813"/>
                              </a:lnTo>
                              <a:lnTo>
                                <a:pt x="1347" y="769"/>
                              </a:lnTo>
                              <a:lnTo>
                                <a:pt x="1350" y="760"/>
                              </a:lnTo>
                              <a:lnTo>
                                <a:pt x="1347" y="747"/>
                              </a:lnTo>
                              <a:lnTo>
                                <a:pt x="1343" y="738"/>
                              </a:lnTo>
                              <a:lnTo>
                                <a:pt x="1340" y="728"/>
                              </a:lnTo>
                              <a:lnTo>
                                <a:pt x="1333" y="722"/>
                              </a:lnTo>
                              <a:lnTo>
                                <a:pt x="1326" y="719"/>
                              </a:lnTo>
                              <a:lnTo>
                                <a:pt x="1319" y="719"/>
                              </a:lnTo>
                              <a:lnTo>
                                <a:pt x="1312" y="715"/>
                              </a:lnTo>
                              <a:lnTo>
                                <a:pt x="1292" y="722"/>
                              </a:lnTo>
                              <a:lnTo>
                                <a:pt x="1285" y="728"/>
                              </a:lnTo>
                              <a:lnTo>
                                <a:pt x="1285" y="734"/>
                              </a:lnTo>
                              <a:lnTo>
                                <a:pt x="1264" y="756"/>
                              </a:lnTo>
                              <a:lnTo>
                                <a:pt x="1243" y="778"/>
                              </a:lnTo>
                              <a:lnTo>
                                <a:pt x="1205" y="823"/>
                              </a:lnTo>
                              <a:lnTo>
                                <a:pt x="1185" y="845"/>
                              </a:lnTo>
                              <a:lnTo>
                                <a:pt x="1167" y="864"/>
                              </a:lnTo>
                              <a:lnTo>
                                <a:pt x="1147" y="886"/>
                              </a:lnTo>
                              <a:lnTo>
                                <a:pt x="1126" y="905"/>
                              </a:lnTo>
                              <a:lnTo>
                                <a:pt x="1033" y="993"/>
                              </a:lnTo>
                              <a:lnTo>
                                <a:pt x="953" y="1069"/>
                              </a:lnTo>
                              <a:lnTo>
                                <a:pt x="881" y="1135"/>
                              </a:lnTo>
                              <a:lnTo>
                                <a:pt x="877" y="1138"/>
                              </a:lnTo>
                              <a:lnTo>
                                <a:pt x="860" y="1154"/>
                              </a:lnTo>
                              <a:lnTo>
                                <a:pt x="812" y="1207"/>
                              </a:lnTo>
                              <a:lnTo>
                                <a:pt x="760" y="1261"/>
                              </a:lnTo>
                              <a:lnTo>
                                <a:pt x="739" y="1286"/>
                              </a:lnTo>
                              <a:lnTo>
                                <a:pt x="732" y="1280"/>
                              </a:lnTo>
                              <a:lnTo>
                                <a:pt x="715" y="1264"/>
                              </a:lnTo>
                              <a:lnTo>
                                <a:pt x="705" y="1258"/>
                              </a:lnTo>
                              <a:lnTo>
                                <a:pt x="691" y="1248"/>
                              </a:lnTo>
                              <a:lnTo>
                                <a:pt x="677" y="1242"/>
                              </a:lnTo>
                              <a:lnTo>
                                <a:pt x="660" y="1239"/>
                              </a:lnTo>
                              <a:lnTo>
                                <a:pt x="663" y="1223"/>
                              </a:lnTo>
                              <a:lnTo>
                                <a:pt x="663" y="1210"/>
                              </a:lnTo>
                              <a:lnTo>
                                <a:pt x="660" y="1201"/>
                              </a:lnTo>
                              <a:lnTo>
                                <a:pt x="656" y="1182"/>
                              </a:lnTo>
                              <a:lnTo>
                                <a:pt x="653" y="1173"/>
                              </a:lnTo>
                              <a:lnTo>
                                <a:pt x="649" y="1169"/>
                              </a:lnTo>
                              <a:lnTo>
                                <a:pt x="649" y="1163"/>
                              </a:lnTo>
                              <a:lnTo>
                                <a:pt x="653" y="1154"/>
                              </a:lnTo>
                              <a:lnTo>
                                <a:pt x="656" y="1144"/>
                              </a:lnTo>
                              <a:lnTo>
                                <a:pt x="663" y="1135"/>
                              </a:lnTo>
                              <a:lnTo>
                                <a:pt x="667" y="1132"/>
                              </a:lnTo>
                              <a:lnTo>
                                <a:pt x="667" y="1128"/>
                              </a:lnTo>
                              <a:lnTo>
                                <a:pt x="646" y="1132"/>
                              </a:lnTo>
                              <a:lnTo>
                                <a:pt x="636" y="1135"/>
                              </a:lnTo>
                              <a:lnTo>
                                <a:pt x="625" y="1135"/>
                              </a:lnTo>
                              <a:lnTo>
                                <a:pt x="622" y="1128"/>
                              </a:lnTo>
                              <a:lnTo>
                                <a:pt x="622" y="1122"/>
                              </a:lnTo>
                              <a:lnTo>
                                <a:pt x="625" y="1110"/>
                              </a:lnTo>
                              <a:lnTo>
                                <a:pt x="632" y="1100"/>
                              </a:lnTo>
                              <a:lnTo>
                                <a:pt x="632" y="1094"/>
                              </a:lnTo>
                              <a:lnTo>
                                <a:pt x="622" y="1097"/>
                              </a:lnTo>
                              <a:lnTo>
                                <a:pt x="601" y="1103"/>
                              </a:lnTo>
                              <a:lnTo>
                                <a:pt x="591" y="1106"/>
                              </a:lnTo>
                              <a:lnTo>
                                <a:pt x="584" y="1113"/>
                              </a:lnTo>
                              <a:lnTo>
                                <a:pt x="573" y="1119"/>
                              </a:lnTo>
                              <a:lnTo>
                                <a:pt x="566" y="1128"/>
                              </a:lnTo>
                              <a:lnTo>
                                <a:pt x="556" y="1138"/>
                              </a:lnTo>
                              <a:lnTo>
                                <a:pt x="546" y="1151"/>
                              </a:lnTo>
                              <a:lnTo>
                                <a:pt x="542" y="1166"/>
                              </a:lnTo>
                              <a:lnTo>
                                <a:pt x="539" y="1179"/>
                              </a:lnTo>
                              <a:lnTo>
                                <a:pt x="535" y="1192"/>
                              </a:lnTo>
                              <a:lnTo>
                                <a:pt x="532" y="1204"/>
                              </a:lnTo>
                              <a:lnTo>
                                <a:pt x="532" y="1226"/>
                              </a:lnTo>
                              <a:lnTo>
                                <a:pt x="535" y="1239"/>
                              </a:lnTo>
                              <a:lnTo>
                                <a:pt x="539" y="1245"/>
                              </a:lnTo>
                              <a:lnTo>
                                <a:pt x="522" y="1255"/>
                              </a:lnTo>
                              <a:lnTo>
                                <a:pt x="511" y="1264"/>
                              </a:lnTo>
                              <a:lnTo>
                                <a:pt x="504" y="1280"/>
                              </a:lnTo>
                              <a:lnTo>
                                <a:pt x="490" y="1299"/>
                              </a:lnTo>
                              <a:lnTo>
                                <a:pt x="480" y="1318"/>
                              </a:lnTo>
                              <a:lnTo>
                                <a:pt x="480" y="1340"/>
                              </a:lnTo>
                              <a:lnTo>
                                <a:pt x="480" y="1365"/>
                              </a:lnTo>
                              <a:lnTo>
                                <a:pt x="487" y="1381"/>
                              </a:lnTo>
                              <a:lnTo>
                                <a:pt x="497" y="1393"/>
                              </a:lnTo>
                              <a:lnTo>
                                <a:pt x="504" y="1403"/>
                              </a:lnTo>
                              <a:lnTo>
                                <a:pt x="515" y="1409"/>
                              </a:lnTo>
                              <a:lnTo>
                                <a:pt x="532" y="1415"/>
                              </a:lnTo>
                              <a:lnTo>
                                <a:pt x="539" y="1415"/>
                              </a:lnTo>
                              <a:lnTo>
                                <a:pt x="542" y="1425"/>
                              </a:lnTo>
                              <a:lnTo>
                                <a:pt x="560" y="1450"/>
                              </a:lnTo>
                              <a:lnTo>
                                <a:pt x="535" y="1475"/>
                              </a:lnTo>
                              <a:lnTo>
                                <a:pt x="480" y="1532"/>
                              </a:lnTo>
                              <a:lnTo>
                                <a:pt x="446" y="1570"/>
                              </a:lnTo>
                              <a:lnTo>
                                <a:pt x="415" y="1605"/>
                              </a:lnTo>
                              <a:lnTo>
                                <a:pt x="387" y="1633"/>
                              </a:lnTo>
                              <a:lnTo>
                                <a:pt x="366" y="1658"/>
                              </a:lnTo>
                              <a:lnTo>
                                <a:pt x="366" y="1665"/>
                              </a:lnTo>
                              <a:lnTo>
                                <a:pt x="359" y="1668"/>
                              </a:lnTo>
                              <a:lnTo>
                                <a:pt x="345" y="1680"/>
                              </a:lnTo>
                              <a:lnTo>
                                <a:pt x="304" y="1715"/>
                              </a:lnTo>
                              <a:lnTo>
                                <a:pt x="249" y="1765"/>
                              </a:lnTo>
                              <a:lnTo>
                                <a:pt x="187" y="1825"/>
                              </a:lnTo>
                              <a:lnTo>
                                <a:pt x="66" y="1936"/>
                              </a:lnTo>
                              <a:lnTo>
                                <a:pt x="0" y="1999"/>
                              </a:lnTo>
                              <a:lnTo>
                                <a:pt x="7" y="2008"/>
                              </a:lnTo>
                              <a:lnTo>
                                <a:pt x="14" y="2011"/>
                              </a:lnTo>
                              <a:lnTo>
                                <a:pt x="21" y="2030"/>
                              </a:lnTo>
                              <a:lnTo>
                                <a:pt x="24" y="2056"/>
                              </a:lnTo>
                              <a:lnTo>
                                <a:pt x="28" y="2084"/>
                              </a:lnTo>
                              <a:lnTo>
                                <a:pt x="31" y="2115"/>
                              </a:lnTo>
                              <a:lnTo>
                                <a:pt x="31" y="2144"/>
                              </a:lnTo>
                              <a:lnTo>
                                <a:pt x="38" y="2166"/>
                              </a:lnTo>
                              <a:lnTo>
                                <a:pt x="42" y="2182"/>
                              </a:lnTo>
                              <a:lnTo>
                                <a:pt x="52" y="2188"/>
                              </a:lnTo>
                              <a:lnTo>
                                <a:pt x="76" y="2172"/>
                              </a:lnTo>
                              <a:lnTo>
                                <a:pt x="104" y="2153"/>
                              </a:lnTo>
                              <a:lnTo>
                                <a:pt x="131" y="2131"/>
                              </a:lnTo>
                              <a:lnTo>
                                <a:pt x="159" y="2106"/>
                              </a:lnTo>
                              <a:lnTo>
                                <a:pt x="200" y="2068"/>
                              </a:lnTo>
                              <a:lnTo>
                                <a:pt x="218" y="2049"/>
                              </a:lnTo>
                              <a:lnTo>
                                <a:pt x="221" y="2188"/>
                              </a:lnTo>
                              <a:lnTo>
                                <a:pt x="228" y="2330"/>
                              </a:lnTo>
                              <a:lnTo>
                                <a:pt x="231" y="2503"/>
                              </a:lnTo>
                              <a:lnTo>
                                <a:pt x="235" y="2595"/>
                              </a:lnTo>
                              <a:lnTo>
                                <a:pt x="238" y="2686"/>
                              </a:lnTo>
                              <a:lnTo>
                                <a:pt x="242" y="2774"/>
                              </a:lnTo>
                              <a:lnTo>
                                <a:pt x="242" y="2860"/>
                              </a:lnTo>
                              <a:lnTo>
                                <a:pt x="245" y="2938"/>
                              </a:lnTo>
                              <a:lnTo>
                                <a:pt x="245" y="3008"/>
                              </a:lnTo>
                              <a:lnTo>
                                <a:pt x="245" y="3071"/>
                              </a:lnTo>
                              <a:lnTo>
                                <a:pt x="245" y="3118"/>
                              </a:lnTo>
                              <a:lnTo>
                                <a:pt x="245" y="3140"/>
                              </a:lnTo>
                              <a:lnTo>
                                <a:pt x="245" y="3172"/>
                              </a:lnTo>
                              <a:lnTo>
                                <a:pt x="242" y="3247"/>
                              </a:lnTo>
                              <a:lnTo>
                                <a:pt x="242" y="3282"/>
                              </a:lnTo>
                              <a:lnTo>
                                <a:pt x="238" y="3314"/>
                              </a:lnTo>
                              <a:lnTo>
                                <a:pt x="242" y="3339"/>
                              </a:lnTo>
                              <a:lnTo>
                                <a:pt x="245" y="3351"/>
                              </a:lnTo>
                              <a:lnTo>
                                <a:pt x="256" y="3355"/>
                              </a:lnTo>
                              <a:lnTo>
                                <a:pt x="259" y="3358"/>
                              </a:lnTo>
                              <a:lnTo>
                                <a:pt x="266" y="3358"/>
                              </a:lnTo>
                              <a:lnTo>
                                <a:pt x="269" y="3383"/>
                              </a:lnTo>
                              <a:lnTo>
                                <a:pt x="273" y="3392"/>
                              </a:lnTo>
                              <a:lnTo>
                                <a:pt x="273" y="3405"/>
                              </a:lnTo>
                              <a:lnTo>
                                <a:pt x="273" y="3424"/>
                              </a:lnTo>
                              <a:lnTo>
                                <a:pt x="273" y="3437"/>
                              </a:lnTo>
                              <a:lnTo>
                                <a:pt x="273" y="3449"/>
                              </a:lnTo>
                              <a:lnTo>
                                <a:pt x="273" y="3455"/>
                              </a:lnTo>
                              <a:lnTo>
                                <a:pt x="280" y="3465"/>
                              </a:lnTo>
                              <a:lnTo>
                                <a:pt x="297" y="3468"/>
                              </a:lnTo>
                              <a:lnTo>
                                <a:pt x="314" y="3471"/>
                              </a:lnTo>
                              <a:lnTo>
                                <a:pt x="349" y="3471"/>
                              </a:lnTo>
                              <a:lnTo>
                                <a:pt x="390" y="3474"/>
                              </a:lnTo>
                              <a:lnTo>
                                <a:pt x="411" y="3474"/>
                              </a:lnTo>
                              <a:lnTo>
                                <a:pt x="432" y="3478"/>
                              </a:lnTo>
                              <a:lnTo>
                                <a:pt x="442" y="3474"/>
                              </a:lnTo>
                              <a:lnTo>
                                <a:pt x="456" y="3471"/>
                              </a:lnTo>
                              <a:lnTo>
                                <a:pt x="473" y="3474"/>
                              </a:lnTo>
                              <a:lnTo>
                                <a:pt x="487" y="3478"/>
                              </a:lnTo>
                              <a:lnTo>
                                <a:pt x="511" y="3474"/>
                              </a:lnTo>
                              <a:lnTo>
                                <a:pt x="535" y="3471"/>
                              </a:lnTo>
                              <a:lnTo>
                                <a:pt x="560" y="3465"/>
                              </a:lnTo>
                              <a:lnTo>
                                <a:pt x="580" y="3465"/>
                              </a:lnTo>
                              <a:lnTo>
                                <a:pt x="577" y="3487"/>
                              </a:lnTo>
                              <a:lnTo>
                                <a:pt x="577" y="3509"/>
                              </a:lnTo>
                              <a:lnTo>
                                <a:pt x="573" y="3553"/>
                              </a:lnTo>
                              <a:lnTo>
                                <a:pt x="573" y="3575"/>
                              </a:lnTo>
                              <a:lnTo>
                                <a:pt x="573" y="3597"/>
                              </a:lnTo>
                              <a:lnTo>
                                <a:pt x="570" y="3619"/>
                              </a:lnTo>
                              <a:lnTo>
                                <a:pt x="566" y="3642"/>
                              </a:lnTo>
                              <a:lnTo>
                                <a:pt x="570" y="3648"/>
                              </a:lnTo>
                              <a:lnTo>
                                <a:pt x="573" y="3654"/>
                              </a:lnTo>
                              <a:lnTo>
                                <a:pt x="587" y="3657"/>
                              </a:lnTo>
                              <a:lnTo>
                                <a:pt x="601" y="3660"/>
                              </a:lnTo>
                              <a:lnTo>
                                <a:pt x="618" y="3667"/>
                              </a:lnTo>
                              <a:lnTo>
                                <a:pt x="646" y="3667"/>
                              </a:lnTo>
                              <a:lnTo>
                                <a:pt x="712" y="3670"/>
                              </a:lnTo>
                              <a:lnTo>
                                <a:pt x="808" y="3667"/>
                              </a:lnTo>
                              <a:lnTo>
                                <a:pt x="915" y="3667"/>
                              </a:lnTo>
                              <a:lnTo>
                                <a:pt x="1026" y="3667"/>
                              </a:lnTo>
                              <a:lnTo>
                                <a:pt x="1122" y="3664"/>
                              </a:lnTo>
                              <a:lnTo>
                                <a:pt x="1195" y="3664"/>
                              </a:lnTo>
                              <a:lnTo>
                                <a:pt x="1216" y="3667"/>
                              </a:lnTo>
                              <a:lnTo>
                                <a:pt x="1226" y="3667"/>
                              </a:lnTo>
                              <a:lnTo>
                                <a:pt x="1330" y="3670"/>
                              </a:lnTo>
                              <a:lnTo>
                                <a:pt x="1440" y="3673"/>
                              </a:lnTo>
                              <a:lnTo>
                                <a:pt x="1565" y="3676"/>
                              </a:lnTo>
                              <a:lnTo>
                                <a:pt x="1689" y="3676"/>
                              </a:lnTo>
                              <a:lnTo>
                                <a:pt x="1748" y="3676"/>
                              </a:lnTo>
                              <a:lnTo>
                                <a:pt x="1799" y="3676"/>
                              </a:lnTo>
                              <a:lnTo>
                                <a:pt x="1848" y="3676"/>
                              </a:lnTo>
                              <a:lnTo>
                                <a:pt x="1882" y="3676"/>
                              </a:lnTo>
                              <a:lnTo>
                                <a:pt x="1910" y="3676"/>
                              </a:lnTo>
                              <a:lnTo>
                                <a:pt x="1920" y="3673"/>
                              </a:lnTo>
                              <a:lnTo>
                                <a:pt x="1906" y="3550"/>
                              </a:lnTo>
                              <a:lnTo>
                                <a:pt x="1924" y="3547"/>
                              </a:lnTo>
                              <a:lnTo>
                                <a:pt x="1937" y="3547"/>
                              </a:lnTo>
                              <a:lnTo>
                                <a:pt x="1951" y="3547"/>
                              </a:lnTo>
                              <a:lnTo>
                                <a:pt x="1965" y="3544"/>
                              </a:lnTo>
                              <a:lnTo>
                                <a:pt x="1969" y="3512"/>
                              </a:lnTo>
                              <a:lnTo>
                                <a:pt x="1969" y="3500"/>
                              </a:lnTo>
                              <a:lnTo>
                                <a:pt x="1965" y="3484"/>
                              </a:lnTo>
                              <a:lnTo>
                                <a:pt x="1975" y="3484"/>
                              </a:lnTo>
                              <a:lnTo>
                                <a:pt x="2000" y="3484"/>
                              </a:lnTo>
                              <a:lnTo>
                                <a:pt x="2069" y="3490"/>
                              </a:lnTo>
                              <a:lnTo>
                                <a:pt x="2107" y="3493"/>
                              </a:lnTo>
                              <a:lnTo>
                                <a:pt x="2141" y="3496"/>
                              </a:lnTo>
                              <a:lnTo>
                                <a:pt x="2165" y="3496"/>
                              </a:lnTo>
                              <a:lnTo>
                                <a:pt x="2179" y="3496"/>
                              </a:lnTo>
                              <a:lnTo>
                                <a:pt x="2196" y="3500"/>
                              </a:lnTo>
                              <a:lnTo>
                                <a:pt x="2221" y="3493"/>
                              </a:lnTo>
                              <a:lnTo>
                                <a:pt x="2245" y="3490"/>
                              </a:lnTo>
                              <a:lnTo>
                                <a:pt x="2259" y="3484"/>
                              </a:lnTo>
                              <a:lnTo>
                                <a:pt x="2269" y="3481"/>
                              </a:lnTo>
                              <a:lnTo>
                                <a:pt x="2279" y="3478"/>
                              </a:lnTo>
                              <a:lnTo>
                                <a:pt x="2300" y="3481"/>
                              </a:lnTo>
                              <a:lnTo>
                                <a:pt x="2321" y="3484"/>
                              </a:lnTo>
                              <a:lnTo>
                                <a:pt x="2328" y="3484"/>
                              </a:lnTo>
                              <a:lnTo>
                                <a:pt x="2338" y="3484"/>
                              </a:lnTo>
                              <a:lnTo>
                                <a:pt x="2352" y="3481"/>
                              </a:lnTo>
                              <a:lnTo>
                                <a:pt x="2369" y="3478"/>
                              </a:lnTo>
                              <a:lnTo>
                                <a:pt x="2383" y="3471"/>
                              </a:lnTo>
                              <a:lnTo>
                                <a:pt x="2393" y="3465"/>
                              </a:lnTo>
                              <a:lnTo>
                                <a:pt x="2414" y="3465"/>
                              </a:lnTo>
                              <a:lnTo>
                                <a:pt x="2431" y="3465"/>
                              </a:lnTo>
                              <a:lnTo>
                                <a:pt x="2438" y="3462"/>
                              </a:lnTo>
                              <a:lnTo>
                                <a:pt x="2445" y="3459"/>
                              </a:lnTo>
                              <a:lnTo>
                                <a:pt x="2466" y="3471"/>
                              </a:lnTo>
                              <a:lnTo>
                                <a:pt x="2483" y="3481"/>
                              </a:lnTo>
                              <a:lnTo>
                                <a:pt x="2493" y="3484"/>
                              </a:lnTo>
                              <a:lnTo>
                                <a:pt x="2500" y="3484"/>
                              </a:lnTo>
                              <a:lnTo>
                                <a:pt x="2514" y="3478"/>
                              </a:lnTo>
                              <a:lnTo>
                                <a:pt x="2525" y="3478"/>
                              </a:lnTo>
                              <a:lnTo>
                                <a:pt x="2542" y="3484"/>
                              </a:lnTo>
                              <a:lnTo>
                                <a:pt x="2559" y="3490"/>
                              </a:lnTo>
                              <a:lnTo>
                                <a:pt x="2569" y="3493"/>
                              </a:lnTo>
                              <a:lnTo>
                                <a:pt x="2580" y="3490"/>
                              </a:lnTo>
                              <a:lnTo>
                                <a:pt x="2587" y="3487"/>
                              </a:lnTo>
                              <a:lnTo>
                                <a:pt x="2597" y="3481"/>
                              </a:lnTo>
                              <a:lnTo>
                                <a:pt x="2618" y="3465"/>
                              </a:lnTo>
                              <a:lnTo>
                                <a:pt x="2628" y="3471"/>
                              </a:lnTo>
                              <a:lnTo>
                                <a:pt x="2645" y="3478"/>
                              </a:lnTo>
                              <a:lnTo>
                                <a:pt x="2663" y="3478"/>
                              </a:lnTo>
                              <a:lnTo>
                                <a:pt x="2673" y="3474"/>
                              </a:lnTo>
                              <a:lnTo>
                                <a:pt x="2680" y="3471"/>
                              </a:lnTo>
                              <a:lnTo>
                                <a:pt x="2690" y="3481"/>
                              </a:lnTo>
                              <a:lnTo>
                                <a:pt x="2694" y="3490"/>
                              </a:lnTo>
                              <a:lnTo>
                                <a:pt x="2708" y="3493"/>
                              </a:lnTo>
                              <a:lnTo>
                                <a:pt x="2721" y="3496"/>
                              </a:lnTo>
                              <a:lnTo>
                                <a:pt x="2735" y="3493"/>
                              </a:lnTo>
                              <a:lnTo>
                                <a:pt x="2749" y="3493"/>
                              </a:lnTo>
                              <a:lnTo>
                                <a:pt x="2763" y="3490"/>
                              </a:lnTo>
                              <a:lnTo>
                                <a:pt x="2777" y="3484"/>
                              </a:lnTo>
                              <a:lnTo>
                                <a:pt x="2804" y="3471"/>
                              </a:lnTo>
                              <a:lnTo>
                                <a:pt x="2815" y="3481"/>
                              </a:lnTo>
                              <a:lnTo>
                                <a:pt x="2828" y="3487"/>
                              </a:lnTo>
                              <a:lnTo>
                                <a:pt x="2846" y="3496"/>
                              </a:lnTo>
                              <a:lnTo>
                                <a:pt x="2866" y="3500"/>
                              </a:lnTo>
                              <a:lnTo>
                                <a:pt x="2877" y="3503"/>
                              </a:lnTo>
                              <a:lnTo>
                                <a:pt x="2891" y="3500"/>
                              </a:lnTo>
                              <a:lnTo>
                                <a:pt x="2904" y="3500"/>
                              </a:lnTo>
                              <a:lnTo>
                                <a:pt x="2918" y="3493"/>
                              </a:lnTo>
                              <a:lnTo>
                                <a:pt x="2932" y="3487"/>
                              </a:lnTo>
                              <a:lnTo>
                                <a:pt x="2946" y="3478"/>
                              </a:lnTo>
                              <a:lnTo>
                                <a:pt x="2960" y="3478"/>
                              </a:lnTo>
                              <a:lnTo>
                                <a:pt x="2967" y="3478"/>
                              </a:lnTo>
                              <a:lnTo>
                                <a:pt x="2967" y="3471"/>
                              </a:lnTo>
                              <a:lnTo>
                                <a:pt x="2994" y="3459"/>
                              </a:lnTo>
                              <a:lnTo>
                                <a:pt x="3018" y="3449"/>
                              </a:lnTo>
                              <a:lnTo>
                                <a:pt x="3043" y="3437"/>
                              </a:lnTo>
                              <a:lnTo>
                                <a:pt x="3067" y="3430"/>
                              </a:lnTo>
                              <a:lnTo>
                                <a:pt x="3063" y="3446"/>
                              </a:lnTo>
                              <a:lnTo>
                                <a:pt x="3060" y="3462"/>
                              </a:lnTo>
                              <a:lnTo>
                                <a:pt x="3060" y="3474"/>
                              </a:lnTo>
                              <a:lnTo>
                                <a:pt x="3067" y="3490"/>
                              </a:lnTo>
                              <a:lnTo>
                                <a:pt x="3077" y="3496"/>
                              </a:lnTo>
                              <a:lnTo>
                                <a:pt x="3087" y="3496"/>
                              </a:lnTo>
                              <a:lnTo>
                                <a:pt x="3098" y="3496"/>
                              </a:lnTo>
                              <a:lnTo>
                                <a:pt x="3108" y="3493"/>
                              </a:lnTo>
                              <a:lnTo>
                                <a:pt x="3125" y="3484"/>
                              </a:lnTo>
                              <a:lnTo>
                                <a:pt x="3146" y="3478"/>
                              </a:lnTo>
                              <a:lnTo>
                                <a:pt x="3146" y="3487"/>
                              </a:lnTo>
                              <a:lnTo>
                                <a:pt x="3150" y="3503"/>
                              </a:lnTo>
                              <a:lnTo>
                                <a:pt x="3153" y="3509"/>
                              </a:lnTo>
                              <a:lnTo>
                                <a:pt x="3163" y="3515"/>
                              </a:lnTo>
                              <a:lnTo>
                                <a:pt x="3174" y="3522"/>
                              </a:lnTo>
                              <a:lnTo>
                                <a:pt x="3191" y="3522"/>
                              </a:lnTo>
                              <a:lnTo>
                                <a:pt x="3205" y="3515"/>
                              </a:lnTo>
                              <a:lnTo>
                                <a:pt x="3219" y="3506"/>
                              </a:lnTo>
                              <a:lnTo>
                                <a:pt x="3239" y="3478"/>
                              </a:lnTo>
                              <a:lnTo>
                                <a:pt x="3253" y="3496"/>
                              </a:lnTo>
                              <a:lnTo>
                                <a:pt x="3277" y="3496"/>
                              </a:lnTo>
                              <a:lnTo>
                                <a:pt x="3291" y="3493"/>
                              </a:lnTo>
                              <a:lnTo>
                                <a:pt x="3298" y="3490"/>
                              </a:lnTo>
                              <a:lnTo>
                                <a:pt x="3312" y="3481"/>
                              </a:lnTo>
                              <a:lnTo>
                                <a:pt x="3319" y="3468"/>
                              </a:lnTo>
                              <a:lnTo>
                                <a:pt x="3329" y="3459"/>
                              </a:lnTo>
                              <a:lnTo>
                                <a:pt x="3340" y="3455"/>
                              </a:lnTo>
                              <a:lnTo>
                                <a:pt x="3346" y="3459"/>
                              </a:lnTo>
                              <a:lnTo>
                                <a:pt x="3357" y="3462"/>
                              </a:lnTo>
                              <a:lnTo>
                                <a:pt x="3364" y="3468"/>
                              </a:lnTo>
                              <a:lnTo>
                                <a:pt x="3378" y="3484"/>
                              </a:lnTo>
                              <a:lnTo>
                                <a:pt x="3384" y="3481"/>
                              </a:lnTo>
                              <a:lnTo>
                                <a:pt x="3391" y="3484"/>
                              </a:lnTo>
                              <a:lnTo>
                                <a:pt x="3402" y="3484"/>
                              </a:lnTo>
                              <a:lnTo>
                                <a:pt x="3412" y="3481"/>
                              </a:lnTo>
                              <a:lnTo>
                                <a:pt x="3426" y="3471"/>
                              </a:lnTo>
                              <a:lnTo>
                                <a:pt x="3464" y="3471"/>
                              </a:lnTo>
                              <a:lnTo>
                                <a:pt x="3505" y="3474"/>
                              </a:lnTo>
                              <a:lnTo>
                                <a:pt x="3523" y="3474"/>
                              </a:lnTo>
                              <a:lnTo>
                                <a:pt x="3543" y="3471"/>
                              </a:lnTo>
                              <a:lnTo>
                                <a:pt x="3561" y="3465"/>
                              </a:lnTo>
                              <a:lnTo>
                                <a:pt x="3578" y="3459"/>
                              </a:lnTo>
                              <a:lnTo>
                                <a:pt x="3588" y="3446"/>
                              </a:lnTo>
                              <a:lnTo>
                                <a:pt x="3592" y="3437"/>
                              </a:lnTo>
                              <a:lnTo>
                                <a:pt x="3605" y="3418"/>
                              </a:lnTo>
                              <a:lnTo>
                                <a:pt x="3619" y="3405"/>
                              </a:lnTo>
                              <a:lnTo>
                                <a:pt x="3619" y="3399"/>
                              </a:lnTo>
                              <a:lnTo>
                                <a:pt x="3626" y="3396"/>
                              </a:lnTo>
                              <a:lnTo>
                                <a:pt x="3626" y="3392"/>
                              </a:lnTo>
                              <a:lnTo>
                                <a:pt x="3630" y="3383"/>
                              </a:lnTo>
                              <a:lnTo>
                                <a:pt x="3633" y="3374"/>
                              </a:lnTo>
                              <a:lnTo>
                                <a:pt x="3630" y="3361"/>
                              </a:lnTo>
                              <a:lnTo>
                                <a:pt x="3626" y="3351"/>
                              </a:lnTo>
                              <a:lnTo>
                                <a:pt x="3616" y="3345"/>
                              </a:lnTo>
                              <a:lnTo>
                                <a:pt x="3599" y="3342"/>
                              </a:lnTo>
                              <a:lnTo>
                                <a:pt x="3571" y="3339"/>
                              </a:lnTo>
                              <a:lnTo>
                                <a:pt x="3561" y="3320"/>
                              </a:lnTo>
                              <a:lnTo>
                                <a:pt x="3550" y="3307"/>
                              </a:lnTo>
                              <a:lnTo>
                                <a:pt x="3533" y="3298"/>
                              </a:lnTo>
                              <a:lnTo>
                                <a:pt x="3523" y="3295"/>
                              </a:lnTo>
                              <a:lnTo>
                                <a:pt x="3512" y="3295"/>
                              </a:lnTo>
                              <a:lnTo>
                                <a:pt x="3512" y="3285"/>
                              </a:lnTo>
                              <a:lnTo>
                                <a:pt x="3512" y="3276"/>
                              </a:lnTo>
                              <a:lnTo>
                                <a:pt x="3505" y="3269"/>
                              </a:lnTo>
                              <a:lnTo>
                                <a:pt x="3498" y="3266"/>
                              </a:lnTo>
                              <a:lnTo>
                                <a:pt x="3498" y="3241"/>
                              </a:lnTo>
                              <a:lnTo>
                                <a:pt x="3498" y="3197"/>
                              </a:lnTo>
                              <a:lnTo>
                                <a:pt x="3498" y="3131"/>
                              </a:lnTo>
                              <a:lnTo>
                                <a:pt x="3498" y="3052"/>
                              </a:lnTo>
                              <a:lnTo>
                                <a:pt x="3498" y="2964"/>
                              </a:lnTo>
                              <a:lnTo>
                                <a:pt x="3502" y="2863"/>
                              </a:lnTo>
                              <a:lnTo>
                                <a:pt x="3505" y="2759"/>
                              </a:lnTo>
                              <a:lnTo>
                                <a:pt x="3509" y="2651"/>
                              </a:lnTo>
                              <a:lnTo>
                                <a:pt x="3509" y="2544"/>
                              </a:lnTo>
                              <a:lnTo>
                                <a:pt x="3512" y="2440"/>
                              </a:lnTo>
                              <a:lnTo>
                                <a:pt x="3516" y="2346"/>
                              </a:lnTo>
                              <a:lnTo>
                                <a:pt x="3519" y="2257"/>
                              </a:lnTo>
                              <a:lnTo>
                                <a:pt x="3519" y="2185"/>
                              </a:lnTo>
                              <a:lnTo>
                                <a:pt x="3523" y="2128"/>
                              </a:lnTo>
                              <a:lnTo>
                                <a:pt x="3526" y="2090"/>
                              </a:lnTo>
                              <a:lnTo>
                                <a:pt x="3526" y="2078"/>
                              </a:lnTo>
                              <a:lnTo>
                                <a:pt x="3571" y="2078"/>
                              </a:lnTo>
                              <a:lnTo>
                                <a:pt x="3588" y="2078"/>
                              </a:lnTo>
                              <a:lnTo>
                                <a:pt x="3605" y="2074"/>
                              </a:lnTo>
                              <a:lnTo>
                                <a:pt x="3619" y="2071"/>
                              </a:lnTo>
                              <a:lnTo>
                                <a:pt x="3633" y="2062"/>
                              </a:lnTo>
                              <a:lnTo>
                                <a:pt x="3643" y="2049"/>
                              </a:lnTo>
                              <a:lnTo>
                                <a:pt x="3657" y="2030"/>
                              </a:lnTo>
                              <a:lnTo>
                                <a:pt x="3661" y="2011"/>
                              </a:lnTo>
                              <a:lnTo>
                                <a:pt x="3668" y="1989"/>
                              </a:lnTo>
                              <a:lnTo>
                                <a:pt x="3668" y="1980"/>
                              </a:lnTo>
                              <a:lnTo>
                                <a:pt x="3668" y="1970"/>
                              </a:lnTo>
                              <a:lnTo>
                                <a:pt x="3668" y="1958"/>
                              </a:lnTo>
                              <a:lnTo>
                                <a:pt x="3664" y="1945"/>
                              </a:lnTo>
                              <a:lnTo>
                                <a:pt x="3664" y="194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8" name=""/>
                        <p:cNvSpPr/>
                        <p:nvPr/>
                      </p:nvSpPr>
                      <p:spPr>
                        <a:xfrm>
                          <a:off x="739440" y="1689480"/>
                          <a:ext cx="32760" cy="35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0" h="126">
                              <a:moveTo>
                                <a:pt x="76" y="47"/>
                              </a:moveTo>
                              <a:lnTo>
                                <a:pt x="76" y="41"/>
                              </a:lnTo>
                              <a:lnTo>
                                <a:pt x="83" y="34"/>
                              </a:lnTo>
                              <a:lnTo>
                                <a:pt x="93" y="25"/>
                              </a:lnTo>
                              <a:lnTo>
                                <a:pt x="90" y="22"/>
                              </a:lnTo>
                              <a:lnTo>
                                <a:pt x="76" y="25"/>
                              </a:lnTo>
                              <a:lnTo>
                                <a:pt x="62" y="31"/>
                              </a:lnTo>
                              <a:lnTo>
                                <a:pt x="55" y="38"/>
                              </a:lnTo>
                              <a:lnTo>
                                <a:pt x="48" y="41"/>
                              </a:lnTo>
                              <a:lnTo>
                                <a:pt x="48" y="34"/>
                              </a:lnTo>
                              <a:lnTo>
                                <a:pt x="48" y="28"/>
                              </a:lnTo>
                              <a:lnTo>
                                <a:pt x="52" y="6"/>
                              </a:lnTo>
                              <a:lnTo>
                                <a:pt x="52" y="0"/>
                              </a:lnTo>
                              <a:lnTo>
                                <a:pt x="48" y="3"/>
                              </a:lnTo>
                              <a:lnTo>
                                <a:pt x="31" y="12"/>
                              </a:lnTo>
                              <a:lnTo>
                                <a:pt x="21" y="22"/>
                              </a:lnTo>
                              <a:lnTo>
                                <a:pt x="14" y="31"/>
                              </a:lnTo>
                              <a:lnTo>
                                <a:pt x="10" y="41"/>
                              </a:lnTo>
                              <a:lnTo>
                                <a:pt x="7" y="53"/>
                              </a:lnTo>
                              <a:lnTo>
                                <a:pt x="4" y="66"/>
                              </a:lnTo>
                              <a:lnTo>
                                <a:pt x="0" y="82"/>
                              </a:lnTo>
                              <a:lnTo>
                                <a:pt x="0" y="94"/>
                              </a:lnTo>
                              <a:lnTo>
                                <a:pt x="0" y="107"/>
                              </a:lnTo>
                              <a:lnTo>
                                <a:pt x="4" y="120"/>
                              </a:lnTo>
                              <a:lnTo>
                                <a:pt x="31" y="116"/>
                              </a:lnTo>
                              <a:lnTo>
                                <a:pt x="45" y="113"/>
                              </a:lnTo>
                              <a:lnTo>
                                <a:pt x="62" y="113"/>
                              </a:lnTo>
                              <a:lnTo>
                                <a:pt x="76" y="120"/>
                              </a:lnTo>
                              <a:lnTo>
                                <a:pt x="83" y="123"/>
                              </a:lnTo>
                              <a:lnTo>
                                <a:pt x="90" y="126"/>
                              </a:lnTo>
                              <a:lnTo>
                                <a:pt x="97" y="107"/>
                              </a:lnTo>
                              <a:lnTo>
                                <a:pt x="100" y="97"/>
                              </a:lnTo>
                              <a:lnTo>
                                <a:pt x="100" y="88"/>
                              </a:lnTo>
                              <a:lnTo>
                                <a:pt x="97" y="79"/>
                              </a:lnTo>
                              <a:lnTo>
                                <a:pt x="93" y="66"/>
                              </a:lnTo>
                              <a:lnTo>
                                <a:pt x="86" y="56"/>
                              </a:lnTo>
                              <a:lnTo>
                                <a:pt x="76" y="47"/>
                              </a:lnTo>
                              <a:lnTo>
                                <a:pt x="76" y="4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9cc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160" bIns="-11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9" name=""/>
                        <p:cNvSpPr/>
                        <p:nvPr/>
                      </p:nvSpPr>
                      <p:spPr>
                        <a:xfrm>
                          <a:off x="1590840" y="1381320"/>
                          <a:ext cx="39960" cy="2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1" h="91">
                              <a:moveTo>
                                <a:pt x="117" y="19"/>
                              </a:moveTo>
                              <a:lnTo>
                                <a:pt x="121" y="51"/>
                              </a:lnTo>
                              <a:lnTo>
                                <a:pt x="117" y="63"/>
                              </a:lnTo>
                              <a:lnTo>
                                <a:pt x="110" y="73"/>
                              </a:lnTo>
                              <a:lnTo>
                                <a:pt x="100" y="82"/>
                              </a:lnTo>
                              <a:lnTo>
                                <a:pt x="90" y="85"/>
                              </a:lnTo>
                              <a:lnTo>
                                <a:pt x="69" y="82"/>
                              </a:lnTo>
                              <a:lnTo>
                                <a:pt x="59" y="79"/>
                              </a:lnTo>
                              <a:lnTo>
                                <a:pt x="48" y="79"/>
                              </a:lnTo>
                              <a:lnTo>
                                <a:pt x="41" y="82"/>
                              </a:lnTo>
                              <a:lnTo>
                                <a:pt x="31" y="91"/>
                              </a:lnTo>
                              <a:lnTo>
                                <a:pt x="24" y="82"/>
                              </a:lnTo>
                              <a:lnTo>
                                <a:pt x="14" y="76"/>
                              </a:lnTo>
                              <a:lnTo>
                                <a:pt x="7" y="69"/>
                              </a:lnTo>
                              <a:lnTo>
                                <a:pt x="3" y="60"/>
                              </a:lnTo>
                              <a:lnTo>
                                <a:pt x="0" y="47"/>
                              </a:lnTo>
                              <a:lnTo>
                                <a:pt x="3" y="35"/>
                              </a:lnTo>
                              <a:lnTo>
                                <a:pt x="10" y="22"/>
                              </a:lnTo>
                              <a:lnTo>
                                <a:pt x="17" y="13"/>
                              </a:lnTo>
                              <a:lnTo>
                                <a:pt x="24" y="6"/>
                              </a:lnTo>
                              <a:lnTo>
                                <a:pt x="31" y="3"/>
                              </a:lnTo>
                              <a:lnTo>
                                <a:pt x="48" y="0"/>
                              </a:lnTo>
                              <a:lnTo>
                                <a:pt x="66" y="0"/>
                              </a:lnTo>
                              <a:lnTo>
                                <a:pt x="83" y="0"/>
                              </a:lnTo>
                              <a:lnTo>
                                <a:pt x="104" y="10"/>
                              </a:lnTo>
                              <a:lnTo>
                                <a:pt x="110" y="13"/>
                              </a:lnTo>
                              <a:lnTo>
                                <a:pt x="117" y="19"/>
                              </a:lnTo>
                              <a:lnTo>
                                <a:pt x="117" y="1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240" bIns="-21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0" name=""/>
                        <p:cNvSpPr/>
                        <p:nvPr/>
                      </p:nvSpPr>
                      <p:spPr>
                        <a:xfrm>
                          <a:off x="1606680" y="1409040"/>
                          <a:ext cx="9000" cy="11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41">
                              <a:moveTo>
                                <a:pt x="28" y="34"/>
                              </a:moveTo>
                              <a:lnTo>
                                <a:pt x="24" y="41"/>
                              </a:lnTo>
                              <a:lnTo>
                                <a:pt x="21" y="41"/>
                              </a:lnTo>
                              <a:lnTo>
                                <a:pt x="7" y="41"/>
                              </a:lnTo>
                              <a:lnTo>
                                <a:pt x="0" y="38"/>
                              </a:lnTo>
                              <a:lnTo>
                                <a:pt x="0" y="31"/>
                              </a:lnTo>
                              <a:lnTo>
                                <a:pt x="0" y="25"/>
                              </a:lnTo>
                              <a:lnTo>
                                <a:pt x="7" y="22"/>
                              </a:lnTo>
                              <a:lnTo>
                                <a:pt x="11" y="12"/>
                              </a:lnTo>
                              <a:lnTo>
                                <a:pt x="11" y="6"/>
                              </a:lnTo>
                              <a:lnTo>
                                <a:pt x="14" y="0"/>
                              </a:lnTo>
                              <a:lnTo>
                                <a:pt x="24" y="6"/>
                              </a:lnTo>
                              <a:lnTo>
                                <a:pt x="24" y="16"/>
                              </a:lnTo>
                              <a:lnTo>
                                <a:pt x="24" y="25"/>
                              </a:lnTo>
                              <a:lnTo>
                                <a:pt x="28" y="34"/>
                              </a:lnTo>
                              <a:lnTo>
                                <a:pt x="28" y="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1" name=""/>
                        <p:cNvSpPr/>
                        <p:nvPr/>
                      </p:nvSpPr>
                      <p:spPr>
                        <a:xfrm>
                          <a:off x="1600920" y="1425240"/>
                          <a:ext cx="12240" cy="11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8" h="403">
                              <a:moveTo>
                                <a:pt x="38" y="3"/>
                              </a:moveTo>
                              <a:lnTo>
                                <a:pt x="35" y="31"/>
                              </a:lnTo>
                              <a:lnTo>
                                <a:pt x="35" y="44"/>
                              </a:lnTo>
                              <a:lnTo>
                                <a:pt x="38" y="56"/>
                              </a:lnTo>
                              <a:lnTo>
                                <a:pt x="38" y="88"/>
                              </a:lnTo>
                              <a:lnTo>
                                <a:pt x="38" y="113"/>
                              </a:lnTo>
                              <a:lnTo>
                                <a:pt x="35" y="141"/>
                              </a:lnTo>
                              <a:lnTo>
                                <a:pt x="31" y="198"/>
                              </a:lnTo>
                              <a:lnTo>
                                <a:pt x="24" y="258"/>
                              </a:lnTo>
                              <a:lnTo>
                                <a:pt x="24" y="283"/>
                              </a:lnTo>
                              <a:lnTo>
                                <a:pt x="24" y="312"/>
                              </a:lnTo>
                              <a:lnTo>
                                <a:pt x="24" y="337"/>
                              </a:lnTo>
                              <a:lnTo>
                                <a:pt x="24" y="356"/>
                              </a:lnTo>
                              <a:lnTo>
                                <a:pt x="24" y="378"/>
                              </a:lnTo>
                              <a:lnTo>
                                <a:pt x="24" y="403"/>
                              </a:lnTo>
                              <a:lnTo>
                                <a:pt x="0" y="403"/>
                              </a:lnTo>
                              <a:lnTo>
                                <a:pt x="17" y="15"/>
                              </a:lnTo>
                              <a:lnTo>
                                <a:pt x="24" y="6"/>
                              </a:lnTo>
                              <a:lnTo>
                                <a:pt x="28" y="0"/>
                              </a:lnTo>
                              <a:lnTo>
                                <a:pt x="38" y="3"/>
                              </a:lnTo>
                              <a:lnTo>
                                <a:pt x="38" y="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2" name=""/>
                        <p:cNvSpPr/>
                        <p:nvPr/>
                      </p:nvSpPr>
                      <p:spPr>
                        <a:xfrm>
                          <a:off x="806760" y="1366200"/>
                          <a:ext cx="350640" cy="336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60" h="1186">
                              <a:moveTo>
                                <a:pt x="566" y="16"/>
                              </a:moveTo>
                              <a:lnTo>
                                <a:pt x="566" y="23"/>
                              </a:lnTo>
                              <a:lnTo>
                                <a:pt x="570" y="29"/>
                              </a:lnTo>
                              <a:lnTo>
                                <a:pt x="577" y="32"/>
                              </a:lnTo>
                              <a:lnTo>
                                <a:pt x="580" y="35"/>
                              </a:lnTo>
                              <a:lnTo>
                                <a:pt x="618" y="79"/>
                              </a:lnTo>
                              <a:lnTo>
                                <a:pt x="680" y="149"/>
                              </a:lnTo>
                              <a:lnTo>
                                <a:pt x="760" y="237"/>
                              </a:lnTo>
                              <a:lnTo>
                                <a:pt x="842" y="332"/>
                              </a:lnTo>
                              <a:lnTo>
                                <a:pt x="994" y="499"/>
                              </a:lnTo>
                              <a:lnTo>
                                <a:pt x="1060" y="571"/>
                              </a:lnTo>
                              <a:lnTo>
                                <a:pt x="1060" y="587"/>
                              </a:lnTo>
                              <a:lnTo>
                                <a:pt x="1057" y="625"/>
                              </a:lnTo>
                              <a:lnTo>
                                <a:pt x="1050" y="644"/>
                              </a:lnTo>
                              <a:lnTo>
                                <a:pt x="1046" y="666"/>
                              </a:lnTo>
                              <a:lnTo>
                                <a:pt x="1039" y="682"/>
                              </a:lnTo>
                              <a:lnTo>
                                <a:pt x="1032" y="697"/>
                              </a:lnTo>
                              <a:lnTo>
                                <a:pt x="1019" y="688"/>
                              </a:lnTo>
                              <a:lnTo>
                                <a:pt x="998" y="675"/>
                              </a:lnTo>
                              <a:lnTo>
                                <a:pt x="977" y="659"/>
                              </a:lnTo>
                              <a:lnTo>
                                <a:pt x="963" y="653"/>
                              </a:lnTo>
                              <a:lnTo>
                                <a:pt x="953" y="647"/>
                              </a:lnTo>
                              <a:lnTo>
                                <a:pt x="939" y="644"/>
                              </a:lnTo>
                              <a:lnTo>
                                <a:pt x="925" y="644"/>
                              </a:lnTo>
                              <a:lnTo>
                                <a:pt x="925" y="716"/>
                              </a:lnTo>
                              <a:lnTo>
                                <a:pt x="929" y="792"/>
                              </a:lnTo>
                              <a:lnTo>
                                <a:pt x="929" y="883"/>
                              </a:lnTo>
                              <a:lnTo>
                                <a:pt x="932" y="975"/>
                              </a:lnTo>
                              <a:lnTo>
                                <a:pt x="932" y="1022"/>
                              </a:lnTo>
                              <a:lnTo>
                                <a:pt x="932" y="1063"/>
                              </a:lnTo>
                              <a:lnTo>
                                <a:pt x="929" y="1101"/>
                              </a:lnTo>
                              <a:lnTo>
                                <a:pt x="929" y="1136"/>
                              </a:lnTo>
                              <a:lnTo>
                                <a:pt x="929" y="1161"/>
                              </a:lnTo>
                              <a:lnTo>
                                <a:pt x="925" y="1180"/>
                              </a:lnTo>
                              <a:lnTo>
                                <a:pt x="918" y="1183"/>
                              </a:lnTo>
                              <a:lnTo>
                                <a:pt x="912" y="1180"/>
                              </a:lnTo>
                              <a:lnTo>
                                <a:pt x="905" y="1173"/>
                              </a:lnTo>
                              <a:lnTo>
                                <a:pt x="856" y="1123"/>
                              </a:lnTo>
                              <a:lnTo>
                                <a:pt x="811" y="1073"/>
                              </a:lnTo>
                              <a:lnTo>
                                <a:pt x="791" y="1047"/>
                              </a:lnTo>
                              <a:lnTo>
                                <a:pt x="767" y="1019"/>
                              </a:lnTo>
                              <a:lnTo>
                                <a:pt x="746" y="994"/>
                              </a:lnTo>
                              <a:lnTo>
                                <a:pt x="725" y="965"/>
                              </a:lnTo>
                              <a:lnTo>
                                <a:pt x="725" y="861"/>
                              </a:lnTo>
                              <a:lnTo>
                                <a:pt x="725" y="811"/>
                              </a:lnTo>
                              <a:lnTo>
                                <a:pt x="725" y="760"/>
                              </a:lnTo>
                              <a:lnTo>
                                <a:pt x="729" y="710"/>
                              </a:lnTo>
                              <a:lnTo>
                                <a:pt x="732" y="656"/>
                              </a:lnTo>
                              <a:lnTo>
                                <a:pt x="735" y="606"/>
                              </a:lnTo>
                              <a:lnTo>
                                <a:pt x="739" y="552"/>
                              </a:lnTo>
                              <a:lnTo>
                                <a:pt x="722" y="555"/>
                              </a:lnTo>
                              <a:lnTo>
                                <a:pt x="708" y="552"/>
                              </a:lnTo>
                              <a:lnTo>
                                <a:pt x="694" y="546"/>
                              </a:lnTo>
                              <a:lnTo>
                                <a:pt x="680" y="540"/>
                              </a:lnTo>
                              <a:lnTo>
                                <a:pt x="673" y="530"/>
                              </a:lnTo>
                              <a:lnTo>
                                <a:pt x="670" y="521"/>
                              </a:lnTo>
                              <a:lnTo>
                                <a:pt x="666" y="502"/>
                              </a:lnTo>
                              <a:lnTo>
                                <a:pt x="666" y="480"/>
                              </a:lnTo>
                              <a:lnTo>
                                <a:pt x="666" y="461"/>
                              </a:lnTo>
                              <a:lnTo>
                                <a:pt x="646" y="461"/>
                              </a:lnTo>
                              <a:lnTo>
                                <a:pt x="646" y="426"/>
                              </a:lnTo>
                              <a:lnTo>
                                <a:pt x="646" y="426"/>
                              </a:lnTo>
                              <a:lnTo>
                                <a:pt x="646" y="423"/>
                              </a:lnTo>
                              <a:lnTo>
                                <a:pt x="639" y="417"/>
                              </a:lnTo>
                              <a:lnTo>
                                <a:pt x="632" y="410"/>
                              </a:lnTo>
                              <a:lnTo>
                                <a:pt x="625" y="407"/>
                              </a:lnTo>
                              <a:lnTo>
                                <a:pt x="618" y="395"/>
                              </a:lnTo>
                              <a:lnTo>
                                <a:pt x="608" y="382"/>
                              </a:lnTo>
                              <a:lnTo>
                                <a:pt x="594" y="373"/>
                              </a:lnTo>
                              <a:lnTo>
                                <a:pt x="580" y="363"/>
                              </a:lnTo>
                              <a:lnTo>
                                <a:pt x="570" y="357"/>
                              </a:lnTo>
                              <a:lnTo>
                                <a:pt x="559" y="363"/>
                              </a:lnTo>
                              <a:lnTo>
                                <a:pt x="552" y="373"/>
                              </a:lnTo>
                              <a:lnTo>
                                <a:pt x="546" y="382"/>
                              </a:lnTo>
                              <a:lnTo>
                                <a:pt x="549" y="391"/>
                              </a:lnTo>
                              <a:lnTo>
                                <a:pt x="559" y="401"/>
                              </a:lnTo>
                              <a:lnTo>
                                <a:pt x="559" y="426"/>
                              </a:lnTo>
                              <a:lnTo>
                                <a:pt x="577" y="429"/>
                              </a:lnTo>
                              <a:lnTo>
                                <a:pt x="594" y="429"/>
                              </a:lnTo>
                              <a:lnTo>
                                <a:pt x="611" y="429"/>
                              </a:lnTo>
                              <a:lnTo>
                                <a:pt x="618" y="429"/>
                              </a:lnTo>
                              <a:lnTo>
                                <a:pt x="625" y="436"/>
                              </a:lnTo>
                              <a:lnTo>
                                <a:pt x="625" y="461"/>
                              </a:lnTo>
                              <a:lnTo>
                                <a:pt x="587" y="461"/>
                              </a:lnTo>
                              <a:lnTo>
                                <a:pt x="597" y="470"/>
                              </a:lnTo>
                              <a:lnTo>
                                <a:pt x="604" y="480"/>
                              </a:lnTo>
                              <a:lnTo>
                                <a:pt x="615" y="499"/>
                              </a:lnTo>
                              <a:lnTo>
                                <a:pt x="618" y="521"/>
                              </a:lnTo>
                              <a:lnTo>
                                <a:pt x="618" y="543"/>
                              </a:lnTo>
                              <a:lnTo>
                                <a:pt x="618" y="587"/>
                              </a:lnTo>
                              <a:lnTo>
                                <a:pt x="615" y="609"/>
                              </a:lnTo>
                              <a:lnTo>
                                <a:pt x="618" y="631"/>
                              </a:lnTo>
                              <a:lnTo>
                                <a:pt x="618" y="641"/>
                              </a:lnTo>
                              <a:lnTo>
                                <a:pt x="621" y="647"/>
                              </a:lnTo>
                              <a:lnTo>
                                <a:pt x="635" y="650"/>
                              </a:lnTo>
                              <a:lnTo>
                                <a:pt x="649" y="653"/>
                              </a:lnTo>
                              <a:lnTo>
                                <a:pt x="656" y="656"/>
                              </a:lnTo>
                              <a:lnTo>
                                <a:pt x="659" y="663"/>
                              </a:lnTo>
                              <a:lnTo>
                                <a:pt x="659" y="675"/>
                              </a:lnTo>
                              <a:lnTo>
                                <a:pt x="659" y="688"/>
                              </a:lnTo>
                              <a:lnTo>
                                <a:pt x="653" y="697"/>
                              </a:lnTo>
                              <a:lnTo>
                                <a:pt x="646" y="707"/>
                              </a:lnTo>
                              <a:lnTo>
                                <a:pt x="625" y="723"/>
                              </a:lnTo>
                              <a:lnTo>
                                <a:pt x="604" y="735"/>
                              </a:lnTo>
                              <a:lnTo>
                                <a:pt x="587" y="741"/>
                              </a:lnTo>
                              <a:lnTo>
                                <a:pt x="566" y="745"/>
                              </a:lnTo>
                              <a:lnTo>
                                <a:pt x="552" y="748"/>
                              </a:lnTo>
                              <a:lnTo>
                                <a:pt x="539" y="754"/>
                              </a:lnTo>
                              <a:lnTo>
                                <a:pt x="532" y="770"/>
                              </a:lnTo>
                              <a:lnTo>
                                <a:pt x="525" y="782"/>
                              </a:lnTo>
                              <a:lnTo>
                                <a:pt x="514" y="792"/>
                              </a:lnTo>
                              <a:lnTo>
                                <a:pt x="501" y="801"/>
                              </a:lnTo>
                              <a:lnTo>
                                <a:pt x="487" y="804"/>
                              </a:lnTo>
                              <a:lnTo>
                                <a:pt x="480" y="804"/>
                              </a:lnTo>
                              <a:lnTo>
                                <a:pt x="473" y="801"/>
                              </a:lnTo>
                              <a:lnTo>
                                <a:pt x="463" y="782"/>
                              </a:lnTo>
                              <a:lnTo>
                                <a:pt x="459" y="773"/>
                              </a:lnTo>
                              <a:lnTo>
                                <a:pt x="459" y="760"/>
                              </a:lnTo>
                              <a:lnTo>
                                <a:pt x="473" y="754"/>
                              </a:lnTo>
                              <a:lnTo>
                                <a:pt x="494" y="748"/>
                              </a:lnTo>
                              <a:lnTo>
                                <a:pt x="473" y="741"/>
                              </a:lnTo>
                              <a:lnTo>
                                <a:pt x="449" y="735"/>
                              </a:lnTo>
                              <a:lnTo>
                                <a:pt x="425" y="732"/>
                              </a:lnTo>
                              <a:lnTo>
                                <a:pt x="400" y="729"/>
                              </a:lnTo>
                              <a:lnTo>
                                <a:pt x="400" y="729"/>
                              </a:lnTo>
                              <a:lnTo>
                                <a:pt x="383" y="723"/>
                              </a:lnTo>
                              <a:lnTo>
                                <a:pt x="376" y="716"/>
                              </a:lnTo>
                              <a:lnTo>
                                <a:pt x="373" y="710"/>
                              </a:lnTo>
                              <a:lnTo>
                                <a:pt x="373" y="697"/>
                              </a:lnTo>
                              <a:lnTo>
                                <a:pt x="373" y="688"/>
                              </a:lnTo>
                              <a:lnTo>
                                <a:pt x="383" y="675"/>
                              </a:lnTo>
                              <a:lnTo>
                                <a:pt x="397" y="666"/>
                              </a:lnTo>
                              <a:lnTo>
                                <a:pt x="407" y="656"/>
                              </a:lnTo>
                              <a:lnTo>
                                <a:pt x="411" y="631"/>
                              </a:lnTo>
                              <a:lnTo>
                                <a:pt x="414" y="609"/>
                              </a:lnTo>
                              <a:lnTo>
                                <a:pt x="414" y="584"/>
                              </a:lnTo>
                              <a:lnTo>
                                <a:pt x="418" y="559"/>
                              </a:lnTo>
                              <a:lnTo>
                                <a:pt x="418" y="543"/>
                              </a:lnTo>
                              <a:lnTo>
                                <a:pt x="418" y="530"/>
                              </a:lnTo>
                              <a:lnTo>
                                <a:pt x="421" y="518"/>
                              </a:lnTo>
                              <a:lnTo>
                                <a:pt x="428" y="505"/>
                              </a:lnTo>
                              <a:lnTo>
                                <a:pt x="432" y="492"/>
                              </a:lnTo>
                              <a:lnTo>
                                <a:pt x="442" y="480"/>
                              </a:lnTo>
                              <a:lnTo>
                                <a:pt x="449" y="470"/>
                              </a:lnTo>
                              <a:lnTo>
                                <a:pt x="459" y="461"/>
                              </a:lnTo>
                              <a:lnTo>
                                <a:pt x="438" y="461"/>
                              </a:lnTo>
                              <a:lnTo>
                                <a:pt x="421" y="461"/>
                              </a:lnTo>
                              <a:lnTo>
                                <a:pt x="404" y="467"/>
                              </a:lnTo>
                              <a:lnTo>
                                <a:pt x="397" y="470"/>
                              </a:lnTo>
                              <a:lnTo>
                                <a:pt x="387" y="480"/>
                              </a:lnTo>
                              <a:lnTo>
                                <a:pt x="390" y="502"/>
                              </a:lnTo>
                              <a:lnTo>
                                <a:pt x="390" y="527"/>
                              </a:lnTo>
                              <a:lnTo>
                                <a:pt x="390" y="540"/>
                              </a:lnTo>
                              <a:lnTo>
                                <a:pt x="383" y="549"/>
                              </a:lnTo>
                              <a:lnTo>
                                <a:pt x="376" y="559"/>
                              </a:lnTo>
                              <a:lnTo>
                                <a:pt x="366" y="565"/>
                              </a:lnTo>
                              <a:lnTo>
                                <a:pt x="352" y="565"/>
                              </a:lnTo>
                              <a:lnTo>
                                <a:pt x="331" y="568"/>
                              </a:lnTo>
                              <a:lnTo>
                                <a:pt x="314" y="571"/>
                              </a:lnTo>
                              <a:lnTo>
                                <a:pt x="311" y="574"/>
                              </a:lnTo>
                              <a:lnTo>
                                <a:pt x="307" y="577"/>
                              </a:lnTo>
                              <a:lnTo>
                                <a:pt x="311" y="631"/>
                              </a:lnTo>
                              <a:lnTo>
                                <a:pt x="311" y="685"/>
                              </a:lnTo>
                              <a:lnTo>
                                <a:pt x="314" y="795"/>
                              </a:lnTo>
                              <a:lnTo>
                                <a:pt x="314" y="852"/>
                              </a:lnTo>
                              <a:lnTo>
                                <a:pt x="314" y="905"/>
                              </a:lnTo>
                              <a:lnTo>
                                <a:pt x="318" y="956"/>
                              </a:lnTo>
                              <a:lnTo>
                                <a:pt x="324" y="1003"/>
                              </a:lnTo>
                              <a:lnTo>
                                <a:pt x="114" y="1186"/>
                              </a:lnTo>
                              <a:lnTo>
                                <a:pt x="110" y="1161"/>
                              </a:lnTo>
                              <a:lnTo>
                                <a:pt x="110" y="1120"/>
                              </a:lnTo>
                              <a:lnTo>
                                <a:pt x="110" y="1073"/>
                              </a:lnTo>
                              <a:lnTo>
                                <a:pt x="110" y="1016"/>
                              </a:lnTo>
                              <a:lnTo>
                                <a:pt x="114" y="912"/>
                              </a:lnTo>
                              <a:lnTo>
                                <a:pt x="114" y="874"/>
                              </a:lnTo>
                              <a:lnTo>
                                <a:pt x="114" y="845"/>
                              </a:lnTo>
                              <a:lnTo>
                                <a:pt x="117" y="836"/>
                              </a:lnTo>
                              <a:lnTo>
                                <a:pt x="107" y="833"/>
                              </a:lnTo>
                              <a:lnTo>
                                <a:pt x="110" y="782"/>
                              </a:lnTo>
                              <a:lnTo>
                                <a:pt x="117" y="694"/>
                              </a:lnTo>
                              <a:lnTo>
                                <a:pt x="121" y="647"/>
                              </a:lnTo>
                              <a:lnTo>
                                <a:pt x="124" y="603"/>
                              </a:lnTo>
                              <a:lnTo>
                                <a:pt x="124" y="565"/>
                              </a:lnTo>
                              <a:lnTo>
                                <a:pt x="121" y="540"/>
                              </a:lnTo>
                              <a:lnTo>
                                <a:pt x="110" y="546"/>
                              </a:lnTo>
                              <a:lnTo>
                                <a:pt x="97" y="555"/>
                              </a:lnTo>
                              <a:lnTo>
                                <a:pt x="62" y="590"/>
                              </a:lnTo>
                              <a:lnTo>
                                <a:pt x="27" y="622"/>
                              </a:lnTo>
                              <a:lnTo>
                                <a:pt x="14" y="634"/>
                              </a:lnTo>
                              <a:lnTo>
                                <a:pt x="0" y="644"/>
                              </a:lnTo>
                              <a:lnTo>
                                <a:pt x="0" y="442"/>
                              </a:lnTo>
                              <a:lnTo>
                                <a:pt x="27" y="417"/>
                              </a:lnTo>
                              <a:lnTo>
                                <a:pt x="59" y="391"/>
                              </a:lnTo>
                              <a:lnTo>
                                <a:pt x="93" y="363"/>
                              </a:lnTo>
                              <a:lnTo>
                                <a:pt x="131" y="332"/>
                              </a:lnTo>
                              <a:lnTo>
                                <a:pt x="214" y="265"/>
                              </a:lnTo>
                              <a:lnTo>
                                <a:pt x="300" y="196"/>
                              </a:lnTo>
                              <a:lnTo>
                                <a:pt x="380" y="133"/>
                              </a:lnTo>
                              <a:lnTo>
                                <a:pt x="445" y="79"/>
                              </a:lnTo>
                              <a:lnTo>
                                <a:pt x="494" y="41"/>
                              </a:lnTo>
                              <a:lnTo>
                                <a:pt x="518" y="23"/>
                              </a:lnTo>
                              <a:lnTo>
                                <a:pt x="528" y="10"/>
                              </a:lnTo>
                              <a:lnTo>
                                <a:pt x="546" y="0"/>
                              </a:lnTo>
                              <a:lnTo>
                                <a:pt x="552" y="0"/>
                              </a:lnTo>
                              <a:lnTo>
                                <a:pt x="559" y="0"/>
                              </a:lnTo>
                              <a:lnTo>
                                <a:pt x="563" y="7"/>
                              </a:lnTo>
                              <a:lnTo>
                                <a:pt x="566" y="16"/>
                              </a:lnTo>
                              <a:lnTo>
                                <a:pt x="566" y="16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3" name=""/>
                        <p:cNvSpPr/>
                        <p:nvPr/>
                      </p:nvSpPr>
                      <p:spPr>
                        <a:xfrm>
                          <a:off x="986040" y="1379520"/>
                          <a:ext cx="164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7" h="627">
                              <a:moveTo>
                                <a:pt x="311" y="321"/>
                              </a:moveTo>
                              <a:lnTo>
                                <a:pt x="345" y="353"/>
                              </a:lnTo>
                              <a:lnTo>
                                <a:pt x="380" y="391"/>
                              </a:lnTo>
                              <a:lnTo>
                                <a:pt x="411" y="425"/>
                              </a:lnTo>
                              <a:lnTo>
                                <a:pt x="439" y="460"/>
                              </a:lnTo>
                              <a:lnTo>
                                <a:pt x="480" y="514"/>
                              </a:lnTo>
                              <a:lnTo>
                                <a:pt x="497" y="536"/>
                              </a:lnTo>
                              <a:lnTo>
                                <a:pt x="484" y="627"/>
                              </a:lnTo>
                              <a:lnTo>
                                <a:pt x="45" y="157"/>
                              </a:lnTo>
                              <a:lnTo>
                                <a:pt x="38" y="142"/>
                              </a:lnTo>
                              <a:lnTo>
                                <a:pt x="28" y="123"/>
                              </a:lnTo>
                              <a:lnTo>
                                <a:pt x="21" y="101"/>
                              </a:lnTo>
                              <a:lnTo>
                                <a:pt x="10" y="75"/>
                              </a:lnTo>
                              <a:lnTo>
                                <a:pt x="4" y="50"/>
                              </a:lnTo>
                              <a:lnTo>
                                <a:pt x="0" y="25"/>
                              </a:lnTo>
                              <a:lnTo>
                                <a:pt x="0" y="12"/>
                              </a:lnTo>
                              <a:lnTo>
                                <a:pt x="4" y="0"/>
                              </a:lnTo>
                              <a:lnTo>
                                <a:pt x="17" y="12"/>
                              </a:lnTo>
                              <a:lnTo>
                                <a:pt x="48" y="47"/>
                              </a:lnTo>
                              <a:lnTo>
                                <a:pt x="93" y="94"/>
                              </a:lnTo>
                              <a:lnTo>
                                <a:pt x="145" y="148"/>
                              </a:lnTo>
                              <a:lnTo>
                                <a:pt x="249" y="258"/>
                              </a:lnTo>
                              <a:lnTo>
                                <a:pt x="287" y="296"/>
                              </a:lnTo>
                              <a:lnTo>
                                <a:pt x="311" y="321"/>
                              </a:lnTo>
                              <a:lnTo>
                                <a:pt x="311" y="321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4" name=""/>
                        <p:cNvSpPr/>
                        <p:nvPr/>
                      </p:nvSpPr>
                      <p:spPr>
                        <a:xfrm>
                          <a:off x="817200" y="1389240"/>
                          <a:ext cx="160920" cy="133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87" h="470">
                              <a:moveTo>
                                <a:pt x="487" y="98"/>
                              </a:moveTo>
                              <a:lnTo>
                                <a:pt x="466" y="114"/>
                              </a:lnTo>
                              <a:lnTo>
                                <a:pt x="442" y="133"/>
                              </a:lnTo>
                              <a:lnTo>
                                <a:pt x="380" y="183"/>
                              </a:lnTo>
                              <a:lnTo>
                                <a:pt x="304" y="243"/>
                              </a:lnTo>
                              <a:lnTo>
                                <a:pt x="224" y="306"/>
                              </a:lnTo>
                              <a:lnTo>
                                <a:pt x="145" y="366"/>
                              </a:lnTo>
                              <a:lnTo>
                                <a:pt x="79" y="417"/>
                              </a:lnTo>
                              <a:lnTo>
                                <a:pt x="28" y="454"/>
                              </a:lnTo>
                              <a:lnTo>
                                <a:pt x="7" y="470"/>
                              </a:lnTo>
                              <a:lnTo>
                                <a:pt x="0" y="448"/>
                              </a:lnTo>
                              <a:lnTo>
                                <a:pt x="0" y="426"/>
                              </a:lnTo>
                              <a:lnTo>
                                <a:pt x="0" y="385"/>
                              </a:lnTo>
                              <a:lnTo>
                                <a:pt x="24" y="363"/>
                              </a:lnTo>
                              <a:lnTo>
                                <a:pt x="83" y="316"/>
                              </a:lnTo>
                              <a:lnTo>
                                <a:pt x="252" y="180"/>
                              </a:lnTo>
                              <a:lnTo>
                                <a:pt x="342" y="108"/>
                              </a:lnTo>
                              <a:lnTo>
                                <a:pt x="414" y="48"/>
                              </a:lnTo>
                              <a:lnTo>
                                <a:pt x="445" y="26"/>
                              </a:lnTo>
                              <a:lnTo>
                                <a:pt x="466" y="10"/>
                              </a:lnTo>
                              <a:lnTo>
                                <a:pt x="480" y="0"/>
                              </a:lnTo>
                              <a:lnTo>
                                <a:pt x="487" y="0"/>
                              </a:lnTo>
                              <a:lnTo>
                                <a:pt x="487" y="98"/>
                              </a:lnTo>
                              <a:lnTo>
                                <a:pt x="487" y="98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5" name=""/>
                        <p:cNvSpPr/>
                        <p:nvPr/>
                      </p:nvSpPr>
                      <p:spPr>
                        <a:xfrm>
                          <a:off x="1077480" y="1515600"/>
                          <a:ext cx="28800" cy="170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7" h="602">
                              <a:moveTo>
                                <a:pt x="80" y="69"/>
                              </a:moveTo>
                              <a:lnTo>
                                <a:pt x="87" y="602"/>
                              </a:lnTo>
                              <a:lnTo>
                                <a:pt x="0" y="501"/>
                              </a:lnTo>
                              <a:lnTo>
                                <a:pt x="0" y="441"/>
                              </a:lnTo>
                              <a:lnTo>
                                <a:pt x="0" y="366"/>
                              </a:lnTo>
                              <a:lnTo>
                                <a:pt x="4" y="284"/>
                              </a:lnTo>
                              <a:lnTo>
                                <a:pt x="7" y="199"/>
                              </a:lnTo>
                              <a:lnTo>
                                <a:pt x="11" y="57"/>
                              </a:lnTo>
                              <a:lnTo>
                                <a:pt x="14" y="0"/>
                              </a:lnTo>
                              <a:lnTo>
                                <a:pt x="80" y="69"/>
                              </a:lnTo>
                              <a:lnTo>
                                <a:pt x="80" y="69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6" name=""/>
                        <p:cNvSpPr/>
                        <p:nvPr/>
                      </p:nvSpPr>
                      <p:spPr>
                        <a:xfrm>
                          <a:off x="859320" y="1500480"/>
                          <a:ext cx="30600" cy="179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3" h="634">
                              <a:moveTo>
                                <a:pt x="93" y="543"/>
                              </a:moveTo>
                              <a:lnTo>
                                <a:pt x="0" y="634"/>
                              </a:lnTo>
                              <a:lnTo>
                                <a:pt x="0" y="518"/>
                              </a:lnTo>
                              <a:lnTo>
                                <a:pt x="3" y="331"/>
                              </a:lnTo>
                              <a:lnTo>
                                <a:pt x="7" y="79"/>
                              </a:lnTo>
                              <a:lnTo>
                                <a:pt x="86" y="0"/>
                              </a:lnTo>
                              <a:lnTo>
                                <a:pt x="86" y="67"/>
                              </a:lnTo>
                              <a:lnTo>
                                <a:pt x="90" y="212"/>
                              </a:lnTo>
                              <a:lnTo>
                                <a:pt x="90" y="297"/>
                              </a:lnTo>
                              <a:lnTo>
                                <a:pt x="93" y="385"/>
                              </a:lnTo>
                              <a:lnTo>
                                <a:pt x="93" y="470"/>
                              </a:lnTo>
                              <a:lnTo>
                                <a:pt x="93" y="543"/>
                              </a:lnTo>
                              <a:lnTo>
                                <a:pt x="93" y="543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7" name=""/>
                        <p:cNvSpPr/>
                        <p:nvPr/>
                      </p:nvSpPr>
                      <p:spPr>
                        <a:xfrm>
                          <a:off x="1596240" y="1546200"/>
                          <a:ext cx="12240" cy="104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8" h="369">
                              <a:moveTo>
                                <a:pt x="38" y="3"/>
                              </a:moveTo>
                              <a:lnTo>
                                <a:pt x="24" y="13"/>
                              </a:lnTo>
                              <a:lnTo>
                                <a:pt x="21" y="19"/>
                              </a:lnTo>
                              <a:lnTo>
                                <a:pt x="21" y="22"/>
                              </a:lnTo>
                              <a:lnTo>
                                <a:pt x="31" y="32"/>
                              </a:lnTo>
                              <a:lnTo>
                                <a:pt x="35" y="41"/>
                              </a:lnTo>
                              <a:lnTo>
                                <a:pt x="35" y="54"/>
                              </a:lnTo>
                              <a:lnTo>
                                <a:pt x="38" y="63"/>
                              </a:lnTo>
                              <a:lnTo>
                                <a:pt x="35" y="95"/>
                              </a:lnTo>
                              <a:lnTo>
                                <a:pt x="35" y="130"/>
                              </a:lnTo>
                              <a:lnTo>
                                <a:pt x="31" y="161"/>
                              </a:lnTo>
                              <a:lnTo>
                                <a:pt x="31" y="199"/>
                              </a:lnTo>
                              <a:lnTo>
                                <a:pt x="28" y="211"/>
                              </a:lnTo>
                              <a:lnTo>
                                <a:pt x="28" y="218"/>
                              </a:lnTo>
                              <a:lnTo>
                                <a:pt x="31" y="224"/>
                              </a:lnTo>
                              <a:lnTo>
                                <a:pt x="21" y="234"/>
                              </a:lnTo>
                              <a:lnTo>
                                <a:pt x="28" y="246"/>
                              </a:lnTo>
                              <a:lnTo>
                                <a:pt x="31" y="259"/>
                              </a:lnTo>
                              <a:lnTo>
                                <a:pt x="31" y="275"/>
                              </a:lnTo>
                              <a:lnTo>
                                <a:pt x="28" y="290"/>
                              </a:lnTo>
                              <a:lnTo>
                                <a:pt x="21" y="322"/>
                              </a:lnTo>
                              <a:lnTo>
                                <a:pt x="21" y="341"/>
                              </a:lnTo>
                              <a:lnTo>
                                <a:pt x="21" y="357"/>
                              </a:lnTo>
                              <a:lnTo>
                                <a:pt x="24" y="363"/>
                              </a:lnTo>
                              <a:lnTo>
                                <a:pt x="21" y="369"/>
                              </a:lnTo>
                              <a:lnTo>
                                <a:pt x="0" y="369"/>
                              </a:lnTo>
                              <a:lnTo>
                                <a:pt x="0" y="369"/>
                              </a:lnTo>
                              <a:lnTo>
                                <a:pt x="14" y="16"/>
                              </a:lnTo>
                              <a:lnTo>
                                <a:pt x="24" y="3"/>
                              </a:lnTo>
                              <a:lnTo>
                                <a:pt x="28" y="0"/>
                              </a:lnTo>
                              <a:lnTo>
                                <a:pt x="38" y="3"/>
                              </a:lnTo>
                              <a:lnTo>
                                <a:pt x="38" y="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8" name=""/>
                        <p:cNvSpPr/>
                        <p:nvPr/>
                      </p:nvSpPr>
                      <p:spPr>
                        <a:xfrm>
                          <a:off x="985320" y="1593360"/>
                          <a:ext cx="339120" cy="393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5" h="1388">
                              <a:moveTo>
                                <a:pt x="200" y="221"/>
                              </a:moveTo>
                              <a:lnTo>
                                <a:pt x="200" y="231"/>
                              </a:lnTo>
                              <a:lnTo>
                                <a:pt x="207" y="237"/>
                              </a:lnTo>
                              <a:lnTo>
                                <a:pt x="217" y="246"/>
                              </a:lnTo>
                              <a:lnTo>
                                <a:pt x="231" y="256"/>
                              </a:lnTo>
                              <a:lnTo>
                                <a:pt x="234" y="262"/>
                              </a:lnTo>
                              <a:lnTo>
                                <a:pt x="234" y="268"/>
                              </a:lnTo>
                              <a:lnTo>
                                <a:pt x="234" y="275"/>
                              </a:lnTo>
                              <a:lnTo>
                                <a:pt x="252" y="290"/>
                              </a:lnTo>
                              <a:lnTo>
                                <a:pt x="262" y="297"/>
                              </a:lnTo>
                              <a:lnTo>
                                <a:pt x="272" y="300"/>
                              </a:lnTo>
                              <a:lnTo>
                                <a:pt x="321" y="363"/>
                              </a:lnTo>
                              <a:lnTo>
                                <a:pt x="369" y="423"/>
                              </a:lnTo>
                              <a:lnTo>
                                <a:pt x="417" y="483"/>
                              </a:lnTo>
                              <a:lnTo>
                                <a:pt x="462" y="543"/>
                              </a:lnTo>
                              <a:lnTo>
                                <a:pt x="511" y="603"/>
                              </a:lnTo>
                              <a:lnTo>
                                <a:pt x="535" y="631"/>
                              </a:lnTo>
                              <a:lnTo>
                                <a:pt x="559" y="659"/>
                              </a:lnTo>
                              <a:lnTo>
                                <a:pt x="583" y="688"/>
                              </a:lnTo>
                              <a:lnTo>
                                <a:pt x="611" y="716"/>
                              </a:lnTo>
                              <a:lnTo>
                                <a:pt x="638" y="744"/>
                              </a:lnTo>
                              <a:lnTo>
                                <a:pt x="666" y="773"/>
                              </a:lnTo>
                              <a:lnTo>
                                <a:pt x="987" y="1151"/>
                              </a:lnTo>
                              <a:lnTo>
                                <a:pt x="1001" y="1167"/>
                              </a:lnTo>
                              <a:lnTo>
                                <a:pt x="1008" y="1176"/>
                              </a:lnTo>
                              <a:lnTo>
                                <a:pt x="1018" y="1183"/>
                              </a:lnTo>
                              <a:lnTo>
                                <a:pt x="1015" y="1211"/>
                              </a:lnTo>
                              <a:lnTo>
                                <a:pt x="1015" y="1224"/>
                              </a:lnTo>
                              <a:lnTo>
                                <a:pt x="1018" y="1236"/>
                              </a:lnTo>
                              <a:lnTo>
                                <a:pt x="1018" y="1243"/>
                              </a:lnTo>
                              <a:lnTo>
                                <a:pt x="1015" y="1262"/>
                              </a:lnTo>
                              <a:lnTo>
                                <a:pt x="1015" y="1281"/>
                              </a:lnTo>
                              <a:lnTo>
                                <a:pt x="1015" y="1318"/>
                              </a:lnTo>
                              <a:lnTo>
                                <a:pt x="1018" y="1356"/>
                              </a:lnTo>
                              <a:lnTo>
                                <a:pt x="1025" y="1388"/>
                              </a:lnTo>
                              <a:lnTo>
                                <a:pt x="1015" y="1375"/>
                              </a:lnTo>
                              <a:lnTo>
                                <a:pt x="1011" y="1369"/>
                              </a:lnTo>
                              <a:lnTo>
                                <a:pt x="1008" y="1359"/>
                              </a:lnTo>
                              <a:lnTo>
                                <a:pt x="973" y="1328"/>
                              </a:lnTo>
                              <a:lnTo>
                                <a:pt x="942" y="1296"/>
                              </a:lnTo>
                              <a:lnTo>
                                <a:pt x="908" y="1265"/>
                              </a:lnTo>
                              <a:lnTo>
                                <a:pt x="877" y="1230"/>
                              </a:lnTo>
                              <a:lnTo>
                                <a:pt x="846" y="1199"/>
                              </a:lnTo>
                              <a:lnTo>
                                <a:pt x="815" y="1164"/>
                              </a:lnTo>
                              <a:lnTo>
                                <a:pt x="787" y="1129"/>
                              </a:lnTo>
                              <a:lnTo>
                                <a:pt x="759" y="1091"/>
                              </a:lnTo>
                              <a:lnTo>
                                <a:pt x="759" y="1069"/>
                              </a:lnTo>
                              <a:lnTo>
                                <a:pt x="766" y="1047"/>
                              </a:lnTo>
                              <a:lnTo>
                                <a:pt x="766" y="1025"/>
                              </a:lnTo>
                              <a:lnTo>
                                <a:pt x="766" y="1012"/>
                              </a:lnTo>
                              <a:lnTo>
                                <a:pt x="766" y="1000"/>
                              </a:lnTo>
                              <a:lnTo>
                                <a:pt x="752" y="997"/>
                              </a:lnTo>
                              <a:lnTo>
                                <a:pt x="739" y="994"/>
                              </a:lnTo>
                              <a:lnTo>
                                <a:pt x="711" y="990"/>
                              </a:lnTo>
                              <a:lnTo>
                                <a:pt x="683" y="990"/>
                              </a:lnTo>
                              <a:lnTo>
                                <a:pt x="652" y="987"/>
                              </a:lnTo>
                              <a:lnTo>
                                <a:pt x="645" y="978"/>
                              </a:lnTo>
                              <a:lnTo>
                                <a:pt x="638" y="962"/>
                              </a:lnTo>
                              <a:lnTo>
                                <a:pt x="611" y="921"/>
                              </a:lnTo>
                              <a:lnTo>
                                <a:pt x="587" y="880"/>
                              </a:lnTo>
                              <a:lnTo>
                                <a:pt x="559" y="842"/>
                              </a:lnTo>
                              <a:lnTo>
                                <a:pt x="528" y="801"/>
                              </a:lnTo>
                              <a:lnTo>
                                <a:pt x="500" y="767"/>
                              </a:lnTo>
                              <a:lnTo>
                                <a:pt x="469" y="729"/>
                              </a:lnTo>
                              <a:lnTo>
                                <a:pt x="435" y="691"/>
                              </a:lnTo>
                              <a:lnTo>
                                <a:pt x="400" y="653"/>
                              </a:lnTo>
                              <a:lnTo>
                                <a:pt x="379" y="625"/>
                              </a:lnTo>
                              <a:lnTo>
                                <a:pt x="355" y="596"/>
                              </a:lnTo>
                              <a:lnTo>
                                <a:pt x="303" y="543"/>
                              </a:lnTo>
                              <a:lnTo>
                                <a:pt x="279" y="514"/>
                              </a:lnTo>
                              <a:lnTo>
                                <a:pt x="252" y="489"/>
                              </a:lnTo>
                              <a:lnTo>
                                <a:pt x="231" y="461"/>
                              </a:lnTo>
                              <a:lnTo>
                                <a:pt x="207" y="432"/>
                              </a:lnTo>
                              <a:lnTo>
                                <a:pt x="183" y="398"/>
                              </a:lnTo>
                              <a:lnTo>
                                <a:pt x="158" y="363"/>
                              </a:lnTo>
                              <a:lnTo>
                                <a:pt x="148" y="350"/>
                              </a:lnTo>
                              <a:lnTo>
                                <a:pt x="134" y="335"/>
                              </a:lnTo>
                              <a:lnTo>
                                <a:pt x="120" y="319"/>
                              </a:lnTo>
                              <a:lnTo>
                                <a:pt x="107" y="306"/>
                              </a:lnTo>
                              <a:lnTo>
                                <a:pt x="103" y="297"/>
                              </a:lnTo>
                              <a:lnTo>
                                <a:pt x="100" y="287"/>
                              </a:lnTo>
                              <a:lnTo>
                                <a:pt x="82" y="265"/>
                              </a:lnTo>
                              <a:lnTo>
                                <a:pt x="62" y="246"/>
                              </a:lnTo>
                              <a:lnTo>
                                <a:pt x="41" y="227"/>
                              </a:lnTo>
                              <a:lnTo>
                                <a:pt x="20" y="208"/>
                              </a:lnTo>
                              <a:lnTo>
                                <a:pt x="10" y="212"/>
                              </a:lnTo>
                              <a:lnTo>
                                <a:pt x="7" y="215"/>
                              </a:lnTo>
                              <a:lnTo>
                                <a:pt x="7" y="190"/>
                              </a:lnTo>
                              <a:lnTo>
                                <a:pt x="3" y="167"/>
                              </a:lnTo>
                              <a:lnTo>
                                <a:pt x="0" y="117"/>
                              </a:lnTo>
                              <a:lnTo>
                                <a:pt x="0" y="92"/>
                              </a:lnTo>
                              <a:lnTo>
                                <a:pt x="0" y="70"/>
                              </a:lnTo>
                              <a:lnTo>
                                <a:pt x="3" y="44"/>
                              </a:lnTo>
                              <a:lnTo>
                                <a:pt x="7" y="19"/>
                              </a:lnTo>
                              <a:lnTo>
                                <a:pt x="20" y="0"/>
                              </a:lnTo>
                              <a:lnTo>
                                <a:pt x="44" y="26"/>
                              </a:lnTo>
                              <a:lnTo>
                                <a:pt x="65" y="54"/>
                              </a:lnTo>
                              <a:lnTo>
                                <a:pt x="110" y="111"/>
                              </a:lnTo>
                              <a:lnTo>
                                <a:pt x="131" y="139"/>
                              </a:lnTo>
                              <a:lnTo>
                                <a:pt x="155" y="167"/>
                              </a:lnTo>
                              <a:lnTo>
                                <a:pt x="176" y="196"/>
                              </a:lnTo>
                              <a:lnTo>
                                <a:pt x="200" y="221"/>
                              </a:lnTo>
                              <a:lnTo>
                                <a:pt x="200" y="22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933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9" name=""/>
                        <p:cNvSpPr/>
                        <p:nvPr/>
                      </p:nvSpPr>
                      <p:spPr>
                        <a:xfrm>
                          <a:off x="1193040" y="1604160"/>
                          <a:ext cx="83160" cy="35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52" h="126">
                              <a:moveTo>
                                <a:pt x="225" y="6"/>
                              </a:moveTo>
                              <a:lnTo>
                                <a:pt x="231" y="16"/>
                              </a:lnTo>
                              <a:lnTo>
                                <a:pt x="238" y="19"/>
                              </a:lnTo>
                              <a:lnTo>
                                <a:pt x="245" y="19"/>
                              </a:lnTo>
                              <a:lnTo>
                                <a:pt x="252" y="13"/>
                              </a:lnTo>
                              <a:lnTo>
                                <a:pt x="242" y="38"/>
                              </a:lnTo>
                              <a:lnTo>
                                <a:pt x="235" y="51"/>
                              </a:lnTo>
                              <a:lnTo>
                                <a:pt x="231" y="63"/>
                              </a:lnTo>
                              <a:lnTo>
                                <a:pt x="228" y="79"/>
                              </a:lnTo>
                              <a:lnTo>
                                <a:pt x="228" y="92"/>
                              </a:lnTo>
                              <a:lnTo>
                                <a:pt x="231" y="107"/>
                              </a:lnTo>
                              <a:lnTo>
                                <a:pt x="238" y="120"/>
                              </a:lnTo>
                              <a:lnTo>
                                <a:pt x="221" y="107"/>
                              </a:lnTo>
                              <a:lnTo>
                                <a:pt x="200" y="92"/>
                              </a:lnTo>
                              <a:lnTo>
                                <a:pt x="187" y="85"/>
                              </a:lnTo>
                              <a:lnTo>
                                <a:pt x="176" y="79"/>
                              </a:lnTo>
                              <a:lnTo>
                                <a:pt x="159" y="73"/>
                              </a:lnTo>
                              <a:lnTo>
                                <a:pt x="145" y="73"/>
                              </a:lnTo>
                              <a:lnTo>
                                <a:pt x="124" y="76"/>
                              </a:lnTo>
                              <a:lnTo>
                                <a:pt x="100" y="79"/>
                              </a:lnTo>
                              <a:lnTo>
                                <a:pt x="90" y="82"/>
                              </a:lnTo>
                              <a:lnTo>
                                <a:pt x="83" y="85"/>
                              </a:lnTo>
                              <a:lnTo>
                                <a:pt x="76" y="92"/>
                              </a:lnTo>
                              <a:lnTo>
                                <a:pt x="73" y="98"/>
                              </a:lnTo>
                              <a:lnTo>
                                <a:pt x="66" y="98"/>
                              </a:lnTo>
                              <a:lnTo>
                                <a:pt x="73" y="107"/>
                              </a:lnTo>
                              <a:lnTo>
                                <a:pt x="66" y="120"/>
                              </a:lnTo>
                              <a:lnTo>
                                <a:pt x="59" y="126"/>
                              </a:lnTo>
                              <a:lnTo>
                                <a:pt x="55" y="114"/>
                              </a:lnTo>
                              <a:lnTo>
                                <a:pt x="48" y="107"/>
                              </a:lnTo>
                              <a:lnTo>
                                <a:pt x="31" y="95"/>
                              </a:lnTo>
                              <a:lnTo>
                                <a:pt x="21" y="92"/>
                              </a:lnTo>
                              <a:lnTo>
                                <a:pt x="14" y="85"/>
                              </a:lnTo>
                              <a:lnTo>
                                <a:pt x="7" y="76"/>
                              </a:lnTo>
                              <a:lnTo>
                                <a:pt x="0" y="66"/>
                              </a:lnTo>
                              <a:lnTo>
                                <a:pt x="4" y="47"/>
                              </a:lnTo>
                              <a:lnTo>
                                <a:pt x="10" y="32"/>
                              </a:lnTo>
                              <a:lnTo>
                                <a:pt x="21" y="16"/>
                              </a:lnTo>
                              <a:lnTo>
                                <a:pt x="31" y="0"/>
                              </a:lnTo>
                              <a:lnTo>
                                <a:pt x="55" y="3"/>
                              </a:lnTo>
                              <a:lnTo>
                                <a:pt x="80" y="6"/>
                              </a:lnTo>
                              <a:lnTo>
                                <a:pt x="104" y="10"/>
                              </a:lnTo>
                              <a:lnTo>
                                <a:pt x="128" y="10"/>
                              </a:lnTo>
                              <a:lnTo>
                                <a:pt x="176" y="10"/>
                              </a:lnTo>
                              <a:lnTo>
                                <a:pt x="225" y="6"/>
                              </a:lnTo>
                              <a:lnTo>
                                <a:pt x="225" y="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933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160" bIns="-11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0" name=""/>
                        <p:cNvSpPr/>
                        <p:nvPr/>
                      </p:nvSpPr>
                      <p:spPr>
                        <a:xfrm>
                          <a:off x="1277640" y="1607760"/>
                          <a:ext cx="35280" cy="27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7" h="98">
                              <a:moveTo>
                                <a:pt x="96" y="79"/>
                              </a:moveTo>
                              <a:lnTo>
                                <a:pt x="89" y="88"/>
                              </a:lnTo>
                              <a:lnTo>
                                <a:pt x="76" y="94"/>
                              </a:lnTo>
                              <a:lnTo>
                                <a:pt x="65" y="98"/>
                              </a:lnTo>
                              <a:lnTo>
                                <a:pt x="55" y="98"/>
                              </a:lnTo>
                              <a:lnTo>
                                <a:pt x="31" y="98"/>
                              </a:lnTo>
                              <a:lnTo>
                                <a:pt x="10" y="91"/>
                              </a:lnTo>
                              <a:lnTo>
                                <a:pt x="3" y="85"/>
                              </a:lnTo>
                              <a:lnTo>
                                <a:pt x="3" y="85"/>
                              </a:lnTo>
                              <a:lnTo>
                                <a:pt x="0" y="79"/>
                              </a:lnTo>
                              <a:lnTo>
                                <a:pt x="0" y="72"/>
                              </a:lnTo>
                              <a:lnTo>
                                <a:pt x="0" y="66"/>
                              </a:lnTo>
                              <a:lnTo>
                                <a:pt x="3" y="60"/>
                              </a:lnTo>
                              <a:lnTo>
                                <a:pt x="7" y="69"/>
                              </a:lnTo>
                              <a:lnTo>
                                <a:pt x="17" y="72"/>
                              </a:lnTo>
                              <a:lnTo>
                                <a:pt x="27" y="75"/>
                              </a:lnTo>
                              <a:lnTo>
                                <a:pt x="41" y="72"/>
                              </a:lnTo>
                              <a:lnTo>
                                <a:pt x="55" y="57"/>
                              </a:lnTo>
                              <a:lnTo>
                                <a:pt x="72" y="41"/>
                              </a:lnTo>
                              <a:lnTo>
                                <a:pt x="89" y="22"/>
                              </a:lnTo>
                              <a:lnTo>
                                <a:pt x="93" y="12"/>
                              </a:lnTo>
                              <a:lnTo>
                                <a:pt x="96" y="0"/>
                              </a:lnTo>
                              <a:lnTo>
                                <a:pt x="103" y="12"/>
                              </a:lnTo>
                              <a:lnTo>
                                <a:pt x="107" y="22"/>
                              </a:lnTo>
                              <a:lnTo>
                                <a:pt x="107" y="31"/>
                              </a:lnTo>
                              <a:lnTo>
                                <a:pt x="107" y="44"/>
                              </a:lnTo>
                              <a:lnTo>
                                <a:pt x="103" y="63"/>
                              </a:lnTo>
                              <a:lnTo>
                                <a:pt x="96" y="79"/>
                              </a:lnTo>
                              <a:lnTo>
                                <a:pt x="96" y="7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080" bIns="-19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1" name=""/>
                        <p:cNvSpPr/>
                        <p:nvPr/>
                      </p:nvSpPr>
                      <p:spPr>
                        <a:xfrm>
                          <a:off x="1223640" y="1632240"/>
                          <a:ext cx="51480" cy="92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6" h="325">
                              <a:moveTo>
                                <a:pt x="145" y="60"/>
                              </a:moveTo>
                              <a:lnTo>
                                <a:pt x="152" y="60"/>
                              </a:lnTo>
                              <a:lnTo>
                                <a:pt x="156" y="88"/>
                              </a:lnTo>
                              <a:lnTo>
                                <a:pt x="156" y="120"/>
                              </a:lnTo>
                              <a:lnTo>
                                <a:pt x="152" y="183"/>
                              </a:lnTo>
                              <a:lnTo>
                                <a:pt x="152" y="214"/>
                              </a:lnTo>
                              <a:lnTo>
                                <a:pt x="149" y="246"/>
                              </a:lnTo>
                              <a:lnTo>
                                <a:pt x="152" y="277"/>
                              </a:lnTo>
                              <a:lnTo>
                                <a:pt x="152" y="309"/>
                              </a:lnTo>
                              <a:lnTo>
                                <a:pt x="138" y="315"/>
                              </a:lnTo>
                              <a:lnTo>
                                <a:pt x="125" y="318"/>
                              </a:lnTo>
                              <a:lnTo>
                                <a:pt x="111" y="322"/>
                              </a:lnTo>
                              <a:lnTo>
                                <a:pt x="94" y="325"/>
                              </a:lnTo>
                              <a:lnTo>
                                <a:pt x="80" y="325"/>
                              </a:lnTo>
                              <a:lnTo>
                                <a:pt x="66" y="322"/>
                              </a:lnTo>
                              <a:lnTo>
                                <a:pt x="52" y="318"/>
                              </a:lnTo>
                              <a:lnTo>
                                <a:pt x="38" y="315"/>
                              </a:lnTo>
                              <a:lnTo>
                                <a:pt x="25" y="306"/>
                              </a:lnTo>
                              <a:lnTo>
                                <a:pt x="14" y="299"/>
                              </a:lnTo>
                              <a:lnTo>
                                <a:pt x="4" y="287"/>
                              </a:lnTo>
                              <a:lnTo>
                                <a:pt x="0" y="274"/>
                              </a:lnTo>
                              <a:lnTo>
                                <a:pt x="4" y="208"/>
                              </a:lnTo>
                              <a:lnTo>
                                <a:pt x="4" y="142"/>
                              </a:lnTo>
                              <a:lnTo>
                                <a:pt x="4" y="107"/>
                              </a:lnTo>
                              <a:lnTo>
                                <a:pt x="4" y="76"/>
                              </a:lnTo>
                              <a:lnTo>
                                <a:pt x="4" y="41"/>
                              </a:lnTo>
                              <a:lnTo>
                                <a:pt x="0" y="6"/>
                              </a:lnTo>
                              <a:lnTo>
                                <a:pt x="21" y="3"/>
                              </a:lnTo>
                              <a:lnTo>
                                <a:pt x="42" y="0"/>
                              </a:lnTo>
                              <a:lnTo>
                                <a:pt x="63" y="0"/>
                              </a:lnTo>
                              <a:lnTo>
                                <a:pt x="73" y="3"/>
                              </a:lnTo>
                              <a:lnTo>
                                <a:pt x="80" y="6"/>
                              </a:lnTo>
                              <a:lnTo>
                                <a:pt x="101" y="19"/>
                              </a:lnTo>
                              <a:lnTo>
                                <a:pt x="114" y="31"/>
                              </a:lnTo>
                              <a:lnTo>
                                <a:pt x="145" y="60"/>
                              </a:lnTo>
                              <a:lnTo>
                                <a:pt x="145" y="6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933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360" bIns="45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2" name=""/>
                        <p:cNvSpPr/>
                        <p:nvPr/>
                      </p:nvSpPr>
                      <p:spPr>
                        <a:xfrm>
                          <a:off x="1572480" y="1657080"/>
                          <a:ext cx="5796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6" h="196">
                              <a:moveTo>
                                <a:pt x="124" y="3"/>
                              </a:moveTo>
                              <a:lnTo>
                                <a:pt x="124" y="19"/>
                              </a:lnTo>
                              <a:lnTo>
                                <a:pt x="124" y="19"/>
                              </a:lnTo>
                              <a:lnTo>
                                <a:pt x="124" y="25"/>
                              </a:lnTo>
                              <a:lnTo>
                                <a:pt x="121" y="35"/>
                              </a:lnTo>
                              <a:lnTo>
                                <a:pt x="117" y="57"/>
                              </a:lnTo>
                              <a:lnTo>
                                <a:pt x="114" y="66"/>
                              </a:lnTo>
                              <a:lnTo>
                                <a:pt x="114" y="76"/>
                              </a:lnTo>
                              <a:lnTo>
                                <a:pt x="121" y="82"/>
                              </a:lnTo>
                              <a:lnTo>
                                <a:pt x="131" y="88"/>
                              </a:lnTo>
                              <a:lnTo>
                                <a:pt x="145" y="88"/>
                              </a:lnTo>
                              <a:lnTo>
                                <a:pt x="152" y="95"/>
                              </a:lnTo>
                              <a:lnTo>
                                <a:pt x="159" y="101"/>
                              </a:lnTo>
                              <a:lnTo>
                                <a:pt x="159" y="111"/>
                              </a:lnTo>
                              <a:lnTo>
                                <a:pt x="162" y="129"/>
                              </a:lnTo>
                              <a:lnTo>
                                <a:pt x="165" y="139"/>
                              </a:lnTo>
                              <a:lnTo>
                                <a:pt x="172" y="148"/>
                              </a:lnTo>
                              <a:lnTo>
                                <a:pt x="172" y="155"/>
                              </a:lnTo>
                              <a:lnTo>
                                <a:pt x="172" y="161"/>
                              </a:lnTo>
                              <a:lnTo>
                                <a:pt x="176" y="167"/>
                              </a:lnTo>
                              <a:lnTo>
                                <a:pt x="172" y="174"/>
                              </a:lnTo>
                              <a:lnTo>
                                <a:pt x="114" y="183"/>
                              </a:lnTo>
                              <a:lnTo>
                                <a:pt x="51" y="196"/>
                              </a:lnTo>
                              <a:lnTo>
                                <a:pt x="38" y="174"/>
                              </a:lnTo>
                              <a:lnTo>
                                <a:pt x="27" y="152"/>
                              </a:lnTo>
                              <a:lnTo>
                                <a:pt x="13" y="133"/>
                              </a:lnTo>
                              <a:lnTo>
                                <a:pt x="10" y="123"/>
                              </a:lnTo>
                              <a:lnTo>
                                <a:pt x="0" y="117"/>
                              </a:lnTo>
                              <a:lnTo>
                                <a:pt x="3" y="107"/>
                              </a:lnTo>
                              <a:lnTo>
                                <a:pt x="7" y="101"/>
                              </a:lnTo>
                              <a:lnTo>
                                <a:pt x="17" y="98"/>
                              </a:lnTo>
                              <a:lnTo>
                                <a:pt x="27" y="98"/>
                              </a:lnTo>
                              <a:lnTo>
                                <a:pt x="38" y="95"/>
                              </a:lnTo>
                              <a:lnTo>
                                <a:pt x="41" y="76"/>
                              </a:lnTo>
                              <a:lnTo>
                                <a:pt x="41" y="54"/>
                              </a:lnTo>
                              <a:lnTo>
                                <a:pt x="41" y="35"/>
                              </a:lnTo>
                              <a:lnTo>
                                <a:pt x="38" y="19"/>
                              </a:lnTo>
                              <a:lnTo>
                                <a:pt x="41" y="10"/>
                              </a:lnTo>
                              <a:lnTo>
                                <a:pt x="38" y="3"/>
                              </a:lnTo>
                              <a:lnTo>
                                <a:pt x="58" y="3"/>
                              </a:lnTo>
                              <a:lnTo>
                                <a:pt x="79" y="0"/>
                              </a:lnTo>
                              <a:lnTo>
                                <a:pt x="100" y="0"/>
                              </a:lnTo>
                              <a:lnTo>
                                <a:pt x="107" y="0"/>
                              </a:lnTo>
                              <a:lnTo>
                                <a:pt x="117" y="3"/>
                              </a:lnTo>
                              <a:lnTo>
                                <a:pt x="124" y="3"/>
                              </a:lnTo>
                              <a:lnTo>
                                <a:pt x="124" y="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3" name=""/>
                        <p:cNvSpPr/>
                        <p:nvPr/>
                      </p:nvSpPr>
                      <p:spPr>
                        <a:xfrm>
                          <a:off x="973440" y="1662480"/>
                          <a:ext cx="27360" cy="41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3" h="148">
                              <a:moveTo>
                                <a:pt x="76" y="44"/>
                              </a:moveTo>
                              <a:lnTo>
                                <a:pt x="79" y="54"/>
                              </a:lnTo>
                              <a:lnTo>
                                <a:pt x="83" y="66"/>
                              </a:lnTo>
                              <a:lnTo>
                                <a:pt x="83" y="92"/>
                              </a:lnTo>
                              <a:lnTo>
                                <a:pt x="79" y="114"/>
                              </a:lnTo>
                              <a:lnTo>
                                <a:pt x="76" y="136"/>
                              </a:lnTo>
                              <a:lnTo>
                                <a:pt x="7" y="148"/>
                              </a:lnTo>
                              <a:lnTo>
                                <a:pt x="4" y="129"/>
                              </a:lnTo>
                              <a:lnTo>
                                <a:pt x="0" y="110"/>
                              </a:lnTo>
                              <a:lnTo>
                                <a:pt x="0" y="92"/>
                              </a:lnTo>
                              <a:lnTo>
                                <a:pt x="4" y="69"/>
                              </a:lnTo>
                              <a:lnTo>
                                <a:pt x="7" y="47"/>
                              </a:lnTo>
                              <a:lnTo>
                                <a:pt x="17" y="29"/>
                              </a:lnTo>
                              <a:lnTo>
                                <a:pt x="31" y="13"/>
                              </a:lnTo>
                              <a:lnTo>
                                <a:pt x="38" y="6"/>
                              </a:lnTo>
                              <a:lnTo>
                                <a:pt x="48" y="0"/>
                              </a:lnTo>
                              <a:lnTo>
                                <a:pt x="55" y="10"/>
                              </a:lnTo>
                              <a:lnTo>
                                <a:pt x="69" y="19"/>
                              </a:lnTo>
                              <a:lnTo>
                                <a:pt x="76" y="32"/>
                              </a:lnTo>
                              <a:lnTo>
                                <a:pt x="79" y="38"/>
                              </a:lnTo>
                              <a:lnTo>
                                <a:pt x="76" y="44"/>
                              </a:lnTo>
                              <a:lnTo>
                                <a:pt x="76" y="4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505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040" bIns="-5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4" name=""/>
                        <p:cNvSpPr/>
                        <p:nvPr/>
                      </p:nvSpPr>
                      <p:spPr>
                        <a:xfrm>
                          <a:off x="1371240" y="1690200"/>
                          <a:ext cx="258120" cy="39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80" h="142">
                              <a:moveTo>
                                <a:pt x="618" y="50"/>
                              </a:moveTo>
                              <a:lnTo>
                                <a:pt x="618" y="60"/>
                              </a:lnTo>
                              <a:lnTo>
                                <a:pt x="625" y="69"/>
                              </a:lnTo>
                              <a:lnTo>
                                <a:pt x="632" y="82"/>
                              </a:lnTo>
                              <a:lnTo>
                                <a:pt x="632" y="91"/>
                              </a:lnTo>
                              <a:lnTo>
                                <a:pt x="635" y="98"/>
                              </a:lnTo>
                              <a:lnTo>
                                <a:pt x="642" y="104"/>
                              </a:lnTo>
                              <a:lnTo>
                                <a:pt x="659" y="104"/>
                              </a:lnTo>
                              <a:lnTo>
                                <a:pt x="677" y="101"/>
                              </a:lnTo>
                              <a:lnTo>
                                <a:pt x="687" y="98"/>
                              </a:lnTo>
                              <a:lnTo>
                                <a:pt x="746" y="91"/>
                              </a:lnTo>
                              <a:lnTo>
                                <a:pt x="746" y="85"/>
                              </a:lnTo>
                              <a:lnTo>
                                <a:pt x="749" y="82"/>
                              </a:lnTo>
                              <a:lnTo>
                                <a:pt x="760" y="85"/>
                              </a:lnTo>
                              <a:lnTo>
                                <a:pt x="767" y="98"/>
                              </a:lnTo>
                              <a:lnTo>
                                <a:pt x="773" y="110"/>
                              </a:lnTo>
                              <a:lnTo>
                                <a:pt x="780" y="123"/>
                              </a:lnTo>
                              <a:lnTo>
                                <a:pt x="780" y="135"/>
                              </a:lnTo>
                              <a:lnTo>
                                <a:pt x="566" y="135"/>
                              </a:lnTo>
                              <a:lnTo>
                                <a:pt x="373" y="135"/>
                              </a:lnTo>
                              <a:lnTo>
                                <a:pt x="366" y="142"/>
                              </a:lnTo>
                              <a:lnTo>
                                <a:pt x="366" y="142"/>
                              </a:lnTo>
                              <a:lnTo>
                                <a:pt x="321" y="139"/>
                              </a:lnTo>
                              <a:lnTo>
                                <a:pt x="280" y="135"/>
                              </a:lnTo>
                              <a:lnTo>
                                <a:pt x="235" y="135"/>
                              </a:lnTo>
                              <a:lnTo>
                                <a:pt x="190" y="135"/>
                              </a:lnTo>
                              <a:lnTo>
                                <a:pt x="148" y="135"/>
                              </a:lnTo>
                              <a:lnTo>
                                <a:pt x="103" y="139"/>
                              </a:lnTo>
                              <a:lnTo>
                                <a:pt x="21" y="142"/>
                              </a:lnTo>
                              <a:lnTo>
                                <a:pt x="10" y="113"/>
                              </a:lnTo>
                              <a:lnTo>
                                <a:pt x="7" y="98"/>
                              </a:lnTo>
                              <a:lnTo>
                                <a:pt x="0" y="82"/>
                              </a:lnTo>
                              <a:lnTo>
                                <a:pt x="0" y="66"/>
                              </a:lnTo>
                              <a:lnTo>
                                <a:pt x="0" y="50"/>
                              </a:lnTo>
                              <a:lnTo>
                                <a:pt x="0" y="35"/>
                              </a:lnTo>
                              <a:lnTo>
                                <a:pt x="7" y="19"/>
                              </a:lnTo>
                              <a:lnTo>
                                <a:pt x="83" y="12"/>
                              </a:lnTo>
                              <a:lnTo>
                                <a:pt x="124" y="9"/>
                              </a:lnTo>
                              <a:lnTo>
                                <a:pt x="162" y="6"/>
                              </a:lnTo>
                              <a:lnTo>
                                <a:pt x="204" y="6"/>
                              </a:lnTo>
                              <a:lnTo>
                                <a:pt x="242" y="3"/>
                              </a:lnTo>
                              <a:lnTo>
                                <a:pt x="283" y="3"/>
                              </a:lnTo>
                              <a:lnTo>
                                <a:pt x="321" y="6"/>
                              </a:lnTo>
                              <a:lnTo>
                                <a:pt x="328" y="25"/>
                              </a:lnTo>
                              <a:lnTo>
                                <a:pt x="331" y="47"/>
                              </a:lnTo>
                              <a:lnTo>
                                <a:pt x="335" y="66"/>
                              </a:lnTo>
                              <a:lnTo>
                                <a:pt x="345" y="85"/>
                              </a:lnTo>
                              <a:lnTo>
                                <a:pt x="345" y="98"/>
                              </a:lnTo>
                              <a:lnTo>
                                <a:pt x="349" y="110"/>
                              </a:lnTo>
                              <a:lnTo>
                                <a:pt x="356" y="123"/>
                              </a:lnTo>
                              <a:lnTo>
                                <a:pt x="366" y="129"/>
                              </a:lnTo>
                              <a:lnTo>
                                <a:pt x="373" y="126"/>
                              </a:lnTo>
                              <a:lnTo>
                                <a:pt x="380" y="123"/>
                              </a:lnTo>
                              <a:lnTo>
                                <a:pt x="380" y="113"/>
                              </a:lnTo>
                              <a:lnTo>
                                <a:pt x="380" y="107"/>
                              </a:lnTo>
                              <a:lnTo>
                                <a:pt x="373" y="91"/>
                              </a:lnTo>
                              <a:lnTo>
                                <a:pt x="366" y="79"/>
                              </a:lnTo>
                              <a:lnTo>
                                <a:pt x="366" y="72"/>
                              </a:lnTo>
                              <a:lnTo>
                                <a:pt x="366" y="63"/>
                              </a:lnTo>
                              <a:lnTo>
                                <a:pt x="359" y="50"/>
                              </a:lnTo>
                              <a:lnTo>
                                <a:pt x="352" y="35"/>
                              </a:lnTo>
                              <a:lnTo>
                                <a:pt x="352" y="6"/>
                              </a:lnTo>
                              <a:lnTo>
                                <a:pt x="380" y="3"/>
                              </a:lnTo>
                              <a:lnTo>
                                <a:pt x="407" y="3"/>
                              </a:lnTo>
                              <a:lnTo>
                                <a:pt x="463" y="3"/>
                              </a:lnTo>
                              <a:lnTo>
                                <a:pt x="490" y="6"/>
                              </a:lnTo>
                              <a:lnTo>
                                <a:pt x="514" y="3"/>
                              </a:lnTo>
                              <a:lnTo>
                                <a:pt x="542" y="3"/>
                              </a:lnTo>
                              <a:lnTo>
                                <a:pt x="566" y="0"/>
                              </a:lnTo>
                              <a:lnTo>
                                <a:pt x="577" y="0"/>
                              </a:lnTo>
                              <a:lnTo>
                                <a:pt x="583" y="3"/>
                              </a:lnTo>
                              <a:lnTo>
                                <a:pt x="597" y="19"/>
                              </a:lnTo>
                              <a:lnTo>
                                <a:pt x="608" y="35"/>
                              </a:lnTo>
                              <a:lnTo>
                                <a:pt x="618" y="50"/>
                              </a:lnTo>
                              <a:lnTo>
                                <a:pt x="618" y="5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505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6840" bIns="-68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5" name=""/>
                        <p:cNvSpPr/>
                        <p:nvPr/>
                      </p:nvSpPr>
                      <p:spPr>
                        <a:xfrm>
                          <a:off x="1193040" y="1688400"/>
                          <a:ext cx="120960" cy="64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66" h="227">
                              <a:moveTo>
                                <a:pt x="332" y="31"/>
                              </a:moveTo>
                              <a:lnTo>
                                <a:pt x="335" y="37"/>
                              </a:lnTo>
                              <a:lnTo>
                                <a:pt x="335" y="41"/>
                              </a:lnTo>
                              <a:lnTo>
                                <a:pt x="339" y="44"/>
                              </a:lnTo>
                              <a:lnTo>
                                <a:pt x="345" y="91"/>
                              </a:lnTo>
                              <a:lnTo>
                                <a:pt x="349" y="135"/>
                              </a:lnTo>
                              <a:lnTo>
                                <a:pt x="359" y="176"/>
                              </a:lnTo>
                              <a:lnTo>
                                <a:pt x="366" y="220"/>
                              </a:lnTo>
                              <a:lnTo>
                                <a:pt x="318" y="223"/>
                              </a:lnTo>
                              <a:lnTo>
                                <a:pt x="266" y="227"/>
                              </a:lnTo>
                              <a:lnTo>
                                <a:pt x="214" y="223"/>
                              </a:lnTo>
                              <a:lnTo>
                                <a:pt x="187" y="223"/>
                              </a:lnTo>
                              <a:lnTo>
                                <a:pt x="159" y="220"/>
                              </a:lnTo>
                              <a:lnTo>
                                <a:pt x="138" y="217"/>
                              </a:lnTo>
                              <a:lnTo>
                                <a:pt x="118" y="217"/>
                              </a:lnTo>
                              <a:lnTo>
                                <a:pt x="93" y="217"/>
                              </a:lnTo>
                              <a:lnTo>
                                <a:pt x="73" y="214"/>
                              </a:lnTo>
                              <a:lnTo>
                                <a:pt x="73" y="208"/>
                              </a:lnTo>
                              <a:lnTo>
                                <a:pt x="76" y="198"/>
                              </a:lnTo>
                              <a:lnTo>
                                <a:pt x="90" y="186"/>
                              </a:lnTo>
                              <a:lnTo>
                                <a:pt x="97" y="176"/>
                              </a:lnTo>
                              <a:lnTo>
                                <a:pt x="100" y="170"/>
                              </a:lnTo>
                              <a:lnTo>
                                <a:pt x="97" y="164"/>
                              </a:lnTo>
                              <a:lnTo>
                                <a:pt x="86" y="154"/>
                              </a:lnTo>
                              <a:lnTo>
                                <a:pt x="76" y="157"/>
                              </a:lnTo>
                              <a:lnTo>
                                <a:pt x="66" y="160"/>
                              </a:lnTo>
                              <a:lnTo>
                                <a:pt x="59" y="164"/>
                              </a:lnTo>
                              <a:lnTo>
                                <a:pt x="52" y="176"/>
                              </a:lnTo>
                              <a:lnTo>
                                <a:pt x="52" y="189"/>
                              </a:lnTo>
                              <a:lnTo>
                                <a:pt x="55" y="195"/>
                              </a:lnTo>
                              <a:lnTo>
                                <a:pt x="59" y="201"/>
                              </a:lnTo>
                              <a:lnTo>
                                <a:pt x="66" y="201"/>
                              </a:lnTo>
                              <a:lnTo>
                                <a:pt x="66" y="208"/>
                              </a:lnTo>
                              <a:lnTo>
                                <a:pt x="52" y="208"/>
                              </a:lnTo>
                              <a:lnTo>
                                <a:pt x="42" y="189"/>
                              </a:lnTo>
                              <a:lnTo>
                                <a:pt x="35" y="167"/>
                              </a:lnTo>
                              <a:lnTo>
                                <a:pt x="28" y="145"/>
                              </a:lnTo>
                              <a:lnTo>
                                <a:pt x="21" y="123"/>
                              </a:lnTo>
                              <a:lnTo>
                                <a:pt x="10" y="75"/>
                              </a:lnTo>
                              <a:lnTo>
                                <a:pt x="0" y="31"/>
                              </a:lnTo>
                              <a:lnTo>
                                <a:pt x="31" y="31"/>
                              </a:lnTo>
                              <a:lnTo>
                                <a:pt x="45" y="34"/>
                              </a:lnTo>
                              <a:lnTo>
                                <a:pt x="59" y="37"/>
                              </a:lnTo>
                              <a:lnTo>
                                <a:pt x="59" y="31"/>
                              </a:lnTo>
                              <a:lnTo>
                                <a:pt x="66" y="31"/>
                              </a:lnTo>
                              <a:lnTo>
                                <a:pt x="69" y="53"/>
                              </a:lnTo>
                              <a:lnTo>
                                <a:pt x="66" y="75"/>
                              </a:lnTo>
                              <a:lnTo>
                                <a:pt x="66" y="88"/>
                              </a:lnTo>
                              <a:lnTo>
                                <a:pt x="69" y="97"/>
                              </a:lnTo>
                              <a:lnTo>
                                <a:pt x="76" y="107"/>
                              </a:lnTo>
                              <a:lnTo>
                                <a:pt x="86" y="116"/>
                              </a:lnTo>
                              <a:lnTo>
                                <a:pt x="100" y="129"/>
                              </a:lnTo>
                              <a:lnTo>
                                <a:pt x="114" y="138"/>
                              </a:lnTo>
                              <a:lnTo>
                                <a:pt x="131" y="145"/>
                              </a:lnTo>
                              <a:lnTo>
                                <a:pt x="149" y="151"/>
                              </a:lnTo>
                              <a:lnTo>
                                <a:pt x="166" y="151"/>
                              </a:lnTo>
                              <a:lnTo>
                                <a:pt x="187" y="151"/>
                              </a:lnTo>
                              <a:lnTo>
                                <a:pt x="204" y="151"/>
                              </a:lnTo>
                              <a:lnTo>
                                <a:pt x="225" y="148"/>
                              </a:lnTo>
                              <a:lnTo>
                                <a:pt x="242" y="141"/>
                              </a:lnTo>
                              <a:lnTo>
                                <a:pt x="252" y="132"/>
                              </a:lnTo>
                              <a:lnTo>
                                <a:pt x="263" y="119"/>
                              </a:lnTo>
                              <a:lnTo>
                                <a:pt x="273" y="110"/>
                              </a:lnTo>
                              <a:lnTo>
                                <a:pt x="276" y="97"/>
                              </a:lnTo>
                              <a:lnTo>
                                <a:pt x="280" y="91"/>
                              </a:lnTo>
                              <a:lnTo>
                                <a:pt x="287" y="91"/>
                              </a:lnTo>
                              <a:lnTo>
                                <a:pt x="283" y="66"/>
                              </a:lnTo>
                              <a:lnTo>
                                <a:pt x="283" y="44"/>
                              </a:lnTo>
                              <a:lnTo>
                                <a:pt x="280" y="6"/>
                              </a:lnTo>
                              <a:lnTo>
                                <a:pt x="294" y="3"/>
                              </a:lnTo>
                              <a:lnTo>
                                <a:pt x="304" y="3"/>
                              </a:lnTo>
                              <a:lnTo>
                                <a:pt x="314" y="3"/>
                              </a:lnTo>
                              <a:lnTo>
                                <a:pt x="325" y="0"/>
                              </a:lnTo>
                              <a:lnTo>
                                <a:pt x="332" y="31"/>
                              </a:lnTo>
                              <a:lnTo>
                                <a:pt x="332" y="3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640" bIns="17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6" name=""/>
                        <p:cNvSpPr/>
                        <p:nvPr/>
                      </p:nvSpPr>
                      <p:spPr>
                        <a:xfrm>
                          <a:off x="1309320" y="1693800"/>
                          <a:ext cx="57240" cy="3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3" h="136">
                              <a:moveTo>
                                <a:pt x="166" y="7"/>
                              </a:moveTo>
                              <a:lnTo>
                                <a:pt x="163" y="23"/>
                              </a:lnTo>
                              <a:lnTo>
                                <a:pt x="163" y="38"/>
                              </a:lnTo>
                              <a:lnTo>
                                <a:pt x="163" y="70"/>
                              </a:lnTo>
                              <a:lnTo>
                                <a:pt x="166" y="101"/>
                              </a:lnTo>
                              <a:lnTo>
                                <a:pt x="173" y="130"/>
                              </a:lnTo>
                              <a:lnTo>
                                <a:pt x="138" y="133"/>
                              </a:lnTo>
                              <a:lnTo>
                                <a:pt x="104" y="133"/>
                              </a:lnTo>
                              <a:lnTo>
                                <a:pt x="66" y="133"/>
                              </a:lnTo>
                              <a:lnTo>
                                <a:pt x="49" y="136"/>
                              </a:lnTo>
                              <a:lnTo>
                                <a:pt x="28" y="136"/>
                              </a:lnTo>
                              <a:lnTo>
                                <a:pt x="21" y="105"/>
                              </a:lnTo>
                              <a:lnTo>
                                <a:pt x="14" y="70"/>
                              </a:lnTo>
                              <a:lnTo>
                                <a:pt x="11" y="35"/>
                              </a:lnTo>
                              <a:lnTo>
                                <a:pt x="7" y="16"/>
                              </a:lnTo>
                              <a:lnTo>
                                <a:pt x="0" y="0"/>
                              </a:lnTo>
                              <a:lnTo>
                                <a:pt x="25" y="4"/>
                              </a:lnTo>
                              <a:lnTo>
                                <a:pt x="38" y="7"/>
                              </a:lnTo>
                              <a:lnTo>
                                <a:pt x="52" y="7"/>
                              </a:lnTo>
                              <a:lnTo>
                                <a:pt x="166" y="7"/>
                              </a:lnTo>
                              <a:lnTo>
                                <a:pt x="166" y="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505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8280" bIns="-8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7" name=""/>
                        <p:cNvSpPr/>
                        <p:nvPr/>
                      </p:nvSpPr>
                      <p:spPr>
                        <a:xfrm>
                          <a:off x="1110600" y="1697400"/>
                          <a:ext cx="82080" cy="36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9" h="129">
                              <a:moveTo>
                                <a:pt x="235" y="32"/>
                              </a:moveTo>
                              <a:lnTo>
                                <a:pt x="239" y="57"/>
                              </a:lnTo>
                              <a:lnTo>
                                <a:pt x="242" y="79"/>
                              </a:lnTo>
                              <a:lnTo>
                                <a:pt x="249" y="98"/>
                              </a:lnTo>
                              <a:lnTo>
                                <a:pt x="249" y="117"/>
                              </a:lnTo>
                              <a:lnTo>
                                <a:pt x="211" y="123"/>
                              </a:lnTo>
                              <a:lnTo>
                                <a:pt x="173" y="123"/>
                              </a:lnTo>
                              <a:lnTo>
                                <a:pt x="132" y="126"/>
                              </a:lnTo>
                              <a:lnTo>
                                <a:pt x="94" y="129"/>
                              </a:lnTo>
                              <a:lnTo>
                                <a:pt x="0" y="19"/>
                              </a:lnTo>
                              <a:lnTo>
                                <a:pt x="11" y="16"/>
                              </a:lnTo>
                              <a:lnTo>
                                <a:pt x="35" y="10"/>
                              </a:lnTo>
                              <a:lnTo>
                                <a:pt x="66" y="6"/>
                              </a:lnTo>
                              <a:lnTo>
                                <a:pt x="101" y="6"/>
                              </a:lnTo>
                              <a:lnTo>
                                <a:pt x="139" y="3"/>
                              </a:lnTo>
                              <a:lnTo>
                                <a:pt x="173" y="0"/>
                              </a:lnTo>
                              <a:lnTo>
                                <a:pt x="228" y="0"/>
                              </a:lnTo>
                              <a:lnTo>
                                <a:pt x="235" y="32"/>
                              </a:lnTo>
                              <a:lnTo>
                                <a:pt x="235" y="3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505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440" bIns="-10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8" name=""/>
                        <p:cNvSpPr/>
                        <p:nvPr/>
                      </p:nvSpPr>
                      <p:spPr>
                        <a:xfrm>
                          <a:off x="927720" y="1702800"/>
                          <a:ext cx="111600" cy="16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8" h="60">
                              <a:moveTo>
                                <a:pt x="287" y="0"/>
                              </a:moveTo>
                              <a:lnTo>
                                <a:pt x="297" y="13"/>
                              </a:lnTo>
                              <a:lnTo>
                                <a:pt x="311" y="32"/>
                              </a:lnTo>
                              <a:lnTo>
                                <a:pt x="328" y="47"/>
                              </a:lnTo>
                              <a:lnTo>
                                <a:pt x="338" y="60"/>
                              </a:lnTo>
                              <a:lnTo>
                                <a:pt x="0" y="60"/>
                              </a:lnTo>
                              <a:lnTo>
                                <a:pt x="66" y="19"/>
                              </a:lnTo>
                              <a:lnTo>
                                <a:pt x="114" y="19"/>
                              </a:lnTo>
                              <a:lnTo>
                                <a:pt x="124" y="25"/>
                              </a:lnTo>
                              <a:lnTo>
                                <a:pt x="138" y="32"/>
                              </a:lnTo>
                              <a:lnTo>
                                <a:pt x="155" y="32"/>
                              </a:lnTo>
                              <a:lnTo>
                                <a:pt x="173" y="35"/>
                              </a:lnTo>
                              <a:lnTo>
                                <a:pt x="207" y="35"/>
                              </a:lnTo>
                              <a:lnTo>
                                <a:pt x="221" y="35"/>
                              </a:lnTo>
                              <a:lnTo>
                                <a:pt x="242" y="25"/>
                              </a:lnTo>
                              <a:lnTo>
                                <a:pt x="252" y="16"/>
                              </a:lnTo>
                              <a:lnTo>
                                <a:pt x="259" y="6"/>
                              </a:lnTo>
                              <a:lnTo>
                                <a:pt x="266" y="16"/>
                              </a:lnTo>
                              <a:lnTo>
                                <a:pt x="273" y="13"/>
                              </a:lnTo>
                              <a:lnTo>
                                <a:pt x="280" y="3"/>
                              </a:lnTo>
                              <a:lnTo>
                                <a:pt x="287" y="0"/>
                              </a:lnTo>
                              <a:lnTo>
                                <a:pt x="28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880" bIns="-29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9" name=""/>
                        <p:cNvSpPr/>
                        <p:nvPr/>
                      </p:nvSpPr>
                      <p:spPr>
                        <a:xfrm>
                          <a:off x="1551600" y="1734120"/>
                          <a:ext cx="104040" cy="42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5" h="149">
                              <a:moveTo>
                                <a:pt x="249" y="10"/>
                              </a:moveTo>
                              <a:lnTo>
                                <a:pt x="273" y="41"/>
                              </a:lnTo>
                              <a:lnTo>
                                <a:pt x="266" y="41"/>
                              </a:lnTo>
                              <a:lnTo>
                                <a:pt x="280" y="67"/>
                              </a:lnTo>
                              <a:lnTo>
                                <a:pt x="294" y="92"/>
                              </a:lnTo>
                              <a:lnTo>
                                <a:pt x="304" y="117"/>
                              </a:lnTo>
                              <a:lnTo>
                                <a:pt x="315" y="145"/>
                              </a:lnTo>
                              <a:lnTo>
                                <a:pt x="253" y="145"/>
                              </a:lnTo>
                              <a:lnTo>
                                <a:pt x="190" y="149"/>
                              </a:lnTo>
                              <a:lnTo>
                                <a:pt x="156" y="149"/>
                              </a:lnTo>
                              <a:lnTo>
                                <a:pt x="125" y="145"/>
                              </a:lnTo>
                              <a:lnTo>
                                <a:pt x="94" y="142"/>
                              </a:lnTo>
                              <a:lnTo>
                                <a:pt x="63" y="139"/>
                              </a:lnTo>
                              <a:lnTo>
                                <a:pt x="59" y="145"/>
                              </a:lnTo>
                              <a:lnTo>
                                <a:pt x="52" y="145"/>
                              </a:lnTo>
                              <a:lnTo>
                                <a:pt x="45" y="142"/>
                              </a:lnTo>
                              <a:lnTo>
                                <a:pt x="35" y="139"/>
                              </a:lnTo>
                              <a:lnTo>
                                <a:pt x="45" y="136"/>
                              </a:lnTo>
                              <a:lnTo>
                                <a:pt x="49" y="127"/>
                              </a:lnTo>
                              <a:lnTo>
                                <a:pt x="38" y="111"/>
                              </a:lnTo>
                              <a:lnTo>
                                <a:pt x="28" y="95"/>
                              </a:lnTo>
                              <a:lnTo>
                                <a:pt x="21" y="76"/>
                              </a:lnTo>
                              <a:lnTo>
                                <a:pt x="14" y="60"/>
                              </a:lnTo>
                              <a:lnTo>
                                <a:pt x="11" y="51"/>
                              </a:lnTo>
                              <a:lnTo>
                                <a:pt x="7" y="45"/>
                              </a:lnTo>
                              <a:lnTo>
                                <a:pt x="7" y="35"/>
                              </a:lnTo>
                              <a:lnTo>
                                <a:pt x="0" y="22"/>
                              </a:lnTo>
                              <a:lnTo>
                                <a:pt x="0" y="10"/>
                              </a:lnTo>
                              <a:lnTo>
                                <a:pt x="38" y="7"/>
                              </a:lnTo>
                              <a:lnTo>
                                <a:pt x="76" y="7"/>
                              </a:lnTo>
                              <a:lnTo>
                                <a:pt x="114" y="4"/>
                              </a:lnTo>
                              <a:lnTo>
                                <a:pt x="135" y="4"/>
                              </a:lnTo>
                              <a:lnTo>
                                <a:pt x="156" y="0"/>
                              </a:lnTo>
                              <a:lnTo>
                                <a:pt x="180" y="7"/>
                              </a:lnTo>
                              <a:lnTo>
                                <a:pt x="204" y="7"/>
                              </a:lnTo>
                              <a:lnTo>
                                <a:pt x="249" y="10"/>
                              </a:lnTo>
                              <a:lnTo>
                                <a:pt x="249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505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" bIns="-4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0" name=""/>
                        <p:cNvSpPr/>
                        <p:nvPr/>
                      </p:nvSpPr>
                      <p:spPr>
                        <a:xfrm>
                          <a:off x="1442160" y="1737000"/>
                          <a:ext cx="118440" cy="38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59" h="135">
                              <a:moveTo>
                                <a:pt x="325" y="57"/>
                              </a:moveTo>
                              <a:lnTo>
                                <a:pt x="325" y="66"/>
                              </a:lnTo>
                              <a:lnTo>
                                <a:pt x="328" y="76"/>
                              </a:lnTo>
                              <a:lnTo>
                                <a:pt x="331" y="82"/>
                              </a:lnTo>
                              <a:lnTo>
                                <a:pt x="338" y="85"/>
                              </a:lnTo>
                              <a:lnTo>
                                <a:pt x="338" y="98"/>
                              </a:lnTo>
                              <a:lnTo>
                                <a:pt x="342" y="110"/>
                              </a:lnTo>
                              <a:lnTo>
                                <a:pt x="349" y="123"/>
                              </a:lnTo>
                              <a:lnTo>
                                <a:pt x="359" y="129"/>
                              </a:lnTo>
                              <a:lnTo>
                                <a:pt x="318" y="129"/>
                              </a:lnTo>
                              <a:lnTo>
                                <a:pt x="273" y="126"/>
                              </a:lnTo>
                              <a:lnTo>
                                <a:pt x="235" y="126"/>
                              </a:lnTo>
                              <a:lnTo>
                                <a:pt x="214" y="126"/>
                              </a:lnTo>
                              <a:lnTo>
                                <a:pt x="193" y="129"/>
                              </a:lnTo>
                              <a:lnTo>
                                <a:pt x="186" y="129"/>
                              </a:lnTo>
                              <a:lnTo>
                                <a:pt x="155" y="129"/>
                              </a:lnTo>
                              <a:lnTo>
                                <a:pt x="142" y="132"/>
                              </a:lnTo>
                              <a:lnTo>
                                <a:pt x="131" y="135"/>
                              </a:lnTo>
                              <a:lnTo>
                                <a:pt x="124" y="129"/>
                              </a:lnTo>
                              <a:lnTo>
                                <a:pt x="97" y="129"/>
                              </a:lnTo>
                              <a:lnTo>
                                <a:pt x="72" y="132"/>
                              </a:lnTo>
                              <a:lnTo>
                                <a:pt x="52" y="132"/>
                              </a:lnTo>
                              <a:lnTo>
                                <a:pt x="31" y="129"/>
                              </a:lnTo>
                              <a:lnTo>
                                <a:pt x="28" y="113"/>
                              </a:lnTo>
                              <a:lnTo>
                                <a:pt x="24" y="94"/>
                              </a:lnTo>
                              <a:lnTo>
                                <a:pt x="14" y="63"/>
                              </a:lnTo>
                              <a:lnTo>
                                <a:pt x="7" y="47"/>
                              </a:lnTo>
                              <a:lnTo>
                                <a:pt x="3" y="31"/>
                              </a:lnTo>
                              <a:lnTo>
                                <a:pt x="0" y="16"/>
                              </a:lnTo>
                              <a:lnTo>
                                <a:pt x="0" y="0"/>
                              </a:lnTo>
                              <a:lnTo>
                                <a:pt x="55" y="0"/>
                              </a:lnTo>
                              <a:lnTo>
                                <a:pt x="114" y="0"/>
                              </a:lnTo>
                              <a:lnTo>
                                <a:pt x="142" y="0"/>
                              </a:lnTo>
                              <a:lnTo>
                                <a:pt x="169" y="0"/>
                              </a:lnTo>
                              <a:lnTo>
                                <a:pt x="197" y="0"/>
                              </a:lnTo>
                              <a:lnTo>
                                <a:pt x="224" y="0"/>
                              </a:lnTo>
                              <a:lnTo>
                                <a:pt x="304" y="0"/>
                              </a:lnTo>
                              <a:lnTo>
                                <a:pt x="325" y="57"/>
                              </a:lnTo>
                              <a:lnTo>
                                <a:pt x="325" y="5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505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8640" bIns="-8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1" name=""/>
                        <p:cNvSpPr/>
                        <p:nvPr/>
                      </p:nvSpPr>
                      <p:spPr>
                        <a:xfrm>
                          <a:off x="749520" y="1711800"/>
                          <a:ext cx="7920" cy="6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" h="25">
                              <a:moveTo>
                                <a:pt x="24" y="9"/>
                              </a:moveTo>
                              <a:lnTo>
                                <a:pt x="21" y="18"/>
                              </a:lnTo>
                              <a:lnTo>
                                <a:pt x="14" y="25"/>
                              </a:lnTo>
                              <a:lnTo>
                                <a:pt x="7" y="25"/>
                              </a:lnTo>
                              <a:lnTo>
                                <a:pt x="0" y="22"/>
                              </a:lnTo>
                              <a:lnTo>
                                <a:pt x="4" y="9"/>
                              </a:lnTo>
                              <a:lnTo>
                                <a:pt x="4" y="3"/>
                              </a:lnTo>
                              <a:lnTo>
                                <a:pt x="7" y="3"/>
                              </a:lnTo>
                              <a:lnTo>
                                <a:pt x="17" y="0"/>
                              </a:lnTo>
                              <a:lnTo>
                                <a:pt x="21" y="3"/>
                              </a:lnTo>
                              <a:lnTo>
                                <a:pt x="24" y="9"/>
                              </a:lnTo>
                              <a:lnTo>
                                <a:pt x="24" y="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960" bIns="-39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2" name=""/>
                        <p:cNvSpPr/>
                        <p:nvPr/>
                      </p:nvSpPr>
                      <p:spPr>
                        <a:xfrm>
                          <a:off x="759960" y="1712520"/>
                          <a:ext cx="6840" cy="6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25">
                              <a:moveTo>
                                <a:pt x="21" y="12"/>
                              </a:moveTo>
                              <a:lnTo>
                                <a:pt x="21" y="22"/>
                              </a:lnTo>
                              <a:lnTo>
                                <a:pt x="14" y="25"/>
                              </a:lnTo>
                              <a:lnTo>
                                <a:pt x="4" y="25"/>
                              </a:lnTo>
                              <a:lnTo>
                                <a:pt x="0" y="22"/>
                              </a:lnTo>
                              <a:lnTo>
                                <a:pt x="0" y="12"/>
                              </a:lnTo>
                              <a:lnTo>
                                <a:pt x="4" y="3"/>
                              </a:lnTo>
                              <a:lnTo>
                                <a:pt x="11" y="0"/>
                              </a:lnTo>
                              <a:lnTo>
                                <a:pt x="18" y="3"/>
                              </a:lnTo>
                              <a:lnTo>
                                <a:pt x="21" y="12"/>
                              </a:lnTo>
                              <a:lnTo>
                                <a:pt x="21" y="1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960" bIns="-39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3" name=""/>
                        <p:cNvSpPr/>
                        <p:nvPr/>
                      </p:nvSpPr>
                      <p:spPr>
                        <a:xfrm>
                          <a:off x="1342800" y="1734120"/>
                          <a:ext cx="9684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3" h="152">
                              <a:moveTo>
                                <a:pt x="272" y="10"/>
                              </a:moveTo>
                              <a:lnTo>
                                <a:pt x="272" y="26"/>
                              </a:lnTo>
                              <a:lnTo>
                                <a:pt x="276" y="41"/>
                              </a:lnTo>
                              <a:lnTo>
                                <a:pt x="283" y="73"/>
                              </a:lnTo>
                              <a:lnTo>
                                <a:pt x="290" y="104"/>
                              </a:lnTo>
                              <a:lnTo>
                                <a:pt x="293" y="123"/>
                              </a:lnTo>
                              <a:lnTo>
                                <a:pt x="293" y="139"/>
                              </a:lnTo>
                              <a:lnTo>
                                <a:pt x="286" y="142"/>
                              </a:lnTo>
                              <a:lnTo>
                                <a:pt x="279" y="145"/>
                              </a:lnTo>
                              <a:lnTo>
                                <a:pt x="262" y="145"/>
                              </a:lnTo>
                              <a:lnTo>
                                <a:pt x="241" y="145"/>
                              </a:lnTo>
                              <a:lnTo>
                                <a:pt x="224" y="145"/>
                              </a:lnTo>
                              <a:lnTo>
                                <a:pt x="214" y="145"/>
                              </a:lnTo>
                              <a:lnTo>
                                <a:pt x="189" y="145"/>
                              </a:lnTo>
                              <a:lnTo>
                                <a:pt x="169" y="145"/>
                              </a:lnTo>
                              <a:lnTo>
                                <a:pt x="148" y="145"/>
                              </a:lnTo>
                              <a:lnTo>
                                <a:pt x="134" y="149"/>
                              </a:lnTo>
                              <a:lnTo>
                                <a:pt x="120" y="152"/>
                              </a:lnTo>
                              <a:lnTo>
                                <a:pt x="110" y="149"/>
                              </a:lnTo>
                              <a:lnTo>
                                <a:pt x="100" y="145"/>
                              </a:lnTo>
                              <a:lnTo>
                                <a:pt x="79" y="145"/>
                              </a:lnTo>
                              <a:lnTo>
                                <a:pt x="58" y="149"/>
                              </a:lnTo>
                              <a:lnTo>
                                <a:pt x="37" y="145"/>
                              </a:lnTo>
                              <a:lnTo>
                                <a:pt x="27" y="133"/>
                              </a:lnTo>
                              <a:lnTo>
                                <a:pt x="24" y="120"/>
                              </a:lnTo>
                              <a:lnTo>
                                <a:pt x="13" y="89"/>
                              </a:lnTo>
                              <a:lnTo>
                                <a:pt x="6" y="57"/>
                              </a:lnTo>
                              <a:lnTo>
                                <a:pt x="0" y="22"/>
                              </a:lnTo>
                              <a:lnTo>
                                <a:pt x="13" y="19"/>
                              </a:lnTo>
                              <a:lnTo>
                                <a:pt x="27" y="16"/>
                              </a:lnTo>
                              <a:lnTo>
                                <a:pt x="44" y="16"/>
                              </a:lnTo>
                              <a:lnTo>
                                <a:pt x="58" y="10"/>
                              </a:lnTo>
                              <a:lnTo>
                                <a:pt x="75" y="7"/>
                              </a:lnTo>
                              <a:lnTo>
                                <a:pt x="93" y="10"/>
                              </a:lnTo>
                              <a:lnTo>
                                <a:pt x="113" y="13"/>
                              </a:lnTo>
                              <a:lnTo>
                                <a:pt x="120" y="13"/>
                              </a:lnTo>
                              <a:lnTo>
                                <a:pt x="131" y="10"/>
                              </a:lnTo>
                              <a:lnTo>
                                <a:pt x="134" y="10"/>
                              </a:lnTo>
                              <a:lnTo>
                                <a:pt x="138" y="10"/>
                              </a:lnTo>
                              <a:lnTo>
                                <a:pt x="151" y="10"/>
                              </a:lnTo>
                              <a:lnTo>
                                <a:pt x="169" y="10"/>
                              </a:lnTo>
                              <a:lnTo>
                                <a:pt x="203" y="7"/>
                              </a:lnTo>
                              <a:lnTo>
                                <a:pt x="238" y="4"/>
                              </a:lnTo>
                              <a:lnTo>
                                <a:pt x="272" y="0"/>
                              </a:lnTo>
                              <a:lnTo>
                                <a:pt x="272" y="10"/>
                              </a:lnTo>
                              <a:lnTo>
                                <a:pt x="272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505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4" name=""/>
                        <p:cNvSpPr/>
                        <p:nvPr/>
                      </p:nvSpPr>
                      <p:spPr>
                        <a:xfrm>
                          <a:off x="897120" y="1725840"/>
                          <a:ext cx="163440" cy="17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4" h="63">
                              <a:moveTo>
                                <a:pt x="459" y="3"/>
                              </a:moveTo>
                              <a:lnTo>
                                <a:pt x="494" y="50"/>
                              </a:lnTo>
                              <a:lnTo>
                                <a:pt x="411" y="50"/>
                              </a:lnTo>
                              <a:lnTo>
                                <a:pt x="245" y="57"/>
                              </a:lnTo>
                              <a:lnTo>
                                <a:pt x="79" y="60"/>
                              </a:lnTo>
                              <a:lnTo>
                                <a:pt x="0" y="63"/>
                              </a:lnTo>
                              <a:lnTo>
                                <a:pt x="13" y="44"/>
                              </a:lnTo>
                              <a:lnTo>
                                <a:pt x="31" y="32"/>
                              </a:lnTo>
                              <a:lnTo>
                                <a:pt x="45" y="19"/>
                              </a:lnTo>
                              <a:lnTo>
                                <a:pt x="65" y="3"/>
                              </a:lnTo>
                              <a:lnTo>
                                <a:pt x="172" y="3"/>
                              </a:lnTo>
                              <a:lnTo>
                                <a:pt x="297" y="0"/>
                              </a:lnTo>
                              <a:lnTo>
                                <a:pt x="355" y="0"/>
                              </a:lnTo>
                              <a:lnTo>
                                <a:pt x="404" y="0"/>
                              </a:lnTo>
                              <a:lnTo>
                                <a:pt x="442" y="3"/>
                              </a:lnTo>
                              <a:lnTo>
                                <a:pt x="459" y="3"/>
                              </a:lnTo>
                              <a:lnTo>
                                <a:pt x="459" y="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5" name=""/>
                        <p:cNvSpPr/>
                        <p:nvPr/>
                      </p:nvSpPr>
                      <p:spPr>
                        <a:xfrm>
                          <a:off x="1296000" y="1737000"/>
                          <a:ext cx="13320" cy="8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31">
                              <a:moveTo>
                                <a:pt x="41" y="12"/>
                              </a:moveTo>
                              <a:lnTo>
                                <a:pt x="34" y="25"/>
                              </a:lnTo>
                              <a:lnTo>
                                <a:pt x="28" y="31"/>
                              </a:lnTo>
                              <a:lnTo>
                                <a:pt x="21" y="31"/>
                              </a:lnTo>
                              <a:lnTo>
                                <a:pt x="14" y="31"/>
                              </a:lnTo>
                              <a:lnTo>
                                <a:pt x="10" y="28"/>
                              </a:lnTo>
                              <a:lnTo>
                                <a:pt x="0" y="19"/>
                              </a:lnTo>
                              <a:lnTo>
                                <a:pt x="0" y="6"/>
                              </a:lnTo>
                              <a:lnTo>
                                <a:pt x="7" y="3"/>
                              </a:lnTo>
                              <a:lnTo>
                                <a:pt x="14" y="3"/>
                              </a:lnTo>
                              <a:lnTo>
                                <a:pt x="21" y="0"/>
                              </a:lnTo>
                              <a:lnTo>
                                <a:pt x="31" y="6"/>
                              </a:lnTo>
                              <a:lnTo>
                                <a:pt x="41" y="12"/>
                              </a:lnTo>
                              <a:lnTo>
                                <a:pt x="41" y="1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160" bIns="-38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6" name=""/>
                        <p:cNvSpPr/>
                        <p:nvPr/>
                      </p:nvSpPr>
                      <p:spPr>
                        <a:xfrm>
                          <a:off x="1187280" y="1738440"/>
                          <a:ext cx="157320" cy="46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76" h="164">
                              <a:moveTo>
                                <a:pt x="442" y="13"/>
                              </a:moveTo>
                              <a:lnTo>
                                <a:pt x="445" y="32"/>
                              </a:lnTo>
                              <a:lnTo>
                                <a:pt x="449" y="51"/>
                              </a:lnTo>
                              <a:lnTo>
                                <a:pt x="452" y="70"/>
                              </a:lnTo>
                              <a:lnTo>
                                <a:pt x="456" y="92"/>
                              </a:lnTo>
                              <a:lnTo>
                                <a:pt x="476" y="129"/>
                              </a:lnTo>
                              <a:lnTo>
                                <a:pt x="438" y="133"/>
                              </a:lnTo>
                              <a:lnTo>
                                <a:pt x="397" y="136"/>
                              </a:lnTo>
                              <a:lnTo>
                                <a:pt x="318" y="145"/>
                              </a:lnTo>
                              <a:lnTo>
                                <a:pt x="238" y="155"/>
                              </a:lnTo>
                              <a:lnTo>
                                <a:pt x="200" y="161"/>
                              </a:lnTo>
                              <a:lnTo>
                                <a:pt x="162" y="164"/>
                              </a:lnTo>
                              <a:lnTo>
                                <a:pt x="131" y="158"/>
                              </a:lnTo>
                              <a:lnTo>
                                <a:pt x="97" y="158"/>
                              </a:lnTo>
                              <a:lnTo>
                                <a:pt x="65" y="158"/>
                              </a:lnTo>
                              <a:lnTo>
                                <a:pt x="34" y="164"/>
                              </a:lnTo>
                              <a:lnTo>
                                <a:pt x="21" y="145"/>
                              </a:lnTo>
                              <a:lnTo>
                                <a:pt x="14" y="126"/>
                              </a:lnTo>
                              <a:lnTo>
                                <a:pt x="7" y="107"/>
                              </a:lnTo>
                              <a:lnTo>
                                <a:pt x="3" y="85"/>
                              </a:lnTo>
                              <a:lnTo>
                                <a:pt x="0" y="66"/>
                              </a:lnTo>
                              <a:lnTo>
                                <a:pt x="0" y="44"/>
                              </a:lnTo>
                              <a:lnTo>
                                <a:pt x="3" y="25"/>
                              </a:lnTo>
                              <a:lnTo>
                                <a:pt x="3" y="6"/>
                              </a:lnTo>
                              <a:lnTo>
                                <a:pt x="14" y="3"/>
                              </a:lnTo>
                              <a:lnTo>
                                <a:pt x="21" y="3"/>
                              </a:lnTo>
                              <a:lnTo>
                                <a:pt x="27" y="6"/>
                              </a:lnTo>
                              <a:lnTo>
                                <a:pt x="31" y="19"/>
                              </a:lnTo>
                              <a:lnTo>
                                <a:pt x="34" y="35"/>
                              </a:lnTo>
                              <a:lnTo>
                                <a:pt x="41" y="47"/>
                              </a:lnTo>
                              <a:lnTo>
                                <a:pt x="45" y="54"/>
                              </a:lnTo>
                              <a:lnTo>
                                <a:pt x="55" y="57"/>
                              </a:lnTo>
                              <a:lnTo>
                                <a:pt x="97" y="63"/>
                              </a:lnTo>
                              <a:lnTo>
                                <a:pt x="141" y="63"/>
                              </a:lnTo>
                              <a:lnTo>
                                <a:pt x="183" y="66"/>
                              </a:lnTo>
                              <a:lnTo>
                                <a:pt x="228" y="66"/>
                              </a:lnTo>
                              <a:lnTo>
                                <a:pt x="314" y="70"/>
                              </a:lnTo>
                              <a:lnTo>
                                <a:pt x="356" y="70"/>
                              </a:lnTo>
                              <a:lnTo>
                                <a:pt x="397" y="70"/>
                              </a:lnTo>
                              <a:lnTo>
                                <a:pt x="404" y="66"/>
                              </a:lnTo>
                              <a:lnTo>
                                <a:pt x="414" y="63"/>
                              </a:lnTo>
                              <a:lnTo>
                                <a:pt x="421" y="57"/>
                              </a:lnTo>
                              <a:lnTo>
                                <a:pt x="425" y="54"/>
                              </a:lnTo>
                              <a:lnTo>
                                <a:pt x="421" y="44"/>
                              </a:lnTo>
                              <a:lnTo>
                                <a:pt x="407" y="22"/>
                              </a:lnTo>
                              <a:lnTo>
                                <a:pt x="404" y="10"/>
                              </a:lnTo>
                              <a:lnTo>
                                <a:pt x="407" y="0"/>
                              </a:lnTo>
                              <a:lnTo>
                                <a:pt x="418" y="3"/>
                              </a:lnTo>
                              <a:lnTo>
                                <a:pt x="428" y="3"/>
                              </a:lnTo>
                              <a:lnTo>
                                <a:pt x="438" y="3"/>
                              </a:lnTo>
                              <a:lnTo>
                                <a:pt x="442" y="13"/>
                              </a:lnTo>
                              <a:lnTo>
                                <a:pt x="442" y="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505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0" bIns="-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7" name=""/>
                        <p:cNvSpPr/>
                        <p:nvPr/>
                      </p:nvSpPr>
                      <p:spPr>
                        <a:xfrm>
                          <a:off x="1148400" y="1738440"/>
                          <a:ext cx="37440" cy="41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4" h="148">
                              <a:moveTo>
                                <a:pt x="94" y="63"/>
                              </a:moveTo>
                              <a:lnTo>
                                <a:pt x="101" y="101"/>
                              </a:lnTo>
                              <a:lnTo>
                                <a:pt x="104" y="114"/>
                              </a:lnTo>
                              <a:lnTo>
                                <a:pt x="107" y="129"/>
                              </a:lnTo>
                              <a:lnTo>
                                <a:pt x="111" y="139"/>
                              </a:lnTo>
                              <a:lnTo>
                                <a:pt x="114" y="148"/>
                              </a:lnTo>
                              <a:lnTo>
                                <a:pt x="0" y="13"/>
                              </a:lnTo>
                              <a:lnTo>
                                <a:pt x="7" y="10"/>
                              </a:lnTo>
                              <a:lnTo>
                                <a:pt x="14" y="13"/>
                              </a:lnTo>
                              <a:lnTo>
                                <a:pt x="21" y="10"/>
                              </a:lnTo>
                              <a:lnTo>
                                <a:pt x="28" y="6"/>
                              </a:lnTo>
                              <a:lnTo>
                                <a:pt x="87" y="0"/>
                              </a:lnTo>
                              <a:lnTo>
                                <a:pt x="94" y="16"/>
                              </a:lnTo>
                              <a:lnTo>
                                <a:pt x="94" y="32"/>
                              </a:lnTo>
                              <a:lnTo>
                                <a:pt x="90" y="47"/>
                              </a:lnTo>
                              <a:lnTo>
                                <a:pt x="94" y="63"/>
                              </a:lnTo>
                              <a:lnTo>
                                <a:pt x="94" y="6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505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040" bIns="-5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8" name=""/>
                        <p:cNvSpPr/>
                        <p:nvPr/>
                      </p:nvSpPr>
                      <p:spPr>
                        <a:xfrm>
                          <a:off x="732240" y="1728720"/>
                          <a:ext cx="43560" cy="46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2" h="164">
                              <a:moveTo>
                                <a:pt x="132" y="7"/>
                              </a:moveTo>
                              <a:lnTo>
                                <a:pt x="128" y="16"/>
                              </a:lnTo>
                              <a:lnTo>
                                <a:pt x="118" y="41"/>
                              </a:lnTo>
                              <a:lnTo>
                                <a:pt x="114" y="67"/>
                              </a:lnTo>
                              <a:lnTo>
                                <a:pt x="114" y="89"/>
                              </a:lnTo>
                              <a:lnTo>
                                <a:pt x="118" y="105"/>
                              </a:lnTo>
                              <a:lnTo>
                                <a:pt x="104" y="123"/>
                              </a:lnTo>
                              <a:lnTo>
                                <a:pt x="90" y="139"/>
                              </a:lnTo>
                              <a:lnTo>
                                <a:pt x="69" y="155"/>
                              </a:lnTo>
                              <a:lnTo>
                                <a:pt x="52" y="164"/>
                              </a:lnTo>
                              <a:lnTo>
                                <a:pt x="42" y="158"/>
                              </a:lnTo>
                              <a:lnTo>
                                <a:pt x="35" y="152"/>
                              </a:lnTo>
                              <a:lnTo>
                                <a:pt x="21" y="136"/>
                              </a:lnTo>
                              <a:lnTo>
                                <a:pt x="11" y="117"/>
                              </a:lnTo>
                              <a:lnTo>
                                <a:pt x="4" y="92"/>
                              </a:lnTo>
                              <a:lnTo>
                                <a:pt x="0" y="76"/>
                              </a:lnTo>
                              <a:lnTo>
                                <a:pt x="0" y="60"/>
                              </a:lnTo>
                              <a:lnTo>
                                <a:pt x="4" y="48"/>
                              </a:lnTo>
                              <a:lnTo>
                                <a:pt x="7" y="35"/>
                              </a:lnTo>
                              <a:lnTo>
                                <a:pt x="14" y="16"/>
                              </a:lnTo>
                              <a:lnTo>
                                <a:pt x="25" y="7"/>
                              </a:lnTo>
                              <a:lnTo>
                                <a:pt x="35" y="23"/>
                              </a:lnTo>
                              <a:lnTo>
                                <a:pt x="49" y="41"/>
                              </a:lnTo>
                              <a:lnTo>
                                <a:pt x="63" y="64"/>
                              </a:lnTo>
                              <a:lnTo>
                                <a:pt x="76" y="73"/>
                              </a:lnTo>
                              <a:lnTo>
                                <a:pt x="83" y="67"/>
                              </a:lnTo>
                              <a:lnTo>
                                <a:pt x="94" y="57"/>
                              </a:lnTo>
                              <a:lnTo>
                                <a:pt x="104" y="38"/>
                              </a:lnTo>
                              <a:lnTo>
                                <a:pt x="114" y="19"/>
                              </a:lnTo>
                              <a:lnTo>
                                <a:pt x="125" y="0"/>
                              </a:lnTo>
                              <a:lnTo>
                                <a:pt x="132" y="4"/>
                              </a:lnTo>
                              <a:lnTo>
                                <a:pt x="132" y="7"/>
                              </a:lnTo>
                              <a:lnTo>
                                <a:pt x="132" y="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9cc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0" bIns="-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9" name=""/>
                        <p:cNvSpPr/>
                        <p:nvPr/>
                      </p:nvSpPr>
                      <p:spPr>
                        <a:xfrm>
                          <a:off x="774720" y="1732320"/>
                          <a:ext cx="1692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2" h="79">
                              <a:moveTo>
                                <a:pt x="42" y="16"/>
                              </a:moveTo>
                              <a:lnTo>
                                <a:pt x="52" y="25"/>
                              </a:lnTo>
                              <a:lnTo>
                                <a:pt x="49" y="35"/>
                              </a:lnTo>
                              <a:lnTo>
                                <a:pt x="42" y="44"/>
                              </a:lnTo>
                              <a:lnTo>
                                <a:pt x="35" y="54"/>
                              </a:lnTo>
                              <a:lnTo>
                                <a:pt x="11" y="79"/>
                              </a:lnTo>
                              <a:lnTo>
                                <a:pt x="4" y="73"/>
                              </a:lnTo>
                              <a:lnTo>
                                <a:pt x="0" y="63"/>
                              </a:lnTo>
                              <a:lnTo>
                                <a:pt x="0" y="54"/>
                              </a:lnTo>
                              <a:lnTo>
                                <a:pt x="0" y="41"/>
                              </a:lnTo>
                              <a:lnTo>
                                <a:pt x="4" y="28"/>
                              </a:lnTo>
                              <a:lnTo>
                                <a:pt x="7" y="16"/>
                              </a:lnTo>
                              <a:lnTo>
                                <a:pt x="14" y="6"/>
                              </a:lnTo>
                              <a:lnTo>
                                <a:pt x="17" y="0"/>
                              </a:lnTo>
                              <a:lnTo>
                                <a:pt x="31" y="6"/>
                              </a:lnTo>
                              <a:lnTo>
                                <a:pt x="38" y="10"/>
                              </a:lnTo>
                              <a:lnTo>
                                <a:pt x="42" y="16"/>
                              </a:lnTo>
                              <a:lnTo>
                                <a:pt x="42" y="1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0" name=""/>
                        <p:cNvSpPr/>
                        <p:nvPr/>
                      </p:nvSpPr>
                      <p:spPr>
                        <a:xfrm>
                          <a:off x="718920" y="1732320"/>
                          <a:ext cx="14760" cy="39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139">
                              <a:moveTo>
                                <a:pt x="24" y="47"/>
                              </a:moveTo>
                              <a:lnTo>
                                <a:pt x="21" y="63"/>
                              </a:lnTo>
                              <a:lnTo>
                                <a:pt x="24" y="79"/>
                              </a:lnTo>
                              <a:lnTo>
                                <a:pt x="28" y="95"/>
                              </a:lnTo>
                              <a:lnTo>
                                <a:pt x="31" y="107"/>
                              </a:lnTo>
                              <a:lnTo>
                                <a:pt x="41" y="129"/>
                              </a:lnTo>
                              <a:lnTo>
                                <a:pt x="45" y="139"/>
                              </a:lnTo>
                              <a:lnTo>
                                <a:pt x="31" y="136"/>
                              </a:lnTo>
                              <a:lnTo>
                                <a:pt x="21" y="126"/>
                              </a:lnTo>
                              <a:lnTo>
                                <a:pt x="10" y="110"/>
                              </a:lnTo>
                              <a:lnTo>
                                <a:pt x="0" y="92"/>
                              </a:lnTo>
                              <a:lnTo>
                                <a:pt x="0" y="69"/>
                              </a:lnTo>
                              <a:lnTo>
                                <a:pt x="0" y="54"/>
                              </a:lnTo>
                              <a:lnTo>
                                <a:pt x="3" y="41"/>
                              </a:lnTo>
                              <a:lnTo>
                                <a:pt x="10" y="35"/>
                              </a:lnTo>
                              <a:lnTo>
                                <a:pt x="21" y="19"/>
                              </a:lnTo>
                              <a:lnTo>
                                <a:pt x="28" y="6"/>
                              </a:lnTo>
                              <a:lnTo>
                                <a:pt x="38" y="0"/>
                              </a:lnTo>
                              <a:lnTo>
                                <a:pt x="34" y="16"/>
                              </a:lnTo>
                              <a:lnTo>
                                <a:pt x="24" y="47"/>
                              </a:lnTo>
                              <a:lnTo>
                                <a:pt x="24" y="4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560" bIns="-7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1" name=""/>
                        <p:cNvSpPr/>
                        <p:nvPr/>
                      </p:nvSpPr>
                      <p:spPr>
                        <a:xfrm>
                          <a:off x="870480" y="1743840"/>
                          <a:ext cx="208800" cy="20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2" h="73">
                              <a:moveTo>
                                <a:pt x="580" y="13"/>
                              </a:moveTo>
                              <a:lnTo>
                                <a:pt x="587" y="19"/>
                              </a:lnTo>
                              <a:lnTo>
                                <a:pt x="591" y="13"/>
                              </a:lnTo>
                              <a:lnTo>
                                <a:pt x="594" y="13"/>
                              </a:lnTo>
                              <a:lnTo>
                                <a:pt x="632" y="60"/>
                              </a:lnTo>
                              <a:lnTo>
                                <a:pt x="605" y="63"/>
                              </a:lnTo>
                              <a:lnTo>
                                <a:pt x="574" y="63"/>
                              </a:lnTo>
                              <a:lnTo>
                                <a:pt x="511" y="63"/>
                              </a:lnTo>
                              <a:lnTo>
                                <a:pt x="480" y="60"/>
                              </a:lnTo>
                              <a:lnTo>
                                <a:pt x="449" y="60"/>
                              </a:lnTo>
                              <a:lnTo>
                                <a:pt x="418" y="60"/>
                              </a:lnTo>
                              <a:lnTo>
                                <a:pt x="387" y="66"/>
                              </a:lnTo>
                              <a:lnTo>
                                <a:pt x="363" y="63"/>
                              </a:lnTo>
                              <a:lnTo>
                                <a:pt x="339" y="60"/>
                              </a:lnTo>
                              <a:lnTo>
                                <a:pt x="290" y="60"/>
                              </a:lnTo>
                              <a:lnTo>
                                <a:pt x="242" y="60"/>
                              </a:lnTo>
                              <a:lnTo>
                                <a:pt x="190" y="63"/>
                              </a:lnTo>
                              <a:lnTo>
                                <a:pt x="93" y="69"/>
                              </a:lnTo>
                              <a:lnTo>
                                <a:pt x="49" y="69"/>
                              </a:lnTo>
                              <a:lnTo>
                                <a:pt x="0" y="73"/>
                              </a:lnTo>
                              <a:lnTo>
                                <a:pt x="11" y="63"/>
                              </a:lnTo>
                              <a:lnTo>
                                <a:pt x="21" y="54"/>
                              </a:lnTo>
                              <a:lnTo>
                                <a:pt x="38" y="32"/>
                              </a:lnTo>
                              <a:lnTo>
                                <a:pt x="49" y="22"/>
                              </a:lnTo>
                              <a:lnTo>
                                <a:pt x="59" y="16"/>
                              </a:lnTo>
                              <a:lnTo>
                                <a:pt x="73" y="16"/>
                              </a:lnTo>
                              <a:lnTo>
                                <a:pt x="87" y="19"/>
                              </a:lnTo>
                              <a:lnTo>
                                <a:pt x="163" y="13"/>
                              </a:lnTo>
                              <a:lnTo>
                                <a:pt x="239" y="6"/>
                              </a:lnTo>
                              <a:lnTo>
                                <a:pt x="277" y="3"/>
                              </a:lnTo>
                              <a:lnTo>
                                <a:pt x="315" y="3"/>
                              </a:lnTo>
                              <a:lnTo>
                                <a:pt x="349" y="0"/>
                              </a:lnTo>
                              <a:lnTo>
                                <a:pt x="387" y="0"/>
                              </a:lnTo>
                              <a:lnTo>
                                <a:pt x="435" y="3"/>
                              </a:lnTo>
                              <a:lnTo>
                                <a:pt x="484" y="10"/>
                              </a:lnTo>
                              <a:lnTo>
                                <a:pt x="532" y="13"/>
                              </a:lnTo>
                              <a:lnTo>
                                <a:pt x="580" y="13"/>
                              </a:lnTo>
                              <a:lnTo>
                                <a:pt x="580" y="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280" bIns="-26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2" name=""/>
                        <p:cNvSpPr/>
                        <p:nvPr/>
                      </p:nvSpPr>
                      <p:spPr>
                        <a:xfrm>
                          <a:off x="1618200" y="1782720"/>
                          <a:ext cx="63720" cy="37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3" h="132">
                              <a:moveTo>
                                <a:pt x="128" y="9"/>
                              </a:moveTo>
                              <a:lnTo>
                                <a:pt x="138" y="25"/>
                              </a:lnTo>
                              <a:lnTo>
                                <a:pt x="148" y="47"/>
                              </a:lnTo>
                              <a:lnTo>
                                <a:pt x="155" y="53"/>
                              </a:lnTo>
                              <a:lnTo>
                                <a:pt x="159" y="66"/>
                              </a:lnTo>
                              <a:lnTo>
                                <a:pt x="169" y="82"/>
                              </a:lnTo>
                              <a:lnTo>
                                <a:pt x="179" y="97"/>
                              </a:lnTo>
                              <a:lnTo>
                                <a:pt x="186" y="113"/>
                              </a:lnTo>
                              <a:lnTo>
                                <a:pt x="193" y="132"/>
                              </a:lnTo>
                              <a:lnTo>
                                <a:pt x="176" y="132"/>
                              </a:lnTo>
                              <a:lnTo>
                                <a:pt x="159" y="126"/>
                              </a:lnTo>
                              <a:lnTo>
                                <a:pt x="138" y="119"/>
                              </a:lnTo>
                              <a:lnTo>
                                <a:pt x="117" y="119"/>
                              </a:lnTo>
                              <a:lnTo>
                                <a:pt x="96" y="119"/>
                              </a:lnTo>
                              <a:lnTo>
                                <a:pt x="76" y="123"/>
                              </a:lnTo>
                              <a:lnTo>
                                <a:pt x="55" y="119"/>
                              </a:lnTo>
                              <a:lnTo>
                                <a:pt x="48" y="116"/>
                              </a:lnTo>
                              <a:lnTo>
                                <a:pt x="38" y="110"/>
                              </a:lnTo>
                              <a:lnTo>
                                <a:pt x="31" y="104"/>
                              </a:lnTo>
                              <a:lnTo>
                                <a:pt x="27" y="97"/>
                              </a:lnTo>
                              <a:lnTo>
                                <a:pt x="24" y="85"/>
                              </a:lnTo>
                              <a:lnTo>
                                <a:pt x="21" y="72"/>
                              </a:lnTo>
                              <a:lnTo>
                                <a:pt x="7" y="41"/>
                              </a:lnTo>
                              <a:lnTo>
                                <a:pt x="3" y="22"/>
                              </a:lnTo>
                              <a:lnTo>
                                <a:pt x="0" y="0"/>
                              </a:lnTo>
                              <a:lnTo>
                                <a:pt x="79" y="0"/>
                              </a:lnTo>
                              <a:lnTo>
                                <a:pt x="103" y="3"/>
                              </a:lnTo>
                              <a:lnTo>
                                <a:pt x="128" y="9"/>
                              </a:lnTo>
                              <a:lnTo>
                                <a:pt x="128" y="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505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9360" bIns="-9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3" name=""/>
                        <p:cNvSpPr/>
                        <p:nvPr/>
                      </p:nvSpPr>
                      <p:spPr>
                        <a:xfrm>
                          <a:off x="1512000" y="1778760"/>
                          <a:ext cx="110880" cy="41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5" h="145">
                              <a:moveTo>
                                <a:pt x="255" y="13"/>
                              </a:moveTo>
                              <a:lnTo>
                                <a:pt x="276" y="13"/>
                              </a:lnTo>
                              <a:lnTo>
                                <a:pt x="286" y="13"/>
                              </a:lnTo>
                              <a:lnTo>
                                <a:pt x="293" y="13"/>
                              </a:lnTo>
                              <a:lnTo>
                                <a:pt x="300" y="35"/>
                              </a:lnTo>
                              <a:lnTo>
                                <a:pt x="307" y="57"/>
                              </a:lnTo>
                              <a:lnTo>
                                <a:pt x="310" y="76"/>
                              </a:lnTo>
                              <a:lnTo>
                                <a:pt x="321" y="91"/>
                              </a:lnTo>
                              <a:lnTo>
                                <a:pt x="321" y="101"/>
                              </a:lnTo>
                              <a:lnTo>
                                <a:pt x="324" y="114"/>
                              </a:lnTo>
                              <a:lnTo>
                                <a:pt x="335" y="132"/>
                              </a:lnTo>
                              <a:lnTo>
                                <a:pt x="300" y="132"/>
                              </a:lnTo>
                              <a:lnTo>
                                <a:pt x="266" y="136"/>
                              </a:lnTo>
                              <a:lnTo>
                                <a:pt x="190" y="139"/>
                              </a:lnTo>
                              <a:lnTo>
                                <a:pt x="114" y="142"/>
                              </a:lnTo>
                              <a:lnTo>
                                <a:pt x="76" y="142"/>
                              </a:lnTo>
                              <a:lnTo>
                                <a:pt x="41" y="145"/>
                              </a:lnTo>
                              <a:lnTo>
                                <a:pt x="27" y="114"/>
                              </a:lnTo>
                              <a:lnTo>
                                <a:pt x="13" y="82"/>
                              </a:lnTo>
                              <a:lnTo>
                                <a:pt x="3" y="44"/>
                              </a:lnTo>
                              <a:lnTo>
                                <a:pt x="0" y="6"/>
                              </a:lnTo>
                              <a:lnTo>
                                <a:pt x="13" y="3"/>
                              </a:lnTo>
                              <a:lnTo>
                                <a:pt x="31" y="3"/>
                              </a:lnTo>
                              <a:lnTo>
                                <a:pt x="62" y="3"/>
                              </a:lnTo>
                              <a:lnTo>
                                <a:pt x="96" y="3"/>
                              </a:lnTo>
                              <a:lnTo>
                                <a:pt x="110" y="3"/>
                              </a:lnTo>
                              <a:lnTo>
                                <a:pt x="127" y="0"/>
                              </a:lnTo>
                              <a:lnTo>
                                <a:pt x="145" y="3"/>
                              </a:lnTo>
                              <a:lnTo>
                                <a:pt x="158" y="6"/>
                              </a:lnTo>
                              <a:lnTo>
                                <a:pt x="193" y="6"/>
                              </a:lnTo>
                              <a:lnTo>
                                <a:pt x="224" y="9"/>
                              </a:lnTo>
                              <a:lnTo>
                                <a:pt x="241" y="9"/>
                              </a:lnTo>
                              <a:lnTo>
                                <a:pt x="255" y="13"/>
                              </a:lnTo>
                              <a:lnTo>
                                <a:pt x="255" y="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505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760" bIns="-57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4" name=""/>
                        <p:cNvSpPr/>
                        <p:nvPr/>
                      </p:nvSpPr>
                      <p:spPr>
                        <a:xfrm>
                          <a:off x="1391760" y="1778760"/>
                          <a:ext cx="124200" cy="44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6" h="158">
                              <a:moveTo>
                                <a:pt x="338" y="6"/>
                              </a:moveTo>
                              <a:lnTo>
                                <a:pt x="342" y="38"/>
                              </a:lnTo>
                              <a:lnTo>
                                <a:pt x="345" y="69"/>
                              </a:lnTo>
                              <a:lnTo>
                                <a:pt x="349" y="85"/>
                              </a:lnTo>
                              <a:lnTo>
                                <a:pt x="356" y="98"/>
                              </a:lnTo>
                              <a:lnTo>
                                <a:pt x="359" y="114"/>
                              </a:lnTo>
                              <a:lnTo>
                                <a:pt x="370" y="126"/>
                              </a:lnTo>
                              <a:lnTo>
                                <a:pt x="373" y="132"/>
                              </a:lnTo>
                              <a:lnTo>
                                <a:pt x="373" y="139"/>
                              </a:lnTo>
                              <a:lnTo>
                                <a:pt x="376" y="145"/>
                              </a:lnTo>
                              <a:lnTo>
                                <a:pt x="370" y="145"/>
                              </a:lnTo>
                              <a:lnTo>
                                <a:pt x="332" y="145"/>
                              </a:lnTo>
                              <a:lnTo>
                                <a:pt x="297" y="148"/>
                              </a:lnTo>
                              <a:lnTo>
                                <a:pt x="266" y="151"/>
                              </a:lnTo>
                              <a:lnTo>
                                <a:pt x="231" y="151"/>
                              </a:lnTo>
                              <a:lnTo>
                                <a:pt x="224" y="145"/>
                              </a:lnTo>
                              <a:lnTo>
                                <a:pt x="211" y="145"/>
                              </a:lnTo>
                              <a:lnTo>
                                <a:pt x="204" y="151"/>
                              </a:lnTo>
                              <a:lnTo>
                                <a:pt x="193" y="151"/>
                              </a:lnTo>
                              <a:lnTo>
                                <a:pt x="183" y="151"/>
                              </a:lnTo>
                              <a:lnTo>
                                <a:pt x="176" y="158"/>
                              </a:lnTo>
                              <a:lnTo>
                                <a:pt x="166" y="151"/>
                              </a:lnTo>
                              <a:lnTo>
                                <a:pt x="52" y="158"/>
                              </a:lnTo>
                              <a:lnTo>
                                <a:pt x="38" y="142"/>
                              </a:lnTo>
                              <a:lnTo>
                                <a:pt x="24" y="126"/>
                              </a:lnTo>
                              <a:lnTo>
                                <a:pt x="17" y="107"/>
                              </a:lnTo>
                              <a:lnTo>
                                <a:pt x="10" y="91"/>
                              </a:lnTo>
                              <a:lnTo>
                                <a:pt x="3" y="69"/>
                              </a:lnTo>
                              <a:lnTo>
                                <a:pt x="0" y="50"/>
                              </a:lnTo>
                              <a:lnTo>
                                <a:pt x="0" y="28"/>
                              </a:lnTo>
                              <a:lnTo>
                                <a:pt x="3" y="6"/>
                              </a:lnTo>
                              <a:lnTo>
                                <a:pt x="83" y="9"/>
                              </a:lnTo>
                              <a:lnTo>
                                <a:pt x="162" y="9"/>
                              </a:lnTo>
                              <a:lnTo>
                                <a:pt x="204" y="9"/>
                              </a:lnTo>
                              <a:lnTo>
                                <a:pt x="242" y="6"/>
                              </a:lnTo>
                              <a:lnTo>
                                <a:pt x="280" y="6"/>
                              </a:lnTo>
                              <a:lnTo>
                                <a:pt x="318" y="0"/>
                              </a:lnTo>
                              <a:lnTo>
                                <a:pt x="338" y="6"/>
                              </a:lnTo>
                              <a:lnTo>
                                <a:pt x="338" y="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505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60" bIns="-2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5" name=""/>
                        <p:cNvSpPr/>
                        <p:nvPr/>
                      </p:nvSpPr>
                      <p:spPr>
                        <a:xfrm>
                          <a:off x="645480" y="1767240"/>
                          <a:ext cx="637560" cy="551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27" h="1942">
                              <a:moveTo>
                                <a:pt x="1333" y="3"/>
                              </a:moveTo>
                              <a:lnTo>
                                <a:pt x="1371" y="47"/>
                              </a:lnTo>
                              <a:lnTo>
                                <a:pt x="1409" y="98"/>
                              </a:lnTo>
                              <a:lnTo>
                                <a:pt x="1447" y="148"/>
                              </a:lnTo>
                              <a:lnTo>
                                <a:pt x="1485" y="202"/>
                              </a:lnTo>
                              <a:lnTo>
                                <a:pt x="1564" y="309"/>
                              </a:lnTo>
                              <a:lnTo>
                                <a:pt x="1599" y="356"/>
                              </a:lnTo>
                              <a:lnTo>
                                <a:pt x="1633" y="400"/>
                              </a:lnTo>
                              <a:lnTo>
                                <a:pt x="1633" y="419"/>
                              </a:lnTo>
                              <a:lnTo>
                                <a:pt x="1630" y="438"/>
                              </a:lnTo>
                              <a:lnTo>
                                <a:pt x="1630" y="464"/>
                              </a:lnTo>
                              <a:lnTo>
                                <a:pt x="1630" y="492"/>
                              </a:lnTo>
                              <a:lnTo>
                                <a:pt x="1630" y="517"/>
                              </a:lnTo>
                              <a:lnTo>
                                <a:pt x="1633" y="542"/>
                              </a:lnTo>
                              <a:lnTo>
                                <a:pt x="1640" y="564"/>
                              </a:lnTo>
                              <a:lnTo>
                                <a:pt x="1644" y="577"/>
                              </a:lnTo>
                              <a:lnTo>
                                <a:pt x="1644" y="602"/>
                              </a:lnTo>
                              <a:lnTo>
                                <a:pt x="1644" y="634"/>
                              </a:lnTo>
                              <a:lnTo>
                                <a:pt x="1644" y="672"/>
                              </a:lnTo>
                              <a:lnTo>
                                <a:pt x="1644" y="738"/>
                              </a:lnTo>
                              <a:lnTo>
                                <a:pt x="1640" y="769"/>
                              </a:lnTo>
                              <a:lnTo>
                                <a:pt x="1806" y="769"/>
                              </a:lnTo>
                              <a:lnTo>
                                <a:pt x="1806" y="571"/>
                              </a:lnTo>
                              <a:lnTo>
                                <a:pt x="1823" y="587"/>
                              </a:lnTo>
                              <a:lnTo>
                                <a:pt x="1837" y="602"/>
                              </a:lnTo>
                              <a:lnTo>
                                <a:pt x="1865" y="637"/>
                              </a:lnTo>
                              <a:lnTo>
                                <a:pt x="1892" y="675"/>
                              </a:lnTo>
                              <a:lnTo>
                                <a:pt x="1906" y="691"/>
                              </a:lnTo>
                              <a:lnTo>
                                <a:pt x="1920" y="709"/>
                              </a:lnTo>
                              <a:lnTo>
                                <a:pt x="1923" y="747"/>
                              </a:lnTo>
                              <a:lnTo>
                                <a:pt x="1923" y="817"/>
                              </a:lnTo>
                              <a:lnTo>
                                <a:pt x="1927" y="905"/>
                              </a:lnTo>
                              <a:lnTo>
                                <a:pt x="1927" y="1003"/>
                              </a:lnTo>
                              <a:lnTo>
                                <a:pt x="1927" y="1179"/>
                              </a:lnTo>
                              <a:lnTo>
                                <a:pt x="1927" y="1258"/>
                              </a:lnTo>
                              <a:lnTo>
                                <a:pt x="1927" y="1283"/>
                              </a:lnTo>
                              <a:lnTo>
                                <a:pt x="1923" y="1318"/>
                              </a:lnTo>
                              <a:lnTo>
                                <a:pt x="1920" y="1397"/>
                              </a:lnTo>
                              <a:lnTo>
                                <a:pt x="1913" y="1491"/>
                              </a:lnTo>
                              <a:lnTo>
                                <a:pt x="1910" y="1592"/>
                              </a:lnTo>
                              <a:lnTo>
                                <a:pt x="1906" y="1690"/>
                              </a:lnTo>
                              <a:lnTo>
                                <a:pt x="1903" y="1775"/>
                              </a:lnTo>
                              <a:lnTo>
                                <a:pt x="1899" y="1810"/>
                              </a:lnTo>
                              <a:lnTo>
                                <a:pt x="1896" y="1841"/>
                              </a:lnTo>
                              <a:lnTo>
                                <a:pt x="1896" y="1867"/>
                              </a:lnTo>
                              <a:lnTo>
                                <a:pt x="1892" y="1879"/>
                              </a:lnTo>
                              <a:lnTo>
                                <a:pt x="1889" y="1892"/>
                              </a:lnTo>
                              <a:lnTo>
                                <a:pt x="1892" y="1905"/>
                              </a:lnTo>
                              <a:lnTo>
                                <a:pt x="1896" y="1914"/>
                              </a:lnTo>
                              <a:lnTo>
                                <a:pt x="1892" y="1927"/>
                              </a:lnTo>
                              <a:lnTo>
                                <a:pt x="1834" y="1927"/>
                              </a:lnTo>
                              <a:lnTo>
                                <a:pt x="1796" y="1933"/>
                              </a:lnTo>
                              <a:lnTo>
                                <a:pt x="1751" y="1939"/>
                              </a:lnTo>
                              <a:lnTo>
                                <a:pt x="1730" y="1939"/>
                              </a:lnTo>
                              <a:lnTo>
                                <a:pt x="1706" y="1942"/>
                              </a:lnTo>
                              <a:lnTo>
                                <a:pt x="1685" y="1942"/>
                              </a:lnTo>
                              <a:lnTo>
                                <a:pt x="1664" y="1939"/>
                              </a:lnTo>
                              <a:lnTo>
                                <a:pt x="1651" y="1936"/>
                              </a:lnTo>
                              <a:lnTo>
                                <a:pt x="1637" y="1927"/>
                              </a:lnTo>
                              <a:lnTo>
                                <a:pt x="1616" y="1911"/>
                              </a:lnTo>
                              <a:lnTo>
                                <a:pt x="1599" y="1892"/>
                              </a:lnTo>
                              <a:lnTo>
                                <a:pt x="1578" y="1870"/>
                              </a:lnTo>
                              <a:lnTo>
                                <a:pt x="1564" y="1848"/>
                              </a:lnTo>
                              <a:lnTo>
                                <a:pt x="1554" y="1826"/>
                              </a:lnTo>
                              <a:lnTo>
                                <a:pt x="1547" y="1810"/>
                              </a:lnTo>
                              <a:lnTo>
                                <a:pt x="1540" y="1775"/>
                              </a:lnTo>
                              <a:lnTo>
                                <a:pt x="1533" y="1741"/>
                              </a:lnTo>
                              <a:lnTo>
                                <a:pt x="1526" y="1703"/>
                              </a:lnTo>
                              <a:lnTo>
                                <a:pt x="1526" y="1687"/>
                              </a:lnTo>
                              <a:lnTo>
                                <a:pt x="1523" y="1665"/>
                              </a:lnTo>
                              <a:lnTo>
                                <a:pt x="1523" y="1608"/>
                              </a:lnTo>
                              <a:lnTo>
                                <a:pt x="1523" y="1551"/>
                              </a:lnTo>
                              <a:lnTo>
                                <a:pt x="1523" y="1529"/>
                              </a:lnTo>
                              <a:lnTo>
                                <a:pt x="1519" y="1514"/>
                              </a:lnTo>
                              <a:lnTo>
                                <a:pt x="1519" y="1435"/>
                              </a:lnTo>
                              <a:lnTo>
                                <a:pt x="1519" y="1331"/>
                              </a:lnTo>
                              <a:lnTo>
                                <a:pt x="1523" y="1094"/>
                              </a:lnTo>
                              <a:lnTo>
                                <a:pt x="1526" y="889"/>
                              </a:lnTo>
                              <a:lnTo>
                                <a:pt x="1526" y="801"/>
                              </a:lnTo>
                              <a:lnTo>
                                <a:pt x="1540" y="810"/>
                              </a:lnTo>
                              <a:lnTo>
                                <a:pt x="1554" y="820"/>
                              </a:lnTo>
                              <a:lnTo>
                                <a:pt x="1575" y="842"/>
                              </a:lnTo>
                              <a:lnTo>
                                <a:pt x="1585" y="851"/>
                              </a:lnTo>
                              <a:lnTo>
                                <a:pt x="1595" y="858"/>
                              </a:lnTo>
                              <a:lnTo>
                                <a:pt x="1606" y="861"/>
                              </a:lnTo>
                              <a:lnTo>
                                <a:pt x="1613" y="861"/>
                              </a:lnTo>
                              <a:lnTo>
                                <a:pt x="1616" y="855"/>
                              </a:lnTo>
                              <a:lnTo>
                                <a:pt x="1620" y="848"/>
                              </a:lnTo>
                              <a:lnTo>
                                <a:pt x="1623" y="823"/>
                              </a:lnTo>
                              <a:lnTo>
                                <a:pt x="1623" y="788"/>
                              </a:lnTo>
                              <a:lnTo>
                                <a:pt x="1620" y="754"/>
                              </a:lnTo>
                              <a:lnTo>
                                <a:pt x="1616" y="719"/>
                              </a:lnTo>
                              <a:lnTo>
                                <a:pt x="1609" y="687"/>
                              </a:lnTo>
                              <a:lnTo>
                                <a:pt x="1606" y="656"/>
                              </a:lnTo>
                              <a:lnTo>
                                <a:pt x="1540" y="580"/>
                              </a:lnTo>
                              <a:lnTo>
                                <a:pt x="1468" y="498"/>
                              </a:lnTo>
                              <a:lnTo>
                                <a:pt x="1385" y="400"/>
                              </a:lnTo>
                              <a:lnTo>
                                <a:pt x="1295" y="296"/>
                              </a:lnTo>
                              <a:lnTo>
                                <a:pt x="1209" y="199"/>
                              </a:lnTo>
                              <a:lnTo>
                                <a:pt x="1136" y="114"/>
                              </a:lnTo>
                              <a:lnTo>
                                <a:pt x="1081" y="54"/>
                              </a:lnTo>
                              <a:lnTo>
                                <a:pt x="1070" y="44"/>
                              </a:lnTo>
                              <a:lnTo>
                                <a:pt x="1057" y="38"/>
                              </a:lnTo>
                              <a:lnTo>
                                <a:pt x="1039" y="28"/>
                              </a:lnTo>
                              <a:lnTo>
                                <a:pt x="1019" y="44"/>
                              </a:lnTo>
                              <a:lnTo>
                                <a:pt x="988" y="69"/>
                              </a:lnTo>
                              <a:lnTo>
                                <a:pt x="946" y="101"/>
                              </a:lnTo>
                              <a:lnTo>
                                <a:pt x="901" y="142"/>
                              </a:lnTo>
                              <a:lnTo>
                                <a:pt x="846" y="186"/>
                              </a:lnTo>
                              <a:lnTo>
                                <a:pt x="791" y="237"/>
                              </a:lnTo>
                              <a:lnTo>
                                <a:pt x="670" y="341"/>
                              </a:lnTo>
                              <a:lnTo>
                                <a:pt x="552" y="441"/>
                              </a:lnTo>
                              <a:lnTo>
                                <a:pt x="452" y="527"/>
                              </a:lnTo>
                              <a:lnTo>
                                <a:pt x="359" y="612"/>
                              </a:lnTo>
                              <a:lnTo>
                                <a:pt x="356" y="624"/>
                              </a:lnTo>
                              <a:lnTo>
                                <a:pt x="352" y="646"/>
                              </a:lnTo>
                              <a:lnTo>
                                <a:pt x="352" y="678"/>
                              </a:lnTo>
                              <a:lnTo>
                                <a:pt x="352" y="716"/>
                              </a:lnTo>
                              <a:lnTo>
                                <a:pt x="356" y="750"/>
                              </a:lnTo>
                              <a:lnTo>
                                <a:pt x="359" y="782"/>
                              </a:lnTo>
                              <a:lnTo>
                                <a:pt x="359" y="795"/>
                              </a:lnTo>
                              <a:lnTo>
                                <a:pt x="363" y="804"/>
                              </a:lnTo>
                              <a:lnTo>
                                <a:pt x="369" y="810"/>
                              </a:lnTo>
                              <a:lnTo>
                                <a:pt x="373" y="814"/>
                              </a:lnTo>
                              <a:lnTo>
                                <a:pt x="387" y="810"/>
                              </a:lnTo>
                              <a:lnTo>
                                <a:pt x="401" y="804"/>
                              </a:lnTo>
                              <a:lnTo>
                                <a:pt x="432" y="788"/>
                              </a:lnTo>
                              <a:lnTo>
                                <a:pt x="456" y="776"/>
                              </a:lnTo>
                              <a:lnTo>
                                <a:pt x="466" y="769"/>
                              </a:lnTo>
                              <a:lnTo>
                                <a:pt x="470" y="782"/>
                              </a:lnTo>
                              <a:lnTo>
                                <a:pt x="470" y="807"/>
                              </a:lnTo>
                              <a:lnTo>
                                <a:pt x="473" y="842"/>
                              </a:lnTo>
                              <a:lnTo>
                                <a:pt x="473" y="886"/>
                              </a:lnTo>
                              <a:lnTo>
                                <a:pt x="473" y="993"/>
                              </a:lnTo>
                              <a:lnTo>
                                <a:pt x="473" y="1113"/>
                              </a:lnTo>
                              <a:lnTo>
                                <a:pt x="473" y="1236"/>
                              </a:lnTo>
                              <a:lnTo>
                                <a:pt x="470" y="1346"/>
                              </a:lnTo>
                              <a:lnTo>
                                <a:pt x="473" y="1432"/>
                              </a:lnTo>
                              <a:lnTo>
                                <a:pt x="473" y="1460"/>
                              </a:lnTo>
                              <a:lnTo>
                                <a:pt x="473" y="1476"/>
                              </a:lnTo>
                              <a:lnTo>
                                <a:pt x="470" y="1488"/>
                              </a:lnTo>
                              <a:lnTo>
                                <a:pt x="470" y="1517"/>
                              </a:lnTo>
                              <a:lnTo>
                                <a:pt x="470" y="1558"/>
                              </a:lnTo>
                              <a:lnTo>
                                <a:pt x="470" y="1611"/>
                              </a:lnTo>
                              <a:lnTo>
                                <a:pt x="470" y="1665"/>
                              </a:lnTo>
                              <a:lnTo>
                                <a:pt x="470" y="1725"/>
                              </a:lnTo>
                              <a:lnTo>
                                <a:pt x="470" y="1778"/>
                              </a:lnTo>
                              <a:lnTo>
                                <a:pt x="473" y="1829"/>
                              </a:lnTo>
                              <a:lnTo>
                                <a:pt x="401" y="1908"/>
                              </a:lnTo>
                              <a:lnTo>
                                <a:pt x="390" y="1905"/>
                              </a:lnTo>
                              <a:lnTo>
                                <a:pt x="380" y="1905"/>
                              </a:lnTo>
                              <a:lnTo>
                                <a:pt x="373" y="1908"/>
                              </a:lnTo>
                              <a:lnTo>
                                <a:pt x="366" y="1914"/>
                              </a:lnTo>
                              <a:lnTo>
                                <a:pt x="359" y="1927"/>
                              </a:lnTo>
                              <a:lnTo>
                                <a:pt x="359" y="1933"/>
                              </a:lnTo>
                              <a:lnTo>
                                <a:pt x="21" y="1914"/>
                              </a:lnTo>
                              <a:lnTo>
                                <a:pt x="21" y="1895"/>
                              </a:lnTo>
                              <a:lnTo>
                                <a:pt x="17" y="1854"/>
                              </a:lnTo>
                              <a:lnTo>
                                <a:pt x="14" y="1791"/>
                              </a:lnTo>
                              <a:lnTo>
                                <a:pt x="14" y="1709"/>
                              </a:lnTo>
                              <a:lnTo>
                                <a:pt x="10" y="1614"/>
                              </a:lnTo>
                              <a:lnTo>
                                <a:pt x="10" y="1507"/>
                              </a:lnTo>
                              <a:lnTo>
                                <a:pt x="7" y="1394"/>
                              </a:lnTo>
                              <a:lnTo>
                                <a:pt x="7" y="1277"/>
                              </a:lnTo>
                              <a:lnTo>
                                <a:pt x="3" y="1050"/>
                              </a:lnTo>
                              <a:lnTo>
                                <a:pt x="0" y="851"/>
                              </a:lnTo>
                              <a:lnTo>
                                <a:pt x="0" y="656"/>
                              </a:lnTo>
                              <a:lnTo>
                                <a:pt x="31" y="634"/>
                              </a:lnTo>
                              <a:lnTo>
                                <a:pt x="59" y="602"/>
                              </a:lnTo>
                              <a:lnTo>
                                <a:pt x="90" y="574"/>
                              </a:lnTo>
                              <a:lnTo>
                                <a:pt x="114" y="546"/>
                              </a:lnTo>
                              <a:lnTo>
                                <a:pt x="117" y="574"/>
                              </a:lnTo>
                              <a:lnTo>
                                <a:pt x="117" y="605"/>
                              </a:lnTo>
                              <a:lnTo>
                                <a:pt x="117" y="675"/>
                              </a:lnTo>
                              <a:lnTo>
                                <a:pt x="117" y="732"/>
                              </a:lnTo>
                              <a:lnTo>
                                <a:pt x="121" y="750"/>
                              </a:lnTo>
                              <a:lnTo>
                                <a:pt x="121" y="763"/>
                              </a:lnTo>
                              <a:lnTo>
                                <a:pt x="131" y="769"/>
                              </a:lnTo>
                              <a:lnTo>
                                <a:pt x="148" y="773"/>
                              </a:lnTo>
                              <a:lnTo>
                                <a:pt x="173" y="776"/>
                              </a:lnTo>
                              <a:lnTo>
                                <a:pt x="197" y="776"/>
                              </a:lnTo>
                              <a:lnTo>
                                <a:pt x="242" y="776"/>
                              </a:lnTo>
                              <a:lnTo>
                                <a:pt x="266" y="776"/>
                              </a:lnTo>
                              <a:lnTo>
                                <a:pt x="269" y="763"/>
                              </a:lnTo>
                              <a:lnTo>
                                <a:pt x="273" y="738"/>
                              </a:lnTo>
                              <a:lnTo>
                                <a:pt x="273" y="703"/>
                              </a:lnTo>
                              <a:lnTo>
                                <a:pt x="273" y="662"/>
                              </a:lnTo>
                              <a:lnTo>
                                <a:pt x="273" y="590"/>
                              </a:lnTo>
                              <a:lnTo>
                                <a:pt x="273" y="552"/>
                              </a:lnTo>
                              <a:lnTo>
                                <a:pt x="273" y="423"/>
                              </a:lnTo>
                              <a:lnTo>
                                <a:pt x="276" y="416"/>
                              </a:lnTo>
                              <a:lnTo>
                                <a:pt x="287" y="400"/>
                              </a:lnTo>
                              <a:lnTo>
                                <a:pt x="307" y="378"/>
                              </a:lnTo>
                              <a:lnTo>
                                <a:pt x="331" y="353"/>
                              </a:lnTo>
                              <a:lnTo>
                                <a:pt x="363" y="322"/>
                              </a:lnTo>
                              <a:lnTo>
                                <a:pt x="394" y="290"/>
                              </a:lnTo>
                              <a:lnTo>
                                <a:pt x="470" y="218"/>
                              </a:lnTo>
                              <a:lnTo>
                                <a:pt x="542" y="145"/>
                              </a:lnTo>
                              <a:lnTo>
                                <a:pt x="611" y="79"/>
                              </a:lnTo>
                              <a:lnTo>
                                <a:pt x="660" y="35"/>
                              </a:lnTo>
                              <a:lnTo>
                                <a:pt x="680" y="16"/>
                              </a:lnTo>
                              <a:lnTo>
                                <a:pt x="691" y="13"/>
                              </a:lnTo>
                              <a:lnTo>
                                <a:pt x="701" y="10"/>
                              </a:lnTo>
                              <a:lnTo>
                                <a:pt x="725" y="10"/>
                              </a:lnTo>
                              <a:lnTo>
                                <a:pt x="749" y="13"/>
                              </a:lnTo>
                              <a:lnTo>
                                <a:pt x="767" y="10"/>
                              </a:lnTo>
                              <a:lnTo>
                                <a:pt x="839" y="6"/>
                              </a:lnTo>
                              <a:lnTo>
                                <a:pt x="912" y="3"/>
                              </a:lnTo>
                              <a:lnTo>
                                <a:pt x="984" y="0"/>
                              </a:lnTo>
                              <a:lnTo>
                                <a:pt x="1057" y="0"/>
                              </a:lnTo>
                              <a:lnTo>
                                <a:pt x="1195" y="3"/>
                              </a:lnTo>
                              <a:lnTo>
                                <a:pt x="1264" y="3"/>
                              </a:lnTo>
                              <a:lnTo>
                                <a:pt x="1333" y="3"/>
                              </a:lnTo>
                              <a:lnTo>
                                <a:pt x="1333" y="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6" name=""/>
                        <p:cNvSpPr/>
                        <p:nvPr/>
                      </p:nvSpPr>
                      <p:spPr>
                        <a:xfrm>
                          <a:off x="1280880" y="1782720"/>
                          <a:ext cx="116280" cy="41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52" h="148">
                              <a:moveTo>
                                <a:pt x="307" y="0"/>
                              </a:moveTo>
                              <a:lnTo>
                                <a:pt x="311" y="22"/>
                              </a:lnTo>
                              <a:lnTo>
                                <a:pt x="311" y="41"/>
                              </a:lnTo>
                              <a:lnTo>
                                <a:pt x="314" y="60"/>
                              </a:lnTo>
                              <a:lnTo>
                                <a:pt x="318" y="78"/>
                              </a:lnTo>
                              <a:lnTo>
                                <a:pt x="321" y="97"/>
                              </a:lnTo>
                              <a:lnTo>
                                <a:pt x="332" y="113"/>
                              </a:lnTo>
                              <a:lnTo>
                                <a:pt x="338" y="129"/>
                              </a:lnTo>
                              <a:lnTo>
                                <a:pt x="352" y="145"/>
                              </a:lnTo>
                              <a:lnTo>
                                <a:pt x="352" y="145"/>
                              </a:lnTo>
                              <a:lnTo>
                                <a:pt x="318" y="145"/>
                              </a:lnTo>
                              <a:lnTo>
                                <a:pt x="283" y="148"/>
                              </a:lnTo>
                              <a:lnTo>
                                <a:pt x="252" y="148"/>
                              </a:lnTo>
                              <a:lnTo>
                                <a:pt x="235" y="148"/>
                              </a:lnTo>
                              <a:lnTo>
                                <a:pt x="214" y="145"/>
                              </a:lnTo>
                              <a:lnTo>
                                <a:pt x="214" y="138"/>
                              </a:lnTo>
                              <a:lnTo>
                                <a:pt x="211" y="142"/>
                              </a:lnTo>
                              <a:lnTo>
                                <a:pt x="207" y="138"/>
                              </a:lnTo>
                              <a:lnTo>
                                <a:pt x="193" y="145"/>
                              </a:lnTo>
                              <a:lnTo>
                                <a:pt x="31" y="145"/>
                              </a:lnTo>
                              <a:lnTo>
                                <a:pt x="17" y="119"/>
                              </a:lnTo>
                              <a:lnTo>
                                <a:pt x="10" y="88"/>
                              </a:lnTo>
                              <a:lnTo>
                                <a:pt x="3" y="53"/>
                              </a:lnTo>
                              <a:lnTo>
                                <a:pt x="0" y="37"/>
                              </a:lnTo>
                              <a:lnTo>
                                <a:pt x="0" y="22"/>
                              </a:lnTo>
                              <a:lnTo>
                                <a:pt x="24" y="22"/>
                              </a:lnTo>
                              <a:lnTo>
                                <a:pt x="45" y="19"/>
                              </a:lnTo>
                              <a:lnTo>
                                <a:pt x="66" y="15"/>
                              </a:lnTo>
                              <a:lnTo>
                                <a:pt x="86" y="9"/>
                              </a:lnTo>
                              <a:lnTo>
                                <a:pt x="114" y="9"/>
                              </a:lnTo>
                              <a:lnTo>
                                <a:pt x="142" y="9"/>
                              </a:lnTo>
                              <a:lnTo>
                                <a:pt x="197" y="3"/>
                              </a:lnTo>
                              <a:lnTo>
                                <a:pt x="224" y="3"/>
                              </a:lnTo>
                              <a:lnTo>
                                <a:pt x="256" y="0"/>
                              </a:lnTo>
                              <a:lnTo>
                                <a:pt x="283" y="0"/>
                              </a:lnTo>
                              <a:lnTo>
                                <a:pt x="307" y="0"/>
                              </a:lnTo>
                              <a:lnTo>
                                <a:pt x="30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505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040" bIns="-5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1198440" y="1788840"/>
                          <a:ext cx="82080" cy="38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9" h="138">
                              <a:moveTo>
                                <a:pt x="228" y="0"/>
                              </a:moveTo>
                              <a:lnTo>
                                <a:pt x="228" y="31"/>
                              </a:lnTo>
                              <a:lnTo>
                                <a:pt x="232" y="63"/>
                              </a:lnTo>
                              <a:lnTo>
                                <a:pt x="235" y="79"/>
                              </a:lnTo>
                              <a:lnTo>
                                <a:pt x="239" y="94"/>
                              </a:lnTo>
                              <a:lnTo>
                                <a:pt x="242" y="107"/>
                              </a:lnTo>
                              <a:lnTo>
                                <a:pt x="249" y="123"/>
                              </a:lnTo>
                              <a:lnTo>
                                <a:pt x="242" y="129"/>
                              </a:lnTo>
                              <a:lnTo>
                                <a:pt x="228" y="129"/>
                              </a:lnTo>
                              <a:lnTo>
                                <a:pt x="214" y="129"/>
                              </a:lnTo>
                              <a:lnTo>
                                <a:pt x="190" y="129"/>
                              </a:lnTo>
                              <a:lnTo>
                                <a:pt x="163" y="132"/>
                              </a:lnTo>
                              <a:lnTo>
                                <a:pt x="149" y="132"/>
                              </a:lnTo>
                              <a:lnTo>
                                <a:pt x="135" y="129"/>
                              </a:lnTo>
                              <a:lnTo>
                                <a:pt x="125" y="138"/>
                              </a:lnTo>
                              <a:lnTo>
                                <a:pt x="114" y="138"/>
                              </a:lnTo>
                              <a:lnTo>
                                <a:pt x="107" y="135"/>
                              </a:lnTo>
                              <a:lnTo>
                                <a:pt x="0" y="19"/>
                              </a:lnTo>
                              <a:lnTo>
                                <a:pt x="14" y="19"/>
                              </a:lnTo>
                              <a:lnTo>
                                <a:pt x="21" y="15"/>
                              </a:lnTo>
                              <a:lnTo>
                                <a:pt x="28" y="12"/>
                              </a:lnTo>
                              <a:lnTo>
                                <a:pt x="49" y="9"/>
                              </a:lnTo>
                              <a:lnTo>
                                <a:pt x="73" y="9"/>
                              </a:lnTo>
                              <a:lnTo>
                                <a:pt x="118" y="9"/>
                              </a:lnTo>
                              <a:lnTo>
                                <a:pt x="139" y="6"/>
                              </a:lnTo>
                              <a:lnTo>
                                <a:pt x="163" y="6"/>
                              </a:lnTo>
                              <a:lnTo>
                                <a:pt x="183" y="3"/>
                              </a:lnTo>
                              <a:lnTo>
                                <a:pt x="208" y="0"/>
                              </a:lnTo>
                              <a:lnTo>
                                <a:pt x="214" y="0"/>
                              </a:lnTo>
                              <a:lnTo>
                                <a:pt x="221" y="3"/>
                              </a:lnTo>
                              <a:lnTo>
                                <a:pt x="228" y="0"/>
                              </a:lnTo>
                              <a:lnTo>
                                <a:pt x="22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505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920" bIns="-7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>
                          <a:off x="771480" y="1788840"/>
                          <a:ext cx="220320" cy="198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66" h="700">
                              <a:moveTo>
                                <a:pt x="666" y="135"/>
                              </a:moveTo>
                              <a:lnTo>
                                <a:pt x="642" y="132"/>
                              </a:lnTo>
                              <a:lnTo>
                                <a:pt x="628" y="132"/>
                              </a:lnTo>
                              <a:lnTo>
                                <a:pt x="618" y="135"/>
                              </a:lnTo>
                              <a:lnTo>
                                <a:pt x="608" y="176"/>
                              </a:lnTo>
                              <a:lnTo>
                                <a:pt x="590" y="195"/>
                              </a:lnTo>
                              <a:lnTo>
                                <a:pt x="573" y="217"/>
                              </a:lnTo>
                              <a:lnTo>
                                <a:pt x="552" y="236"/>
                              </a:lnTo>
                              <a:lnTo>
                                <a:pt x="532" y="252"/>
                              </a:lnTo>
                              <a:lnTo>
                                <a:pt x="511" y="268"/>
                              </a:lnTo>
                              <a:lnTo>
                                <a:pt x="490" y="287"/>
                              </a:lnTo>
                              <a:lnTo>
                                <a:pt x="445" y="318"/>
                              </a:lnTo>
                              <a:lnTo>
                                <a:pt x="418" y="340"/>
                              </a:lnTo>
                              <a:lnTo>
                                <a:pt x="390" y="365"/>
                              </a:lnTo>
                              <a:lnTo>
                                <a:pt x="362" y="388"/>
                              </a:lnTo>
                              <a:lnTo>
                                <a:pt x="335" y="413"/>
                              </a:lnTo>
                              <a:lnTo>
                                <a:pt x="283" y="460"/>
                              </a:lnTo>
                              <a:lnTo>
                                <a:pt x="231" y="511"/>
                              </a:lnTo>
                              <a:lnTo>
                                <a:pt x="179" y="558"/>
                              </a:lnTo>
                              <a:lnTo>
                                <a:pt x="128" y="605"/>
                              </a:lnTo>
                              <a:lnTo>
                                <a:pt x="76" y="652"/>
                              </a:lnTo>
                              <a:lnTo>
                                <a:pt x="48" y="678"/>
                              </a:lnTo>
                              <a:lnTo>
                                <a:pt x="21" y="700"/>
                              </a:lnTo>
                              <a:lnTo>
                                <a:pt x="14" y="693"/>
                              </a:lnTo>
                              <a:lnTo>
                                <a:pt x="10" y="659"/>
                              </a:lnTo>
                              <a:lnTo>
                                <a:pt x="7" y="624"/>
                              </a:lnTo>
                              <a:lnTo>
                                <a:pt x="3" y="593"/>
                              </a:lnTo>
                              <a:lnTo>
                                <a:pt x="0" y="561"/>
                              </a:lnTo>
                              <a:lnTo>
                                <a:pt x="24" y="545"/>
                              </a:lnTo>
                              <a:lnTo>
                                <a:pt x="48" y="526"/>
                              </a:lnTo>
                              <a:lnTo>
                                <a:pt x="72" y="507"/>
                              </a:lnTo>
                              <a:lnTo>
                                <a:pt x="97" y="488"/>
                              </a:lnTo>
                              <a:lnTo>
                                <a:pt x="145" y="441"/>
                              </a:lnTo>
                              <a:lnTo>
                                <a:pt x="193" y="397"/>
                              </a:lnTo>
                              <a:lnTo>
                                <a:pt x="235" y="359"/>
                              </a:lnTo>
                              <a:lnTo>
                                <a:pt x="280" y="324"/>
                              </a:lnTo>
                              <a:lnTo>
                                <a:pt x="321" y="287"/>
                              </a:lnTo>
                              <a:lnTo>
                                <a:pt x="362" y="249"/>
                              </a:lnTo>
                              <a:lnTo>
                                <a:pt x="404" y="211"/>
                              </a:lnTo>
                              <a:lnTo>
                                <a:pt x="449" y="176"/>
                              </a:lnTo>
                              <a:lnTo>
                                <a:pt x="494" y="142"/>
                              </a:lnTo>
                              <a:lnTo>
                                <a:pt x="539" y="110"/>
                              </a:lnTo>
                              <a:lnTo>
                                <a:pt x="659" y="0"/>
                              </a:lnTo>
                              <a:lnTo>
                                <a:pt x="659" y="34"/>
                              </a:lnTo>
                              <a:lnTo>
                                <a:pt x="663" y="66"/>
                              </a:lnTo>
                              <a:lnTo>
                                <a:pt x="666" y="101"/>
                              </a:lnTo>
                              <a:lnTo>
                                <a:pt x="666" y="135"/>
                              </a:lnTo>
                              <a:lnTo>
                                <a:pt x="666" y="13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933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>
                          <a:off x="998640" y="1790640"/>
                          <a:ext cx="171360" cy="200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18" h="706">
                              <a:moveTo>
                                <a:pt x="404" y="470"/>
                              </a:moveTo>
                              <a:lnTo>
                                <a:pt x="418" y="482"/>
                              </a:lnTo>
                              <a:lnTo>
                                <a:pt x="435" y="495"/>
                              </a:lnTo>
                              <a:lnTo>
                                <a:pt x="449" y="508"/>
                              </a:lnTo>
                              <a:lnTo>
                                <a:pt x="466" y="523"/>
                              </a:lnTo>
                              <a:lnTo>
                                <a:pt x="494" y="558"/>
                              </a:lnTo>
                              <a:lnTo>
                                <a:pt x="518" y="587"/>
                              </a:lnTo>
                              <a:lnTo>
                                <a:pt x="518" y="706"/>
                              </a:lnTo>
                              <a:lnTo>
                                <a:pt x="497" y="687"/>
                              </a:lnTo>
                              <a:lnTo>
                                <a:pt x="442" y="634"/>
                              </a:lnTo>
                              <a:lnTo>
                                <a:pt x="404" y="599"/>
                              </a:lnTo>
                              <a:lnTo>
                                <a:pt x="363" y="558"/>
                              </a:lnTo>
                              <a:lnTo>
                                <a:pt x="318" y="511"/>
                              </a:lnTo>
                              <a:lnTo>
                                <a:pt x="273" y="464"/>
                              </a:lnTo>
                              <a:lnTo>
                                <a:pt x="228" y="413"/>
                              </a:lnTo>
                              <a:lnTo>
                                <a:pt x="187" y="366"/>
                              </a:lnTo>
                              <a:lnTo>
                                <a:pt x="145" y="315"/>
                              </a:lnTo>
                              <a:lnTo>
                                <a:pt x="107" y="274"/>
                              </a:lnTo>
                              <a:lnTo>
                                <a:pt x="55" y="205"/>
                              </a:lnTo>
                              <a:lnTo>
                                <a:pt x="31" y="177"/>
                              </a:lnTo>
                              <a:lnTo>
                                <a:pt x="31" y="164"/>
                              </a:lnTo>
                              <a:lnTo>
                                <a:pt x="31" y="155"/>
                              </a:lnTo>
                              <a:lnTo>
                                <a:pt x="28" y="145"/>
                              </a:lnTo>
                              <a:lnTo>
                                <a:pt x="14" y="136"/>
                              </a:lnTo>
                              <a:lnTo>
                                <a:pt x="0" y="136"/>
                              </a:lnTo>
                              <a:lnTo>
                                <a:pt x="7" y="123"/>
                              </a:lnTo>
                              <a:lnTo>
                                <a:pt x="0" y="0"/>
                              </a:lnTo>
                              <a:lnTo>
                                <a:pt x="24" y="28"/>
                              </a:lnTo>
                              <a:lnTo>
                                <a:pt x="48" y="60"/>
                              </a:lnTo>
                              <a:lnTo>
                                <a:pt x="97" y="120"/>
                              </a:lnTo>
                              <a:lnTo>
                                <a:pt x="145" y="180"/>
                              </a:lnTo>
                              <a:lnTo>
                                <a:pt x="197" y="237"/>
                              </a:lnTo>
                              <a:lnTo>
                                <a:pt x="249" y="296"/>
                              </a:lnTo>
                              <a:lnTo>
                                <a:pt x="300" y="353"/>
                              </a:lnTo>
                              <a:lnTo>
                                <a:pt x="352" y="413"/>
                              </a:lnTo>
                              <a:lnTo>
                                <a:pt x="404" y="470"/>
                              </a:lnTo>
                              <a:lnTo>
                                <a:pt x="404" y="47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933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0" name=""/>
                        <p:cNvSpPr/>
                        <p:nvPr/>
                      </p:nvSpPr>
                      <p:spPr>
                        <a:xfrm>
                          <a:off x="1582920" y="1821600"/>
                          <a:ext cx="123120" cy="46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3" h="164">
                              <a:moveTo>
                                <a:pt x="307" y="19"/>
                              </a:moveTo>
                              <a:lnTo>
                                <a:pt x="314" y="26"/>
                              </a:lnTo>
                              <a:lnTo>
                                <a:pt x="317" y="32"/>
                              </a:lnTo>
                              <a:lnTo>
                                <a:pt x="324" y="51"/>
                              </a:lnTo>
                              <a:lnTo>
                                <a:pt x="331" y="67"/>
                              </a:lnTo>
                              <a:lnTo>
                                <a:pt x="335" y="73"/>
                              </a:lnTo>
                              <a:lnTo>
                                <a:pt x="342" y="79"/>
                              </a:lnTo>
                              <a:lnTo>
                                <a:pt x="342" y="89"/>
                              </a:lnTo>
                              <a:lnTo>
                                <a:pt x="345" y="95"/>
                              </a:lnTo>
                              <a:lnTo>
                                <a:pt x="352" y="101"/>
                              </a:lnTo>
                              <a:lnTo>
                                <a:pt x="349" y="111"/>
                              </a:lnTo>
                              <a:lnTo>
                                <a:pt x="359" y="117"/>
                              </a:lnTo>
                              <a:lnTo>
                                <a:pt x="359" y="123"/>
                              </a:lnTo>
                              <a:lnTo>
                                <a:pt x="359" y="133"/>
                              </a:lnTo>
                              <a:lnTo>
                                <a:pt x="366" y="139"/>
                              </a:lnTo>
                              <a:lnTo>
                                <a:pt x="369" y="149"/>
                              </a:lnTo>
                              <a:lnTo>
                                <a:pt x="369" y="155"/>
                              </a:lnTo>
                              <a:lnTo>
                                <a:pt x="373" y="164"/>
                              </a:lnTo>
                              <a:lnTo>
                                <a:pt x="342" y="164"/>
                              </a:lnTo>
                              <a:lnTo>
                                <a:pt x="311" y="161"/>
                              </a:lnTo>
                              <a:lnTo>
                                <a:pt x="276" y="158"/>
                              </a:lnTo>
                              <a:lnTo>
                                <a:pt x="207" y="158"/>
                              </a:lnTo>
                              <a:lnTo>
                                <a:pt x="172" y="158"/>
                              </a:lnTo>
                              <a:lnTo>
                                <a:pt x="155" y="155"/>
                              </a:lnTo>
                              <a:lnTo>
                                <a:pt x="134" y="158"/>
                              </a:lnTo>
                              <a:lnTo>
                                <a:pt x="114" y="158"/>
                              </a:lnTo>
                              <a:lnTo>
                                <a:pt x="103" y="158"/>
                              </a:lnTo>
                              <a:lnTo>
                                <a:pt x="93" y="158"/>
                              </a:lnTo>
                              <a:lnTo>
                                <a:pt x="79" y="155"/>
                              </a:lnTo>
                              <a:lnTo>
                                <a:pt x="65" y="158"/>
                              </a:lnTo>
                              <a:lnTo>
                                <a:pt x="52" y="158"/>
                              </a:lnTo>
                              <a:lnTo>
                                <a:pt x="45" y="152"/>
                              </a:lnTo>
                              <a:lnTo>
                                <a:pt x="41" y="145"/>
                              </a:lnTo>
                              <a:lnTo>
                                <a:pt x="31" y="111"/>
                              </a:lnTo>
                              <a:lnTo>
                                <a:pt x="24" y="92"/>
                              </a:lnTo>
                              <a:lnTo>
                                <a:pt x="14" y="73"/>
                              </a:lnTo>
                              <a:lnTo>
                                <a:pt x="14" y="57"/>
                              </a:lnTo>
                              <a:lnTo>
                                <a:pt x="10" y="38"/>
                              </a:lnTo>
                              <a:lnTo>
                                <a:pt x="0" y="7"/>
                              </a:lnTo>
                              <a:lnTo>
                                <a:pt x="10" y="4"/>
                              </a:lnTo>
                              <a:lnTo>
                                <a:pt x="24" y="7"/>
                              </a:lnTo>
                              <a:lnTo>
                                <a:pt x="38" y="7"/>
                              </a:lnTo>
                              <a:lnTo>
                                <a:pt x="48" y="0"/>
                              </a:lnTo>
                              <a:lnTo>
                                <a:pt x="48" y="0"/>
                              </a:lnTo>
                              <a:lnTo>
                                <a:pt x="48" y="0"/>
                              </a:lnTo>
                              <a:lnTo>
                                <a:pt x="62" y="4"/>
                              </a:lnTo>
                              <a:lnTo>
                                <a:pt x="76" y="4"/>
                              </a:lnTo>
                              <a:lnTo>
                                <a:pt x="90" y="0"/>
                              </a:lnTo>
                              <a:lnTo>
                                <a:pt x="107" y="0"/>
                              </a:lnTo>
                              <a:lnTo>
                                <a:pt x="121" y="0"/>
                              </a:lnTo>
                              <a:lnTo>
                                <a:pt x="134" y="4"/>
                              </a:lnTo>
                              <a:lnTo>
                                <a:pt x="165" y="13"/>
                              </a:lnTo>
                              <a:lnTo>
                                <a:pt x="169" y="7"/>
                              </a:lnTo>
                              <a:lnTo>
                                <a:pt x="179" y="4"/>
                              </a:lnTo>
                              <a:lnTo>
                                <a:pt x="197" y="4"/>
                              </a:lnTo>
                              <a:lnTo>
                                <a:pt x="221" y="7"/>
                              </a:lnTo>
                              <a:lnTo>
                                <a:pt x="231" y="7"/>
                              </a:lnTo>
                              <a:lnTo>
                                <a:pt x="241" y="7"/>
                              </a:lnTo>
                              <a:lnTo>
                                <a:pt x="259" y="7"/>
                              </a:lnTo>
                              <a:lnTo>
                                <a:pt x="276" y="10"/>
                              </a:lnTo>
                              <a:lnTo>
                                <a:pt x="307" y="19"/>
                              </a:lnTo>
                              <a:lnTo>
                                <a:pt x="307" y="1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505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0" bIns="-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1" name=""/>
                        <p:cNvSpPr/>
                        <p:nvPr/>
                      </p:nvSpPr>
                      <p:spPr>
                        <a:xfrm>
                          <a:off x="1468440" y="1822680"/>
                          <a:ext cx="122400" cy="45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0" h="160">
                              <a:moveTo>
                                <a:pt x="325" y="3"/>
                              </a:moveTo>
                              <a:lnTo>
                                <a:pt x="328" y="41"/>
                              </a:lnTo>
                              <a:lnTo>
                                <a:pt x="339" y="75"/>
                              </a:lnTo>
                              <a:lnTo>
                                <a:pt x="353" y="107"/>
                              </a:lnTo>
                              <a:lnTo>
                                <a:pt x="366" y="141"/>
                              </a:lnTo>
                              <a:lnTo>
                                <a:pt x="370" y="151"/>
                              </a:lnTo>
                              <a:lnTo>
                                <a:pt x="366" y="154"/>
                              </a:lnTo>
                              <a:lnTo>
                                <a:pt x="342" y="154"/>
                              </a:lnTo>
                              <a:lnTo>
                                <a:pt x="322" y="157"/>
                              </a:lnTo>
                              <a:lnTo>
                                <a:pt x="297" y="157"/>
                              </a:lnTo>
                              <a:lnTo>
                                <a:pt x="273" y="154"/>
                              </a:lnTo>
                              <a:lnTo>
                                <a:pt x="259" y="157"/>
                              </a:lnTo>
                              <a:lnTo>
                                <a:pt x="246" y="157"/>
                              </a:lnTo>
                              <a:lnTo>
                                <a:pt x="232" y="157"/>
                              </a:lnTo>
                              <a:lnTo>
                                <a:pt x="214" y="160"/>
                              </a:lnTo>
                              <a:lnTo>
                                <a:pt x="190" y="157"/>
                              </a:lnTo>
                              <a:lnTo>
                                <a:pt x="177" y="157"/>
                              </a:lnTo>
                              <a:lnTo>
                                <a:pt x="166" y="160"/>
                              </a:lnTo>
                              <a:lnTo>
                                <a:pt x="45" y="160"/>
                              </a:lnTo>
                              <a:lnTo>
                                <a:pt x="35" y="145"/>
                              </a:lnTo>
                              <a:lnTo>
                                <a:pt x="25" y="126"/>
                              </a:lnTo>
                              <a:lnTo>
                                <a:pt x="18" y="110"/>
                              </a:lnTo>
                              <a:lnTo>
                                <a:pt x="11" y="94"/>
                              </a:lnTo>
                              <a:lnTo>
                                <a:pt x="7" y="78"/>
                              </a:lnTo>
                              <a:lnTo>
                                <a:pt x="4" y="59"/>
                              </a:lnTo>
                              <a:lnTo>
                                <a:pt x="0" y="41"/>
                              </a:lnTo>
                              <a:lnTo>
                                <a:pt x="0" y="22"/>
                              </a:lnTo>
                              <a:lnTo>
                                <a:pt x="25" y="18"/>
                              </a:lnTo>
                              <a:lnTo>
                                <a:pt x="49" y="15"/>
                              </a:lnTo>
                              <a:lnTo>
                                <a:pt x="73" y="12"/>
                              </a:lnTo>
                              <a:lnTo>
                                <a:pt x="94" y="9"/>
                              </a:lnTo>
                              <a:lnTo>
                                <a:pt x="101" y="9"/>
                              </a:lnTo>
                              <a:lnTo>
                                <a:pt x="101" y="9"/>
                              </a:lnTo>
                              <a:lnTo>
                                <a:pt x="111" y="12"/>
                              </a:lnTo>
                              <a:lnTo>
                                <a:pt x="125" y="12"/>
                              </a:lnTo>
                              <a:lnTo>
                                <a:pt x="142" y="9"/>
                              </a:lnTo>
                              <a:lnTo>
                                <a:pt x="159" y="9"/>
                              </a:lnTo>
                              <a:lnTo>
                                <a:pt x="170" y="18"/>
                              </a:lnTo>
                              <a:lnTo>
                                <a:pt x="180" y="22"/>
                              </a:lnTo>
                              <a:lnTo>
                                <a:pt x="190" y="15"/>
                              </a:lnTo>
                              <a:lnTo>
                                <a:pt x="190" y="12"/>
                              </a:lnTo>
                              <a:lnTo>
                                <a:pt x="187" y="9"/>
                              </a:lnTo>
                              <a:lnTo>
                                <a:pt x="214" y="9"/>
                              </a:lnTo>
                              <a:lnTo>
                                <a:pt x="239" y="3"/>
                              </a:lnTo>
                              <a:lnTo>
                                <a:pt x="266" y="3"/>
                              </a:lnTo>
                              <a:lnTo>
                                <a:pt x="277" y="3"/>
                              </a:lnTo>
                              <a:lnTo>
                                <a:pt x="287" y="3"/>
                              </a:lnTo>
                              <a:lnTo>
                                <a:pt x="294" y="0"/>
                              </a:lnTo>
                              <a:lnTo>
                                <a:pt x="304" y="3"/>
                              </a:lnTo>
                              <a:lnTo>
                                <a:pt x="311" y="6"/>
                              </a:lnTo>
                              <a:lnTo>
                                <a:pt x="325" y="3"/>
                              </a:lnTo>
                              <a:lnTo>
                                <a:pt x="325" y="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505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440" bIns="-1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2" name=""/>
                        <p:cNvSpPr/>
                        <p:nvPr/>
                      </p:nvSpPr>
                      <p:spPr>
                        <a:xfrm>
                          <a:off x="1354320" y="1829160"/>
                          <a:ext cx="118440" cy="41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59" h="145">
                              <a:moveTo>
                                <a:pt x="325" y="6"/>
                              </a:moveTo>
                              <a:lnTo>
                                <a:pt x="325" y="25"/>
                              </a:lnTo>
                              <a:lnTo>
                                <a:pt x="325" y="41"/>
                              </a:lnTo>
                              <a:lnTo>
                                <a:pt x="328" y="60"/>
                              </a:lnTo>
                              <a:lnTo>
                                <a:pt x="332" y="75"/>
                              </a:lnTo>
                              <a:lnTo>
                                <a:pt x="338" y="91"/>
                              </a:lnTo>
                              <a:lnTo>
                                <a:pt x="345" y="107"/>
                              </a:lnTo>
                              <a:lnTo>
                                <a:pt x="359" y="138"/>
                              </a:lnTo>
                              <a:lnTo>
                                <a:pt x="318" y="141"/>
                              </a:lnTo>
                              <a:lnTo>
                                <a:pt x="276" y="145"/>
                              </a:lnTo>
                              <a:lnTo>
                                <a:pt x="235" y="145"/>
                              </a:lnTo>
                              <a:lnTo>
                                <a:pt x="197" y="145"/>
                              </a:lnTo>
                              <a:lnTo>
                                <a:pt x="187" y="141"/>
                              </a:lnTo>
                              <a:lnTo>
                                <a:pt x="176" y="135"/>
                              </a:lnTo>
                              <a:lnTo>
                                <a:pt x="169" y="132"/>
                              </a:lnTo>
                              <a:lnTo>
                                <a:pt x="159" y="138"/>
                              </a:lnTo>
                              <a:lnTo>
                                <a:pt x="152" y="145"/>
                              </a:lnTo>
                              <a:lnTo>
                                <a:pt x="45" y="145"/>
                              </a:lnTo>
                              <a:lnTo>
                                <a:pt x="35" y="132"/>
                              </a:lnTo>
                              <a:lnTo>
                                <a:pt x="28" y="119"/>
                              </a:lnTo>
                              <a:lnTo>
                                <a:pt x="21" y="107"/>
                              </a:lnTo>
                              <a:lnTo>
                                <a:pt x="14" y="91"/>
                              </a:lnTo>
                              <a:lnTo>
                                <a:pt x="7" y="63"/>
                              </a:lnTo>
                              <a:lnTo>
                                <a:pt x="3" y="34"/>
                              </a:lnTo>
                              <a:lnTo>
                                <a:pt x="0" y="22"/>
                              </a:lnTo>
                              <a:lnTo>
                                <a:pt x="0" y="15"/>
                              </a:lnTo>
                              <a:lnTo>
                                <a:pt x="3" y="6"/>
                              </a:lnTo>
                              <a:lnTo>
                                <a:pt x="45" y="6"/>
                              </a:lnTo>
                              <a:lnTo>
                                <a:pt x="90" y="6"/>
                              </a:lnTo>
                              <a:lnTo>
                                <a:pt x="135" y="6"/>
                              </a:lnTo>
                              <a:lnTo>
                                <a:pt x="180" y="0"/>
                              </a:lnTo>
                              <a:lnTo>
                                <a:pt x="325" y="0"/>
                              </a:lnTo>
                              <a:lnTo>
                                <a:pt x="325" y="6"/>
                              </a:lnTo>
                              <a:lnTo>
                                <a:pt x="325" y="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505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760" bIns="-57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3" name=""/>
                        <p:cNvSpPr/>
                        <p:nvPr/>
                      </p:nvSpPr>
                      <p:spPr>
                        <a:xfrm>
                          <a:off x="1243440" y="1830600"/>
                          <a:ext cx="114120" cy="39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45" h="139">
                              <a:moveTo>
                                <a:pt x="307" y="0"/>
                              </a:moveTo>
                              <a:lnTo>
                                <a:pt x="314" y="35"/>
                              </a:lnTo>
                              <a:lnTo>
                                <a:pt x="325" y="69"/>
                              </a:lnTo>
                              <a:lnTo>
                                <a:pt x="345" y="139"/>
                              </a:lnTo>
                              <a:lnTo>
                                <a:pt x="107" y="139"/>
                              </a:lnTo>
                              <a:lnTo>
                                <a:pt x="93" y="123"/>
                              </a:lnTo>
                              <a:lnTo>
                                <a:pt x="79" y="110"/>
                              </a:lnTo>
                              <a:lnTo>
                                <a:pt x="52" y="79"/>
                              </a:lnTo>
                              <a:lnTo>
                                <a:pt x="28" y="47"/>
                              </a:lnTo>
                              <a:lnTo>
                                <a:pt x="0" y="16"/>
                              </a:lnTo>
                              <a:lnTo>
                                <a:pt x="14" y="13"/>
                              </a:lnTo>
                              <a:lnTo>
                                <a:pt x="24" y="13"/>
                              </a:lnTo>
                              <a:lnTo>
                                <a:pt x="35" y="6"/>
                              </a:lnTo>
                              <a:lnTo>
                                <a:pt x="107" y="3"/>
                              </a:lnTo>
                              <a:lnTo>
                                <a:pt x="142" y="0"/>
                              </a:lnTo>
                              <a:lnTo>
                                <a:pt x="176" y="0"/>
                              </a:lnTo>
                              <a:lnTo>
                                <a:pt x="207" y="0"/>
                              </a:lnTo>
                              <a:lnTo>
                                <a:pt x="242" y="0"/>
                              </a:lnTo>
                              <a:lnTo>
                                <a:pt x="276" y="0"/>
                              </a:lnTo>
                              <a:lnTo>
                                <a:pt x="307" y="0"/>
                              </a:lnTo>
                              <a:lnTo>
                                <a:pt x="30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505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560" bIns="-7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4" name=""/>
                        <p:cNvSpPr/>
                        <p:nvPr/>
                      </p:nvSpPr>
                      <p:spPr>
                        <a:xfrm>
                          <a:off x="981720" y="1834560"/>
                          <a:ext cx="18000" cy="24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5" h="88">
                              <a:moveTo>
                                <a:pt x="52" y="9"/>
                              </a:moveTo>
                              <a:lnTo>
                                <a:pt x="55" y="28"/>
                              </a:lnTo>
                              <a:lnTo>
                                <a:pt x="52" y="44"/>
                              </a:lnTo>
                              <a:lnTo>
                                <a:pt x="49" y="63"/>
                              </a:lnTo>
                              <a:lnTo>
                                <a:pt x="45" y="78"/>
                              </a:lnTo>
                              <a:lnTo>
                                <a:pt x="35" y="85"/>
                              </a:lnTo>
                              <a:lnTo>
                                <a:pt x="24" y="85"/>
                              </a:lnTo>
                              <a:lnTo>
                                <a:pt x="4" y="88"/>
                              </a:lnTo>
                              <a:lnTo>
                                <a:pt x="0" y="75"/>
                              </a:lnTo>
                              <a:lnTo>
                                <a:pt x="0" y="63"/>
                              </a:lnTo>
                              <a:lnTo>
                                <a:pt x="4" y="41"/>
                              </a:lnTo>
                              <a:lnTo>
                                <a:pt x="7" y="22"/>
                              </a:lnTo>
                              <a:lnTo>
                                <a:pt x="11" y="3"/>
                              </a:lnTo>
                              <a:lnTo>
                                <a:pt x="21" y="0"/>
                              </a:lnTo>
                              <a:lnTo>
                                <a:pt x="31" y="0"/>
                              </a:lnTo>
                              <a:lnTo>
                                <a:pt x="52" y="9"/>
                              </a:lnTo>
                              <a:lnTo>
                                <a:pt x="52" y="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960" bIns="-21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5" name=""/>
                        <p:cNvSpPr/>
                        <p:nvPr/>
                      </p:nvSpPr>
                      <p:spPr>
                        <a:xfrm>
                          <a:off x="868320" y="1859400"/>
                          <a:ext cx="213480" cy="74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46" h="262">
                              <a:moveTo>
                                <a:pt x="332" y="25"/>
                              </a:moveTo>
                              <a:lnTo>
                                <a:pt x="342" y="22"/>
                              </a:lnTo>
                              <a:lnTo>
                                <a:pt x="353" y="22"/>
                              </a:lnTo>
                              <a:lnTo>
                                <a:pt x="380" y="25"/>
                              </a:lnTo>
                              <a:lnTo>
                                <a:pt x="394" y="28"/>
                              </a:lnTo>
                              <a:lnTo>
                                <a:pt x="404" y="25"/>
                              </a:lnTo>
                              <a:lnTo>
                                <a:pt x="415" y="25"/>
                              </a:lnTo>
                              <a:lnTo>
                                <a:pt x="425" y="19"/>
                              </a:lnTo>
                              <a:lnTo>
                                <a:pt x="425" y="0"/>
                              </a:lnTo>
                              <a:lnTo>
                                <a:pt x="456" y="31"/>
                              </a:lnTo>
                              <a:lnTo>
                                <a:pt x="491" y="72"/>
                              </a:lnTo>
                              <a:lnTo>
                                <a:pt x="529" y="113"/>
                              </a:lnTo>
                              <a:lnTo>
                                <a:pt x="563" y="154"/>
                              </a:lnTo>
                              <a:lnTo>
                                <a:pt x="622" y="224"/>
                              </a:lnTo>
                              <a:lnTo>
                                <a:pt x="646" y="252"/>
                              </a:lnTo>
                              <a:lnTo>
                                <a:pt x="605" y="255"/>
                              </a:lnTo>
                              <a:lnTo>
                                <a:pt x="536" y="258"/>
                              </a:lnTo>
                              <a:lnTo>
                                <a:pt x="449" y="258"/>
                              </a:lnTo>
                              <a:lnTo>
                                <a:pt x="349" y="258"/>
                              </a:lnTo>
                              <a:lnTo>
                                <a:pt x="249" y="258"/>
                              </a:lnTo>
                              <a:lnTo>
                                <a:pt x="152" y="258"/>
                              </a:lnTo>
                              <a:lnTo>
                                <a:pt x="0" y="262"/>
                              </a:lnTo>
                              <a:lnTo>
                                <a:pt x="21" y="239"/>
                              </a:lnTo>
                              <a:lnTo>
                                <a:pt x="38" y="224"/>
                              </a:lnTo>
                              <a:lnTo>
                                <a:pt x="76" y="189"/>
                              </a:lnTo>
                              <a:lnTo>
                                <a:pt x="118" y="154"/>
                              </a:lnTo>
                              <a:lnTo>
                                <a:pt x="156" y="123"/>
                              </a:lnTo>
                              <a:lnTo>
                                <a:pt x="235" y="63"/>
                              </a:lnTo>
                              <a:lnTo>
                                <a:pt x="277" y="31"/>
                              </a:lnTo>
                              <a:lnTo>
                                <a:pt x="315" y="0"/>
                              </a:lnTo>
                              <a:lnTo>
                                <a:pt x="318" y="9"/>
                              </a:lnTo>
                              <a:lnTo>
                                <a:pt x="315" y="12"/>
                              </a:lnTo>
                              <a:lnTo>
                                <a:pt x="318" y="19"/>
                              </a:lnTo>
                              <a:lnTo>
                                <a:pt x="332" y="25"/>
                              </a:lnTo>
                              <a:lnTo>
                                <a:pt x="332" y="2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360" bIns="27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6" name=""/>
                        <p:cNvSpPr/>
                        <p:nvPr/>
                      </p:nvSpPr>
                      <p:spPr>
                        <a:xfrm>
                          <a:off x="1658160" y="1872720"/>
                          <a:ext cx="68400" cy="33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7" h="120">
                              <a:moveTo>
                                <a:pt x="86" y="3"/>
                              </a:moveTo>
                              <a:lnTo>
                                <a:pt x="117" y="6"/>
                              </a:lnTo>
                              <a:lnTo>
                                <a:pt x="134" y="10"/>
                              </a:lnTo>
                              <a:lnTo>
                                <a:pt x="152" y="10"/>
                              </a:lnTo>
                              <a:lnTo>
                                <a:pt x="165" y="35"/>
                              </a:lnTo>
                              <a:lnTo>
                                <a:pt x="179" y="60"/>
                              </a:lnTo>
                              <a:lnTo>
                                <a:pt x="193" y="85"/>
                              </a:lnTo>
                              <a:lnTo>
                                <a:pt x="207" y="107"/>
                              </a:lnTo>
                              <a:lnTo>
                                <a:pt x="207" y="120"/>
                              </a:lnTo>
                              <a:lnTo>
                                <a:pt x="86" y="120"/>
                              </a:lnTo>
                              <a:lnTo>
                                <a:pt x="69" y="117"/>
                              </a:lnTo>
                              <a:lnTo>
                                <a:pt x="55" y="110"/>
                              </a:lnTo>
                              <a:lnTo>
                                <a:pt x="45" y="101"/>
                              </a:lnTo>
                              <a:lnTo>
                                <a:pt x="38" y="88"/>
                              </a:lnTo>
                              <a:lnTo>
                                <a:pt x="20" y="63"/>
                              </a:lnTo>
                              <a:lnTo>
                                <a:pt x="13" y="51"/>
                              </a:lnTo>
                              <a:lnTo>
                                <a:pt x="7" y="35"/>
                              </a:lnTo>
                              <a:lnTo>
                                <a:pt x="0" y="3"/>
                              </a:lnTo>
                              <a:lnTo>
                                <a:pt x="24" y="0"/>
                              </a:lnTo>
                              <a:lnTo>
                                <a:pt x="45" y="0"/>
                              </a:lnTo>
                              <a:lnTo>
                                <a:pt x="69" y="3"/>
                              </a:lnTo>
                              <a:lnTo>
                                <a:pt x="86" y="3"/>
                              </a:lnTo>
                              <a:lnTo>
                                <a:pt x="86" y="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505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2960" bIns="-12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7" name=""/>
                        <p:cNvSpPr/>
                        <p:nvPr/>
                      </p:nvSpPr>
                      <p:spPr>
                        <a:xfrm>
                          <a:off x="1534680" y="1872000"/>
                          <a:ext cx="129960" cy="33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93" h="117">
                              <a:moveTo>
                                <a:pt x="345" y="6"/>
                              </a:moveTo>
                              <a:lnTo>
                                <a:pt x="352" y="19"/>
                              </a:lnTo>
                              <a:lnTo>
                                <a:pt x="359" y="31"/>
                              </a:lnTo>
                              <a:lnTo>
                                <a:pt x="362" y="44"/>
                              </a:lnTo>
                              <a:lnTo>
                                <a:pt x="366" y="60"/>
                              </a:lnTo>
                              <a:lnTo>
                                <a:pt x="369" y="66"/>
                              </a:lnTo>
                              <a:lnTo>
                                <a:pt x="366" y="72"/>
                              </a:lnTo>
                              <a:lnTo>
                                <a:pt x="376" y="82"/>
                              </a:lnTo>
                              <a:lnTo>
                                <a:pt x="383" y="91"/>
                              </a:lnTo>
                              <a:lnTo>
                                <a:pt x="390" y="104"/>
                              </a:lnTo>
                              <a:lnTo>
                                <a:pt x="393" y="117"/>
                              </a:lnTo>
                              <a:lnTo>
                                <a:pt x="359" y="117"/>
                              </a:lnTo>
                              <a:lnTo>
                                <a:pt x="321" y="113"/>
                              </a:lnTo>
                              <a:lnTo>
                                <a:pt x="248" y="113"/>
                              </a:lnTo>
                              <a:lnTo>
                                <a:pt x="210" y="113"/>
                              </a:lnTo>
                              <a:lnTo>
                                <a:pt x="176" y="110"/>
                              </a:lnTo>
                              <a:lnTo>
                                <a:pt x="138" y="110"/>
                              </a:lnTo>
                              <a:lnTo>
                                <a:pt x="100" y="104"/>
                              </a:lnTo>
                              <a:lnTo>
                                <a:pt x="86" y="107"/>
                              </a:lnTo>
                              <a:lnTo>
                                <a:pt x="69" y="107"/>
                              </a:lnTo>
                              <a:lnTo>
                                <a:pt x="51" y="107"/>
                              </a:lnTo>
                              <a:lnTo>
                                <a:pt x="38" y="104"/>
                              </a:lnTo>
                              <a:lnTo>
                                <a:pt x="27" y="82"/>
                              </a:lnTo>
                              <a:lnTo>
                                <a:pt x="17" y="57"/>
                              </a:lnTo>
                              <a:lnTo>
                                <a:pt x="7" y="35"/>
                              </a:lnTo>
                              <a:lnTo>
                                <a:pt x="3" y="22"/>
                              </a:lnTo>
                              <a:lnTo>
                                <a:pt x="0" y="6"/>
                              </a:lnTo>
                              <a:lnTo>
                                <a:pt x="172" y="6"/>
                              </a:lnTo>
                              <a:lnTo>
                                <a:pt x="183" y="9"/>
                              </a:lnTo>
                              <a:lnTo>
                                <a:pt x="193" y="13"/>
                              </a:lnTo>
                              <a:lnTo>
                                <a:pt x="203" y="16"/>
                              </a:lnTo>
                              <a:lnTo>
                                <a:pt x="210" y="13"/>
                              </a:lnTo>
                              <a:lnTo>
                                <a:pt x="217" y="6"/>
                              </a:lnTo>
                              <a:lnTo>
                                <a:pt x="245" y="3"/>
                              </a:lnTo>
                              <a:lnTo>
                                <a:pt x="273" y="6"/>
                              </a:lnTo>
                              <a:lnTo>
                                <a:pt x="304" y="6"/>
                              </a:lnTo>
                              <a:lnTo>
                                <a:pt x="317" y="3"/>
                              </a:lnTo>
                              <a:lnTo>
                                <a:pt x="331" y="0"/>
                              </a:lnTo>
                              <a:lnTo>
                                <a:pt x="335" y="3"/>
                              </a:lnTo>
                              <a:lnTo>
                                <a:pt x="345" y="6"/>
                              </a:lnTo>
                              <a:lnTo>
                                <a:pt x="345" y="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505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680" bIns="-13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8" name=""/>
                        <p:cNvSpPr/>
                        <p:nvPr/>
                      </p:nvSpPr>
                      <p:spPr>
                        <a:xfrm>
                          <a:off x="1413720" y="1873800"/>
                          <a:ext cx="123120" cy="37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3" h="133">
                              <a:moveTo>
                                <a:pt x="338" y="0"/>
                              </a:moveTo>
                              <a:lnTo>
                                <a:pt x="348" y="25"/>
                              </a:lnTo>
                              <a:lnTo>
                                <a:pt x="359" y="51"/>
                              </a:lnTo>
                              <a:lnTo>
                                <a:pt x="366" y="73"/>
                              </a:lnTo>
                              <a:lnTo>
                                <a:pt x="373" y="98"/>
                              </a:lnTo>
                              <a:lnTo>
                                <a:pt x="338" y="104"/>
                              </a:lnTo>
                              <a:lnTo>
                                <a:pt x="300" y="111"/>
                              </a:lnTo>
                              <a:lnTo>
                                <a:pt x="228" y="114"/>
                              </a:lnTo>
                              <a:lnTo>
                                <a:pt x="190" y="117"/>
                              </a:lnTo>
                              <a:lnTo>
                                <a:pt x="152" y="120"/>
                              </a:lnTo>
                              <a:lnTo>
                                <a:pt x="114" y="126"/>
                              </a:lnTo>
                              <a:lnTo>
                                <a:pt x="72" y="133"/>
                              </a:lnTo>
                              <a:lnTo>
                                <a:pt x="45" y="133"/>
                              </a:lnTo>
                              <a:lnTo>
                                <a:pt x="31" y="120"/>
                              </a:lnTo>
                              <a:lnTo>
                                <a:pt x="20" y="107"/>
                              </a:lnTo>
                              <a:lnTo>
                                <a:pt x="17" y="92"/>
                              </a:lnTo>
                              <a:lnTo>
                                <a:pt x="13" y="76"/>
                              </a:lnTo>
                              <a:lnTo>
                                <a:pt x="7" y="41"/>
                              </a:lnTo>
                              <a:lnTo>
                                <a:pt x="7" y="25"/>
                              </a:lnTo>
                              <a:lnTo>
                                <a:pt x="0" y="7"/>
                              </a:lnTo>
                              <a:lnTo>
                                <a:pt x="38" y="7"/>
                              </a:lnTo>
                              <a:lnTo>
                                <a:pt x="76" y="10"/>
                              </a:lnTo>
                              <a:lnTo>
                                <a:pt x="110" y="10"/>
                              </a:lnTo>
                              <a:lnTo>
                                <a:pt x="127" y="10"/>
                              </a:lnTo>
                              <a:lnTo>
                                <a:pt x="145" y="7"/>
                              </a:lnTo>
                              <a:lnTo>
                                <a:pt x="152" y="7"/>
                              </a:lnTo>
                              <a:lnTo>
                                <a:pt x="158" y="7"/>
                              </a:lnTo>
                              <a:lnTo>
                                <a:pt x="169" y="7"/>
                              </a:lnTo>
                              <a:lnTo>
                                <a:pt x="179" y="10"/>
                              </a:lnTo>
                              <a:lnTo>
                                <a:pt x="186" y="7"/>
                              </a:lnTo>
                              <a:lnTo>
                                <a:pt x="217" y="7"/>
                              </a:lnTo>
                              <a:lnTo>
                                <a:pt x="231" y="3"/>
                              </a:lnTo>
                              <a:lnTo>
                                <a:pt x="245" y="0"/>
                              </a:lnTo>
                              <a:lnTo>
                                <a:pt x="317" y="0"/>
                              </a:lnTo>
                              <a:lnTo>
                                <a:pt x="338" y="0"/>
                              </a:lnTo>
                              <a:lnTo>
                                <a:pt x="33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505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9360" bIns="-9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9" name=""/>
                        <p:cNvSpPr/>
                        <p:nvPr/>
                      </p:nvSpPr>
                      <p:spPr>
                        <a:xfrm>
                          <a:off x="1285560" y="1875600"/>
                          <a:ext cx="131400" cy="41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97" h="145">
                              <a:moveTo>
                                <a:pt x="366" y="41"/>
                              </a:moveTo>
                              <a:lnTo>
                                <a:pt x="373" y="63"/>
                              </a:lnTo>
                              <a:lnTo>
                                <a:pt x="380" y="85"/>
                              </a:lnTo>
                              <a:lnTo>
                                <a:pt x="387" y="104"/>
                              </a:lnTo>
                              <a:lnTo>
                                <a:pt x="397" y="126"/>
                              </a:lnTo>
                              <a:lnTo>
                                <a:pt x="373" y="132"/>
                              </a:lnTo>
                              <a:lnTo>
                                <a:pt x="307" y="135"/>
                              </a:lnTo>
                              <a:lnTo>
                                <a:pt x="242" y="141"/>
                              </a:lnTo>
                              <a:lnTo>
                                <a:pt x="176" y="141"/>
                              </a:lnTo>
                              <a:lnTo>
                                <a:pt x="141" y="145"/>
                              </a:lnTo>
                              <a:lnTo>
                                <a:pt x="110" y="145"/>
                              </a:lnTo>
                              <a:lnTo>
                                <a:pt x="79" y="110"/>
                              </a:lnTo>
                              <a:lnTo>
                                <a:pt x="52" y="78"/>
                              </a:lnTo>
                              <a:lnTo>
                                <a:pt x="24" y="47"/>
                              </a:lnTo>
                              <a:lnTo>
                                <a:pt x="14" y="31"/>
                              </a:lnTo>
                              <a:lnTo>
                                <a:pt x="0" y="12"/>
                              </a:lnTo>
                              <a:lnTo>
                                <a:pt x="0" y="6"/>
                              </a:lnTo>
                              <a:lnTo>
                                <a:pt x="48" y="9"/>
                              </a:lnTo>
                              <a:lnTo>
                                <a:pt x="93" y="9"/>
                              </a:lnTo>
                              <a:lnTo>
                                <a:pt x="135" y="9"/>
                              </a:lnTo>
                              <a:lnTo>
                                <a:pt x="179" y="9"/>
                              </a:lnTo>
                              <a:lnTo>
                                <a:pt x="224" y="6"/>
                              </a:lnTo>
                              <a:lnTo>
                                <a:pt x="269" y="6"/>
                              </a:lnTo>
                              <a:lnTo>
                                <a:pt x="359" y="0"/>
                              </a:lnTo>
                              <a:lnTo>
                                <a:pt x="362" y="12"/>
                              </a:lnTo>
                              <a:lnTo>
                                <a:pt x="366" y="22"/>
                              </a:lnTo>
                              <a:lnTo>
                                <a:pt x="366" y="41"/>
                              </a:lnTo>
                              <a:lnTo>
                                <a:pt x="366" y="4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505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760" bIns="-57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0" name=""/>
                        <p:cNvSpPr/>
                        <p:nvPr/>
                      </p:nvSpPr>
                      <p:spPr>
                        <a:xfrm>
                          <a:off x="1199880" y="1880640"/>
                          <a:ext cx="2952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0" h="152">
                              <a:moveTo>
                                <a:pt x="90" y="7"/>
                              </a:moveTo>
                              <a:lnTo>
                                <a:pt x="90" y="7"/>
                              </a:lnTo>
                              <a:lnTo>
                                <a:pt x="90" y="16"/>
                              </a:lnTo>
                              <a:lnTo>
                                <a:pt x="90" y="32"/>
                              </a:lnTo>
                              <a:lnTo>
                                <a:pt x="90" y="70"/>
                              </a:lnTo>
                              <a:lnTo>
                                <a:pt x="90" y="111"/>
                              </a:lnTo>
                              <a:lnTo>
                                <a:pt x="90" y="146"/>
                              </a:lnTo>
                              <a:lnTo>
                                <a:pt x="72" y="149"/>
                              </a:lnTo>
                              <a:lnTo>
                                <a:pt x="48" y="152"/>
                              </a:lnTo>
                              <a:lnTo>
                                <a:pt x="24" y="152"/>
                              </a:lnTo>
                              <a:lnTo>
                                <a:pt x="10" y="149"/>
                              </a:lnTo>
                              <a:lnTo>
                                <a:pt x="3" y="146"/>
                              </a:lnTo>
                              <a:lnTo>
                                <a:pt x="0" y="70"/>
                              </a:lnTo>
                              <a:lnTo>
                                <a:pt x="0" y="26"/>
                              </a:lnTo>
                              <a:lnTo>
                                <a:pt x="0" y="10"/>
                              </a:lnTo>
                              <a:lnTo>
                                <a:pt x="3" y="0"/>
                              </a:lnTo>
                              <a:lnTo>
                                <a:pt x="27" y="4"/>
                              </a:lnTo>
                              <a:lnTo>
                                <a:pt x="55" y="7"/>
                              </a:lnTo>
                              <a:lnTo>
                                <a:pt x="79" y="10"/>
                              </a:lnTo>
                              <a:lnTo>
                                <a:pt x="90" y="7"/>
                              </a:lnTo>
                              <a:lnTo>
                                <a:pt x="90" y="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505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1" name=""/>
                        <p:cNvSpPr/>
                        <p:nvPr/>
                      </p:nvSpPr>
                      <p:spPr>
                        <a:xfrm>
                          <a:off x="1328040" y="1908720"/>
                          <a:ext cx="406440" cy="18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29" h="66">
                              <a:moveTo>
                                <a:pt x="911" y="10"/>
                              </a:moveTo>
                              <a:lnTo>
                                <a:pt x="949" y="10"/>
                              </a:lnTo>
                              <a:lnTo>
                                <a:pt x="987" y="10"/>
                              </a:lnTo>
                              <a:lnTo>
                                <a:pt x="1022" y="10"/>
                              </a:lnTo>
                              <a:lnTo>
                                <a:pt x="1056" y="16"/>
                              </a:lnTo>
                              <a:lnTo>
                                <a:pt x="1098" y="16"/>
                              </a:lnTo>
                              <a:lnTo>
                                <a:pt x="1139" y="19"/>
                              </a:lnTo>
                              <a:lnTo>
                                <a:pt x="1177" y="19"/>
                              </a:lnTo>
                              <a:lnTo>
                                <a:pt x="1222" y="22"/>
                              </a:lnTo>
                              <a:lnTo>
                                <a:pt x="1226" y="32"/>
                              </a:lnTo>
                              <a:lnTo>
                                <a:pt x="1229" y="38"/>
                              </a:lnTo>
                              <a:lnTo>
                                <a:pt x="1229" y="48"/>
                              </a:lnTo>
                              <a:lnTo>
                                <a:pt x="1219" y="44"/>
                              </a:lnTo>
                              <a:lnTo>
                                <a:pt x="1212" y="41"/>
                              </a:lnTo>
                              <a:lnTo>
                                <a:pt x="1191" y="41"/>
                              </a:lnTo>
                              <a:lnTo>
                                <a:pt x="1167" y="44"/>
                              </a:lnTo>
                              <a:lnTo>
                                <a:pt x="1143" y="48"/>
                              </a:lnTo>
                              <a:lnTo>
                                <a:pt x="1119" y="48"/>
                              </a:lnTo>
                              <a:lnTo>
                                <a:pt x="1119" y="41"/>
                              </a:lnTo>
                              <a:lnTo>
                                <a:pt x="1091" y="44"/>
                              </a:lnTo>
                              <a:lnTo>
                                <a:pt x="1060" y="44"/>
                              </a:lnTo>
                              <a:lnTo>
                                <a:pt x="1025" y="44"/>
                              </a:lnTo>
                              <a:lnTo>
                                <a:pt x="1008" y="44"/>
                              </a:lnTo>
                              <a:lnTo>
                                <a:pt x="991" y="48"/>
                              </a:lnTo>
                              <a:lnTo>
                                <a:pt x="973" y="44"/>
                              </a:lnTo>
                              <a:lnTo>
                                <a:pt x="967" y="44"/>
                              </a:lnTo>
                              <a:lnTo>
                                <a:pt x="956" y="41"/>
                              </a:lnTo>
                              <a:lnTo>
                                <a:pt x="887" y="41"/>
                              </a:lnTo>
                              <a:lnTo>
                                <a:pt x="818" y="44"/>
                              </a:lnTo>
                              <a:lnTo>
                                <a:pt x="752" y="48"/>
                              </a:lnTo>
                              <a:lnTo>
                                <a:pt x="718" y="48"/>
                              </a:lnTo>
                              <a:lnTo>
                                <a:pt x="683" y="48"/>
                              </a:lnTo>
                              <a:lnTo>
                                <a:pt x="656" y="48"/>
                              </a:lnTo>
                              <a:lnTo>
                                <a:pt x="632" y="51"/>
                              </a:lnTo>
                              <a:lnTo>
                                <a:pt x="604" y="51"/>
                              </a:lnTo>
                              <a:lnTo>
                                <a:pt x="576" y="48"/>
                              </a:lnTo>
                              <a:lnTo>
                                <a:pt x="552" y="51"/>
                              </a:lnTo>
                              <a:lnTo>
                                <a:pt x="525" y="51"/>
                              </a:lnTo>
                              <a:lnTo>
                                <a:pt x="473" y="51"/>
                              </a:lnTo>
                              <a:lnTo>
                                <a:pt x="421" y="51"/>
                              </a:lnTo>
                              <a:lnTo>
                                <a:pt x="393" y="54"/>
                              </a:lnTo>
                              <a:lnTo>
                                <a:pt x="369" y="54"/>
                              </a:lnTo>
                              <a:lnTo>
                                <a:pt x="338" y="54"/>
                              </a:lnTo>
                              <a:lnTo>
                                <a:pt x="307" y="51"/>
                              </a:lnTo>
                              <a:lnTo>
                                <a:pt x="245" y="51"/>
                              </a:lnTo>
                              <a:lnTo>
                                <a:pt x="183" y="54"/>
                              </a:lnTo>
                              <a:lnTo>
                                <a:pt x="124" y="54"/>
                              </a:lnTo>
                              <a:lnTo>
                                <a:pt x="93" y="60"/>
                              </a:lnTo>
                              <a:lnTo>
                                <a:pt x="62" y="63"/>
                              </a:lnTo>
                              <a:lnTo>
                                <a:pt x="34" y="66"/>
                              </a:lnTo>
                              <a:lnTo>
                                <a:pt x="3" y="66"/>
                              </a:lnTo>
                              <a:lnTo>
                                <a:pt x="0" y="60"/>
                              </a:lnTo>
                              <a:lnTo>
                                <a:pt x="3" y="54"/>
                              </a:lnTo>
                              <a:lnTo>
                                <a:pt x="55" y="54"/>
                              </a:lnTo>
                              <a:lnTo>
                                <a:pt x="107" y="51"/>
                              </a:lnTo>
                              <a:lnTo>
                                <a:pt x="158" y="48"/>
                              </a:lnTo>
                              <a:lnTo>
                                <a:pt x="210" y="41"/>
                              </a:lnTo>
                              <a:lnTo>
                                <a:pt x="283" y="35"/>
                              </a:lnTo>
                              <a:lnTo>
                                <a:pt x="293" y="38"/>
                              </a:lnTo>
                              <a:lnTo>
                                <a:pt x="304" y="41"/>
                              </a:lnTo>
                              <a:lnTo>
                                <a:pt x="317" y="29"/>
                              </a:lnTo>
                              <a:lnTo>
                                <a:pt x="345" y="22"/>
                              </a:lnTo>
                              <a:lnTo>
                                <a:pt x="376" y="19"/>
                              </a:lnTo>
                              <a:lnTo>
                                <a:pt x="438" y="16"/>
                              </a:lnTo>
                              <a:lnTo>
                                <a:pt x="500" y="13"/>
                              </a:lnTo>
                              <a:lnTo>
                                <a:pt x="563" y="10"/>
                              </a:lnTo>
                              <a:lnTo>
                                <a:pt x="569" y="3"/>
                              </a:lnTo>
                              <a:lnTo>
                                <a:pt x="649" y="3"/>
                              </a:lnTo>
                              <a:lnTo>
                                <a:pt x="656" y="13"/>
                              </a:lnTo>
                              <a:lnTo>
                                <a:pt x="659" y="16"/>
                              </a:lnTo>
                              <a:lnTo>
                                <a:pt x="663" y="22"/>
                              </a:lnTo>
                              <a:lnTo>
                                <a:pt x="673" y="7"/>
                              </a:lnTo>
                              <a:lnTo>
                                <a:pt x="690" y="0"/>
                              </a:lnTo>
                              <a:lnTo>
                                <a:pt x="708" y="0"/>
                              </a:lnTo>
                              <a:lnTo>
                                <a:pt x="725" y="0"/>
                              </a:lnTo>
                              <a:lnTo>
                                <a:pt x="766" y="3"/>
                              </a:lnTo>
                              <a:lnTo>
                                <a:pt x="787" y="3"/>
                              </a:lnTo>
                              <a:lnTo>
                                <a:pt x="804" y="3"/>
                              </a:lnTo>
                              <a:lnTo>
                                <a:pt x="822" y="7"/>
                              </a:lnTo>
                              <a:lnTo>
                                <a:pt x="832" y="7"/>
                              </a:lnTo>
                              <a:lnTo>
                                <a:pt x="842" y="10"/>
                              </a:lnTo>
                              <a:lnTo>
                                <a:pt x="860" y="3"/>
                              </a:lnTo>
                              <a:lnTo>
                                <a:pt x="877" y="3"/>
                              </a:lnTo>
                              <a:lnTo>
                                <a:pt x="894" y="3"/>
                              </a:lnTo>
                              <a:lnTo>
                                <a:pt x="911" y="10"/>
                              </a:lnTo>
                              <a:lnTo>
                                <a:pt x="911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080" bIns="-28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2" name=""/>
                        <p:cNvSpPr/>
                        <p:nvPr/>
                      </p:nvSpPr>
                      <p:spPr>
                        <a:xfrm>
                          <a:off x="694440" y="1886040"/>
                          <a:ext cx="32040" cy="33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7" h="120">
                              <a:moveTo>
                                <a:pt x="97" y="4"/>
                              </a:moveTo>
                              <a:lnTo>
                                <a:pt x="97" y="114"/>
                              </a:lnTo>
                              <a:lnTo>
                                <a:pt x="73" y="117"/>
                              </a:lnTo>
                              <a:lnTo>
                                <a:pt x="45" y="120"/>
                              </a:lnTo>
                              <a:lnTo>
                                <a:pt x="32" y="120"/>
                              </a:lnTo>
                              <a:lnTo>
                                <a:pt x="18" y="117"/>
                              </a:lnTo>
                              <a:lnTo>
                                <a:pt x="11" y="111"/>
                              </a:lnTo>
                              <a:lnTo>
                                <a:pt x="4" y="101"/>
                              </a:lnTo>
                              <a:lnTo>
                                <a:pt x="0" y="76"/>
                              </a:lnTo>
                              <a:lnTo>
                                <a:pt x="4" y="51"/>
                              </a:lnTo>
                              <a:lnTo>
                                <a:pt x="4" y="38"/>
                              </a:lnTo>
                              <a:lnTo>
                                <a:pt x="7" y="26"/>
                              </a:lnTo>
                              <a:lnTo>
                                <a:pt x="14" y="16"/>
                              </a:lnTo>
                              <a:lnTo>
                                <a:pt x="25" y="10"/>
                              </a:lnTo>
                              <a:lnTo>
                                <a:pt x="38" y="10"/>
                              </a:lnTo>
                              <a:lnTo>
                                <a:pt x="49" y="7"/>
                              </a:lnTo>
                              <a:lnTo>
                                <a:pt x="59" y="0"/>
                              </a:lnTo>
                              <a:lnTo>
                                <a:pt x="73" y="4"/>
                              </a:lnTo>
                              <a:lnTo>
                                <a:pt x="97" y="4"/>
                              </a:lnTo>
                              <a:lnTo>
                                <a:pt x="97" y="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505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2960" bIns="-12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3" name=""/>
                        <p:cNvSpPr/>
                        <p:nvPr/>
                      </p:nvSpPr>
                      <p:spPr>
                        <a:xfrm>
                          <a:off x="1542960" y="1917000"/>
                          <a:ext cx="216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" h="6">
                              <a:moveTo>
                                <a:pt x="7" y="0"/>
                              </a:moveTo>
                              <a:lnTo>
                                <a:pt x="0" y="6"/>
                              </a:lnTo>
                              <a:lnTo>
                                <a:pt x="7" y="0"/>
                              </a:lnTo>
                              <a:lnTo>
                                <a:pt x="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4" name=""/>
                        <p:cNvSpPr/>
                        <p:nvPr/>
                      </p:nvSpPr>
                      <p:spPr>
                        <a:xfrm>
                          <a:off x="1329120" y="1929240"/>
                          <a:ext cx="436320" cy="27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19" h="98">
                              <a:moveTo>
                                <a:pt x="1319" y="16"/>
                              </a:moveTo>
                              <a:lnTo>
                                <a:pt x="1316" y="34"/>
                              </a:lnTo>
                              <a:lnTo>
                                <a:pt x="1309" y="50"/>
                              </a:lnTo>
                              <a:lnTo>
                                <a:pt x="1305" y="60"/>
                              </a:lnTo>
                              <a:lnTo>
                                <a:pt x="1299" y="66"/>
                              </a:lnTo>
                              <a:lnTo>
                                <a:pt x="1292" y="75"/>
                              </a:lnTo>
                              <a:lnTo>
                                <a:pt x="1281" y="79"/>
                              </a:lnTo>
                              <a:lnTo>
                                <a:pt x="1247" y="72"/>
                              </a:lnTo>
                              <a:lnTo>
                                <a:pt x="1209" y="72"/>
                              </a:lnTo>
                              <a:lnTo>
                                <a:pt x="1171" y="69"/>
                              </a:lnTo>
                              <a:lnTo>
                                <a:pt x="1133" y="72"/>
                              </a:lnTo>
                              <a:lnTo>
                                <a:pt x="1057" y="75"/>
                              </a:lnTo>
                              <a:lnTo>
                                <a:pt x="1019" y="75"/>
                              </a:lnTo>
                              <a:lnTo>
                                <a:pt x="981" y="72"/>
                              </a:lnTo>
                              <a:lnTo>
                                <a:pt x="943" y="75"/>
                              </a:lnTo>
                              <a:lnTo>
                                <a:pt x="888" y="79"/>
                              </a:lnTo>
                              <a:lnTo>
                                <a:pt x="860" y="82"/>
                              </a:lnTo>
                              <a:lnTo>
                                <a:pt x="832" y="82"/>
                              </a:lnTo>
                              <a:lnTo>
                                <a:pt x="808" y="82"/>
                              </a:lnTo>
                              <a:lnTo>
                                <a:pt x="794" y="79"/>
                              </a:lnTo>
                              <a:lnTo>
                                <a:pt x="736" y="82"/>
                              </a:lnTo>
                              <a:lnTo>
                                <a:pt x="680" y="82"/>
                              </a:lnTo>
                              <a:lnTo>
                                <a:pt x="622" y="85"/>
                              </a:lnTo>
                              <a:lnTo>
                                <a:pt x="591" y="85"/>
                              </a:lnTo>
                              <a:lnTo>
                                <a:pt x="560" y="85"/>
                              </a:lnTo>
                              <a:lnTo>
                                <a:pt x="560" y="85"/>
                              </a:lnTo>
                              <a:lnTo>
                                <a:pt x="553" y="85"/>
                              </a:lnTo>
                              <a:lnTo>
                                <a:pt x="497" y="88"/>
                              </a:lnTo>
                              <a:lnTo>
                                <a:pt x="418" y="88"/>
                              </a:lnTo>
                              <a:lnTo>
                                <a:pt x="332" y="91"/>
                              </a:lnTo>
                              <a:lnTo>
                                <a:pt x="266" y="91"/>
                              </a:lnTo>
                              <a:lnTo>
                                <a:pt x="231" y="91"/>
                              </a:lnTo>
                              <a:lnTo>
                                <a:pt x="197" y="91"/>
                              </a:lnTo>
                              <a:lnTo>
                                <a:pt x="135" y="94"/>
                              </a:lnTo>
                              <a:lnTo>
                                <a:pt x="107" y="98"/>
                              </a:lnTo>
                              <a:lnTo>
                                <a:pt x="76" y="98"/>
                              </a:lnTo>
                              <a:lnTo>
                                <a:pt x="45" y="98"/>
                              </a:lnTo>
                              <a:lnTo>
                                <a:pt x="14" y="91"/>
                              </a:lnTo>
                              <a:lnTo>
                                <a:pt x="0" y="91"/>
                              </a:lnTo>
                              <a:lnTo>
                                <a:pt x="0" y="22"/>
                              </a:lnTo>
                              <a:lnTo>
                                <a:pt x="1281" y="6"/>
                              </a:lnTo>
                              <a:lnTo>
                                <a:pt x="1295" y="3"/>
                              </a:lnTo>
                              <a:lnTo>
                                <a:pt x="1305" y="0"/>
                              </a:lnTo>
                              <a:lnTo>
                                <a:pt x="1316" y="3"/>
                              </a:lnTo>
                              <a:lnTo>
                                <a:pt x="1319" y="16"/>
                              </a:lnTo>
                              <a:lnTo>
                                <a:pt x="1319" y="1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99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080" bIns="-19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5" name=""/>
                        <p:cNvSpPr/>
                        <p:nvPr/>
                      </p:nvSpPr>
                      <p:spPr>
                        <a:xfrm>
                          <a:off x="1199880" y="1927440"/>
                          <a:ext cx="32040" cy="48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7" h="171">
                              <a:moveTo>
                                <a:pt x="97" y="171"/>
                              </a:moveTo>
                              <a:lnTo>
                                <a:pt x="72" y="171"/>
                              </a:lnTo>
                              <a:lnTo>
                                <a:pt x="52" y="171"/>
                              </a:lnTo>
                              <a:lnTo>
                                <a:pt x="31" y="168"/>
                              </a:lnTo>
                              <a:lnTo>
                                <a:pt x="10" y="164"/>
                              </a:lnTo>
                              <a:lnTo>
                                <a:pt x="3" y="145"/>
                              </a:lnTo>
                              <a:lnTo>
                                <a:pt x="0" y="127"/>
                              </a:lnTo>
                              <a:lnTo>
                                <a:pt x="0" y="105"/>
                              </a:lnTo>
                              <a:lnTo>
                                <a:pt x="0" y="86"/>
                              </a:lnTo>
                              <a:lnTo>
                                <a:pt x="7" y="48"/>
                              </a:lnTo>
                              <a:lnTo>
                                <a:pt x="10" y="29"/>
                              </a:lnTo>
                              <a:lnTo>
                                <a:pt x="10" y="7"/>
                              </a:lnTo>
                              <a:lnTo>
                                <a:pt x="45" y="10"/>
                              </a:lnTo>
                              <a:lnTo>
                                <a:pt x="65" y="7"/>
                              </a:lnTo>
                              <a:lnTo>
                                <a:pt x="83" y="0"/>
                              </a:lnTo>
                              <a:lnTo>
                                <a:pt x="83" y="10"/>
                              </a:lnTo>
                              <a:lnTo>
                                <a:pt x="86" y="29"/>
                              </a:lnTo>
                              <a:lnTo>
                                <a:pt x="90" y="76"/>
                              </a:lnTo>
                              <a:lnTo>
                                <a:pt x="93" y="130"/>
                              </a:lnTo>
                              <a:lnTo>
                                <a:pt x="97" y="171"/>
                              </a:lnTo>
                              <a:lnTo>
                                <a:pt x="97" y="17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505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440" bIns="1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6" name=""/>
                        <p:cNvSpPr/>
                        <p:nvPr/>
                      </p:nvSpPr>
                      <p:spPr>
                        <a:xfrm>
                          <a:off x="693720" y="1925640"/>
                          <a:ext cx="32760" cy="5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0" h="189">
                              <a:moveTo>
                                <a:pt x="93" y="0"/>
                              </a:moveTo>
                              <a:lnTo>
                                <a:pt x="93" y="41"/>
                              </a:lnTo>
                              <a:lnTo>
                                <a:pt x="93" y="82"/>
                              </a:lnTo>
                              <a:lnTo>
                                <a:pt x="93" y="120"/>
                              </a:lnTo>
                              <a:lnTo>
                                <a:pt x="100" y="158"/>
                              </a:lnTo>
                              <a:lnTo>
                                <a:pt x="100" y="189"/>
                              </a:lnTo>
                              <a:lnTo>
                                <a:pt x="83" y="186"/>
                              </a:lnTo>
                              <a:lnTo>
                                <a:pt x="66" y="186"/>
                              </a:lnTo>
                              <a:lnTo>
                                <a:pt x="52" y="186"/>
                              </a:lnTo>
                              <a:lnTo>
                                <a:pt x="35" y="183"/>
                              </a:lnTo>
                              <a:lnTo>
                                <a:pt x="14" y="183"/>
                              </a:lnTo>
                              <a:lnTo>
                                <a:pt x="10" y="139"/>
                              </a:lnTo>
                              <a:lnTo>
                                <a:pt x="7" y="95"/>
                              </a:lnTo>
                              <a:lnTo>
                                <a:pt x="3" y="47"/>
                              </a:lnTo>
                              <a:lnTo>
                                <a:pt x="0" y="0"/>
                              </a:lnTo>
                              <a:lnTo>
                                <a:pt x="7" y="10"/>
                              </a:lnTo>
                              <a:lnTo>
                                <a:pt x="17" y="10"/>
                              </a:lnTo>
                              <a:lnTo>
                                <a:pt x="31" y="3"/>
                              </a:lnTo>
                              <a:lnTo>
                                <a:pt x="41" y="0"/>
                              </a:lnTo>
                              <a:lnTo>
                                <a:pt x="93" y="0"/>
                              </a:lnTo>
                              <a:lnTo>
                                <a:pt x="93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505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840" bIns="68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7" name=""/>
                        <p:cNvSpPr/>
                        <p:nvPr/>
                      </p:nvSpPr>
                      <p:spPr>
                        <a:xfrm>
                          <a:off x="850320" y="1937160"/>
                          <a:ext cx="261720" cy="349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91" h="1230">
                              <a:moveTo>
                                <a:pt x="0" y="57"/>
                              </a:moveTo>
                              <a:lnTo>
                                <a:pt x="0" y="44"/>
                              </a:lnTo>
                              <a:lnTo>
                                <a:pt x="0" y="32"/>
                              </a:lnTo>
                              <a:lnTo>
                                <a:pt x="0" y="19"/>
                              </a:lnTo>
                              <a:lnTo>
                                <a:pt x="0" y="6"/>
                              </a:lnTo>
                              <a:lnTo>
                                <a:pt x="73" y="3"/>
                              </a:lnTo>
                              <a:lnTo>
                                <a:pt x="145" y="3"/>
                              </a:lnTo>
                              <a:lnTo>
                                <a:pt x="221" y="0"/>
                              </a:lnTo>
                              <a:lnTo>
                                <a:pt x="294" y="0"/>
                              </a:lnTo>
                              <a:lnTo>
                                <a:pt x="366" y="0"/>
                              </a:lnTo>
                              <a:lnTo>
                                <a:pt x="439" y="3"/>
                              </a:lnTo>
                              <a:lnTo>
                                <a:pt x="511" y="3"/>
                              </a:lnTo>
                              <a:lnTo>
                                <a:pt x="587" y="6"/>
                              </a:lnTo>
                              <a:lnTo>
                                <a:pt x="729" y="6"/>
                              </a:lnTo>
                              <a:lnTo>
                                <a:pt x="736" y="10"/>
                              </a:lnTo>
                              <a:lnTo>
                                <a:pt x="743" y="13"/>
                              </a:lnTo>
                              <a:lnTo>
                                <a:pt x="739" y="19"/>
                              </a:lnTo>
                              <a:lnTo>
                                <a:pt x="736" y="25"/>
                              </a:lnTo>
                              <a:lnTo>
                                <a:pt x="729" y="32"/>
                              </a:lnTo>
                              <a:lnTo>
                                <a:pt x="729" y="38"/>
                              </a:lnTo>
                              <a:lnTo>
                                <a:pt x="743" y="47"/>
                              </a:lnTo>
                              <a:lnTo>
                                <a:pt x="749" y="51"/>
                              </a:lnTo>
                              <a:lnTo>
                                <a:pt x="760" y="51"/>
                              </a:lnTo>
                              <a:lnTo>
                                <a:pt x="763" y="98"/>
                              </a:lnTo>
                              <a:lnTo>
                                <a:pt x="767" y="142"/>
                              </a:lnTo>
                              <a:lnTo>
                                <a:pt x="767" y="189"/>
                              </a:lnTo>
                              <a:lnTo>
                                <a:pt x="774" y="233"/>
                              </a:lnTo>
                              <a:lnTo>
                                <a:pt x="774" y="309"/>
                              </a:lnTo>
                              <a:lnTo>
                                <a:pt x="777" y="401"/>
                              </a:lnTo>
                              <a:lnTo>
                                <a:pt x="781" y="498"/>
                              </a:lnTo>
                              <a:lnTo>
                                <a:pt x="784" y="599"/>
                              </a:lnTo>
                              <a:lnTo>
                                <a:pt x="784" y="776"/>
                              </a:lnTo>
                              <a:lnTo>
                                <a:pt x="787" y="864"/>
                              </a:lnTo>
                              <a:lnTo>
                                <a:pt x="787" y="915"/>
                              </a:lnTo>
                              <a:lnTo>
                                <a:pt x="791" y="1025"/>
                              </a:lnTo>
                              <a:lnTo>
                                <a:pt x="791" y="1085"/>
                              </a:lnTo>
                              <a:lnTo>
                                <a:pt x="791" y="1138"/>
                              </a:lnTo>
                              <a:lnTo>
                                <a:pt x="787" y="1183"/>
                              </a:lnTo>
                              <a:lnTo>
                                <a:pt x="787" y="1211"/>
                              </a:lnTo>
                              <a:lnTo>
                                <a:pt x="729" y="1211"/>
                              </a:lnTo>
                              <a:lnTo>
                                <a:pt x="729" y="1132"/>
                              </a:lnTo>
                              <a:lnTo>
                                <a:pt x="725" y="1015"/>
                              </a:lnTo>
                              <a:lnTo>
                                <a:pt x="725" y="874"/>
                              </a:lnTo>
                              <a:lnTo>
                                <a:pt x="722" y="795"/>
                              </a:lnTo>
                              <a:lnTo>
                                <a:pt x="718" y="716"/>
                              </a:lnTo>
                              <a:lnTo>
                                <a:pt x="718" y="637"/>
                              </a:lnTo>
                              <a:lnTo>
                                <a:pt x="715" y="561"/>
                              </a:lnTo>
                              <a:lnTo>
                                <a:pt x="711" y="489"/>
                              </a:lnTo>
                              <a:lnTo>
                                <a:pt x="708" y="420"/>
                              </a:lnTo>
                              <a:lnTo>
                                <a:pt x="705" y="360"/>
                              </a:lnTo>
                              <a:lnTo>
                                <a:pt x="701" y="306"/>
                              </a:lnTo>
                              <a:lnTo>
                                <a:pt x="698" y="265"/>
                              </a:lnTo>
                              <a:lnTo>
                                <a:pt x="694" y="233"/>
                              </a:lnTo>
                              <a:lnTo>
                                <a:pt x="691" y="215"/>
                              </a:lnTo>
                              <a:lnTo>
                                <a:pt x="687" y="196"/>
                              </a:lnTo>
                              <a:lnTo>
                                <a:pt x="684" y="151"/>
                              </a:lnTo>
                              <a:lnTo>
                                <a:pt x="684" y="107"/>
                              </a:lnTo>
                              <a:lnTo>
                                <a:pt x="680" y="85"/>
                              </a:lnTo>
                              <a:lnTo>
                                <a:pt x="680" y="63"/>
                              </a:lnTo>
                              <a:lnTo>
                                <a:pt x="69" y="70"/>
                              </a:lnTo>
                              <a:lnTo>
                                <a:pt x="76" y="1230"/>
                              </a:lnTo>
                              <a:lnTo>
                                <a:pt x="66" y="1227"/>
                              </a:lnTo>
                              <a:lnTo>
                                <a:pt x="48" y="1224"/>
                              </a:lnTo>
                              <a:lnTo>
                                <a:pt x="14" y="1224"/>
                              </a:lnTo>
                              <a:lnTo>
                                <a:pt x="0" y="57"/>
                              </a:lnTo>
                              <a:lnTo>
                                <a:pt x="0" y="5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933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8" name=""/>
                        <p:cNvSpPr/>
                        <p:nvPr/>
                      </p:nvSpPr>
                      <p:spPr>
                        <a:xfrm>
                          <a:off x="1660680" y="1962360"/>
                          <a:ext cx="48960" cy="349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8" h="1233">
                              <a:moveTo>
                                <a:pt x="145" y="4"/>
                              </a:moveTo>
                              <a:lnTo>
                                <a:pt x="148" y="38"/>
                              </a:lnTo>
                              <a:lnTo>
                                <a:pt x="148" y="73"/>
                              </a:lnTo>
                              <a:lnTo>
                                <a:pt x="148" y="111"/>
                              </a:lnTo>
                              <a:lnTo>
                                <a:pt x="148" y="149"/>
                              </a:lnTo>
                              <a:lnTo>
                                <a:pt x="145" y="186"/>
                              </a:lnTo>
                              <a:lnTo>
                                <a:pt x="141" y="224"/>
                              </a:lnTo>
                              <a:lnTo>
                                <a:pt x="141" y="262"/>
                              </a:lnTo>
                              <a:lnTo>
                                <a:pt x="145" y="297"/>
                              </a:lnTo>
                              <a:lnTo>
                                <a:pt x="138" y="309"/>
                              </a:lnTo>
                              <a:lnTo>
                                <a:pt x="141" y="319"/>
                              </a:lnTo>
                              <a:lnTo>
                                <a:pt x="141" y="332"/>
                              </a:lnTo>
                              <a:lnTo>
                                <a:pt x="141" y="338"/>
                              </a:lnTo>
                              <a:lnTo>
                                <a:pt x="138" y="344"/>
                              </a:lnTo>
                              <a:lnTo>
                                <a:pt x="134" y="382"/>
                              </a:lnTo>
                              <a:lnTo>
                                <a:pt x="131" y="429"/>
                              </a:lnTo>
                              <a:lnTo>
                                <a:pt x="127" y="530"/>
                              </a:lnTo>
                              <a:lnTo>
                                <a:pt x="124" y="615"/>
                              </a:lnTo>
                              <a:lnTo>
                                <a:pt x="124" y="650"/>
                              </a:lnTo>
                              <a:lnTo>
                                <a:pt x="124" y="691"/>
                              </a:lnTo>
                              <a:lnTo>
                                <a:pt x="124" y="738"/>
                              </a:lnTo>
                              <a:lnTo>
                                <a:pt x="124" y="789"/>
                              </a:lnTo>
                              <a:lnTo>
                                <a:pt x="127" y="842"/>
                              </a:lnTo>
                              <a:lnTo>
                                <a:pt x="127" y="890"/>
                              </a:lnTo>
                              <a:lnTo>
                                <a:pt x="131" y="931"/>
                              </a:lnTo>
                              <a:lnTo>
                                <a:pt x="134" y="962"/>
                              </a:lnTo>
                              <a:lnTo>
                                <a:pt x="138" y="978"/>
                              </a:lnTo>
                              <a:lnTo>
                                <a:pt x="134" y="1019"/>
                              </a:lnTo>
                              <a:lnTo>
                                <a:pt x="134" y="1060"/>
                              </a:lnTo>
                              <a:lnTo>
                                <a:pt x="134" y="1079"/>
                              </a:lnTo>
                              <a:lnTo>
                                <a:pt x="138" y="1101"/>
                              </a:lnTo>
                              <a:lnTo>
                                <a:pt x="138" y="1120"/>
                              </a:lnTo>
                              <a:lnTo>
                                <a:pt x="145" y="1142"/>
                              </a:lnTo>
                              <a:lnTo>
                                <a:pt x="145" y="1151"/>
                              </a:lnTo>
                              <a:lnTo>
                                <a:pt x="145" y="1161"/>
                              </a:lnTo>
                              <a:lnTo>
                                <a:pt x="141" y="1180"/>
                              </a:lnTo>
                              <a:lnTo>
                                <a:pt x="138" y="1199"/>
                              </a:lnTo>
                              <a:lnTo>
                                <a:pt x="141" y="1211"/>
                              </a:lnTo>
                              <a:lnTo>
                                <a:pt x="145" y="1221"/>
                              </a:lnTo>
                              <a:lnTo>
                                <a:pt x="120" y="1227"/>
                              </a:lnTo>
                              <a:lnTo>
                                <a:pt x="110" y="1230"/>
                              </a:lnTo>
                              <a:lnTo>
                                <a:pt x="100" y="1233"/>
                              </a:lnTo>
                              <a:lnTo>
                                <a:pt x="96" y="1221"/>
                              </a:lnTo>
                              <a:lnTo>
                                <a:pt x="89" y="1211"/>
                              </a:lnTo>
                              <a:lnTo>
                                <a:pt x="79" y="1202"/>
                              </a:lnTo>
                              <a:lnTo>
                                <a:pt x="65" y="1192"/>
                              </a:lnTo>
                              <a:lnTo>
                                <a:pt x="82" y="1186"/>
                              </a:lnTo>
                              <a:lnTo>
                                <a:pt x="93" y="1180"/>
                              </a:lnTo>
                              <a:lnTo>
                                <a:pt x="103" y="1167"/>
                              </a:lnTo>
                              <a:lnTo>
                                <a:pt x="107" y="1154"/>
                              </a:lnTo>
                              <a:lnTo>
                                <a:pt x="107" y="1145"/>
                              </a:lnTo>
                              <a:lnTo>
                                <a:pt x="107" y="1136"/>
                              </a:lnTo>
                              <a:lnTo>
                                <a:pt x="103" y="1126"/>
                              </a:lnTo>
                              <a:lnTo>
                                <a:pt x="93" y="1123"/>
                              </a:lnTo>
                              <a:lnTo>
                                <a:pt x="86" y="1088"/>
                              </a:lnTo>
                              <a:lnTo>
                                <a:pt x="96" y="1082"/>
                              </a:lnTo>
                              <a:lnTo>
                                <a:pt x="103" y="1076"/>
                              </a:lnTo>
                              <a:lnTo>
                                <a:pt x="114" y="1057"/>
                              </a:lnTo>
                              <a:lnTo>
                                <a:pt x="114" y="1041"/>
                              </a:lnTo>
                              <a:lnTo>
                                <a:pt x="107" y="1028"/>
                              </a:lnTo>
                              <a:lnTo>
                                <a:pt x="96" y="1019"/>
                              </a:lnTo>
                              <a:lnTo>
                                <a:pt x="86" y="1009"/>
                              </a:lnTo>
                              <a:lnTo>
                                <a:pt x="76" y="1006"/>
                              </a:lnTo>
                              <a:lnTo>
                                <a:pt x="62" y="1009"/>
                              </a:lnTo>
                              <a:lnTo>
                                <a:pt x="51" y="1009"/>
                              </a:lnTo>
                              <a:lnTo>
                                <a:pt x="48" y="1006"/>
                              </a:lnTo>
                              <a:lnTo>
                                <a:pt x="44" y="997"/>
                              </a:lnTo>
                              <a:lnTo>
                                <a:pt x="38" y="997"/>
                              </a:lnTo>
                              <a:lnTo>
                                <a:pt x="31" y="991"/>
                              </a:lnTo>
                              <a:lnTo>
                                <a:pt x="27" y="981"/>
                              </a:lnTo>
                              <a:lnTo>
                                <a:pt x="34" y="975"/>
                              </a:lnTo>
                              <a:lnTo>
                                <a:pt x="48" y="972"/>
                              </a:lnTo>
                              <a:lnTo>
                                <a:pt x="65" y="968"/>
                              </a:lnTo>
                              <a:lnTo>
                                <a:pt x="69" y="965"/>
                              </a:lnTo>
                              <a:lnTo>
                                <a:pt x="72" y="959"/>
                              </a:lnTo>
                              <a:lnTo>
                                <a:pt x="69" y="946"/>
                              </a:lnTo>
                              <a:lnTo>
                                <a:pt x="65" y="934"/>
                              </a:lnTo>
                              <a:lnTo>
                                <a:pt x="62" y="912"/>
                              </a:lnTo>
                              <a:lnTo>
                                <a:pt x="65" y="890"/>
                              </a:lnTo>
                              <a:lnTo>
                                <a:pt x="65" y="868"/>
                              </a:lnTo>
                              <a:lnTo>
                                <a:pt x="58" y="861"/>
                              </a:lnTo>
                              <a:lnTo>
                                <a:pt x="51" y="858"/>
                              </a:lnTo>
                              <a:lnTo>
                                <a:pt x="38" y="858"/>
                              </a:lnTo>
                              <a:lnTo>
                                <a:pt x="24" y="861"/>
                              </a:lnTo>
                              <a:lnTo>
                                <a:pt x="6" y="861"/>
                              </a:lnTo>
                              <a:lnTo>
                                <a:pt x="6" y="350"/>
                              </a:lnTo>
                              <a:lnTo>
                                <a:pt x="10" y="332"/>
                              </a:lnTo>
                              <a:lnTo>
                                <a:pt x="10" y="313"/>
                              </a:lnTo>
                              <a:lnTo>
                                <a:pt x="6" y="272"/>
                              </a:lnTo>
                              <a:lnTo>
                                <a:pt x="6" y="227"/>
                              </a:lnTo>
                              <a:lnTo>
                                <a:pt x="6" y="205"/>
                              </a:lnTo>
                              <a:lnTo>
                                <a:pt x="6" y="186"/>
                              </a:lnTo>
                              <a:lnTo>
                                <a:pt x="0" y="193"/>
                              </a:lnTo>
                              <a:lnTo>
                                <a:pt x="0" y="54"/>
                              </a:lnTo>
                              <a:lnTo>
                                <a:pt x="13" y="54"/>
                              </a:lnTo>
                              <a:lnTo>
                                <a:pt x="31" y="54"/>
                              </a:lnTo>
                              <a:lnTo>
                                <a:pt x="44" y="54"/>
                              </a:lnTo>
                              <a:lnTo>
                                <a:pt x="51" y="51"/>
                              </a:lnTo>
                              <a:lnTo>
                                <a:pt x="58" y="48"/>
                              </a:lnTo>
                              <a:lnTo>
                                <a:pt x="79" y="51"/>
                              </a:lnTo>
                              <a:lnTo>
                                <a:pt x="89" y="51"/>
                              </a:lnTo>
                              <a:lnTo>
                                <a:pt x="100" y="48"/>
                              </a:lnTo>
                              <a:lnTo>
                                <a:pt x="107" y="45"/>
                              </a:lnTo>
                              <a:lnTo>
                                <a:pt x="110" y="38"/>
                              </a:lnTo>
                              <a:lnTo>
                                <a:pt x="110" y="19"/>
                              </a:lnTo>
                              <a:lnTo>
                                <a:pt x="114" y="10"/>
                              </a:lnTo>
                              <a:lnTo>
                                <a:pt x="120" y="4"/>
                              </a:lnTo>
                              <a:lnTo>
                                <a:pt x="127" y="0"/>
                              </a:lnTo>
                              <a:lnTo>
                                <a:pt x="145" y="4"/>
                              </a:lnTo>
                              <a:lnTo>
                                <a:pt x="145" y="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9" name=""/>
                        <p:cNvSpPr/>
                        <p:nvPr/>
                      </p:nvSpPr>
                      <p:spPr>
                        <a:xfrm>
                          <a:off x="1329120" y="1963440"/>
                          <a:ext cx="360000" cy="11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88" h="41">
                              <a:moveTo>
                                <a:pt x="1088" y="25"/>
                              </a:moveTo>
                              <a:lnTo>
                                <a:pt x="888" y="25"/>
                              </a:lnTo>
                              <a:lnTo>
                                <a:pt x="173" y="37"/>
                              </a:lnTo>
                              <a:lnTo>
                                <a:pt x="131" y="37"/>
                              </a:lnTo>
                              <a:lnTo>
                                <a:pt x="90" y="41"/>
                              </a:lnTo>
                              <a:lnTo>
                                <a:pt x="48" y="41"/>
                              </a:lnTo>
                              <a:lnTo>
                                <a:pt x="28" y="41"/>
                              </a:lnTo>
                              <a:lnTo>
                                <a:pt x="7" y="37"/>
                              </a:lnTo>
                              <a:lnTo>
                                <a:pt x="0" y="18"/>
                              </a:lnTo>
                              <a:lnTo>
                                <a:pt x="14" y="18"/>
                              </a:lnTo>
                              <a:lnTo>
                                <a:pt x="31" y="22"/>
                              </a:lnTo>
                              <a:lnTo>
                                <a:pt x="62" y="18"/>
                              </a:lnTo>
                              <a:lnTo>
                                <a:pt x="93" y="15"/>
                              </a:lnTo>
                              <a:lnTo>
                                <a:pt x="107" y="15"/>
                              </a:lnTo>
                              <a:lnTo>
                                <a:pt x="121" y="18"/>
                              </a:lnTo>
                              <a:lnTo>
                                <a:pt x="121" y="18"/>
                              </a:lnTo>
                              <a:lnTo>
                                <a:pt x="159" y="15"/>
                              </a:lnTo>
                              <a:lnTo>
                                <a:pt x="231" y="15"/>
                              </a:lnTo>
                              <a:lnTo>
                                <a:pt x="328" y="12"/>
                              </a:lnTo>
                              <a:lnTo>
                                <a:pt x="435" y="12"/>
                              </a:lnTo>
                              <a:lnTo>
                                <a:pt x="549" y="9"/>
                              </a:lnTo>
                              <a:lnTo>
                                <a:pt x="656" y="9"/>
                              </a:lnTo>
                              <a:lnTo>
                                <a:pt x="749" y="6"/>
                              </a:lnTo>
                              <a:lnTo>
                                <a:pt x="815" y="6"/>
                              </a:lnTo>
                              <a:lnTo>
                                <a:pt x="846" y="3"/>
                              </a:lnTo>
                              <a:lnTo>
                                <a:pt x="877" y="3"/>
                              </a:lnTo>
                              <a:lnTo>
                                <a:pt x="908" y="3"/>
                              </a:lnTo>
                              <a:lnTo>
                                <a:pt x="939" y="0"/>
                              </a:lnTo>
                              <a:lnTo>
                                <a:pt x="1088" y="0"/>
                              </a:lnTo>
                              <a:lnTo>
                                <a:pt x="1088" y="25"/>
                              </a:lnTo>
                              <a:lnTo>
                                <a:pt x="1088" y="2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30" name=""/>
                        <p:cNvSpPr/>
                        <p:nvPr/>
                      </p:nvSpPr>
                      <p:spPr>
                        <a:xfrm>
                          <a:off x="1291320" y="1977480"/>
                          <a:ext cx="362160" cy="234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95" h="826">
                              <a:moveTo>
                                <a:pt x="1095" y="798"/>
                              </a:moveTo>
                              <a:lnTo>
                                <a:pt x="1095" y="807"/>
                              </a:lnTo>
                              <a:lnTo>
                                <a:pt x="1009" y="807"/>
                              </a:lnTo>
                              <a:lnTo>
                                <a:pt x="1012" y="725"/>
                              </a:lnTo>
                              <a:lnTo>
                                <a:pt x="1015" y="650"/>
                              </a:lnTo>
                              <a:lnTo>
                                <a:pt x="1015" y="394"/>
                              </a:lnTo>
                              <a:lnTo>
                                <a:pt x="1015" y="79"/>
                              </a:lnTo>
                              <a:lnTo>
                                <a:pt x="919" y="79"/>
                              </a:lnTo>
                              <a:lnTo>
                                <a:pt x="815" y="79"/>
                              </a:lnTo>
                              <a:lnTo>
                                <a:pt x="763" y="82"/>
                              </a:lnTo>
                              <a:lnTo>
                                <a:pt x="715" y="82"/>
                              </a:lnTo>
                              <a:lnTo>
                                <a:pt x="663" y="85"/>
                              </a:lnTo>
                              <a:lnTo>
                                <a:pt x="615" y="85"/>
                              </a:lnTo>
                              <a:lnTo>
                                <a:pt x="611" y="132"/>
                              </a:lnTo>
                              <a:lnTo>
                                <a:pt x="604" y="237"/>
                              </a:lnTo>
                              <a:lnTo>
                                <a:pt x="587" y="451"/>
                              </a:lnTo>
                              <a:lnTo>
                                <a:pt x="584" y="508"/>
                              </a:lnTo>
                              <a:lnTo>
                                <a:pt x="580" y="561"/>
                              </a:lnTo>
                              <a:lnTo>
                                <a:pt x="577" y="624"/>
                              </a:lnTo>
                              <a:lnTo>
                                <a:pt x="573" y="687"/>
                              </a:lnTo>
                              <a:lnTo>
                                <a:pt x="570" y="747"/>
                              </a:lnTo>
                              <a:lnTo>
                                <a:pt x="570" y="795"/>
                              </a:lnTo>
                              <a:lnTo>
                                <a:pt x="573" y="826"/>
                              </a:lnTo>
                              <a:lnTo>
                                <a:pt x="522" y="826"/>
                              </a:lnTo>
                              <a:lnTo>
                                <a:pt x="535" y="457"/>
                              </a:lnTo>
                              <a:lnTo>
                                <a:pt x="546" y="202"/>
                              </a:lnTo>
                              <a:lnTo>
                                <a:pt x="549" y="79"/>
                              </a:lnTo>
                              <a:lnTo>
                                <a:pt x="494" y="82"/>
                              </a:lnTo>
                              <a:lnTo>
                                <a:pt x="435" y="82"/>
                              </a:lnTo>
                              <a:lnTo>
                                <a:pt x="373" y="85"/>
                              </a:lnTo>
                              <a:lnTo>
                                <a:pt x="314" y="85"/>
                              </a:lnTo>
                              <a:lnTo>
                                <a:pt x="197" y="85"/>
                              </a:lnTo>
                              <a:lnTo>
                                <a:pt x="83" y="85"/>
                              </a:lnTo>
                              <a:lnTo>
                                <a:pt x="80" y="95"/>
                              </a:lnTo>
                              <a:lnTo>
                                <a:pt x="80" y="104"/>
                              </a:lnTo>
                              <a:lnTo>
                                <a:pt x="76" y="126"/>
                              </a:lnTo>
                              <a:lnTo>
                                <a:pt x="76" y="132"/>
                              </a:lnTo>
                              <a:lnTo>
                                <a:pt x="83" y="814"/>
                              </a:lnTo>
                              <a:lnTo>
                                <a:pt x="48" y="810"/>
                              </a:lnTo>
                              <a:lnTo>
                                <a:pt x="28" y="807"/>
                              </a:lnTo>
                              <a:lnTo>
                                <a:pt x="7" y="807"/>
                              </a:lnTo>
                              <a:lnTo>
                                <a:pt x="7" y="773"/>
                              </a:lnTo>
                              <a:lnTo>
                                <a:pt x="7" y="353"/>
                              </a:lnTo>
                              <a:lnTo>
                                <a:pt x="4" y="274"/>
                              </a:lnTo>
                              <a:lnTo>
                                <a:pt x="4" y="164"/>
                              </a:lnTo>
                              <a:lnTo>
                                <a:pt x="0" y="63"/>
                              </a:lnTo>
                              <a:lnTo>
                                <a:pt x="0" y="0"/>
                              </a:lnTo>
                              <a:lnTo>
                                <a:pt x="62" y="66"/>
                              </a:lnTo>
                              <a:lnTo>
                                <a:pt x="93" y="69"/>
                              </a:lnTo>
                              <a:lnTo>
                                <a:pt x="107" y="69"/>
                              </a:lnTo>
                              <a:lnTo>
                                <a:pt x="121" y="66"/>
                              </a:lnTo>
                              <a:lnTo>
                                <a:pt x="124" y="54"/>
                              </a:lnTo>
                              <a:lnTo>
                                <a:pt x="124" y="41"/>
                              </a:lnTo>
                              <a:lnTo>
                                <a:pt x="124" y="32"/>
                              </a:lnTo>
                              <a:lnTo>
                                <a:pt x="121" y="22"/>
                              </a:lnTo>
                              <a:lnTo>
                                <a:pt x="259" y="19"/>
                              </a:lnTo>
                              <a:lnTo>
                                <a:pt x="570" y="9"/>
                              </a:lnTo>
                              <a:lnTo>
                                <a:pt x="739" y="6"/>
                              </a:lnTo>
                              <a:lnTo>
                                <a:pt x="898" y="3"/>
                              </a:lnTo>
                              <a:lnTo>
                                <a:pt x="1019" y="3"/>
                              </a:lnTo>
                              <a:lnTo>
                                <a:pt x="1088" y="0"/>
                              </a:lnTo>
                              <a:lnTo>
                                <a:pt x="1095" y="798"/>
                              </a:lnTo>
                              <a:lnTo>
                                <a:pt x="1095" y="79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933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31" name=""/>
                        <p:cNvSpPr/>
                        <p:nvPr/>
                      </p:nvSpPr>
                      <p:spPr>
                        <a:xfrm>
                          <a:off x="885600" y="1963440"/>
                          <a:ext cx="154080" cy="317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66" h="1119">
                              <a:moveTo>
                                <a:pt x="466" y="1119"/>
                              </a:moveTo>
                              <a:lnTo>
                                <a:pt x="0" y="1119"/>
                              </a:lnTo>
                              <a:lnTo>
                                <a:pt x="0" y="0"/>
                              </a:lnTo>
                              <a:lnTo>
                                <a:pt x="466" y="25"/>
                              </a:lnTo>
                              <a:lnTo>
                                <a:pt x="463" y="91"/>
                              </a:lnTo>
                              <a:lnTo>
                                <a:pt x="459" y="157"/>
                              </a:lnTo>
                              <a:lnTo>
                                <a:pt x="459" y="233"/>
                              </a:lnTo>
                              <a:lnTo>
                                <a:pt x="456" y="312"/>
                              </a:lnTo>
                              <a:lnTo>
                                <a:pt x="456" y="378"/>
                              </a:lnTo>
                              <a:lnTo>
                                <a:pt x="456" y="425"/>
                              </a:lnTo>
                              <a:lnTo>
                                <a:pt x="459" y="444"/>
                              </a:lnTo>
                              <a:lnTo>
                                <a:pt x="466" y="1119"/>
                              </a:lnTo>
                              <a:lnTo>
                                <a:pt x="466" y="111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c66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32" name=""/>
                        <p:cNvSpPr/>
                        <p:nvPr/>
                      </p:nvSpPr>
                      <p:spPr>
                        <a:xfrm>
                          <a:off x="1293480" y="1992960"/>
                          <a:ext cx="4320" cy="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" h="0">
                              <a:moveTo>
                                <a:pt x="0" y="0"/>
                              </a:moveTo>
                              <a:lnTo>
                                <a:pt x="7" y="0"/>
                              </a:lnTo>
                              <a:lnTo>
                                <a:pt x="14" y="0"/>
                              </a:lnTo>
                              <a:lnTo>
                                <a:pt x="0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33" name=""/>
                        <p:cNvSpPr/>
                        <p:nvPr/>
                      </p:nvSpPr>
                      <p:spPr>
                        <a:xfrm>
                          <a:off x="1497240" y="2005560"/>
                          <a:ext cx="123120" cy="66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3" h="236">
                              <a:moveTo>
                                <a:pt x="373" y="16"/>
                              </a:moveTo>
                              <a:lnTo>
                                <a:pt x="369" y="113"/>
                              </a:lnTo>
                              <a:lnTo>
                                <a:pt x="366" y="217"/>
                              </a:lnTo>
                              <a:lnTo>
                                <a:pt x="183" y="227"/>
                              </a:lnTo>
                              <a:lnTo>
                                <a:pt x="90" y="233"/>
                              </a:lnTo>
                              <a:lnTo>
                                <a:pt x="0" y="236"/>
                              </a:lnTo>
                              <a:lnTo>
                                <a:pt x="7" y="9"/>
                              </a:lnTo>
                              <a:lnTo>
                                <a:pt x="20" y="6"/>
                              </a:lnTo>
                              <a:lnTo>
                                <a:pt x="27" y="6"/>
                              </a:lnTo>
                              <a:lnTo>
                                <a:pt x="34" y="9"/>
                              </a:lnTo>
                              <a:lnTo>
                                <a:pt x="45" y="16"/>
                              </a:lnTo>
                              <a:lnTo>
                                <a:pt x="34" y="79"/>
                              </a:lnTo>
                              <a:lnTo>
                                <a:pt x="52" y="82"/>
                              </a:lnTo>
                              <a:lnTo>
                                <a:pt x="69" y="85"/>
                              </a:lnTo>
                              <a:lnTo>
                                <a:pt x="100" y="82"/>
                              </a:lnTo>
                              <a:lnTo>
                                <a:pt x="131" y="79"/>
                              </a:lnTo>
                              <a:lnTo>
                                <a:pt x="148" y="79"/>
                              </a:lnTo>
                              <a:lnTo>
                                <a:pt x="165" y="79"/>
                              </a:lnTo>
                              <a:lnTo>
                                <a:pt x="172" y="9"/>
                              </a:lnTo>
                              <a:lnTo>
                                <a:pt x="183" y="6"/>
                              </a:lnTo>
                              <a:lnTo>
                                <a:pt x="193" y="6"/>
                              </a:lnTo>
                              <a:lnTo>
                                <a:pt x="214" y="9"/>
                              </a:lnTo>
                              <a:lnTo>
                                <a:pt x="200" y="72"/>
                              </a:lnTo>
                              <a:lnTo>
                                <a:pt x="207" y="72"/>
                              </a:lnTo>
                              <a:lnTo>
                                <a:pt x="207" y="79"/>
                              </a:lnTo>
                              <a:lnTo>
                                <a:pt x="345" y="72"/>
                              </a:lnTo>
                              <a:lnTo>
                                <a:pt x="345" y="53"/>
                              </a:lnTo>
                              <a:lnTo>
                                <a:pt x="342" y="34"/>
                              </a:lnTo>
                              <a:lnTo>
                                <a:pt x="342" y="16"/>
                              </a:lnTo>
                              <a:lnTo>
                                <a:pt x="345" y="9"/>
                              </a:lnTo>
                              <a:lnTo>
                                <a:pt x="352" y="0"/>
                              </a:lnTo>
                              <a:lnTo>
                                <a:pt x="359" y="3"/>
                              </a:lnTo>
                              <a:lnTo>
                                <a:pt x="366" y="6"/>
                              </a:lnTo>
                              <a:lnTo>
                                <a:pt x="373" y="16"/>
                              </a:lnTo>
                              <a:lnTo>
                                <a:pt x="373" y="1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160" bIns="20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34" name=""/>
                        <p:cNvSpPr/>
                        <p:nvPr/>
                      </p:nvSpPr>
                      <p:spPr>
                        <a:xfrm>
                          <a:off x="922320" y="1989360"/>
                          <a:ext cx="93600" cy="105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3" h="372">
                              <a:moveTo>
                                <a:pt x="276" y="50"/>
                              </a:moveTo>
                              <a:lnTo>
                                <a:pt x="283" y="366"/>
                              </a:lnTo>
                              <a:lnTo>
                                <a:pt x="272" y="372"/>
                              </a:lnTo>
                              <a:lnTo>
                                <a:pt x="269" y="372"/>
                              </a:lnTo>
                              <a:lnTo>
                                <a:pt x="255" y="353"/>
                              </a:lnTo>
                              <a:lnTo>
                                <a:pt x="255" y="38"/>
                              </a:lnTo>
                              <a:lnTo>
                                <a:pt x="224" y="35"/>
                              </a:lnTo>
                              <a:lnTo>
                                <a:pt x="193" y="32"/>
                              </a:lnTo>
                              <a:lnTo>
                                <a:pt x="131" y="32"/>
                              </a:lnTo>
                              <a:lnTo>
                                <a:pt x="100" y="32"/>
                              </a:lnTo>
                              <a:lnTo>
                                <a:pt x="69" y="32"/>
                              </a:lnTo>
                              <a:lnTo>
                                <a:pt x="41" y="28"/>
                              </a:lnTo>
                              <a:lnTo>
                                <a:pt x="10" y="25"/>
                              </a:lnTo>
                              <a:lnTo>
                                <a:pt x="0" y="16"/>
                              </a:lnTo>
                              <a:lnTo>
                                <a:pt x="0" y="9"/>
                              </a:lnTo>
                              <a:lnTo>
                                <a:pt x="3" y="6"/>
                              </a:lnTo>
                              <a:lnTo>
                                <a:pt x="10" y="0"/>
                              </a:lnTo>
                              <a:lnTo>
                                <a:pt x="283" y="19"/>
                              </a:lnTo>
                              <a:lnTo>
                                <a:pt x="276" y="50"/>
                              </a:lnTo>
                              <a:lnTo>
                                <a:pt x="276" y="5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35" name=""/>
                        <p:cNvSpPr/>
                        <p:nvPr/>
                      </p:nvSpPr>
                      <p:spPr>
                        <a:xfrm>
                          <a:off x="1325880" y="2007000"/>
                          <a:ext cx="138240" cy="6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8" h="240">
                              <a:moveTo>
                                <a:pt x="418" y="10"/>
                              </a:moveTo>
                              <a:lnTo>
                                <a:pt x="404" y="218"/>
                              </a:lnTo>
                              <a:lnTo>
                                <a:pt x="397" y="221"/>
                              </a:lnTo>
                              <a:lnTo>
                                <a:pt x="397" y="224"/>
                              </a:lnTo>
                              <a:lnTo>
                                <a:pt x="300" y="230"/>
                              </a:lnTo>
                              <a:lnTo>
                                <a:pt x="252" y="233"/>
                              </a:lnTo>
                              <a:lnTo>
                                <a:pt x="203" y="237"/>
                              </a:lnTo>
                              <a:lnTo>
                                <a:pt x="155" y="237"/>
                              </a:lnTo>
                              <a:lnTo>
                                <a:pt x="107" y="240"/>
                              </a:lnTo>
                              <a:lnTo>
                                <a:pt x="58" y="240"/>
                              </a:lnTo>
                              <a:lnTo>
                                <a:pt x="10" y="237"/>
                              </a:lnTo>
                              <a:lnTo>
                                <a:pt x="3" y="199"/>
                              </a:lnTo>
                              <a:lnTo>
                                <a:pt x="10" y="199"/>
                              </a:lnTo>
                              <a:lnTo>
                                <a:pt x="7" y="186"/>
                              </a:lnTo>
                              <a:lnTo>
                                <a:pt x="7" y="177"/>
                              </a:lnTo>
                              <a:lnTo>
                                <a:pt x="3" y="170"/>
                              </a:lnTo>
                              <a:lnTo>
                                <a:pt x="3" y="151"/>
                              </a:lnTo>
                              <a:lnTo>
                                <a:pt x="3" y="133"/>
                              </a:lnTo>
                              <a:lnTo>
                                <a:pt x="3" y="98"/>
                              </a:lnTo>
                              <a:lnTo>
                                <a:pt x="0" y="60"/>
                              </a:lnTo>
                              <a:lnTo>
                                <a:pt x="0" y="41"/>
                              </a:lnTo>
                              <a:lnTo>
                                <a:pt x="3" y="22"/>
                              </a:lnTo>
                              <a:lnTo>
                                <a:pt x="14" y="19"/>
                              </a:lnTo>
                              <a:lnTo>
                                <a:pt x="17" y="19"/>
                              </a:lnTo>
                              <a:lnTo>
                                <a:pt x="24" y="22"/>
                              </a:lnTo>
                              <a:lnTo>
                                <a:pt x="27" y="32"/>
                              </a:lnTo>
                              <a:lnTo>
                                <a:pt x="27" y="44"/>
                              </a:lnTo>
                              <a:lnTo>
                                <a:pt x="27" y="60"/>
                              </a:lnTo>
                              <a:lnTo>
                                <a:pt x="31" y="73"/>
                              </a:lnTo>
                              <a:lnTo>
                                <a:pt x="31" y="79"/>
                              </a:lnTo>
                              <a:lnTo>
                                <a:pt x="197" y="79"/>
                              </a:lnTo>
                              <a:lnTo>
                                <a:pt x="197" y="63"/>
                              </a:lnTo>
                              <a:lnTo>
                                <a:pt x="197" y="47"/>
                              </a:lnTo>
                              <a:lnTo>
                                <a:pt x="193" y="32"/>
                              </a:lnTo>
                              <a:lnTo>
                                <a:pt x="197" y="16"/>
                              </a:lnTo>
                              <a:lnTo>
                                <a:pt x="203" y="13"/>
                              </a:lnTo>
                              <a:lnTo>
                                <a:pt x="210" y="13"/>
                              </a:lnTo>
                              <a:lnTo>
                                <a:pt x="224" y="16"/>
                              </a:lnTo>
                              <a:lnTo>
                                <a:pt x="228" y="32"/>
                              </a:lnTo>
                              <a:lnTo>
                                <a:pt x="228" y="47"/>
                              </a:lnTo>
                              <a:lnTo>
                                <a:pt x="224" y="63"/>
                              </a:lnTo>
                              <a:lnTo>
                                <a:pt x="224" y="79"/>
                              </a:lnTo>
                              <a:lnTo>
                                <a:pt x="238" y="82"/>
                              </a:lnTo>
                              <a:lnTo>
                                <a:pt x="245" y="82"/>
                              </a:lnTo>
                              <a:lnTo>
                                <a:pt x="245" y="79"/>
                              </a:lnTo>
                              <a:lnTo>
                                <a:pt x="279" y="76"/>
                              </a:lnTo>
                              <a:lnTo>
                                <a:pt x="314" y="76"/>
                              </a:lnTo>
                              <a:lnTo>
                                <a:pt x="383" y="73"/>
                              </a:lnTo>
                              <a:lnTo>
                                <a:pt x="390" y="3"/>
                              </a:lnTo>
                              <a:lnTo>
                                <a:pt x="397" y="0"/>
                              </a:lnTo>
                              <a:lnTo>
                                <a:pt x="404" y="0"/>
                              </a:lnTo>
                              <a:lnTo>
                                <a:pt x="418" y="10"/>
                              </a:lnTo>
                              <a:lnTo>
                                <a:pt x="418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240" bIns="21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36" name=""/>
                        <p:cNvSpPr/>
                        <p:nvPr/>
                      </p:nvSpPr>
                      <p:spPr>
                        <a:xfrm>
                          <a:off x="1562400" y="2031120"/>
                          <a:ext cx="48600" cy="28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8" h="101">
                              <a:moveTo>
                                <a:pt x="148" y="101"/>
                              </a:moveTo>
                              <a:lnTo>
                                <a:pt x="3" y="101"/>
                              </a:lnTo>
                              <a:lnTo>
                                <a:pt x="0" y="70"/>
                              </a:lnTo>
                              <a:lnTo>
                                <a:pt x="0" y="41"/>
                              </a:lnTo>
                              <a:lnTo>
                                <a:pt x="3" y="32"/>
                              </a:lnTo>
                              <a:lnTo>
                                <a:pt x="3" y="22"/>
                              </a:lnTo>
                              <a:lnTo>
                                <a:pt x="3" y="16"/>
                              </a:lnTo>
                              <a:lnTo>
                                <a:pt x="41" y="16"/>
                              </a:lnTo>
                              <a:lnTo>
                                <a:pt x="76" y="13"/>
                              </a:lnTo>
                              <a:lnTo>
                                <a:pt x="110" y="10"/>
                              </a:lnTo>
                              <a:lnTo>
                                <a:pt x="127" y="7"/>
                              </a:lnTo>
                              <a:lnTo>
                                <a:pt x="148" y="0"/>
                              </a:lnTo>
                              <a:lnTo>
                                <a:pt x="148" y="101"/>
                              </a:lnTo>
                              <a:lnTo>
                                <a:pt x="148" y="10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9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360" bIns="-18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37" name=""/>
                        <p:cNvSpPr/>
                        <p:nvPr/>
                      </p:nvSpPr>
                      <p:spPr>
                        <a:xfrm>
                          <a:off x="1508400" y="2035800"/>
                          <a:ext cx="43200" cy="2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1" h="91">
                              <a:moveTo>
                                <a:pt x="131" y="6"/>
                              </a:moveTo>
                              <a:lnTo>
                                <a:pt x="128" y="28"/>
                              </a:lnTo>
                              <a:lnTo>
                                <a:pt x="125" y="47"/>
                              </a:lnTo>
                              <a:lnTo>
                                <a:pt x="128" y="66"/>
                              </a:lnTo>
                              <a:lnTo>
                                <a:pt x="131" y="85"/>
                              </a:lnTo>
                              <a:lnTo>
                                <a:pt x="121" y="88"/>
                              </a:lnTo>
                              <a:lnTo>
                                <a:pt x="107" y="88"/>
                              </a:lnTo>
                              <a:lnTo>
                                <a:pt x="73" y="88"/>
                              </a:lnTo>
                              <a:lnTo>
                                <a:pt x="31" y="88"/>
                              </a:lnTo>
                              <a:lnTo>
                                <a:pt x="14" y="88"/>
                              </a:lnTo>
                              <a:lnTo>
                                <a:pt x="0" y="91"/>
                              </a:lnTo>
                              <a:lnTo>
                                <a:pt x="0" y="6"/>
                              </a:lnTo>
                              <a:lnTo>
                                <a:pt x="31" y="6"/>
                              </a:lnTo>
                              <a:lnTo>
                                <a:pt x="62" y="3"/>
                              </a:lnTo>
                              <a:lnTo>
                                <a:pt x="93" y="3"/>
                              </a:lnTo>
                              <a:lnTo>
                                <a:pt x="125" y="0"/>
                              </a:lnTo>
                              <a:lnTo>
                                <a:pt x="131" y="6"/>
                              </a:lnTo>
                              <a:lnTo>
                                <a:pt x="131" y="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9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240" bIns="-21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38" name=""/>
                        <p:cNvSpPr/>
                        <p:nvPr/>
                      </p:nvSpPr>
                      <p:spPr>
                        <a:xfrm>
                          <a:off x="1399680" y="2037600"/>
                          <a:ext cx="52560" cy="27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9" h="98">
                              <a:moveTo>
                                <a:pt x="152" y="92"/>
                              </a:moveTo>
                              <a:lnTo>
                                <a:pt x="114" y="92"/>
                              </a:lnTo>
                              <a:lnTo>
                                <a:pt x="76" y="95"/>
                              </a:lnTo>
                              <a:lnTo>
                                <a:pt x="38" y="98"/>
                              </a:lnTo>
                              <a:lnTo>
                                <a:pt x="0" y="98"/>
                              </a:lnTo>
                              <a:lnTo>
                                <a:pt x="0" y="0"/>
                              </a:lnTo>
                              <a:lnTo>
                                <a:pt x="42" y="0"/>
                              </a:lnTo>
                              <a:lnTo>
                                <a:pt x="93" y="0"/>
                              </a:lnTo>
                              <a:lnTo>
                                <a:pt x="135" y="3"/>
                              </a:lnTo>
                              <a:lnTo>
                                <a:pt x="152" y="0"/>
                              </a:lnTo>
                              <a:lnTo>
                                <a:pt x="159" y="0"/>
                              </a:lnTo>
                              <a:lnTo>
                                <a:pt x="159" y="13"/>
                              </a:lnTo>
                              <a:lnTo>
                                <a:pt x="159" y="22"/>
                              </a:lnTo>
                              <a:lnTo>
                                <a:pt x="156" y="44"/>
                              </a:lnTo>
                              <a:lnTo>
                                <a:pt x="149" y="67"/>
                              </a:lnTo>
                              <a:lnTo>
                                <a:pt x="149" y="79"/>
                              </a:lnTo>
                              <a:lnTo>
                                <a:pt x="152" y="92"/>
                              </a:lnTo>
                              <a:lnTo>
                                <a:pt x="152" y="9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9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080" bIns="-19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39" name=""/>
                        <p:cNvSpPr/>
                        <p:nvPr/>
                      </p:nvSpPr>
                      <p:spPr>
                        <a:xfrm>
                          <a:off x="1335960" y="2037600"/>
                          <a:ext cx="54720" cy="27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6" h="98">
                              <a:moveTo>
                                <a:pt x="166" y="0"/>
                              </a:moveTo>
                              <a:lnTo>
                                <a:pt x="166" y="13"/>
                              </a:lnTo>
                              <a:lnTo>
                                <a:pt x="166" y="22"/>
                              </a:lnTo>
                              <a:lnTo>
                                <a:pt x="162" y="48"/>
                              </a:lnTo>
                              <a:lnTo>
                                <a:pt x="159" y="73"/>
                              </a:lnTo>
                              <a:lnTo>
                                <a:pt x="159" y="98"/>
                              </a:lnTo>
                              <a:lnTo>
                                <a:pt x="141" y="98"/>
                              </a:lnTo>
                              <a:lnTo>
                                <a:pt x="124" y="98"/>
                              </a:lnTo>
                              <a:lnTo>
                                <a:pt x="86" y="98"/>
                              </a:lnTo>
                              <a:lnTo>
                                <a:pt x="45" y="95"/>
                              </a:lnTo>
                              <a:lnTo>
                                <a:pt x="27" y="95"/>
                              </a:lnTo>
                              <a:lnTo>
                                <a:pt x="7" y="98"/>
                              </a:lnTo>
                              <a:lnTo>
                                <a:pt x="0" y="0"/>
                              </a:lnTo>
                              <a:lnTo>
                                <a:pt x="166" y="0"/>
                              </a:lnTo>
                              <a:lnTo>
                                <a:pt x="16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9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080" bIns="-19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0" name=""/>
                        <p:cNvSpPr/>
                        <p:nvPr/>
                      </p:nvSpPr>
                      <p:spPr>
                        <a:xfrm>
                          <a:off x="1534680" y="2102040"/>
                          <a:ext cx="83160" cy="57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52" h="205">
                              <a:moveTo>
                                <a:pt x="245" y="73"/>
                              </a:moveTo>
                              <a:lnTo>
                                <a:pt x="245" y="92"/>
                              </a:lnTo>
                              <a:lnTo>
                                <a:pt x="248" y="104"/>
                              </a:lnTo>
                              <a:lnTo>
                                <a:pt x="252" y="117"/>
                              </a:lnTo>
                              <a:lnTo>
                                <a:pt x="252" y="133"/>
                              </a:lnTo>
                              <a:lnTo>
                                <a:pt x="252" y="145"/>
                              </a:lnTo>
                              <a:lnTo>
                                <a:pt x="245" y="155"/>
                              </a:lnTo>
                              <a:lnTo>
                                <a:pt x="241" y="164"/>
                              </a:lnTo>
                              <a:lnTo>
                                <a:pt x="235" y="174"/>
                              </a:lnTo>
                              <a:lnTo>
                                <a:pt x="214" y="189"/>
                              </a:lnTo>
                              <a:lnTo>
                                <a:pt x="193" y="205"/>
                              </a:lnTo>
                              <a:lnTo>
                                <a:pt x="186" y="196"/>
                              </a:lnTo>
                              <a:lnTo>
                                <a:pt x="186" y="183"/>
                              </a:lnTo>
                              <a:lnTo>
                                <a:pt x="186" y="164"/>
                              </a:lnTo>
                              <a:lnTo>
                                <a:pt x="186" y="152"/>
                              </a:lnTo>
                              <a:lnTo>
                                <a:pt x="183" y="142"/>
                              </a:lnTo>
                              <a:lnTo>
                                <a:pt x="176" y="133"/>
                              </a:lnTo>
                              <a:lnTo>
                                <a:pt x="172" y="120"/>
                              </a:lnTo>
                              <a:lnTo>
                                <a:pt x="176" y="111"/>
                              </a:lnTo>
                              <a:lnTo>
                                <a:pt x="179" y="98"/>
                              </a:lnTo>
                              <a:lnTo>
                                <a:pt x="183" y="89"/>
                              </a:lnTo>
                              <a:lnTo>
                                <a:pt x="179" y="79"/>
                              </a:lnTo>
                              <a:lnTo>
                                <a:pt x="165" y="73"/>
                              </a:lnTo>
                              <a:lnTo>
                                <a:pt x="159" y="73"/>
                              </a:lnTo>
                              <a:lnTo>
                                <a:pt x="138" y="63"/>
                              </a:lnTo>
                              <a:lnTo>
                                <a:pt x="127" y="57"/>
                              </a:lnTo>
                              <a:lnTo>
                                <a:pt x="124" y="48"/>
                              </a:lnTo>
                              <a:lnTo>
                                <a:pt x="131" y="38"/>
                              </a:lnTo>
                              <a:lnTo>
                                <a:pt x="114" y="35"/>
                              </a:lnTo>
                              <a:lnTo>
                                <a:pt x="103" y="35"/>
                              </a:lnTo>
                              <a:lnTo>
                                <a:pt x="100" y="41"/>
                              </a:lnTo>
                              <a:lnTo>
                                <a:pt x="93" y="51"/>
                              </a:lnTo>
                              <a:lnTo>
                                <a:pt x="86" y="60"/>
                              </a:lnTo>
                              <a:lnTo>
                                <a:pt x="76" y="67"/>
                              </a:lnTo>
                              <a:lnTo>
                                <a:pt x="72" y="63"/>
                              </a:lnTo>
                              <a:lnTo>
                                <a:pt x="69" y="60"/>
                              </a:lnTo>
                              <a:lnTo>
                                <a:pt x="58" y="54"/>
                              </a:lnTo>
                              <a:lnTo>
                                <a:pt x="48" y="60"/>
                              </a:lnTo>
                              <a:lnTo>
                                <a:pt x="45" y="73"/>
                              </a:lnTo>
                              <a:lnTo>
                                <a:pt x="38" y="79"/>
                              </a:lnTo>
                              <a:lnTo>
                                <a:pt x="31" y="79"/>
                              </a:lnTo>
                              <a:lnTo>
                                <a:pt x="17" y="92"/>
                              </a:lnTo>
                              <a:lnTo>
                                <a:pt x="7" y="108"/>
                              </a:lnTo>
                              <a:lnTo>
                                <a:pt x="3" y="98"/>
                              </a:lnTo>
                              <a:lnTo>
                                <a:pt x="0" y="92"/>
                              </a:lnTo>
                              <a:lnTo>
                                <a:pt x="0" y="82"/>
                              </a:lnTo>
                              <a:lnTo>
                                <a:pt x="3" y="73"/>
                              </a:lnTo>
                              <a:lnTo>
                                <a:pt x="17" y="54"/>
                              </a:lnTo>
                              <a:lnTo>
                                <a:pt x="38" y="35"/>
                              </a:lnTo>
                              <a:lnTo>
                                <a:pt x="58" y="19"/>
                              </a:lnTo>
                              <a:lnTo>
                                <a:pt x="86" y="10"/>
                              </a:lnTo>
                              <a:lnTo>
                                <a:pt x="100" y="7"/>
                              </a:lnTo>
                              <a:lnTo>
                                <a:pt x="114" y="3"/>
                              </a:lnTo>
                              <a:lnTo>
                                <a:pt x="127" y="3"/>
                              </a:lnTo>
                              <a:lnTo>
                                <a:pt x="145" y="0"/>
                              </a:lnTo>
                              <a:lnTo>
                                <a:pt x="165" y="3"/>
                              </a:lnTo>
                              <a:lnTo>
                                <a:pt x="186" y="10"/>
                              </a:lnTo>
                              <a:lnTo>
                                <a:pt x="200" y="19"/>
                              </a:lnTo>
                              <a:lnTo>
                                <a:pt x="214" y="32"/>
                              </a:lnTo>
                              <a:lnTo>
                                <a:pt x="231" y="57"/>
                              </a:lnTo>
                              <a:lnTo>
                                <a:pt x="245" y="73"/>
                              </a:lnTo>
                              <a:lnTo>
                                <a:pt x="245" y="7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160" bIns="11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1" name=""/>
                        <p:cNvSpPr/>
                        <p:nvPr/>
                      </p:nvSpPr>
                      <p:spPr>
                        <a:xfrm>
                          <a:off x="1398960" y="2096640"/>
                          <a:ext cx="53640" cy="20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2" h="73">
                              <a:moveTo>
                                <a:pt x="162" y="7"/>
                              </a:moveTo>
                              <a:lnTo>
                                <a:pt x="155" y="54"/>
                              </a:lnTo>
                              <a:lnTo>
                                <a:pt x="155" y="60"/>
                              </a:lnTo>
                              <a:lnTo>
                                <a:pt x="128" y="63"/>
                              </a:lnTo>
                              <a:lnTo>
                                <a:pt x="103" y="60"/>
                              </a:lnTo>
                              <a:lnTo>
                                <a:pt x="83" y="51"/>
                              </a:lnTo>
                              <a:lnTo>
                                <a:pt x="55" y="41"/>
                              </a:lnTo>
                              <a:lnTo>
                                <a:pt x="45" y="38"/>
                              </a:lnTo>
                              <a:lnTo>
                                <a:pt x="38" y="48"/>
                              </a:lnTo>
                              <a:lnTo>
                                <a:pt x="38" y="48"/>
                              </a:lnTo>
                              <a:lnTo>
                                <a:pt x="31" y="48"/>
                              </a:lnTo>
                              <a:lnTo>
                                <a:pt x="20" y="51"/>
                              </a:lnTo>
                              <a:lnTo>
                                <a:pt x="3" y="73"/>
                              </a:lnTo>
                              <a:lnTo>
                                <a:pt x="0" y="67"/>
                              </a:lnTo>
                              <a:lnTo>
                                <a:pt x="0" y="57"/>
                              </a:lnTo>
                              <a:lnTo>
                                <a:pt x="7" y="45"/>
                              </a:lnTo>
                              <a:lnTo>
                                <a:pt x="17" y="35"/>
                              </a:lnTo>
                              <a:lnTo>
                                <a:pt x="31" y="22"/>
                              </a:lnTo>
                              <a:lnTo>
                                <a:pt x="45" y="13"/>
                              </a:lnTo>
                              <a:lnTo>
                                <a:pt x="62" y="7"/>
                              </a:lnTo>
                              <a:lnTo>
                                <a:pt x="83" y="0"/>
                              </a:lnTo>
                              <a:lnTo>
                                <a:pt x="103" y="0"/>
                              </a:lnTo>
                              <a:lnTo>
                                <a:pt x="131" y="4"/>
                              </a:lnTo>
                              <a:lnTo>
                                <a:pt x="162" y="7"/>
                              </a:lnTo>
                              <a:lnTo>
                                <a:pt x="162" y="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280" bIns="-26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2" name=""/>
                        <p:cNvSpPr/>
                        <p:nvPr/>
                      </p:nvSpPr>
                      <p:spPr>
                        <a:xfrm>
                          <a:off x="1541520" y="2117160"/>
                          <a:ext cx="54720" cy="55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6" h="195">
                              <a:moveTo>
                                <a:pt x="118" y="19"/>
                              </a:moveTo>
                              <a:lnTo>
                                <a:pt x="132" y="28"/>
                              </a:lnTo>
                              <a:lnTo>
                                <a:pt x="139" y="35"/>
                              </a:lnTo>
                              <a:lnTo>
                                <a:pt x="145" y="44"/>
                              </a:lnTo>
                              <a:lnTo>
                                <a:pt x="139" y="60"/>
                              </a:lnTo>
                              <a:lnTo>
                                <a:pt x="135" y="69"/>
                              </a:lnTo>
                              <a:lnTo>
                                <a:pt x="139" y="82"/>
                              </a:lnTo>
                              <a:lnTo>
                                <a:pt x="145" y="95"/>
                              </a:lnTo>
                              <a:lnTo>
                                <a:pt x="152" y="110"/>
                              </a:lnTo>
                              <a:lnTo>
                                <a:pt x="156" y="139"/>
                              </a:lnTo>
                              <a:lnTo>
                                <a:pt x="159" y="151"/>
                              </a:lnTo>
                              <a:lnTo>
                                <a:pt x="166" y="158"/>
                              </a:lnTo>
                              <a:lnTo>
                                <a:pt x="156" y="164"/>
                              </a:lnTo>
                              <a:lnTo>
                                <a:pt x="135" y="176"/>
                              </a:lnTo>
                              <a:lnTo>
                                <a:pt x="118" y="183"/>
                              </a:lnTo>
                              <a:lnTo>
                                <a:pt x="104" y="189"/>
                              </a:lnTo>
                              <a:lnTo>
                                <a:pt x="87" y="195"/>
                              </a:lnTo>
                              <a:lnTo>
                                <a:pt x="73" y="195"/>
                              </a:lnTo>
                              <a:lnTo>
                                <a:pt x="59" y="192"/>
                              </a:lnTo>
                              <a:lnTo>
                                <a:pt x="42" y="183"/>
                              </a:lnTo>
                              <a:lnTo>
                                <a:pt x="31" y="170"/>
                              </a:lnTo>
                              <a:lnTo>
                                <a:pt x="18" y="158"/>
                              </a:lnTo>
                              <a:lnTo>
                                <a:pt x="11" y="139"/>
                              </a:lnTo>
                              <a:lnTo>
                                <a:pt x="4" y="120"/>
                              </a:lnTo>
                              <a:lnTo>
                                <a:pt x="0" y="101"/>
                              </a:lnTo>
                              <a:lnTo>
                                <a:pt x="4" y="79"/>
                              </a:lnTo>
                              <a:lnTo>
                                <a:pt x="4" y="60"/>
                              </a:lnTo>
                              <a:lnTo>
                                <a:pt x="11" y="38"/>
                              </a:lnTo>
                              <a:lnTo>
                                <a:pt x="21" y="41"/>
                              </a:lnTo>
                              <a:lnTo>
                                <a:pt x="28" y="35"/>
                              </a:lnTo>
                              <a:lnTo>
                                <a:pt x="35" y="25"/>
                              </a:lnTo>
                              <a:lnTo>
                                <a:pt x="45" y="19"/>
                              </a:lnTo>
                              <a:lnTo>
                                <a:pt x="63" y="19"/>
                              </a:lnTo>
                              <a:lnTo>
                                <a:pt x="73" y="16"/>
                              </a:lnTo>
                              <a:lnTo>
                                <a:pt x="80" y="6"/>
                              </a:lnTo>
                              <a:lnTo>
                                <a:pt x="87" y="0"/>
                              </a:lnTo>
                              <a:lnTo>
                                <a:pt x="90" y="6"/>
                              </a:lnTo>
                              <a:lnTo>
                                <a:pt x="94" y="9"/>
                              </a:lnTo>
                              <a:lnTo>
                                <a:pt x="104" y="16"/>
                              </a:lnTo>
                              <a:lnTo>
                                <a:pt x="118" y="19"/>
                              </a:lnTo>
                              <a:lnTo>
                                <a:pt x="118" y="1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280" bIns="8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3" name=""/>
                        <p:cNvSpPr/>
                        <p:nvPr/>
                      </p:nvSpPr>
                      <p:spPr>
                        <a:xfrm>
                          <a:off x="1394280" y="2113560"/>
                          <a:ext cx="57960" cy="50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6" h="177">
                              <a:moveTo>
                                <a:pt x="104" y="13"/>
                              </a:moveTo>
                              <a:lnTo>
                                <a:pt x="131" y="16"/>
                              </a:lnTo>
                              <a:lnTo>
                                <a:pt x="152" y="16"/>
                              </a:lnTo>
                              <a:lnTo>
                                <a:pt x="176" y="13"/>
                              </a:lnTo>
                              <a:lnTo>
                                <a:pt x="176" y="158"/>
                              </a:lnTo>
                              <a:lnTo>
                                <a:pt x="166" y="164"/>
                              </a:lnTo>
                              <a:lnTo>
                                <a:pt x="155" y="171"/>
                              </a:lnTo>
                              <a:lnTo>
                                <a:pt x="142" y="174"/>
                              </a:lnTo>
                              <a:lnTo>
                                <a:pt x="131" y="177"/>
                              </a:lnTo>
                              <a:lnTo>
                                <a:pt x="104" y="177"/>
                              </a:lnTo>
                              <a:lnTo>
                                <a:pt x="76" y="177"/>
                              </a:lnTo>
                              <a:lnTo>
                                <a:pt x="59" y="174"/>
                              </a:lnTo>
                              <a:lnTo>
                                <a:pt x="48" y="167"/>
                              </a:lnTo>
                              <a:lnTo>
                                <a:pt x="38" y="158"/>
                              </a:lnTo>
                              <a:lnTo>
                                <a:pt x="28" y="152"/>
                              </a:lnTo>
                              <a:lnTo>
                                <a:pt x="14" y="130"/>
                              </a:lnTo>
                              <a:lnTo>
                                <a:pt x="3" y="104"/>
                              </a:lnTo>
                              <a:lnTo>
                                <a:pt x="0" y="85"/>
                              </a:lnTo>
                              <a:lnTo>
                                <a:pt x="3" y="70"/>
                              </a:lnTo>
                              <a:lnTo>
                                <a:pt x="7" y="51"/>
                              </a:lnTo>
                              <a:lnTo>
                                <a:pt x="17" y="32"/>
                              </a:lnTo>
                              <a:lnTo>
                                <a:pt x="28" y="26"/>
                              </a:lnTo>
                              <a:lnTo>
                                <a:pt x="34" y="16"/>
                              </a:lnTo>
                              <a:lnTo>
                                <a:pt x="45" y="7"/>
                              </a:lnTo>
                              <a:lnTo>
                                <a:pt x="59" y="0"/>
                              </a:lnTo>
                              <a:lnTo>
                                <a:pt x="72" y="3"/>
                              </a:lnTo>
                              <a:lnTo>
                                <a:pt x="104" y="13"/>
                              </a:lnTo>
                              <a:lnTo>
                                <a:pt x="104" y="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cc99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240" bIns="3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4" name=""/>
                        <p:cNvSpPr/>
                        <p:nvPr/>
                      </p:nvSpPr>
                      <p:spPr>
                        <a:xfrm>
                          <a:off x="1556280" y="2129760"/>
                          <a:ext cx="6840" cy="9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35">
                              <a:moveTo>
                                <a:pt x="14" y="35"/>
                              </a:moveTo>
                              <a:lnTo>
                                <a:pt x="11" y="35"/>
                              </a:lnTo>
                              <a:lnTo>
                                <a:pt x="4" y="32"/>
                              </a:lnTo>
                              <a:lnTo>
                                <a:pt x="0" y="22"/>
                              </a:lnTo>
                              <a:lnTo>
                                <a:pt x="0" y="13"/>
                              </a:lnTo>
                              <a:lnTo>
                                <a:pt x="7" y="0"/>
                              </a:lnTo>
                              <a:lnTo>
                                <a:pt x="14" y="3"/>
                              </a:lnTo>
                              <a:lnTo>
                                <a:pt x="18" y="6"/>
                              </a:lnTo>
                              <a:lnTo>
                                <a:pt x="21" y="19"/>
                              </a:lnTo>
                              <a:lnTo>
                                <a:pt x="21" y="28"/>
                              </a:lnTo>
                              <a:lnTo>
                                <a:pt x="14" y="35"/>
                              </a:lnTo>
                              <a:lnTo>
                                <a:pt x="14" y="3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5" name=""/>
                        <p:cNvSpPr/>
                        <p:nvPr/>
                      </p:nvSpPr>
                      <p:spPr>
                        <a:xfrm>
                          <a:off x="1567800" y="2132640"/>
                          <a:ext cx="8640" cy="8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31">
                              <a:moveTo>
                                <a:pt x="14" y="31"/>
                              </a:moveTo>
                              <a:lnTo>
                                <a:pt x="7" y="28"/>
                              </a:lnTo>
                              <a:lnTo>
                                <a:pt x="0" y="18"/>
                              </a:lnTo>
                              <a:lnTo>
                                <a:pt x="3" y="6"/>
                              </a:lnTo>
                              <a:lnTo>
                                <a:pt x="7" y="0"/>
                              </a:lnTo>
                              <a:lnTo>
                                <a:pt x="14" y="0"/>
                              </a:lnTo>
                              <a:lnTo>
                                <a:pt x="24" y="0"/>
                              </a:lnTo>
                              <a:lnTo>
                                <a:pt x="27" y="12"/>
                              </a:lnTo>
                              <a:lnTo>
                                <a:pt x="24" y="25"/>
                              </a:lnTo>
                              <a:lnTo>
                                <a:pt x="14" y="31"/>
                              </a:lnTo>
                              <a:lnTo>
                                <a:pt x="14" y="3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160" bIns="-38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6" name=""/>
                        <p:cNvSpPr/>
                        <p:nvPr/>
                      </p:nvSpPr>
                      <p:spPr>
                        <a:xfrm>
                          <a:off x="1490040" y="2115720"/>
                          <a:ext cx="35280" cy="51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7" h="182">
                              <a:moveTo>
                                <a:pt x="73" y="6"/>
                              </a:moveTo>
                              <a:lnTo>
                                <a:pt x="69" y="12"/>
                              </a:lnTo>
                              <a:lnTo>
                                <a:pt x="69" y="19"/>
                              </a:lnTo>
                              <a:lnTo>
                                <a:pt x="73" y="22"/>
                              </a:lnTo>
                              <a:lnTo>
                                <a:pt x="79" y="25"/>
                              </a:lnTo>
                              <a:lnTo>
                                <a:pt x="93" y="25"/>
                              </a:lnTo>
                              <a:lnTo>
                                <a:pt x="93" y="34"/>
                              </a:lnTo>
                              <a:lnTo>
                                <a:pt x="97" y="37"/>
                              </a:lnTo>
                              <a:lnTo>
                                <a:pt x="104" y="44"/>
                              </a:lnTo>
                              <a:lnTo>
                                <a:pt x="107" y="50"/>
                              </a:lnTo>
                              <a:lnTo>
                                <a:pt x="100" y="50"/>
                              </a:lnTo>
                              <a:lnTo>
                                <a:pt x="107" y="60"/>
                              </a:lnTo>
                              <a:lnTo>
                                <a:pt x="100" y="66"/>
                              </a:lnTo>
                              <a:lnTo>
                                <a:pt x="107" y="66"/>
                              </a:lnTo>
                              <a:lnTo>
                                <a:pt x="107" y="66"/>
                              </a:lnTo>
                              <a:lnTo>
                                <a:pt x="107" y="85"/>
                              </a:lnTo>
                              <a:lnTo>
                                <a:pt x="107" y="101"/>
                              </a:lnTo>
                              <a:lnTo>
                                <a:pt x="107" y="119"/>
                              </a:lnTo>
                              <a:lnTo>
                                <a:pt x="100" y="135"/>
                              </a:lnTo>
                              <a:lnTo>
                                <a:pt x="93" y="151"/>
                              </a:lnTo>
                              <a:lnTo>
                                <a:pt x="83" y="160"/>
                              </a:lnTo>
                              <a:lnTo>
                                <a:pt x="76" y="170"/>
                              </a:lnTo>
                              <a:lnTo>
                                <a:pt x="66" y="173"/>
                              </a:lnTo>
                              <a:lnTo>
                                <a:pt x="55" y="179"/>
                              </a:lnTo>
                              <a:lnTo>
                                <a:pt x="41" y="179"/>
                              </a:lnTo>
                              <a:lnTo>
                                <a:pt x="28" y="182"/>
                              </a:lnTo>
                              <a:lnTo>
                                <a:pt x="7" y="182"/>
                              </a:lnTo>
                              <a:lnTo>
                                <a:pt x="0" y="182"/>
                              </a:lnTo>
                              <a:lnTo>
                                <a:pt x="7" y="6"/>
                              </a:lnTo>
                              <a:lnTo>
                                <a:pt x="17" y="6"/>
                              </a:lnTo>
                              <a:lnTo>
                                <a:pt x="24" y="12"/>
                              </a:lnTo>
                              <a:lnTo>
                                <a:pt x="35" y="15"/>
                              </a:lnTo>
                              <a:lnTo>
                                <a:pt x="41" y="12"/>
                              </a:lnTo>
                              <a:lnTo>
                                <a:pt x="48" y="9"/>
                              </a:lnTo>
                              <a:lnTo>
                                <a:pt x="48" y="0"/>
                              </a:lnTo>
                              <a:lnTo>
                                <a:pt x="73" y="6"/>
                              </a:lnTo>
                              <a:lnTo>
                                <a:pt x="73" y="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" bIns="4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7" name=""/>
                        <p:cNvSpPr/>
                        <p:nvPr/>
                      </p:nvSpPr>
                      <p:spPr>
                        <a:xfrm>
                          <a:off x="1328040" y="2115720"/>
                          <a:ext cx="36360" cy="62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0" h="220">
                              <a:moveTo>
                                <a:pt x="38" y="6"/>
                              </a:moveTo>
                              <a:lnTo>
                                <a:pt x="41" y="19"/>
                              </a:lnTo>
                              <a:lnTo>
                                <a:pt x="45" y="22"/>
                              </a:lnTo>
                              <a:lnTo>
                                <a:pt x="51" y="25"/>
                              </a:lnTo>
                              <a:lnTo>
                                <a:pt x="58" y="28"/>
                              </a:lnTo>
                              <a:lnTo>
                                <a:pt x="65" y="19"/>
                              </a:lnTo>
                              <a:lnTo>
                                <a:pt x="65" y="12"/>
                              </a:lnTo>
                              <a:lnTo>
                                <a:pt x="82" y="25"/>
                              </a:lnTo>
                              <a:lnTo>
                                <a:pt x="76" y="34"/>
                              </a:lnTo>
                              <a:lnTo>
                                <a:pt x="72" y="37"/>
                              </a:lnTo>
                              <a:lnTo>
                                <a:pt x="72" y="44"/>
                              </a:lnTo>
                              <a:lnTo>
                                <a:pt x="79" y="50"/>
                              </a:lnTo>
                              <a:lnTo>
                                <a:pt x="86" y="50"/>
                              </a:lnTo>
                              <a:lnTo>
                                <a:pt x="96" y="44"/>
                              </a:lnTo>
                              <a:lnTo>
                                <a:pt x="107" y="75"/>
                              </a:lnTo>
                              <a:lnTo>
                                <a:pt x="110" y="94"/>
                              </a:lnTo>
                              <a:lnTo>
                                <a:pt x="110" y="110"/>
                              </a:lnTo>
                              <a:lnTo>
                                <a:pt x="110" y="126"/>
                              </a:lnTo>
                              <a:lnTo>
                                <a:pt x="107" y="141"/>
                              </a:lnTo>
                              <a:lnTo>
                                <a:pt x="100" y="157"/>
                              </a:lnTo>
                              <a:lnTo>
                                <a:pt x="89" y="170"/>
                              </a:lnTo>
                              <a:lnTo>
                                <a:pt x="72" y="186"/>
                              </a:lnTo>
                              <a:lnTo>
                                <a:pt x="55" y="198"/>
                              </a:lnTo>
                              <a:lnTo>
                                <a:pt x="38" y="208"/>
                              </a:lnTo>
                              <a:lnTo>
                                <a:pt x="17" y="220"/>
                              </a:lnTo>
                              <a:lnTo>
                                <a:pt x="10" y="211"/>
                              </a:lnTo>
                              <a:lnTo>
                                <a:pt x="3" y="198"/>
                              </a:lnTo>
                              <a:lnTo>
                                <a:pt x="3" y="189"/>
                              </a:lnTo>
                              <a:lnTo>
                                <a:pt x="20" y="186"/>
                              </a:lnTo>
                              <a:lnTo>
                                <a:pt x="38" y="176"/>
                              </a:lnTo>
                              <a:lnTo>
                                <a:pt x="48" y="167"/>
                              </a:lnTo>
                              <a:lnTo>
                                <a:pt x="58" y="157"/>
                              </a:lnTo>
                              <a:lnTo>
                                <a:pt x="62" y="141"/>
                              </a:lnTo>
                              <a:lnTo>
                                <a:pt x="69" y="129"/>
                              </a:lnTo>
                              <a:lnTo>
                                <a:pt x="69" y="116"/>
                              </a:lnTo>
                              <a:lnTo>
                                <a:pt x="65" y="113"/>
                              </a:lnTo>
                              <a:lnTo>
                                <a:pt x="58" y="110"/>
                              </a:lnTo>
                              <a:lnTo>
                                <a:pt x="48" y="113"/>
                              </a:lnTo>
                              <a:lnTo>
                                <a:pt x="34" y="113"/>
                              </a:lnTo>
                              <a:lnTo>
                                <a:pt x="3" y="104"/>
                              </a:lnTo>
                              <a:lnTo>
                                <a:pt x="3" y="104"/>
                              </a:lnTo>
                              <a:lnTo>
                                <a:pt x="7" y="72"/>
                              </a:lnTo>
                              <a:lnTo>
                                <a:pt x="7" y="53"/>
                              </a:lnTo>
                              <a:lnTo>
                                <a:pt x="3" y="37"/>
                              </a:lnTo>
                              <a:lnTo>
                                <a:pt x="3" y="31"/>
                              </a:lnTo>
                              <a:lnTo>
                                <a:pt x="3" y="22"/>
                              </a:lnTo>
                              <a:lnTo>
                                <a:pt x="0" y="15"/>
                              </a:lnTo>
                              <a:lnTo>
                                <a:pt x="3" y="6"/>
                              </a:lnTo>
                              <a:lnTo>
                                <a:pt x="7" y="15"/>
                              </a:lnTo>
                              <a:lnTo>
                                <a:pt x="17" y="25"/>
                              </a:lnTo>
                              <a:lnTo>
                                <a:pt x="27" y="22"/>
                              </a:lnTo>
                              <a:lnTo>
                                <a:pt x="31" y="19"/>
                              </a:lnTo>
                              <a:lnTo>
                                <a:pt x="24" y="0"/>
                              </a:lnTo>
                              <a:lnTo>
                                <a:pt x="34" y="3"/>
                              </a:lnTo>
                              <a:lnTo>
                                <a:pt x="38" y="6"/>
                              </a:lnTo>
                              <a:lnTo>
                                <a:pt x="38" y="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cc99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480" bIns="15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8" name=""/>
                        <p:cNvSpPr/>
                        <p:nvPr/>
                      </p:nvSpPr>
                      <p:spPr>
                        <a:xfrm>
                          <a:off x="1364400" y="2122560"/>
                          <a:ext cx="30600" cy="53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3" h="189">
                              <a:moveTo>
                                <a:pt x="55" y="0"/>
                              </a:moveTo>
                              <a:lnTo>
                                <a:pt x="45" y="0"/>
                              </a:lnTo>
                              <a:lnTo>
                                <a:pt x="35" y="6"/>
                              </a:lnTo>
                              <a:lnTo>
                                <a:pt x="42" y="12"/>
                              </a:lnTo>
                              <a:lnTo>
                                <a:pt x="48" y="12"/>
                              </a:lnTo>
                              <a:lnTo>
                                <a:pt x="73" y="12"/>
                              </a:lnTo>
                              <a:lnTo>
                                <a:pt x="66" y="28"/>
                              </a:lnTo>
                              <a:lnTo>
                                <a:pt x="66" y="44"/>
                              </a:lnTo>
                              <a:lnTo>
                                <a:pt x="66" y="57"/>
                              </a:lnTo>
                              <a:lnTo>
                                <a:pt x="69" y="72"/>
                              </a:lnTo>
                              <a:lnTo>
                                <a:pt x="73" y="85"/>
                              </a:lnTo>
                              <a:lnTo>
                                <a:pt x="80" y="98"/>
                              </a:lnTo>
                              <a:lnTo>
                                <a:pt x="93" y="126"/>
                              </a:lnTo>
                              <a:lnTo>
                                <a:pt x="62" y="126"/>
                              </a:lnTo>
                              <a:lnTo>
                                <a:pt x="48" y="126"/>
                              </a:lnTo>
                              <a:lnTo>
                                <a:pt x="35" y="120"/>
                              </a:lnTo>
                              <a:lnTo>
                                <a:pt x="28" y="123"/>
                              </a:lnTo>
                              <a:lnTo>
                                <a:pt x="28" y="126"/>
                              </a:lnTo>
                              <a:lnTo>
                                <a:pt x="24" y="135"/>
                              </a:lnTo>
                              <a:lnTo>
                                <a:pt x="24" y="142"/>
                              </a:lnTo>
                              <a:lnTo>
                                <a:pt x="28" y="151"/>
                              </a:lnTo>
                              <a:lnTo>
                                <a:pt x="45" y="157"/>
                              </a:lnTo>
                              <a:lnTo>
                                <a:pt x="66" y="164"/>
                              </a:lnTo>
                              <a:lnTo>
                                <a:pt x="35" y="189"/>
                              </a:lnTo>
                              <a:lnTo>
                                <a:pt x="14" y="183"/>
                              </a:lnTo>
                              <a:lnTo>
                                <a:pt x="0" y="176"/>
                              </a:lnTo>
                              <a:lnTo>
                                <a:pt x="10" y="142"/>
                              </a:lnTo>
                              <a:lnTo>
                                <a:pt x="21" y="110"/>
                              </a:lnTo>
                              <a:lnTo>
                                <a:pt x="28" y="79"/>
                              </a:lnTo>
                              <a:lnTo>
                                <a:pt x="24" y="63"/>
                              </a:lnTo>
                              <a:lnTo>
                                <a:pt x="21" y="47"/>
                              </a:lnTo>
                              <a:lnTo>
                                <a:pt x="17" y="28"/>
                              </a:lnTo>
                              <a:lnTo>
                                <a:pt x="21" y="12"/>
                              </a:lnTo>
                              <a:lnTo>
                                <a:pt x="28" y="6"/>
                              </a:lnTo>
                              <a:lnTo>
                                <a:pt x="38" y="3"/>
                              </a:lnTo>
                              <a:lnTo>
                                <a:pt x="55" y="0"/>
                              </a:lnTo>
                              <a:lnTo>
                                <a:pt x="55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6480" bIns="6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9" name=""/>
                        <p:cNvSpPr/>
                        <p:nvPr/>
                      </p:nvSpPr>
                      <p:spPr>
                        <a:xfrm>
                          <a:off x="1012320" y="2113560"/>
                          <a:ext cx="14760" cy="15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54">
                              <a:moveTo>
                                <a:pt x="45" y="13"/>
                              </a:moveTo>
                              <a:lnTo>
                                <a:pt x="45" y="32"/>
                              </a:lnTo>
                              <a:lnTo>
                                <a:pt x="42" y="41"/>
                              </a:lnTo>
                              <a:lnTo>
                                <a:pt x="38" y="51"/>
                              </a:lnTo>
                              <a:lnTo>
                                <a:pt x="25" y="54"/>
                              </a:lnTo>
                              <a:lnTo>
                                <a:pt x="14" y="48"/>
                              </a:lnTo>
                              <a:lnTo>
                                <a:pt x="7" y="35"/>
                              </a:lnTo>
                              <a:lnTo>
                                <a:pt x="4" y="26"/>
                              </a:lnTo>
                              <a:lnTo>
                                <a:pt x="0" y="13"/>
                              </a:lnTo>
                              <a:lnTo>
                                <a:pt x="4" y="7"/>
                              </a:lnTo>
                              <a:lnTo>
                                <a:pt x="11" y="0"/>
                              </a:lnTo>
                              <a:lnTo>
                                <a:pt x="21" y="3"/>
                              </a:lnTo>
                              <a:lnTo>
                                <a:pt x="32" y="3"/>
                              </a:lnTo>
                              <a:lnTo>
                                <a:pt x="38" y="7"/>
                              </a:lnTo>
                              <a:lnTo>
                                <a:pt x="45" y="13"/>
                              </a:lnTo>
                              <a:lnTo>
                                <a:pt x="45" y="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680" bIns="-31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0" name=""/>
                        <p:cNvSpPr/>
                        <p:nvPr/>
                      </p:nvSpPr>
                      <p:spPr>
                        <a:xfrm>
                          <a:off x="1558800" y="2143080"/>
                          <a:ext cx="12600" cy="7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8" h="26">
                              <a:moveTo>
                                <a:pt x="21" y="13"/>
                              </a:moveTo>
                              <a:lnTo>
                                <a:pt x="28" y="10"/>
                              </a:lnTo>
                              <a:lnTo>
                                <a:pt x="35" y="7"/>
                              </a:lnTo>
                              <a:lnTo>
                                <a:pt x="38" y="13"/>
                              </a:lnTo>
                              <a:lnTo>
                                <a:pt x="35" y="19"/>
                              </a:lnTo>
                              <a:lnTo>
                                <a:pt x="24" y="26"/>
                              </a:lnTo>
                              <a:lnTo>
                                <a:pt x="14" y="19"/>
                              </a:lnTo>
                              <a:lnTo>
                                <a:pt x="4" y="19"/>
                              </a:lnTo>
                              <a:lnTo>
                                <a:pt x="0" y="13"/>
                              </a:lnTo>
                              <a:lnTo>
                                <a:pt x="0" y="4"/>
                              </a:lnTo>
                              <a:lnTo>
                                <a:pt x="7" y="0"/>
                              </a:lnTo>
                              <a:lnTo>
                                <a:pt x="11" y="13"/>
                              </a:lnTo>
                              <a:lnTo>
                                <a:pt x="17" y="16"/>
                              </a:lnTo>
                              <a:lnTo>
                                <a:pt x="21" y="13"/>
                              </a:lnTo>
                              <a:lnTo>
                                <a:pt x="21" y="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cc99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0" bIns="-39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1" name=""/>
                        <p:cNvSpPr/>
                        <p:nvPr/>
                      </p:nvSpPr>
                      <p:spPr>
                        <a:xfrm>
                          <a:off x="1416960" y="2134440"/>
                          <a:ext cx="13320" cy="6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5">
                              <a:moveTo>
                                <a:pt x="35" y="12"/>
                              </a:moveTo>
                              <a:lnTo>
                                <a:pt x="35" y="12"/>
                              </a:lnTo>
                              <a:lnTo>
                                <a:pt x="41" y="16"/>
                              </a:lnTo>
                              <a:lnTo>
                                <a:pt x="41" y="19"/>
                              </a:lnTo>
                              <a:lnTo>
                                <a:pt x="28" y="25"/>
                              </a:lnTo>
                              <a:lnTo>
                                <a:pt x="14" y="25"/>
                              </a:lnTo>
                              <a:lnTo>
                                <a:pt x="3" y="19"/>
                              </a:lnTo>
                              <a:lnTo>
                                <a:pt x="0" y="12"/>
                              </a:lnTo>
                              <a:lnTo>
                                <a:pt x="0" y="6"/>
                              </a:lnTo>
                              <a:lnTo>
                                <a:pt x="7" y="0"/>
                              </a:lnTo>
                              <a:lnTo>
                                <a:pt x="17" y="9"/>
                              </a:lnTo>
                              <a:lnTo>
                                <a:pt x="24" y="12"/>
                              </a:lnTo>
                              <a:lnTo>
                                <a:pt x="35" y="12"/>
                              </a:lnTo>
                              <a:lnTo>
                                <a:pt x="35" y="1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960" bIns="-39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2" name=""/>
                        <p:cNvSpPr/>
                        <p:nvPr/>
                      </p:nvSpPr>
                      <p:spPr>
                        <a:xfrm>
                          <a:off x="1341720" y="2130480"/>
                          <a:ext cx="7920" cy="9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" h="32">
                              <a:moveTo>
                                <a:pt x="24" y="19"/>
                              </a:moveTo>
                              <a:lnTo>
                                <a:pt x="21" y="29"/>
                              </a:lnTo>
                              <a:lnTo>
                                <a:pt x="10" y="32"/>
                              </a:lnTo>
                              <a:lnTo>
                                <a:pt x="4" y="19"/>
                              </a:lnTo>
                              <a:lnTo>
                                <a:pt x="0" y="10"/>
                              </a:lnTo>
                              <a:lnTo>
                                <a:pt x="4" y="7"/>
                              </a:lnTo>
                              <a:lnTo>
                                <a:pt x="14" y="0"/>
                              </a:lnTo>
                              <a:lnTo>
                                <a:pt x="21" y="3"/>
                              </a:lnTo>
                              <a:lnTo>
                                <a:pt x="24" y="19"/>
                              </a:lnTo>
                              <a:lnTo>
                                <a:pt x="24" y="1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800" bIns="-37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3" name=""/>
                        <p:cNvSpPr/>
                        <p:nvPr/>
                      </p:nvSpPr>
                      <p:spPr>
                        <a:xfrm>
                          <a:off x="1554120" y="2152080"/>
                          <a:ext cx="26280" cy="9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0" h="35">
                              <a:moveTo>
                                <a:pt x="80" y="0"/>
                              </a:moveTo>
                              <a:lnTo>
                                <a:pt x="76" y="12"/>
                              </a:lnTo>
                              <a:lnTo>
                                <a:pt x="73" y="22"/>
                              </a:lnTo>
                              <a:lnTo>
                                <a:pt x="69" y="28"/>
                              </a:lnTo>
                              <a:lnTo>
                                <a:pt x="63" y="31"/>
                              </a:lnTo>
                              <a:lnTo>
                                <a:pt x="45" y="35"/>
                              </a:lnTo>
                              <a:lnTo>
                                <a:pt x="28" y="35"/>
                              </a:lnTo>
                              <a:lnTo>
                                <a:pt x="18" y="28"/>
                              </a:lnTo>
                              <a:lnTo>
                                <a:pt x="7" y="19"/>
                              </a:lnTo>
                              <a:lnTo>
                                <a:pt x="4" y="9"/>
                              </a:lnTo>
                              <a:lnTo>
                                <a:pt x="0" y="0"/>
                              </a:lnTo>
                              <a:lnTo>
                                <a:pt x="7" y="3"/>
                              </a:lnTo>
                              <a:lnTo>
                                <a:pt x="28" y="9"/>
                              </a:lnTo>
                              <a:lnTo>
                                <a:pt x="42" y="9"/>
                              </a:lnTo>
                              <a:lnTo>
                                <a:pt x="56" y="9"/>
                              </a:lnTo>
                              <a:lnTo>
                                <a:pt x="66" y="6"/>
                              </a:lnTo>
                              <a:lnTo>
                                <a:pt x="80" y="0"/>
                              </a:lnTo>
                              <a:lnTo>
                                <a:pt x="8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cc99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4" name=""/>
                        <p:cNvSpPr/>
                        <p:nvPr/>
                      </p:nvSpPr>
                      <p:spPr>
                        <a:xfrm>
                          <a:off x="1406880" y="2145240"/>
                          <a:ext cx="36360" cy="1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0" h="47">
                              <a:moveTo>
                                <a:pt x="107" y="0"/>
                              </a:moveTo>
                              <a:lnTo>
                                <a:pt x="110" y="9"/>
                              </a:lnTo>
                              <a:lnTo>
                                <a:pt x="107" y="22"/>
                              </a:lnTo>
                              <a:lnTo>
                                <a:pt x="97" y="34"/>
                              </a:lnTo>
                              <a:lnTo>
                                <a:pt x="90" y="41"/>
                              </a:lnTo>
                              <a:lnTo>
                                <a:pt x="79" y="47"/>
                              </a:lnTo>
                              <a:lnTo>
                                <a:pt x="62" y="47"/>
                              </a:lnTo>
                              <a:lnTo>
                                <a:pt x="45" y="47"/>
                              </a:lnTo>
                              <a:lnTo>
                                <a:pt x="31" y="44"/>
                              </a:lnTo>
                              <a:lnTo>
                                <a:pt x="21" y="41"/>
                              </a:lnTo>
                              <a:lnTo>
                                <a:pt x="14" y="28"/>
                              </a:lnTo>
                              <a:lnTo>
                                <a:pt x="7" y="15"/>
                              </a:lnTo>
                              <a:lnTo>
                                <a:pt x="0" y="0"/>
                              </a:lnTo>
                              <a:lnTo>
                                <a:pt x="14" y="3"/>
                              </a:lnTo>
                              <a:lnTo>
                                <a:pt x="28" y="6"/>
                              </a:lnTo>
                              <a:lnTo>
                                <a:pt x="41" y="9"/>
                              </a:lnTo>
                              <a:lnTo>
                                <a:pt x="55" y="9"/>
                              </a:lnTo>
                              <a:lnTo>
                                <a:pt x="69" y="9"/>
                              </a:lnTo>
                              <a:lnTo>
                                <a:pt x="83" y="6"/>
                              </a:lnTo>
                              <a:lnTo>
                                <a:pt x="93" y="3"/>
                              </a:lnTo>
                              <a:lnTo>
                                <a:pt x="107" y="0"/>
                              </a:lnTo>
                              <a:lnTo>
                                <a:pt x="10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480" bIns="-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5" name=""/>
                        <p:cNvSpPr/>
                        <p:nvPr/>
                      </p:nvSpPr>
                      <p:spPr>
                        <a:xfrm>
                          <a:off x="1500480" y="2143080"/>
                          <a:ext cx="6840" cy="4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16">
                              <a:moveTo>
                                <a:pt x="17" y="13"/>
                              </a:moveTo>
                              <a:lnTo>
                                <a:pt x="10" y="16"/>
                              </a:lnTo>
                              <a:lnTo>
                                <a:pt x="4" y="13"/>
                              </a:lnTo>
                              <a:lnTo>
                                <a:pt x="0" y="10"/>
                              </a:lnTo>
                              <a:lnTo>
                                <a:pt x="4" y="0"/>
                              </a:lnTo>
                              <a:lnTo>
                                <a:pt x="7" y="7"/>
                              </a:lnTo>
                              <a:lnTo>
                                <a:pt x="14" y="4"/>
                              </a:lnTo>
                              <a:lnTo>
                                <a:pt x="21" y="4"/>
                              </a:lnTo>
                              <a:lnTo>
                                <a:pt x="17" y="13"/>
                              </a:lnTo>
                              <a:lnTo>
                                <a:pt x="17" y="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480" bIns="-42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6" name=""/>
                        <p:cNvSpPr/>
                        <p:nvPr/>
                      </p:nvSpPr>
                      <p:spPr>
                        <a:xfrm>
                          <a:off x="918720" y="2124360"/>
                          <a:ext cx="94680" cy="128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7" h="454">
                              <a:moveTo>
                                <a:pt x="287" y="35"/>
                              </a:moveTo>
                              <a:lnTo>
                                <a:pt x="273" y="445"/>
                              </a:lnTo>
                              <a:lnTo>
                                <a:pt x="266" y="454"/>
                              </a:lnTo>
                              <a:lnTo>
                                <a:pt x="259" y="454"/>
                              </a:lnTo>
                              <a:lnTo>
                                <a:pt x="249" y="451"/>
                              </a:lnTo>
                              <a:lnTo>
                                <a:pt x="249" y="445"/>
                              </a:lnTo>
                              <a:lnTo>
                                <a:pt x="249" y="397"/>
                              </a:lnTo>
                              <a:lnTo>
                                <a:pt x="252" y="347"/>
                              </a:lnTo>
                              <a:lnTo>
                                <a:pt x="252" y="246"/>
                              </a:lnTo>
                              <a:lnTo>
                                <a:pt x="256" y="145"/>
                              </a:lnTo>
                              <a:lnTo>
                                <a:pt x="256" y="95"/>
                              </a:lnTo>
                              <a:lnTo>
                                <a:pt x="256" y="47"/>
                              </a:lnTo>
                              <a:lnTo>
                                <a:pt x="228" y="41"/>
                              </a:lnTo>
                              <a:lnTo>
                                <a:pt x="197" y="41"/>
                              </a:lnTo>
                              <a:lnTo>
                                <a:pt x="132" y="38"/>
                              </a:lnTo>
                              <a:lnTo>
                                <a:pt x="100" y="35"/>
                              </a:lnTo>
                              <a:lnTo>
                                <a:pt x="69" y="35"/>
                              </a:lnTo>
                              <a:lnTo>
                                <a:pt x="38" y="32"/>
                              </a:lnTo>
                              <a:lnTo>
                                <a:pt x="7" y="29"/>
                              </a:lnTo>
                              <a:lnTo>
                                <a:pt x="0" y="16"/>
                              </a:lnTo>
                              <a:lnTo>
                                <a:pt x="7" y="6"/>
                              </a:lnTo>
                              <a:lnTo>
                                <a:pt x="14" y="0"/>
                              </a:lnTo>
                              <a:lnTo>
                                <a:pt x="273" y="19"/>
                              </a:lnTo>
                              <a:lnTo>
                                <a:pt x="287" y="35"/>
                              </a:lnTo>
                              <a:lnTo>
                                <a:pt x="287" y="3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7" name=""/>
                        <p:cNvSpPr/>
                        <p:nvPr/>
                      </p:nvSpPr>
                      <p:spPr>
                        <a:xfrm>
                          <a:off x="1494720" y="2150640"/>
                          <a:ext cx="16920" cy="1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2" h="47">
                              <a:moveTo>
                                <a:pt x="52" y="12"/>
                              </a:moveTo>
                              <a:lnTo>
                                <a:pt x="48" y="25"/>
                              </a:lnTo>
                              <a:lnTo>
                                <a:pt x="45" y="31"/>
                              </a:lnTo>
                              <a:lnTo>
                                <a:pt x="38" y="41"/>
                              </a:lnTo>
                              <a:lnTo>
                                <a:pt x="27" y="47"/>
                              </a:lnTo>
                              <a:lnTo>
                                <a:pt x="21" y="44"/>
                              </a:lnTo>
                              <a:lnTo>
                                <a:pt x="14" y="41"/>
                              </a:lnTo>
                              <a:lnTo>
                                <a:pt x="3" y="25"/>
                              </a:lnTo>
                              <a:lnTo>
                                <a:pt x="0" y="9"/>
                              </a:lnTo>
                              <a:lnTo>
                                <a:pt x="0" y="0"/>
                              </a:lnTo>
                              <a:lnTo>
                                <a:pt x="21" y="3"/>
                              </a:lnTo>
                              <a:lnTo>
                                <a:pt x="38" y="6"/>
                              </a:lnTo>
                              <a:lnTo>
                                <a:pt x="52" y="12"/>
                              </a:lnTo>
                              <a:lnTo>
                                <a:pt x="52" y="1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480" bIns="-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8" name=""/>
                        <p:cNvSpPr/>
                        <p:nvPr/>
                      </p:nvSpPr>
                      <p:spPr>
                        <a:xfrm>
                          <a:off x="1450080" y="2167200"/>
                          <a:ext cx="2160" cy="1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" h="7">
                              <a:moveTo>
                                <a:pt x="7" y="7"/>
                              </a:moveTo>
                              <a:lnTo>
                                <a:pt x="0" y="7"/>
                              </a:lnTo>
                              <a:lnTo>
                                <a:pt x="0" y="0"/>
                              </a:lnTo>
                              <a:lnTo>
                                <a:pt x="7" y="0"/>
                              </a:lnTo>
                              <a:lnTo>
                                <a:pt x="7" y="7"/>
                              </a:lnTo>
                              <a:lnTo>
                                <a:pt x="7" y="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9" name=""/>
                        <p:cNvSpPr/>
                        <p:nvPr/>
                      </p:nvSpPr>
                      <p:spPr>
                        <a:xfrm>
                          <a:off x="1397520" y="2164680"/>
                          <a:ext cx="26280" cy="17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0" h="63">
                              <a:moveTo>
                                <a:pt x="21" y="3"/>
                              </a:moveTo>
                              <a:lnTo>
                                <a:pt x="24" y="0"/>
                              </a:lnTo>
                              <a:lnTo>
                                <a:pt x="35" y="0"/>
                              </a:lnTo>
                              <a:lnTo>
                                <a:pt x="52" y="3"/>
                              </a:lnTo>
                              <a:lnTo>
                                <a:pt x="69" y="13"/>
                              </a:lnTo>
                              <a:lnTo>
                                <a:pt x="76" y="16"/>
                              </a:lnTo>
                              <a:lnTo>
                                <a:pt x="80" y="22"/>
                              </a:lnTo>
                              <a:lnTo>
                                <a:pt x="73" y="32"/>
                              </a:lnTo>
                              <a:lnTo>
                                <a:pt x="52" y="41"/>
                              </a:lnTo>
                              <a:lnTo>
                                <a:pt x="24" y="54"/>
                              </a:lnTo>
                              <a:lnTo>
                                <a:pt x="0" y="63"/>
                              </a:lnTo>
                              <a:lnTo>
                                <a:pt x="4" y="47"/>
                              </a:lnTo>
                              <a:lnTo>
                                <a:pt x="7" y="32"/>
                              </a:lnTo>
                              <a:lnTo>
                                <a:pt x="14" y="16"/>
                              </a:lnTo>
                              <a:lnTo>
                                <a:pt x="21" y="3"/>
                              </a:lnTo>
                              <a:lnTo>
                                <a:pt x="21" y="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0" name=""/>
                        <p:cNvSpPr/>
                        <p:nvPr/>
                      </p:nvSpPr>
                      <p:spPr>
                        <a:xfrm>
                          <a:off x="1432800" y="2168280"/>
                          <a:ext cx="1944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9" h="50">
                              <a:moveTo>
                                <a:pt x="42" y="15"/>
                              </a:moveTo>
                              <a:lnTo>
                                <a:pt x="52" y="31"/>
                              </a:lnTo>
                              <a:lnTo>
                                <a:pt x="59" y="50"/>
                              </a:lnTo>
                              <a:lnTo>
                                <a:pt x="49" y="50"/>
                              </a:lnTo>
                              <a:lnTo>
                                <a:pt x="38" y="47"/>
                              </a:lnTo>
                              <a:lnTo>
                                <a:pt x="31" y="44"/>
                              </a:lnTo>
                              <a:lnTo>
                                <a:pt x="21" y="44"/>
                              </a:lnTo>
                              <a:lnTo>
                                <a:pt x="14" y="31"/>
                              </a:lnTo>
                              <a:lnTo>
                                <a:pt x="7" y="22"/>
                              </a:lnTo>
                              <a:lnTo>
                                <a:pt x="0" y="12"/>
                              </a:lnTo>
                              <a:lnTo>
                                <a:pt x="0" y="3"/>
                              </a:lnTo>
                              <a:lnTo>
                                <a:pt x="11" y="3"/>
                              </a:lnTo>
                              <a:lnTo>
                                <a:pt x="18" y="0"/>
                              </a:lnTo>
                              <a:lnTo>
                                <a:pt x="21" y="3"/>
                              </a:lnTo>
                              <a:lnTo>
                                <a:pt x="42" y="15"/>
                              </a:lnTo>
                              <a:lnTo>
                                <a:pt x="42" y="1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1" name=""/>
                        <p:cNvSpPr/>
                        <p:nvPr/>
                      </p:nvSpPr>
                      <p:spPr>
                        <a:xfrm>
                          <a:off x="1489320" y="2172600"/>
                          <a:ext cx="35280" cy="3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7" h="136">
                              <a:moveTo>
                                <a:pt x="103" y="60"/>
                              </a:moveTo>
                              <a:lnTo>
                                <a:pt x="96" y="67"/>
                              </a:lnTo>
                              <a:lnTo>
                                <a:pt x="89" y="76"/>
                              </a:lnTo>
                              <a:lnTo>
                                <a:pt x="82" y="95"/>
                              </a:lnTo>
                              <a:lnTo>
                                <a:pt x="72" y="114"/>
                              </a:lnTo>
                              <a:lnTo>
                                <a:pt x="69" y="123"/>
                              </a:lnTo>
                              <a:lnTo>
                                <a:pt x="58" y="133"/>
                              </a:lnTo>
                              <a:lnTo>
                                <a:pt x="34" y="133"/>
                              </a:lnTo>
                              <a:lnTo>
                                <a:pt x="17" y="136"/>
                              </a:lnTo>
                              <a:lnTo>
                                <a:pt x="3" y="133"/>
                              </a:lnTo>
                              <a:lnTo>
                                <a:pt x="0" y="101"/>
                              </a:lnTo>
                              <a:lnTo>
                                <a:pt x="0" y="70"/>
                              </a:lnTo>
                              <a:lnTo>
                                <a:pt x="3" y="35"/>
                              </a:lnTo>
                              <a:lnTo>
                                <a:pt x="3" y="0"/>
                              </a:lnTo>
                              <a:lnTo>
                                <a:pt x="24" y="4"/>
                              </a:lnTo>
                              <a:lnTo>
                                <a:pt x="34" y="4"/>
                              </a:lnTo>
                              <a:lnTo>
                                <a:pt x="44" y="0"/>
                              </a:lnTo>
                              <a:lnTo>
                                <a:pt x="44" y="0"/>
                              </a:lnTo>
                              <a:lnTo>
                                <a:pt x="58" y="0"/>
                              </a:lnTo>
                              <a:lnTo>
                                <a:pt x="65" y="7"/>
                              </a:lnTo>
                              <a:lnTo>
                                <a:pt x="72" y="13"/>
                              </a:lnTo>
                              <a:lnTo>
                                <a:pt x="89" y="26"/>
                              </a:lnTo>
                              <a:lnTo>
                                <a:pt x="96" y="32"/>
                              </a:lnTo>
                              <a:lnTo>
                                <a:pt x="103" y="38"/>
                              </a:lnTo>
                              <a:lnTo>
                                <a:pt x="107" y="48"/>
                              </a:lnTo>
                              <a:lnTo>
                                <a:pt x="103" y="60"/>
                              </a:lnTo>
                              <a:lnTo>
                                <a:pt x="103" y="6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99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8280" bIns="-8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2" name=""/>
                        <p:cNvSpPr/>
                        <p:nvPr/>
                      </p:nvSpPr>
                      <p:spPr>
                        <a:xfrm>
                          <a:off x="1534680" y="2170080"/>
                          <a:ext cx="21240" cy="15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5" h="57">
                              <a:moveTo>
                                <a:pt x="65" y="28"/>
                              </a:moveTo>
                              <a:lnTo>
                                <a:pt x="58" y="35"/>
                              </a:lnTo>
                              <a:lnTo>
                                <a:pt x="38" y="44"/>
                              </a:lnTo>
                              <a:lnTo>
                                <a:pt x="17" y="54"/>
                              </a:lnTo>
                              <a:lnTo>
                                <a:pt x="7" y="57"/>
                              </a:lnTo>
                              <a:lnTo>
                                <a:pt x="0" y="57"/>
                              </a:lnTo>
                              <a:lnTo>
                                <a:pt x="0" y="44"/>
                              </a:lnTo>
                              <a:lnTo>
                                <a:pt x="10" y="28"/>
                              </a:lnTo>
                              <a:lnTo>
                                <a:pt x="17" y="16"/>
                              </a:lnTo>
                              <a:lnTo>
                                <a:pt x="24" y="3"/>
                              </a:lnTo>
                              <a:lnTo>
                                <a:pt x="27" y="0"/>
                              </a:lnTo>
                              <a:lnTo>
                                <a:pt x="31" y="3"/>
                              </a:lnTo>
                              <a:lnTo>
                                <a:pt x="48" y="13"/>
                              </a:lnTo>
                              <a:lnTo>
                                <a:pt x="58" y="25"/>
                              </a:lnTo>
                              <a:lnTo>
                                <a:pt x="65" y="28"/>
                              </a:lnTo>
                              <a:lnTo>
                                <a:pt x="65" y="2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960" bIns="-30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3" name=""/>
                        <p:cNvSpPr/>
                        <p:nvPr/>
                      </p:nvSpPr>
                      <p:spPr>
                        <a:xfrm>
                          <a:off x="1565640" y="2176200"/>
                          <a:ext cx="19440" cy="15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9" h="54">
                              <a:moveTo>
                                <a:pt x="52" y="54"/>
                              </a:moveTo>
                              <a:lnTo>
                                <a:pt x="34" y="47"/>
                              </a:lnTo>
                              <a:lnTo>
                                <a:pt x="21" y="38"/>
                              </a:lnTo>
                              <a:lnTo>
                                <a:pt x="10" y="25"/>
                              </a:lnTo>
                              <a:lnTo>
                                <a:pt x="0" y="6"/>
                              </a:lnTo>
                              <a:lnTo>
                                <a:pt x="28" y="6"/>
                              </a:lnTo>
                              <a:lnTo>
                                <a:pt x="41" y="6"/>
                              </a:lnTo>
                              <a:lnTo>
                                <a:pt x="59" y="0"/>
                              </a:lnTo>
                              <a:lnTo>
                                <a:pt x="52" y="54"/>
                              </a:lnTo>
                              <a:lnTo>
                                <a:pt x="52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680" bIns="-31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4" name=""/>
                        <p:cNvSpPr/>
                        <p:nvPr/>
                      </p:nvSpPr>
                      <p:spPr>
                        <a:xfrm>
                          <a:off x="1518480" y="2178000"/>
                          <a:ext cx="97200" cy="32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4" h="114">
                              <a:moveTo>
                                <a:pt x="235" y="29"/>
                              </a:moveTo>
                              <a:lnTo>
                                <a:pt x="239" y="38"/>
                              </a:lnTo>
                              <a:lnTo>
                                <a:pt x="242" y="51"/>
                              </a:lnTo>
                              <a:lnTo>
                                <a:pt x="249" y="63"/>
                              </a:lnTo>
                              <a:lnTo>
                                <a:pt x="256" y="73"/>
                              </a:lnTo>
                              <a:lnTo>
                                <a:pt x="273" y="67"/>
                              </a:lnTo>
                              <a:lnTo>
                                <a:pt x="294" y="108"/>
                              </a:lnTo>
                              <a:lnTo>
                                <a:pt x="273" y="104"/>
                              </a:lnTo>
                              <a:lnTo>
                                <a:pt x="235" y="104"/>
                              </a:lnTo>
                              <a:lnTo>
                                <a:pt x="190" y="104"/>
                              </a:lnTo>
                              <a:lnTo>
                                <a:pt x="138" y="108"/>
                              </a:lnTo>
                              <a:lnTo>
                                <a:pt x="45" y="111"/>
                              </a:lnTo>
                              <a:lnTo>
                                <a:pt x="0" y="114"/>
                              </a:lnTo>
                              <a:lnTo>
                                <a:pt x="4" y="95"/>
                              </a:lnTo>
                              <a:lnTo>
                                <a:pt x="14" y="76"/>
                              </a:lnTo>
                              <a:lnTo>
                                <a:pt x="21" y="70"/>
                              </a:lnTo>
                              <a:lnTo>
                                <a:pt x="28" y="63"/>
                              </a:lnTo>
                              <a:lnTo>
                                <a:pt x="38" y="60"/>
                              </a:lnTo>
                              <a:lnTo>
                                <a:pt x="49" y="60"/>
                              </a:lnTo>
                              <a:lnTo>
                                <a:pt x="114" y="22"/>
                              </a:lnTo>
                              <a:lnTo>
                                <a:pt x="138" y="38"/>
                              </a:lnTo>
                              <a:lnTo>
                                <a:pt x="163" y="54"/>
                              </a:lnTo>
                              <a:lnTo>
                                <a:pt x="173" y="63"/>
                              </a:lnTo>
                              <a:lnTo>
                                <a:pt x="187" y="70"/>
                              </a:lnTo>
                              <a:lnTo>
                                <a:pt x="201" y="73"/>
                              </a:lnTo>
                              <a:lnTo>
                                <a:pt x="214" y="73"/>
                              </a:lnTo>
                              <a:lnTo>
                                <a:pt x="218" y="67"/>
                              </a:lnTo>
                              <a:lnTo>
                                <a:pt x="218" y="57"/>
                              </a:lnTo>
                              <a:lnTo>
                                <a:pt x="218" y="41"/>
                              </a:lnTo>
                              <a:lnTo>
                                <a:pt x="218" y="22"/>
                              </a:lnTo>
                              <a:lnTo>
                                <a:pt x="218" y="13"/>
                              </a:lnTo>
                              <a:lnTo>
                                <a:pt x="221" y="0"/>
                              </a:lnTo>
                              <a:lnTo>
                                <a:pt x="225" y="16"/>
                              </a:lnTo>
                              <a:lnTo>
                                <a:pt x="228" y="22"/>
                              </a:lnTo>
                              <a:lnTo>
                                <a:pt x="235" y="29"/>
                              </a:lnTo>
                              <a:lnTo>
                                <a:pt x="235" y="2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99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4760" bIns="-147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5" name=""/>
                        <p:cNvSpPr/>
                        <p:nvPr/>
                      </p:nvSpPr>
                      <p:spPr>
                        <a:xfrm>
                          <a:off x="1380240" y="2170800"/>
                          <a:ext cx="72000" cy="41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8" h="145">
                              <a:moveTo>
                                <a:pt x="218" y="66"/>
                              </a:moveTo>
                              <a:lnTo>
                                <a:pt x="215" y="85"/>
                              </a:lnTo>
                              <a:lnTo>
                                <a:pt x="215" y="104"/>
                              </a:lnTo>
                              <a:lnTo>
                                <a:pt x="215" y="126"/>
                              </a:lnTo>
                              <a:lnTo>
                                <a:pt x="218" y="145"/>
                              </a:lnTo>
                              <a:lnTo>
                                <a:pt x="187" y="145"/>
                              </a:lnTo>
                              <a:lnTo>
                                <a:pt x="152" y="145"/>
                              </a:lnTo>
                              <a:lnTo>
                                <a:pt x="118" y="145"/>
                              </a:lnTo>
                              <a:lnTo>
                                <a:pt x="83" y="145"/>
                              </a:lnTo>
                              <a:lnTo>
                                <a:pt x="25" y="139"/>
                              </a:lnTo>
                              <a:lnTo>
                                <a:pt x="0" y="139"/>
                              </a:lnTo>
                              <a:lnTo>
                                <a:pt x="0" y="123"/>
                              </a:lnTo>
                              <a:lnTo>
                                <a:pt x="0" y="114"/>
                              </a:lnTo>
                              <a:lnTo>
                                <a:pt x="7" y="110"/>
                              </a:lnTo>
                              <a:lnTo>
                                <a:pt x="7" y="95"/>
                              </a:lnTo>
                              <a:lnTo>
                                <a:pt x="7" y="76"/>
                              </a:lnTo>
                              <a:lnTo>
                                <a:pt x="11" y="57"/>
                              </a:lnTo>
                              <a:lnTo>
                                <a:pt x="18" y="41"/>
                              </a:lnTo>
                              <a:lnTo>
                                <a:pt x="25" y="19"/>
                              </a:lnTo>
                              <a:lnTo>
                                <a:pt x="38" y="10"/>
                              </a:lnTo>
                              <a:lnTo>
                                <a:pt x="45" y="3"/>
                              </a:lnTo>
                              <a:lnTo>
                                <a:pt x="52" y="0"/>
                              </a:lnTo>
                              <a:lnTo>
                                <a:pt x="45" y="16"/>
                              </a:lnTo>
                              <a:lnTo>
                                <a:pt x="38" y="35"/>
                              </a:lnTo>
                              <a:lnTo>
                                <a:pt x="35" y="51"/>
                              </a:lnTo>
                              <a:lnTo>
                                <a:pt x="38" y="54"/>
                              </a:lnTo>
                              <a:lnTo>
                                <a:pt x="63" y="47"/>
                              </a:lnTo>
                              <a:lnTo>
                                <a:pt x="87" y="41"/>
                              </a:lnTo>
                              <a:lnTo>
                                <a:pt x="111" y="32"/>
                              </a:lnTo>
                              <a:lnTo>
                                <a:pt x="139" y="19"/>
                              </a:lnTo>
                              <a:lnTo>
                                <a:pt x="152" y="35"/>
                              </a:lnTo>
                              <a:lnTo>
                                <a:pt x="170" y="51"/>
                              </a:lnTo>
                              <a:lnTo>
                                <a:pt x="180" y="57"/>
                              </a:lnTo>
                              <a:lnTo>
                                <a:pt x="190" y="60"/>
                              </a:lnTo>
                              <a:lnTo>
                                <a:pt x="204" y="66"/>
                              </a:lnTo>
                              <a:lnTo>
                                <a:pt x="218" y="66"/>
                              </a:lnTo>
                              <a:lnTo>
                                <a:pt x="218" y="6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99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760" bIns="-57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6" name=""/>
                        <p:cNvSpPr/>
                        <p:nvPr/>
                      </p:nvSpPr>
                      <p:spPr>
                        <a:xfrm>
                          <a:off x="1328040" y="2182680"/>
                          <a:ext cx="38520" cy="25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7" h="92">
                              <a:moveTo>
                                <a:pt x="72" y="25"/>
                              </a:moveTo>
                              <a:lnTo>
                                <a:pt x="86" y="32"/>
                              </a:lnTo>
                              <a:lnTo>
                                <a:pt x="96" y="38"/>
                              </a:lnTo>
                              <a:lnTo>
                                <a:pt x="103" y="47"/>
                              </a:lnTo>
                              <a:lnTo>
                                <a:pt x="110" y="57"/>
                              </a:lnTo>
                              <a:lnTo>
                                <a:pt x="114" y="76"/>
                              </a:lnTo>
                              <a:lnTo>
                                <a:pt x="117" y="92"/>
                              </a:lnTo>
                              <a:lnTo>
                                <a:pt x="3" y="92"/>
                              </a:lnTo>
                              <a:lnTo>
                                <a:pt x="0" y="76"/>
                              </a:lnTo>
                              <a:lnTo>
                                <a:pt x="0" y="69"/>
                              </a:lnTo>
                              <a:lnTo>
                                <a:pt x="3" y="63"/>
                              </a:lnTo>
                              <a:lnTo>
                                <a:pt x="7" y="51"/>
                              </a:lnTo>
                              <a:lnTo>
                                <a:pt x="7" y="47"/>
                              </a:lnTo>
                              <a:lnTo>
                                <a:pt x="3" y="44"/>
                              </a:lnTo>
                              <a:lnTo>
                                <a:pt x="7" y="25"/>
                              </a:lnTo>
                              <a:lnTo>
                                <a:pt x="7" y="13"/>
                              </a:lnTo>
                              <a:lnTo>
                                <a:pt x="3" y="0"/>
                              </a:lnTo>
                              <a:lnTo>
                                <a:pt x="20" y="6"/>
                              </a:lnTo>
                              <a:lnTo>
                                <a:pt x="38" y="13"/>
                              </a:lnTo>
                              <a:lnTo>
                                <a:pt x="55" y="16"/>
                              </a:lnTo>
                              <a:lnTo>
                                <a:pt x="72" y="25"/>
                              </a:lnTo>
                              <a:lnTo>
                                <a:pt x="72" y="2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99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0880" bIns="-20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7" name=""/>
                        <p:cNvSpPr/>
                        <p:nvPr/>
                      </p:nvSpPr>
                      <p:spPr>
                        <a:xfrm>
                          <a:off x="1283400" y="2182680"/>
                          <a:ext cx="216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" h="6">
                              <a:moveTo>
                                <a:pt x="0" y="6"/>
                              </a:moveTo>
                              <a:lnTo>
                                <a:pt x="7" y="0"/>
                              </a:lnTo>
                              <a:lnTo>
                                <a:pt x="7" y="6"/>
                              </a:lnTo>
                              <a:lnTo>
                                <a:pt x="0" y="6"/>
                              </a:lnTo>
                              <a:lnTo>
                                <a:pt x="0" y="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8" name=""/>
                        <p:cNvSpPr/>
                        <p:nvPr/>
                      </p:nvSpPr>
                      <p:spPr>
                        <a:xfrm>
                          <a:off x="1366920" y="2186280"/>
                          <a:ext cx="6840" cy="8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31">
                              <a:moveTo>
                                <a:pt x="0" y="6"/>
                              </a:moveTo>
                              <a:lnTo>
                                <a:pt x="21" y="0"/>
                              </a:lnTo>
                              <a:lnTo>
                                <a:pt x="21" y="31"/>
                              </a:lnTo>
                              <a:lnTo>
                                <a:pt x="0" y="6"/>
                              </a:lnTo>
                              <a:lnTo>
                                <a:pt x="0" y="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160" bIns="-38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9" name=""/>
                        <p:cNvSpPr/>
                        <p:nvPr/>
                      </p:nvSpPr>
                      <p:spPr>
                        <a:xfrm>
                          <a:off x="1554120" y="2191680"/>
                          <a:ext cx="6840" cy="5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19">
                              <a:moveTo>
                                <a:pt x="21" y="6"/>
                              </a:moveTo>
                              <a:lnTo>
                                <a:pt x="21" y="15"/>
                              </a:lnTo>
                              <a:lnTo>
                                <a:pt x="14" y="19"/>
                              </a:lnTo>
                              <a:lnTo>
                                <a:pt x="4" y="19"/>
                              </a:lnTo>
                              <a:lnTo>
                                <a:pt x="0" y="12"/>
                              </a:lnTo>
                              <a:lnTo>
                                <a:pt x="0" y="3"/>
                              </a:lnTo>
                              <a:lnTo>
                                <a:pt x="7" y="0"/>
                              </a:lnTo>
                              <a:lnTo>
                                <a:pt x="18" y="3"/>
                              </a:lnTo>
                              <a:lnTo>
                                <a:pt x="21" y="6"/>
                              </a:lnTo>
                              <a:lnTo>
                                <a:pt x="21" y="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400" bIns="-41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0" name=""/>
                        <p:cNvSpPr/>
                        <p:nvPr/>
                      </p:nvSpPr>
                      <p:spPr>
                        <a:xfrm>
                          <a:off x="1419480" y="2188080"/>
                          <a:ext cx="6840" cy="5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19">
                              <a:moveTo>
                                <a:pt x="21" y="6"/>
                              </a:moveTo>
                              <a:lnTo>
                                <a:pt x="17" y="13"/>
                              </a:lnTo>
                              <a:lnTo>
                                <a:pt x="17" y="19"/>
                              </a:lnTo>
                              <a:lnTo>
                                <a:pt x="7" y="19"/>
                              </a:lnTo>
                              <a:lnTo>
                                <a:pt x="0" y="16"/>
                              </a:lnTo>
                              <a:lnTo>
                                <a:pt x="0" y="6"/>
                              </a:lnTo>
                              <a:lnTo>
                                <a:pt x="3" y="3"/>
                              </a:lnTo>
                              <a:lnTo>
                                <a:pt x="10" y="0"/>
                              </a:lnTo>
                              <a:lnTo>
                                <a:pt x="17" y="3"/>
                              </a:lnTo>
                              <a:lnTo>
                                <a:pt x="21" y="6"/>
                              </a:lnTo>
                              <a:lnTo>
                                <a:pt x="21" y="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400" bIns="-41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1" name=""/>
                        <p:cNvSpPr/>
                        <p:nvPr/>
                      </p:nvSpPr>
                      <p:spPr>
                        <a:xfrm>
                          <a:off x="1553040" y="2200320"/>
                          <a:ext cx="5400" cy="3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3">
                              <a:moveTo>
                                <a:pt x="17" y="6"/>
                              </a:moveTo>
                              <a:lnTo>
                                <a:pt x="17" y="10"/>
                              </a:lnTo>
                              <a:lnTo>
                                <a:pt x="10" y="13"/>
                              </a:lnTo>
                              <a:lnTo>
                                <a:pt x="3" y="13"/>
                              </a:lnTo>
                              <a:lnTo>
                                <a:pt x="3" y="6"/>
                              </a:lnTo>
                              <a:lnTo>
                                <a:pt x="0" y="3"/>
                              </a:lnTo>
                              <a:lnTo>
                                <a:pt x="10" y="0"/>
                              </a:lnTo>
                              <a:lnTo>
                                <a:pt x="14" y="0"/>
                              </a:lnTo>
                              <a:lnTo>
                                <a:pt x="17" y="6"/>
                              </a:lnTo>
                              <a:lnTo>
                                <a:pt x="17" y="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200" bIns="-43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2" name=""/>
                        <p:cNvSpPr/>
                        <p:nvPr/>
                      </p:nvSpPr>
                      <p:spPr>
                        <a:xfrm>
                          <a:off x="1419480" y="2200320"/>
                          <a:ext cx="9000" cy="10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38">
                              <a:moveTo>
                                <a:pt x="21" y="29"/>
                              </a:moveTo>
                              <a:lnTo>
                                <a:pt x="17" y="35"/>
                              </a:lnTo>
                              <a:lnTo>
                                <a:pt x="10" y="38"/>
                              </a:lnTo>
                              <a:lnTo>
                                <a:pt x="7" y="35"/>
                              </a:lnTo>
                              <a:lnTo>
                                <a:pt x="3" y="29"/>
                              </a:lnTo>
                              <a:lnTo>
                                <a:pt x="0" y="22"/>
                              </a:lnTo>
                              <a:lnTo>
                                <a:pt x="3" y="13"/>
                              </a:lnTo>
                              <a:lnTo>
                                <a:pt x="7" y="6"/>
                              </a:lnTo>
                              <a:lnTo>
                                <a:pt x="10" y="3"/>
                              </a:lnTo>
                              <a:lnTo>
                                <a:pt x="21" y="0"/>
                              </a:lnTo>
                              <a:lnTo>
                                <a:pt x="28" y="6"/>
                              </a:lnTo>
                              <a:lnTo>
                                <a:pt x="24" y="13"/>
                              </a:lnTo>
                              <a:lnTo>
                                <a:pt x="21" y="29"/>
                              </a:lnTo>
                              <a:lnTo>
                                <a:pt x="21" y="2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000" bIns="-36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3" name=""/>
                        <p:cNvSpPr/>
                        <p:nvPr/>
                      </p:nvSpPr>
                      <p:spPr>
                        <a:xfrm>
                          <a:off x="1629360" y="2239200"/>
                          <a:ext cx="19440" cy="2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9" h="9">
                              <a:moveTo>
                                <a:pt x="59" y="3"/>
                              </a:moveTo>
                              <a:lnTo>
                                <a:pt x="49" y="6"/>
                              </a:lnTo>
                              <a:lnTo>
                                <a:pt x="38" y="3"/>
                              </a:lnTo>
                              <a:lnTo>
                                <a:pt x="24" y="3"/>
                              </a:lnTo>
                              <a:lnTo>
                                <a:pt x="14" y="9"/>
                              </a:lnTo>
                              <a:lnTo>
                                <a:pt x="7" y="6"/>
                              </a:lnTo>
                              <a:lnTo>
                                <a:pt x="0" y="3"/>
                              </a:lnTo>
                              <a:lnTo>
                                <a:pt x="31" y="0"/>
                              </a:lnTo>
                              <a:lnTo>
                                <a:pt x="45" y="0"/>
                              </a:lnTo>
                              <a:lnTo>
                                <a:pt x="59" y="3"/>
                              </a:lnTo>
                              <a:lnTo>
                                <a:pt x="59" y="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640" bIns="-44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4" name=""/>
                        <p:cNvSpPr/>
                        <p:nvPr/>
                      </p:nvSpPr>
                      <p:spPr>
                        <a:xfrm>
                          <a:off x="1649160" y="2239200"/>
                          <a:ext cx="13320" cy="21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75">
                              <a:moveTo>
                                <a:pt x="41" y="16"/>
                              </a:moveTo>
                              <a:lnTo>
                                <a:pt x="38" y="31"/>
                              </a:lnTo>
                              <a:lnTo>
                                <a:pt x="35" y="47"/>
                              </a:lnTo>
                              <a:lnTo>
                                <a:pt x="28" y="63"/>
                              </a:lnTo>
                              <a:lnTo>
                                <a:pt x="21" y="69"/>
                              </a:lnTo>
                              <a:lnTo>
                                <a:pt x="14" y="75"/>
                              </a:lnTo>
                              <a:lnTo>
                                <a:pt x="7" y="69"/>
                              </a:lnTo>
                              <a:lnTo>
                                <a:pt x="3" y="63"/>
                              </a:lnTo>
                              <a:lnTo>
                                <a:pt x="0" y="47"/>
                              </a:lnTo>
                              <a:lnTo>
                                <a:pt x="3" y="31"/>
                              </a:lnTo>
                              <a:lnTo>
                                <a:pt x="7" y="16"/>
                              </a:lnTo>
                              <a:lnTo>
                                <a:pt x="17" y="9"/>
                              </a:lnTo>
                              <a:lnTo>
                                <a:pt x="31" y="0"/>
                              </a:lnTo>
                              <a:lnTo>
                                <a:pt x="38" y="0"/>
                              </a:lnTo>
                              <a:lnTo>
                                <a:pt x="41" y="6"/>
                              </a:lnTo>
                              <a:lnTo>
                                <a:pt x="41" y="16"/>
                              </a:lnTo>
                              <a:lnTo>
                                <a:pt x="41" y="1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560" bIns="-25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5" name=""/>
                        <p:cNvSpPr/>
                        <p:nvPr/>
                      </p:nvSpPr>
                      <p:spPr>
                        <a:xfrm>
                          <a:off x="1576080" y="2239920"/>
                          <a:ext cx="51120" cy="75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5" h="268">
                              <a:moveTo>
                                <a:pt x="142" y="0"/>
                              </a:moveTo>
                              <a:lnTo>
                                <a:pt x="131" y="6"/>
                              </a:lnTo>
                              <a:lnTo>
                                <a:pt x="117" y="13"/>
                              </a:lnTo>
                              <a:lnTo>
                                <a:pt x="111" y="19"/>
                              </a:lnTo>
                              <a:lnTo>
                                <a:pt x="107" y="25"/>
                              </a:lnTo>
                              <a:lnTo>
                                <a:pt x="107" y="31"/>
                              </a:lnTo>
                              <a:lnTo>
                                <a:pt x="107" y="53"/>
                              </a:lnTo>
                              <a:lnTo>
                                <a:pt x="107" y="63"/>
                              </a:lnTo>
                              <a:lnTo>
                                <a:pt x="100" y="72"/>
                              </a:lnTo>
                              <a:lnTo>
                                <a:pt x="97" y="85"/>
                              </a:lnTo>
                              <a:lnTo>
                                <a:pt x="97" y="101"/>
                              </a:lnTo>
                              <a:lnTo>
                                <a:pt x="100" y="113"/>
                              </a:lnTo>
                              <a:lnTo>
                                <a:pt x="107" y="123"/>
                              </a:lnTo>
                              <a:lnTo>
                                <a:pt x="97" y="139"/>
                              </a:lnTo>
                              <a:lnTo>
                                <a:pt x="86" y="148"/>
                              </a:lnTo>
                              <a:lnTo>
                                <a:pt x="83" y="158"/>
                              </a:lnTo>
                              <a:lnTo>
                                <a:pt x="86" y="164"/>
                              </a:lnTo>
                              <a:lnTo>
                                <a:pt x="90" y="173"/>
                              </a:lnTo>
                              <a:lnTo>
                                <a:pt x="100" y="183"/>
                              </a:lnTo>
                              <a:lnTo>
                                <a:pt x="111" y="183"/>
                              </a:lnTo>
                              <a:lnTo>
                                <a:pt x="117" y="183"/>
                              </a:lnTo>
                              <a:lnTo>
                                <a:pt x="124" y="195"/>
                              </a:lnTo>
                              <a:lnTo>
                                <a:pt x="131" y="208"/>
                              </a:lnTo>
                              <a:lnTo>
                                <a:pt x="135" y="217"/>
                              </a:lnTo>
                              <a:lnTo>
                                <a:pt x="142" y="221"/>
                              </a:lnTo>
                              <a:lnTo>
                                <a:pt x="155" y="230"/>
                              </a:lnTo>
                              <a:lnTo>
                                <a:pt x="145" y="230"/>
                              </a:lnTo>
                              <a:lnTo>
                                <a:pt x="135" y="236"/>
                              </a:lnTo>
                              <a:lnTo>
                                <a:pt x="121" y="249"/>
                              </a:lnTo>
                              <a:lnTo>
                                <a:pt x="111" y="236"/>
                              </a:lnTo>
                              <a:lnTo>
                                <a:pt x="104" y="224"/>
                              </a:lnTo>
                              <a:lnTo>
                                <a:pt x="93" y="217"/>
                              </a:lnTo>
                              <a:lnTo>
                                <a:pt x="83" y="214"/>
                              </a:lnTo>
                              <a:lnTo>
                                <a:pt x="73" y="230"/>
                              </a:lnTo>
                              <a:lnTo>
                                <a:pt x="69" y="243"/>
                              </a:lnTo>
                              <a:lnTo>
                                <a:pt x="62" y="258"/>
                              </a:lnTo>
                              <a:lnTo>
                                <a:pt x="55" y="268"/>
                              </a:lnTo>
                              <a:lnTo>
                                <a:pt x="31" y="258"/>
                              </a:lnTo>
                              <a:lnTo>
                                <a:pt x="21" y="252"/>
                              </a:lnTo>
                              <a:lnTo>
                                <a:pt x="14" y="243"/>
                              </a:lnTo>
                              <a:lnTo>
                                <a:pt x="10" y="230"/>
                              </a:lnTo>
                              <a:lnTo>
                                <a:pt x="10" y="221"/>
                              </a:lnTo>
                              <a:lnTo>
                                <a:pt x="7" y="214"/>
                              </a:lnTo>
                              <a:lnTo>
                                <a:pt x="0" y="208"/>
                              </a:lnTo>
                              <a:lnTo>
                                <a:pt x="17" y="202"/>
                              </a:lnTo>
                              <a:lnTo>
                                <a:pt x="35" y="195"/>
                              </a:lnTo>
                              <a:lnTo>
                                <a:pt x="48" y="189"/>
                              </a:lnTo>
                              <a:lnTo>
                                <a:pt x="55" y="183"/>
                              </a:lnTo>
                              <a:lnTo>
                                <a:pt x="62" y="176"/>
                              </a:lnTo>
                              <a:lnTo>
                                <a:pt x="66" y="170"/>
                              </a:lnTo>
                              <a:lnTo>
                                <a:pt x="66" y="161"/>
                              </a:lnTo>
                              <a:lnTo>
                                <a:pt x="59" y="145"/>
                              </a:lnTo>
                              <a:lnTo>
                                <a:pt x="55" y="139"/>
                              </a:lnTo>
                              <a:lnTo>
                                <a:pt x="55" y="132"/>
                              </a:lnTo>
                              <a:lnTo>
                                <a:pt x="59" y="126"/>
                              </a:lnTo>
                              <a:lnTo>
                                <a:pt x="69" y="123"/>
                              </a:lnTo>
                              <a:lnTo>
                                <a:pt x="73" y="107"/>
                              </a:lnTo>
                              <a:lnTo>
                                <a:pt x="73" y="91"/>
                              </a:lnTo>
                              <a:lnTo>
                                <a:pt x="66" y="76"/>
                              </a:lnTo>
                              <a:lnTo>
                                <a:pt x="55" y="66"/>
                              </a:lnTo>
                              <a:lnTo>
                                <a:pt x="28" y="53"/>
                              </a:lnTo>
                              <a:lnTo>
                                <a:pt x="35" y="47"/>
                              </a:lnTo>
                              <a:lnTo>
                                <a:pt x="38" y="38"/>
                              </a:lnTo>
                              <a:lnTo>
                                <a:pt x="45" y="28"/>
                              </a:lnTo>
                              <a:lnTo>
                                <a:pt x="41" y="19"/>
                              </a:lnTo>
                              <a:lnTo>
                                <a:pt x="35" y="9"/>
                              </a:lnTo>
                              <a:lnTo>
                                <a:pt x="35" y="6"/>
                              </a:lnTo>
                              <a:lnTo>
                                <a:pt x="62" y="6"/>
                              </a:lnTo>
                              <a:lnTo>
                                <a:pt x="86" y="3"/>
                              </a:lnTo>
                              <a:lnTo>
                                <a:pt x="114" y="0"/>
                              </a:lnTo>
                              <a:lnTo>
                                <a:pt x="142" y="0"/>
                              </a:lnTo>
                              <a:lnTo>
                                <a:pt x="14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9cc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160" bIns="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6" name=""/>
                        <p:cNvSpPr/>
                        <p:nvPr/>
                      </p:nvSpPr>
                      <p:spPr>
                        <a:xfrm>
                          <a:off x="1537200" y="2238120"/>
                          <a:ext cx="14400" cy="10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4" h="37">
                              <a:moveTo>
                                <a:pt x="44" y="12"/>
                              </a:moveTo>
                              <a:lnTo>
                                <a:pt x="41" y="22"/>
                              </a:lnTo>
                              <a:lnTo>
                                <a:pt x="34" y="28"/>
                              </a:lnTo>
                              <a:lnTo>
                                <a:pt x="24" y="37"/>
                              </a:lnTo>
                              <a:lnTo>
                                <a:pt x="13" y="37"/>
                              </a:lnTo>
                              <a:lnTo>
                                <a:pt x="6" y="34"/>
                              </a:lnTo>
                              <a:lnTo>
                                <a:pt x="3" y="28"/>
                              </a:lnTo>
                              <a:lnTo>
                                <a:pt x="0" y="19"/>
                              </a:lnTo>
                              <a:lnTo>
                                <a:pt x="3" y="12"/>
                              </a:lnTo>
                              <a:lnTo>
                                <a:pt x="6" y="6"/>
                              </a:lnTo>
                              <a:lnTo>
                                <a:pt x="17" y="0"/>
                              </a:lnTo>
                              <a:lnTo>
                                <a:pt x="24" y="0"/>
                              </a:lnTo>
                              <a:lnTo>
                                <a:pt x="34" y="0"/>
                              </a:lnTo>
                              <a:lnTo>
                                <a:pt x="44" y="3"/>
                              </a:lnTo>
                              <a:lnTo>
                                <a:pt x="44" y="12"/>
                              </a:lnTo>
                              <a:lnTo>
                                <a:pt x="44" y="1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7" name=""/>
                        <p:cNvSpPr/>
                        <p:nvPr/>
                      </p:nvSpPr>
                      <p:spPr>
                        <a:xfrm>
                          <a:off x="1560960" y="2241720"/>
                          <a:ext cx="20160" cy="1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2" h="47">
                              <a:moveTo>
                                <a:pt x="59" y="25"/>
                              </a:moveTo>
                              <a:lnTo>
                                <a:pt x="62" y="32"/>
                              </a:lnTo>
                              <a:lnTo>
                                <a:pt x="59" y="35"/>
                              </a:lnTo>
                              <a:lnTo>
                                <a:pt x="52" y="47"/>
                              </a:lnTo>
                              <a:lnTo>
                                <a:pt x="42" y="44"/>
                              </a:lnTo>
                              <a:lnTo>
                                <a:pt x="38" y="41"/>
                              </a:lnTo>
                              <a:lnTo>
                                <a:pt x="35" y="35"/>
                              </a:lnTo>
                              <a:lnTo>
                                <a:pt x="28" y="38"/>
                              </a:lnTo>
                              <a:lnTo>
                                <a:pt x="10" y="41"/>
                              </a:lnTo>
                              <a:lnTo>
                                <a:pt x="4" y="38"/>
                              </a:lnTo>
                              <a:lnTo>
                                <a:pt x="0" y="32"/>
                              </a:lnTo>
                              <a:lnTo>
                                <a:pt x="10" y="13"/>
                              </a:lnTo>
                              <a:lnTo>
                                <a:pt x="21" y="3"/>
                              </a:lnTo>
                              <a:lnTo>
                                <a:pt x="28" y="0"/>
                              </a:lnTo>
                              <a:lnTo>
                                <a:pt x="42" y="3"/>
                              </a:lnTo>
                              <a:lnTo>
                                <a:pt x="48" y="10"/>
                              </a:lnTo>
                              <a:lnTo>
                                <a:pt x="52" y="19"/>
                              </a:lnTo>
                              <a:lnTo>
                                <a:pt x="59" y="25"/>
                              </a:lnTo>
                              <a:lnTo>
                                <a:pt x="59" y="2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480" bIns="-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8" name=""/>
                        <p:cNvSpPr/>
                        <p:nvPr/>
                      </p:nvSpPr>
                      <p:spPr>
                        <a:xfrm>
                          <a:off x="1291320" y="2239920"/>
                          <a:ext cx="214560" cy="2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49" h="91">
                              <a:moveTo>
                                <a:pt x="629" y="13"/>
                              </a:moveTo>
                              <a:lnTo>
                                <a:pt x="632" y="28"/>
                              </a:lnTo>
                              <a:lnTo>
                                <a:pt x="636" y="41"/>
                              </a:lnTo>
                              <a:lnTo>
                                <a:pt x="642" y="53"/>
                              </a:lnTo>
                              <a:lnTo>
                                <a:pt x="649" y="66"/>
                              </a:lnTo>
                              <a:lnTo>
                                <a:pt x="632" y="69"/>
                              </a:lnTo>
                              <a:lnTo>
                                <a:pt x="615" y="72"/>
                              </a:lnTo>
                              <a:lnTo>
                                <a:pt x="594" y="76"/>
                              </a:lnTo>
                              <a:lnTo>
                                <a:pt x="573" y="76"/>
                              </a:lnTo>
                              <a:lnTo>
                                <a:pt x="528" y="79"/>
                              </a:lnTo>
                              <a:lnTo>
                                <a:pt x="487" y="79"/>
                              </a:lnTo>
                              <a:lnTo>
                                <a:pt x="487" y="79"/>
                              </a:lnTo>
                              <a:lnTo>
                                <a:pt x="463" y="66"/>
                              </a:lnTo>
                              <a:lnTo>
                                <a:pt x="449" y="60"/>
                              </a:lnTo>
                              <a:lnTo>
                                <a:pt x="435" y="60"/>
                              </a:lnTo>
                              <a:lnTo>
                                <a:pt x="425" y="60"/>
                              </a:lnTo>
                              <a:lnTo>
                                <a:pt x="415" y="63"/>
                              </a:lnTo>
                              <a:lnTo>
                                <a:pt x="397" y="72"/>
                              </a:lnTo>
                              <a:lnTo>
                                <a:pt x="377" y="82"/>
                              </a:lnTo>
                              <a:lnTo>
                                <a:pt x="366" y="88"/>
                              </a:lnTo>
                              <a:lnTo>
                                <a:pt x="356" y="91"/>
                              </a:lnTo>
                              <a:lnTo>
                                <a:pt x="345" y="76"/>
                              </a:lnTo>
                              <a:lnTo>
                                <a:pt x="339" y="60"/>
                              </a:lnTo>
                              <a:lnTo>
                                <a:pt x="325" y="44"/>
                              </a:lnTo>
                              <a:lnTo>
                                <a:pt x="318" y="38"/>
                              </a:lnTo>
                              <a:lnTo>
                                <a:pt x="307" y="31"/>
                              </a:lnTo>
                              <a:lnTo>
                                <a:pt x="290" y="31"/>
                              </a:lnTo>
                              <a:lnTo>
                                <a:pt x="273" y="35"/>
                              </a:lnTo>
                              <a:lnTo>
                                <a:pt x="256" y="41"/>
                              </a:lnTo>
                              <a:lnTo>
                                <a:pt x="249" y="44"/>
                              </a:lnTo>
                              <a:lnTo>
                                <a:pt x="242" y="53"/>
                              </a:lnTo>
                              <a:lnTo>
                                <a:pt x="245" y="63"/>
                              </a:lnTo>
                              <a:lnTo>
                                <a:pt x="238" y="69"/>
                              </a:lnTo>
                              <a:lnTo>
                                <a:pt x="221" y="72"/>
                              </a:lnTo>
                              <a:lnTo>
                                <a:pt x="183" y="72"/>
                              </a:lnTo>
                              <a:lnTo>
                                <a:pt x="142" y="69"/>
                              </a:lnTo>
                              <a:lnTo>
                                <a:pt x="100" y="69"/>
                              </a:lnTo>
                              <a:lnTo>
                                <a:pt x="62" y="66"/>
                              </a:lnTo>
                              <a:lnTo>
                                <a:pt x="62" y="72"/>
                              </a:lnTo>
                              <a:lnTo>
                                <a:pt x="45" y="69"/>
                              </a:lnTo>
                              <a:lnTo>
                                <a:pt x="28" y="66"/>
                              </a:lnTo>
                              <a:lnTo>
                                <a:pt x="10" y="66"/>
                              </a:lnTo>
                              <a:lnTo>
                                <a:pt x="0" y="60"/>
                              </a:lnTo>
                              <a:lnTo>
                                <a:pt x="0" y="28"/>
                              </a:lnTo>
                              <a:lnTo>
                                <a:pt x="0" y="16"/>
                              </a:lnTo>
                              <a:lnTo>
                                <a:pt x="7" y="0"/>
                              </a:lnTo>
                              <a:lnTo>
                                <a:pt x="45" y="3"/>
                              </a:lnTo>
                              <a:lnTo>
                                <a:pt x="114" y="6"/>
                              </a:lnTo>
                              <a:lnTo>
                                <a:pt x="200" y="9"/>
                              </a:lnTo>
                              <a:lnTo>
                                <a:pt x="297" y="13"/>
                              </a:lnTo>
                              <a:lnTo>
                                <a:pt x="397" y="16"/>
                              </a:lnTo>
                              <a:lnTo>
                                <a:pt x="446" y="16"/>
                              </a:lnTo>
                              <a:lnTo>
                                <a:pt x="494" y="16"/>
                              </a:lnTo>
                              <a:lnTo>
                                <a:pt x="535" y="16"/>
                              </a:lnTo>
                              <a:lnTo>
                                <a:pt x="573" y="16"/>
                              </a:lnTo>
                              <a:lnTo>
                                <a:pt x="604" y="16"/>
                              </a:lnTo>
                              <a:lnTo>
                                <a:pt x="629" y="13"/>
                              </a:lnTo>
                              <a:lnTo>
                                <a:pt x="629" y="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933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240" bIns="-21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9" name=""/>
                        <p:cNvSpPr/>
                        <p:nvPr/>
                      </p:nvSpPr>
                      <p:spPr>
                        <a:xfrm>
                          <a:off x="1618200" y="2245320"/>
                          <a:ext cx="2592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9" h="79">
                              <a:moveTo>
                                <a:pt x="79" y="66"/>
                              </a:moveTo>
                              <a:lnTo>
                                <a:pt x="72" y="79"/>
                              </a:lnTo>
                              <a:lnTo>
                                <a:pt x="48" y="66"/>
                              </a:lnTo>
                              <a:lnTo>
                                <a:pt x="24" y="50"/>
                              </a:lnTo>
                              <a:lnTo>
                                <a:pt x="14" y="41"/>
                              </a:lnTo>
                              <a:lnTo>
                                <a:pt x="7" y="31"/>
                              </a:lnTo>
                              <a:lnTo>
                                <a:pt x="0" y="22"/>
                              </a:lnTo>
                              <a:lnTo>
                                <a:pt x="0" y="6"/>
                              </a:lnTo>
                              <a:lnTo>
                                <a:pt x="14" y="0"/>
                              </a:lnTo>
                              <a:lnTo>
                                <a:pt x="27" y="0"/>
                              </a:lnTo>
                              <a:lnTo>
                                <a:pt x="45" y="16"/>
                              </a:lnTo>
                              <a:lnTo>
                                <a:pt x="58" y="31"/>
                              </a:lnTo>
                              <a:lnTo>
                                <a:pt x="69" y="47"/>
                              </a:lnTo>
                              <a:lnTo>
                                <a:pt x="79" y="66"/>
                              </a:lnTo>
                              <a:lnTo>
                                <a:pt x="79" y="6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0" name=""/>
                        <p:cNvSpPr/>
                        <p:nvPr/>
                      </p:nvSpPr>
                      <p:spPr>
                        <a:xfrm>
                          <a:off x="1639800" y="2245320"/>
                          <a:ext cx="4320" cy="3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" h="12">
                              <a:moveTo>
                                <a:pt x="7" y="12"/>
                              </a:moveTo>
                              <a:lnTo>
                                <a:pt x="0" y="0"/>
                              </a:lnTo>
                              <a:lnTo>
                                <a:pt x="14" y="0"/>
                              </a:lnTo>
                              <a:lnTo>
                                <a:pt x="7" y="12"/>
                              </a:lnTo>
                              <a:lnTo>
                                <a:pt x="7" y="1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1" name=""/>
                        <p:cNvSpPr/>
                        <p:nvPr/>
                      </p:nvSpPr>
                      <p:spPr>
                        <a:xfrm>
                          <a:off x="1505880" y="2243520"/>
                          <a:ext cx="19440" cy="10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9" h="37">
                              <a:moveTo>
                                <a:pt x="59" y="25"/>
                              </a:moveTo>
                              <a:lnTo>
                                <a:pt x="49" y="31"/>
                              </a:lnTo>
                              <a:lnTo>
                                <a:pt x="35" y="37"/>
                              </a:lnTo>
                              <a:lnTo>
                                <a:pt x="25" y="37"/>
                              </a:lnTo>
                              <a:lnTo>
                                <a:pt x="7" y="31"/>
                              </a:lnTo>
                              <a:lnTo>
                                <a:pt x="4" y="18"/>
                              </a:lnTo>
                              <a:lnTo>
                                <a:pt x="0" y="6"/>
                              </a:lnTo>
                              <a:lnTo>
                                <a:pt x="11" y="0"/>
                              </a:lnTo>
                              <a:lnTo>
                                <a:pt x="25" y="0"/>
                              </a:lnTo>
                              <a:lnTo>
                                <a:pt x="35" y="0"/>
                              </a:lnTo>
                              <a:lnTo>
                                <a:pt x="45" y="6"/>
                              </a:lnTo>
                              <a:lnTo>
                                <a:pt x="52" y="12"/>
                              </a:lnTo>
                              <a:lnTo>
                                <a:pt x="59" y="25"/>
                              </a:lnTo>
                              <a:lnTo>
                                <a:pt x="59" y="2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2" name=""/>
                        <p:cNvSpPr/>
                        <p:nvPr/>
                      </p:nvSpPr>
                      <p:spPr>
                        <a:xfrm>
                          <a:off x="1667160" y="2250720"/>
                          <a:ext cx="576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" h="6">
                              <a:moveTo>
                                <a:pt x="18" y="0"/>
                              </a:moveTo>
                              <a:lnTo>
                                <a:pt x="0" y="6"/>
                              </a:lnTo>
                              <a:lnTo>
                                <a:pt x="11" y="0"/>
                              </a:lnTo>
                              <a:lnTo>
                                <a:pt x="18" y="0"/>
                              </a:lnTo>
                              <a:lnTo>
                                <a:pt x="1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3" name=""/>
                        <p:cNvSpPr/>
                        <p:nvPr/>
                      </p:nvSpPr>
                      <p:spPr>
                        <a:xfrm>
                          <a:off x="1667160" y="2255040"/>
                          <a:ext cx="21600" cy="1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6" h="48">
                              <a:moveTo>
                                <a:pt x="66" y="19"/>
                              </a:moveTo>
                              <a:lnTo>
                                <a:pt x="66" y="29"/>
                              </a:lnTo>
                              <a:lnTo>
                                <a:pt x="62" y="35"/>
                              </a:lnTo>
                              <a:lnTo>
                                <a:pt x="56" y="41"/>
                              </a:lnTo>
                              <a:lnTo>
                                <a:pt x="45" y="45"/>
                              </a:lnTo>
                              <a:lnTo>
                                <a:pt x="38" y="48"/>
                              </a:lnTo>
                              <a:lnTo>
                                <a:pt x="31" y="48"/>
                              </a:lnTo>
                              <a:lnTo>
                                <a:pt x="21" y="41"/>
                              </a:lnTo>
                              <a:lnTo>
                                <a:pt x="11" y="32"/>
                              </a:lnTo>
                              <a:lnTo>
                                <a:pt x="0" y="26"/>
                              </a:lnTo>
                              <a:lnTo>
                                <a:pt x="18" y="13"/>
                              </a:lnTo>
                              <a:lnTo>
                                <a:pt x="24" y="7"/>
                              </a:lnTo>
                              <a:lnTo>
                                <a:pt x="35" y="4"/>
                              </a:lnTo>
                              <a:lnTo>
                                <a:pt x="45" y="0"/>
                              </a:lnTo>
                              <a:lnTo>
                                <a:pt x="52" y="0"/>
                              </a:lnTo>
                              <a:lnTo>
                                <a:pt x="59" y="7"/>
                              </a:lnTo>
                              <a:lnTo>
                                <a:pt x="66" y="19"/>
                              </a:lnTo>
                              <a:lnTo>
                                <a:pt x="66" y="1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480" bIns="-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4" name=""/>
                        <p:cNvSpPr/>
                        <p:nvPr/>
                      </p:nvSpPr>
                      <p:spPr>
                        <a:xfrm>
                          <a:off x="1515240" y="2255040"/>
                          <a:ext cx="62640" cy="37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0" h="133">
                              <a:moveTo>
                                <a:pt x="138" y="13"/>
                              </a:moveTo>
                              <a:lnTo>
                                <a:pt x="128" y="13"/>
                              </a:lnTo>
                              <a:lnTo>
                                <a:pt x="117" y="19"/>
                              </a:lnTo>
                              <a:lnTo>
                                <a:pt x="121" y="29"/>
                              </a:lnTo>
                              <a:lnTo>
                                <a:pt x="131" y="38"/>
                              </a:lnTo>
                              <a:lnTo>
                                <a:pt x="142" y="35"/>
                              </a:lnTo>
                              <a:lnTo>
                                <a:pt x="145" y="26"/>
                              </a:lnTo>
                              <a:lnTo>
                                <a:pt x="148" y="19"/>
                              </a:lnTo>
                              <a:lnTo>
                                <a:pt x="138" y="13"/>
                              </a:lnTo>
                              <a:lnTo>
                                <a:pt x="152" y="19"/>
                              </a:lnTo>
                              <a:lnTo>
                                <a:pt x="162" y="26"/>
                              </a:lnTo>
                              <a:lnTo>
                                <a:pt x="173" y="38"/>
                              </a:lnTo>
                              <a:lnTo>
                                <a:pt x="183" y="51"/>
                              </a:lnTo>
                              <a:lnTo>
                                <a:pt x="186" y="54"/>
                              </a:lnTo>
                              <a:lnTo>
                                <a:pt x="190" y="57"/>
                              </a:lnTo>
                              <a:lnTo>
                                <a:pt x="180" y="67"/>
                              </a:lnTo>
                              <a:lnTo>
                                <a:pt x="180" y="76"/>
                              </a:lnTo>
                              <a:lnTo>
                                <a:pt x="180" y="86"/>
                              </a:lnTo>
                              <a:lnTo>
                                <a:pt x="173" y="92"/>
                              </a:lnTo>
                              <a:lnTo>
                                <a:pt x="162" y="86"/>
                              </a:lnTo>
                              <a:lnTo>
                                <a:pt x="152" y="92"/>
                              </a:lnTo>
                              <a:lnTo>
                                <a:pt x="145" y="95"/>
                              </a:lnTo>
                              <a:lnTo>
                                <a:pt x="145" y="105"/>
                              </a:lnTo>
                              <a:lnTo>
                                <a:pt x="152" y="111"/>
                              </a:lnTo>
                              <a:lnTo>
                                <a:pt x="138" y="117"/>
                              </a:lnTo>
                              <a:lnTo>
                                <a:pt x="131" y="120"/>
                              </a:lnTo>
                              <a:lnTo>
                                <a:pt x="124" y="123"/>
                              </a:lnTo>
                              <a:lnTo>
                                <a:pt x="121" y="114"/>
                              </a:lnTo>
                              <a:lnTo>
                                <a:pt x="117" y="111"/>
                              </a:lnTo>
                              <a:lnTo>
                                <a:pt x="104" y="114"/>
                              </a:lnTo>
                              <a:lnTo>
                                <a:pt x="97" y="117"/>
                              </a:lnTo>
                              <a:lnTo>
                                <a:pt x="97" y="130"/>
                              </a:lnTo>
                              <a:lnTo>
                                <a:pt x="86" y="133"/>
                              </a:lnTo>
                              <a:lnTo>
                                <a:pt x="72" y="133"/>
                              </a:lnTo>
                              <a:lnTo>
                                <a:pt x="62" y="130"/>
                              </a:lnTo>
                              <a:lnTo>
                                <a:pt x="52" y="123"/>
                              </a:lnTo>
                              <a:lnTo>
                                <a:pt x="59" y="123"/>
                              </a:lnTo>
                              <a:lnTo>
                                <a:pt x="66" y="117"/>
                              </a:lnTo>
                              <a:lnTo>
                                <a:pt x="62" y="108"/>
                              </a:lnTo>
                              <a:lnTo>
                                <a:pt x="52" y="98"/>
                              </a:lnTo>
                              <a:lnTo>
                                <a:pt x="41" y="101"/>
                              </a:lnTo>
                              <a:lnTo>
                                <a:pt x="38" y="111"/>
                              </a:lnTo>
                              <a:lnTo>
                                <a:pt x="38" y="117"/>
                              </a:lnTo>
                              <a:lnTo>
                                <a:pt x="35" y="111"/>
                              </a:lnTo>
                              <a:lnTo>
                                <a:pt x="24" y="105"/>
                              </a:lnTo>
                              <a:lnTo>
                                <a:pt x="10" y="95"/>
                              </a:lnTo>
                              <a:lnTo>
                                <a:pt x="3" y="82"/>
                              </a:lnTo>
                              <a:lnTo>
                                <a:pt x="0" y="73"/>
                              </a:lnTo>
                              <a:lnTo>
                                <a:pt x="0" y="57"/>
                              </a:lnTo>
                              <a:lnTo>
                                <a:pt x="3" y="45"/>
                              </a:lnTo>
                              <a:lnTo>
                                <a:pt x="10" y="32"/>
                              </a:lnTo>
                              <a:lnTo>
                                <a:pt x="31" y="19"/>
                              </a:lnTo>
                              <a:lnTo>
                                <a:pt x="31" y="26"/>
                              </a:lnTo>
                              <a:lnTo>
                                <a:pt x="35" y="29"/>
                              </a:lnTo>
                              <a:lnTo>
                                <a:pt x="38" y="32"/>
                              </a:lnTo>
                              <a:lnTo>
                                <a:pt x="48" y="35"/>
                              </a:lnTo>
                              <a:lnTo>
                                <a:pt x="55" y="32"/>
                              </a:lnTo>
                              <a:lnTo>
                                <a:pt x="59" y="26"/>
                              </a:lnTo>
                              <a:lnTo>
                                <a:pt x="59" y="16"/>
                              </a:lnTo>
                              <a:lnTo>
                                <a:pt x="52" y="13"/>
                              </a:lnTo>
                              <a:lnTo>
                                <a:pt x="62" y="4"/>
                              </a:lnTo>
                              <a:lnTo>
                                <a:pt x="72" y="0"/>
                              </a:lnTo>
                              <a:lnTo>
                                <a:pt x="97" y="0"/>
                              </a:lnTo>
                              <a:lnTo>
                                <a:pt x="138" y="13"/>
                              </a:lnTo>
                              <a:lnTo>
                                <a:pt x="138" y="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933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9360" bIns="-9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5" name=""/>
                        <p:cNvSpPr/>
                        <p:nvPr/>
                      </p:nvSpPr>
                      <p:spPr>
                        <a:xfrm>
                          <a:off x="1614600" y="2260440"/>
                          <a:ext cx="12600" cy="10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8" h="38">
                              <a:moveTo>
                                <a:pt x="11" y="38"/>
                              </a:moveTo>
                              <a:lnTo>
                                <a:pt x="0" y="29"/>
                              </a:lnTo>
                              <a:lnTo>
                                <a:pt x="0" y="22"/>
                              </a:lnTo>
                              <a:lnTo>
                                <a:pt x="4" y="13"/>
                              </a:lnTo>
                              <a:lnTo>
                                <a:pt x="11" y="0"/>
                              </a:lnTo>
                              <a:lnTo>
                                <a:pt x="38" y="26"/>
                              </a:lnTo>
                              <a:lnTo>
                                <a:pt x="11" y="38"/>
                              </a:lnTo>
                              <a:lnTo>
                                <a:pt x="11" y="3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000" bIns="-36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6" name=""/>
                        <p:cNvSpPr/>
                        <p:nvPr/>
                      </p:nvSpPr>
                      <p:spPr>
                        <a:xfrm>
                          <a:off x="1580400" y="2260440"/>
                          <a:ext cx="11160" cy="10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4" h="38">
                              <a:moveTo>
                                <a:pt x="34" y="19"/>
                              </a:moveTo>
                              <a:lnTo>
                                <a:pt x="34" y="29"/>
                              </a:lnTo>
                              <a:lnTo>
                                <a:pt x="31" y="35"/>
                              </a:lnTo>
                              <a:lnTo>
                                <a:pt x="21" y="38"/>
                              </a:lnTo>
                              <a:lnTo>
                                <a:pt x="14" y="38"/>
                              </a:lnTo>
                              <a:lnTo>
                                <a:pt x="10" y="35"/>
                              </a:lnTo>
                              <a:lnTo>
                                <a:pt x="7" y="22"/>
                              </a:lnTo>
                              <a:lnTo>
                                <a:pt x="7" y="10"/>
                              </a:lnTo>
                              <a:lnTo>
                                <a:pt x="0" y="0"/>
                              </a:lnTo>
                              <a:lnTo>
                                <a:pt x="10" y="0"/>
                              </a:lnTo>
                              <a:lnTo>
                                <a:pt x="21" y="4"/>
                              </a:lnTo>
                              <a:lnTo>
                                <a:pt x="27" y="10"/>
                              </a:lnTo>
                              <a:lnTo>
                                <a:pt x="34" y="19"/>
                              </a:lnTo>
                              <a:lnTo>
                                <a:pt x="34" y="1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000" bIns="-36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7" name=""/>
                        <p:cNvSpPr/>
                        <p:nvPr/>
                      </p:nvSpPr>
                      <p:spPr>
                        <a:xfrm>
                          <a:off x="1542960" y="2260440"/>
                          <a:ext cx="8640" cy="6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22">
                              <a:moveTo>
                                <a:pt x="27" y="7"/>
                              </a:moveTo>
                              <a:lnTo>
                                <a:pt x="24" y="16"/>
                              </a:lnTo>
                              <a:lnTo>
                                <a:pt x="21" y="19"/>
                              </a:lnTo>
                              <a:lnTo>
                                <a:pt x="14" y="22"/>
                              </a:lnTo>
                              <a:lnTo>
                                <a:pt x="10" y="19"/>
                              </a:lnTo>
                              <a:lnTo>
                                <a:pt x="0" y="13"/>
                              </a:lnTo>
                              <a:lnTo>
                                <a:pt x="3" y="4"/>
                              </a:lnTo>
                              <a:lnTo>
                                <a:pt x="14" y="0"/>
                              </a:lnTo>
                              <a:lnTo>
                                <a:pt x="24" y="0"/>
                              </a:lnTo>
                              <a:lnTo>
                                <a:pt x="27" y="7"/>
                              </a:lnTo>
                              <a:lnTo>
                                <a:pt x="27" y="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8" name=""/>
                        <p:cNvSpPr/>
                        <p:nvPr/>
                      </p:nvSpPr>
                      <p:spPr>
                        <a:xfrm>
                          <a:off x="1378440" y="2255040"/>
                          <a:ext cx="23760" cy="18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2" h="64">
                              <a:moveTo>
                                <a:pt x="65" y="32"/>
                              </a:moveTo>
                              <a:lnTo>
                                <a:pt x="72" y="45"/>
                              </a:lnTo>
                              <a:lnTo>
                                <a:pt x="72" y="57"/>
                              </a:lnTo>
                              <a:lnTo>
                                <a:pt x="62" y="60"/>
                              </a:lnTo>
                              <a:lnTo>
                                <a:pt x="51" y="64"/>
                              </a:lnTo>
                              <a:lnTo>
                                <a:pt x="41" y="60"/>
                              </a:lnTo>
                              <a:lnTo>
                                <a:pt x="31" y="57"/>
                              </a:lnTo>
                              <a:lnTo>
                                <a:pt x="20" y="48"/>
                              </a:lnTo>
                              <a:lnTo>
                                <a:pt x="13" y="41"/>
                              </a:lnTo>
                              <a:lnTo>
                                <a:pt x="10" y="32"/>
                              </a:lnTo>
                              <a:lnTo>
                                <a:pt x="6" y="19"/>
                              </a:lnTo>
                              <a:lnTo>
                                <a:pt x="3" y="13"/>
                              </a:lnTo>
                              <a:lnTo>
                                <a:pt x="0" y="7"/>
                              </a:lnTo>
                              <a:lnTo>
                                <a:pt x="10" y="0"/>
                              </a:lnTo>
                              <a:lnTo>
                                <a:pt x="20" y="0"/>
                              </a:lnTo>
                              <a:lnTo>
                                <a:pt x="31" y="4"/>
                              </a:lnTo>
                              <a:lnTo>
                                <a:pt x="41" y="7"/>
                              </a:lnTo>
                              <a:lnTo>
                                <a:pt x="55" y="16"/>
                              </a:lnTo>
                              <a:lnTo>
                                <a:pt x="65" y="32"/>
                              </a:lnTo>
                              <a:lnTo>
                                <a:pt x="65" y="3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933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800" bIns="-28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9" name=""/>
                        <p:cNvSpPr/>
                        <p:nvPr/>
                      </p:nvSpPr>
                      <p:spPr>
                        <a:xfrm>
                          <a:off x="1651320" y="2265840"/>
                          <a:ext cx="11160" cy="9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4" h="35">
                              <a:moveTo>
                                <a:pt x="34" y="13"/>
                              </a:moveTo>
                              <a:lnTo>
                                <a:pt x="34" y="29"/>
                              </a:lnTo>
                              <a:lnTo>
                                <a:pt x="28" y="32"/>
                              </a:lnTo>
                              <a:lnTo>
                                <a:pt x="17" y="35"/>
                              </a:lnTo>
                              <a:lnTo>
                                <a:pt x="10" y="35"/>
                              </a:lnTo>
                              <a:lnTo>
                                <a:pt x="3" y="29"/>
                              </a:lnTo>
                              <a:lnTo>
                                <a:pt x="0" y="19"/>
                              </a:lnTo>
                              <a:lnTo>
                                <a:pt x="3" y="10"/>
                              </a:lnTo>
                              <a:lnTo>
                                <a:pt x="14" y="0"/>
                              </a:lnTo>
                              <a:lnTo>
                                <a:pt x="24" y="3"/>
                              </a:lnTo>
                              <a:lnTo>
                                <a:pt x="31" y="7"/>
                              </a:lnTo>
                              <a:lnTo>
                                <a:pt x="34" y="13"/>
                              </a:lnTo>
                              <a:lnTo>
                                <a:pt x="34" y="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0" name=""/>
                        <p:cNvSpPr/>
                        <p:nvPr/>
                      </p:nvSpPr>
                      <p:spPr>
                        <a:xfrm>
                          <a:off x="1411560" y="2262240"/>
                          <a:ext cx="3060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3" h="50">
                              <a:moveTo>
                                <a:pt x="93" y="6"/>
                              </a:moveTo>
                              <a:lnTo>
                                <a:pt x="86" y="15"/>
                              </a:lnTo>
                              <a:lnTo>
                                <a:pt x="76" y="22"/>
                              </a:lnTo>
                              <a:lnTo>
                                <a:pt x="55" y="34"/>
                              </a:lnTo>
                              <a:lnTo>
                                <a:pt x="34" y="44"/>
                              </a:lnTo>
                              <a:lnTo>
                                <a:pt x="17" y="50"/>
                              </a:lnTo>
                              <a:lnTo>
                                <a:pt x="7" y="44"/>
                              </a:lnTo>
                              <a:lnTo>
                                <a:pt x="0" y="38"/>
                              </a:lnTo>
                              <a:lnTo>
                                <a:pt x="17" y="28"/>
                              </a:lnTo>
                              <a:lnTo>
                                <a:pt x="38" y="15"/>
                              </a:lnTo>
                              <a:lnTo>
                                <a:pt x="58" y="6"/>
                              </a:lnTo>
                              <a:lnTo>
                                <a:pt x="79" y="0"/>
                              </a:lnTo>
                              <a:lnTo>
                                <a:pt x="86" y="3"/>
                              </a:lnTo>
                              <a:lnTo>
                                <a:pt x="93" y="6"/>
                              </a:lnTo>
                              <a:lnTo>
                                <a:pt x="93" y="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1" name=""/>
                        <p:cNvSpPr/>
                        <p:nvPr/>
                      </p:nvSpPr>
                      <p:spPr>
                        <a:xfrm>
                          <a:off x="1490040" y="2265840"/>
                          <a:ext cx="18000" cy="7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5" h="29">
                              <a:moveTo>
                                <a:pt x="55" y="0"/>
                              </a:moveTo>
                              <a:lnTo>
                                <a:pt x="52" y="13"/>
                              </a:lnTo>
                              <a:lnTo>
                                <a:pt x="48" y="26"/>
                              </a:lnTo>
                              <a:lnTo>
                                <a:pt x="38" y="29"/>
                              </a:lnTo>
                              <a:lnTo>
                                <a:pt x="24" y="29"/>
                              </a:lnTo>
                              <a:lnTo>
                                <a:pt x="0" y="26"/>
                              </a:lnTo>
                              <a:lnTo>
                                <a:pt x="10" y="16"/>
                              </a:lnTo>
                              <a:lnTo>
                                <a:pt x="24" y="10"/>
                              </a:lnTo>
                              <a:lnTo>
                                <a:pt x="55" y="0"/>
                              </a:lnTo>
                              <a:lnTo>
                                <a:pt x="55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2" name=""/>
                        <p:cNvSpPr/>
                        <p:nvPr/>
                      </p:nvSpPr>
                      <p:spPr>
                        <a:xfrm>
                          <a:off x="1527840" y="2266560"/>
                          <a:ext cx="9000" cy="7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26">
                              <a:moveTo>
                                <a:pt x="28" y="10"/>
                              </a:moveTo>
                              <a:lnTo>
                                <a:pt x="24" y="19"/>
                              </a:lnTo>
                              <a:lnTo>
                                <a:pt x="14" y="23"/>
                              </a:lnTo>
                              <a:lnTo>
                                <a:pt x="3" y="26"/>
                              </a:lnTo>
                              <a:lnTo>
                                <a:pt x="0" y="16"/>
                              </a:lnTo>
                              <a:lnTo>
                                <a:pt x="3" y="7"/>
                              </a:lnTo>
                              <a:lnTo>
                                <a:pt x="7" y="4"/>
                              </a:lnTo>
                              <a:lnTo>
                                <a:pt x="14" y="0"/>
                              </a:lnTo>
                              <a:lnTo>
                                <a:pt x="17" y="4"/>
                              </a:lnTo>
                              <a:lnTo>
                                <a:pt x="28" y="10"/>
                              </a:lnTo>
                              <a:lnTo>
                                <a:pt x="28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0" bIns="-39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3" name=""/>
                        <p:cNvSpPr/>
                        <p:nvPr/>
                      </p:nvSpPr>
                      <p:spPr>
                        <a:xfrm>
                          <a:off x="1560960" y="2269440"/>
                          <a:ext cx="7920" cy="6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" h="22">
                              <a:moveTo>
                                <a:pt x="21" y="6"/>
                              </a:moveTo>
                              <a:lnTo>
                                <a:pt x="24" y="16"/>
                              </a:lnTo>
                              <a:lnTo>
                                <a:pt x="14" y="19"/>
                              </a:lnTo>
                              <a:lnTo>
                                <a:pt x="4" y="22"/>
                              </a:lnTo>
                              <a:lnTo>
                                <a:pt x="0" y="13"/>
                              </a:lnTo>
                              <a:lnTo>
                                <a:pt x="0" y="3"/>
                              </a:lnTo>
                              <a:lnTo>
                                <a:pt x="7" y="0"/>
                              </a:lnTo>
                              <a:lnTo>
                                <a:pt x="17" y="0"/>
                              </a:lnTo>
                              <a:lnTo>
                                <a:pt x="21" y="6"/>
                              </a:lnTo>
                              <a:lnTo>
                                <a:pt x="21" y="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4" name=""/>
                        <p:cNvSpPr/>
                        <p:nvPr/>
                      </p:nvSpPr>
                      <p:spPr>
                        <a:xfrm>
                          <a:off x="1539000" y="2269440"/>
                          <a:ext cx="10440" cy="6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25">
                              <a:moveTo>
                                <a:pt x="32" y="6"/>
                              </a:moveTo>
                              <a:lnTo>
                                <a:pt x="28" y="16"/>
                              </a:lnTo>
                              <a:lnTo>
                                <a:pt x="25" y="25"/>
                              </a:lnTo>
                              <a:lnTo>
                                <a:pt x="14" y="22"/>
                              </a:lnTo>
                              <a:lnTo>
                                <a:pt x="0" y="13"/>
                              </a:lnTo>
                              <a:lnTo>
                                <a:pt x="7" y="3"/>
                              </a:lnTo>
                              <a:lnTo>
                                <a:pt x="18" y="0"/>
                              </a:lnTo>
                              <a:lnTo>
                                <a:pt x="25" y="0"/>
                              </a:lnTo>
                              <a:lnTo>
                                <a:pt x="32" y="6"/>
                              </a:lnTo>
                              <a:lnTo>
                                <a:pt x="32" y="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960" bIns="-39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5" name=""/>
                        <p:cNvSpPr/>
                        <p:nvPr/>
                      </p:nvSpPr>
                      <p:spPr>
                        <a:xfrm>
                          <a:off x="1611360" y="2273040"/>
                          <a:ext cx="32760" cy="1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0" h="47">
                              <a:moveTo>
                                <a:pt x="100" y="12"/>
                              </a:moveTo>
                              <a:lnTo>
                                <a:pt x="76" y="28"/>
                              </a:lnTo>
                              <a:lnTo>
                                <a:pt x="52" y="41"/>
                              </a:lnTo>
                              <a:lnTo>
                                <a:pt x="38" y="44"/>
                              </a:lnTo>
                              <a:lnTo>
                                <a:pt x="24" y="47"/>
                              </a:lnTo>
                              <a:lnTo>
                                <a:pt x="14" y="47"/>
                              </a:lnTo>
                              <a:lnTo>
                                <a:pt x="0" y="47"/>
                              </a:lnTo>
                              <a:lnTo>
                                <a:pt x="4" y="37"/>
                              </a:lnTo>
                              <a:lnTo>
                                <a:pt x="10" y="31"/>
                              </a:lnTo>
                              <a:lnTo>
                                <a:pt x="24" y="18"/>
                              </a:lnTo>
                              <a:lnTo>
                                <a:pt x="45" y="9"/>
                              </a:lnTo>
                              <a:lnTo>
                                <a:pt x="62" y="0"/>
                              </a:lnTo>
                              <a:lnTo>
                                <a:pt x="76" y="0"/>
                              </a:lnTo>
                              <a:lnTo>
                                <a:pt x="86" y="3"/>
                              </a:lnTo>
                              <a:lnTo>
                                <a:pt x="97" y="6"/>
                              </a:lnTo>
                              <a:lnTo>
                                <a:pt x="100" y="12"/>
                              </a:lnTo>
                              <a:lnTo>
                                <a:pt x="100" y="1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480" bIns="-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6" name=""/>
                        <p:cNvSpPr/>
                        <p:nvPr/>
                      </p:nvSpPr>
                      <p:spPr>
                        <a:xfrm>
                          <a:off x="1411560" y="2267640"/>
                          <a:ext cx="8784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66" h="151">
                              <a:moveTo>
                                <a:pt x="210" y="0"/>
                              </a:moveTo>
                              <a:lnTo>
                                <a:pt x="207" y="9"/>
                              </a:lnTo>
                              <a:lnTo>
                                <a:pt x="207" y="19"/>
                              </a:lnTo>
                              <a:lnTo>
                                <a:pt x="210" y="31"/>
                              </a:lnTo>
                              <a:lnTo>
                                <a:pt x="238" y="41"/>
                              </a:lnTo>
                              <a:lnTo>
                                <a:pt x="252" y="44"/>
                              </a:lnTo>
                              <a:lnTo>
                                <a:pt x="266" y="47"/>
                              </a:lnTo>
                              <a:lnTo>
                                <a:pt x="266" y="53"/>
                              </a:lnTo>
                              <a:lnTo>
                                <a:pt x="259" y="63"/>
                              </a:lnTo>
                              <a:lnTo>
                                <a:pt x="259" y="72"/>
                              </a:lnTo>
                              <a:lnTo>
                                <a:pt x="259" y="85"/>
                              </a:lnTo>
                              <a:lnTo>
                                <a:pt x="245" y="82"/>
                              </a:lnTo>
                              <a:lnTo>
                                <a:pt x="231" y="78"/>
                              </a:lnTo>
                              <a:lnTo>
                                <a:pt x="221" y="82"/>
                              </a:lnTo>
                              <a:lnTo>
                                <a:pt x="207" y="82"/>
                              </a:lnTo>
                              <a:lnTo>
                                <a:pt x="197" y="85"/>
                              </a:lnTo>
                              <a:lnTo>
                                <a:pt x="183" y="91"/>
                              </a:lnTo>
                              <a:lnTo>
                                <a:pt x="165" y="104"/>
                              </a:lnTo>
                              <a:lnTo>
                                <a:pt x="152" y="126"/>
                              </a:lnTo>
                              <a:lnTo>
                                <a:pt x="145" y="135"/>
                              </a:lnTo>
                              <a:lnTo>
                                <a:pt x="138" y="151"/>
                              </a:lnTo>
                              <a:lnTo>
                                <a:pt x="121" y="142"/>
                              </a:lnTo>
                              <a:lnTo>
                                <a:pt x="114" y="138"/>
                              </a:lnTo>
                              <a:lnTo>
                                <a:pt x="100" y="145"/>
                              </a:lnTo>
                              <a:lnTo>
                                <a:pt x="86" y="138"/>
                              </a:lnTo>
                              <a:lnTo>
                                <a:pt x="76" y="132"/>
                              </a:lnTo>
                              <a:lnTo>
                                <a:pt x="65" y="123"/>
                              </a:lnTo>
                              <a:lnTo>
                                <a:pt x="58" y="119"/>
                              </a:lnTo>
                              <a:lnTo>
                                <a:pt x="52" y="116"/>
                              </a:lnTo>
                              <a:lnTo>
                                <a:pt x="0" y="123"/>
                              </a:lnTo>
                              <a:lnTo>
                                <a:pt x="7" y="97"/>
                              </a:lnTo>
                              <a:lnTo>
                                <a:pt x="20" y="104"/>
                              </a:lnTo>
                              <a:lnTo>
                                <a:pt x="31" y="110"/>
                              </a:lnTo>
                              <a:lnTo>
                                <a:pt x="41" y="113"/>
                              </a:lnTo>
                              <a:lnTo>
                                <a:pt x="55" y="116"/>
                              </a:lnTo>
                              <a:lnTo>
                                <a:pt x="65" y="116"/>
                              </a:lnTo>
                              <a:lnTo>
                                <a:pt x="79" y="116"/>
                              </a:lnTo>
                              <a:lnTo>
                                <a:pt x="90" y="116"/>
                              </a:lnTo>
                              <a:lnTo>
                                <a:pt x="100" y="110"/>
                              </a:lnTo>
                              <a:lnTo>
                                <a:pt x="121" y="104"/>
                              </a:lnTo>
                              <a:lnTo>
                                <a:pt x="127" y="101"/>
                              </a:lnTo>
                              <a:lnTo>
                                <a:pt x="131" y="91"/>
                              </a:lnTo>
                              <a:lnTo>
                                <a:pt x="131" y="78"/>
                              </a:lnTo>
                              <a:lnTo>
                                <a:pt x="124" y="69"/>
                              </a:lnTo>
                              <a:lnTo>
                                <a:pt x="114" y="60"/>
                              </a:lnTo>
                              <a:lnTo>
                                <a:pt x="100" y="53"/>
                              </a:lnTo>
                              <a:lnTo>
                                <a:pt x="90" y="50"/>
                              </a:lnTo>
                              <a:lnTo>
                                <a:pt x="79" y="47"/>
                              </a:lnTo>
                              <a:lnTo>
                                <a:pt x="72" y="41"/>
                              </a:lnTo>
                              <a:lnTo>
                                <a:pt x="65" y="37"/>
                              </a:lnTo>
                              <a:lnTo>
                                <a:pt x="79" y="28"/>
                              </a:lnTo>
                              <a:lnTo>
                                <a:pt x="93" y="22"/>
                              </a:lnTo>
                              <a:lnTo>
                                <a:pt x="107" y="12"/>
                              </a:lnTo>
                              <a:lnTo>
                                <a:pt x="124" y="6"/>
                              </a:lnTo>
                              <a:lnTo>
                                <a:pt x="138" y="3"/>
                              </a:lnTo>
                              <a:lnTo>
                                <a:pt x="155" y="0"/>
                              </a:lnTo>
                              <a:lnTo>
                                <a:pt x="172" y="0"/>
                              </a:lnTo>
                              <a:lnTo>
                                <a:pt x="186" y="0"/>
                              </a:lnTo>
                              <a:lnTo>
                                <a:pt x="210" y="0"/>
                              </a:lnTo>
                              <a:lnTo>
                                <a:pt x="21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7" name=""/>
                        <p:cNvSpPr/>
                        <p:nvPr/>
                      </p:nvSpPr>
                      <p:spPr>
                        <a:xfrm>
                          <a:off x="1670760" y="2274840"/>
                          <a:ext cx="18000" cy="18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5" h="66">
                              <a:moveTo>
                                <a:pt x="55" y="53"/>
                              </a:moveTo>
                              <a:lnTo>
                                <a:pt x="45" y="60"/>
                              </a:lnTo>
                              <a:lnTo>
                                <a:pt x="34" y="66"/>
                              </a:lnTo>
                              <a:lnTo>
                                <a:pt x="7" y="66"/>
                              </a:lnTo>
                              <a:lnTo>
                                <a:pt x="3" y="44"/>
                              </a:lnTo>
                              <a:lnTo>
                                <a:pt x="3" y="31"/>
                              </a:lnTo>
                              <a:lnTo>
                                <a:pt x="0" y="22"/>
                              </a:lnTo>
                              <a:lnTo>
                                <a:pt x="0" y="12"/>
                              </a:lnTo>
                              <a:lnTo>
                                <a:pt x="7" y="6"/>
                              </a:lnTo>
                              <a:lnTo>
                                <a:pt x="17" y="0"/>
                              </a:lnTo>
                              <a:lnTo>
                                <a:pt x="27" y="0"/>
                              </a:lnTo>
                              <a:lnTo>
                                <a:pt x="38" y="12"/>
                              </a:lnTo>
                              <a:lnTo>
                                <a:pt x="48" y="25"/>
                              </a:lnTo>
                              <a:lnTo>
                                <a:pt x="51" y="38"/>
                              </a:lnTo>
                              <a:lnTo>
                                <a:pt x="55" y="53"/>
                              </a:lnTo>
                              <a:lnTo>
                                <a:pt x="55" y="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080" bIns="-28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8" name=""/>
                        <p:cNvSpPr/>
                        <p:nvPr/>
                      </p:nvSpPr>
                      <p:spPr>
                        <a:xfrm>
                          <a:off x="1283400" y="2265840"/>
                          <a:ext cx="94680" cy="90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7" h="319">
                              <a:moveTo>
                                <a:pt x="287" y="19"/>
                              </a:moveTo>
                              <a:lnTo>
                                <a:pt x="259" y="29"/>
                              </a:lnTo>
                              <a:lnTo>
                                <a:pt x="231" y="38"/>
                              </a:lnTo>
                              <a:lnTo>
                                <a:pt x="200" y="48"/>
                              </a:lnTo>
                              <a:lnTo>
                                <a:pt x="186" y="51"/>
                              </a:lnTo>
                              <a:lnTo>
                                <a:pt x="173" y="60"/>
                              </a:lnTo>
                              <a:lnTo>
                                <a:pt x="169" y="70"/>
                              </a:lnTo>
                              <a:lnTo>
                                <a:pt x="169" y="79"/>
                              </a:lnTo>
                              <a:lnTo>
                                <a:pt x="169" y="85"/>
                              </a:lnTo>
                              <a:lnTo>
                                <a:pt x="173" y="92"/>
                              </a:lnTo>
                              <a:lnTo>
                                <a:pt x="183" y="98"/>
                              </a:lnTo>
                              <a:lnTo>
                                <a:pt x="197" y="104"/>
                              </a:lnTo>
                              <a:lnTo>
                                <a:pt x="224" y="108"/>
                              </a:lnTo>
                              <a:lnTo>
                                <a:pt x="249" y="111"/>
                              </a:lnTo>
                              <a:lnTo>
                                <a:pt x="273" y="111"/>
                              </a:lnTo>
                              <a:lnTo>
                                <a:pt x="266" y="158"/>
                              </a:lnTo>
                              <a:lnTo>
                                <a:pt x="249" y="161"/>
                              </a:lnTo>
                              <a:lnTo>
                                <a:pt x="231" y="164"/>
                              </a:lnTo>
                              <a:lnTo>
                                <a:pt x="211" y="171"/>
                              </a:lnTo>
                              <a:lnTo>
                                <a:pt x="204" y="174"/>
                              </a:lnTo>
                              <a:lnTo>
                                <a:pt x="193" y="183"/>
                              </a:lnTo>
                              <a:lnTo>
                                <a:pt x="183" y="180"/>
                              </a:lnTo>
                              <a:lnTo>
                                <a:pt x="173" y="177"/>
                              </a:lnTo>
                              <a:lnTo>
                                <a:pt x="159" y="180"/>
                              </a:lnTo>
                              <a:lnTo>
                                <a:pt x="148" y="183"/>
                              </a:lnTo>
                              <a:lnTo>
                                <a:pt x="138" y="186"/>
                              </a:lnTo>
                              <a:lnTo>
                                <a:pt x="128" y="193"/>
                              </a:lnTo>
                              <a:lnTo>
                                <a:pt x="117" y="199"/>
                              </a:lnTo>
                              <a:lnTo>
                                <a:pt x="107" y="208"/>
                              </a:lnTo>
                              <a:lnTo>
                                <a:pt x="97" y="221"/>
                              </a:lnTo>
                              <a:lnTo>
                                <a:pt x="86" y="237"/>
                              </a:lnTo>
                              <a:lnTo>
                                <a:pt x="90" y="246"/>
                              </a:lnTo>
                              <a:lnTo>
                                <a:pt x="93" y="253"/>
                              </a:lnTo>
                              <a:lnTo>
                                <a:pt x="100" y="259"/>
                              </a:lnTo>
                              <a:lnTo>
                                <a:pt x="107" y="262"/>
                              </a:lnTo>
                              <a:lnTo>
                                <a:pt x="124" y="268"/>
                              </a:lnTo>
                              <a:lnTo>
                                <a:pt x="117" y="281"/>
                              </a:lnTo>
                              <a:lnTo>
                                <a:pt x="110" y="294"/>
                              </a:lnTo>
                              <a:lnTo>
                                <a:pt x="104" y="303"/>
                              </a:lnTo>
                              <a:lnTo>
                                <a:pt x="100" y="316"/>
                              </a:lnTo>
                              <a:lnTo>
                                <a:pt x="93" y="319"/>
                              </a:lnTo>
                              <a:lnTo>
                                <a:pt x="86" y="319"/>
                              </a:lnTo>
                              <a:lnTo>
                                <a:pt x="76" y="319"/>
                              </a:lnTo>
                              <a:lnTo>
                                <a:pt x="66" y="316"/>
                              </a:lnTo>
                              <a:lnTo>
                                <a:pt x="62" y="300"/>
                              </a:lnTo>
                              <a:lnTo>
                                <a:pt x="59" y="284"/>
                              </a:lnTo>
                              <a:lnTo>
                                <a:pt x="52" y="249"/>
                              </a:lnTo>
                              <a:lnTo>
                                <a:pt x="48" y="215"/>
                              </a:lnTo>
                              <a:lnTo>
                                <a:pt x="45" y="177"/>
                              </a:lnTo>
                              <a:lnTo>
                                <a:pt x="38" y="171"/>
                              </a:lnTo>
                              <a:lnTo>
                                <a:pt x="24" y="164"/>
                              </a:lnTo>
                              <a:lnTo>
                                <a:pt x="0" y="164"/>
                              </a:lnTo>
                              <a:lnTo>
                                <a:pt x="7" y="158"/>
                              </a:lnTo>
                              <a:lnTo>
                                <a:pt x="14" y="155"/>
                              </a:lnTo>
                              <a:lnTo>
                                <a:pt x="14" y="152"/>
                              </a:lnTo>
                              <a:lnTo>
                                <a:pt x="21" y="114"/>
                              </a:lnTo>
                              <a:lnTo>
                                <a:pt x="24" y="79"/>
                              </a:lnTo>
                              <a:lnTo>
                                <a:pt x="24" y="41"/>
                              </a:lnTo>
                              <a:lnTo>
                                <a:pt x="31" y="7"/>
                              </a:lnTo>
                              <a:lnTo>
                                <a:pt x="45" y="10"/>
                              </a:lnTo>
                              <a:lnTo>
                                <a:pt x="62" y="10"/>
                              </a:lnTo>
                              <a:lnTo>
                                <a:pt x="76" y="10"/>
                              </a:lnTo>
                              <a:lnTo>
                                <a:pt x="83" y="7"/>
                              </a:lnTo>
                              <a:lnTo>
                                <a:pt x="86" y="0"/>
                              </a:lnTo>
                              <a:lnTo>
                                <a:pt x="135" y="0"/>
                              </a:lnTo>
                              <a:lnTo>
                                <a:pt x="183" y="3"/>
                              </a:lnTo>
                              <a:lnTo>
                                <a:pt x="228" y="7"/>
                              </a:lnTo>
                              <a:lnTo>
                                <a:pt x="273" y="7"/>
                              </a:lnTo>
                              <a:lnTo>
                                <a:pt x="287" y="19"/>
                              </a:lnTo>
                              <a:lnTo>
                                <a:pt x="287" y="1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560" bIns="43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9" name=""/>
                        <p:cNvSpPr/>
                        <p:nvPr/>
                      </p:nvSpPr>
                      <p:spPr>
                        <a:xfrm>
                          <a:off x="1518480" y="2274840"/>
                          <a:ext cx="9000" cy="7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28">
                              <a:moveTo>
                                <a:pt x="28" y="12"/>
                              </a:moveTo>
                              <a:lnTo>
                                <a:pt x="25" y="22"/>
                              </a:lnTo>
                              <a:lnTo>
                                <a:pt x="21" y="28"/>
                              </a:lnTo>
                              <a:lnTo>
                                <a:pt x="11" y="22"/>
                              </a:lnTo>
                              <a:lnTo>
                                <a:pt x="0" y="12"/>
                              </a:lnTo>
                              <a:lnTo>
                                <a:pt x="4" y="6"/>
                              </a:lnTo>
                              <a:lnTo>
                                <a:pt x="14" y="0"/>
                              </a:lnTo>
                              <a:lnTo>
                                <a:pt x="25" y="6"/>
                              </a:lnTo>
                              <a:lnTo>
                                <a:pt x="28" y="12"/>
                              </a:lnTo>
                              <a:lnTo>
                                <a:pt x="28" y="1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0" name=""/>
                        <p:cNvSpPr/>
                        <p:nvPr/>
                      </p:nvSpPr>
                      <p:spPr>
                        <a:xfrm>
                          <a:off x="1546200" y="2276640"/>
                          <a:ext cx="7560" cy="6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" h="22">
                              <a:moveTo>
                                <a:pt x="24" y="6"/>
                              </a:moveTo>
                              <a:lnTo>
                                <a:pt x="24" y="16"/>
                              </a:lnTo>
                              <a:lnTo>
                                <a:pt x="17" y="22"/>
                              </a:lnTo>
                              <a:lnTo>
                                <a:pt x="7" y="19"/>
                              </a:lnTo>
                              <a:lnTo>
                                <a:pt x="4" y="16"/>
                              </a:lnTo>
                              <a:lnTo>
                                <a:pt x="0" y="6"/>
                              </a:lnTo>
                              <a:lnTo>
                                <a:pt x="11" y="0"/>
                              </a:lnTo>
                              <a:lnTo>
                                <a:pt x="21" y="0"/>
                              </a:lnTo>
                              <a:lnTo>
                                <a:pt x="24" y="6"/>
                              </a:lnTo>
                              <a:lnTo>
                                <a:pt x="24" y="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1" name=""/>
                        <p:cNvSpPr/>
                        <p:nvPr/>
                      </p:nvSpPr>
                      <p:spPr>
                        <a:xfrm>
                          <a:off x="1572480" y="2280240"/>
                          <a:ext cx="16560" cy="11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1" h="41">
                              <a:moveTo>
                                <a:pt x="51" y="22"/>
                              </a:moveTo>
                              <a:lnTo>
                                <a:pt x="45" y="28"/>
                              </a:lnTo>
                              <a:lnTo>
                                <a:pt x="31" y="28"/>
                              </a:lnTo>
                              <a:lnTo>
                                <a:pt x="20" y="28"/>
                              </a:lnTo>
                              <a:lnTo>
                                <a:pt x="13" y="31"/>
                              </a:lnTo>
                              <a:lnTo>
                                <a:pt x="0" y="41"/>
                              </a:lnTo>
                              <a:lnTo>
                                <a:pt x="3" y="31"/>
                              </a:lnTo>
                              <a:lnTo>
                                <a:pt x="13" y="22"/>
                              </a:lnTo>
                              <a:lnTo>
                                <a:pt x="20" y="12"/>
                              </a:lnTo>
                              <a:lnTo>
                                <a:pt x="24" y="6"/>
                              </a:lnTo>
                              <a:lnTo>
                                <a:pt x="24" y="3"/>
                              </a:lnTo>
                              <a:lnTo>
                                <a:pt x="34" y="0"/>
                              </a:lnTo>
                              <a:lnTo>
                                <a:pt x="41" y="3"/>
                              </a:lnTo>
                              <a:lnTo>
                                <a:pt x="48" y="12"/>
                              </a:lnTo>
                              <a:lnTo>
                                <a:pt x="51" y="22"/>
                              </a:lnTo>
                              <a:lnTo>
                                <a:pt x="51" y="2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2" name=""/>
                        <p:cNvSpPr/>
                        <p:nvPr/>
                      </p:nvSpPr>
                      <p:spPr>
                        <a:xfrm>
                          <a:off x="1637280" y="2282760"/>
                          <a:ext cx="24840" cy="24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6" h="85">
                              <a:moveTo>
                                <a:pt x="70" y="7"/>
                              </a:moveTo>
                              <a:lnTo>
                                <a:pt x="76" y="19"/>
                              </a:lnTo>
                              <a:lnTo>
                                <a:pt x="76" y="35"/>
                              </a:lnTo>
                              <a:lnTo>
                                <a:pt x="73" y="51"/>
                              </a:lnTo>
                              <a:lnTo>
                                <a:pt x="70" y="57"/>
                              </a:lnTo>
                              <a:lnTo>
                                <a:pt x="63" y="63"/>
                              </a:lnTo>
                              <a:lnTo>
                                <a:pt x="52" y="73"/>
                              </a:lnTo>
                              <a:lnTo>
                                <a:pt x="38" y="82"/>
                              </a:lnTo>
                              <a:lnTo>
                                <a:pt x="21" y="85"/>
                              </a:lnTo>
                              <a:lnTo>
                                <a:pt x="7" y="85"/>
                              </a:lnTo>
                              <a:lnTo>
                                <a:pt x="0" y="73"/>
                              </a:lnTo>
                              <a:lnTo>
                                <a:pt x="0" y="60"/>
                              </a:lnTo>
                              <a:lnTo>
                                <a:pt x="4" y="48"/>
                              </a:lnTo>
                              <a:lnTo>
                                <a:pt x="14" y="32"/>
                              </a:lnTo>
                              <a:lnTo>
                                <a:pt x="25" y="13"/>
                              </a:lnTo>
                              <a:lnTo>
                                <a:pt x="32" y="7"/>
                              </a:lnTo>
                              <a:lnTo>
                                <a:pt x="42" y="0"/>
                              </a:lnTo>
                              <a:lnTo>
                                <a:pt x="59" y="0"/>
                              </a:lnTo>
                              <a:lnTo>
                                <a:pt x="70" y="7"/>
                              </a:lnTo>
                              <a:lnTo>
                                <a:pt x="70" y="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2680" bIns="-22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3" name=""/>
                        <p:cNvSpPr/>
                        <p:nvPr/>
                      </p:nvSpPr>
                      <p:spPr>
                        <a:xfrm>
                          <a:off x="1347120" y="2276640"/>
                          <a:ext cx="42120" cy="15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8" h="54">
                              <a:moveTo>
                                <a:pt x="125" y="35"/>
                              </a:moveTo>
                              <a:lnTo>
                                <a:pt x="97" y="47"/>
                              </a:lnTo>
                              <a:lnTo>
                                <a:pt x="83" y="51"/>
                              </a:lnTo>
                              <a:lnTo>
                                <a:pt x="66" y="54"/>
                              </a:lnTo>
                              <a:lnTo>
                                <a:pt x="49" y="51"/>
                              </a:lnTo>
                              <a:lnTo>
                                <a:pt x="31" y="47"/>
                              </a:lnTo>
                              <a:lnTo>
                                <a:pt x="14" y="44"/>
                              </a:lnTo>
                              <a:lnTo>
                                <a:pt x="0" y="41"/>
                              </a:lnTo>
                              <a:lnTo>
                                <a:pt x="7" y="32"/>
                              </a:lnTo>
                              <a:lnTo>
                                <a:pt x="18" y="29"/>
                              </a:lnTo>
                              <a:lnTo>
                                <a:pt x="38" y="22"/>
                              </a:lnTo>
                              <a:lnTo>
                                <a:pt x="56" y="13"/>
                              </a:lnTo>
                              <a:lnTo>
                                <a:pt x="73" y="10"/>
                              </a:lnTo>
                              <a:lnTo>
                                <a:pt x="94" y="6"/>
                              </a:lnTo>
                              <a:lnTo>
                                <a:pt x="118" y="0"/>
                              </a:lnTo>
                              <a:lnTo>
                                <a:pt x="128" y="3"/>
                              </a:lnTo>
                              <a:lnTo>
                                <a:pt x="128" y="13"/>
                              </a:lnTo>
                              <a:lnTo>
                                <a:pt x="125" y="22"/>
                              </a:lnTo>
                              <a:lnTo>
                                <a:pt x="125" y="35"/>
                              </a:lnTo>
                              <a:lnTo>
                                <a:pt x="125" y="3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933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680" bIns="-31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4" name=""/>
                        <p:cNvSpPr/>
                        <p:nvPr/>
                      </p:nvSpPr>
                      <p:spPr>
                        <a:xfrm>
                          <a:off x="1505880" y="2284920"/>
                          <a:ext cx="10080" cy="9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34">
                              <a:moveTo>
                                <a:pt x="31" y="18"/>
                              </a:moveTo>
                              <a:lnTo>
                                <a:pt x="14" y="31"/>
                              </a:lnTo>
                              <a:lnTo>
                                <a:pt x="7" y="34"/>
                              </a:lnTo>
                              <a:lnTo>
                                <a:pt x="0" y="31"/>
                              </a:lnTo>
                              <a:lnTo>
                                <a:pt x="0" y="22"/>
                              </a:lnTo>
                              <a:lnTo>
                                <a:pt x="0" y="15"/>
                              </a:lnTo>
                              <a:lnTo>
                                <a:pt x="7" y="0"/>
                              </a:lnTo>
                              <a:lnTo>
                                <a:pt x="25" y="9"/>
                              </a:lnTo>
                              <a:lnTo>
                                <a:pt x="31" y="12"/>
                              </a:lnTo>
                              <a:lnTo>
                                <a:pt x="31" y="18"/>
                              </a:lnTo>
                              <a:lnTo>
                                <a:pt x="31" y="1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5" name=""/>
                        <p:cNvSpPr/>
                        <p:nvPr/>
                      </p:nvSpPr>
                      <p:spPr>
                        <a:xfrm>
                          <a:off x="1416960" y="2282760"/>
                          <a:ext cx="27360" cy="11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3" h="41">
                              <a:moveTo>
                                <a:pt x="83" y="32"/>
                              </a:moveTo>
                              <a:lnTo>
                                <a:pt x="76" y="38"/>
                              </a:lnTo>
                              <a:lnTo>
                                <a:pt x="66" y="41"/>
                              </a:lnTo>
                              <a:lnTo>
                                <a:pt x="52" y="41"/>
                              </a:lnTo>
                              <a:lnTo>
                                <a:pt x="41" y="38"/>
                              </a:lnTo>
                              <a:lnTo>
                                <a:pt x="17" y="32"/>
                              </a:lnTo>
                              <a:lnTo>
                                <a:pt x="0" y="25"/>
                              </a:lnTo>
                              <a:lnTo>
                                <a:pt x="7" y="13"/>
                              </a:lnTo>
                              <a:lnTo>
                                <a:pt x="7" y="7"/>
                              </a:lnTo>
                              <a:lnTo>
                                <a:pt x="14" y="0"/>
                              </a:lnTo>
                              <a:lnTo>
                                <a:pt x="31" y="7"/>
                              </a:lnTo>
                              <a:lnTo>
                                <a:pt x="48" y="16"/>
                              </a:lnTo>
                              <a:lnTo>
                                <a:pt x="66" y="22"/>
                              </a:lnTo>
                              <a:lnTo>
                                <a:pt x="83" y="32"/>
                              </a:lnTo>
                              <a:lnTo>
                                <a:pt x="83" y="3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6" name=""/>
                        <p:cNvSpPr/>
                        <p:nvPr/>
                      </p:nvSpPr>
                      <p:spPr>
                        <a:xfrm>
                          <a:off x="1622880" y="2289960"/>
                          <a:ext cx="8640" cy="9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32">
                              <a:moveTo>
                                <a:pt x="20" y="32"/>
                              </a:moveTo>
                              <a:lnTo>
                                <a:pt x="17" y="32"/>
                              </a:lnTo>
                              <a:lnTo>
                                <a:pt x="10" y="26"/>
                              </a:lnTo>
                              <a:lnTo>
                                <a:pt x="0" y="7"/>
                              </a:lnTo>
                              <a:lnTo>
                                <a:pt x="27" y="0"/>
                              </a:lnTo>
                              <a:lnTo>
                                <a:pt x="20" y="32"/>
                              </a:lnTo>
                              <a:lnTo>
                                <a:pt x="20" y="3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800" bIns="-37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7" name=""/>
                        <p:cNvSpPr/>
                        <p:nvPr/>
                      </p:nvSpPr>
                      <p:spPr>
                        <a:xfrm>
                          <a:off x="1550520" y="2293560"/>
                          <a:ext cx="21600" cy="17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6" h="63">
                              <a:moveTo>
                                <a:pt x="59" y="60"/>
                              </a:moveTo>
                              <a:lnTo>
                                <a:pt x="52" y="63"/>
                              </a:lnTo>
                              <a:lnTo>
                                <a:pt x="41" y="63"/>
                              </a:lnTo>
                              <a:lnTo>
                                <a:pt x="24" y="60"/>
                              </a:lnTo>
                              <a:lnTo>
                                <a:pt x="17" y="57"/>
                              </a:lnTo>
                              <a:lnTo>
                                <a:pt x="10" y="54"/>
                              </a:lnTo>
                              <a:lnTo>
                                <a:pt x="3" y="47"/>
                              </a:lnTo>
                              <a:lnTo>
                                <a:pt x="3" y="41"/>
                              </a:lnTo>
                              <a:lnTo>
                                <a:pt x="0" y="25"/>
                              </a:lnTo>
                              <a:lnTo>
                                <a:pt x="3" y="19"/>
                              </a:lnTo>
                              <a:lnTo>
                                <a:pt x="10" y="13"/>
                              </a:lnTo>
                              <a:lnTo>
                                <a:pt x="21" y="13"/>
                              </a:lnTo>
                              <a:lnTo>
                                <a:pt x="31" y="10"/>
                              </a:lnTo>
                              <a:lnTo>
                                <a:pt x="52" y="0"/>
                              </a:lnTo>
                              <a:lnTo>
                                <a:pt x="55" y="13"/>
                              </a:lnTo>
                              <a:lnTo>
                                <a:pt x="62" y="28"/>
                              </a:lnTo>
                              <a:lnTo>
                                <a:pt x="66" y="44"/>
                              </a:lnTo>
                              <a:lnTo>
                                <a:pt x="66" y="51"/>
                              </a:lnTo>
                              <a:lnTo>
                                <a:pt x="59" y="60"/>
                              </a:lnTo>
                              <a:lnTo>
                                <a:pt x="59" y="6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8" name=""/>
                        <p:cNvSpPr/>
                        <p:nvPr/>
                      </p:nvSpPr>
                      <p:spPr>
                        <a:xfrm>
                          <a:off x="1525680" y="2295360"/>
                          <a:ext cx="16920" cy="15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2" h="57">
                              <a:moveTo>
                                <a:pt x="52" y="13"/>
                              </a:moveTo>
                              <a:lnTo>
                                <a:pt x="52" y="26"/>
                              </a:lnTo>
                              <a:lnTo>
                                <a:pt x="45" y="35"/>
                              </a:lnTo>
                              <a:lnTo>
                                <a:pt x="35" y="45"/>
                              </a:lnTo>
                              <a:lnTo>
                                <a:pt x="28" y="54"/>
                              </a:lnTo>
                              <a:lnTo>
                                <a:pt x="17" y="57"/>
                              </a:lnTo>
                              <a:lnTo>
                                <a:pt x="14" y="57"/>
                              </a:lnTo>
                              <a:lnTo>
                                <a:pt x="7" y="54"/>
                              </a:lnTo>
                              <a:lnTo>
                                <a:pt x="4" y="38"/>
                              </a:lnTo>
                              <a:lnTo>
                                <a:pt x="0" y="26"/>
                              </a:lnTo>
                              <a:lnTo>
                                <a:pt x="4" y="16"/>
                              </a:lnTo>
                              <a:lnTo>
                                <a:pt x="7" y="0"/>
                              </a:lnTo>
                              <a:lnTo>
                                <a:pt x="28" y="7"/>
                              </a:lnTo>
                              <a:lnTo>
                                <a:pt x="38" y="10"/>
                              </a:lnTo>
                              <a:lnTo>
                                <a:pt x="52" y="13"/>
                              </a:lnTo>
                              <a:lnTo>
                                <a:pt x="52" y="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960" bIns="-30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9" name=""/>
                        <p:cNvSpPr/>
                        <p:nvPr/>
                      </p:nvSpPr>
                      <p:spPr>
                        <a:xfrm>
                          <a:off x="1378440" y="2291760"/>
                          <a:ext cx="28440" cy="24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88">
                              <a:moveTo>
                                <a:pt x="86" y="6"/>
                              </a:moveTo>
                              <a:lnTo>
                                <a:pt x="82" y="19"/>
                              </a:lnTo>
                              <a:lnTo>
                                <a:pt x="79" y="31"/>
                              </a:lnTo>
                              <a:lnTo>
                                <a:pt x="72" y="41"/>
                              </a:lnTo>
                              <a:lnTo>
                                <a:pt x="62" y="53"/>
                              </a:lnTo>
                              <a:lnTo>
                                <a:pt x="55" y="63"/>
                              </a:lnTo>
                              <a:lnTo>
                                <a:pt x="44" y="72"/>
                              </a:lnTo>
                              <a:lnTo>
                                <a:pt x="34" y="79"/>
                              </a:lnTo>
                              <a:lnTo>
                                <a:pt x="24" y="85"/>
                              </a:lnTo>
                              <a:lnTo>
                                <a:pt x="17" y="88"/>
                              </a:lnTo>
                              <a:lnTo>
                                <a:pt x="10" y="82"/>
                              </a:lnTo>
                              <a:lnTo>
                                <a:pt x="0" y="72"/>
                              </a:lnTo>
                              <a:lnTo>
                                <a:pt x="6" y="50"/>
                              </a:lnTo>
                              <a:lnTo>
                                <a:pt x="13" y="31"/>
                              </a:lnTo>
                              <a:lnTo>
                                <a:pt x="20" y="22"/>
                              </a:lnTo>
                              <a:lnTo>
                                <a:pt x="27" y="12"/>
                              </a:lnTo>
                              <a:lnTo>
                                <a:pt x="34" y="6"/>
                              </a:lnTo>
                              <a:lnTo>
                                <a:pt x="44" y="0"/>
                              </a:lnTo>
                              <a:lnTo>
                                <a:pt x="55" y="3"/>
                              </a:lnTo>
                              <a:lnTo>
                                <a:pt x="69" y="6"/>
                              </a:lnTo>
                              <a:lnTo>
                                <a:pt x="86" y="6"/>
                              </a:lnTo>
                              <a:lnTo>
                                <a:pt x="86" y="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933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960" bIns="-21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0" name=""/>
                        <p:cNvSpPr/>
                        <p:nvPr/>
                      </p:nvSpPr>
                      <p:spPr>
                        <a:xfrm>
                          <a:off x="1464120" y="2295360"/>
                          <a:ext cx="59040" cy="29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9" h="104">
                              <a:moveTo>
                                <a:pt x="179" y="73"/>
                              </a:moveTo>
                              <a:lnTo>
                                <a:pt x="162" y="79"/>
                              </a:lnTo>
                              <a:lnTo>
                                <a:pt x="138" y="86"/>
                              </a:lnTo>
                              <a:lnTo>
                                <a:pt x="117" y="95"/>
                              </a:lnTo>
                              <a:lnTo>
                                <a:pt x="110" y="98"/>
                              </a:lnTo>
                              <a:lnTo>
                                <a:pt x="100" y="104"/>
                              </a:lnTo>
                              <a:lnTo>
                                <a:pt x="93" y="101"/>
                              </a:lnTo>
                              <a:lnTo>
                                <a:pt x="89" y="98"/>
                              </a:lnTo>
                              <a:lnTo>
                                <a:pt x="86" y="98"/>
                              </a:lnTo>
                              <a:lnTo>
                                <a:pt x="82" y="92"/>
                              </a:lnTo>
                              <a:lnTo>
                                <a:pt x="76" y="95"/>
                              </a:lnTo>
                              <a:lnTo>
                                <a:pt x="72" y="92"/>
                              </a:lnTo>
                              <a:lnTo>
                                <a:pt x="55" y="89"/>
                              </a:lnTo>
                              <a:lnTo>
                                <a:pt x="48" y="89"/>
                              </a:lnTo>
                              <a:lnTo>
                                <a:pt x="41" y="92"/>
                              </a:lnTo>
                              <a:lnTo>
                                <a:pt x="31" y="86"/>
                              </a:lnTo>
                              <a:lnTo>
                                <a:pt x="20" y="86"/>
                              </a:lnTo>
                              <a:lnTo>
                                <a:pt x="17" y="76"/>
                              </a:lnTo>
                              <a:lnTo>
                                <a:pt x="6" y="67"/>
                              </a:lnTo>
                              <a:lnTo>
                                <a:pt x="0" y="67"/>
                              </a:lnTo>
                              <a:lnTo>
                                <a:pt x="0" y="57"/>
                              </a:lnTo>
                              <a:lnTo>
                                <a:pt x="3" y="48"/>
                              </a:lnTo>
                              <a:lnTo>
                                <a:pt x="17" y="29"/>
                              </a:lnTo>
                              <a:lnTo>
                                <a:pt x="34" y="16"/>
                              </a:lnTo>
                              <a:lnTo>
                                <a:pt x="51" y="7"/>
                              </a:lnTo>
                              <a:lnTo>
                                <a:pt x="65" y="7"/>
                              </a:lnTo>
                              <a:lnTo>
                                <a:pt x="79" y="13"/>
                              </a:lnTo>
                              <a:lnTo>
                                <a:pt x="93" y="16"/>
                              </a:lnTo>
                              <a:lnTo>
                                <a:pt x="107" y="19"/>
                              </a:lnTo>
                              <a:lnTo>
                                <a:pt x="107" y="29"/>
                              </a:lnTo>
                              <a:lnTo>
                                <a:pt x="114" y="41"/>
                              </a:lnTo>
                              <a:lnTo>
                                <a:pt x="131" y="32"/>
                              </a:lnTo>
                              <a:lnTo>
                                <a:pt x="145" y="22"/>
                              </a:lnTo>
                              <a:lnTo>
                                <a:pt x="155" y="13"/>
                              </a:lnTo>
                              <a:lnTo>
                                <a:pt x="165" y="0"/>
                              </a:lnTo>
                              <a:lnTo>
                                <a:pt x="162" y="19"/>
                              </a:lnTo>
                              <a:lnTo>
                                <a:pt x="162" y="38"/>
                              </a:lnTo>
                              <a:lnTo>
                                <a:pt x="169" y="57"/>
                              </a:lnTo>
                              <a:lnTo>
                                <a:pt x="179" y="73"/>
                              </a:lnTo>
                              <a:lnTo>
                                <a:pt x="179" y="7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7640" bIns="-17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1" name=""/>
                        <p:cNvSpPr/>
                        <p:nvPr/>
                      </p:nvSpPr>
                      <p:spPr>
                        <a:xfrm>
                          <a:off x="788760" y="2283840"/>
                          <a:ext cx="379080" cy="28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46" h="101">
                              <a:moveTo>
                                <a:pt x="1022" y="4"/>
                              </a:moveTo>
                              <a:lnTo>
                                <a:pt x="1029" y="10"/>
                              </a:lnTo>
                              <a:lnTo>
                                <a:pt x="1046" y="19"/>
                              </a:lnTo>
                              <a:lnTo>
                                <a:pt x="1087" y="48"/>
                              </a:lnTo>
                              <a:lnTo>
                                <a:pt x="1108" y="63"/>
                              </a:lnTo>
                              <a:lnTo>
                                <a:pt x="1125" y="79"/>
                              </a:lnTo>
                              <a:lnTo>
                                <a:pt x="1139" y="92"/>
                              </a:lnTo>
                              <a:lnTo>
                                <a:pt x="1146" y="101"/>
                              </a:lnTo>
                              <a:lnTo>
                                <a:pt x="0" y="101"/>
                              </a:lnTo>
                              <a:lnTo>
                                <a:pt x="76" y="22"/>
                              </a:lnTo>
                              <a:lnTo>
                                <a:pt x="200" y="22"/>
                              </a:lnTo>
                              <a:lnTo>
                                <a:pt x="200" y="29"/>
                              </a:lnTo>
                              <a:lnTo>
                                <a:pt x="310" y="29"/>
                              </a:lnTo>
                              <a:lnTo>
                                <a:pt x="525" y="26"/>
                              </a:lnTo>
                              <a:lnTo>
                                <a:pt x="756" y="22"/>
                              </a:lnTo>
                              <a:lnTo>
                                <a:pt x="846" y="22"/>
                              </a:lnTo>
                              <a:lnTo>
                                <a:pt x="908" y="22"/>
                              </a:lnTo>
                              <a:lnTo>
                                <a:pt x="918" y="13"/>
                              </a:lnTo>
                              <a:lnTo>
                                <a:pt x="932" y="7"/>
                              </a:lnTo>
                              <a:lnTo>
                                <a:pt x="946" y="4"/>
                              </a:lnTo>
                              <a:lnTo>
                                <a:pt x="963" y="0"/>
                              </a:lnTo>
                              <a:lnTo>
                                <a:pt x="980" y="0"/>
                              </a:lnTo>
                              <a:lnTo>
                                <a:pt x="998" y="0"/>
                              </a:lnTo>
                              <a:lnTo>
                                <a:pt x="1022" y="4"/>
                              </a:lnTo>
                              <a:lnTo>
                                <a:pt x="1022" y="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360" bIns="-18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2" name=""/>
                        <p:cNvSpPr/>
                        <p:nvPr/>
                      </p:nvSpPr>
                      <p:spPr>
                        <a:xfrm>
                          <a:off x="1637280" y="2304360"/>
                          <a:ext cx="48960" cy="37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9" h="132">
                              <a:moveTo>
                                <a:pt x="142" y="22"/>
                              </a:moveTo>
                              <a:lnTo>
                                <a:pt x="142" y="31"/>
                              </a:lnTo>
                              <a:lnTo>
                                <a:pt x="142" y="44"/>
                              </a:lnTo>
                              <a:lnTo>
                                <a:pt x="139" y="54"/>
                              </a:lnTo>
                              <a:lnTo>
                                <a:pt x="128" y="60"/>
                              </a:lnTo>
                              <a:lnTo>
                                <a:pt x="118" y="63"/>
                              </a:lnTo>
                              <a:lnTo>
                                <a:pt x="111" y="66"/>
                              </a:lnTo>
                              <a:lnTo>
                                <a:pt x="108" y="72"/>
                              </a:lnTo>
                              <a:lnTo>
                                <a:pt x="108" y="79"/>
                              </a:lnTo>
                              <a:lnTo>
                                <a:pt x="111" y="85"/>
                              </a:lnTo>
                              <a:lnTo>
                                <a:pt x="118" y="88"/>
                              </a:lnTo>
                              <a:lnTo>
                                <a:pt x="132" y="88"/>
                              </a:lnTo>
                              <a:lnTo>
                                <a:pt x="142" y="88"/>
                              </a:lnTo>
                              <a:lnTo>
                                <a:pt x="146" y="91"/>
                              </a:lnTo>
                              <a:lnTo>
                                <a:pt x="149" y="98"/>
                              </a:lnTo>
                              <a:lnTo>
                                <a:pt x="149" y="107"/>
                              </a:lnTo>
                              <a:lnTo>
                                <a:pt x="135" y="120"/>
                              </a:lnTo>
                              <a:lnTo>
                                <a:pt x="121" y="126"/>
                              </a:lnTo>
                              <a:lnTo>
                                <a:pt x="101" y="132"/>
                              </a:lnTo>
                              <a:lnTo>
                                <a:pt x="83" y="132"/>
                              </a:lnTo>
                              <a:lnTo>
                                <a:pt x="76" y="123"/>
                              </a:lnTo>
                              <a:lnTo>
                                <a:pt x="73" y="113"/>
                              </a:lnTo>
                              <a:lnTo>
                                <a:pt x="63" y="95"/>
                              </a:lnTo>
                              <a:lnTo>
                                <a:pt x="56" y="85"/>
                              </a:lnTo>
                              <a:lnTo>
                                <a:pt x="49" y="79"/>
                              </a:lnTo>
                              <a:lnTo>
                                <a:pt x="38" y="72"/>
                              </a:lnTo>
                              <a:lnTo>
                                <a:pt x="28" y="72"/>
                              </a:lnTo>
                              <a:lnTo>
                                <a:pt x="11" y="66"/>
                              </a:lnTo>
                              <a:lnTo>
                                <a:pt x="4" y="63"/>
                              </a:lnTo>
                              <a:lnTo>
                                <a:pt x="0" y="54"/>
                              </a:lnTo>
                              <a:lnTo>
                                <a:pt x="11" y="50"/>
                              </a:lnTo>
                              <a:lnTo>
                                <a:pt x="21" y="41"/>
                              </a:lnTo>
                              <a:lnTo>
                                <a:pt x="18" y="31"/>
                              </a:lnTo>
                              <a:lnTo>
                                <a:pt x="21" y="28"/>
                              </a:lnTo>
                              <a:lnTo>
                                <a:pt x="28" y="28"/>
                              </a:lnTo>
                              <a:lnTo>
                                <a:pt x="38" y="25"/>
                              </a:lnTo>
                              <a:lnTo>
                                <a:pt x="52" y="22"/>
                              </a:lnTo>
                              <a:lnTo>
                                <a:pt x="76" y="9"/>
                              </a:lnTo>
                              <a:lnTo>
                                <a:pt x="97" y="0"/>
                              </a:lnTo>
                              <a:lnTo>
                                <a:pt x="104" y="0"/>
                              </a:lnTo>
                              <a:lnTo>
                                <a:pt x="114" y="0"/>
                              </a:lnTo>
                              <a:lnTo>
                                <a:pt x="125" y="3"/>
                              </a:lnTo>
                              <a:lnTo>
                                <a:pt x="132" y="6"/>
                              </a:lnTo>
                              <a:lnTo>
                                <a:pt x="139" y="13"/>
                              </a:lnTo>
                              <a:lnTo>
                                <a:pt x="142" y="22"/>
                              </a:lnTo>
                              <a:lnTo>
                                <a:pt x="142" y="2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9360" bIns="-9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3" name=""/>
                        <p:cNvSpPr/>
                        <p:nvPr/>
                      </p:nvSpPr>
                      <p:spPr>
                        <a:xfrm>
                          <a:off x="1620720" y="2311560"/>
                          <a:ext cx="11160" cy="6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4" h="22">
                              <a:moveTo>
                                <a:pt x="34" y="10"/>
                              </a:moveTo>
                              <a:lnTo>
                                <a:pt x="31" y="10"/>
                              </a:lnTo>
                              <a:lnTo>
                                <a:pt x="27" y="16"/>
                              </a:lnTo>
                              <a:lnTo>
                                <a:pt x="27" y="22"/>
                              </a:lnTo>
                              <a:lnTo>
                                <a:pt x="0" y="16"/>
                              </a:lnTo>
                              <a:lnTo>
                                <a:pt x="7" y="10"/>
                              </a:lnTo>
                              <a:lnTo>
                                <a:pt x="17" y="3"/>
                              </a:lnTo>
                              <a:lnTo>
                                <a:pt x="27" y="0"/>
                              </a:lnTo>
                              <a:lnTo>
                                <a:pt x="31" y="3"/>
                              </a:lnTo>
                              <a:lnTo>
                                <a:pt x="34" y="10"/>
                              </a:lnTo>
                              <a:lnTo>
                                <a:pt x="34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4" name=""/>
                        <p:cNvSpPr/>
                        <p:nvPr/>
                      </p:nvSpPr>
                      <p:spPr>
                        <a:xfrm>
                          <a:off x="1667160" y="2314440"/>
                          <a:ext cx="86760" cy="41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63" h="145">
                              <a:moveTo>
                                <a:pt x="197" y="31"/>
                              </a:moveTo>
                              <a:lnTo>
                                <a:pt x="197" y="37"/>
                              </a:lnTo>
                              <a:lnTo>
                                <a:pt x="190" y="37"/>
                              </a:lnTo>
                              <a:lnTo>
                                <a:pt x="183" y="41"/>
                              </a:lnTo>
                              <a:lnTo>
                                <a:pt x="180" y="44"/>
                              </a:lnTo>
                              <a:lnTo>
                                <a:pt x="180" y="41"/>
                              </a:lnTo>
                              <a:lnTo>
                                <a:pt x="173" y="41"/>
                              </a:lnTo>
                              <a:lnTo>
                                <a:pt x="152" y="37"/>
                              </a:lnTo>
                              <a:lnTo>
                                <a:pt x="132" y="37"/>
                              </a:lnTo>
                              <a:lnTo>
                                <a:pt x="125" y="28"/>
                              </a:lnTo>
                              <a:lnTo>
                                <a:pt x="118" y="25"/>
                              </a:lnTo>
                              <a:lnTo>
                                <a:pt x="111" y="19"/>
                              </a:lnTo>
                              <a:lnTo>
                                <a:pt x="94" y="22"/>
                              </a:lnTo>
                              <a:lnTo>
                                <a:pt x="87" y="25"/>
                              </a:lnTo>
                              <a:lnTo>
                                <a:pt x="80" y="31"/>
                              </a:lnTo>
                              <a:lnTo>
                                <a:pt x="87" y="41"/>
                              </a:lnTo>
                              <a:lnTo>
                                <a:pt x="94" y="44"/>
                              </a:lnTo>
                              <a:lnTo>
                                <a:pt x="104" y="44"/>
                              </a:lnTo>
                              <a:lnTo>
                                <a:pt x="107" y="60"/>
                              </a:lnTo>
                              <a:lnTo>
                                <a:pt x="111" y="66"/>
                              </a:lnTo>
                              <a:lnTo>
                                <a:pt x="118" y="72"/>
                              </a:lnTo>
                              <a:lnTo>
                                <a:pt x="128" y="69"/>
                              </a:lnTo>
                              <a:lnTo>
                                <a:pt x="138" y="69"/>
                              </a:lnTo>
                              <a:lnTo>
                                <a:pt x="145" y="69"/>
                              </a:lnTo>
                              <a:lnTo>
                                <a:pt x="152" y="60"/>
                              </a:lnTo>
                              <a:lnTo>
                                <a:pt x="163" y="60"/>
                              </a:lnTo>
                              <a:lnTo>
                                <a:pt x="173" y="69"/>
                              </a:lnTo>
                              <a:lnTo>
                                <a:pt x="183" y="75"/>
                              </a:lnTo>
                              <a:lnTo>
                                <a:pt x="187" y="78"/>
                              </a:lnTo>
                              <a:lnTo>
                                <a:pt x="197" y="78"/>
                              </a:lnTo>
                              <a:lnTo>
                                <a:pt x="204" y="69"/>
                              </a:lnTo>
                              <a:lnTo>
                                <a:pt x="207" y="60"/>
                              </a:lnTo>
                              <a:lnTo>
                                <a:pt x="211" y="50"/>
                              </a:lnTo>
                              <a:lnTo>
                                <a:pt x="225" y="44"/>
                              </a:lnTo>
                              <a:lnTo>
                                <a:pt x="235" y="47"/>
                              </a:lnTo>
                              <a:lnTo>
                                <a:pt x="242" y="47"/>
                              </a:lnTo>
                              <a:lnTo>
                                <a:pt x="249" y="50"/>
                              </a:lnTo>
                              <a:lnTo>
                                <a:pt x="252" y="60"/>
                              </a:lnTo>
                              <a:lnTo>
                                <a:pt x="256" y="66"/>
                              </a:lnTo>
                              <a:lnTo>
                                <a:pt x="259" y="75"/>
                              </a:lnTo>
                              <a:lnTo>
                                <a:pt x="263" y="82"/>
                              </a:lnTo>
                              <a:lnTo>
                                <a:pt x="259" y="91"/>
                              </a:lnTo>
                              <a:lnTo>
                                <a:pt x="242" y="97"/>
                              </a:lnTo>
                              <a:lnTo>
                                <a:pt x="228" y="107"/>
                              </a:lnTo>
                              <a:lnTo>
                                <a:pt x="214" y="116"/>
                              </a:lnTo>
                              <a:lnTo>
                                <a:pt x="211" y="123"/>
                              </a:lnTo>
                              <a:lnTo>
                                <a:pt x="211" y="129"/>
                              </a:lnTo>
                              <a:lnTo>
                                <a:pt x="183" y="135"/>
                              </a:lnTo>
                              <a:lnTo>
                                <a:pt x="156" y="141"/>
                              </a:lnTo>
                              <a:lnTo>
                                <a:pt x="128" y="145"/>
                              </a:lnTo>
                              <a:lnTo>
                                <a:pt x="104" y="145"/>
                              </a:lnTo>
                              <a:lnTo>
                                <a:pt x="76" y="141"/>
                              </a:lnTo>
                              <a:lnTo>
                                <a:pt x="52" y="138"/>
                              </a:lnTo>
                              <a:lnTo>
                                <a:pt x="28" y="132"/>
                              </a:lnTo>
                              <a:lnTo>
                                <a:pt x="0" y="123"/>
                              </a:lnTo>
                              <a:lnTo>
                                <a:pt x="21" y="119"/>
                              </a:lnTo>
                              <a:lnTo>
                                <a:pt x="45" y="110"/>
                              </a:lnTo>
                              <a:lnTo>
                                <a:pt x="56" y="104"/>
                              </a:lnTo>
                              <a:lnTo>
                                <a:pt x="66" y="97"/>
                              </a:lnTo>
                              <a:lnTo>
                                <a:pt x="73" y="88"/>
                              </a:lnTo>
                              <a:lnTo>
                                <a:pt x="80" y="78"/>
                              </a:lnTo>
                              <a:lnTo>
                                <a:pt x="87" y="66"/>
                              </a:lnTo>
                              <a:lnTo>
                                <a:pt x="87" y="53"/>
                              </a:lnTo>
                              <a:lnTo>
                                <a:pt x="66" y="31"/>
                              </a:lnTo>
                              <a:lnTo>
                                <a:pt x="76" y="25"/>
                              </a:lnTo>
                              <a:lnTo>
                                <a:pt x="83" y="19"/>
                              </a:lnTo>
                              <a:lnTo>
                                <a:pt x="90" y="15"/>
                              </a:lnTo>
                              <a:lnTo>
                                <a:pt x="104" y="12"/>
                              </a:lnTo>
                              <a:lnTo>
                                <a:pt x="107" y="6"/>
                              </a:lnTo>
                              <a:lnTo>
                                <a:pt x="118" y="6"/>
                              </a:lnTo>
                              <a:lnTo>
                                <a:pt x="128" y="9"/>
                              </a:lnTo>
                              <a:lnTo>
                                <a:pt x="138" y="6"/>
                              </a:lnTo>
                              <a:lnTo>
                                <a:pt x="149" y="0"/>
                              </a:lnTo>
                              <a:lnTo>
                                <a:pt x="159" y="0"/>
                              </a:lnTo>
                              <a:lnTo>
                                <a:pt x="166" y="3"/>
                              </a:lnTo>
                              <a:lnTo>
                                <a:pt x="173" y="0"/>
                              </a:lnTo>
                              <a:lnTo>
                                <a:pt x="197" y="31"/>
                              </a:lnTo>
                              <a:lnTo>
                                <a:pt x="197" y="3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760" bIns="-57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5" name=""/>
                        <p:cNvSpPr/>
                        <p:nvPr/>
                      </p:nvSpPr>
                      <p:spPr>
                        <a:xfrm>
                          <a:off x="1603440" y="2310480"/>
                          <a:ext cx="5400" cy="5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9">
                              <a:moveTo>
                                <a:pt x="17" y="19"/>
                              </a:moveTo>
                              <a:lnTo>
                                <a:pt x="0" y="19"/>
                              </a:lnTo>
                              <a:lnTo>
                                <a:pt x="10" y="0"/>
                              </a:lnTo>
                              <a:lnTo>
                                <a:pt x="14" y="9"/>
                              </a:lnTo>
                              <a:lnTo>
                                <a:pt x="17" y="19"/>
                              </a:lnTo>
                              <a:lnTo>
                                <a:pt x="17" y="1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400" bIns="-41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6" name=""/>
                        <p:cNvSpPr/>
                        <p:nvPr/>
                      </p:nvSpPr>
                      <p:spPr>
                        <a:xfrm>
                          <a:off x="1390680" y="2306880"/>
                          <a:ext cx="41760" cy="33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7" h="117">
                              <a:moveTo>
                                <a:pt x="127" y="13"/>
                              </a:moveTo>
                              <a:lnTo>
                                <a:pt x="124" y="19"/>
                              </a:lnTo>
                              <a:lnTo>
                                <a:pt x="120" y="26"/>
                              </a:lnTo>
                              <a:lnTo>
                                <a:pt x="114" y="32"/>
                              </a:lnTo>
                              <a:lnTo>
                                <a:pt x="107" y="38"/>
                              </a:lnTo>
                              <a:lnTo>
                                <a:pt x="100" y="35"/>
                              </a:lnTo>
                              <a:lnTo>
                                <a:pt x="86" y="32"/>
                              </a:lnTo>
                              <a:lnTo>
                                <a:pt x="62" y="32"/>
                              </a:lnTo>
                              <a:lnTo>
                                <a:pt x="55" y="38"/>
                              </a:lnTo>
                              <a:lnTo>
                                <a:pt x="51" y="45"/>
                              </a:lnTo>
                              <a:lnTo>
                                <a:pt x="48" y="63"/>
                              </a:lnTo>
                              <a:lnTo>
                                <a:pt x="58" y="73"/>
                              </a:lnTo>
                              <a:lnTo>
                                <a:pt x="62" y="79"/>
                              </a:lnTo>
                              <a:lnTo>
                                <a:pt x="69" y="89"/>
                              </a:lnTo>
                              <a:lnTo>
                                <a:pt x="79" y="92"/>
                              </a:lnTo>
                              <a:lnTo>
                                <a:pt x="93" y="92"/>
                              </a:lnTo>
                              <a:lnTo>
                                <a:pt x="79" y="101"/>
                              </a:lnTo>
                              <a:lnTo>
                                <a:pt x="72" y="108"/>
                              </a:lnTo>
                              <a:lnTo>
                                <a:pt x="69" y="117"/>
                              </a:lnTo>
                              <a:lnTo>
                                <a:pt x="51" y="108"/>
                              </a:lnTo>
                              <a:lnTo>
                                <a:pt x="34" y="101"/>
                              </a:lnTo>
                              <a:lnTo>
                                <a:pt x="24" y="95"/>
                              </a:lnTo>
                              <a:lnTo>
                                <a:pt x="17" y="89"/>
                              </a:lnTo>
                              <a:lnTo>
                                <a:pt x="6" y="82"/>
                              </a:lnTo>
                              <a:lnTo>
                                <a:pt x="0" y="70"/>
                              </a:lnTo>
                              <a:lnTo>
                                <a:pt x="0" y="63"/>
                              </a:lnTo>
                              <a:lnTo>
                                <a:pt x="3" y="54"/>
                              </a:lnTo>
                              <a:lnTo>
                                <a:pt x="13" y="45"/>
                              </a:lnTo>
                              <a:lnTo>
                                <a:pt x="27" y="35"/>
                              </a:lnTo>
                              <a:lnTo>
                                <a:pt x="34" y="26"/>
                              </a:lnTo>
                              <a:lnTo>
                                <a:pt x="48" y="22"/>
                              </a:lnTo>
                              <a:lnTo>
                                <a:pt x="62" y="16"/>
                              </a:lnTo>
                              <a:lnTo>
                                <a:pt x="76" y="7"/>
                              </a:lnTo>
                              <a:lnTo>
                                <a:pt x="93" y="0"/>
                              </a:lnTo>
                              <a:lnTo>
                                <a:pt x="103" y="0"/>
                              </a:lnTo>
                              <a:lnTo>
                                <a:pt x="114" y="0"/>
                              </a:lnTo>
                              <a:lnTo>
                                <a:pt x="120" y="4"/>
                              </a:lnTo>
                              <a:lnTo>
                                <a:pt x="127" y="13"/>
                              </a:lnTo>
                              <a:lnTo>
                                <a:pt x="127" y="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933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680" bIns="-13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7" name=""/>
                        <p:cNvSpPr/>
                        <p:nvPr/>
                      </p:nvSpPr>
                      <p:spPr>
                        <a:xfrm>
                          <a:off x="1534680" y="2312280"/>
                          <a:ext cx="3744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4" h="79">
                              <a:moveTo>
                                <a:pt x="107" y="19"/>
                              </a:moveTo>
                              <a:lnTo>
                                <a:pt x="110" y="16"/>
                              </a:lnTo>
                              <a:lnTo>
                                <a:pt x="114" y="19"/>
                              </a:lnTo>
                              <a:lnTo>
                                <a:pt x="107" y="35"/>
                              </a:lnTo>
                              <a:lnTo>
                                <a:pt x="100" y="48"/>
                              </a:lnTo>
                              <a:lnTo>
                                <a:pt x="89" y="57"/>
                              </a:lnTo>
                              <a:lnTo>
                                <a:pt x="83" y="63"/>
                              </a:lnTo>
                              <a:lnTo>
                                <a:pt x="72" y="67"/>
                              </a:lnTo>
                              <a:lnTo>
                                <a:pt x="58" y="79"/>
                              </a:lnTo>
                              <a:lnTo>
                                <a:pt x="48" y="70"/>
                              </a:lnTo>
                              <a:lnTo>
                                <a:pt x="38" y="63"/>
                              </a:lnTo>
                              <a:lnTo>
                                <a:pt x="31" y="54"/>
                              </a:lnTo>
                              <a:lnTo>
                                <a:pt x="31" y="38"/>
                              </a:lnTo>
                              <a:lnTo>
                                <a:pt x="24" y="32"/>
                              </a:lnTo>
                              <a:lnTo>
                                <a:pt x="13" y="22"/>
                              </a:lnTo>
                              <a:lnTo>
                                <a:pt x="0" y="13"/>
                              </a:lnTo>
                              <a:lnTo>
                                <a:pt x="31" y="0"/>
                              </a:lnTo>
                              <a:lnTo>
                                <a:pt x="48" y="10"/>
                              </a:lnTo>
                              <a:lnTo>
                                <a:pt x="65" y="16"/>
                              </a:lnTo>
                              <a:lnTo>
                                <a:pt x="86" y="22"/>
                              </a:lnTo>
                              <a:lnTo>
                                <a:pt x="96" y="22"/>
                              </a:lnTo>
                              <a:lnTo>
                                <a:pt x="107" y="19"/>
                              </a:lnTo>
                              <a:lnTo>
                                <a:pt x="107" y="1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8" name=""/>
                        <p:cNvSpPr/>
                        <p:nvPr/>
                      </p:nvSpPr>
                      <p:spPr>
                        <a:xfrm>
                          <a:off x="1432800" y="2314440"/>
                          <a:ext cx="29520" cy="16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0" h="60">
                              <a:moveTo>
                                <a:pt x="80" y="19"/>
                              </a:moveTo>
                              <a:lnTo>
                                <a:pt x="83" y="22"/>
                              </a:lnTo>
                              <a:lnTo>
                                <a:pt x="87" y="25"/>
                              </a:lnTo>
                              <a:lnTo>
                                <a:pt x="90" y="34"/>
                              </a:lnTo>
                              <a:lnTo>
                                <a:pt x="87" y="37"/>
                              </a:lnTo>
                              <a:lnTo>
                                <a:pt x="80" y="41"/>
                              </a:lnTo>
                              <a:lnTo>
                                <a:pt x="73" y="44"/>
                              </a:lnTo>
                              <a:lnTo>
                                <a:pt x="52" y="44"/>
                              </a:lnTo>
                              <a:lnTo>
                                <a:pt x="38" y="44"/>
                              </a:lnTo>
                              <a:lnTo>
                                <a:pt x="31" y="47"/>
                              </a:lnTo>
                              <a:lnTo>
                                <a:pt x="21" y="50"/>
                              </a:lnTo>
                              <a:lnTo>
                                <a:pt x="14" y="60"/>
                              </a:lnTo>
                              <a:lnTo>
                                <a:pt x="4" y="44"/>
                              </a:lnTo>
                              <a:lnTo>
                                <a:pt x="0" y="31"/>
                              </a:lnTo>
                              <a:lnTo>
                                <a:pt x="4" y="22"/>
                              </a:lnTo>
                              <a:lnTo>
                                <a:pt x="11" y="12"/>
                              </a:lnTo>
                              <a:lnTo>
                                <a:pt x="18" y="3"/>
                              </a:lnTo>
                              <a:lnTo>
                                <a:pt x="28" y="0"/>
                              </a:lnTo>
                              <a:lnTo>
                                <a:pt x="45" y="0"/>
                              </a:lnTo>
                              <a:lnTo>
                                <a:pt x="59" y="3"/>
                              </a:lnTo>
                              <a:lnTo>
                                <a:pt x="73" y="9"/>
                              </a:lnTo>
                              <a:lnTo>
                                <a:pt x="80" y="19"/>
                              </a:lnTo>
                              <a:lnTo>
                                <a:pt x="80" y="1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880" bIns="-29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9" name=""/>
                        <p:cNvSpPr/>
                        <p:nvPr/>
                      </p:nvSpPr>
                      <p:spPr>
                        <a:xfrm>
                          <a:off x="1575000" y="2321280"/>
                          <a:ext cx="69480" cy="33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0" h="120">
                              <a:moveTo>
                                <a:pt x="179" y="19"/>
                              </a:moveTo>
                              <a:lnTo>
                                <a:pt x="172" y="31"/>
                              </a:lnTo>
                              <a:lnTo>
                                <a:pt x="172" y="35"/>
                              </a:lnTo>
                              <a:lnTo>
                                <a:pt x="172" y="41"/>
                              </a:lnTo>
                              <a:lnTo>
                                <a:pt x="179" y="47"/>
                              </a:lnTo>
                              <a:lnTo>
                                <a:pt x="183" y="50"/>
                              </a:lnTo>
                              <a:lnTo>
                                <a:pt x="189" y="47"/>
                              </a:lnTo>
                              <a:lnTo>
                                <a:pt x="196" y="41"/>
                              </a:lnTo>
                              <a:lnTo>
                                <a:pt x="203" y="35"/>
                              </a:lnTo>
                              <a:lnTo>
                                <a:pt x="207" y="41"/>
                              </a:lnTo>
                              <a:lnTo>
                                <a:pt x="210" y="44"/>
                              </a:lnTo>
                              <a:lnTo>
                                <a:pt x="210" y="47"/>
                              </a:lnTo>
                              <a:lnTo>
                                <a:pt x="203" y="47"/>
                              </a:lnTo>
                              <a:lnTo>
                                <a:pt x="203" y="57"/>
                              </a:lnTo>
                              <a:lnTo>
                                <a:pt x="203" y="66"/>
                              </a:lnTo>
                              <a:lnTo>
                                <a:pt x="196" y="79"/>
                              </a:lnTo>
                              <a:lnTo>
                                <a:pt x="189" y="88"/>
                              </a:lnTo>
                              <a:lnTo>
                                <a:pt x="183" y="94"/>
                              </a:lnTo>
                              <a:lnTo>
                                <a:pt x="176" y="98"/>
                              </a:lnTo>
                              <a:lnTo>
                                <a:pt x="165" y="98"/>
                              </a:lnTo>
                              <a:lnTo>
                                <a:pt x="158" y="104"/>
                              </a:lnTo>
                              <a:lnTo>
                                <a:pt x="152" y="110"/>
                              </a:lnTo>
                              <a:lnTo>
                                <a:pt x="131" y="113"/>
                              </a:lnTo>
                              <a:lnTo>
                                <a:pt x="110" y="116"/>
                              </a:lnTo>
                              <a:lnTo>
                                <a:pt x="86" y="120"/>
                              </a:lnTo>
                              <a:lnTo>
                                <a:pt x="82" y="107"/>
                              </a:lnTo>
                              <a:lnTo>
                                <a:pt x="79" y="98"/>
                              </a:lnTo>
                              <a:lnTo>
                                <a:pt x="62" y="101"/>
                              </a:lnTo>
                              <a:lnTo>
                                <a:pt x="51" y="104"/>
                              </a:lnTo>
                              <a:lnTo>
                                <a:pt x="41" y="101"/>
                              </a:lnTo>
                              <a:lnTo>
                                <a:pt x="31" y="91"/>
                              </a:lnTo>
                              <a:lnTo>
                                <a:pt x="38" y="91"/>
                              </a:lnTo>
                              <a:lnTo>
                                <a:pt x="41" y="85"/>
                              </a:lnTo>
                              <a:lnTo>
                                <a:pt x="44" y="72"/>
                              </a:lnTo>
                              <a:lnTo>
                                <a:pt x="31" y="66"/>
                              </a:lnTo>
                              <a:lnTo>
                                <a:pt x="13" y="63"/>
                              </a:lnTo>
                              <a:lnTo>
                                <a:pt x="3" y="60"/>
                              </a:lnTo>
                              <a:lnTo>
                                <a:pt x="0" y="53"/>
                              </a:lnTo>
                              <a:lnTo>
                                <a:pt x="3" y="47"/>
                              </a:lnTo>
                              <a:lnTo>
                                <a:pt x="6" y="38"/>
                              </a:lnTo>
                              <a:lnTo>
                                <a:pt x="10" y="28"/>
                              </a:lnTo>
                              <a:lnTo>
                                <a:pt x="10" y="16"/>
                              </a:lnTo>
                              <a:lnTo>
                                <a:pt x="13" y="12"/>
                              </a:lnTo>
                              <a:lnTo>
                                <a:pt x="24" y="6"/>
                              </a:lnTo>
                              <a:lnTo>
                                <a:pt x="31" y="3"/>
                              </a:lnTo>
                              <a:lnTo>
                                <a:pt x="41" y="3"/>
                              </a:lnTo>
                              <a:lnTo>
                                <a:pt x="58" y="6"/>
                              </a:lnTo>
                              <a:lnTo>
                                <a:pt x="76" y="9"/>
                              </a:lnTo>
                              <a:lnTo>
                                <a:pt x="82" y="6"/>
                              </a:lnTo>
                              <a:lnTo>
                                <a:pt x="86" y="0"/>
                              </a:lnTo>
                              <a:lnTo>
                                <a:pt x="100" y="0"/>
                              </a:lnTo>
                              <a:lnTo>
                                <a:pt x="110" y="0"/>
                              </a:lnTo>
                              <a:lnTo>
                                <a:pt x="131" y="6"/>
                              </a:lnTo>
                              <a:lnTo>
                                <a:pt x="152" y="9"/>
                              </a:lnTo>
                              <a:lnTo>
                                <a:pt x="162" y="12"/>
                              </a:lnTo>
                              <a:lnTo>
                                <a:pt x="172" y="12"/>
                              </a:lnTo>
                              <a:lnTo>
                                <a:pt x="172" y="16"/>
                              </a:lnTo>
                              <a:lnTo>
                                <a:pt x="179" y="19"/>
                              </a:lnTo>
                              <a:lnTo>
                                <a:pt x="179" y="1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2960" bIns="-12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0" name=""/>
                        <p:cNvSpPr/>
                        <p:nvPr/>
                      </p:nvSpPr>
                      <p:spPr>
                        <a:xfrm>
                          <a:off x="1501920" y="2321280"/>
                          <a:ext cx="3708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" h="50">
                              <a:moveTo>
                                <a:pt x="113" y="19"/>
                              </a:moveTo>
                              <a:lnTo>
                                <a:pt x="110" y="25"/>
                              </a:lnTo>
                              <a:lnTo>
                                <a:pt x="100" y="28"/>
                              </a:lnTo>
                              <a:lnTo>
                                <a:pt x="93" y="35"/>
                              </a:lnTo>
                              <a:lnTo>
                                <a:pt x="86" y="38"/>
                              </a:lnTo>
                              <a:lnTo>
                                <a:pt x="69" y="41"/>
                              </a:lnTo>
                              <a:lnTo>
                                <a:pt x="51" y="41"/>
                              </a:lnTo>
                              <a:lnTo>
                                <a:pt x="44" y="44"/>
                              </a:lnTo>
                              <a:lnTo>
                                <a:pt x="38" y="47"/>
                              </a:lnTo>
                              <a:lnTo>
                                <a:pt x="31" y="50"/>
                              </a:lnTo>
                              <a:lnTo>
                                <a:pt x="20" y="50"/>
                              </a:lnTo>
                              <a:lnTo>
                                <a:pt x="10" y="47"/>
                              </a:lnTo>
                              <a:lnTo>
                                <a:pt x="0" y="47"/>
                              </a:lnTo>
                              <a:lnTo>
                                <a:pt x="0" y="28"/>
                              </a:lnTo>
                              <a:lnTo>
                                <a:pt x="24" y="12"/>
                              </a:lnTo>
                              <a:lnTo>
                                <a:pt x="34" y="9"/>
                              </a:lnTo>
                              <a:lnTo>
                                <a:pt x="48" y="3"/>
                              </a:lnTo>
                              <a:lnTo>
                                <a:pt x="62" y="0"/>
                              </a:lnTo>
                              <a:lnTo>
                                <a:pt x="76" y="0"/>
                              </a:lnTo>
                              <a:lnTo>
                                <a:pt x="93" y="0"/>
                              </a:lnTo>
                              <a:lnTo>
                                <a:pt x="107" y="0"/>
                              </a:lnTo>
                              <a:lnTo>
                                <a:pt x="113" y="19"/>
                              </a:lnTo>
                              <a:lnTo>
                                <a:pt x="113" y="1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1" name=""/>
                        <p:cNvSpPr/>
                        <p:nvPr/>
                      </p:nvSpPr>
                      <p:spPr>
                        <a:xfrm>
                          <a:off x="1321200" y="2316240"/>
                          <a:ext cx="57960" cy="39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6" h="139">
                              <a:moveTo>
                                <a:pt x="173" y="25"/>
                              </a:moveTo>
                              <a:lnTo>
                                <a:pt x="176" y="31"/>
                              </a:lnTo>
                              <a:lnTo>
                                <a:pt x="176" y="35"/>
                              </a:lnTo>
                              <a:lnTo>
                                <a:pt x="166" y="47"/>
                              </a:lnTo>
                              <a:lnTo>
                                <a:pt x="145" y="44"/>
                              </a:lnTo>
                              <a:lnTo>
                                <a:pt x="135" y="47"/>
                              </a:lnTo>
                              <a:lnTo>
                                <a:pt x="131" y="54"/>
                              </a:lnTo>
                              <a:lnTo>
                                <a:pt x="131" y="60"/>
                              </a:lnTo>
                              <a:lnTo>
                                <a:pt x="135" y="63"/>
                              </a:lnTo>
                              <a:lnTo>
                                <a:pt x="145" y="72"/>
                              </a:lnTo>
                              <a:lnTo>
                                <a:pt x="148" y="72"/>
                              </a:lnTo>
                              <a:lnTo>
                                <a:pt x="152" y="79"/>
                              </a:lnTo>
                              <a:lnTo>
                                <a:pt x="148" y="91"/>
                              </a:lnTo>
                              <a:lnTo>
                                <a:pt x="138" y="104"/>
                              </a:lnTo>
                              <a:lnTo>
                                <a:pt x="117" y="123"/>
                              </a:lnTo>
                              <a:lnTo>
                                <a:pt x="117" y="107"/>
                              </a:lnTo>
                              <a:lnTo>
                                <a:pt x="114" y="101"/>
                              </a:lnTo>
                              <a:lnTo>
                                <a:pt x="103" y="98"/>
                              </a:lnTo>
                              <a:lnTo>
                                <a:pt x="93" y="104"/>
                              </a:lnTo>
                              <a:lnTo>
                                <a:pt x="86" y="117"/>
                              </a:lnTo>
                              <a:lnTo>
                                <a:pt x="69" y="129"/>
                              </a:lnTo>
                              <a:lnTo>
                                <a:pt x="52" y="135"/>
                              </a:lnTo>
                              <a:lnTo>
                                <a:pt x="34" y="135"/>
                              </a:lnTo>
                              <a:lnTo>
                                <a:pt x="17" y="139"/>
                              </a:lnTo>
                              <a:lnTo>
                                <a:pt x="21" y="123"/>
                              </a:lnTo>
                              <a:lnTo>
                                <a:pt x="28" y="107"/>
                              </a:lnTo>
                              <a:lnTo>
                                <a:pt x="38" y="94"/>
                              </a:lnTo>
                              <a:lnTo>
                                <a:pt x="52" y="85"/>
                              </a:lnTo>
                              <a:lnTo>
                                <a:pt x="52" y="72"/>
                              </a:lnTo>
                              <a:lnTo>
                                <a:pt x="38" y="69"/>
                              </a:lnTo>
                              <a:lnTo>
                                <a:pt x="17" y="72"/>
                              </a:lnTo>
                              <a:lnTo>
                                <a:pt x="10" y="72"/>
                              </a:lnTo>
                              <a:lnTo>
                                <a:pt x="3" y="69"/>
                              </a:lnTo>
                              <a:lnTo>
                                <a:pt x="0" y="63"/>
                              </a:lnTo>
                              <a:lnTo>
                                <a:pt x="3" y="54"/>
                              </a:lnTo>
                              <a:lnTo>
                                <a:pt x="10" y="44"/>
                              </a:lnTo>
                              <a:lnTo>
                                <a:pt x="21" y="35"/>
                              </a:lnTo>
                              <a:lnTo>
                                <a:pt x="38" y="19"/>
                              </a:lnTo>
                              <a:lnTo>
                                <a:pt x="55" y="22"/>
                              </a:lnTo>
                              <a:lnTo>
                                <a:pt x="62" y="22"/>
                              </a:lnTo>
                              <a:lnTo>
                                <a:pt x="66" y="25"/>
                              </a:lnTo>
                              <a:lnTo>
                                <a:pt x="69" y="25"/>
                              </a:lnTo>
                              <a:lnTo>
                                <a:pt x="72" y="25"/>
                              </a:lnTo>
                              <a:lnTo>
                                <a:pt x="76" y="35"/>
                              </a:lnTo>
                              <a:lnTo>
                                <a:pt x="79" y="38"/>
                              </a:lnTo>
                              <a:lnTo>
                                <a:pt x="90" y="38"/>
                              </a:lnTo>
                              <a:lnTo>
                                <a:pt x="103" y="44"/>
                              </a:lnTo>
                              <a:lnTo>
                                <a:pt x="114" y="50"/>
                              </a:lnTo>
                              <a:lnTo>
                                <a:pt x="117" y="50"/>
                              </a:lnTo>
                              <a:lnTo>
                                <a:pt x="124" y="47"/>
                              </a:lnTo>
                              <a:lnTo>
                                <a:pt x="121" y="38"/>
                              </a:lnTo>
                              <a:lnTo>
                                <a:pt x="110" y="31"/>
                              </a:lnTo>
                              <a:lnTo>
                                <a:pt x="107" y="25"/>
                              </a:lnTo>
                              <a:lnTo>
                                <a:pt x="107" y="19"/>
                              </a:lnTo>
                              <a:lnTo>
                                <a:pt x="110" y="13"/>
                              </a:lnTo>
                              <a:lnTo>
                                <a:pt x="117" y="6"/>
                              </a:lnTo>
                              <a:lnTo>
                                <a:pt x="128" y="3"/>
                              </a:lnTo>
                              <a:lnTo>
                                <a:pt x="152" y="0"/>
                              </a:lnTo>
                              <a:lnTo>
                                <a:pt x="162" y="19"/>
                              </a:lnTo>
                              <a:lnTo>
                                <a:pt x="169" y="25"/>
                              </a:lnTo>
                              <a:lnTo>
                                <a:pt x="173" y="25"/>
                              </a:lnTo>
                              <a:lnTo>
                                <a:pt x="173" y="2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560" bIns="-7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2" name=""/>
                        <p:cNvSpPr/>
                        <p:nvPr/>
                      </p:nvSpPr>
                      <p:spPr>
                        <a:xfrm>
                          <a:off x="1618200" y="2324880"/>
                          <a:ext cx="8640" cy="6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23">
                              <a:moveTo>
                                <a:pt x="27" y="7"/>
                              </a:moveTo>
                              <a:lnTo>
                                <a:pt x="24" y="16"/>
                              </a:lnTo>
                              <a:lnTo>
                                <a:pt x="14" y="23"/>
                              </a:lnTo>
                              <a:lnTo>
                                <a:pt x="3" y="23"/>
                              </a:lnTo>
                              <a:lnTo>
                                <a:pt x="0" y="16"/>
                              </a:lnTo>
                              <a:lnTo>
                                <a:pt x="3" y="7"/>
                              </a:lnTo>
                              <a:lnTo>
                                <a:pt x="7" y="0"/>
                              </a:lnTo>
                              <a:lnTo>
                                <a:pt x="14" y="0"/>
                              </a:lnTo>
                              <a:lnTo>
                                <a:pt x="17" y="0"/>
                              </a:lnTo>
                              <a:lnTo>
                                <a:pt x="27" y="7"/>
                              </a:lnTo>
                              <a:lnTo>
                                <a:pt x="27" y="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320" bIns="-40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3" name=""/>
                        <p:cNvSpPr/>
                        <p:nvPr/>
                      </p:nvSpPr>
                      <p:spPr>
                        <a:xfrm>
                          <a:off x="1585080" y="2324880"/>
                          <a:ext cx="8640" cy="6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23">
                              <a:moveTo>
                                <a:pt x="27" y="7"/>
                              </a:moveTo>
                              <a:lnTo>
                                <a:pt x="24" y="16"/>
                              </a:lnTo>
                              <a:lnTo>
                                <a:pt x="20" y="23"/>
                              </a:lnTo>
                              <a:lnTo>
                                <a:pt x="10" y="19"/>
                              </a:lnTo>
                              <a:lnTo>
                                <a:pt x="0" y="16"/>
                              </a:lnTo>
                              <a:lnTo>
                                <a:pt x="3" y="7"/>
                              </a:lnTo>
                              <a:lnTo>
                                <a:pt x="13" y="0"/>
                              </a:lnTo>
                              <a:lnTo>
                                <a:pt x="24" y="0"/>
                              </a:lnTo>
                              <a:lnTo>
                                <a:pt x="27" y="7"/>
                              </a:lnTo>
                              <a:lnTo>
                                <a:pt x="27" y="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320" bIns="-40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4" name=""/>
                        <p:cNvSpPr/>
                        <p:nvPr/>
                      </p:nvSpPr>
                      <p:spPr>
                        <a:xfrm>
                          <a:off x="1603440" y="2329560"/>
                          <a:ext cx="10080" cy="5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19">
                              <a:moveTo>
                                <a:pt x="31" y="7"/>
                              </a:moveTo>
                              <a:lnTo>
                                <a:pt x="24" y="13"/>
                              </a:lnTo>
                              <a:lnTo>
                                <a:pt x="17" y="19"/>
                              </a:lnTo>
                              <a:lnTo>
                                <a:pt x="10" y="19"/>
                              </a:lnTo>
                              <a:lnTo>
                                <a:pt x="0" y="13"/>
                              </a:lnTo>
                              <a:lnTo>
                                <a:pt x="7" y="3"/>
                              </a:lnTo>
                              <a:lnTo>
                                <a:pt x="17" y="0"/>
                              </a:lnTo>
                              <a:lnTo>
                                <a:pt x="24" y="0"/>
                              </a:lnTo>
                              <a:lnTo>
                                <a:pt x="31" y="7"/>
                              </a:lnTo>
                              <a:lnTo>
                                <a:pt x="31" y="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400" bIns="-41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5" name=""/>
                        <p:cNvSpPr/>
                        <p:nvPr/>
                      </p:nvSpPr>
                      <p:spPr>
                        <a:xfrm>
                          <a:off x="1634040" y="2331360"/>
                          <a:ext cx="19440" cy="27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9" h="97">
                              <a:moveTo>
                                <a:pt x="59" y="18"/>
                              </a:moveTo>
                              <a:lnTo>
                                <a:pt x="52" y="25"/>
                              </a:lnTo>
                              <a:lnTo>
                                <a:pt x="48" y="34"/>
                              </a:lnTo>
                              <a:lnTo>
                                <a:pt x="48" y="47"/>
                              </a:lnTo>
                              <a:lnTo>
                                <a:pt x="52" y="56"/>
                              </a:lnTo>
                              <a:lnTo>
                                <a:pt x="59" y="56"/>
                              </a:lnTo>
                              <a:lnTo>
                                <a:pt x="52" y="59"/>
                              </a:lnTo>
                              <a:lnTo>
                                <a:pt x="45" y="66"/>
                              </a:lnTo>
                              <a:lnTo>
                                <a:pt x="42" y="81"/>
                              </a:lnTo>
                              <a:lnTo>
                                <a:pt x="38" y="94"/>
                              </a:lnTo>
                              <a:lnTo>
                                <a:pt x="31" y="97"/>
                              </a:lnTo>
                              <a:lnTo>
                                <a:pt x="24" y="97"/>
                              </a:lnTo>
                              <a:lnTo>
                                <a:pt x="14" y="97"/>
                              </a:lnTo>
                              <a:lnTo>
                                <a:pt x="7" y="94"/>
                              </a:lnTo>
                              <a:lnTo>
                                <a:pt x="0" y="85"/>
                              </a:lnTo>
                              <a:lnTo>
                                <a:pt x="17" y="72"/>
                              </a:lnTo>
                              <a:lnTo>
                                <a:pt x="31" y="59"/>
                              </a:lnTo>
                              <a:lnTo>
                                <a:pt x="45" y="44"/>
                              </a:lnTo>
                              <a:lnTo>
                                <a:pt x="52" y="25"/>
                              </a:lnTo>
                              <a:lnTo>
                                <a:pt x="45" y="0"/>
                              </a:lnTo>
                              <a:lnTo>
                                <a:pt x="52" y="0"/>
                              </a:lnTo>
                              <a:lnTo>
                                <a:pt x="59" y="6"/>
                              </a:lnTo>
                              <a:lnTo>
                                <a:pt x="59" y="18"/>
                              </a:lnTo>
                              <a:lnTo>
                                <a:pt x="59" y="1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440" bIns="-19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6" name=""/>
                        <p:cNvSpPr/>
                        <p:nvPr/>
                      </p:nvSpPr>
                      <p:spPr>
                        <a:xfrm>
                          <a:off x="1464120" y="2324880"/>
                          <a:ext cx="28440" cy="17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63">
                              <a:moveTo>
                                <a:pt x="72" y="7"/>
                              </a:moveTo>
                              <a:lnTo>
                                <a:pt x="79" y="10"/>
                              </a:lnTo>
                              <a:lnTo>
                                <a:pt x="86" y="16"/>
                              </a:lnTo>
                              <a:lnTo>
                                <a:pt x="86" y="29"/>
                              </a:lnTo>
                              <a:lnTo>
                                <a:pt x="82" y="41"/>
                              </a:lnTo>
                              <a:lnTo>
                                <a:pt x="76" y="54"/>
                              </a:lnTo>
                              <a:lnTo>
                                <a:pt x="65" y="60"/>
                              </a:lnTo>
                              <a:lnTo>
                                <a:pt x="58" y="63"/>
                              </a:lnTo>
                              <a:lnTo>
                                <a:pt x="51" y="60"/>
                              </a:lnTo>
                              <a:lnTo>
                                <a:pt x="48" y="51"/>
                              </a:lnTo>
                              <a:lnTo>
                                <a:pt x="41" y="41"/>
                              </a:lnTo>
                              <a:lnTo>
                                <a:pt x="17" y="32"/>
                              </a:lnTo>
                              <a:lnTo>
                                <a:pt x="6" y="29"/>
                              </a:lnTo>
                              <a:lnTo>
                                <a:pt x="0" y="23"/>
                              </a:lnTo>
                              <a:lnTo>
                                <a:pt x="3" y="13"/>
                              </a:lnTo>
                              <a:lnTo>
                                <a:pt x="13" y="0"/>
                              </a:lnTo>
                              <a:lnTo>
                                <a:pt x="20" y="7"/>
                              </a:lnTo>
                              <a:lnTo>
                                <a:pt x="27" y="10"/>
                              </a:lnTo>
                              <a:lnTo>
                                <a:pt x="41" y="10"/>
                              </a:lnTo>
                              <a:lnTo>
                                <a:pt x="58" y="7"/>
                              </a:lnTo>
                              <a:lnTo>
                                <a:pt x="72" y="7"/>
                              </a:lnTo>
                              <a:lnTo>
                                <a:pt x="72" y="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7" name=""/>
                        <p:cNvSpPr/>
                        <p:nvPr/>
                      </p:nvSpPr>
                      <p:spPr>
                        <a:xfrm>
                          <a:off x="1245600" y="2321280"/>
                          <a:ext cx="44640" cy="38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5" h="135">
                              <a:moveTo>
                                <a:pt x="128" y="0"/>
                              </a:moveTo>
                              <a:lnTo>
                                <a:pt x="131" y="19"/>
                              </a:lnTo>
                              <a:lnTo>
                                <a:pt x="135" y="38"/>
                              </a:lnTo>
                              <a:lnTo>
                                <a:pt x="135" y="60"/>
                              </a:lnTo>
                              <a:lnTo>
                                <a:pt x="135" y="82"/>
                              </a:lnTo>
                              <a:lnTo>
                                <a:pt x="131" y="104"/>
                              </a:lnTo>
                              <a:lnTo>
                                <a:pt x="128" y="120"/>
                              </a:lnTo>
                              <a:lnTo>
                                <a:pt x="121" y="129"/>
                              </a:lnTo>
                              <a:lnTo>
                                <a:pt x="114" y="132"/>
                              </a:lnTo>
                              <a:lnTo>
                                <a:pt x="90" y="135"/>
                              </a:lnTo>
                              <a:lnTo>
                                <a:pt x="62" y="135"/>
                              </a:lnTo>
                              <a:lnTo>
                                <a:pt x="35" y="135"/>
                              </a:lnTo>
                              <a:lnTo>
                                <a:pt x="7" y="132"/>
                              </a:lnTo>
                              <a:lnTo>
                                <a:pt x="3" y="120"/>
                              </a:lnTo>
                              <a:lnTo>
                                <a:pt x="0" y="101"/>
                              </a:lnTo>
                              <a:lnTo>
                                <a:pt x="0" y="82"/>
                              </a:lnTo>
                              <a:lnTo>
                                <a:pt x="0" y="63"/>
                              </a:lnTo>
                              <a:lnTo>
                                <a:pt x="0" y="28"/>
                              </a:lnTo>
                              <a:lnTo>
                                <a:pt x="0" y="12"/>
                              </a:lnTo>
                              <a:lnTo>
                                <a:pt x="31" y="9"/>
                              </a:lnTo>
                              <a:lnTo>
                                <a:pt x="66" y="6"/>
                              </a:lnTo>
                              <a:lnTo>
                                <a:pt x="97" y="3"/>
                              </a:lnTo>
                              <a:lnTo>
                                <a:pt x="128" y="0"/>
                              </a:lnTo>
                              <a:lnTo>
                                <a:pt x="12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8640" bIns="-8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8" name=""/>
                        <p:cNvSpPr/>
                        <p:nvPr/>
                      </p:nvSpPr>
                      <p:spPr>
                        <a:xfrm>
                          <a:off x="1581480" y="2333160"/>
                          <a:ext cx="7920" cy="6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" h="25">
                              <a:moveTo>
                                <a:pt x="24" y="12"/>
                              </a:moveTo>
                              <a:lnTo>
                                <a:pt x="24" y="19"/>
                              </a:lnTo>
                              <a:lnTo>
                                <a:pt x="18" y="25"/>
                              </a:lnTo>
                              <a:lnTo>
                                <a:pt x="7" y="22"/>
                              </a:lnTo>
                              <a:lnTo>
                                <a:pt x="4" y="12"/>
                              </a:lnTo>
                              <a:lnTo>
                                <a:pt x="0" y="6"/>
                              </a:lnTo>
                              <a:lnTo>
                                <a:pt x="11" y="0"/>
                              </a:lnTo>
                              <a:lnTo>
                                <a:pt x="21" y="3"/>
                              </a:lnTo>
                              <a:lnTo>
                                <a:pt x="24" y="12"/>
                              </a:lnTo>
                              <a:lnTo>
                                <a:pt x="24" y="1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960" bIns="-39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9" name=""/>
                        <p:cNvSpPr/>
                        <p:nvPr/>
                      </p:nvSpPr>
                      <p:spPr>
                        <a:xfrm>
                          <a:off x="780480" y="2317680"/>
                          <a:ext cx="401400" cy="15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13" h="54">
                              <a:moveTo>
                                <a:pt x="1213" y="0"/>
                              </a:moveTo>
                              <a:lnTo>
                                <a:pt x="1209" y="13"/>
                              </a:lnTo>
                              <a:lnTo>
                                <a:pt x="1209" y="25"/>
                              </a:lnTo>
                              <a:lnTo>
                                <a:pt x="1206" y="32"/>
                              </a:lnTo>
                              <a:lnTo>
                                <a:pt x="1202" y="38"/>
                              </a:lnTo>
                              <a:lnTo>
                                <a:pt x="1195" y="44"/>
                              </a:lnTo>
                              <a:lnTo>
                                <a:pt x="1185" y="48"/>
                              </a:lnTo>
                              <a:lnTo>
                                <a:pt x="1178" y="48"/>
                              </a:lnTo>
                              <a:lnTo>
                                <a:pt x="1161" y="48"/>
                              </a:lnTo>
                              <a:lnTo>
                                <a:pt x="1112" y="51"/>
                              </a:lnTo>
                              <a:lnTo>
                                <a:pt x="1054" y="51"/>
                              </a:lnTo>
                              <a:lnTo>
                                <a:pt x="1023" y="51"/>
                              </a:lnTo>
                              <a:lnTo>
                                <a:pt x="998" y="54"/>
                              </a:lnTo>
                              <a:lnTo>
                                <a:pt x="985" y="54"/>
                              </a:lnTo>
                              <a:lnTo>
                                <a:pt x="933" y="51"/>
                              </a:lnTo>
                              <a:lnTo>
                                <a:pt x="850" y="51"/>
                              </a:lnTo>
                              <a:lnTo>
                                <a:pt x="743" y="51"/>
                              </a:lnTo>
                              <a:lnTo>
                                <a:pt x="622" y="51"/>
                              </a:lnTo>
                              <a:lnTo>
                                <a:pt x="491" y="51"/>
                              </a:lnTo>
                              <a:lnTo>
                                <a:pt x="363" y="48"/>
                              </a:lnTo>
                              <a:lnTo>
                                <a:pt x="242" y="48"/>
                              </a:lnTo>
                              <a:lnTo>
                                <a:pt x="190" y="48"/>
                              </a:lnTo>
                              <a:lnTo>
                                <a:pt x="145" y="48"/>
                              </a:lnTo>
                              <a:lnTo>
                                <a:pt x="111" y="48"/>
                              </a:lnTo>
                              <a:lnTo>
                                <a:pt x="76" y="48"/>
                              </a:lnTo>
                              <a:lnTo>
                                <a:pt x="38" y="48"/>
                              </a:lnTo>
                              <a:lnTo>
                                <a:pt x="21" y="48"/>
                              </a:lnTo>
                              <a:lnTo>
                                <a:pt x="0" y="48"/>
                              </a:lnTo>
                              <a:lnTo>
                                <a:pt x="0" y="25"/>
                              </a:lnTo>
                              <a:lnTo>
                                <a:pt x="0" y="16"/>
                              </a:lnTo>
                              <a:lnTo>
                                <a:pt x="7" y="7"/>
                              </a:lnTo>
                              <a:lnTo>
                                <a:pt x="18" y="0"/>
                              </a:lnTo>
                              <a:lnTo>
                                <a:pt x="101" y="3"/>
                              </a:lnTo>
                              <a:lnTo>
                                <a:pt x="190" y="3"/>
                              </a:lnTo>
                              <a:lnTo>
                                <a:pt x="297" y="7"/>
                              </a:lnTo>
                              <a:lnTo>
                                <a:pt x="404" y="7"/>
                              </a:lnTo>
                              <a:lnTo>
                                <a:pt x="456" y="7"/>
                              </a:lnTo>
                              <a:lnTo>
                                <a:pt x="501" y="7"/>
                              </a:lnTo>
                              <a:lnTo>
                                <a:pt x="546" y="7"/>
                              </a:lnTo>
                              <a:lnTo>
                                <a:pt x="581" y="3"/>
                              </a:lnTo>
                              <a:lnTo>
                                <a:pt x="608" y="3"/>
                              </a:lnTo>
                              <a:lnTo>
                                <a:pt x="626" y="0"/>
                              </a:lnTo>
                              <a:lnTo>
                                <a:pt x="1154" y="0"/>
                              </a:lnTo>
                              <a:lnTo>
                                <a:pt x="1213" y="0"/>
                              </a:lnTo>
                              <a:lnTo>
                                <a:pt x="1213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680" bIns="-31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0" name=""/>
                        <p:cNvSpPr/>
                        <p:nvPr/>
                      </p:nvSpPr>
                      <p:spPr>
                        <a:xfrm>
                          <a:off x="1622880" y="2335680"/>
                          <a:ext cx="8640" cy="6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25">
                              <a:moveTo>
                                <a:pt x="27" y="10"/>
                              </a:moveTo>
                              <a:lnTo>
                                <a:pt x="24" y="19"/>
                              </a:lnTo>
                              <a:lnTo>
                                <a:pt x="13" y="22"/>
                              </a:lnTo>
                              <a:lnTo>
                                <a:pt x="3" y="25"/>
                              </a:lnTo>
                              <a:lnTo>
                                <a:pt x="0" y="16"/>
                              </a:lnTo>
                              <a:lnTo>
                                <a:pt x="3" y="7"/>
                              </a:lnTo>
                              <a:lnTo>
                                <a:pt x="7" y="3"/>
                              </a:lnTo>
                              <a:lnTo>
                                <a:pt x="17" y="0"/>
                              </a:lnTo>
                              <a:lnTo>
                                <a:pt x="20" y="0"/>
                              </a:lnTo>
                              <a:lnTo>
                                <a:pt x="27" y="10"/>
                              </a:lnTo>
                              <a:lnTo>
                                <a:pt x="27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960" bIns="-39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1" name=""/>
                        <p:cNvSpPr/>
                        <p:nvPr/>
                      </p:nvSpPr>
                      <p:spPr>
                        <a:xfrm>
                          <a:off x="1181880" y="2324880"/>
                          <a:ext cx="55800" cy="30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9" h="108">
                              <a:moveTo>
                                <a:pt x="165" y="108"/>
                              </a:moveTo>
                              <a:lnTo>
                                <a:pt x="145" y="108"/>
                              </a:lnTo>
                              <a:lnTo>
                                <a:pt x="127" y="108"/>
                              </a:lnTo>
                              <a:lnTo>
                                <a:pt x="86" y="108"/>
                              </a:lnTo>
                              <a:lnTo>
                                <a:pt x="44" y="104"/>
                              </a:lnTo>
                              <a:lnTo>
                                <a:pt x="27" y="104"/>
                              </a:lnTo>
                              <a:lnTo>
                                <a:pt x="6" y="108"/>
                              </a:lnTo>
                              <a:lnTo>
                                <a:pt x="0" y="54"/>
                              </a:lnTo>
                              <a:lnTo>
                                <a:pt x="10" y="48"/>
                              </a:lnTo>
                              <a:lnTo>
                                <a:pt x="24" y="35"/>
                              </a:lnTo>
                              <a:lnTo>
                                <a:pt x="31" y="23"/>
                              </a:lnTo>
                              <a:lnTo>
                                <a:pt x="34" y="7"/>
                              </a:lnTo>
                              <a:lnTo>
                                <a:pt x="34" y="0"/>
                              </a:lnTo>
                              <a:lnTo>
                                <a:pt x="165" y="0"/>
                              </a:lnTo>
                              <a:lnTo>
                                <a:pt x="165" y="26"/>
                              </a:lnTo>
                              <a:lnTo>
                                <a:pt x="169" y="54"/>
                              </a:lnTo>
                              <a:lnTo>
                                <a:pt x="169" y="79"/>
                              </a:lnTo>
                              <a:lnTo>
                                <a:pt x="165" y="108"/>
                              </a:lnTo>
                              <a:lnTo>
                                <a:pt x="165" y="10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200" bIns="-16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2" name=""/>
                        <p:cNvSpPr/>
                        <p:nvPr/>
                      </p:nvSpPr>
                      <p:spPr>
                        <a:xfrm>
                          <a:off x="1559880" y="2335680"/>
                          <a:ext cx="7920" cy="7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" h="29">
                              <a:moveTo>
                                <a:pt x="24" y="16"/>
                              </a:moveTo>
                              <a:lnTo>
                                <a:pt x="24" y="22"/>
                              </a:lnTo>
                              <a:lnTo>
                                <a:pt x="17" y="25"/>
                              </a:lnTo>
                              <a:lnTo>
                                <a:pt x="10" y="25"/>
                              </a:lnTo>
                              <a:lnTo>
                                <a:pt x="3" y="29"/>
                              </a:lnTo>
                              <a:lnTo>
                                <a:pt x="0" y="19"/>
                              </a:lnTo>
                              <a:lnTo>
                                <a:pt x="0" y="10"/>
                              </a:lnTo>
                              <a:lnTo>
                                <a:pt x="3" y="7"/>
                              </a:lnTo>
                              <a:lnTo>
                                <a:pt x="10" y="3"/>
                              </a:lnTo>
                              <a:lnTo>
                                <a:pt x="17" y="0"/>
                              </a:lnTo>
                              <a:lnTo>
                                <a:pt x="20" y="3"/>
                              </a:lnTo>
                              <a:lnTo>
                                <a:pt x="24" y="16"/>
                              </a:lnTo>
                              <a:lnTo>
                                <a:pt x="24" y="1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3" name=""/>
                        <p:cNvSpPr/>
                        <p:nvPr/>
                      </p:nvSpPr>
                      <p:spPr>
                        <a:xfrm>
                          <a:off x="1339200" y="2330280"/>
                          <a:ext cx="22680" cy="1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9" h="48">
                              <a:moveTo>
                                <a:pt x="69" y="16"/>
                              </a:moveTo>
                              <a:lnTo>
                                <a:pt x="69" y="26"/>
                              </a:lnTo>
                              <a:lnTo>
                                <a:pt x="62" y="35"/>
                              </a:lnTo>
                              <a:lnTo>
                                <a:pt x="48" y="48"/>
                              </a:lnTo>
                              <a:lnTo>
                                <a:pt x="35" y="48"/>
                              </a:lnTo>
                              <a:lnTo>
                                <a:pt x="28" y="44"/>
                              </a:lnTo>
                              <a:lnTo>
                                <a:pt x="11" y="35"/>
                              </a:lnTo>
                              <a:lnTo>
                                <a:pt x="4" y="29"/>
                              </a:lnTo>
                              <a:lnTo>
                                <a:pt x="0" y="26"/>
                              </a:lnTo>
                              <a:lnTo>
                                <a:pt x="0" y="16"/>
                              </a:lnTo>
                              <a:lnTo>
                                <a:pt x="4" y="10"/>
                              </a:lnTo>
                              <a:lnTo>
                                <a:pt x="17" y="0"/>
                              </a:lnTo>
                              <a:lnTo>
                                <a:pt x="38" y="0"/>
                              </a:lnTo>
                              <a:lnTo>
                                <a:pt x="48" y="0"/>
                              </a:lnTo>
                              <a:lnTo>
                                <a:pt x="59" y="4"/>
                              </a:lnTo>
                              <a:lnTo>
                                <a:pt x="66" y="10"/>
                              </a:lnTo>
                              <a:lnTo>
                                <a:pt x="69" y="16"/>
                              </a:lnTo>
                              <a:lnTo>
                                <a:pt x="69" y="1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480" bIns="-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4" name=""/>
                        <p:cNvSpPr/>
                        <p:nvPr/>
                      </p:nvSpPr>
                      <p:spPr>
                        <a:xfrm>
                          <a:off x="1526760" y="2335680"/>
                          <a:ext cx="20160" cy="16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2" h="60">
                              <a:moveTo>
                                <a:pt x="62" y="16"/>
                              </a:moveTo>
                              <a:lnTo>
                                <a:pt x="58" y="22"/>
                              </a:lnTo>
                              <a:lnTo>
                                <a:pt x="48" y="32"/>
                              </a:lnTo>
                              <a:lnTo>
                                <a:pt x="37" y="41"/>
                              </a:lnTo>
                              <a:lnTo>
                                <a:pt x="37" y="48"/>
                              </a:lnTo>
                              <a:lnTo>
                                <a:pt x="37" y="54"/>
                              </a:lnTo>
                              <a:lnTo>
                                <a:pt x="31" y="60"/>
                              </a:lnTo>
                              <a:lnTo>
                                <a:pt x="20" y="48"/>
                              </a:lnTo>
                              <a:lnTo>
                                <a:pt x="6" y="38"/>
                              </a:lnTo>
                              <a:lnTo>
                                <a:pt x="3" y="35"/>
                              </a:lnTo>
                              <a:lnTo>
                                <a:pt x="0" y="29"/>
                              </a:lnTo>
                              <a:lnTo>
                                <a:pt x="3" y="22"/>
                              </a:lnTo>
                              <a:lnTo>
                                <a:pt x="10" y="16"/>
                              </a:lnTo>
                              <a:lnTo>
                                <a:pt x="13" y="10"/>
                              </a:lnTo>
                              <a:lnTo>
                                <a:pt x="20" y="7"/>
                              </a:lnTo>
                              <a:lnTo>
                                <a:pt x="31" y="7"/>
                              </a:lnTo>
                              <a:lnTo>
                                <a:pt x="37" y="3"/>
                              </a:lnTo>
                              <a:lnTo>
                                <a:pt x="44" y="0"/>
                              </a:lnTo>
                              <a:lnTo>
                                <a:pt x="51" y="3"/>
                              </a:lnTo>
                              <a:lnTo>
                                <a:pt x="62" y="16"/>
                              </a:lnTo>
                              <a:lnTo>
                                <a:pt x="62" y="1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880" bIns="-29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5" name=""/>
                        <p:cNvSpPr/>
                        <p:nvPr/>
                      </p:nvSpPr>
                      <p:spPr>
                        <a:xfrm>
                          <a:off x="1377000" y="2333160"/>
                          <a:ext cx="13680" cy="6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5">
                              <a:moveTo>
                                <a:pt x="42" y="12"/>
                              </a:moveTo>
                              <a:lnTo>
                                <a:pt x="24" y="16"/>
                              </a:lnTo>
                              <a:lnTo>
                                <a:pt x="4" y="25"/>
                              </a:lnTo>
                              <a:lnTo>
                                <a:pt x="0" y="12"/>
                              </a:lnTo>
                              <a:lnTo>
                                <a:pt x="7" y="6"/>
                              </a:lnTo>
                              <a:lnTo>
                                <a:pt x="17" y="3"/>
                              </a:lnTo>
                              <a:lnTo>
                                <a:pt x="28" y="0"/>
                              </a:lnTo>
                              <a:lnTo>
                                <a:pt x="42" y="12"/>
                              </a:lnTo>
                              <a:lnTo>
                                <a:pt x="42" y="1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960" bIns="-39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6" name=""/>
                        <p:cNvSpPr/>
                        <p:nvPr/>
                      </p:nvSpPr>
                      <p:spPr>
                        <a:xfrm>
                          <a:off x="1596240" y="2338560"/>
                          <a:ext cx="7920" cy="6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" h="25">
                              <a:moveTo>
                                <a:pt x="21" y="12"/>
                              </a:moveTo>
                              <a:lnTo>
                                <a:pt x="24" y="19"/>
                              </a:lnTo>
                              <a:lnTo>
                                <a:pt x="14" y="25"/>
                              </a:lnTo>
                              <a:lnTo>
                                <a:pt x="7" y="22"/>
                              </a:lnTo>
                              <a:lnTo>
                                <a:pt x="0" y="12"/>
                              </a:lnTo>
                              <a:lnTo>
                                <a:pt x="0" y="3"/>
                              </a:lnTo>
                              <a:lnTo>
                                <a:pt x="7" y="0"/>
                              </a:lnTo>
                              <a:lnTo>
                                <a:pt x="17" y="3"/>
                              </a:lnTo>
                              <a:lnTo>
                                <a:pt x="21" y="12"/>
                              </a:lnTo>
                              <a:lnTo>
                                <a:pt x="21" y="1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960" bIns="-39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7" name=""/>
                        <p:cNvSpPr/>
                        <p:nvPr/>
                      </p:nvSpPr>
                      <p:spPr>
                        <a:xfrm>
                          <a:off x="1421640" y="2335680"/>
                          <a:ext cx="28440" cy="1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0">
                              <a:moveTo>
                                <a:pt x="86" y="29"/>
                              </a:moveTo>
                              <a:lnTo>
                                <a:pt x="79" y="41"/>
                              </a:lnTo>
                              <a:lnTo>
                                <a:pt x="72" y="54"/>
                              </a:lnTo>
                              <a:lnTo>
                                <a:pt x="59" y="63"/>
                              </a:lnTo>
                              <a:lnTo>
                                <a:pt x="41" y="70"/>
                              </a:lnTo>
                              <a:lnTo>
                                <a:pt x="31" y="66"/>
                              </a:lnTo>
                              <a:lnTo>
                                <a:pt x="21" y="63"/>
                              </a:lnTo>
                              <a:lnTo>
                                <a:pt x="17" y="57"/>
                              </a:lnTo>
                              <a:lnTo>
                                <a:pt x="14" y="48"/>
                              </a:lnTo>
                              <a:lnTo>
                                <a:pt x="7" y="41"/>
                              </a:lnTo>
                              <a:lnTo>
                                <a:pt x="0" y="35"/>
                              </a:lnTo>
                              <a:lnTo>
                                <a:pt x="0" y="25"/>
                              </a:lnTo>
                              <a:lnTo>
                                <a:pt x="7" y="16"/>
                              </a:lnTo>
                              <a:lnTo>
                                <a:pt x="14" y="10"/>
                              </a:lnTo>
                              <a:lnTo>
                                <a:pt x="21" y="3"/>
                              </a:lnTo>
                              <a:lnTo>
                                <a:pt x="34" y="0"/>
                              </a:lnTo>
                              <a:lnTo>
                                <a:pt x="48" y="3"/>
                              </a:lnTo>
                              <a:lnTo>
                                <a:pt x="55" y="13"/>
                              </a:lnTo>
                              <a:lnTo>
                                <a:pt x="65" y="19"/>
                              </a:lnTo>
                              <a:lnTo>
                                <a:pt x="86" y="29"/>
                              </a:lnTo>
                              <a:lnTo>
                                <a:pt x="86" y="2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8" name=""/>
                        <p:cNvSpPr/>
                        <p:nvPr/>
                      </p:nvSpPr>
                      <p:spPr>
                        <a:xfrm>
                          <a:off x="1485720" y="2340360"/>
                          <a:ext cx="24840" cy="21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6" h="76">
                              <a:moveTo>
                                <a:pt x="69" y="0"/>
                              </a:moveTo>
                              <a:lnTo>
                                <a:pt x="66" y="9"/>
                              </a:lnTo>
                              <a:lnTo>
                                <a:pt x="69" y="16"/>
                              </a:lnTo>
                              <a:lnTo>
                                <a:pt x="76" y="25"/>
                              </a:lnTo>
                              <a:lnTo>
                                <a:pt x="69" y="32"/>
                              </a:lnTo>
                              <a:lnTo>
                                <a:pt x="62" y="73"/>
                              </a:lnTo>
                              <a:lnTo>
                                <a:pt x="42" y="76"/>
                              </a:lnTo>
                              <a:lnTo>
                                <a:pt x="31" y="76"/>
                              </a:lnTo>
                              <a:lnTo>
                                <a:pt x="21" y="73"/>
                              </a:lnTo>
                              <a:lnTo>
                                <a:pt x="14" y="60"/>
                              </a:lnTo>
                              <a:lnTo>
                                <a:pt x="14" y="50"/>
                              </a:lnTo>
                              <a:lnTo>
                                <a:pt x="11" y="41"/>
                              </a:lnTo>
                              <a:lnTo>
                                <a:pt x="0" y="32"/>
                              </a:lnTo>
                              <a:lnTo>
                                <a:pt x="14" y="25"/>
                              </a:lnTo>
                              <a:lnTo>
                                <a:pt x="24" y="19"/>
                              </a:lnTo>
                              <a:lnTo>
                                <a:pt x="35" y="9"/>
                              </a:lnTo>
                              <a:lnTo>
                                <a:pt x="42" y="0"/>
                              </a:lnTo>
                              <a:lnTo>
                                <a:pt x="69" y="0"/>
                              </a:lnTo>
                              <a:lnTo>
                                <a:pt x="69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9cc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560" bIns="-25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9" name=""/>
                        <p:cNvSpPr/>
                        <p:nvPr/>
                      </p:nvSpPr>
                      <p:spPr>
                        <a:xfrm>
                          <a:off x="1453320" y="2340360"/>
                          <a:ext cx="24120" cy="18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" h="66">
                              <a:moveTo>
                                <a:pt x="59" y="6"/>
                              </a:moveTo>
                              <a:lnTo>
                                <a:pt x="63" y="19"/>
                              </a:lnTo>
                              <a:lnTo>
                                <a:pt x="66" y="28"/>
                              </a:lnTo>
                              <a:lnTo>
                                <a:pt x="73" y="38"/>
                              </a:lnTo>
                              <a:lnTo>
                                <a:pt x="73" y="44"/>
                              </a:lnTo>
                              <a:lnTo>
                                <a:pt x="59" y="57"/>
                              </a:lnTo>
                              <a:lnTo>
                                <a:pt x="42" y="63"/>
                              </a:lnTo>
                              <a:lnTo>
                                <a:pt x="25" y="66"/>
                              </a:lnTo>
                              <a:lnTo>
                                <a:pt x="4" y="66"/>
                              </a:lnTo>
                              <a:lnTo>
                                <a:pt x="0" y="60"/>
                              </a:lnTo>
                              <a:lnTo>
                                <a:pt x="0" y="50"/>
                              </a:lnTo>
                              <a:lnTo>
                                <a:pt x="4" y="32"/>
                              </a:lnTo>
                              <a:lnTo>
                                <a:pt x="7" y="25"/>
                              </a:lnTo>
                              <a:lnTo>
                                <a:pt x="4" y="13"/>
                              </a:lnTo>
                              <a:lnTo>
                                <a:pt x="11" y="13"/>
                              </a:lnTo>
                              <a:lnTo>
                                <a:pt x="21" y="9"/>
                              </a:lnTo>
                              <a:lnTo>
                                <a:pt x="32" y="0"/>
                              </a:lnTo>
                              <a:lnTo>
                                <a:pt x="59" y="6"/>
                              </a:lnTo>
                              <a:lnTo>
                                <a:pt x="59" y="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080" bIns="-28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0" name=""/>
                        <p:cNvSpPr/>
                        <p:nvPr/>
                      </p:nvSpPr>
                      <p:spPr>
                        <a:xfrm>
                          <a:off x="1608120" y="2345400"/>
                          <a:ext cx="7920" cy="6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" h="22">
                              <a:moveTo>
                                <a:pt x="24" y="6"/>
                              </a:moveTo>
                              <a:lnTo>
                                <a:pt x="24" y="16"/>
                              </a:lnTo>
                              <a:lnTo>
                                <a:pt x="17" y="19"/>
                              </a:lnTo>
                              <a:lnTo>
                                <a:pt x="7" y="22"/>
                              </a:lnTo>
                              <a:lnTo>
                                <a:pt x="3" y="13"/>
                              </a:lnTo>
                              <a:lnTo>
                                <a:pt x="0" y="3"/>
                              </a:lnTo>
                              <a:lnTo>
                                <a:pt x="10" y="0"/>
                              </a:lnTo>
                              <a:lnTo>
                                <a:pt x="20" y="0"/>
                              </a:lnTo>
                              <a:lnTo>
                                <a:pt x="24" y="6"/>
                              </a:lnTo>
                              <a:lnTo>
                                <a:pt x="24" y="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1" name=""/>
                        <p:cNvSpPr/>
                        <p:nvPr/>
                      </p:nvSpPr>
                      <p:spPr>
                        <a:xfrm>
                          <a:off x="1372320" y="2340360"/>
                          <a:ext cx="39960" cy="18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1" h="66">
                              <a:moveTo>
                                <a:pt x="90" y="6"/>
                              </a:moveTo>
                              <a:lnTo>
                                <a:pt x="118" y="19"/>
                              </a:lnTo>
                              <a:lnTo>
                                <a:pt x="118" y="32"/>
                              </a:lnTo>
                              <a:lnTo>
                                <a:pt x="121" y="41"/>
                              </a:lnTo>
                              <a:lnTo>
                                <a:pt x="121" y="54"/>
                              </a:lnTo>
                              <a:lnTo>
                                <a:pt x="118" y="60"/>
                              </a:lnTo>
                              <a:lnTo>
                                <a:pt x="111" y="66"/>
                              </a:lnTo>
                              <a:lnTo>
                                <a:pt x="97" y="66"/>
                              </a:lnTo>
                              <a:lnTo>
                                <a:pt x="111" y="57"/>
                              </a:lnTo>
                              <a:lnTo>
                                <a:pt x="118" y="50"/>
                              </a:lnTo>
                              <a:lnTo>
                                <a:pt x="118" y="44"/>
                              </a:lnTo>
                              <a:lnTo>
                                <a:pt x="107" y="38"/>
                              </a:lnTo>
                              <a:lnTo>
                                <a:pt x="97" y="35"/>
                              </a:lnTo>
                              <a:lnTo>
                                <a:pt x="90" y="41"/>
                              </a:lnTo>
                              <a:lnTo>
                                <a:pt x="83" y="44"/>
                              </a:lnTo>
                              <a:lnTo>
                                <a:pt x="76" y="50"/>
                              </a:lnTo>
                              <a:lnTo>
                                <a:pt x="66" y="57"/>
                              </a:lnTo>
                              <a:lnTo>
                                <a:pt x="45" y="60"/>
                              </a:lnTo>
                              <a:lnTo>
                                <a:pt x="24" y="57"/>
                              </a:lnTo>
                              <a:lnTo>
                                <a:pt x="4" y="54"/>
                              </a:lnTo>
                              <a:lnTo>
                                <a:pt x="0" y="44"/>
                              </a:lnTo>
                              <a:lnTo>
                                <a:pt x="4" y="38"/>
                              </a:lnTo>
                              <a:lnTo>
                                <a:pt x="14" y="28"/>
                              </a:lnTo>
                              <a:lnTo>
                                <a:pt x="24" y="22"/>
                              </a:lnTo>
                              <a:lnTo>
                                <a:pt x="35" y="13"/>
                              </a:lnTo>
                              <a:lnTo>
                                <a:pt x="45" y="6"/>
                              </a:lnTo>
                              <a:lnTo>
                                <a:pt x="56" y="3"/>
                              </a:lnTo>
                              <a:lnTo>
                                <a:pt x="69" y="0"/>
                              </a:lnTo>
                              <a:lnTo>
                                <a:pt x="80" y="0"/>
                              </a:lnTo>
                              <a:lnTo>
                                <a:pt x="90" y="0"/>
                              </a:lnTo>
                              <a:lnTo>
                                <a:pt x="90" y="6"/>
                              </a:lnTo>
                              <a:lnTo>
                                <a:pt x="90" y="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080" bIns="-28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2" name=""/>
                        <p:cNvSpPr/>
                        <p:nvPr/>
                      </p:nvSpPr>
                      <p:spPr>
                        <a:xfrm>
                          <a:off x="652680" y="2323080"/>
                          <a:ext cx="59040" cy="30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9" h="110">
                              <a:moveTo>
                                <a:pt x="172" y="6"/>
                              </a:moveTo>
                              <a:lnTo>
                                <a:pt x="172" y="0"/>
                              </a:lnTo>
                              <a:lnTo>
                                <a:pt x="179" y="6"/>
                              </a:lnTo>
                              <a:lnTo>
                                <a:pt x="179" y="13"/>
                              </a:lnTo>
                              <a:lnTo>
                                <a:pt x="179" y="38"/>
                              </a:lnTo>
                              <a:lnTo>
                                <a:pt x="176" y="63"/>
                              </a:lnTo>
                              <a:lnTo>
                                <a:pt x="172" y="85"/>
                              </a:lnTo>
                              <a:lnTo>
                                <a:pt x="165" y="104"/>
                              </a:lnTo>
                              <a:lnTo>
                                <a:pt x="124" y="110"/>
                              </a:lnTo>
                              <a:lnTo>
                                <a:pt x="103" y="110"/>
                              </a:lnTo>
                              <a:lnTo>
                                <a:pt x="83" y="110"/>
                              </a:lnTo>
                              <a:lnTo>
                                <a:pt x="65" y="107"/>
                              </a:lnTo>
                              <a:lnTo>
                                <a:pt x="45" y="107"/>
                              </a:lnTo>
                              <a:lnTo>
                                <a:pt x="27" y="104"/>
                              </a:lnTo>
                              <a:lnTo>
                                <a:pt x="7" y="98"/>
                              </a:lnTo>
                              <a:lnTo>
                                <a:pt x="7" y="76"/>
                              </a:lnTo>
                              <a:lnTo>
                                <a:pt x="3" y="54"/>
                              </a:lnTo>
                              <a:lnTo>
                                <a:pt x="3" y="32"/>
                              </a:lnTo>
                              <a:lnTo>
                                <a:pt x="0" y="6"/>
                              </a:lnTo>
                              <a:lnTo>
                                <a:pt x="0" y="0"/>
                              </a:lnTo>
                              <a:lnTo>
                                <a:pt x="0" y="0"/>
                              </a:lnTo>
                              <a:lnTo>
                                <a:pt x="51" y="0"/>
                              </a:lnTo>
                              <a:lnTo>
                                <a:pt x="58" y="6"/>
                              </a:lnTo>
                              <a:lnTo>
                                <a:pt x="65" y="6"/>
                              </a:lnTo>
                              <a:lnTo>
                                <a:pt x="110" y="6"/>
                              </a:lnTo>
                              <a:lnTo>
                                <a:pt x="145" y="3"/>
                              </a:lnTo>
                              <a:lnTo>
                                <a:pt x="162" y="6"/>
                              </a:lnTo>
                              <a:lnTo>
                                <a:pt x="172" y="6"/>
                              </a:lnTo>
                              <a:lnTo>
                                <a:pt x="172" y="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840" bIns="-158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3" name=""/>
                        <p:cNvSpPr/>
                        <p:nvPr/>
                      </p:nvSpPr>
                      <p:spPr>
                        <a:xfrm>
                          <a:off x="716400" y="2323080"/>
                          <a:ext cx="57240" cy="28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3" h="101">
                              <a:moveTo>
                                <a:pt x="131" y="22"/>
                              </a:moveTo>
                              <a:lnTo>
                                <a:pt x="138" y="22"/>
                              </a:lnTo>
                              <a:lnTo>
                                <a:pt x="145" y="25"/>
                              </a:lnTo>
                              <a:lnTo>
                                <a:pt x="149" y="41"/>
                              </a:lnTo>
                              <a:lnTo>
                                <a:pt x="152" y="47"/>
                              </a:lnTo>
                              <a:lnTo>
                                <a:pt x="155" y="54"/>
                              </a:lnTo>
                              <a:lnTo>
                                <a:pt x="162" y="57"/>
                              </a:lnTo>
                              <a:lnTo>
                                <a:pt x="173" y="60"/>
                              </a:lnTo>
                              <a:lnTo>
                                <a:pt x="166" y="92"/>
                              </a:lnTo>
                              <a:lnTo>
                                <a:pt x="149" y="92"/>
                              </a:lnTo>
                              <a:lnTo>
                                <a:pt x="128" y="92"/>
                              </a:lnTo>
                              <a:lnTo>
                                <a:pt x="86" y="95"/>
                              </a:lnTo>
                              <a:lnTo>
                                <a:pt x="66" y="98"/>
                              </a:lnTo>
                              <a:lnTo>
                                <a:pt x="45" y="101"/>
                              </a:lnTo>
                              <a:lnTo>
                                <a:pt x="24" y="101"/>
                              </a:lnTo>
                              <a:lnTo>
                                <a:pt x="0" y="98"/>
                              </a:lnTo>
                              <a:lnTo>
                                <a:pt x="0" y="88"/>
                              </a:lnTo>
                              <a:lnTo>
                                <a:pt x="0" y="79"/>
                              </a:lnTo>
                              <a:lnTo>
                                <a:pt x="3" y="54"/>
                              </a:lnTo>
                              <a:lnTo>
                                <a:pt x="10" y="29"/>
                              </a:lnTo>
                              <a:lnTo>
                                <a:pt x="10" y="16"/>
                              </a:lnTo>
                              <a:lnTo>
                                <a:pt x="7" y="0"/>
                              </a:lnTo>
                              <a:lnTo>
                                <a:pt x="24" y="0"/>
                              </a:lnTo>
                              <a:lnTo>
                                <a:pt x="38" y="0"/>
                              </a:lnTo>
                              <a:lnTo>
                                <a:pt x="69" y="10"/>
                              </a:lnTo>
                              <a:lnTo>
                                <a:pt x="100" y="16"/>
                              </a:lnTo>
                              <a:lnTo>
                                <a:pt x="114" y="19"/>
                              </a:lnTo>
                              <a:lnTo>
                                <a:pt x="131" y="22"/>
                              </a:lnTo>
                              <a:lnTo>
                                <a:pt x="131" y="2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360" bIns="-18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4" name=""/>
                        <p:cNvSpPr/>
                        <p:nvPr/>
                      </p:nvSpPr>
                      <p:spPr>
                        <a:xfrm>
                          <a:off x="1515240" y="2349360"/>
                          <a:ext cx="14760" cy="9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34">
                              <a:moveTo>
                                <a:pt x="45" y="22"/>
                              </a:moveTo>
                              <a:lnTo>
                                <a:pt x="35" y="22"/>
                              </a:lnTo>
                              <a:lnTo>
                                <a:pt x="24" y="28"/>
                              </a:lnTo>
                              <a:lnTo>
                                <a:pt x="14" y="31"/>
                              </a:lnTo>
                              <a:lnTo>
                                <a:pt x="3" y="34"/>
                              </a:lnTo>
                              <a:lnTo>
                                <a:pt x="0" y="22"/>
                              </a:lnTo>
                              <a:lnTo>
                                <a:pt x="0" y="9"/>
                              </a:lnTo>
                              <a:lnTo>
                                <a:pt x="7" y="0"/>
                              </a:lnTo>
                              <a:lnTo>
                                <a:pt x="17" y="0"/>
                              </a:lnTo>
                              <a:lnTo>
                                <a:pt x="28" y="9"/>
                              </a:lnTo>
                              <a:lnTo>
                                <a:pt x="35" y="15"/>
                              </a:lnTo>
                              <a:lnTo>
                                <a:pt x="45" y="22"/>
                              </a:lnTo>
                              <a:lnTo>
                                <a:pt x="45" y="2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5" name=""/>
                        <p:cNvSpPr/>
                        <p:nvPr/>
                      </p:nvSpPr>
                      <p:spPr>
                        <a:xfrm>
                          <a:off x="1576080" y="2350800"/>
                          <a:ext cx="11520" cy="8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5" h="31">
                              <a:moveTo>
                                <a:pt x="35" y="22"/>
                              </a:moveTo>
                              <a:lnTo>
                                <a:pt x="21" y="28"/>
                              </a:lnTo>
                              <a:lnTo>
                                <a:pt x="14" y="31"/>
                              </a:lnTo>
                              <a:lnTo>
                                <a:pt x="7" y="28"/>
                              </a:lnTo>
                              <a:lnTo>
                                <a:pt x="0" y="22"/>
                              </a:lnTo>
                              <a:lnTo>
                                <a:pt x="0" y="16"/>
                              </a:lnTo>
                              <a:lnTo>
                                <a:pt x="0" y="6"/>
                              </a:lnTo>
                              <a:lnTo>
                                <a:pt x="7" y="0"/>
                              </a:lnTo>
                              <a:lnTo>
                                <a:pt x="35" y="22"/>
                              </a:lnTo>
                              <a:lnTo>
                                <a:pt x="35" y="2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160" bIns="-38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6" name=""/>
                        <p:cNvSpPr/>
                        <p:nvPr/>
                      </p:nvSpPr>
                      <p:spPr>
                        <a:xfrm>
                          <a:off x="1606680" y="2359080"/>
                          <a:ext cx="16200" cy="9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" h="32">
                              <a:moveTo>
                                <a:pt x="49" y="0"/>
                              </a:moveTo>
                              <a:lnTo>
                                <a:pt x="42" y="10"/>
                              </a:lnTo>
                              <a:lnTo>
                                <a:pt x="31" y="19"/>
                              </a:lnTo>
                              <a:lnTo>
                                <a:pt x="21" y="29"/>
                              </a:lnTo>
                              <a:lnTo>
                                <a:pt x="7" y="32"/>
                              </a:lnTo>
                              <a:lnTo>
                                <a:pt x="0" y="19"/>
                              </a:lnTo>
                              <a:lnTo>
                                <a:pt x="0" y="7"/>
                              </a:lnTo>
                              <a:lnTo>
                                <a:pt x="21" y="3"/>
                              </a:lnTo>
                              <a:lnTo>
                                <a:pt x="35" y="0"/>
                              </a:lnTo>
                              <a:lnTo>
                                <a:pt x="49" y="0"/>
                              </a:lnTo>
                              <a:lnTo>
                                <a:pt x="49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800" bIns="-37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7" name=""/>
                        <p:cNvSpPr/>
                        <p:nvPr/>
                      </p:nvSpPr>
                      <p:spPr>
                        <a:xfrm>
                          <a:off x="755280" y="2357280"/>
                          <a:ext cx="443160" cy="19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40" h="69">
                              <a:moveTo>
                                <a:pt x="1340" y="63"/>
                              </a:moveTo>
                              <a:lnTo>
                                <a:pt x="1316" y="66"/>
                              </a:lnTo>
                              <a:lnTo>
                                <a:pt x="1268" y="69"/>
                              </a:lnTo>
                              <a:lnTo>
                                <a:pt x="1199" y="69"/>
                              </a:lnTo>
                              <a:lnTo>
                                <a:pt x="1119" y="69"/>
                              </a:lnTo>
                              <a:lnTo>
                                <a:pt x="950" y="69"/>
                              </a:lnTo>
                              <a:lnTo>
                                <a:pt x="809" y="69"/>
                              </a:lnTo>
                              <a:lnTo>
                                <a:pt x="757" y="69"/>
                              </a:lnTo>
                              <a:lnTo>
                                <a:pt x="705" y="69"/>
                              </a:lnTo>
                              <a:lnTo>
                                <a:pt x="653" y="69"/>
                              </a:lnTo>
                              <a:lnTo>
                                <a:pt x="626" y="66"/>
                              </a:lnTo>
                              <a:lnTo>
                                <a:pt x="601" y="63"/>
                              </a:lnTo>
                              <a:lnTo>
                                <a:pt x="574" y="66"/>
                              </a:lnTo>
                              <a:lnTo>
                                <a:pt x="539" y="66"/>
                              </a:lnTo>
                              <a:lnTo>
                                <a:pt x="456" y="66"/>
                              </a:lnTo>
                              <a:lnTo>
                                <a:pt x="363" y="66"/>
                              </a:lnTo>
                              <a:lnTo>
                                <a:pt x="266" y="63"/>
                              </a:lnTo>
                              <a:lnTo>
                                <a:pt x="170" y="60"/>
                              </a:lnTo>
                              <a:lnTo>
                                <a:pt x="90" y="57"/>
                              </a:lnTo>
                              <a:lnTo>
                                <a:pt x="32" y="54"/>
                              </a:lnTo>
                              <a:lnTo>
                                <a:pt x="0" y="50"/>
                              </a:lnTo>
                              <a:lnTo>
                                <a:pt x="0" y="38"/>
                              </a:lnTo>
                              <a:lnTo>
                                <a:pt x="0" y="22"/>
                              </a:lnTo>
                              <a:lnTo>
                                <a:pt x="4" y="16"/>
                              </a:lnTo>
                              <a:lnTo>
                                <a:pt x="7" y="9"/>
                              </a:lnTo>
                              <a:lnTo>
                                <a:pt x="11" y="3"/>
                              </a:lnTo>
                              <a:lnTo>
                                <a:pt x="21" y="0"/>
                              </a:lnTo>
                              <a:lnTo>
                                <a:pt x="49" y="6"/>
                              </a:lnTo>
                              <a:lnTo>
                                <a:pt x="49" y="13"/>
                              </a:lnTo>
                              <a:lnTo>
                                <a:pt x="52" y="19"/>
                              </a:lnTo>
                              <a:lnTo>
                                <a:pt x="63" y="25"/>
                              </a:lnTo>
                              <a:lnTo>
                                <a:pt x="80" y="28"/>
                              </a:lnTo>
                              <a:lnTo>
                                <a:pt x="108" y="28"/>
                              </a:lnTo>
                              <a:lnTo>
                                <a:pt x="149" y="31"/>
                              </a:lnTo>
                              <a:lnTo>
                                <a:pt x="197" y="35"/>
                              </a:lnTo>
                              <a:lnTo>
                                <a:pt x="256" y="35"/>
                              </a:lnTo>
                              <a:lnTo>
                                <a:pt x="318" y="35"/>
                              </a:lnTo>
                              <a:lnTo>
                                <a:pt x="387" y="38"/>
                              </a:lnTo>
                              <a:lnTo>
                                <a:pt x="460" y="38"/>
                              </a:lnTo>
                              <a:lnTo>
                                <a:pt x="536" y="38"/>
                              </a:lnTo>
                              <a:lnTo>
                                <a:pt x="612" y="38"/>
                              </a:lnTo>
                              <a:lnTo>
                                <a:pt x="684" y="38"/>
                              </a:lnTo>
                              <a:lnTo>
                                <a:pt x="757" y="35"/>
                              </a:lnTo>
                              <a:lnTo>
                                <a:pt x="826" y="35"/>
                              </a:lnTo>
                              <a:lnTo>
                                <a:pt x="888" y="31"/>
                              </a:lnTo>
                              <a:lnTo>
                                <a:pt x="940" y="28"/>
                              </a:lnTo>
                              <a:lnTo>
                                <a:pt x="988" y="25"/>
                              </a:lnTo>
                              <a:lnTo>
                                <a:pt x="1023" y="25"/>
                              </a:lnTo>
                              <a:lnTo>
                                <a:pt x="1064" y="25"/>
                              </a:lnTo>
                              <a:lnTo>
                                <a:pt x="1150" y="28"/>
                              </a:lnTo>
                              <a:lnTo>
                                <a:pt x="1188" y="28"/>
                              </a:lnTo>
                              <a:lnTo>
                                <a:pt x="1223" y="28"/>
                              </a:lnTo>
                              <a:lnTo>
                                <a:pt x="1244" y="28"/>
                              </a:lnTo>
                              <a:lnTo>
                                <a:pt x="1254" y="25"/>
                              </a:lnTo>
                              <a:lnTo>
                                <a:pt x="1278" y="25"/>
                              </a:lnTo>
                              <a:lnTo>
                                <a:pt x="1299" y="25"/>
                              </a:lnTo>
                              <a:lnTo>
                                <a:pt x="1320" y="19"/>
                              </a:lnTo>
                              <a:lnTo>
                                <a:pt x="1340" y="19"/>
                              </a:lnTo>
                              <a:lnTo>
                                <a:pt x="1340" y="63"/>
                              </a:lnTo>
                              <a:lnTo>
                                <a:pt x="1340" y="6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360" bIns="-27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8" name=""/>
                        <p:cNvSpPr/>
                        <p:nvPr/>
                      </p:nvSpPr>
                      <p:spPr>
                        <a:xfrm>
                          <a:off x="758880" y="2382120"/>
                          <a:ext cx="422640" cy="24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78" h="85">
                              <a:moveTo>
                                <a:pt x="1264" y="66"/>
                              </a:moveTo>
                              <a:lnTo>
                                <a:pt x="1264" y="76"/>
                              </a:lnTo>
                              <a:lnTo>
                                <a:pt x="1257" y="82"/>
                              </a:lnTo>
                              <a:lnTo>
                                <a:pt x="1233" y="82"/>
                              </a:lnTo>
                              <a:lnTo>
                                <a:pt x="1184" y="82"/>
                              </a:lnTo>
                              <a:lnTo>
                                <a:pt x="1115" y="82"/>
                              </a:lnTo>
                              <a:lnTo>
                                <a:pt x="1032" y="82"/>
                              </a:lnTo>
                              <a:lnTo>
                                <a:pt x="832" y="85"/>
                              </a:lnTo>
                              <a:lnTo>
                                <a:pt x="604" y="82"/>
                              </a:lnTo>
                              <a:lnTo>
                                <a:pt x="383" y="82"/>
                              </a:lnTo>
                              <a:lnTo>
                                <a:pt x="190" y="82"/>
                              </a:lnTo>
                              <a:lnTo>
                                <a:pt x="3" y="82"/>
                              </a:lnTo>
                              <a:lnTo>
                                <a:pt x="0" y="70"/>
                              </a:lnTo>
                              <a:lnTo>
                                <a:pt x="0" y="60"/>
                              </a:lnTo>
                              <a:lnTo>
                                <a:pt x="7" y="41"/>
                              </a:lnTo>
                              <a:lnTo>
                                <a:pt x="14" y="22"/>
                              </a:lnTo>
                              <a:lnTo>
                                <a:pt x="17" y="13"/>
                              </a:lnTo>
                              <a:lnTo>
                                <a:pt x="17" y="3"/>
                              </a:lnTo>
                              <a:lnTo>
                                <a:pt x="41" y="0"/>
                              </a:lnTo>
                              <a:lnTo>
                                <a:pt x="97" y="0"/>
                              </a:lnTo>
                              <a:lnTo>
                                <a:pt x="166" y="3"/>
                              </a:lnTo>
                              <a:lnTo>
                                <a:pt x="252" y="7"/>
                              </a:lnTo>
                              <a:lnTo>
                                <a:pt x="342" y="7"/>
                              </a:lnTo>
                              <a:lnTo>
                                <a:pt x="428" y="10"/>
                              </a:lnTo>
                              <a:lnTo>
                                <a:pt x="511" y="10"/>
                              </a:lnTo>
                              <a:lnTo>
                                <a:pt x="545" y="10"/>
                              </a:lnTo>
                              <a:lnTo>
                                <a:pt x="577" y="10"/>
                              </a:lnTo>
                              <a:lnTo>
                                <a:pt x="608" y="13"/>
                              </a:lnTo>
                              <a:lnTo>
                                <a:pt x="646" y="16"/>
                              </a:lnTo>
                              <a:lnTo>
                                <a:pt x="691" y="16"/>
                              </a:lnTo>
                              <a:lnTo>
                                <a:pt x="739" y="19"/>
                              </a:lnTo>
                              <a:lnTo>
                                <a:pt x="791" y="19"/>
                              </a:lnTo>
                              <a:lnTo>
                                <a:pt x="846" y="19"/>
                              </a:lnTo>
                              <a:lnTo>
                                <a:pt x="956" y="19"/>
                              </a:lnTo>
                              <a:lnTo>
                                <a:pt x="1063" y="19"/>
                              </a:lnTo>
                              <a:lnTo>
                                <a:pt x="1160" y="16"/>
                              </a:lnTo>
                              <a:lnTo>
                                <a:pt x="1233" y="16"/>
                              </a:lnTo>
                              <a:lnTo>
                                <a:pt x="1278" y="16"/>
                              </a:lnTo>
                              <a:lnTo>
                                <a:pt x="1274" y="32"/>
                              </a:lnTo>
                              <a:lnTo>
                                <a:pt x="1271" y="48"/>
                              </a:lnTo>
                              <a:lnTo>
                                <a:pt x="1267" y="60"/>
                              </a:lnTo>
                              <a:lnTo>
                                <a:pt x="1264" y="66"/>
                              </a:lnTo>
                              <a:lnTo>
                                <a:pt x="1264" y="6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2680" bIns="-22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9" name=""/>
                        <p:cNvSpPr/>
                        <p:nvPr/>
                      </p:nvSpPr>
                      <p:spPr>
                        <a:xfrm>
                          <a:off x="1333800" y="1411560"/>
                          <a:ext cx="269640" cy="179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15" h="634">
                              <a:moveTo>
                                <a:pt x="815" y="32"/>
                              </a:moveTo>
                              <a:lnTo>
                                <a:pt x="815" y="44"/>
                              </a:lnTo>
                              <a:lnTo>
                                <a:pt x="811" y="60"/>
                              </a:lnTo>
                              <a:lnTo>
                                <a:pt x="811" y="73"/>
                              </a:lnTo>
                              <a:lnTo>
                                <a:pt x="808" y="82"/>
                              </a:lnTo>
                              <a:lnTo>
                                <a:pt x="794" y="95"/>
                              </a:lnTo>
                              <a:lnTo>
                                <a:pt x="784" y="111"/>
                              </a:lnTo>
                              <a:lnTo>
                                <a:pt x="777" y="123"/>
                              </a:lnTo>
                              <a:lnTo>
                                <a:pt x="767" y="136"/>
                              </a:lnTo>
                              <a:lnTo>
                                <a:pt x="767" y="148"/>
                              </a:lnTo>
                              <a:lnTo>
                                <a:pt x="763" y="155"/>
                              </a:lnTo>
                              <a:lnTo>
                                <a:pt x="760" y="161"/>
                              </a:lnTo>
                              <a:lnTo>
                                <a:pt x="760" y="167"/>
                              </a:lnTo>
                              <a:lnTo>
                                <a:pt x="753" y="193"/>
                              </a:lnTo>
                              <a:lnTo>
                                <a:pt x="746" y="218"/>
                              </a:lnTo>
                              <a:lnTo>
                                <a:pt x="735" y="243"/>
                              </a:lnTo>
                              <a:lnTo>
                                <a:pt x="732" y="265"/>
                              </a:lnTo>
                              <a:lnTo>
                                <a:pt x="732" y="281"/>
                              </a:lnTo>
                              <a:lnTo>
                                <a:pt x="732" y="287"/>
                              </a:lnTo>
                              <a:lnTo>
                                <a:pt x="732" y="293"/>
                              </a:lnTo>
                              <a:lnTo>
                                <a:pt x="732" y="322"/>
                              </a:lnTo>
                              <a:lnTo>
                                <a:pt x="732" y="347"/>
                              </a:lnTo>
                              <a:lnTo>
                                <a:pt x="735" y="369"/>
                              </a:lnTo>
                              <a:lnTo>
                                <a:pt x="746" y="391"/>
                              </a:lnTo>
                              <a:lnTo>
                                <a:pt x="749" y="404"/>
                              </a:lnTo>
                              <a:lnTo>
                                <a:pt x="753" y="413"/>
                              </a:lnTo>
                              <a:lnTo>
                                <a:pt x="763" y="432"/>
                              </a:lnTo>
                              <a:lnTo>
                                <a:pt x="780" y="445"/>
                              </a:lnTo>
                              <a:lnTo>
                                <a:pt x="794" y="457"/>
                              </a:lnTo>
                              <a:lnTo>
                                <a:pt x="801" y="495"/>
                              </a:lnTo>
                              <a:lnTo>
                                <a:pt x="780" y="492"/>
                              </a:lnTo>
                              <a:lnTo>
                                <a:pt x="753" y="489"/>
                              </a:lnTo>
                              <a:lnTo>
                                <a:pt x="708" y="489"/>
                              </a:lnTo>
                              <a:lnTo>
                                <a:pt x="694" y="495"/>
                              </a:lnTo>
                              <a:lnTo>
                                <a:pt x="680" y="502"/>
                              </a:lnTo>
                              <a:lnTo>
                                <a:pt x="659" y="517"/>
                              </a:lnTo>
                              <a:lnTo>
                                <a:pt x="639" y="536"/>
                              </a:lnTo>
                              <a:lnTo>
                                <a:pt x="618" y="558"/>
                              </a:lnTo>
                              <a:lnTo>
                                <a:pt x="597" y="577"/>
                              </a:lnTo>
                              <a:lnTo>
                                <a:pt x="577" y="596"/>
                              </a:lnTo>
                              <a:lnTo>
                                <a:pt x="566" y="603"/>
                              </a:lnTo>
                              <a:lnTo>
                                <a:pt x="552" y="609"/>
                              </a:lnTo>
                              <a:lnTo>
                                <a:pt x="539" y="615"/>
                              </a:lnTo>
                              <a:lnTo>
                                <a:pt x="521" y="621"/>
                              </a:lnTo>
                              <a:lnTo>
                                <a:pt x="497" y="625"/>
                              </a:lnTo>
                              <a:lnTo>
                                <a:pt x="483" y="625"/>
                              </a:lnTo>
                              <a:lnTo>
                                <a:pt x="473" y="628"/>
                              </a:lnTo>
                              <a:lnTo>
                                <a:pt x="473" y="634"/>
                              </a:lnTo>
                              <a:lnTo>
                                <a:pt x="438" y="634"/>
                              </a:lnTo>
                              <a:lnTo>
                                <a:pt x="404" y="631"/>
                              </a:lnTo>
                              <a:lnTo>
                                <a:pt x="369" y="628"/>
                              </a:lnTo>
                              <a:lnTo>
                                <a:pt x="338" y="625"/>
                              </a:lnTo>
                              <a:lnTo>
                                <a:pt x="307" y="621"/>
                              </a:lnTo>
                              <a:lnTo>
                                <a:pt x="276" y="615"/>
                              </a:lnTo>
                              <a:lnTo>
                                <a:pt x="245" y="606"/>
                              </a:lnTo>
                              <a:lnTo>
                                <a:pt x="214" y="593"/>
                              </a:lnTo>
                              <a:lnTo>
                                <a:pt x="193" y="587"/>
                              </a:lnTo>
                              <a:lnTo>
                                <a:pt x="169" y="584"/>
                              </a:lnTo>
                              <a:lnTo>
                                <a:pt x="148" y="584"/>
                              </a:lnTo>
                              <a:lnTo>
                                <a:pt x="124" y="584"/>
                              </a:lnTo>
                              <a:lnTo>
                                <a:pt x="83" y="593"/>
                              </a:lnTo>
                              <a:lnTo>
                                <a:pt x="62" y="596"/>
                              </a:lnTo>
                              <a:lnTo>
                                <a:pt x="41" y="599"/>
                              </a:lnTo>
                              <a:lnTo>
                                <a:pt x="14" y="621"/>
                              </a:lnTo>
                              <a:lnTo>
                                <a:pt x="14" y="621"/>
                              </a:lnTo>
                              <a:lnTo>
                                <a:pt x="3" y="618"/>
                              </a:lnTo>
                              <a:lnTo>
                                <a:pt x="0" y="612"/>
                              </a:lnTo>
                              <a:lnTo>
                                <a:pt x="0" y="593"/>
                              </a:lnTo>
                              <a:lnTo>
                                <a:pt x="3" y="571"/>
                              </a:lnTo>
                              <a:lnTo>
                                <a:pt x="10" y="555"/>
                              </a:lnTo>
                              <a:lnTo>
                                <a:pt x="14" y="546"/>
                              </a:lnTo>
                              <a:lnTo>
                                <a:pt x="21" y="543"/>
                              </a:lnTo>
                              <a:lnTo>
                                <a:pt x="41" y="514"/>
                              </a:lnTo>
                              <a:lnTo>
                                <a:pt x="52" y="502"/>
                              </a:lnTo>
                              <a:lnTo>
                                <a:pt x="65" y="489"/>
                              </a:lnTo>
                              <a:lnTo>
                                <a:pt x="72" y="470"/>
                              </a:lnTo>
                              <a:lnTo>
                                <a:pt x="79" y="454"/>
                              </a:lnTo>
                              <a:lnTo>
                                <a:pt x="86" y="435"/>
                              </a:lnTo>
                              <a:lnTo>
                                <a:pt x="90" y="416"/>
                              </a:lnTo>
                              <a:lnTo>
                                <a:pt x="93" y="394"/>
                              </a:lnTo>
                              <a:lnTo>
                                <a:pt x="93" y="375"/>
                              </a:lnTo>
                              <a:lnTo>
                                <a:pt x="97" y="334"/>
                              </a:lnTo>
                              <a:lnTo>
                                <a:pt x="97" y="290"/>
                              </a:lnTo>
                              <a:lnTo>
                                <a:pt x="97" y="249"/>
                              </a:lnTo>
                              <a:lnTo>
                                <a:pt x="100" y="208"/>
                              </a:lnTo>
                              <a:lnTo>
                                <a:pt x="103" y="189"/>
                              </a:lnTo>
                              <a:lnTo>
                                <a:pt x="107" y="167"/>
                              </a:lnTo>
                              <a:lnTo>
                                <a:pt x="117" y="139"/>
                              </a:lnTo>
                              <a:lnTo>
                                <a:pt x="124" y="111"/>
                              </a:lnTo>
                              <a:lnTo>
                                <a:pt x="135" y="82"/>
                              </a:lnTo>
                              <a:lnTo>
                                <a:pt x="141" y="70"/>
                              </a:lnTo>
                              <a:lnTo>
                                <a:pt x="148" y="57"/>
                              </a:lnTo>
                              <a:lnTo>
                                <a:pt x="166" y="57"/>
                              </a:lnTo>
                              <a:lnTo>
                                <a:pt x="169" y="70"/>
                              </a:lnTo>
                              <a:lnTo>
                                <a:pt x="169" y="79"/>
                              </a:lnTo>
                              <a:lnTo>
                                <a:pt x="173" y="89"/>
                              </a:lnTo>
                              <a:lnTo>
                                <a:pt x="176" y="101"/>
                              </a:lnTo>
                              <a:lnTo>
                                <a:pt x="183" y="114"/>
                              </a:lnTo>
                              <a:lnTo>
                                <a:pt x="193" y="123"/>
                              </a:lnTo>
                              <a:lnTo>
                                <a:pt x="204" y="133"/>
                              </a:lnTo>
                              <a:lnTo>
                                <a:pt x="228" y="148"/>
                              </a:lnTo>
                              <a:lnTo>
                                <a:pt x="252" y="161"/>
                              </a:lnTo>
                              <a:lnTo>
                                <a:pt x="259" y="167"/>
                              </a:lnTo>
                              <a:lnTo>
                                <a:pt x="269" y="171"/>
                              </a:lnTo>
                              <a:lnTo>
                                <a:pt x="283" y="171"/>
                              </a:lnTo>
                              <a:lnTo>
                                <a:pt x="293" y="174"/>
                              </a:lnTo>
                              <a:lnTo>
                                <a:pt x="311" y="171"/>
                              </a:lnTo>
                              <a:lnTo>
                                <a:pt x="331" y="167"/>
                              </a:lnTo>
                              <a:lnTo>
                                <a:pt x="352" y="167"/>
                              </a:lnTo>
                              <a:lnTo>
                                <a:pt x="362" y="164"/>
                              </a:lnTo>
                              <a:lnTo>
                                <a:pt x="373" y="161"/>
                              </a:lnTo>
                              <a:lnTo>
                                <a:pt x="380" y="161"/>
                              </a:lnTo>
                              <a:lnTo>
                                <a:pt x="387" y="155"/>
                              </a:lnTo>
                              <a:lnTo>
                                <a:pt x="397" y="155"/>
                              </a:lnTo>
                              <a:lnTo>
                                <a:pt x="407" y="152"/>
                              </a:lnTo>
                              <a:lnTo>
                                <a:pt x="421" y="142"/>
                              </a:lnTo>
                              <a:lnTo>
                                <a:pt x="435" y="136"/>
                              </a:lnTo>
                              <a:lnTo>
                                <a:pt x="449" y="130"/>
                              </a:lnTo>
                              <a:lnTo>
                                <a:pt x="476" y="107"/>
                              </a:lnTo>
                              <a:lnTo>
                                <a:pt x="504" y="85"/>
                              </a:lnTo>
                              <a:lnTo>
                                <a:pt x="528" y="63"/>
                              </a:lnTo>
                              <a:lnTo>
                                <a:pt x="542" y="60"/>
                              </a:lnTo>
                              <a:lnTo>
                                <a:pt x="552" y="54"/>
                              </a:lnTo>
                              <a:lnTo>
                                <a:pt x="563" y="44"/>
                              </a:lnTo>
                              <a:lnTo>
                                <a:pt x="573" y="38"/>
                              </a:lnTo>
                              <a:lnTo>
                                <a:pt x="594" y="25"/>
                              </a:lnTo>
                              <a:lnTo>
                                <a:pt x="618" y="16"/>
                              </a:lnTo>
                              <a:lnTo>
                                <a:pt x="642" y="7"/>
                              </a:lnTo>
                              <a:lnTo>
                                <a:pt x="666" y="3"/>
                              </a:lnTo>
                              <a:lnTo>
                                <a:pt x="691" y="0"/>
                              </a:lnTo>
                              <a:lnTo>
                                <a:pt x="718" y="0"/>
                              </a:lnTo>
                              <a:lnTo>
                                <a:pt x="742" y="3"/>
                              </a:lnTo>
                              <a:lnTo>
                                <a:pt x="767" y="13"/>
                              </a:lnTo>
                              <a:lnTo>
                                <a:pt x="791" y="22"/>
                              </a:lnTo>
                              <a:lnTo>
                                <a:pt x="815" y="32"/>
                              </a:lnTo>
                              <a:lnTo>
                                <a:pt x="815" y="32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0" name=""/>
                        <p:cNvSpPr/>
                        <p:nvPr/>
                      </p:nvSpPr>
                      <p:spPr>
                        <a:xfrm>
                          <a:off x="1373760" y="1461240"/>
                          <a:ext cx="9684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3" h="151">
                              <a:moveTo>
                                <a:pt x="286" y="66"/>
                              </a:moveTo>
                              <a:lnTo>
                                <a:pt x="293" y="132"/>
                              </a:lnTo>
                              <a:lnTo>
                                <a:pt x="279" y="138"/>
                              </a:lnTo>
                              <a:lnTo>
                                <a:pt x="262" y="145"/>
                              </a:lnTo>
                              <a:lnTo>
                                <a:pt x="241" y="148"/>
                              </a:lnTo>
                              <a:lnTo>
                                <a:pt x="214" y="151"/>
                              </a:lnTo>
                              <a:lnTo>
                                <a:pt x="197" y="151"/>
                              </a:lnTo>
                              <a:lnTo>
                                <a:pt x="179" y="151"/>
                              </a:lnTo>
                              <a:lnTo>
                                <a:pt x="162" y="148"/>
                              </a:lnTo>
                              <a:lnTo>
                                <a:pt x="141" y="145"/>
                              </a:lnTo>
                              <a:lnTo>
                                <a:pt x="121" y="138"/>
                              </a:lnTo>
                              <a:lnTo>
                                <a:pt x="100" y="132"/>
                              </a:lnTo>
                              <a:lnTo>
                                <a:pt x="79" y="123"/>
                              </a:lnTo>
                              <a:lnTo>
                                <a:pt x="62" y="113"/>
                              </a:lnTo>
                              <a:lnTo>
                                <a:pt x="34" y="101"/>
                              </a:lnTo>
                              <a:lnTo>
                                <a:pt x="17" y="85"/>
                              </a:lnTo>
                              <a:lnTo>
                                <a:pt x="0" y="66"/>
                              </a:lnTo>
                              <a:lnTo>
                                <a:pt x="3" y="50"/>
                              </a:lnTo>
                              <a:lnTo>
                                <a:pt x="3" y="34"/>
                              </a:lnTo>
                              <a:lnTo>
                                <a:pt x="14" y="0"/>
                              </a:lnTo>
                              <a:lnTo>
                                <a:pt x="38" y="25"/>
                              </a:lnTo>
                              <a:lnTo>
                                <a:pt x="62" y="44"/>
                              </a:lnTo>
                              <a:lnTo>
                                <a:pt x="86" y="60"/>
                              </a:lnTo>
                              <a:lnTo>
                                <a:pt x="110" y="69"/>
                              </a:lnTo>
                              <a:lnTo>
                                <a:pt x="134" y="79"/>
                              </a:lnTo>
                              <a:lnTo>
                                <a:pt x="159" y="82"/>
                              </a:lnTo>
                              <a:lnTo>
                                <a:pt x="179" y="85"/>
                              </a:lnTo>
                              <a:lnTo>
                                <a:pt x="200" y="85"/>
                              </a:lnTo>
                              <a:lnTo>
                                <a:pt x="217" y="85"/>
                              </a:lnTo>
                              <a:lnTo>
                                <a:pt x="235" y="82"/>
                              </a:lnTo>
                              <a:lnTo>
                                <a:pt x="262" y="75"/>
                              </a:lnTo>
                              <a:lnTo>
                                <a:pt x="279" y="69"/>
                              </a:lnTo>
                              <a:lnTo>
                                <a:pt x="286" y="66"/>
                              </a:lnTo>
                              <a:lnTo>
                                <a:pt x="286" y="66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1" name=""/>
                        <p:cNvSpPr/>
                        <p:nvPr/>
                      </p:nvSpPr>
                      <p:spPr>
                        <a:xfrm>
                          <a:off x="1373760" y="1489680"/>
                          <a:ext cx="196560" cy="47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94" h="167">
                              <a:moveTo>
                                <a:pt x="594" y="6"/>
                              </a:moveTo>
                              <a:lnTo>
                                <a:pt x="587" y="50"/>
                              </a:lnTo>
                              <a:lnTo>
                                <a:pt x="566" y="53"/>
                              </a:lnTo>
                              <a:lnTo>
                                <a:pt x="545" y="50"/>
                              </a:lnTo>
                              <a:lnTo>
                                <a:pt x="528" y="50"/>
                              </a:lnTo>
                              <a:lnTo>
                                <a:pt x="518" y="53"/>
                              </a:lnTo>
                              <a:lnTo>
                                <a:pt x="511" y="56"/>
                              </a:lnTo>
                              <a:lnTo>
                                <a:pt x="487" y="66"/>
                              </a:lnTo>
                              <a:lnTo>
                                <a:pt x="459" y="75"/>
                              </a:lnTo>
                              <a:lnTo>
                                <a:pt x="397" y="107"/>
                              </a:lnTo>
                              <a:lnTo>
                                <a:pt x="362" y="123"/>
                              </a:lnTo>
                              <a:lnTo>
                                <a:pt x="324" y="138"/>
                              </a:lnTo>
                              <a:lnTo>
                                <a:pt x="290" y="151"/>
                              </a:lnTo>
                              <a:lnTo>
                                <a:pt x="269" y="157"/>
                              </a:lnTo>
                              <a:lnTo>
                                <a:pt x="252" y="160"/>
                              </a:lnTo>
                              <a:lnTo>
                                <a:pt x="235" y="164"/>
                              </a:lnTo>
                              <a:lnTo>
                                <a:pt x="214" y="167"/>
                              </a:lnTo>
                              <a:lnTo>
                                <a:pt x="197" y="167"/>
                              </a:lnTo>
                              <a:lnTo>
                                <a:pt x="176" y="167"/>
                              </a:lnTo>
                              <a:lnTo>
                                <a:pt x="138" y="167"/>
                              </a:lnTo>
                              <a:lnTo>
                                <a:pt x="100" y="160"/>
                              </a:lnTo>
                              <a:lnTo>
                                <a:pt x="69" y="154"/>
                              </a:lnTo>
                              <a:lnTo>
                                <a:pt x="38" y="145"/>
                              </a:lnTo>
                              <a:lnTo>
                                <a:pt x="17" y="138"/>
                              </a:lnTo>
                              <a:lnTo>
                                <a:pt x="0" y="129"/>
                              </a:lnTo>
                              <a:lnTo>
                                <a:pt x="0" y="69"/>
                              </a:lnTo>
                              <a:lnTo>
                                <a:pt x="24" y="78"/>
                              </a:lnTo>
                              <a:lnTo>
                                <a:pt x="52" y="88"/>
                              </a:lnTo>
                              <a:lnTo>
                                <a:pt x="83" y="94"/>
                              </a:lnTo>
                              <a:lnTo>
                                <a:pt x="117" y="100"/>
                              </a:lnTo>
                              <a:lnTo>
                                <a:pt x="155" y="107"/>
                              </a:lnTo>
                              <a:lnTo>
                                <a:pt x="193" y="110"/>
                              </a:lnTo>
                              <a:lnTo>
                                <a:pt x="214" y="110"/>
                              </a:lnTo>
                              <a:lnTo>
                                <a:pt x="235" y="107"/>
                              </a:lnTo>
                              <a:lnTo>
                                <a:pt x="255" y="107"/>
                              </a:lnTo>
                              <a:lnTo>
                                <a:pt x="273" y="104"/>
                              </a:lnTo>
                              <a:lnTo>
                                <a:pt x="300" y="97"/>
                              </a:lnTo>
                              <a:lnTo>
                                <a:pt x="328" y="88"/>
                              </a:lnTo>
                              <a:lnTo>
                                <a:pt x="349" y="78"/>
                              </a:lnTo>
                              <a:lnTo>
                                <a:pt x="373" y="69"/>
                              </a:lnTo>
                              <a:lnTo>
                                <a:pt x="411" y="50"/>
                              </a:lnTo>
                              <a:lnTo>
                                <a:pt x="445" y="28"/>
                              </a:lnTo>
                              <a:lnTo>
                                <a:pt x="463" y="22"/>
                              </a:lnTo>
                              <a:lnTo>
                                <a:pt x="476" y="12"/>
                              </a:lnTo>
                              <a:lnTo>
                                <a:pt x="494" y="6"/>
                              </a:lnTo>
                              <a:lnTo>
                                <a:pt x="511" y="3"/>
                              </a:lnTo>
                              <a:lnTo>
                                <a:pt x="532" y="0"/>
                              </a:lnTo>
                              <a:lnTo>
                                <a:pt x="552" y="0"/>
                              </a:lnTo>
                              <a:lnTo>
                                <a:pt x="573" y="0"/>
                              </a:lnTo>
                              <a:lnTo>
                                <a:pt x="594" y="6"/>
                              </a:lnTo>
                              <a:lnTo>
                                <a:pt x="594" y="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60" bIns="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2" name=""/>
                        <p:cNvSpPr/>
                        <p:nvPr/>
                      </p:nvSpPr>
                      <p:spPr>
                        <a:xfrm>
                          <a:off x="1351800" y="1521000"/>
                          <a:ext cx="220680" cy="46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67" h="164">
                              <a:moveTo>
                                <a:pt x="667" y="50"/>
                              </a:moveTo>
                              <a:lnTo>
                                <a:pt x="646" y="57"/>
                              </a:lnTo>
                              <a:lnTo>
                                <a:pt x="622" y="60"/>
                              </a:lnTo>
                              <a:lnTo>
                                <a:pt x="604" y="63"/>
                              </a:lnTo>
                              <a:lnTo>
                                <a:pt x="584" y="69"/>
                              </a:lnTo>
                              <a:lnTo>
                                <a:pt x="556" y="79"/>
                              </a:lnTo>
                              <a:lnTo>
                                <a:pt x="525" y="91"/>
                              </a:lnTo>
                              <a:lnTo>
                                <a:pt x="497" y="104"/>
                              </a:lnTo>
                              <a:lnTo>
                                <a:pt x="480" y="117"/>
                              </a:lnTo>
                              <a:lnTo>
                                <a:pt x="466" y="126"/>
                              </a:lnTo>
                              <a:lnTo>
                                <a:pt x="456" y="136"/>
                              </a:lnTo>
                              <a:lnTo>
                                <a:pt x="439" y="145"/>
                              </a:lnTo>
                              <a:lnTo>
                                <a:pt x="415" y="154"/>
                              </a:lnTo>
                              <a:lnTo>
                                <a:pt x="401" y="158"/>
                              </a:lnTo>
                              <a:lnTo>
                                <a:pt x="380" y="161"/>
                              </a:lnTo>
                              <a:lnTo>
                                <a:pt x="359" y="161"/>
                              </a:lnTo>
                              <a:lnTo>
                                <a:pt x="332" y="164"/>
                              </a:lnTo>
                              <a:lnTo>
                                <a:pt x="307" y="164"/>
                              </a:lnTo>
                              <a:lnTo>
                                <a:pt x="280" y="161"/>
                              </a:lnTo>
                              <a:lnTo>
                                <a:pt x="249" y="154"/>
                              </a:lnTo>
                              <a:lnTo>
                                <a:pt x="221" y="148"/>
                              </a:lnTo>
                              <a:lnTo>
                                <a:pt x="190" y="142"/>
                              </a:lnTo>
                              <a:lnTo>
                                <a:pt x="162" y="136"/>
                              </a:lnTo>
                              <a:lnTo>
                                <a:pt x="135" y="132"/>
                              </a:lnTo>
                              <a:lnTo>
                                <a:pt x="111" y="129"/>
                              </a:lnTo>
                              <a:lnTo>
                                <a:pt x="86" y="132"/>
                              </a:lnTo>
                              <a:lnTo>
                                <a:pt x="66" y="132"/>
                              </a:lnTo>
                              <a:lnTo>
                                <a:pt x="48" y="136"/>
                              </a:lnTo>
                              <a:lnTo>
                                <a:pt x="38" y="142"/>
                              </a:lnTo>
                              <a:lnTo>
                                <a:pt x="17" y="148"/>
                              </a:lnTo>
                              <a:lnTo>
                                <a:pt x="0" y="158"/>
                              </a:lnTo>
                              <a:lnTo>
                                <a:pt x="14" y="142"/>
                              </a:lnTo>
                              <a:lnTo>
                                <a:pt x="31" y="117"/>
                              </a:lnTo>
                              <a:lnTo>
                                <a:pt x="48" y="95"/>
                              </a:lnTo>
                              <a:lnTo>
                                <a:pt x="59" y="79"/>
                              </a:lnTo>
                              <a:lnTo>
                                <a:pt x="69" y="82"/>
                              </a:lnTo>
                              <a:lnTo>
                                <a:pt x="93" y="88"/>
                              </a:lnTo>
                              <a:lnTo>
                                <a:pt x="128" y="98"/>
                              </a:lnTo>
                              <a:lnTo>
                                <a:pt x="152" y="104"/>
                              </a:lnTo>
                              <a:lnTo>
                                <a:pt x="176" y="107"/>
                              </a:lnTo>
                              <a:lnTo>
                                <a:pt x="204" y="110"/>
                              </a:lnTo>
                              <a:lnTo>
                                <a:pt x="232" y="113"/>
                              </a:lnTo>
                              <a:lnTo>
                                <a:pt x="263" y="113"/>
                              </a:lnTo>
                              <a:lnTo>
                                <a:pt x="294" y="113"/>
                              </a:lnTo>
                              <a:lnTo>
                                <a:pt x="325" y="110"/>
                              </a:lnTo>
                              <a:lnTo>
                                <a:pt x="356" y="104"/>
                              </a:lnTo>
                              <a:lnTo>
                                <a:pt x="387" y="98"/>
                              </a:lnTo>
                              <a:lnTo>
                                <a:pt x="418" y="85"/>
                              </a:lnTo>
                              <a:lnTo>
                                <a:pt x="453" y="66"/>
                              </a:lnTo>
                              <a:lnTo>
                                <a:pt x="484" y="50"/>
                              </a:lnTo>
                              <a:lnTo>
                                <a:pt x="511" y="35"/>
                              </a:lnTo>
                              <a:lnTo>
                                <a:pt x="539" y="22"/>
                              </a:lnTo>
                              <a:lnTo>
                                <a:pt x="563" y="13"/>
                              </a:lnTo>
                              <a:lnTo>
                                <a:pt x="587" y="3"/>
                              </a:lnTo>
                              <a:lnTo>
                                <a:pt x="615" y="0"/>
                              </a:lnTo>
                              <a:lnTo>
                                <a:pt x="632" y="0"/>
                              </a:lnTo>
                              <a:lnTo>
                                <a:pt x="646" y="0"/>
                              </a:lnTo>
                              <a:lnTo>
                                <a:pt x="649" y="13"/>
                              </a:lnTo>
                              <a:lnTo>
                                <a:pt x="656" y="31"/>
                              </a:lnTo>
                              <a:lnTo>
                                <a:pt x="667" y="50"/>
                              </a:lnTo>
                              <a:lnTo>
                                <a:pt x="667" y="5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0" bIns="-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3" name=""/>
                        <p:cNvSpPr/>
                        <p:nvPr/>
                      </p:nvSpPr>
                      <p:spPr>
                        <a:xfrm>
                          <a:off x="1485720" y="1446480"/>
                          <a:ext cx="30600" cy="20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3" h="73">
                              <a:moveTo>
                                <a:pt x="69" y="66"/>
                              </a:moveTo>
                              <a:lnTo>
                                <a:pt x="42" y="60"/>
                              </a:lnTo>
                              <a:lnTo>
                                <a:pt x="7" y="73"/>
                              </a:lnTo>
                              <a:lnTo>
                                <a:pt x="21" y="44"/>
                              </a:lnTo>
                              <a:lnTo>
                                <a:pt x="0" y="32"/>
                              </a:lnTo>
                              <a:lnTo>
                                <a:pt x="35" y="25"/>
                              </a:lnTo>
                              <a:lnTo>
                                <a:pt x="55" y="0"/>
                              </a:lnTo>
                              <a:lnTo>
                                <a:pt x="62" y="19"/>
                              </a:lnTo>
                              <a:lnTo>
                                <a:pt x="93" y="19"/>
                              </a:lnTo>
                              <a:lnTo>
                                <a:pt x="69" y="38"/>
                              </a:lnTo>
                              <a:lnTo>
                                <a:pt x="69" y="66"/>
                              </a:lnTo>
                              <a:lnTo>
                                <a:pt x="69" y="6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280" bIns="-26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4" name=""/>
                        <p:cNvSpPr/>
                        <p:nvPr/>
                      </p:nvSpPr>
                      <p:spPr>
                        <a:xfrm>
                          <a:off x="1518480" y="1429560"/>
                          <a:ext cx="3096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4" h="79">
                              <a:moveTo>
                                <a:pt x="62" y="73"/>
                              </a:moveTo>
                              <a:lnTo>
                                <a:pt x="35" y="60"/>
                              </a:lnTo>
                              <a:lnTo>
                                <a:pt x="7" y="79"/>
                              </a:lnTo>
                              <a:lnTo>
                                <a:pt x="14" y="48"/>
                              </a:lnTo>
                              <a:lnTo>
                                <a:pt x="0" y="35"/>
                              </a:lnTo>
                              <a:lnTo>
                                <a:pt x="28" y="26"/>
                              </a:lnTo>
                              <a:lnTo>
                                <a:pt x="49" y="0"/>
                              </a:lnTo>
                              <a:lnTo>
                                <a:pt x="56" y="19"/>
                              </a:lnTo>
                              <a:lnTo>
                                <a:pt x="94" y="19"/>
                              </a:lnTo>
                              <a:lnTo>
                                <a:pt x="62" y="48"/>
                              </a:lnTo>
                              <a:lnTo>
                                <a:pt x="62" y="73"/>
                              </a:lnTo>
                              <a:lnTo>
                                <a:pt x="62" y="7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5" name=""/>
                        <p:cNvSpPr/>
                        <p:nvPr/>
                      </p:nvSpPr>
                      <p:spPr>
                        <a:xfrm>
                          <a:off x="1551600" y="1422360"/>
                          <a:ext cx="3096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4" h="79">
                              <a:moveTo>
                                <a:pt x="63" y="73"/>
                              </a:moveTo>
                              <a:lnTo>
                                <a:pt x="42" y="60"/>
                              </a:lnTo>
                              <a:lnTo>
                                <a:pt x="7" y="79"/>
                              </a:lnTo>
                              <a:lnTo>
                                <a:pt x="21" y="51"/>
                              </a:lnTo>
                              <a:lnTo>
                                <a:pt x="0" y="32"/>
                              </a:lnTo>
                              <a:lnTo>
                                <a:pt x="35" y="25"/>
                              </a:lnTo>
                              <a:lnTo>
                                <a:pt x="56" y="0"/>
                              </a:lnTo>
                              <a:lnTo>
                                <a:pt x="63" y="25"/>
                              </a:lnTo>
                              <a:lnTo>
                                <a:pt x="94" y="25"/>
                              </a:lnTo>
                              <a:lnTo>
                                <a:pt x="63" y="44"/>
                              </a:lnTo>
                              <a:lnTo>
                                <a:pt x="63" y="73"/>
                              </a:lnTo>
                              <a:lnTo>
                                <a:pt x="63" y="7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6" name=""/>
                        <p:cNvSpPr/>
                        <p:nvPr/>
                      </p:nvSpPr>
                      <p:spPr>
                        <a:xfrm>
                          <a:off x="1542960" y="1450440"/>
                          <a:ext cx="2952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0" h="79">
                              <a:moveTo>
                                <a:pt x="69" y="72"/>
                              </a:moveTo>
                              <a:lnTo>
                                <a:pt x="41" y="66"/>
                              </a:lnTo>
                              <a:lnTo>
                                <a:pt x="7" y="79"/>
                              </a:lnTo>
                              <a:lnTo>
                                <a:pt x="21" y="53"/>
                              </a:lnTo>
                              <a:lnTo>
                                <a:pt x="0" y="38"/>
                              </a:lnTo>
                              <a:lnTo>
                                <a:pt x="34" y="25"/>
                              </a:lnTo>
                              <a:lnTo>
                                <a:pt x="55" y="0"/>
                              </a:lnTo>
                              <a:lnTo>
                                <a:pt x="62" y="25"/>
                              </a:lnTo>
                              <a:lnTo>
                                <a:pt x="90" y="25"/>
                              </a:lnTo>
                              <a:lnTo>
                                <a:pt x="69" y="47"/>
                              </a:lnTo>
                              <a:lnTo>
                                <a:pt x="69" y="72"/>
                              </a:lnTo>
                              <a:lnTo>
                                <a:pt x="69" y="7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7" name=""/>
                        <p:cNvSpPr/>
                        <p:nvPr/>
                      </p:nvSpPr>
                      <p:spPr>
                        <a:xfrm>
                          <a:off x="1505880" y="1459080"/>
                          <a:ext cx="3096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4" h="79">
                              <a:moveTo>
                                <a:pt x="66" y="73"/>
                              </a:moveTo>
                              <a:lnTo>
                                <a:pt x="38" y="60"/>
                              </a:lnTo>
                              <a:lnTo>
                                <a:pt x="7" y="79"/>
                              </a:lnTo>
                              <a:lnTo>
                                <a:pt x="25" y="54"/>
                              </a:lnTo>
                              <a:lnTo>
                                <a:pt x="0" y="35"/>
                              </a:lnTo>
                              <a:lnTo>
                                <a:pt x="38" y="29"/>
                              </a:lnTo>
                              <a:lnTo>
                                <a:pt x="52" y="0"/>
                              </a:lnTo>
                              <a:lnTo>
                                <a:pt x="66" y="29"/>
                              </a:lnTo>
                              <a:lnTo>
                                <a:pt x="94" y="29"/>
                              </a:lnTo>
                              <a:lnTo>
                                <a:pt x="66" y="48"/>
                              </a:lnTo>
                              <a:lnTo>
                                <a:pt x="66" y="73"/>
                              </a:lnTo>
                              <a:lnTo>
                                <a:pt x="66" y="7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8" name=""/>
                        <p:cNvSpPr/>
                        <p:nvPr/>
                      </p:nvSpPr>
                      <p:spPr>
                        <a:xfrm>
                          <a:off x="1483200" y="1476360"/>
                          <a:ext cx="3276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0" h="79">
                              <a:moveTo>
                                <a:pt x="69" y="73"/>
                              </a:moveTo>
                              <a:lnTo>
                                <a:pt x="42" y="60"/>
                              </a:lnTo>
                              <a:lnTo>
                                <a:pt x="7" y="79"/>
                              </a:lnTo>
                              <a:lnTo>
                                <a:pt x="21" y="48"/>
                              </a:lnTo>
                              <a:lnTo>
                                <a:pt x="0" y="32"/>
                              </a:lnTo>
                              <a:lnTo>
                                <a:pt x="35" y="26"/>
                              </a:lnTo>
                              <a:lnTo>
                                <a:pt x="56" y="0"/>
                              </a:lnTo>
                              <a:lnTo>
                                <a:pt x="62" y="19"/>
                              </a:lnTo>
                              <a:lnTo>
                                <a:pt x="100" y="19"/>
                              </a:lnTo>
                              <a:lnTo>
                                <a:pt x="69" y="48"/>
                              </a:lnTo>
                              <a:lnTo>
                                <a:pt x="69" y="73"/>
                              </a:lnTo>
                              <a:lnTo>
                                <a:pt x="69" y="7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9" name=""/>
                        <p:cNvSpPr/>
                        <p:nvPr/>
                      </p:nvSpPr>
                      <p:spPr>
                        <a:xfrm>
                          <a:off x="572400" y="1607760"/>
                          <a:ext cx="405720" cy="367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26" h="1296">
                              <a:moveTo>
                                <a:pt x="1226" y="183"/>
                              </a:moveTo>
                              <a:lnTo>
                                <a:pt x="1226" y="161"/>
                              </a:lnTo>
                              <a:lnTo>
                                <a:pt x="1226" y="135"/>
                              </a:lnTo>
                              <a:lnTo>
                                <a:pt x="1226" y="91"/>
                              </a:lnTo>
                              <a:lnTo>
                                <a:pt x="1222" y="44"/>
                              </a:lnTo>
                              <a:lnTo>
                                <a:pt x="1222" y="22"/>
                              </a:lnTo>
                              <a:lnTo>
                                <a:pt x="1226" y="0"/>
                              </a:lnTo>
                              <a:lnTo>
                                <a:pt x="1191" y="25"/>
                              </a:lnTo>
                              <a:lnTo>
                                <a:pt x="1164" y="53"/>
                              </a:lnTo>
                              <a:lnTo>
                                <a:pt x="1133" y="79"/>
                              </a:lnTo>
                              <a:lnTo>
                                <a:pt x="1105" y="107"/>
                              </a:lnTo>
                              <a:lnTo>
                                <a:pt x="1046" y="161"/>
                              </a:lnTo>
                              <a:lnTo>
                                <a:pt x="1019" y="189"/>
                              </a:lnTo>
                              <a:lnTo>
                                <a:pt x="988" y="217"/>
                              </a:lnTo>
                              <a:lnTo>
                                <a:pt x="988" y="224"/>
                              </a:lnTo>
                              <a:lnTo>
                                <a:pt x="977" y="227"/>
                              </a:lnTo>
                              <a:lnTo>
                                <a:pt x="967" y="233"/>
                              </a:lnTo>
                              <a:lnTo>
                                <a:pt x="960" y="239"/>
                              </a:lnTo>
                              <a:lnTo>
                                <a:pt x="953" y="249"/>
                              </a:lnTo>
                              <a:lnTo>
                                <a:pt x="925" y="268"/>
                              </a:lnTo>
                              <a:lnTo>
                                <a:pt x="905" y="287"/>
                              </a:lnTo>
                              <a:lnTo>
                                <a:pt x="881" y="309"/>
                              </a:lnTo>
                              <a:lnTo>
                                <a:pt x="860" y="331"/>
                              </a:lnTo>
                              <a:lnTo>
                                <a:pt x="822" y="378"/>
                              </a:lnTo>
                              <a:lnTo>
                                <a:pt x="801" y="400"/>
                              </a:lnTo>
                              <a:lnTo>
                                <a:pt x="780" y="419"/>
                              </a:lnTo>
                              <a:lnTo>
                                <a:pt x="746" y="454"/>
                              </a:lnTo>
                              <a:lnTo>
                                <a:pt x="666" y="533"/>
                              </a:lnTo>
                              <a:lnTo>
                                <a:pt x="622" y="577"/>
                              </a:lnTo>
                              <a:lnTo>
                                <a:pt x="580" y="615"/>
                              </a:lnTo>
                              <a:lnTo>
                                <a:pt x="546" y="649"/>
                              </a:lnTo>
                              <a:lnTo>
                                <a:pt x="521" y="668"/>
                              </a:lnTo>
                              <a:lnTo>
                                <a:pt x="480" y="716"/>
                              </a:lnTo>
                              <a:lnTo>
                                <a:pt x="435" y="763"/>
                              </a:lnTo>
                              <a:lnTo>
                                <a:pt x="394" y="810"/>
                              </a:lnTo>
                              <a:lnTo>
                                <a:pt x="349" y="857"/>
                              </a:lnTo>
                              <a:lnTo>
                                <a:pt x="342" y="864"/>
                              </a:lnTo>
                              <a:lnTo>
                                <a:pt x="338" y="867"/>
                              </a:lnTo>
                              <a:lnTo>
                                <a:pt x="335" y="870"/>
                              </a:lnTo>
                              <a:lnTo>
                                <a:pt x="304" y="905"/>
                              </a:lnTo>
                              <a:lnTo>
                                <a:pt x="269" y="939"/>
                              </a:lnTo>
                              <a:lnTo>
                                <a:pt x="235" y="974"/>
                              </a:lnTo>
                              <a:lnTo>
                                <a:pt x="217" y="990"/>
                              </a:lnTo>
                              <a:lnTo>
                                <a:pt x="200" y="1002"/>
                              </a:lnTo>
                              <a:lnTo>
                                <a:pt x="176" y="1025"/>
                              </a:lnTo>
                              <a:lnTo>
                                <a:pt x="152" y="1050"/>
                              </a:lnTo>
                              <a:lnTo>
                                <a:pt x="128" y="1072"/>
                              </a:lnTo>
                              <a:lnTo>
                                <a:pt x="104" y="1091"/>
                              </a:lnTo>
                              <a:lnTo>
                                <a:pt x="52" y="1132"/>
                              </a:lnTo>
                              <a:lnTo>
                                <a:pt x="28" y="1154"/>
                              </a:lnTo>
                              <a:lnTo>
                                <a:pt x="7" y="1173"/>
                              </a:lnTo>
                              <a:lnTo>
                                <a:pt x="0" y="1173"/>
                              </a:lnTo>
                              <a:lnTo>
                                <a:pt x="0" y="1185"/>
                              </a:lnTo>
                              <a:lnTo>
                                <a:pt x="3" y="1201"/>
                              </a:lnTo>
                              <a:lnTo>
                                <a:pt x="14" y="1230"/>
                              </a:lnTo>
                              <a:lnTo>
                                <a:pt x="17" y="1245"/>
                              </a:lnTo>
                              <a:lnTo>
                                <a:pt x="21" y="1261"/>
                              </a:lnTo>
                              <a:lnTo>
                                <a:pt x="21" y="1274"/>
                              </a:lnTo>
                              <a:lnTo>
                                <a:pt x="21" y="1289"/>
                              </a:lnTo>
                              <a:lnTo>
                                <a:pt x="34" y="1296"/>
                              </a:lnTo>
                              <a:lnTo>
                                <a:pt x="48" y="1283"/>
                              </a:lnTo>
                              <a:lnTo>
                                <a:pt x="62" y="1267"/>
                              </a:lnTo>
                              <a:lnTo>
                                <a:pt x="76" y="1255"/>
                              </a:lnTo>
                              <a:lnTo>
                                <a:pt x="93" y="1245"/>
                              </a:lnTo>
                              <a:lnTo>
                                <a:pt x="121" y="1214"/>
                              </a:lnTo>
                              <a:lnTo>
                                <a:pt x="148" y="1185"/>
                              </a:lnTo>
                              <a:lnTo>
                                <a:pt x="179" y="1154"/>
                              </a:lnTo>
                              <a:lnTo>
                                <a:pt x="214" y="1125"/>
                              </a:lnTo>
                              <a:lnTo>
                                <a:pt x="245" y="1097"/>
                              </a:lnTo>
                              <a:lnTo>
                                <a:pt x="280" y="1069"/>
                              </a:lnTo>
                              <a:lnTo>
                                <a:pt x="314" y="1040"/>
                              </a:lnTo>
                              <a:lnTo>
                                <a:pt x="349" y="1015"/>
                              </a:lnTo>
                              <a:lnTo>
                                <a:pt x="345" y="1002"/>
                              </a:lnTo>
                              <a:lnTo>
                                <a:pt x="345" y="993"/>
                              </a:lnTo>
                              <a:lnTo>
                                <a:pt x="342" y="984"/>
                              </a:lnTo>
                              <a:lnTo>
                                <a:pt x="356" y="971"/>
                              </a:lnTo>
                              <a:lnTo>
                                <a:pt x="373" y="965"/>
                              </a:lnTo>
                              <a:lnTo>
                                <a:pt x="390" y="965"/>
                              </a:lnTo>
                              <a:lnTo>
                                <a:pt x="407" y="961"/>
                              </a:lnTo>
                              <a:lnTo>
                                <a:pt x="421" y="946"/>
                              </a:lnTo>
                              <a:lnTo>
                                <a:pt x="432" y="939"/>
                              </a:lnTo>
                              <a:lnTo>
                                <a:pt x="442" y="936"/>
                              </a:lnTo>
                              <a:lnTo>
                                <a:pt x="445" y="927"/>
                              </a:lnTo>
                              <a:lnTo>
                                <a:pt x="456" y="920"/>
                              </a:lnTo>
                              <a:lnTo>
                                <a:pt x="463" y="914"/>
                              </a:lnTo>
                              <a:lnTo>
                                <a:pt x="466" y="911"/>
                              </a:lnTo>
                              <a:lnTo>
                                <a:pt x="497" y="883"/>
                              </a:lnTo>
                              <a:lnTo>
                                <a:pt x="532" y="854"/>
                              </a:lnTo>
                              <a:lnTo>
                                <a:pt x="587" y="798"/>
                              </a:lnTo>
                              <a:lnTo>
                                <a:pt x="618" y="772"/>
                              </a:lnTo>
                              <a:lnTo>
                                <a:pt x="646" y="744"/>
                              </a:lnTo>
                              <a:lnTo>
                                <a:pt x="673" y="719"/>
                              </a:lnTo>
                              <a:lnTo>
                                <a:pt x="701" y="693"/>
                              </a:lnTo>
                              <a:lnTo>
                                <a:pt x="701" y="687"/>
                              </a:lnTo>
                              <a:lnTo>
                                <a:pt x="756" y="634"/>
                              </a:lnTo>
                              <a:lnTo>
                                <a:pt x="815" y="577"/>
                              </a:lnTo>
                              <a:lnTo>
                                <a:pt x="870" y="523"/>
                              </a:lnTo>
                              <a:lnTo>
                                <a:pt x="898" y="498"/>
                              </a:lnTo>
                              <a:lnTo>
                                <a:pt x="922" y="473"/>
                              </a:lnTo>
                              <a:lnTo>
                                <a:pt x="922" y="473"/>
                              </a:lnTo>
                              <a:lnTo>
                                <a:pt x="963" y="435"/>
                              </a:lnTo>
                              <a:lnTo>
                                <a:pt x="1001" y="400"/>
                              </a:lnTo>
                              <a:lnTo>
                                <a:pt x="1081" y="328"/>
                              </a:lnTo>
                              <a:lnTo>
                                <a:pt x="1119" y="293"/>
                              </a:lnTo>
                              <a:lnTo>
                                <a:pt x="1157" y="255"/>
                              </a:lnTo>
                              <a:lnTo>
                                <a:pt x="1191" y="221"/>
                              </a:lnTo>
                              <a:lnTo>
                                <a:pt x="1226" y="183"/>
                              </a:lnTo>
                              <a:lnTo>
                                <a:pt x="1226" y="183"/>
                              </a:lnTo>
                              <a:lnTo>
                                <a:pt x="1226" y="18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933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0" name=""/>
                        <p:cNvSpPr/>
                        <p:nvPr/>
                      </p:nvSpPr>
                      <p:spPr>
                        <a:xfrm>
                          <a:off x="742680" y="1725120"/>
                          <a:ext cx="26280" cy="18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0" h="66">
                              <a:moveTo>
                                <a:pt x="45" y="0"/>
                              </a:moveTo>
                              <a:lnTo>
                                <a:pt x="28" y="0"/>
                              </a:lnTo>
                              <a:lnTo>
                                <a:pt x="14" y="3"/>
                              </a:lnTo>
                              <a:lnTo>
                                <a:pt x="0" y="6"/>
                              </a:lnTo>
                              <a:lnTo>
                                <a:pt x="7" y="25"/>
                              </a:lnTo>
                              <a:lnTo>
                                <a:pt x="21" y="41"/>
                              </a:lnTo>
                              <a:lnTo>
                                <a:pt x="35" y="53"/>
                              </a:lnTo>
                              <a:lnTo>
                                <a:pt x="52" y="66"/>
                              </a:lnTo>
                              <a:lnTo>
                                <a:pt x="63" y="47"/>
                              </a:lnTo>
                              <a:lnTo>
                                <a:pt x="73" y="28"/>
                              </a:lnTo>
                              <a:lnTo>
                                <a:pt x="80" y="12"/>
                              </a:lnTo>
                              <a:lnTo>
                                <a:pt x="66" y="3"/>
                              </a:lnTo>
                              <a:lnTo>
                                <a:pt x="56" y="0"/>
                              </a:lnTo>
                              <a:lnTo>
                                <a:pt x="45" y="0"/>
                              </a:lnTo>
                              <a:lnTo>
                                <a:pt x="45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9cc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080" bIns="-28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1" name=""/>
                        <p:cNvSpPr/>
                        <p:nvPr/>
                      </p:nvSpPr>
                      <p:spPr>
                        <a:xfrm>
                          <a:off x="782640" y="2340360"/>
                          <a:ext cx="392040" cy="21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85" h="76">
                              <a:moveTo>
                                <a:pt x="11" y="0"/>
                              </a:moveTo>
                              <a:lnTo>
                                <a:pt x="1171" y="0"/>
                              </a:lnTo>
                              <a:lnTo>
                                <a:pt x="1185" y="66"/>
                              </a:lnTo>
                              <a:lnTo>
                                <a:pt x="1099" y="63"/>
                              </a:lnTo>
                              <a:lnTo>
                                <a:pt x="1009" y="63"/>
                              </a:lnTo>
                              <a:lnTo>
                                <a:pt x="905" y="63"/>
                              </a:lnTo>
                              <a:lnTo>
                                <a:pt x="795" y="63"/>
                              </a:lnTo>
                              <a:lnTo>
                                <a:pt x="746" y="63"/>
                              </a:lnTo>
                              <a:lnTo>
                                <a:pt x="698" y="66"/>
                              </a:lnTo>
                              <a:lnTo>
                                <a:pt x="656" y="66"/>
                              </a:lnTo>
                              <a:lnTo>
                                <a:pt x="619" y="69"/>
                              </a:lnTo>
                              <a:lnTo>
                                <a:pt x="594" y="69"/>
                              </a:lnTo>
                              <a:lnTo>
                                <a:pt x="574" y="73"/>
                              </a:lnTo>
                              <a:lnTo>
                                <a:pt x="543" y="73"/>
                              </a:lnTo>
                              <a:lnTo>
                                <a:pt x="491" y="76"/>
                              </a:lnTo>
                              <a:lnTo>
                                <a:pt x="429" y="76"/>
                              </a:lnTo>
                              <a:lnTo>
                                <a:pt x="359" y="76"/>
                              </a:lnTo>
                              <a:lnTo>
                                <a:pt x="290" y="76"/>
                              </a:lnTo>
                              <a:lnTo>
                                <a:pt x="225" y="76"/>
                              </a:lnTo>
                              <a:lnTo>
                                <a:pt x="173" y="73"/>
                              </a:lnTo>
                              <a:lnTo>
                                <a:pt x="138" y="73"/>
                              </a:lnTo>
                              <a:lnTo>
                                <a:pt x="111" y="69"/>
                              </a:lnTo>
                              <a:lnTo>
                                <a:pt x="87" y="66"/>
                              </a:lnTo>
                              <a:lnTo>
                                <a:pt x="42" y="63"/>
                              </a:lnTo>
                              <a:lnTo>
                                <a:pt x="14" y="63"/>
                              </a:lnTo>
                              <a:lnTo>
                                <a:pt x="0" y="66"/>
                              </a:lnTo>
                              <a:lnTo>
                                <a:pt x="11" y="0"/>
                              </a:lnTo>
                              <a:lnTo>
                                <a:pt x="1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560" bIns="-25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2" name=""/>
                        <p:cNvSpPr/>
                        <p:nvPr/>
                      </p:nvSpPr>
                      <p:spPr>
                        <a:xfrm>
                          <a:off x="1110600" y="1963440"/>
                          <a:ext cx="30960" cy="314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4" h="1109">
                              <a:moveTo>
                                <a:pt x="0" y="0"/>
                              </a:moveTo>
                              <a:lnTo>
                                <a:pt x="94" y="85"/>
                              </a:lnTo>
                              <a:lnTo>
                                <a:pt x="87" y="145"/>
                              </a:lnTo>
                              <a:lnTo>
                                <a:pt x="83" y="208"/>
                              </a:lnTo>
                              <a:lnTo>
                                <a:pt x="76" y="280"/>
                              </a:lnTo>
                              <a:lnTo>
                                <a:pt x="73" y="359"/>
                              </a:lnTo>
                              <a:lnTo>
                                <a:pt x="70" y="397"/>
                              </a:lnTo>
                              <a:lnTo>
                                <a:pt x="70" y="435"/>
                              </a:lnTo>
                              <a:lnTo>
                                <a:pt x="70" y="469"/>
                              </a:lnTo>
                              <a:lnTo>
                                <a:pt x="70" y="498"/>
                              </a:lnTo>
                              <a:lnTo>
                                <a:pt x="70" y="523"/>
                              </a:lnTo>
                              <a:lnTo>
                                <a:pt x="73" y="542"/>
                              </a:lnTo>
                              <a:lnTo>
                                <a:pt x="73" y="589"/>
                              </a:lnTo>
                              <a:lnTo>
                                <a:pt x="76" y="665"/>
                              </a:lnTo>
                              <a:lnTo>
                                <a:pt x="80" y="756"/>
                              </a:lnTo>
                              <a:lnTo>
                                <a:pt x="83" y="854"/>
                              </a:lnTo>
                              <a:lnTo>
                                <a:pt x="90" y="1027"/>
                              </a:lnTo>
                              <a:lnTo>
                                <a:pt x="94" y="1103"/>
                              </a:lnTo>
                              <a:lnTo>
                                <a:pt x="21" y="1109"/>
                              </a:lnTo>
                              <a:lnTo>
                                <a:pt x="21" y="974"/>
                              </a:lnTo>
                              <a:lnTo>
                                <a:pt x="21" y="832"/>
                              </a:lnTo>
                              <a:lnTo>
                                <a:pt x="21" y="671"/>
                              </a:lnTo>
                              <a:lnTo>
                                <a:pt x="21" y="504"/>
                              </a:lnTo>
                              <a:lnTo>
                                <a:pt x="18" y="356"/>
                              </a:lnTo>
                              <a:lnTo>
                                <a:pt x="18" y="296"/>
                              </a:lnTo>
                              <a:lnTo>
                                <a:pt x="18" y="249"/>
                              </a:lnTo>
                              <a:lnTo>
                                <a:pt x="14" y="214"/>
                              </a:lnTo>
                              <a:lnTo>
                                <a:pt x="14" y="195"/>
                              </a:lnTo>
                              <a:lnTo>
                                <a:pt x="11" y="176"/>
                              </a:lnTo>
                              <a:lnTo>
                                <a:pt x="7" y="148"/>
                              </a:lnTo>
                              <a:lnTo>
                                <a:pt x="4" y="116"/>
                              </a:lnTo>
                              <a:lnTo>
                                <a:pt x="0" y="82"/>
                              </a:lnTo>
                              <a:lnTo>
                                <a:pt x="0" y="25"/>
                              </a:lnTo>
                              <a:lnTo>
                                <a:pt x="0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933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3" name=""/>
                        <p:cNvSpPr/>
                        <p:nvPr/>
                      </p:nvSpPr>
                      <p:spPr>
                        <a:xfrm>
                          <a:off x="809280" y="1947960"/>
                          <a:ext cx="35280" cy="334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7" h="1179">
                              <a:moveTo>
                                <a:pt x="93" y="0"/>
                              </a:moveTo>
                              <a:lnTo>
                                <a:pt x="76" y="22"/>
                              </a:lnTo>
                              <a:lnTo>
                                <a:pt x="62" y="41"/>
                              </a:lnTo>
                              <a:lnTo>
                                <a:pt x="45" y="60"/>
                              </a:lnTo>
                              <a:lnTo>
                                <a:pt x="17" y="91"/>
                              </a:lnTo>
                              <a:lnTo>
                                <a:pt x="0" y="110"/>
                              </a:lnTo>
                              <a:lnTo>
                                <a:pt x="3" y="612"/>
                              </a:lnTo>
                              <a:lnTo>
                                <a:pt x="7" y="962"/>
                              </a:lnTo>
                              <a:lnTo>
                                <a:pt x="7" y="1132"/>
                              </a:lnTo>
                              <a:lnTo>
                                <a:pt x="7" y="1151"/>
                              </a:lnTo>
                              <a:lnTo>
                                <a:pt x="3" y="1163"/>
                              </a:lnTo>
                              <a:lnTo>
                                <a:pt x="0" y="1179"/>
                              </a:lnTo>
                              <a:lnTo>
                                <a:pt x="107" y="1179"/>
                              </a:lnTo>
                              <a:lnTo>
                                <a:pt x="93" y="0"/>
                              </a:lnTo>
                              <a:lnTo>
                                <a:pt x="93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933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4" name=""/>
                        <p:cNvSpPr/>
                        <p:nvPr/>
                      </p:nvSpPr>
                      <p:spPr>
                        <a:xfrm>
                          <a:off x="1291320" y="2210400"/>
                          <a:ext cx="383760" cy="29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60" h="104">
                              <a:moveTo>
                                <a:pt x="14" y="19"/>
                              </a:moveTo>
                              <a:lnTo>
                                <a:pt x="62" y="19"/>
                              </a:lnTo>
                              <a:lnTo>
                                <a:pt x="169" y="19"/>
                              </a:lnTo>
                              <a:lnTo>
                                <a:pt x="228" y="19"/>
                              </a:lnTo>
                              <a:lnTo>
                                <a:pt x="283" y="22"/>
                              </a:lnTo>
                              <a:lnTo>
                                <a:pt x="328" y="22"/>
                              </a:lnTo>
                              <a:lnTo>
                                <a:pt x="356" y="25"/>
                              </a:lnTo>
                              <a:lnTo>
                                <a:pt x="380" y="25"/>
                              </a:lnTo>
                              <a:lnTo>
                                <a:pt x="421" y="22"/>
                              </a:lnTo>
                              <a:lnTo>
                                <a:pt x="525" y="16"/>
                              </a:lnTo>
                              <a:lnTo>
                                <a:pt x="584" y="12"/>
                              </a:lnTo>
                              <a:lnTo>
                                <a:pt x="639" y="12"/>
                              </a:lnTo>
                              <a:lnTo>
                                <a:pt x="687" y="9"/>
                              </a:lnTo>
                              <a:lnTo>
                                <a:pt x="722" y="12"/>
                              </a:lnTo>
                              <a:lnTo>
                                <a:pt x="763" y="12"/>
                              </a:lnTo>
                              <a:lnTo>
                                <a:pt x="825" y="12"/>
                              </a:lnTo>
                              <a:lnTo>
                                <a:pt x="895" y="9"/>
                              </a:lnTo>
                              <a:lnTo>
                                <a:pt x="971" y="9"/>
                              </a:lnTo>
                              <a:lnTo>
                                <a:pt x="1102" y="3"/>
                              </a:lnTo>
                              <a:lnTo>
                                <a:pt x="1160" y="0"/>
                              </a:lnTo>
                              <a:lnTo>
                                <a:pt x="1160" y="85"/>
                              </a:lnTo>
                              <a:lnTo>
                                <a:pt x="1022" y="91"/>
                              </a:lnTo>
                              <a:lnTo>
                                <a:pt x="922" y="94"/>
                              </a:lnTo>
                              <a:lnTo>
                                <a:pt x="867" y="98"/>
                              </a:lnTo>
                              <a:lnTo>
                                <a:pt x="846" y="98"/>
                              </a:lnTo>
                              <a:lnTo>
                                <a:pt x="829" y="101"/>
                              </a:lnTo>
                              <a:lnTo>
                                <a:pt x="808" y="104"/>
                              </a:lnTo>
                              <a:lnTo>
                                <a:pt x="808" y="94"/>
                              </a:lnTo>
                              <a:lnTo>
                                <a:pt x="801" y="88"/>
                              </a:lnTo>
                              <a:lnTo>
                                <a:pt x="794" y="85"/>
                              </a:lnTo>
                              <a:lnTo>
                                <a:pt x="787" y="85"/>
                              </a:lnTo>
                              <a:lnTo>
                                <a:pt x="767" y="88"/>
                              </a:lnTo>
                              <a:lnTo>
                                <a:pt x="746" y="94"/>
                              </a:lnTo>
                              <a:lnTo>
                                <a:pt x="729" y="104"/>
                              </a:lnTo>
                              <a:lnTo>
                                <a:pt x="715" y="101"/>
                              </a:lnTo>
                              <a:lnTo>
                                <a:pt x="701" y="98"/>
                              </a:lnTo>
                              <a:lnTo>
                                <a:pt x="687" y="98"/>
                              </a:lnTo>
                              <a:lnTo>
                                <a:pt x="636" y="98"/>
                              </a:lnTo>
                              <a:lnTo>
                                <a:pt x="587" y="98"/>
                              </a:lnTo>
                              <a:lnTo>
                                <a:pt x="480" y="94"/>
                              </a:lnTo>
                              <a:lnTo>
                                <a:pt x="421" y="94"/>
                              </a:lnTo>
                              <a:lnTo>
                                <a:pt x="366" y="94"/>
                              </a:lnTo>
                              <a:lnTo>
                                <a:pt x="325" y="94"/>
                              </a:lnTo>
                              <a:lnTo>
                                <a:pt x="301" y="98"/>
                              </a:lnTo>
                              <a:lnTo>
                                <a:pt x="235" y="94"/>
                              </a:lnTo>
                              <a:lnTo>
                                <a:pt x="131" y="91"/>
                              </a:lnTo>
                              <a:lnTo>
                                <a:pt x="0" y="85"/>
                              </a:lnTo>
                              <a:lnTo>
                                <a:pt x="14" y="19"/>
                              </a:lnTo>
                              <a:lnTo>
                                <a:pt x="14" y="1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933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7280" bIns="-17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5" name=""/>
                        <p:cNvSpPr/>
                        <p:nvPr/>
                      </p:nvSpPr>
                      <p:spPr>
                        <a:xfrm>
                          <a:off x="868320" y="2076120"/>
                          <a:ext cx="107280" cy="236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5" h="832">
                              <a:moveTo>
                                <a:pt x="173" y="766"/>
                              </a:moveTo>
                              <a:lnTo>
                                <a:pt x="176" y="747"/>
                              </a:lnTo>
                              <a:lnTo>
                                <a:pt x="180" y="725"/>
                              </a:lnTo>
                              <a:lnTo>
                                <a:pt x="183" y="706"/>
                              </a:lnTo>
                              <a:lnTo>
                                <a:pt x="187" y="687"/>
                              </a:lnTo>
                              <a:lnTo>
                                <a:pt x="166" y="694"/>
                              </a:lnTo>
                              <a:lnTo>
                                <a:pt x="152" y="694"/>
                              </a:lnTo>
                              <a:lnTo>
                                <a:pt x="152" y="753"/>
                              </a:lnTo>
                              <a:lnTo>
                                <a:pt x="166" y="785"/>
                              </a:lnTo>
                              <a:lnTo>
                                <a:pt x="166" y="794"/>
                              </a:lnTo>
                              <a:lnTo>
                                <a:pt x="163" y="810"/>
                              </a:lnTo>
                              <a:lnTo>
                                <a:pt x="156" y="817"/>
                              </a:lnTo>
                              <a:lnTo>
                                <a:pt x="152" y="826"/>
                              </a:lnTo>
                              <a:lnTo>
                                <a:pt x="142" y="829"/>
                              </a:lnTo>
                              <a:lnTo>
                                <a:pt x="132" y="832"/>
                              </a:lnTo>
                              <a:lnTo>
                                <a:pt x="114" y="826"/>
                              </a:lnTo>
                              <a:lnTo>
                                <a:pt x="94" y="817"/>
                              </a:lnTo>
                              <a:lnTo>
                                <a:pt x="80" y="804"/>
                              </a:lnTo>
                              <a:lnTo>
                                <a:pt x="73" y="794"/>
                              </a:lnTo>
                              <a:lnTo>
                                <a:pt x="66" y="785"/>
                              </a:lnTo>
                              <a:lnTo>
                                <a:pt x="66" y="769"/>
                              </a:lnTo>
                              <a:lnTo>
                                <a:pt x="66" y="750"/>
                              </a:lnTo>
                              <a:lnTo>
                                <a:pt x="69" y="731"/>
                              </a:lnTo>
                              <a:lnTo>
                                <a:pt x="73" y="722"/>
                              </a:lnTo>
                              <a:lnTo>
                                <a:pt x="80" y="712"/>
                              </a:lnTo>
                              <a:lnTo>
                                <a:pt x="80" y="687"/>
                              </a:lnTo>
                              <a:lnTo>
                                <a:pt x="56" y="681"/>
                              </a:lnTo>
                              <a:lnTo>
                                <a:pt x="31" y="671"/>
                              </a:lnTo>
                              <a:lnTo>
                                <a:pt x="21" y="665"/>
                              </a:lnTo>
                              <a:lnTo>
                                <a:pt x="11" y="659"/>
                              </a:lnTo>
                              <a:lnTo>
                                <a:pt x="4" y="653"/>
                              </a:lnTo>
                              <a:lnTo>
                                <a:pt x="0" y="643"/>
                              </a:lnTo>
                              <a:lnTo>
                                <a:pt x="0" y="608"/>
                              </a:lnTo>
                              <a:lnTo>
                                <a:pt x="4" y="593"/>
                              </a:lnTo>
                              <a:lnTo>
                                <a:pt x="7" y="577"/>
                              </a:lnTo>
                              <a:lnTo>
                                <a:pt x="14" y="561"/>
                              </a:lnTo>
                              <a:lnTo>
                                <a:pt x="18" y="545"/>
                              </a:lnTo>
                              <a:lnTo>
                                <a:pt x="25" y="508"/>
                              </a:lnTo>
                              <a:lnTo>
                                <a:pt x="28" y="489"/>
                              </a:lnTo>
                              <a:lnTo>
                                <a:pt x="31" y="470"/>
                              </a:lnTo>
                              <a:lnTo>
                                <a:pt x="38" y="451"/>
                              </a:lnTo>
                              <a:lnTo>
                                <a:pt x="45" y="432"/>
                              </a:lnTo>
                              <a:lnTo>
                                <a:pt x="45" y="407"/>
                              </a:lnTo>
                              <a:lnTo>
                                <a:pt x="42" y="388"/>
                              </a:lnTo>
                              <a:lnTo>
                                <a:pt x="42" y="372"/>
                              </a:lnTo>
                              <a:lnTo>
                                <a:pt x="42" y="353"/>
                              </a:lnTo>
                              <a:lnTo>
                                <a:pt x="45" y="337"/>
                              </a:lnTo>
                              <a:lnTo>
                                <a:pt x="52" y="321"/>
                              </a:lnTo>
                              <a:lnTo>
                                <a:pt x="63" y="306"/>
                              </a:lnTo>
                              <a:lnTo>
                                <a:pt x="73" y="293"/>
                              </a:lnTo>
                              <a:lnTo>
                                <a:pt x="87" y="284"/>
                              </a:lnTo>
                              <a:lnTo>
                                <a:pt x="90" y="271"/>
                              </a:lnTo>
                              <a:lnTo>
                                <a:pt x="90" y="268"/>
                              </a:lnTo>
                              <a:lnTo>
                                <a:pt x="87" y="262"/>
                              </a:lnTo>
                              <a:lnTo>
                                <a:pt x="69" y="262"/>
                              </a:lnTo>
                              <a:lnTo>
                                <a:pt x="52" y="255"/>
                              </a:lnTo>
                              <a:lnTo>
                                <a:pt x="42" y="249"/>
                              </a:lnTo>
                              <a:lnTo>
                                <a:pt x="28" y="243"/>
                              </a:lnTo>
                              <a:lnTo>
                                <a:pt x="18" y="227"/>
                              </a:lnTo>
                              <a:lnTo>
                                <a:pt x="7" y="208"/>
                              </a:lnTo>
                              <a:lnTo>
                                <a:pt x="0" y="195"/>
                              </a:lnTo>
                              <a:lnTo>
                                <a:pt x="0" y="189"/>
                              </a:lnTo>
                              <a:lnTo>
                                <a:pt x="14" y="195"/>
                              </a:lnTo>
                              <a:lnTo>
                                <a:pt x="31" y="192"/>
                              </a:lnTo>
                              <a:lnTo>
                                <a:pt x="38" y="189"/>
                              </a:lnTo>
                              <a:lnTo>
                                <a:pt x="38" y="183"/>
                              </a:lnTo>
                              <a:lnTo>
                                <a:pt x="38" y="176"/>
                              </a:lnTo>
                              <a:lnTo>
                                <a:pt x="28" y="164"/>
                              </a:lnTo>
                              <a:lnTo>
                                <a:pt x="21" y="151"/>
                              </a:lnTo>
                              <a:lnTo>
                                <a:pt x="14" y="135"/>
                              </a:lnTo>
                              <a:lnTo>
                                <a:pt x="11" y="123"/>
                              </a:lnTo>
                              <a:lnTo>
                                <a:pt x="14" y="104"/>
                              </a:lnTo>
                              <a:lnTo>
                                <a:pt x="18" y="88"/>
                              </a:lnTo>
                              <a:lnTo>
                                <a:pt x="21" y="76"/>
                              </a:lnTo>
                              <a:lnTo>
                                <a:pt x="31" y="60"/>
                              </a:lnTo>
                              <a:lnTo>
                                <a:pt x="45" y="47"/>
                              </a:lnTo>
                              <a:lnTo>
                                <a:pt x="59" y="35"/>
                              </a:lnTo>
                              <a:lnTo>
                                <a:pt x="73" y="25"/>
                              </a:lnTo>
                              <a:lnTo>
                                <a:pt x="87" y="16"/>
                              </a:lnTo>
                              <a:lnTo>
                                <a:pt x="100" y="12"/>
                              </a:lnTo>
                              <a:lnTo>
                                <a:pt x="128" y="6"/>
                              </a:lnTo>
                              <a:lnTo>
                                <a:pt x="159" y="0"/>
                              </a:lnTo>
                              <a:lnTo>
                                <a:pt x="176" y="3"/>
                              </a:lnTo>
                              <a:lnTo>
                                <a:pt x="197" y="3"/>
                              </a:lnTo>
                              <a:lnTo>
                                <a:pt x="208" y="3"/>
                              </a:lnTo>
                              <a:lnTo>
                                <a:pt x="214" y="6"/>
                              </a:lnTo>
                              <a:lnTo>
                                <a:pt x="225" y="12"/>
                              </a:lnTo>
                              <a:lnTo>
                                <a:pt x="232" y="22"/>
                              </a:lnTo>
                              <a:lnTo>
                                <a:pt x="242" y="28"/>
                              </a:lnTo>
                              <a:lnTo>
                                <a:pt x="252" y="31"/>
                              </a:lnTo>
                              <a:lnTo>
                                <a:pt x="273" y="41"/>
                              </a:lnTo>
                              <a:lnTo>
                                <a:pt x="287" y="50"/>
                              </a:lnTo>
                              <a:lnTo>
                                <a:pt x="297" y="66"/>
                              </a:lnTo>
                              <a:lnTo>
                                <a:pt x="308" y="82"/>
                              </a:lnTo>
                              <a:lnTo>
                                <a:pt x="318" y="101"/>
                              </a:lnTo>
                              <a:lnTo>
                                <a:pt x="322" y="120"/>
                              </a:lnTo>
                              <a:lnTo>
                                <a:pt x="322" y="139"/>
                              </a:lnTo>
                              <a:lnTo>
                                <a:pt x="315" y="154"/>
                              </a:lnTo>
                              <a:lnTo>
                                <a:pt x="308" y="164"/>
                              </a:lnTo>
                              <a:lnTo>
                                <a:pt x="301" y="170"/>
                              </a:lnTo>
                              <a:lnTo>
                                <a:pt x="290" y="186"/>
                              </a:lnTo>
                              <a:lnTo>
                                <a:pt x="284" y="199"/>
                              </a:lnTo>
                              <a:lnTo>
                                <a:pt x="287" y="208"/>
                              </a:lnTo>
                              <a:lnTo>
                                <a:pt x="290" y="214"/>
                              </a:lnTo>
                              <a:lnTo>
                                <a:pt x="301" y="221"/>
                              </a:lnTo>
                              <a:lnTo>
                                <a:pt x="308" y="224"/>
                              </a:lnTo>
                              <a:lnTo>
                                <a:pt x="308" y="230"/>
                              </a:lnTo>
                              <a:lnTo>
                                <a:pt x="297" y="243"/>
                              </a:lnTo>
                              <a:lnTo>
                                <a:pt x="287" y="249"/>
                              </a:lnTo>
                              <a:lnTo>
                                <a:pt x="277" y="255"/>
                              </a:lnTo>
                              <a:lnTo>
                                <a:pt x="263" y="262"/>
                              </a:lnTo>
                              <a:lnTo>
                                <a:pt x="246" y="262"/>
                              </a:lnTo>
                              <a:lnTo>
                                <a:pt x="239" y="262"/>
                              </a:lnTo>
                              <a:lnTo>
                                <a:pt x="249" y="280"/>
                              </a:lnTo>
                              <a:lnTo>
                                <a:pt x="266" y="296"/>
                              </a:lnTo>
                              <a:lnTo>
                                <a:pt x="280" y="312"/>
                              </a:lnTo>
                              <a:lnTo>
                                <a:pt x="287" y="328"/>
                              </a:lnTo>
                              <a:lnTo>
                                <a:pt x="290" y="344"/>
                              </a:lnTo>
                              <a:lnTo>
                                <a:pt x="290" y="359"/>
                              </a:lnTo>
                              <a:lnTo>
                                <a:pt x="290" y="375"/>
                              </a:lnTo>
                              <a:lnTo>
                                <a:pt x="294" y="388"/>
                              </a:lnTo>
                              <a:lnTo>
                                <a:pt x="297" y="400"/>
                              </a:lnTo>
                              <a:lnTo>
                                <a:pt x="294" y="416"/>
                              </a:lnTo>
                              <a:lnTo>
                                <a:pt x="290" y="432"/>
                              </a:lnTo>
                              <a:lnTo>
                                <a:pt x="287" y="444"/>
                              </a:lnTo>
                              <a:lnTo>
                                <a:pt x="297" y="448"/>
                              </a:lnTo>
                              <a:lnTo>
                                <a:pt x="304" y="451"/>
                              </a:lnTo>
                              <a:lnTo>
                                <a:pt x="315" y="460"/>
                              </a:lnTo>
                              <a:lnTo>
                                <a:pt x="315" y="470"/>
                              </a:lnTo>
                              <a:lnTo>
                                <a:pt x="304" y="482"/>
                              </a:lnTo>
                              <a:lnTo>
                                <a:pt x="294" y="498"/>
                              </a:lnTo>
                              <a:lnTo>
                                <a:pt x="297" y="511"/>
                              </a:lnTo>
                              <a:lnTo>
                                <a:pt x="301" y="539"/>
                              </a:lnTo>
                              <a:lnTo>
                                <a:pt x="308" y="574"/>
                              </a:lnTo>
                              <a:lnTo>
                                <a:pt x="311" y="590"/>
                              </a:lnTo>
                              <a:lnTo>
                                <a:pt x="315" y="602"/>
                              </a:lnTo>
                              <a:lnTo>
                                <a:pt x="322" y="612"/>
                              </a:lnTo>
                              <a:lnTo>
                                <a:pt x="325" y="621"/>
                              </a:lnTo>
                              <a:lnTo>
                                <a:pt x="322" y="634"/>
                              </a:lnTo>
                              <a:lnTo>
                                <a:pt x="308" y="643"/>
                              </a:lnTo>
                              <a:lnTo>
                                <a:pt x="259" y="668"/>
                              </a:lnTo>
                              <a:lnTo>
                                <a:pt x="256" y="690"/>
                              </a:lnTo>
                              <a:lnTo>
                                <a:pt x="252" y="703"/>
                              </a:lnTo>
                              <a:lnTo>
                                <a:pt x="252" y="712"/>
                              </a:lnTo>
                              <a:lnTo>
                                <a:pt x="259" y="731"/>
                              </a:lnTo>
                              <a:lnTo>
                                <a:pt x="263" y="747"/>
                              </a:lnTo>
                              <a:lnTo>
                                <a:pt x="263" y="763"/>
                              </a:lnTo>
                              <a:lnTo>
                                <a:pt x="263" y="776"/>
                              </a:lnTo>
                              <a:lnTo>
                                <a:pt x="259" y="788"/>
                              </a:lnTo>
                              <a:lnTo>
                                <a:pt x="256" y="798"/>
                              </a:lnTo>
                              <a:lnTo>
                                <a:pt x="246" y="813"/>
                              </a:lnTo>
                              <a:lnTo>
                                <a:pt x="239" y="820"/>
                              </a:lnTo>
                              <a:lnTo>
                                <a:pt x="232" y="823"/>
                              </a:lnTo>
                              <a:lnTo>
                                <a:pt x="214" y="832"/>
                              </a:lnTo>
                              <a:lnTo>
                                <a:pt x="197" y="832"/>
                              </a:lnTo>
                              <a:lnTo>
                                <a:pt x="187" y="826"/>
                              </a:lnTo>
                              <a:lnTo>
                                <a:pt x="180" y="817"/>
                              </a:lnTo>
                              <a:lnTo>
                                <a:pt x="173" y="804"/>
                              </a:lnTo>
                              <a:lnTo>
                                <a:pt x="173" y="788"/>
                              </a:lnTo>
                              <a:lnTo>
                                <a:pt x="173" y="766"/>
                              </a:lnTo>
                              <a:lnTo>
                                <a:pt x="173" y="76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6" name=""/>
                        <p:cNvSpPr/>
                        <p:nvPr/>
                      </p:nvSpPr>
                      <p:spPr>
                        <a:xfrm>
                          <a:off x="982800" y="1967760"/>
                          <a:ext cx="168840" cy="334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11" h="1180">
                              <a:moveTo>
                                <a:pt x="328" y="41"/>
                              </a:moveTo>
                              <a:lnTo>
                                <a:pt x="328" y="63"/>
                              </a:lnTo>
                              <a:lnTo>
                                <a:pt x="324" y="73"/>
                              </a:lnTo>
                              <a:lnTo>
                                <a:pt x="321" y="82"/>
                              </a:lnTo>
                              <a:lnTo>
                                <a:pt x="345" y="98"/>
                              </a:lnTo>
                              <a:lnTo>
                                <a:pt x="369" y="120"/>
                              </a:lnTo>
                              <a:lnTo>
                                <a:pt x="390" y="139"/>
                              </a:lnTo>
                              <a:lnTo>
                                <a:pt x="407" y="161"/>
                              </a:lnTo>
                              <a:lnTo>
                                <a:pt x="414" y="174"/>
                              </a:lnTo>
                              <a:lnTo>
                                <a:pt x="421" y="186"/>
                              </a:lnTo>
                              <a:lnTo>
                                <a:pt x="428" y="199"/>
                              </a:lnTo>
                              <a:lnTo>
                                <a:pt x="431" y="212"/>
                              </a:lnTo>
                              <a:lnTo>
                                <a:pt x="431" y="227"/>
                              </a:lnTo>
                              <a:lnTo>
                                <a:pt x="431" y="240"/>
                              </a:lnTo>
                              <a:lnTo>
                                <a:pt x="431" y="256"/>
                              </a:lnTo>
                              <a:lnTo>
                                <a:pt x="428" y="272"/>
                              </a:lnTo>
                              <a:lnTo>
                                <a:pt x="428" y="287"/>
                              </a:lnTo>
                              <a:lnTo>
                                <a:pt x="421" y="303"/>
                              </a:lnTo>
                              <a:lnTo>
                                <a:pt x="411" y="319"/>
                              </a:lnTo>
                              <a:lnTo>
                                <a:pt x="397" y="331"/>
                              </a:lnTo>
                              <a:lnTo>
                                <a:pt x="383" y="344"/>
                              </a:lnTo>
                              <a:lnTo>
                                <a:pt x="369" y="357"/>
                              </a:lnTo>
                              <a:lnTo>
                                <a:pt x="352" y="363"/>
                              </a:lnTo>
                              <a:lnTo>
                                <a:pt x="335" y="369"/>
                              </a:lnTo>
                              <a:lnTo>
                                <a:pt x="310" y="379"/>
                              </a:lnTo>
                              <a:lnTo>
                                <a:pt x="300" y="385"/>
                              </a:lnTo>
                              <a:lnTo>
                                <a:pt x="293" y="394"/>
                              </a:lnTo>
                              <a:lnTo>
                                <a:pt x="310" y="398"/>
                              </a:lnTo>
                              <a:lnTo>
                                <a:pt x="328" y="401"/>
                              </a:lnTo>
                              <a:lnTo>
                                <a:pt x="345" y="407"/>
                              </a:lnTo>
                              <a:lnTo>
                                <a:pt x="359" y="417"/>
                              </a:lnTo>
                              <a:lnTo>
                                <a:pt x="359" y="423"/>
                              </a:lnTo>
                              <a:lnTo>
                                <a:pt x="362" y="432"/>
                              </a:lnTo>
                              <a:lnTo>
                                <a:pt x="373" y="442"/>
                              </a:lnTo>
                              <a:lnTo>
                                <a:pt x="383" y="451"/>
                              </a:lnTo>
                              <a:lnTo>
                                <a:pt x="390" y="464"/>
                              </a:lnTo>
                              <a:lnTo>
                                <a:pt x="397" y="473"/>
                              </a:lnTo>
                              <a:lnTo>
                                <a:pt x="404" y="486"/>
                              </a:lnTo>
                              <a:lnTo>
                                <a:pt x="407" y="495"/>
                              </a:lnTo>
                              <a:lnTo>
                                <a:pt x="411" y="508"/>
                              </a:lnTo>
                              <a:lnTo>
                                <a:pt x="414" y="521"/>
                              </a:lnTo>
                              <a:lnTo>
                                <a:pt x="414" y="533"/>
                              </a:lnTo>
                              <a:lnTo>
                                <a:pt x="431" y="549"/>
                              </a:lnTo>
                              <a:lnTo>
                                <a:pt x="452" y="568"/>
                              </a:lnTo>
                              <a:lnTo>
                                <a:pt x="459" y="577"/>
                              </a:lnTo>
                              <a:lnTo>
                                <a:pt x="466" y="587"/>
                              </a:lnTo>
                              <a:lnTo>
                                <a:pt x="469" y="596"/>
                              </a:lnTo>
                              <a:lnTo>
                                <a:pt x="473" y="606"/>
                              </a:lnTo>
                              <a:lnTo>
                                <a:pt x="473" y="612"/>
                              </a:lnTo>
                              <a:lnTo>
                                <a:pt x="469" y="618"/>
                              </a:lnTo>
                              <a:lnTo>
                                <a:pt x="462" y="628"/>
                              </a:lnTo>
                              <a:lnTo>
                                <a:pt x="456" y="637"/>
                              </a:lnTo>
                              <a:lnTo>
                                <a:pt x="456" y="644"/>
                              </a:lnTo>
                              <a:lnTo>
                                <a:pt x="459" y="650"/>
                              </a:lnTo>
                              <a:lnTo>
                                <a:pt x="449" y="678"/>
                              </a:lnTo>
                              <a:lnTo>
                                <a:pt x="445" y="694"/>
                              </a:lnTo>
                              <a:lnTo>
                                <a:pt x="435" y="703"/>
                              </a:lnTo>
                              <a:lnTo>
                                <a:pt x="438" y="713"/>
                              </a:lnTo>
                              <a:lnTo>
                                <a:pt x="442" y="722"/>
                              </a:lnTo>
                              <a:lnTo>
                                <a:pt x="452" y="735"/>
                              </a:lnTo>
                              <a:lnTo>
                                <a:pt x="459" y="748"/>
                              </a:lnTo>
                              <a:lnTo>
                                <a:pt x="462" y="754"/>
                              </a:lnTo>
                              <a:lnTo>
                                <a:pt x="466" y="763"/>
                              </a:lnTo>
                              <a:lnTo>
                                <a:pt x="473" y="785"/>
                              </a:lnTo>
                              <a:lnTo>
                                <a:pt x="483" y="811"/>
                              </a:lnTo>
                              <a:lnTo>
                                <a:pt x="490" y="836"/>
                              </a:lnTo>
                              <a:lnTo>
                                <a:pt x="494" y="861"/>
                              </a:lnTo>
                              <a:lnTo>
                                <a:pt x="497" y="886"/>
                              </a:lnTo>
                              <a:lnTo>
                                <a:pt x="500" y="915"/>
                              </a:lnTo>
                              <a:lnTo>
                                <a:pt x="507" y="965"/>
                              </a:lnTo>
                              <a:lnTo>
                                <a:pt x="511" y="981"/>
                              </a:lnTo>
                              <a:lnTo>
                                <a:pt x="511" y="997"/>
                              </a:lnTo>
                              <a:lnTo>
                                <a:pt x="507" y="1016"/>
                              </a:lnTo>
                              <a:lnTo>
                                <a:pt x="500" y="1031"/>
                              </a:lnTo>
                              <a:lnTo>
                                <a:pt x="494" y="1038"/>
                              </a:lnTo>
                              <a:lnTo>
                                <a:pt x="483" y="1047"/>
                              </a:lnTo>
                              <a:lnTo>
                                <a:pt x="462" y="1057"/>
                              </a:lnTo>
                              <a:lnTo>
                                <a:pt x="442" y="1063"/>
                              </a:lnTo>
                              <a:lnTo>
                                <a:pt x="421" y="1069"/>
                              </a:lnTo>
                              <a:lnTo>
                                <a:pt x="390" y="1079"/>
                              </a:lnTo>
                              <a:lnTo>
                                <a:pt x="373" y="1085"/>
                              </a:lnTo>
                              <a:lnTo>
                                <a:pt x="359" y="1088"/>
                              </a:lnTo>
                              <a:lnTo>
                                <a:pt x="355" y="1113"/>
                              </a:lnTo>
                              <a:lnTo>
                                <a:pt x="352" y="1132"/>
                              </a:lnTo>
                              <a:lnTo>
                                <a:pt x="348" y="1142"/>
                              </a:lnTo>
                              <a:lnTo>
                                <a:pt x="342" y="1151"/>
                              </a:lnTo>
                              <a:lnTo>
                                <a:pt x="335" y="1161"/>
                              </a:lnTo>
                              <a:lnTo>
                                <a:pt x="321" y="1167"/>
                              </a:lnTo>
                              <a:lnTo>
                                <a:pt x="307" y="1167"/>
                              </a:lnTo>
                              <a:lnTo>
                                <a:pt x="297" y="1161"/>
                              </a:lnTo>
                              <a:lnTo>
                                <a:pt x="286" y="1151"/>
                              </a:lnTo>
                              <a:lnTo>
                                <a:pt x="279" y="1142"/>
                              </a:lnTo>
                              <a:lnTo>
                                <a:pt x="269" y="1120"/>
                              </a:lnTo>
                              <a:lnTo>
                                <a:pt x="266" y="1110"/>
                              </a:lnTo>
                              <a:lnTo>
                                <a:pt x="235" y="1110"/>
                              </a:lnTo>
                              <a:lnTo>
                                <a:pt x="224" y="1135"/>
                              </a:lnTo>
                              <a:lnTo>
                                <a:pt x="210" y="1158"/>
                              </a:lnTo>
                              <a:lnTo>
                                <a:pt x="200" y="1173"/>
                              </a:lnTo>
                              <a:lnTo>
                                <a:pt x="190" y="1176"/>
                              </a:lnTo>
                              <a:lnTo>
                                <a:pt x="179" y="1180"/>
                              </a:lnTo>
                              <a:lnTo>
                                <a:pt x="165" y="1170"/>
                              </a:lnTo>
                              <a:lnTo>
                                <a:pt x="159" y="1158"/>
                              </a:lnTo>
                              <a:lnTo>
                                <a:pt x="152" y="1145"/>
                              </a:lnTo>
                              <a:lnTo>
                                <a:pt x="152" y="1132"/>
                              </a:lnTo>
                              <a:lnTo>
                                <a:pt x="148" y="1110"/>
                              </a:lnTo>
                              <a:lnTo>
                                <a:pt x="148" y="1104"/>
                              </a:lnTo>
                              <a:lnTo>
                                <a:pt x="124" y="1094"/>
                              </a:lnTo>
                              <a:lnTo>
                                <a:pt x="103" y="1088"/>
                              </a:lnTo>
                              <a:lnTo>
                                <a:pt x="93" y="1082"/>
                              </a:lnTo>
                              <a:lnTo>
                                <a:pt x="72" y="1072"/>
                              </a:lnTo>
                              <a:lnTo>
                                <a:pt x="55" y="1063"/>
                              </a:lnTo>
                              <a:lnTo>
                                <a:pt x="20" y="1044"/>
                              </a:lnTo>
                              <a:lnTo>
                                <a:pt x="14" y="1035"/>
                              </a:lnTo>
                              <a:lnTo>
                                <a:pt x="10" y="1025"/>
                              </a:lnTo>
                              <a:lnTo>
                                <a:pt x="14" y="1003"/>
                              </a:lnTo>
                              <a:lnTo>
                                <a:pt x="17" y="981"/>
                              </a:lnTo>
                              <a:lnTo>
                                <a:pt x="20" y="972"/>
                              </a:lnTo>
                              <a:lnTo>
                                <a:pt x="20" y="959"/>
                              </a:lnTo>
                              <a:lnTo>
                                <a:pt x="17" y="934"/>
                              </a:lnTo>
                              <a:lnTo>
                                <a:pt x="17" y="908"/>
                              </a:lnTo>
                              <a:lnTo>
                                <a:pt x="20" y="883"/>
                              </a:lnTo>
                              <a:lnTo>
                                <a:pt x="24" y="861"/>
                              </a:lnTo>
                              <a:lnTo>
                                <a:pt x="27" y="836"/>
                              </a:lnTo>
                              <a:lnTo>
                                <a:pt x="31" y="814"/>
                              </a:lnTo>
                              <a:lnTo>
                                <a:pt x="41" y="776"/>
                              </a:lnTo>
                              <a:lnTo>
                                <a:pt x="51" y="744"/>
                              </a:lnTo>
                              <a:lnTo>
                                <a:pt x="62" y="719"/>
                              </a:lnTo>
                              <a:lnTo>
                                <a:pt x="72" y="697"/>
                              </a:lnTo>
                              <a:lnTo>
                                <a:pt x="62" y="688"/>
                              </a:lnTo>
                              <a:lnTo>
                                <a:pt x="38" y="666"/>
                              </a:lnTo>
                              <a:lnTo>
                                <a:pt x="24" y="653"/>
                              </a:lnTo>
                              <a:lnTo>
                                <a:pt x="14" y="637"/>
                              </a:lnTo>
                              <a:lnTo>
                                <a:pt x="3" y="622"/>
                              </a:lnTo>
                              <a:lnTo>
                                <a:pt x="0" y="606"/>
                              </a:lnTo>
                              <a:lnTo>
                                <a:pt x="3" y="565"/>
                              </a:lnTo>
                              <a:lnTo>
                                <a:pt x="7" y="546"/>
                              </a:lnTo>
                              <a:lnTo>
                                <a:pt x="10" y="527"/>
                              </a:lnTo>
                              <a:lnTo>
                                <a:pt x="17" y="511"/>
                              </a:lnTo>
                              <a:lnTo>
                                <a:pt x="24" y="492"/>
                              </a:lnTo>
                              <a:lnTo>
                                <a:pt x="34" y="476"/>
                              </a:lnTo>
                              <a:lnTo>
                                <a:pt x="48" y="461"/>
                              </a:lnTo>
                              <a:lnTo>
                                <a:pt x="58" y="448"/>
                              </a:lnTo>
                              <a:lnTo>
                                <a:pt x="76" y="435"/>
                              </a:lnTo>
                              <a:lnTo>
                                <a:pt x="93" y="429"/>
                              </a:lnTo>
                              <a:lnTo>
                                <a:pt x="107" y="423"/>
                              </a:lnTo>
                              <a:lnTo>
                                <a:pt x="114" y="417"/>
                              </a:lnTo>
                              <a:lnTo>
                                <a:pt x="114" y="410"/>
                              </a:lnTo>
                              <a:lnTo>
                                <a:pt x="114" y="404"/>
                              </a:lnTo>
                              <a:lnTo>
                                <a:pt x="127" y="398"/>
                              </a:lnTo>
                              <a:lnTo>
                                <a:pt x="145" y="394"/>
                              </a:lnTo>
                              <a:lnTo>
                                <a:pt x="152" y="391"/>
                              </a:lnTo>
                              <a:lnTo>
                                <a:pt x="159" y="388"/>
                              </a:lnTo>
                              <a:lnTo>
                                <a:pt x="162" y="379"/>
                              </a:lnTo>
                              <a:lnTo>
                                <a:pt x="165" y="369"/>
                              </a:lnTo>
                              <a:lnTo>
                                <a:pt x="148" y="366"/>
                              </a:lnTo>
                              <a:lnTo>
                                <a:pt x="131" y="366"/>
                              </a:lnTo>
                              <a:lnTo>
                                <a:pt x="114" y="363"/>
                              </a:lnTo>
                              <a:lnTo>
                                <a:pt x="100" y="357"/>
                              </a:lnTo>
                              <a:lnTo>
                                <a:pt x="86" y="350"/>
                              </a:lnTo>
                              <a:lnTo>
                                <a:pt x="72" y="341"/>
                              </a:lnTo>
                              <a:lnTo>
                                <a:pt x="62" y="331"/>
                              </a:lnTo>
                              <a:lnTo>
                                <a:pt x="51" y="319"/>
                              </a:lnTo>
                              <a:lnTo>
                                <a:pt x="38" y="290"/>
                              </a:lnTo>
                              <a:lnTo>
                                <a:pt x="27" y="265"/>
                              </a:lnTo>
                              <a:lnTo>
                                <a:pt x="24" y="243"/>
                              </a:lnTo>
                              <a:lnTo>
                                <a:pt x="20" y="234"/>
                              </a:lnTo>
                              <a:lnTo>
                                <a:pt x="20" y="218"/>
                              </a:lnTo>
                              <a:lnTo>
                                <a:pt x="27" y="196"/>
                              </a:lnTo>
                              <a:lnTo>
                                <a:pt x="34" y="174"/>
                              </a:lnTo>
                              <a:lnTo>
                                <a:pt x="48" y="155"/>
                              </a:lnTo>
                              <a:lnTo>
                                <a:pt x="65" y="136"/>
                              </a:lnTo>
                              <a:lnTo>
                                <a:pt x="86" y="120"/>
                              </a:lnTo>
                              <a:lnTo>
                                <a:pt x="107" y="104"/>
                              </a:lnTo>
                              <a:lnTo>
                                <a:pt x="127" y="92"/>
                              </a:lnTo>
                              <a:lnTo>
                                <a:pt x="148" y="82"/>
                              </a:lnTo>
                              <a:lnTo>
                                <a:pt x="145" y="73"/>
                              </a:lnTo>
                              <a:lnTo>
                                <a:pt x="145" y="63"/>
                              </a:lnTo>
                              <a:lnTo>
                                <a:pt x="148" y="54"/>
                              </a:lnTo>
                              <a:lnTo>
                                <a:pt x="152" y="48"/>
                              </a:lnTo>
                              <a:lnTo>
                                <a:pt x="162" y="32"/>
                              </a:lnTo>
                              <a:lnTo>
                                <a:pt x="179" y="16"/>
                              </a:lnTo>
                              <a:lnTo>
                                <a:pt x="221" y="3"/>
                              </a:lnTo>
                              <a:lnTo>
                                <a:pt x="238" y="0"/>
                              </a:lnTo>
                              <a:lnTo>
                                <a:pt x="252" y="3"/>
                              </a:lnTo>
                              <a:lnTo>
                                <a:pt x="269" y="3"/>
                              </a:lnTo>
                              <a:lnTo>
                                <a:pt x="283" y="7"/>
                              </a:lnTo>
                              <a:lnTo>
                                <a:pt x="297" y="13"/>
                              </a:lnTo>
                              <a:lnTo>
                                <a:pt x="307" y="22"/>
                              </a:lnTo>
                              <a:lnTo>
                                <a:pt x="321" y="32"/>
                              </a:lnTo>
                              <a:lnTo>
                                <a:pt x="328" y="41"/>
                              </a:lnTo>
                              <a:lnTo>
                                <a:pt x="328" y="4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667" name=""/>
                      <p:cNvSpPr/>
                      <p:nvPr/>
                    </p:nvSpPr>
                    <p:spPr>
                      <a:xfrm>
                        <a:off x="995400" y="1972080"/>
                        <a:ext cx="126720" cy="9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3" h="328">
                            <a:moveTo>
                              <a:pt x="262" y="41"/>
                            </a:moveTo>
                            <a:lnTo>
                              <a:pt x="266" y="51"/>
                            </a:lnTo>
                            <a:lnTo>
                              <a:pt x="269" y="60"/>
                            </a:lnTo>
                            <a:lnTo>
                              <a:pt x="252" y="54"/>
                            </a:lnTo>
                            <a:lnTo>
                              <a:pt x="235" y="54"/>
                            </a:lnTo>
                            <a:lnTo>
                              <a:pt x="241" y="63"/>
                            </a:lnTo>
                            <a:lnTo>
                              <a:pt x="252" y="73"/>
                            </a:lnTo>
                            <a:lnTo>
                              <a:pt x="266" y="79"/>
                            </a:lnTo>
                            <a:lnTo>
                              <a:pt x="283" y="85"/>
                            </a:lnTo>
                            <a:lnTo>
                              <a:pt x="297" y="92"/>
                            </a:lnTo>
                            <a:lnTo>
                              <a:pt x="307" y="98"/>
                            </a:lnTo>
                            <a:lnTo>
                              <a:pt x="328" y="114"/>
                            </a:lnTo>
                            <a:lnTo>
                              <a:pt x="348" y="136"/>
                            </a:lnTo>
                            <a:lnTo>
                              <a:pt x="366" y="158"/>
                            </a:lnTo>
                            <a:lnTo>
                              <a:pt x="373" y="170"/>
                            </a:lnTo>
                            <a:lnTo>
                              <a:pt x="376" y="183"/>
                            </a:lnTo>
                            <a:lnTo>
                              <a:pt x="380" y="199"/>
                            </a:lnTo>
                            <a:lnTo>
                              <a:pt x="383" y="211"/>
                            </a:lnTo>
                            <a:lnTo>
                              <a:pt x="383" y="224"/>
                            </a:lnTo>
                            <a:lnTo>
                              <a:pt x="383" y="237"/>
                            </a:lnTo>
                            <a:lnTo>
                              <a:pt x="380" y="249"/>
                            </a:lnTo>
                            <a:lnTo>
                              <a:pt x="376" y="262"/>
                            </a:lnTo>
                            <a:lnTo>
                              <a:pt x="373" y="271"/>
                            </a:lnTo>
                            <a:lnTo>
                              <a:pt x="366" y="284"/>
                            </a:lnTo>
                            <a:lnTo>
                              <a:pt x="359" y="293"/>
                            </a:lnTo>
                            <a:lnTo>
                              <a:pt x="348" y="306"/>
                            </a:lnTo>
                            <a:lnTo>
                              <a:pt x="342" y="312"/>
                            </a:lnTo>
                            <a:lnTo>
                              <a:pt x="331" y="322"/>
                            </a:lnTo>
                            <a:lnTo>
                              <a:pt x="321" y="325"/>
                            </a:lnTo>
                            <a:lnTo>
                              <a:pt x="310" y="328"/>
                            </a:lnTo>
                            <a:lnTo>
                              <a:pt x="317" y="306"/>
                            </a:lnTo>
                            <a:lnTo>
                              <a:pt x="324" y="278"/>
                            </a:lnTo>
                            <a:lnTo>
                              <a:pt x="331" y="246"/>
                            </a:lnTo>
                            <a:lnTo>
                              <a:pt x="335" y="218"/>
                            </a:lnTo>
                            <a:lnTo>
                              <a:pt x="345" y="215"/>
                            </a:lnTo>
                            <a:lnTo>
                              <a:pt x="355" y="208"/>
                            </a:lnTo>
                            <a:lnTo>
                              <a:pt x="352" y="202"/>
                            </a:lnTo>
                            <a:lnTo>
                              <a:pt x="348" y="196"/>
                            </a:lnTo>
                            <a:lnTo>
                              <a:pt x="338" y="199"/>
                            </a:lnTo>
                            <a:lnTo>
                              <a:pt x="328" y="199"/>
                            </a:lnTo>
                            <a:lnTo>
                              <a:pt x="310" y="196"/>
                            </a:lnTo>
                            <a:lnTo>
                              <a:pt x="293" y="186"/>
                            </a:lnTo>
                            <a:lnTo>
                              <a:pt x="276" y="177"/>
                            </a:lnTo>
                            <a:lnTo>
                              <a:pt x="252" y="158"/>
                            </a:lnTo>
                            <a:lnTo>
                              <a:pt x="231" y="136"/>
                            </a:lnTo>
                            <a:lnTo>
                              <a:pt x="214" y="117"/>
                            </a:lnTo>
                            <a:lnTo>
                              <a:pt x="197" y="92"/>
                            </a:lnTo>
                            <a:lnTo>
                              <a:pt x="183" y="95"/>
                            </a:lnTo>
                            <a:lnTo>
                              <a:pt x="176" y="98"/>
                            </a:lnTo>
                            <a:lnTo>
                              <a:pt x="169" y="104"/>
                            </a:lnTo>
                            <a:lnTo>
                              <a:pt x="169" y="114"/>
                            </a:lnTo>
                            <a:lnTo>
                              <a:pt x="165" y="123"/>
                            </a:lnTo>
                            <a:lnTo>
                              <a:pt x="155" y="136"/>
                            </a:lnTo>
                            <a:lnTo>
                              <a:pt x="141" y="151"/>
                            </a:lnTo>
                            <a:lnTo>
                              <a:pt x="138" y="158"/>
                            </a:lnTo>
                            <a:lnTo>
                              <a:pt x="134" y="164"/>
                            </a:lnTo>
                            <a:lnTo>
                              <a:pt x="117" y="180"/>
                            </a:lnTo>
                            <a:lnTo>
                              <a:pt x="100" y="196"/>
                            </a:lnTo>
                            <a:lnTo>
                              <a:pt x="89" y="202"/>
                            </a:lnTo>
                            <a:lnTo>
                              <a:pt x="79" y="205"/>
                            </a:lnTo>
                            <a:lnTo>
                              <a:pt x="65" y="208"/>
                            </a:lnTo>
                            <a:lnTo>
                              <a:pt x="55" y="208"/>
                            </a:lnTo>
                            <a:lnTo>
                              <a:pt x="45" y="215"/>
                            </a:lnTo>
                            <a:lnTo>
                              <a:pt x="34" y="218"/>
                            </a:lnTo>
                            <a:lnTo>
                              <a:pt x="34" y="227"/>
                            </a:lnTo>
                            <a:lnTo>
                              <a:pt x="41" y="237"/>
                            </a:lnTo>
                            <a:lnTo>
                              <a:pt x="48" y="233"/>
                            </a:lnTo>
                            <a:lnTo>
                              <a:pt x="58" y="230"/>
                            </a:lnTo>
                            <a:lnTo>
                              <a:pt x="62" y="224"/>
                            </a:lnTo>
                            <a:lnTo>
                              <a:pt x="69" y="224"/>
                            </a:lnTo>
                            <a:lnTo>
                              <a:pt x="72" y="246"/>
                            </a:lnTo>
                            <a:lnTo>
                              <a:pt x="76" y="271"/>
                            </a:lnTo>
                            <a:lnTo>
                              <a:pt x="79" y="293"/>
                            </a:lnTo>
                            <a:lnTo>
                              <a:pt x="83" y="315"/>
                            </a:lnTo>
                            <a:lnTo>
                              <a:pt x="69" y="312"/>
                            </a:lnTo>
                            <a:lnTo>
                              <a:pt x="55" y="309"/>
                            </a:lnTo>
                            <a:lnTo>
                              <a:pt x="45" y="300"/>
                            </a:lnTo>
                            <a:lnTo>
                              <a:pt x="34" y="290"/>
                            </a:lnTo>
                            <a:lnTo>
                              <a:pt x="24" y="281"/>
                            </a:lnTo>
                            <a:lnTo>
                              <a:pt x="13" y="271"/>
                            </a:lnTo>
                            <a:lnTo>
                              <a:pt x="7" y="259"/>
                            </a:lnTo>
                            <a:lnTo>
                              <a:pt x="3" y="249"/>
                            </a:lnTo>
                            <a:lnTo>
                              <a:pt x="0" y="221"/>
                            </a:lnTo>
                            <a:lnTo>
                              <a:pt x="3" y="196"/>
                            </a:lnTo>
                            <a:lnTo>
                              <a:pt x="10" y="170"/>
                            </a:lnTo>
                            <a:lnTo>
                              <a:pt x="20" y="151"/>
                            </a:lnTo>
                            <a:lnTo>
                              <a:pt x="34" y="129"/>
                            </a:lnTo>
                            <a:lnTo>
                              <a:pt x="55" y="114"/>
                            </a:lnTo>
                            <a:lnTo>
                              <a:pt x="83" y="98"/>
                            </a:lnTo>
                            <a:lnTo>
                              <a:pt x="110" y="85"/>
                            </a:lnTo>
                            <a:lnTo>
                              <a:pt x="114" y="82"/>
                            </a:lnTo>
                            <a:lnTo>
                              <a:pt x="117" y="73"/>
                            </a:lnTo>
                            <a:lnTo>
                              <a:pt x="148" y="60"/>
                            </a:lnTo>
                            <a:lnTo>
                              <a:pt x="134" y="54"/>
                            </a:lnTo>
                            <a:lnTo>
                              <a:pt x="127" y="51"/>
                            </a:lnTo>
                            <a:lnTo>
                              <a:pt x="127" y="47"/>
                            </a:lnTo>
                            <a:lnTo>
                              <a:pt x="131" y="35"/>
                            </a:lnTo>
                            <a:lnTo>
                              <a:pt x="138" y="28"/>
                            </a:lnTo>
                            <a:lnTo>
                              <a:pt x="155" y="16"/>
                            </a:lnTo>
                            <a:lnTo>
                              <a:pt x="176" y="10"/>
                            </a:lnTo>
                            <a:lnTo>
                              <a:pt x="197" y="0"/>
                            </a:lnTo>
                            <a:lnTo>
                              <a:pt x="217" y="6"/>
                            </a:lnTo>
                            <a:lnTo>
                              <a:pt x="238" y="13"/>
                            </a:lnTo>
                            <a:lnTo>
                              <a:pt x="245" y="16"/>
                            </a:lnTo>
                            <a:lnTo>
                              <a:pt x="252" y="22"/>
                            </a:lnTo>
                            <a:lnTo>
                              <a:pt x="259" y="32"/>
                            </a:lnTo>
                            <a:lnTo>
                              <a:pt x="262" y="41"/>
                            </a:lnTo>
                            <a:lnTo>
                              <a:pt x="262" y="4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080" bIns="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8" name=""/>
                      <p:cNvSpPr/>
                      <p:nvPr/>
                    </p:nvSpPr>
                    <p:spPr>
                      <a:xfrm>
                        <a:off x="1027080" y="2008080"/>
                        <a:ext cx="69840" cy="68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1" h="240">
                            <a:moveTo>
                              <a:pt x="101" y="13"/>
                            </a:moveTo>
                            <a:lnTo>
                              <a:pt x="128" y="35"/>
                            </a:lnTo>
                            <a:lnTo>
                              <a:pt x="152" y="57"/>
                            </a:lnTo>
                            <a:lnTo>
                              <a:pt x="166" y="70"/>
                            </a:lnTo>
                            <a:lnTo>
                              <a:pt x="180" y="76"/>
                            </a:lnTo>
                            <a:lnTo>
                              <a:pt x="194" y="85"/>
                            </a:lnTo>
                            <a:lnTo>
                              <a:pt x="208" y="92"/>
                            </a:lnTo>
                            <a:lnTo>
                              <a:pt x="211" y="104"/>
                            </a:lnTo>
                            <a:lnTo>
                              <a:pt x="211" y="117"/>
                            </a:lnTo>
                            <a:lnTo>
                              <a:pt x="211" y="130"/>
                            </a:lnTo>
                            <a:lnTo>
                              <a:pt x="208" y="145"/>
                            </a:lnTo>
                            <a:lnTo>
                              <a:pt x="204" y="158"/>
                            </a:lnTo>
                            <a:lnTo>
                              <a:pt x="201" y="174"/>
                            </a:lnTo>
                            <a:lnTo>
                              <a:pt x="194" y="183"/>
                            </a:lnTo>
                            <a:lnTo>
                              <a:pt x="187" y="196"/>
                            </a:lnTo>
                            <a:lnTo>
                              <a:pt x="180" y="205"/>
                            </a:lnTo>
                            <a:lnTo>
                              <a:pt x="170" y="215"/>
                            </a:lnTo>
                            <a:lnTo>
                              <a:pt x="159" y="221"/>
                            </a:lnTo>
                            <a:lnTo>
                              <a:pt x="149" y="227"/>
                            </a:lnTo>
                            <a:lnTo>
                              <a:pt x="128" y="237"/>
                            </a:lnTo>
                            <a:lnTo>
                              <a:pt x="101" y="240"/>
                            </a:lnTo>
                            <a:lnTo>
                              <a:pt x="87" y="240"/>
                            </a:lnTo>
                            <a:lnTo>
                              <a:pt x="73" y="237"/>
                            </a:lnTo>
                            <a:lnTo>
                              <a:pt x="59" y="230"/>
                            </a:lnTo>
                            <a:lnTo>
                              <a:pt x="45" y="224"/>
                            </a:lnTo>
                            <a:lnTo>
                              <a:pt x="35" y="215"/>
                            </a:lnTo>
                            <a:lnTo>
                              <a:pt x="25" y="205"/>
                            </a:lnTo>
                            <a:lnTo>
                              <a:pt x="14" y="193"/>
                            </a:lnTo>
                            <a:lnTo>
                              <a:pt x="7" y="183"/>
                            </a:lnTo>
                            <a:lnTo>
                              <a:pt x="4" y="161"/>
                            </a:lnTo>
                            <a:lnTo>
                              <a:pt x="0" y="142"/>
                            </a:lnTo>
                            <a:lnTo>
                              <a:pt x="0" y="98"/>
                            </a:lnTo>
                            <a:lnTo>
                              <a:pt x="28" y="76"/>
                            </a:lnTo>
                            <a:lnTo>
                              <a:pt x="52" y="54"/>
                            </a:lnTo>
                            <a:lnTo>
                              <a:pt x="66" y="41"/>
                            </a:lnTo>
                            <a:lnTo>
                              <a:pt x="76" y="25"/>
                            </a:lnTo>
                            <a:lnTo>
                              <a:pt x="87" y="13"/>
                            </a:lnTo>
                            <a:lnTo>
                              <a:pt x="94" y="0"/>
                            </a:lnTo>
                            <a:lnTo>
                              <a:pt x="101" y="3"/>
                            </a:lnTo>
                            <a:lnTo>
                              <a:pt x="101" y="13"/>
                            </a:lnTo>
                            <a:lnTo>
                              <a:pt x="101" y="13"/>
                            </a:lnTo>
                            <a:close/>
                          </a:path>
                        </a:pathLst>
                      </a:custGeom>
                      <a:solidFill>
                        <a:srgbClr val="ffcc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240" bIns="21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9" name=""/>
                      <p:cNvSpPr/>
                      <p:nvPr/>
                    </p:nvSpPr>
                    <p:spPr>
                      <a:xfrm>
                        <a:off x="1064160" y="2024280"/>
                        <a:ext cx="792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41">
                            <a:moveTo>
                              <a:pt x="21" y="41"/>
                            </a:moveTo>
                            <a:lnTo>
                              <a:pt x="14" y="41"/>
                            </a:lnTo>
                            <a:lnTo>
                              <a:pt x="7" y="38"/>
                            </a:lnTo>
                            <a:lnTo>
                              <a:pt x="0" y="22"/>
                            </a:lnTo>
                            <a:lnTo>
                              <a:pt x="0" y="6"/>
                            </a:lnTo>
                            <a:lnTo>
                              <a:pt x="3" y="0"/>
                            </a:lnTo>
                            <a:lnTo>
                              <a:pt x="17" y="6"/>
                            </a:lnTo>
                            <a:lnTo>
                              <a:pt x="24" y="16"/>
                            </a:lnTo>
                            <a:lnTo>
                              <a:pt x="24" y="28"/>
                            </a:lnTo>
                            <a:lnTo>
                              <a:pt x="21" y="41"/>
                            </a:lnTo>
                            <a:lnTo>
                              <a:pt x="21" y="4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0" name=""/>
                      <p:cNvSpPr/>
                      <p:nvPr/>
                    </p:nvSpPr>
                    <p:spPr>
                      <a:xfrm>
                        <a:off x="1047960" y="2024280"/>
                        <a:ext cx="792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41">
                            <a:moveTo>
                              <a:pt x="3" y="19"/>
                            </a:moveTo>
                            <a:lnTo>
                              <a:pt x="3" y="9"/>
                            </a:lnTo>
                            <a:lnTo>
                              <a:pt x="6" y="3"/>
                            </a:lnTo>
                            <a:lnTo>
                              <a:pt x="13" y="0"/>
                            </a:lnTo>
                            <a:lnTo>
                              <a:pt x="17" y="0"/>
                            </a:lnTo>
                            <a:lnTo>
                              <a:pt x="24" y="9"/>
                            </a:lnTo>
                            <a:lnTo>
                              <a:pt x="24" y="19"/>
                            </a:lnTo>
                            <a:lnTo>
                              <a:pt x="24" y="32"/>
                            </a:lnTo>
                            <a:lnTo>
                              <a:pt x="17" y="38"/>
                            </a:lnTo>
                            <a:lnTo>
                              <a:pt x="10" y="41"/>
                            </a:lnTo>
                            <a:lnTo>
                              <a:pt x="3" y="38"/>
                            </a:lnTo>
                            <a:lnTo>
                              <a:pt x="0" y="32"/>
                            </a:lnTo>
                            <a:lnTo>
                              <a:pt x="0" y="25"/>
                            </a:lnTo>
                            <a:lnTo>
                              <a:pt x="3" y="19"/>
                            </a:lnTo>
                            <a:lnTo>
                              <a:pt x="3" y="1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1" name=""/>
                      <p:cNvSpPr/>
                      <p:nvPr/>
                    </p:nvSpPr>
                    <p:spPr>
                      <a:xfrm>
                        <a:off x="1050120" y="2041200"/>
                        <a:ext cx="16920" cy="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25">
                            <a:moveTo>
                              <a:pt x="45" y="6"/>
                            </a:moveTo>
                            <a:lnTo>
                              <a:pt x="49" y="3"/>
                            </a:lnTo>
                            <a:lnTo>
                              <a:pt x="52" y="13"/>
                            </a:lnTo>
                            <a:lnTo>
                              <a:pt x="45" y="22"/>
                            </a:lnTo>
                            <a:lnTo>
                              <a:pt x="32" y="25"/>
                            </a:lnTo>
                            <a:lnTo>
                              <a:pt x="18" y="25"/>
                            </a:lnTo>
                            <a:lnTo>
                              <a:pt x="11" y="22"/>
                            </a:lnTo>
                            <a:lnTo>
                              <a:pt x="4" y="19"/>
                            </a:lnTo>
                            <a:lnTo>
                              <a:pt x="0" y="13"/>
                            </a:lnTo>
                            <a:lnTo>
                              <a:pt x="0" y="6"/>
                            </a:lnTo>
                            <a:lnTo>
                              <a:pt x="4" y="0"/>
                            </a:lnTo>
                            <a:lnTo>
                              <a:pt x="11" y="13"/>
                            </a:lnTo>
                            <a:lnTo>
                              <a:pt x="32" y="13"/>
                            </a:lnTo>
                            <a:lnTo>
                              <a:pt x="45" y="9"/>
                            </a:lnTo>
                            <a:lnTo>
                              <a:pt x="45" y="6"/>
                            </a:lnTo>
                            <a:lnTo>
                              <a:pt x="45" y="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2" name=""/>
                      <p:cNvSpPr/>
                      <p:nvPr/>
                    </p:nvSpPr>
                    <p:spPr>
                      <a:xfrm>
                        <a:off x="1046880" y="2053800"/>
                        <a:ext cx="284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41">
                            <a:moveTo>
                              <a:pt x="86" y="28"/>
                            </a:moveTo>
                            <a:lnTo>
                              <a:pt x="86" y="35"/>
                            </a:lnTo>
                            <a:lnTo>
                              <a:pt x="76" y="25"/>
                            </a:lnTo>
                            <a:lnTo>
                              <a:pt x="62" y="28"/>
                            </a:lnTo>
                            <a:lnTo>
                              <a:pt x="52" y="35"/>
                            </a:lnTo>
                            <a:lnTo>
                              <a:pt x="42" y="41"/>
                            </a:lnTo>
                            <a:lnTo>
                              <a:pt x="31" y="38"/>
                            </a:lnTo>
                            <a:lnTo>
                              <a:pt x="24" y="35"/>
                            </a:lnTo>
                            <a:lnTo>
                              <a:pt x="17" y="25"/>
                            </a:lnTo>
                            <a:lnTo>
                              <a:pt x="7" y="22"/>
                            </a:lnTo>
                            <a:lnTo>
                              <a:pt x="0" y="28"/>
                            </a:lnTo>
                            <a:lnTo>
                              <a:pt x="4" y="13"/>
                            </a:lnTo>
                            <a:lnTo>
                              <a:pt x="7" y="0"/>
                            </a:lnTo>
                            <a:lnTo>
                              <a:pt x="10" y="0"/>
                            </a:lnTo>
                            <a:lnTo>
                              <a:pt x="14" y="0"/>
                            </a:lnTo>
                            <a:lnTo>
                              <a:pt x="10" y="10"/>
                            </a:lnTo>
                            <a:lnTo>
                              <a:pt x="14" y="16"/>
                            </a:lnTo>
                            <a:lnTo>
                              <a:pt x="31" y="22"/>
                            </a:lnTo>
                            <a:lnTo>
                              <a:pt x="45" y="22"/>
                            </a:lnTo>
                            <a:lnTo>
                              <a:pt x="55" y="19"/>
                            </a:lnTo>
                            <a:lnTo>
                              <a:pt x="62" y="16"/>
                            </a:lnTo>
                            <a:lnTo>
                              <a:pt x="69" y="3"/>
                            </a:lnTo>
                            <a:lnTo>
                              <a:pt x="73" y="0"/>
                            </a:lnTo>
                            <a:lnTo>
                              <a:pt x="80" y="0"/>
                            </a:lnTo>
                            <a:lnTo>
                              <a:pt x="76" y="6"/>
                            </a:lnTo>
                            <a:lnTo>
                              <a:pt x="76" y="16"/>
                            </a:lnTo>
                            <a:lnTo>
                              <a:pt x="86" y="28"/>
                            </a:lnTo>
                            <a:lnTo>
                              <a:pt x="86" y="2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3" name=""/>
                      <p:cNvSpPr/>
                      <p:nvPr/>
                    </p:nvSpPr>
                    <p:spPr>
                      <a:xfrm>
                        <a:off x="1049040" y="2082240"/>
                        <a:ext cx="2412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" h="31">
                            <a:moveTo>
                              <a:pt x="66" y="0"/>
                            </a:moveTo>
                            <a:lnTo>
                              <a:pt x="66" y="6"/>
                            </a:lnTo>
                            <a:lnTo>
                              <a:pt x="73" y="13"/>
                            </a:lnTo>
                            <a:lnTo>
                              <a:pt x="66" y="22"/>
                            </a:lnTo>
                            <a:lnTo>
                              <a:pt x="55" y="28"/>
                            </a:lnTo>
                            <a:lnTo>
                              <a:pt x="35" y="31"/>
                            </a:lnTo>
                            <a:lnTo>
                              <a:pt x="24" y="31"/>
                            </a:lnTo>
                            <a:lnTo>
                              <a:pt x="17" y="28"/>
                            </a:lnTo>
                            <a:lnTo>
                              <a:pt x="10" y="25"/>
                            </a:lnTo>
                            <a:lnTo>
                              <a:pt x="0" y="19"/>
                            </a:lnTo>
                            <a:lnTo>
                              <a:pt x="0" y="0"/>
                            </a:lnTo>
                            <a:lnTo>
                              <a:pt x="17" y="0"/>
                            </a:lnTo>
                            <a:lnTo>
                              <a:pt x="31" y="0"/>
                            </a:lnTo>
                            <a:lnTo>
                              <a:pt x="48" y="0"/>
                            </a:lnTo>
                            <a:lnTo>
                              <a:pt x="66" y="0"/>
                            </a:lnTo>
                            <a:lnTo>
                              <a:pt x="66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4" name=""/>
                      <p:cNvSpPr/>
                      <p:nvPr/>
                    </p:nvSpPr>
                    <p:spPr>
                      <a:xfrm>
                        <a:off x="1074240" y="2086200"/>
                        <a:ext cx="1476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44">
                            <a:moveTo>
                              <a:pt x="38" y="31"/>
                            </a:moveTo>
                            <a:lnTo>
                              <a:pt x="34" y="34"/>
                            </a:lnTo>
                            <a:lnTo>
                              <a:pt x="24" y="37"/>
                            </a:lnTo>
                            <a:lnTo>
                              <a:pt x="17" y="37"/>
                            </a:lnTo>
                            <a:lnTo>
                              <a:pt x="14" y="41"/>
                            </a:lnTo>
                            <a:lnTo>
                              <a:pt x="7" y="44"/>
                            </a:lnTo>
                            <a:lnTo>
                              <a:pt x="3" y="37"/>
                            </a:lnTo>
                            <a:lnTo>
                              <a:pt x="0" y="31"/>
                            </a:lnTo>
                            <a:lnTo>
                              <a:pt x="0" y="25"/>
                            </a:lnTo>
                            <a:lnTo>
                              <a:pt x="10" y="15"/>
                            </a:lnTo>
                            <a:lnTo>
                              <a:pt x="21" y="6"/>
                            </a:lnTo>
                            <a:lnTo>
                              <a:pt x="31" y="0"/>
                            </a:lnTo>
                            <a:lnTo>
                              <a:pt x="45" y="3"/>
                            </a:lnTo>
                            <a:lnTo>
                              <a:pt x="45" y="9"/>
                            </a:lnTo>
                            <a:lnTo>
                              <a:pt x="41" y="22"/>
                            </a:lnTo>
                            <a:lnTo>
                              <a:pt x="38" y="31"/>
                            </a:lnTo>
                            <a:lnTo>
                              <a:pt x="38" y="31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5" name=""/>
                      <p:cNvSpPr/>
                      <p:nvPr/>
                    </p:nvSpPr>
                    <p:spPr>
                      <a:xfrm>
                        <a:off x="1028520" y="2084040"/>
                        <a:ext cx="180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" h="48">
                            <a:moveTo>
                              <a:pt x="27" y="7"/>
                            </a:moveTo>
                            <a:lnTo>
                              <a:pt x="38" y="13"/>
                            </a:lnTo>
                            <a:lnTo>
                              <a:pt x="48" y="22"/>
                            </a:lnTo>
                            <a:lnTo>
                              <a:pt x="55" y="29"/>
                            </a:lnTo>
                            <a:lnTo>
                              <a:pt x="55" y="38"/>
                            </a:lnTo>
                            <a:lnTo>
                              <a:pt x="45" y="44"/>
                            </a:lnTo>
                            <a:lnTo>
                              <a:pt x="34" y="48"/>
                            </a:lnTo>
                            <a:lnTo>
                              <a:pt x="21" y="48"/>
                            </a:lnTo>
                            <a:lnTo>
                              <a:pt x="10" y="44"/>
                            </a:lnTo>
                            <a:lnTo>
                              <a:pt x="3" y="25"/>
                            </a:lnTo>
                            <a:lnTo>
                              <a:pt x="0" y="19"/>
                            </a:lnTo>
                            <a:lnTo>
                              <a:pt x="3" y="13"/>
                            </a:lnTo>
                            <a:lnTo>
                              <a:pt x="7" y="3"/>
                            </a:lnTo>
                            <a:lnTo>
                              <a:pt x="14" y="0"/>
                            </a:lnTo>
                            <a:lnTo>
                              <a:pt x="24" y="3"/>
                            </a:lnTo>
                            <a:lnTo>
                              <a:pt x="27" y="7"/>
                            </a:lnTo>
                            <a:lnTo>
                              <a:pt x="27" y="7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6" name=""/>
                      <p:cNvSpPr/>
                      <p:nvPr/>
                    </p:nvSpPr>
                    <p:spPr>
                      <a:xfrm>
                        <a:off x="988560" y="2089440"/>
                        <a:ext cx="126720" cy="71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3" h="252">
                            <a:moveTo>
                              <a:pt x="138" y="51"/>
                            </a:moveTo>
                            <a:lnTo>
                              <a:pt x="152" y="54"/>
                            </a:lnTo>
                            <a:lnTo>
                              <a:pt x="162" y="51"/>
                            </a:lnTo>
                            <a:lnTo>
                              <a:pt x="183" y="41"/>
                            </a:lnTo>
                            <a:lnTo>
                              <a:pt x="204" y="35"/>
                            </a:lnTo>
                            <a:lnTo>
                              <a:pt x="214" y="32"/>
                            </a:lnTo>
                            <a:lnTo>
                              <a:pt x="224" y="32"/>
                            </a:lnTo>
                            <a:lnTo>
                              <a:pt x="242" y="41"/>
                            </a:lnTo>
                            <a:lnTo>
                              <a:pt x="262" y="47"/>
                            </a:lnTo>
                            <a:lnTo>
                              <a:pt x="280" y="51"/>
                            </a:lnTo>
                            <a:lnTo>
                              <a:pt x="290" y="51"/>
                            </a:lnTo>
                            <a:lnTo>
                              <a:pt x="297" y="44"/>
                            </a:lnTo>
                            <a:lnTo>
                              <a:pt x="307" y="38"/>
                            </a:lnTo>
                            <a:lnTo>
                              <a:pt x="318" y="32"/>
                            </a:lnTo>
                            <a:lnTo>
                              <a:pt x="325" y="22"/>
                            </a:lnTo>
                            <a:lnTo>
                              <a:pt x="325" y="13"/>
                            </a:lnTo>
                            <a:lnTo>
                              <a:pt x="338" y="19"/>
                            </a:lnTo>
                            <a:lnTo>
                              <a:pt x="345" y="29"/>
                            </a:lnTo>
                            <a:lnTo>
                              <a:pt x="352" y="41"/>
                            </a:lnTo>
                            <a:lnTo>
                              <a:pt x="363" y="51"/>
                            </a:lnTo>
                            <a:lnTo>
                              <a:pt x="352" y="47"/>
                            </a:lnTo>
                            <a:lnTo>
                              <a:pt x="345" y="44"/>
                            </a:lnTo>
                            <a:lnTo>
                              <a:pt x="335" y="38"/>
                            </a:lnTo>
                            <a:lnTo>
                              <a:pt x="325" y="38"/>
                            </a:lnTo>
                            <a:lnTo>
                              <a:pt x="325" y="57"/>
                            </a:lnTo>
                            <a:lnTo>
                              <a:pt x="342" y="66"/>
                            </a:lnTo>
                            <a:lnTo>
                              <a:pt x="352" y="70"/>
                            </a:lnTo>
                            <a:lnTo>
                              <a:pt x="363" y="73"/>
                            </a:lnTo>
                            <a:lnTo>
                              <a:pt x="369" y="66"/>
                            </a:lnTo>
                            <a:lnTo>
                              <a:pt x="369" y="76"/>
                            </a:lnTo>
                            <a:lnTo>
                              <a:pt x="376" y="85"/>
                            </a:lnTo>
                            <a:lnTo>
                              <a:pt x="380" y="98"/>
                            </a:lnTo>
                            <a:lnTo>
                              <a:pt x="383" y="111"/>
                            </a:lnTo>
                            <a:lnTo>
                              <a:pt x="376" y="111"/>
                            </a:lnTo>
                            <a:lnTo>
                              <a:pt x="376" y="95"/>
                            </a:lnTo>
                            <a:lnTo>
                              <a:pt x="369" y="92"/>
                            </a:lnTo>
                            <a:lnTo>
                              <a:pt x="311" y="95"/>
                            </a:lnTo>
                            <a:lnTo>
                              <a:pt x="259" y="101"/>
                            </a:lnTo>
                            <a:lnTo>
                              <a:pt x="207" y="104"/>
                            </a:lnTo>
                            <a:lnTo>
                              <a:pt x="155" y="104"/>
                            </a:lnTo>
                            <a:lnTo>
                              <a:pt x="142" y="98"/>
                            </a:lnTo>
                            <a:lnTo>
                              <a:pt x="131" y="98"/>
                            </a:lnTo>
                            <a:lnTo>
                              <a:pt x="131" y="107"/>
                            </a:lnTo>
                            <a:lnTo>
                              <a:pt x="135" y="114"/>
                            </a:lnTo>
                            <a:lnTo>
                              <a:pt x="138" y="123"/>
                            </a:lnTo>
                            <a:lnTo>
                              <a:pt x="138" y="129"/>
                            </a:lnTo>
                            <a:lnTo>
                              <a:pt x="131" y="177"/>
                            </a:lnTo>
                            <a:lnTo>
                              <a:pt x="124" y="174"/>
                            </a:lnTo>
                            <a:lnTo>
                              <a:pt x="117" y="167"/>
                            </a:lnTo>
                            <a:lnTo>
                              <a:pt x="114" y="161"/>
                            </a:lnTo>
                            <a:lnTo>
                              <a:pt x="104" y="158"/>
                            </a:lnTo>
                            <a:lnTo>
                              <a:pt x="107" y="148"/>
                            </a:lnTo>
                            <a:lnTo>
                              <a:pt x="104" y="136"/>
                            </a:lnTo>
                            <a:lnTo>
                              <a:pt x="100" y="126"/>
                            </a:lnTo>
                            <a:lnTo>
                              <a:pt x="100" y="111"/>
                            </a:lnTo>
                            <a:lnTo>
                              <a:pt x="100" y="98"/>
                            </a:lnTo>
                            <a:lnTo>
                              <a:pt x="97" y="85"/>
                            </a:lnTo>
                            <a:lnTo>
                              <a:pt x="86" y="85"/>
                            </a:lnTo>
                            <a:lnTo>
                              <a:pt x="79" y="88"/>
                            </a:lnTo>
                            <a:lnTo>
                              <a:pt x="72" y="104"/>
                            </a:lnTo>
                            <a:lnTo>
                              <a:pt x="69" y="117"/>
                            </a:lnTo>
                            <a:lnTo>
                              <a:pt x="62" y="129"/>
                            </a:lnTo>
                            <a:lnTo>
                              <a:pt x="62" y="136"/>
                            </a:lnTo>
                            <a:lnTo>
                              <a:pt x="48" y="133"/>
                            </a:lnTo>
                            <a:lnTo>
                              <a:pt x="38" y="133"/>
                            </a:lnTo>
                            <a:lnTo>
                              <a:pt x="28" y="136"/>
                            </a:lnTo>
                            <a:lnTo>
                              <a:pt x="17" y="136"/>
                            </a:lnTo>
                            <a:lnTo>
                              <a:pt x="17" y="152"/>
                            </a:lnTo>
                            <a:lnTo>
                              <a:pt x="31" y="155"/>
                            </a:lnTo>
                            <a:lnTo>
                              <a:pt x="38" y="155"/>
                            </a:lnTo>
                            <a:lnTo>
                              <a:pt x="45" y="158"/>
                            </a:lnTo>
                            <a:lnTo>
                              <a:pt x="59" y="158"/>
                            </a:lnTo>
                            <a:lnTo>
                              <a:pt x="72" y="161"/>
                            </a:lnTo>
                            <a:lnTo>
                              <a:pt x="86" y="170"/>
                            </a:lnTo>
                            <a:lnTo>
                              <a:pt x="97" y="183"/>
                            </a:lnTo>
                            <a:lnTo>
                              <a:pt x="90" y="199"/>
                            </a:lnTo>
                            <a:lnTo>
                              <a:pt x="83" y="211"/>
                            </a:lnTo>
                            <a:lnTo>
                              <a:pt x="76" y="227"/>
                            </a:lnTo>
                            <a:lnTo>
                              <a:pt x="79" y="233"/>
                            </a:lnTo>
                            <a:lnTo>
                              <a:pt x="83" y="243"/>
                            </a:lnTo>
                            <a:lnTo>
                              <a:pt x="76" y="249"/>
                            </a:lnTo>
                            <a:lnTo>
                              <a:pt x="69" y="252"/>
                            </a:lnTo>
                            <a:lnTo>
                              <a:pt x="59" y="252"/>
                            </a:lnTo>
                            <a:lnTo>
                              <a:pt x="55" y="249"/>
                            </a:lnTo>
                            <a:lnTo>
                              <a:pt x="31" y="227"/>
                            </a:lnTo>
                            <a:lnTo>
                              <a:pt x="24" y="218"/>
                            </a:lnTo>
                            <a:lnTo>
                              <a:pt x="14" y="208"/>
                            </a:lnTo>
                            <a:lnTo>
                              <a:pt x="7" y="199"/>
                            </a:lnTo>
                            <a:lnTo>
                              <a:pt x="3" y="186"/>
                            </a:lnTo>
                            <a:lnTo>
                              <a:pt x="3" y="174"/>
                            </a:lnTo>
                            <a:lnTo>
                              <a:pt x="3" y="164"/>
                            </a:lnTo>
                            <a:lnTo>
                              <a:pt x="3" y="164"/>
                            </a:lnTo>
                            <a:lnTo>
                              <a:pt x="0" y="148"/>
                            </a:lnTo>
                            <a:lnTo>
                              <a:pt x="3" y="136"/>
                            </a:lnTo>
                            <a:lnTo>
                              <a:pt x="7" y="123"/>
                            </a:lnTo>
                            <a:lnTo>
                              <a:pt x="10" y="111"/>
                            </a:lnTo>
                            <a:lnTo>
                              <a:pt x="21" y="117"/>
                            </a:lnTo>
                            <a:lnTo>
                              <a:pt x="31" y="111"/>
                            </a:lnTo>
                            <a:lnTo>
                              <a:pt x="38" y="107"/>
                            </a:lnTo>
                            <a:lnTo>
                              <a:pt x="41" y="104"/>
                            </a:lnTo>
                            <a:lnTo>
                              <a:pt x="41" y="98"/>
                            </a:lnTo>
                            <a:lnTo>
                              <a:pt x="38" y="92"/>
                            </a:lnTo>
                            <a:lnTo>
                              <a:pt x="31" y="85"/>
                            </a:lnTo>
                            <a:lnTo>
                              <a:pt x="17" y="85"/>
                            </a:lnTo>
                            <a:lnTo>
                              <a:pt x="24" y="66"/>
                            </a:lnTo>
                            <a:lnTo>
                              <a:pt x="38" y="54"/>
                            </a:lnTo>
                            <a:lnTo>
                              <a:pt x="52" y="41"/>
                            </a:lnTo>
                            <a:lnTo>
                              <a:pt x="69" y="32"/>
                            </a:lnTo>
                            <a:lnTo>
                              <a:pt x="69" y="35"/>
                            </a:lnTo>
                            <a:lnTo>
                              <a:pt x="76" y="38"/>
                            </a:lnTo>
                            <a:lnTo>
                              <a:pt x="83" y="35"/>
                            </a:lnTo>
                            <a:lnTo>
                              <a:pt x="90" y="32"/>
                            </a:lnTo>
                            <a:lnTo>
                              <a:pt x="93" y="22"/>
                            </a:lnTo>
                            <a:lnTo>
                              <a:pt x="93" y="19"/>
                            </a:lnTo>
                            <a:lnTo>
                              <a:pt x="90" y="13"/>
                            </a:lnTo>
                            <a:lnTo>
                              <a:pt x="83" y="13"/>
                            </a:lnTo>
                            <a:lnTo>
                              <a:pt x="97" y="0"/>
                            </a:lnTo>
                            <a:lnTo>
                              <a:pt x="100" y="19"/>
                            </a:lnTo>
                            <a:lnTo>
                              <a:pt x="107" y="32"/>
                            </a:lnTo>
                            <a:lnTo>
                              <a:pt x="121" y="44"/>
                            </a:lnTo>
                            <a:lnTo>
                              <a:pt x="138" y="51"/>
                            </a:lnTo>
                            <a:lnTo>
                              <a:pt x="138" y="51"/>
                            </a:lnTo>
                            <a:close/>
                          </a:path>
                        </a:pathLst>
                      </a:custGeom>
                      <a:solidFill>
                        <a:srgbClr val="99336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7" name=""/>
                      <p:cNvSpPr/>
                      <p:nvPr/>
                    </p:nvSpPr>
                    <p:spPr>
                      <a:xfrm>
                        <a:off x="894960" y="2098440"/>
                        <a:ext cx="57960" cy="5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6" h="195">
                            <a:moveTo>
                              <a:pt x="100" y="12"/>
                            </a:moveTo>
                            <a:lnTo>
                              <a:pt x="117" y="25"/>
                            </a:lnTo>
                            <a:lnTo>
                              <a:pt x="134" y="34"/>
                            </a:lnTo>
                            <a:lnTo>
                              <a:pt x="152" y="44"/>
                            </a:lnTo>
                            <a:lnTo>
                              <a:pt x="159" y="50"/>
                            </a:lnTo>
                            <a:lnTo>
                              <a:pt x="166" y="60"/>
                            </a:lnTo>
                            <a:lnTo>
                              <a:pt x="172" y="75"/>
                            </a:lnTo>
                            <a:lnTo>
                              <a:pt x="176" y="97"/>
                            </a:lnTo>
                            <a:lnTo>
                              <a:pt x="172" y="120"/>
                            </a:lnTo>
                            <a:lnTo>
                              <a:pt x="166" y="142"/>
                            </a:lnTo>
                            <a:lnTo>
                              <a:pt x="159" y="154"/>
                            </a:lnTo>
                            <a:lnTo>
                              <a:pt x="152" y="164"/>
                            </a:lnTo>
                            <a:lnTo>
                              <a:pt x="145" y="173"/>
                            </a:lnTo>
                            <a:lnTo>
                              <a:pt x="134" y="179"/>
                            </a:lnTo>
                            <a:lnTo>
                              <a:pt x="124" y="186"/>
                            </a:lnTo>
                            <a:lnTo>
                              <a:pt x="114" y="192"/>
                            </a:lnTo>
                            <a:lnTo>
                              <a:pt x="100" y="195"/>
                            </a:lnTo>
                            <a:lnTo>
                              <a:pt x="86" y="195"/>
                            </a:lnTo>
                            <a:lnTo>
                              <a:pt x="65" y="192"/>
                            </a:lnTo>
                            <a:lnTo>
                              <a:pt x="45" y="183"/>
                            </a:lnTo>
                            <a:lnTo>
                              <a:pt x="34" y="179"/>
                            </a:lnTo>
                            <a:lnTo>
                              <a:pt x="27" y="170"/>
                            </a:lnTo>
                            <a:lnTo>
                              <a:pt x="20" y="161"/>
                            </a:lnTo>
                            <a:lnTo>
                              <a:pt x="14" y="151"/>
                            </a:lnTo>
                            <a:lnTo>
                              <a:pt x="7" y="132"/>
                            </a:lnTo>
                            <a:lnTo>
                              <a:pt x="0" y="113"/>
                            </a:lnTo>
                            <a:lnTo>
                              <a:pt x="0" y="97"/>
                            </a:lnTo>
                            <a:lnTo>
                              <a:pt x="0" y="85"/>
                            </a:lnTo>
                            <a:lnTo>
                              <a:pt x="3" y="66"/>
                            </a:lnTo>
                            <a:lnTo>
                              <a:pt x="7" y="60"/>
                            </a:lnTo>
                            <a:lnTo>
                              <a:pt x="17" y="56"/>
                            </a:lnTo>
                            <a:lnTo>
                              <a:pt x="38" y="44"/>
                            </a:lnTo>
                            <a:lnTo>
                              <a:pt x="52" y="38"/>
                            </a:lnTo>
                            <a:lnTo>
                              <a:pt x="65" y="25"/>
                            </a:lnTo>
                            <a:lnTo>
                              <a:pt x="79" y="15"/>
                            </a:lnTo>
                            <a:lnTo>
                              <a:pt x="93" y="0"/>
                            </a:lnTo>
                            <a:lnTo>
                              <a:pt x="100" y="3"/>
                            </a:lnTo>
                            <a:lnTo>
                              <a:pt x="100" y="12"/>
                            </a:lnTo>
                            <a:lnTo>
                              <a:pt x="100" y="12"/>
                            </a:lnTo>
                            <a:close/>
                          </a:path>
                        </a:pathLst>
                      </a:custGeom>
                      <a:solidFill>
                        <a:srgbClr val="ffcc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8" name=""/>
                      <p:cNvSpPr/>
                      <p:nvPr/>
                    </p:nvSpPr>
                    <p:spPr>
                      <a:xfrm>
                        <a:off x="1009080" y="2103840"/>
                        <a:ext cx="684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22">
                            <a:moveTo>
                              <a:pt x="21" y="0"/>
                            </a:moveTo>
                            <a:lnTo>
                              <a:pt x="17" y="15"/>
                            </a:lnTo>
                            <a:lnTo>
                              <a:pt x="14" y="22"/>
                            </a:lnTo>
                            <a:lnTo>
                              <a:pt x="4" y="15"/>
                            </a:lnTo>
                            <a:lnTo>
                              <a:pt x="0" y="6"/>
                            </a:lnTo>
                            <a:lnTo>
                              <a:pt x="4" y="3"/>
                            </a:lnTo>
                            <a:lnTo>
                              <a:pt x="7" y="0"/>
                            </a:lnTo>
                            <a:lnTo>
                              <a:pt x="17" y="0"/>
                            </a:lnTo>
                            <a:lnTo>
                              <a:pt x="21" y="0"/>
                            </a:lnTo>
                            <a:lnTo>
                              <a:pt x="21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9" name=""/>
                      <p:cNvSpPr/>
                      <p:nvPr/>
                    </p:nvSpPr>
                    <p:spPr>
                      <a:xfrm>
                        <a:off x="1027080" y="2103840"/>
                        <a:ext cx="68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28">
                            <a:moveTo>
                              <a:pt x="21" y="15"/>
                            </a:moveTo>
                            <a:lnTo>
                              <a:pt x="21" y="19"/>
                            </a:lnTo>
                            <a:lnTo>
                              <a:pt x="14" y="28"/>
                            </a:lnTo>
                            <a:lnTo>
                              <a:pt x="4" y="22"/>
                            </a:lnTo>
                            <a:lnTo>
                              <a:pt x="0" y="15"/>
                            </a:lnTo>
                            <a:lnTo>
                              <a:pt x="0" y="6"/>
                            </a:lnTo>
                            <a:lnTo>
                              <a:pt x="7" y="0"/>
                            </a:lnTo>
                            <a:lnTo>
                              <a:pt x="18" y="6"/>
                            </a:lnTo>
                            <a:lnTo>
                              <a:pt x="21" y="15"/>
                            </a:lnTo>
                            <a:lnTo>
                              <a:pt x="21" y="1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0" name=""/>
                      <p:cNvSpPr/>
                      <p:nvPr/>
                    </p:nvSpPr>
                    <p:spPr>
                      <a:xfrm>
                        <a:off x="1075320" y="2105640"/>
                        <a:ext cx="90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28">
                            <a:moveTo>
                              <a:pt x="28" y="16"/>
                            </a:moveTo>
                            <a:lnTo>
                              <a:pt x="25" y="22"/>
                            </a:lnTo>
                            <a:lnTo>
                              <a:pt x="14" y="28"/>
                            </a:lnTo>
                            <a:lnTo>
                              <a:pt x="7" y="25"/>
                            </a:lnTo>
                            <a:lnTo>
                              <a:pt x="0" y="16"/>
                            </a:lnTo>
                            <a:lnTo>
                              <a:pt x="4" y="6"/>
                            </a:lnTo>
                            <a:lnTo>
                              <a:pt x="7" y="0"/>
                            </a:lnTo>
                            <a:lnTo>
                              <a:pt x="21" y="3"/>
                            </a:lnTo>
                            <a:lnTo>
                              <a:pt x="25" y="6"/>
                            </a:lnTo>
                            <a:lnTo>
                              <a:pt x="28" y="16"/>
                            </a:lnTo>
                            <a:lnTo>
                              <a:pt x="28" y="1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1" name=""/>
                      <p:cNvSpPr/>
                      <p:nvPr/>
                    </p:nvSpPr>
                    <p:spPr>
                      <a:xfrm>
                        <a:off x="1049040" y="2105640"/>
                        <a:ext cx="684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22">
                            <a:moveTo>
                              <a:pt x="21" y="9"/>
                            </a:moveTo>
                            <a:lnTo>
                              <a:pt x="21" y="16"/>
                            </a:lnTo>
                            <a:lnTo>
                              <a:pt x="14" y="22"/>
                            </a:lnTo>
                            <a:lnTo>
                              <a:pt x="3" y="19"/>
                            </a:lnTo>
                            <a:lnTo>
                              <a:pt x="0" y="16"/>
                            </a:lnTo>
                            <a:lnTo>
                              <a:pt x="0" y="6"/>
                            </a:lnTo>
                            <a:lnTo>
                              <a:pt x="7" y="0"/>
                            </a:lnTo>
                            <a:lnTo>
                              <a:pt x="17" y="3"/>
                            </a:lnTo>
                            <a:lnTo>
                              <a:pt x="21" y="9"/>
                            </a:lnTo>
                            <a:lnTo>
                              <a:pt x="21" y="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2" name=""/>
                      <p:cNvSpPr/>
                      <p:nvPr/>
                    </p:nvSpPr>
                    <p:spPr>
                      <a:xfrm>
                        <a:off x="1058400" y="2111760"/>
                        <a:ext cx="64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19">
                            <a:moveTo>
                              <a:pt x="20" y="6"/>
                            </a:moveTo>
                            <a:lnTo>
                              <a:pt x="17" y="13"/>
                            </a:lnTo>
                            <a:lnTo>
                              <a:pt x="7" y="19"/>
                            </a:lnTo>
                            <a:lnTo>
                              <a:pt x="3" y="19"/>
                            </a:lnTo>
                            <a:lnTo>
                              <a:pt x="0" y="13"/>
                            </a:lnTo>
                            <a:lnTo>
                              <a:pt x="0" y="6"/>
                            </a:lnTo>
                            <a:lnTo>
                              <a:pt x="7" y="0"/>
                            </a:lnTo>
                            <a:lnTo>
                              <a:pt x="17" y="0"/>
                            </a:lnTo>
                            <a:lnTo>
                              <a:pt x="20" y="6"/>
                            </a:lnTo>
                            <a:lnTo>
                              <a:pt x="20" y="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3" name=""/>
                      <p:cNvSpPr/>
                      <p:nvPr/>
                    </p:nvSpPr>
                    <p:spPr>
                      <a:xfrm>
                        <a:off x="914040" y="2115720"/>
                        <a:ext cx="684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34">
                            <a:moveTo>
                              <a:pt x="21" y="25"/>
                            </a:moveTo>
                            <a:lnTo>
                              <a:pt x="18" y="31"/>
                            </a:lnTo>
                            <a:lnTo>
                              <a:pt x="14" y="34"/>
                            </a:lnTo>
                            <a:lnTo>
                              <a:pt x="7" y="31"/>
                            </a:lnTo>
                            <a:lnTo>
                              <a:pt x="7" y="19"/>
                            </a:lnTo>
                            <a:lnTo>
                              <a:pt x="4" y="12"/>
                            </a:lnTo>
                            <a:lnTo>
                              <a:pt x="0" y="6"/>
                            </a:lnTo>
                            <a:lnTo>
                              <a:pt x="4" y="3"/>
                            </a:lnTo>
                            <a:lnTo>
                              <a:pt x="14" y="0"/>
                            </a:lnTo>
                            <a:lnTo>
                              <a:pt x="21" y="3"/>
                            </a:lnTo>
                            <a:lnTo>
                              <a:pt x="21" y="6"/>
                            </a:lnTo>
                            <a:lnTo>
                              <a:pt x="21" y="25"/>
                            </a:lnTo>
                            <a:lnTo>
                              <a:pt x="21" y="2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4" name=""/>
                      <p:cNvSpPr/>
                      <p:nvPr/>
                    </p:nvSpPr>
                    <p:spPr>
                      <a:xfrm>
                        <a:off x="928080" y="2115720"/>
                        <a:ext cx="684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34">
                            <a:moveTo>
                              <a:pt x="21" y="25"/>
                            </a:moveTo>
                            <a:lnTo>
                              <a:pt x="21" y="31"/>
                            </a:lnTo>
                            <a:lnTo>
                              <a:pt x="14" y="34"/>
                            </a:lnTo>
                            <a:lnTo>
                              <a:pt x="7" y="31"/>
                            </a:lnTo>
                            <a:lnTo>
                              <a:pt x="0" y="19"/>
                            </a:lnTo>
                            <a:lnTo>
                              <a:pt x="3" y="6"/>
                            </a:lnTo>
                            <a:lnTo>
                              <a:pt x="7" y="3"/>
                            </a:lnTo>
                            <a:lnTo>
                              <a:pt x="14" y="0"/>
                            </a:lnTo>
                            <a:lnTo>
                              <a:pt x="17" y="3"/>
                            </a:lnTo>
                            <a:lnTo>
                              <a:pt x="21" y="6"/>
                            </a:lnTo>
                            <a:lnTo>
                              <a:pt x="21" y="25"/>
                            </a:lnTo>
                            <a:lnTo>
                              <a:pt x="21" y="2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5" name=""/>
                      <p:cNvSpPr/>
                      <p:nvPr/>
                    </p:nvSpPr>
                    <p:spPr>
                      <a:xfrm>
                        <a:off x="1023120" y="2117160"/>
                        <a:ext cx="6480" cy="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25">
                            <a:moveTo>
                              <a:pt x="20" y="13"/>
                            </a:moveTo>
                            <a:lnTo>
                              <a:pt x="20" y="19"/>
                            </a:lnTo>
                            <a:lnTo>
                              <a:pt x="13" y="25"/>
                            </a:lnTo>
                            <a:lnTo>
                              <a:pt x="6" y="22"/>
                            </a:lnTo>
                            <a:lnTo>
                              <a:pt x="0" y="13"/>
                            </a:lnTo>
                            <a:lnTo>
                              <a:pt x="3" y="3"/>
                            </a:lnTo>
                            <a:lnTo>
                              <a:pt x="6" y="0"/>
                            </a:lnTo>
                            <a:lnTo>
                              <a:pt x="17" y="3"/>
                            </a:lnTo>
                            <a:lnTo>
                              <a:pt x="20" y="13"/>
                            </a:lnTo>
                            <a:lnTo>
                              <a:pt x="20" y="1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6" name=""/>
                      <p:cNvSpPr/>
                      <p:nvPr/>
                    </p:nvSpPr>
                    <p:spPr>
                      <a:xfrm>
                        <a:off x="1042200" y="2121120"/>
                        <a:ext cx="69480" cy="71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1" h="252">
                            <a:moveTo>
                              <a:pt x="187" y="6"/>
                            </a:moveTo>
                            <a:lnTo>
                              <a:pt x="190" y="18"/>
                            </a:lnTo>
                            <a:lnTo>
                              <a:pt x="190" y="34"/>
                            </a:lnTo>
                            <a:lnTo>
                              <a:pt x="194" y="66"/>
                            </a:lnTo>
                            <a:lnTo>
                              <a:pt x="180" y="69"/>
                            </a:lnTo>
                            <a:lnTo>
                              <a:pt x="166" y="69"/>
                            </a:lnTo>
                            <a:lnTo>
                              <a:pt x="152" y="75"/>
                            </a:lnTo>
                            <a:lnTo>
                              <a:pt x="145" y="78"/>
                            </a:lnTo>
                            <a:lnTo>
                              <a:pt x="142" y="85"/>
                            </a:lnTo>
                            <a:lnTo>
                              <a:pt x="145" y="94"/>
                            </a:lnTo>
                            <a:lnTo>
                              <a:pt x="149" y="100"/>
                            </a:lnTo>
                            <a:lnTo>
                              <a:pt x="159" y="113"/>
                            </a:lnTo>
                            <a:lnTo>
                              <a:pt x="169" y="126"/>
                            </a:lnTo>
                            <a:lnTo>
                              <a:pt x="173" y="132"/>
                            </a:lnTo>
                            <a:lnTo>
                              <a:pt x="169" y="145"/>
                            </a:lnTo>
                            <a:lnTo>
                              <a:pt x="173" y="154"/>
                            </a:lnTo>
                            <a:lnTo>
                              <a:pt x="180" y="163"/>
                            </a:lnTo>
                            <a:lnTo>
                              <a:pt x="194" y="176"/>
                            </a:lnTo>
                            <a:lnTo>
                              <a:pt x="201" y="182"/>
                            </a:lnTo>
                            <a:lnTo>
                              <a:pt x="207" y="186"/>
                            </a:lnTo>
                            <a:lnTo>
                              <a:pt x="211" y="195"/>
                            </a:lnTo>
                            <a:lnTo>
                              <a:pt x="207" y="201"/>
                            </a:lnTo>
                            <a:lnTo>
                              <a:pt x="207" y="223"/>
                            </a:lnTo>
                            <a:lnTo>
                              <a:pt x="204" y="233"/>
                            </a:lnTo>
                            <a:lnTo>
                              <a:pt x="201" y="242"/>
                            </a:lnTo>
                            <a:lnTo>
                              <a:pt x="176" y="245"/>
                            </a:lnTo>
                            <a:lnTo>
                              <a:pt x="156" y="249"/>
                            </a:lnTo>
                            <a:lnTo>
                              <a:pt x="131" y="252"/>
                            </a:lnTo>
                            <a:lnTo>
                              <a:pt x="111" y="252"/>
                            </a:lnTo>
                            <a:lnTo>
                              <a:pt x="87" y="252"/>
                            </a:lnTo>
                            <a:lnTo>
                              <a:pt x="66" y="252"/>
                            </a:lnTo>
                            <a:lnTo>
                              <a:pt x="21" y="249"/>
                            </a:lnTo>
                            <a:lnTo>
                              <a:pt x="11" y="230"/>
                            </a:lnTo>
                            <a:lnTo>
                              <a:pt x="7" y="211"/>
                            </a:lnTo>
                            <a:lnTo>
                              <a:pt x="7" y="189"/>
                            </a:lnTo>
                            <a:lnTo>
                              <a:pt x="7" y="170"/>
                            </a:lnTo>
                            <a:lnTo>
                              <a:pt x="18" y="163"/>
                            </a:lnTo>
                            <a:lnTo>
                              <a:pt x="28" y="154"/>
                            </a:lnTo>
                            <a:lnTo>
                              <a:pt x="35" y="145"/>
                            </a:lnTo>
                            <a:lnTo>
                              <a:pt x="35" y="132"/>
                            </a:lnTo>
                            <a:lnTo>
                              <a:pt x="35" y="122"/>
                            </a:lnTo>
                            <a:lnTo>
                              <a:pt x="38" y="116"/>
                            </a:lnTo>
                            <a:lnTo>
                              <a:pt x="52" y="104"/>
                            </a:lnTo>
                            <a:lnTo>
                              <a:pt x="59" y="100"/>
                            </a:lnTo>
                            <a:lnTo>
                              <a:pt x="62" y="94"/>
                            </a:lnTo>
                            <a:lnTo>
                              <a:pt x="66" y="88"/>
                            </a:lnTo>
                            <a:lnTo>
                              <a:pt x="62" y="78"/>
                            </a:lnTo>
                            <a:lnTo>
                              <a:pt x="49" y="69"/>
                            </a:lnTo>
                            <a:lnTo>
                              <a:pt x="31" y="66"/>
                            </a:lnTo>
                            <a:lnTo>
                              <a:pt x="14" y="66"/>
                            </a:lnTo>
                            <a:lnTo>
                              <a:pt x="0" y="66"/>
                            </a:lnTo>
                            <a:lnTo>
                              <a:pt x="0" y="18"/>
                            </a:lnTo>
                            <a:lnTo>
                              <a:pt x="42" y="15"/>
                            </a:lnTo>
                            <a:lnTo>
                              <a:pt x="83" y="12"/>
                            </a:lnTo>
                            <a:lnTo>
                              <a:pt x="121" y="9"/>
                            </a:lnTo>
                            <a:lnTo>
                              <a:pt x="142" y="3"/>
                            </a:lnTo>
                            <a:lnTo>
                              <a:pt x="163" y="0"/>
                            </a:lnTo>
                            <a:lnTo>
                              <a:pt x="187" y="6"/>
                            </a:lnTo>
                            <a:lnTo>
                              <a:pt x="187" y="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7" name=""/>
                      <p:cNvSpPr/>
                      <p:nvPr/>
                    </p:nvSpPr>
                    <p:spPr>
                      <a:xfrm>
                        <a:off x="1114200" y="2124360"/>
                        <a:ext cx="1476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66">
                            <a:moveTo>
                              <a:pt x="45" y="35"/>
                            </a:moveTo>
                            <a:lnTo>
                              <a:pt x="45" y="47"/>
                            </a:lnTo>
                            <a:lnTo>
                              <a:pt x="45" y="57"/>
                            </a:lnTo>
                            <a:lnTo>
                              <a:pt x="38" y="66"/>
                            </a:lnTo>
                            <a:lnTo>
                              <a:pt x="34" y="60"/>
                            </a:lnTo>
                            <a:lnTo>
                              <a:pt x="27" y="54"/>
                            </a:lnTo>
                            <a:lnTo>
                              <a:pt x="17" y="47"/>
                            </a:lnTo>
                            <a:lnTo>
                              <a:pt x="3" y="54"/>
                            </a:lnTo>
                            <a:lnTo>
                              <a:pt x="0" y="38"/>
                            </a:lnTo>
                            <a:lnTo>
                              <a:pt x="0" y="19"/>
                            </a:lnTo>
                            <a:lnTo>
                              <a:pt x="0" y="6"/>
                            </a:lnTo>
                            <a:lnTo>
                              <a:pt x="3" y="3"/>
                            </a:lnTo>
                            <a:lnTo>
                              <a:pt x="10" y="0"/>
                            </a:lnTo>
                            <a:lnTo>
                              <a:pt x="21" y="6"/>
                            </a:lnTo>
                            <a:lnTo>
                              <a:pt x="31" y="16"/>
                            </a:lnTo>
                            <a:lnTo>
                              <a:pt x="41" y="25"/>
                            </a:lnTo>
                            <a:lnTo>
                              <a:pt x="45" y="35"/>
                            </a:lnTo>
                            <a:lnTo>
                              <a:pt x="45" y="35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8" name=""/>
                      <p:cNvSpPr/>
                      <p:nvPr/>
                    </p:nvSpPr>
                    <p:spPr>
                      <a:xfrm>
                        <a:off x="917640" y="2127960"/>
                        <a:ext cx="12240" cy="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25">
                            <a:moveTo>
                              <a:pt x="31" y="22"/>
                            </a:moveTo>
                            <a:lnTo>
                              <a:pt x="21" y="25"/>
                            </a:lnTo>
                            <a:lnTo>
                              <a:pt x="10" y="22"/>
                            </a:lnTo>
                            <a:lnTo>
                              <a:pt x="0" y="12"/>
                            </a:lnTo>
                            <a:lnTo>
                              <a:pt x="0" y="6"/>
                            </a:lnTo>
                            <a:lnTo>
                              <a:pt x="3" y="0"/>
                            </a:lnTo>
                            <a:lnTo>
                              <a:pt x="10" y="9"/>
                            </a:lnTo>
                            <a:lnTo>
                              <a:pt x="17" y="16"/>
                            </a:lnTo>
                            <a:lnTo>
                              <a:pt x="27" y="12"/>
                            </a:lnTo>
                            <a:lnTo>
                              <a:pt x="38" y="6"/>
                            </a:lnTo>
                            <a:lnTo>
                              <a:pt x="38" y="16"/>
                            </a:lnTo>
                            <a:lnTo>
                              <a:pt x="34" y="19"/>
                            </a:lnTo>
                            <a:lnTo>
                              <a:pt x="31" y="22"/>
                            </a:lnTo>
                            <a:lnTo>
                              <a:pt x="31" y="2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9" name=""/>
                      <p:cNvSpPr/>
                      <p:nvPr/>
                    </p:nvSpPr>
                    <p:spPr>
                      <a:xfrm>
                        <a:off x="1005840" y="2137680"/>
                        <a:ext cx="10080" cy="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23">
                            <a:moveTo>
                              <a:pt x="31" y="7"/>
                            </a:moveTo>
                            <a:lnTo>
                              <a:pt x="27" y="13"/>
                            </a:lnTo>
                            <a:lnTo>
                              <a:pt x="20" y="16"/>
                            </a:lnTo>
                            <a:lnTo>
                              <a:pt x="10" y="19"/>
                            </a:lnTo>
                            <a:lnTo>
                              <a:pt x="7" y="23"/>
                            </a:lnTo>
                            <a:lnTo>
                              <a:pt x="3" y="13"/>
                            </a:lnTo>
                            <a:lnTo>
                              <a:pt x="0" y="10"/>
                            </a:lnTo>
                            <a:lnTo>
                              <a:pt x="7" y="7"/>
                            </a:lnTo>
                            <a:lnTo>
                              <a:pt x="17" y="4"/>
                            </a:lnTo>
                            <a:lnTo>
                              <a:pt x="24" y="0"/>
                            </a:lnTo>
                            <a:lnTo>
                              <a:pt x="27" y="0"/>
                            </a:lnTo>
                            <a:lnTo>
                              <a:pt x="31" y="7"/>
                            </a:lnTo>
                            <a:lnTo>
                              <a:pt x="31" y="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0" name=""/>
                      <p:cNvSpPr/>
                      <p:nvPr/>
                    </p:nvSpPr>
                    <p:spPr>
                      <a:xfrm>
                        <a:off x="914040" y="2139840"/>
                        <a:ext cx="205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22">
                            <a:moveTo>
                              <a:pt x="35" y="19"/>
                            </a:moveTo>
                            <a:lnTo>
                              <a:pt x="25" y="22"/>
                            </a:lnTo>
                            <a:lnTo>
                              <a:pt x="14" y="16"/>
                            </a:lnTo>
                            <a:lnTo>
                              <a:pt x="7" y="9"/>
                            </a:lnTo>
                            <a:lnTo>
                              <a:pt x="0" y="0"/>
                            </a:lnTo>
                            <a:lnTo>
                              <a:pt x="14" y="3"/>
                            </a:lnTo>
                            <a:lnTo>
                              <a:pt x="32" y="3"/>
                            </a:lnTo>
                            <a:lnTo>
                              <a:pt x="49" y="3"/>
                            </a:lnTo>
                            <a:lnTo>
                              <a:pt x="63" y="0"/>
                            </a:lnTo>
                            <a:lnTo>
                              <a:pt x="63" y="6"/>
                            </a:lnTo>
                            <a:lnTo>
                              <a:pt x="56" y="12"/>
                            </a:lnTo>
                            <a:lnTo>
                              <a:pt x="35" y="19"/>
                            </a:lnTo>
                            <a:lnTo>
                              <a:pt x="35" y="1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1" name=""/>
                      <p:cNvSpPr/>
                      <p:nvPr/>
                    </p:nvSpPr>
                    <p:spPr>
                      <a:xfrm>
                        <a:off x="993960" y="2139840"/>
                        <a:ext cx="684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31">
                            <a:moveTo>
                              <a:pt x="21" y="12"/>
                            </a:moveTo>
                            <a:lnTo>
                              <a:pt x="21" y="22"/>
                            </a:lnTo>
                            <a:lnTo>
                              <a:pt x="14" y="31"/>
                            </a:lnTo>
                            <a:lnTo>
                              <a:pt x="7" y="31"/>
                            </a:lnTo>
                            <a:lnTo>
                              <a:pt x="4" y="25"/>
                            </a:lnTo>
                            <a:lnTo>
                              <a:pt x="0" y="12"/>
                            </a:lnTo>
                            <a:lnTo>
                              <a:pt x="0" y="6"/>
                            </a:lnTo>
                            <a:lnTo>
                              <a:pt x="7" y="0"/>
                            </a:lnTo>
                            <a:lnTo>
                              <a:pt x="17" y="3"/>
                            </a:lnTo>
                            <a:lnTo>
                              <a:pt x="21" y="12"/>
                            </a:lnTo>
                            <a:lnTo>
                              <a:pt x="21" y="1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2" name=""/>
                      <p:cNvSpPr/>
                      <p:nvPr/>
                    </p:nvSpPr>
                    <p:spPr>
                      <a:xfrm>
                        <a:off x="1100520" y="2145960"/>
                        <a:ext cx="2412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" h="72">
                            <a:moveTo>
                              <a:pt x="73" y="22"/>
                            </a:moveTo>
                            <a:lnTo>
                              <a:pt x="73" y="44"/>
                            </a:lnTo>
                            <a:lnTo>
                              <a:pt x="69" y="53"/>
                            </a:lnTo>
                            <a:lnTo>
                              <a:pt x="66" y="63"/>
                            </a:lnTo>
                            <a:lnTo>
                              <a:pt x="56" y="66"/>
                            </a:lnTo>
                            <a:lnTo>
                              <a:pt x="52" y="66"/>
                            </a:lnTo>
                            <a:lnTo>
                              <a:pt x="45" y="69"/>
                            </a:lnTo>
                            <a:lnTo>
                              <a:pt x="35" y="72"/>
                            </a:lnTo>
                            <a:lnTo>
                              <a:pt x="28" y="69"/>
                            </a:lnTo>
                            <a:lnTo>
                              <a:pt x="25" y="63"/>
                            </a:lnTo>
                            <a:lnTo>
                              <a:pt x="25" y="53"/>
                            </a:lnTo>
                            <a:lnTo>
                              <a:pt x="21" y="50"/>
                            </a:lnTo>
                            <a:lnTo>
                              <a:pt x="18" y="44"/>
                            </a:lnTo>
                            <a:lnTo>
                              <a:pt x="18" y="38"/>
                            </a:lnTo>
                            <a:lnTo>
                              <a:pt x="18" y="28"/>
                            </a:lnTo>
                            <a:lnTo>
                              <a:pt x="18" y="22"/>
                            </a:lnTo>
                            <a:lnTo>
                              <a:pt x="11" y="12"/>
                            </a:lnTo>
                            <a:lnTo>
                              <a:pt x="4" y="9"/>
                            </a:lnTo>
                            <a:lnTo>
                              <a:pt x="0" y="3"/>
                            </a:lnTo>
                            <a:lnTo>
                              <a:pt x="4" y="3"/>
                            </a:lnTo>
                            <a:lnTo>
                              <a:pt x="18" y="0"/>
                            </a:lnTo>
                            <a:lnTo>
                              <a:pt x="31" y="0"/>
                            </a:lnTo>
                            <a:lnTo>
                              <a:pt x="45" y="0"/>
                            </a:lnTo>
                            <a:lnTo>
                              <a:pt x="59" y="3"/>
                            </a:lnTo>
                            <a:lnTo>
                              <a:pt x="73" y="22"/>
                            </a:lnTo>
                            <a:lnTo>
                              <a:pt x="73" y="2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3" name=""/>
                      <p:cNvSpPr/>
                      <p:nvPr/>
                    </p:nvSpPr>
                    <p:spPr>
                      <a:xfrm>
                        <a:off x="1023120" y="2143080"/>
                        <a:ext cx="32760" cy="2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85">
                            <a:moveTo>
                              <a:pt x="51" y="13"/>
                            </a:moveTo>
                            <a:lnTo>
                              <a:pt x="76" y="10"/>
                            </a:lnTo>
                            <a:lnTo>
                              <a:pt x="86" y="7"/>
                            </a:lnTo>
                            <a:lnTo>
                              <a:pt x="100" y="7"/>
                            </a:lnTo>
                            <a:lnTo>
                              <a:pt x="89" y="16"/>
                            </a:lnTo>
                            <a:lnTo>
                              <a:pt x="79" y="29"/>
                            </a:lnTo>
                            <a:lnTo>
                              <a:pt x="72" y="38"/>
                            </a:lnTo>
                            <a:lnTo>
                              <a:pt x="72" y="54"/>
                            </a:lnTo>
                            <a:lnTo>
                              <a:pt x="65" y="60"/>
                            </a:lnTo>
                            <a:lnTo>
                              <a:pt x="58" y="70"/>
                            </a:lnTo>
                            <a:lnTo>
                              <a:pt x="44" y="79"/>
                            </a:lnTo>
                            <a:lnTo>
                              <a:pt x="27" y="85"/>
                            </a:lnTo>
                            <a:lnTo>
                              <a:pt x="13" y="85"/>
                            </a:lnTo>
                            <a:lnTo>
                              <a:pt x="6" y="73"/>
                            </a:lnTo>
                            <a:lnTo>
                              <a:pt x="3" y="57"/>
                            </a:lnTo>
                            <a:lnTo>
                              <a:pt x="0" y="44"/>
                            </a:lnTo>
                            <a:lnTo>
                              <a:pt x="0" y="26"/>
                            </a:lnTo>
                            <a:lnTo>
                              <a:pt x="13" y="16"/>
                            </a:lnTo>
                            <a:lnTo>
                              <a:pt x="27" y="7"/>
                            </a:lnTo>
                            <a:lnTo>
                              <a:pt x="34" y="0"/>
                            </a:lnTo>
                            <a:lnTo>
                              <a:pt x="41" y="0"/>
                            </a:lnTo>
                            <a:lnTo>
                              <a:pt x="48" y="4"/>
                            </a:lnTo>
                            <a:lnTo>
                              <a:pt x="51" y="13"/>
                            </a:lnTo>
                            <a:lnTo>
                              <a:pt x="51" y="1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680" bIns="-22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4" name=""/>
                      <p:cNvSpPr/>
                      <p:nvPr/>
                    </p:nvSpPr>
                    <p:spPr>
                      <a:xfrm>
                        <a:off x="889200" y="2153880"/>
                        <a:ext cx="69480" cy="5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0" h="211">
                            <a:moveTo>
                              <a:pt x="69" y="10"/>
                            </a:moveTo>
                            <a:lnTo>
                              <a:pt x="72" y="32"/>
                            </a:lnTo>
                            <a:lnTo>
                              <a:pt x="82" y="54"/>
                            </a:lnTo>
                            <a:lnTo>
                              <a:pt x="96" y="73"/>
                            </a:lnTo>
                            <a:lnTo>
                              <a:pt x="110" y="95"/>
                            </a:lnTo>
                            <a:lnTo>
                              <a:pt x="120" y="88"/>
                            </a:lnTo>
                            <a:lnTo>
                              <a:pt x="131" y="79"/>
                            </a:lnTo>
                            <a:lnTo>
                              <a:pt x="138" y="70"/>
                            </a:lnTo>
                            <a:lnTo>
                              <a:pt x="145" y="57"/>
                            </a:lnTo>
                            <a:lnTo>
                              <a:pt x="151" y="35"/>
                            </a:lnTo>
                            <a:lnTo>
                              <a:pt x="158" y="10"/>
                            </a:lnTo>
                            <a:lnTo>
                              <a:pt x="176" y="22"/>
                            </a:lnTo>
                            <a:lnTo>
                              <a:pt x="189" y="41"/>
                            </a:lnTo>
                            <a:lnTo>
                              <a:pt x="200" y="57"/>
                            </a:lnTo>
                            <a:lnTo>
                              <a:pt x="207" y="76"/>
                            </a:lnTo>
                            <a:lnTo>
                              <a:pt x="210" y="95"/>
                            </a:lnTo>
                            <a:lnTo>
                              <a:pt x="210" y="114"/>
                            </a:lnTo>
                            <a:lnTo>
                              <a:pt x="210" y="133"/>
                            </a:lnTo>
                            <a:lnTo>
                              <a:pt x="203" y="152"/>
                            </a:lnTo>
                            <a:lnTo>
                              <a:pt x="189" y="145"/>
                            </a:lnTo>
                            <a:lnTo>
                              <a:pt x="189" y="66"/>
                            </a:lnTo>
                            <a:lnTo>
                              <a:pt x="183" y="63"/>
                            </a:lnTo>
                            <a:lnTo>
                              <a:pt x="176" y="60"/>
                            </a:lnTo>
                            <a:lnTo>
                              <a:pt x="176" y="54"/>
                            </a:lnTo>
                            <a:lnTo>
                              <a:pt x="169" y="126"/>
                            </a:lnTo>
                            <a:lnTo>
                              <a:pt x="131" y="120"/>
                            </a:lnTo>
                            <a:lnTo>
                              <a:pt x="103" y="111"/>
                            </a:lnTo>
                            <a:lnTo>
                              <a:pt x="89" y="107"/>
                            </a:lnTo>
                            <a:lnTo>
                              <a:pt x="75" y="111"/>
                            </a:lnTo>
                            <a:lnTo>
                              <a:pt x="69" y="120"/>
                            </a:lnTo>
                            <a:lnTo>
                              <a:pt x="62" y="133"/>
                            </a:lnTo>
                            <a:lnTo>
                              <a:pt x="51" y="145"/>
                            </a:lnTo>
                            <a:lnTo>
                              <a:pt x="44" y="120"/>
                            </a:lnTo>
                            <a:lnTo>
                              <a:pt x="44" y="120"/>
                            </a:lnTo>
                            <a:lnTo>
                              <a:pt x="51" y="111"/>
                            </a:lnTo>
                            <a:lnTo>
                              <a:pt x="51" y="107"/>
                            </a:lnTo>
                            <a:lnTo>
                              <a:pt x="44" y="107"/>
                            </a:lnTo>
                            <a:lnTo>
                              <a:pt x="44" y="98"/>
                            </a:lnTo>
                            <a:lnTo>
                              <a:pt x="37" y="95"/>
                            </a:lnTo>
                            <a:lnTo>
                              <a:pt x="31" y="101"/>
                            </a:lnTo>
                            <a:lnTo>
                              <a:pt x="34" y="126"/>
                            </a:lnTo>
                            <a:lnTo>
                              <a:pt x="37" y="152"/>
                            </a:lnTo>
                            <a:lnTo>
                              <a:pt x="48" y="170"/>
                            </a:lnTo>
                            <a:lnTo>
                              <a:pt x="58" y="193"/>
                            </a:lnTo>
                            <a:lnTo>
                              <a:pt x="51" y="193"/>
                            </a:lnTo>
                            <a:lnTo>
                              <a:pt x="44" y="193"/>
                            </a:lnTo>
                            <a:lnTo>
                              <a:pt x="31" y="211"/>
                            </a:lnTo>
                            <a:lnTo>
                              <a:pt x="20" y="193"/>
                            </a:lnTo>
                            <a:lnTo>
                              <a:pt x="13" y="174"/>
                            </a:lnTo>
                            <a:lnTo>
                              <a:pt x="6" y="155"/>
                            </a:lnTo>
                            <a:lnTo>
                              <a:pt x="3" y="133"/>
                            </a:lnTo>
                            <a:lnTo>
                              <a:pt x="0" y="114"/>
                            </a:lnTo>
                            <a:lnTo>
                              <a:pt x="0" y="92"/>
                            </a:lnTo>
                            <a:lnTo>
                              <a:pt x="3" y="70"/>
                            </a:lnTo>
                            <a:lnTo>
                              <a:pt x="10" y="47"/>
                            </a:lnTo>
                            <a:lnTo>
                              <a:pt x="17" y="38"/>
                            </a:lnTo>
                            <a:lnTo>
                              <a:pt x="27" y="25"/>
                            </a:lnTo>
                            <a:lnTo>
                              <a:pt x="41" y="16"/>
                            </a:lnTo>
                            <a:lnTo>
                              <a:pt x="51" y="0"/>
                            </a:lnTo>
                            <a:lnTo>
                              <a:pt x="69" y="10"/>
                            </a:lnTo>
                            <a:lnTo>
                              <a:pt x="69" y="10"/>
                            </a:lnTo>
                            <a:close/>
                          </a:path>
                        </a:pathLst>
                      </a:custGeom>
                      <a:solidFill>
                        <a:srgbClr val="6699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5" name=""/>
                      <p:cNvSpPr/>
                      <p:nvPr/>
                    </p:nvSpPr>
                    <p:spPr>
                      <a:xfrm>
                        <a:off x="918720" y="2156760"/>
                        <a:ext cx="1620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56">
                            <a:moveTo>
                              <a:pt x="49" y="0"/>
                            </a:moveTo>
                            <a:lnTo>
                              <a:pt x="42" y="12"/>
                            </a:lnTo>
                            <a:lnTo>
                              <a:pt x="35" y="31"/>
                            </a:lnTo>
                            <a:lnTo>
                              <a:pt x="31" y="44"/>
                            </a:lnTo>
                            <a:lnTo>
                              <a:pt x="28" y="56"/>
                            </a:lnTo>
                            <a:lnTo>
                              <a:pt x="0" y="6"/>
                            </a:lnTo>
                            <a:lnTo>
                              <a:pt x="24" y="3"/>
                            </a:lnTo>
                            <a:lnTo>
                              <a:pt x="38" y="3"/>
                            </a:lnTo>
                            <a:lnTo>
                              <a:pt x="49" y="0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6" name=""/>
                      <p:cNvSpPr/>
                      <p:nvPr/>
                    </p:nvSpPr>
                    <p:spPr>
                      <a:xfrm>
                        <a:off x="993960" y="2169360"/>
                        <a:ext cx="148320" cy="10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9" h="378">
                            <a:moveTo>
                              <a:pt x="121" y="12"/>
                            </a:moveTo>
                            <a:lnTo>
                              <a:pt x="128" y="38"/>
                            </a:lnTo>
                            <a:lnTo>
                              <a:pt x="131" y="63"/>
                            </a:lnTo>
                            <a:lnTo>
                              <a:pt x="135" y="75"/>
                            </a:lnTo>
                            <a:lnTo>
                              <a:pt x="142" y="85"/>
                            </a:lnTo>
                            <a:lnTo>
                              <a:pt x="149" y="91"/>
                            </a:lnTo>
                            <a:lnTo>
                              <a:pt x="159" y="98"/>
                            </a:lnTo>
                            <a:lnTo>
                              <a:pt x="176" y="104"/>
                            </a:lnTo>
                            <a:lnTo>
                              <a:pt x="197" y="107"/>
                            </a:lnTo>
                            <a:lnTo>
                              <a:pt x="218" y="107"/>
                            </a:lnTo>
                            <a:lnTo>
                              <a:pt x="242" y="107"/>
                            </a:lnTo>
                            <a:lnTo>
                              <a:pt x="263" y="107"/>
                            </a:lnTo>
                            <a:lnTo>
                              <a:pt x="283" y="107"/>
                            </a:lnTo>
                            <a:lnTo>
                              <a:pt x="304" y="104"/>
                            </a:lnTo>
                            <a:lnTo>
                              <a:pt x="325" y="98"/>
                            </a:lnTo>
                            <a:lnTo>
                              <a:pt x="335" y="94"/>
                            </a:lnTo>
                            <a:lnTo>
                              <a:pt x="352" y="94"/>
                            </a:lnTo>
                            <a:lnTo>
                              <a:pt x="363" y="91"/>
                            </a:lnTo>
                            <a:lnTo>
                              <a:pt x="370" y="85"/>
                            </a:lnTo>
                            <a:lnTo>
                              <a:pt x="373" y="79"/>
                            </a:lnTo>
                            <a:lnTo>
                              <a:pt x="373" y="60"/>
                            </a:lnTo>
                            <a:lnTo>
                              <a:pt x="377" y="44"/>
                            </a:lnTo>
                            <a:lnTo>
                              <a:pt x="380" y="28"/>
                            </a:lnTo>
                            <a:lnTo>
                              <a:pt x="380" y="12"/>
                            </a:lnTo>
                            <a:lnTo>
                              <a:pt x="384" y="22"/>
                            </a:lnTo>
                            <a:lnTo>
                              <a:pt x="384" y="34"/>
                            </a:lnTo>
                            <a:lnTo>
                              <a:pt x="384" y="41"/>
                            </a:lnTo>
                            <a:lnTo>
                              <a:pt x="387" y="47"/>
                            </a:lnTo>
                            <a:lnTo>
                              <a:pt x="390" y="50"/>
                            </a:lnTo>
                            <a:lnTo>
                              <a:pt x="401" y="53"/>
                            </a:lnTo>
                            <a:lnTo>
                              <a:pt x="408" y="63"/>
                            </a:lnTo>
                            <a:lnTo>
                              <a:pt x="415" y="69"/>
                            </a:lnTo>
                            <a:lnTo>
                              <a:pt x="418" y="79"/>
                            </a:lnTo>
                            <a:lnTo>
                              <a:pt x="432" y="132"/>
                            </a:lnTo>
                            <a:lnTo>
                              <a:pt x="425" y="135"/>
                            </a:lnTo>
                            <a:lnTo>
                              <a:pt x="425" y="145"/>
                            </a:lnTo>
                            <a:lnTo>
                              <a:pt x="425" y="151"/>
                            </a:lnTo>
                            <a:lnTo>
                              <a:pt x="432" y="157"/>
                            </a:lnTo>
                            <a:lnTo>
                              <a:pt x="446" y="170"/>
                            </a:lnTo>
                            <a:lnTo>
                              <a:pt x="446" y="205"/>
                            </a:lnTo>
                            <a:lnTo>
                              <a:pt x="449" y="243"/>
                            </a:lnTo>
                            <a:lnTo>
                              <a:pt x="449" y="277"/>
                            </a:lnTo>
                            <a:lnTo>
                              <a:pt x="446" y="293"/>
                            </a:lnTo>
                            <a:lnTo>
                              <a:pt x="446" y="309"/>
                            </a:lnTo>
                            <a:lnTo>
                              <a:pt x="435" y="315"/>
                            </a:lnTo>
                            <a:lnTo>
                              <a:pt x="428" y="321"/>
                            </a:lnTo>
                            <a:lnTo>
                              <a:pt x="422" y="325"/>
                            </a:lnTo>
                            <a:lnTo>
                              <a:pt x="418" y="321"/>
                            </a:lnTo>
                            <a:lnTo>
                              <a:pt x="404" y="321"/>
                            </a:lnTo>
                            <a:lnTo>
                              <a:pt x="397" y="318"/>
                            </a:lnTo>
                            <a:lnTo>
                              <a:pt x="387" y="325"/>
                            </a:lnTo>
                            <a:lnTo>
                              <a:pt x="380" y="334"/>
                            </a:lnTo>
                            <a:lnTo>
                              <a:pt x="380" y="340"/>
                            </a:lnTo>
                            <a:lnTo>
                              <a:pt x="356" y="347"/>
                            </a:lnTo>
                            <a:lnTo>
                              <a:pt x="332" y="353"/>
                            </a:lnTo>
                            <a:lnTo>
                              <a:pt x="304" y="359"/>
                            </a:lnTo>
                            <a:lnTo>
                              <a:pt x="280" y="366"/>
                            </a:lnTo>
                            <a:lnTo>
                              <a:pt x="252" y="369"/>
                            </a:lnTo>
                            <a:lnTo>
                              <a:pt x="225" y="372"/>
                            </a:lnTo>
                            <a:lnTo>
                              <a:pt x="201" y="378"/>
                            </a:lnTo>
                            <a:lnTo>
                              <a:pt x="173" y="378"/>
                            </a:lnTo>
                            <a:lnTo>
                              <a:pt x="173" y="369"/>
                            </a:lnTo>
                            <a:lnTo>
                              <a:pt x="169" y="362"/>
                            </a:lnTo>
                            <a:lnTo>
                              <a:pt x="152" y="353"/>
                            </a:lnTo>
                            <a:lnTo>
                              <a:pt x="142" y="353"/>
                            </a:lnTo>
                            <a:lnTo>
                              <a:pt x="131" y="359"/>
                            </a:lnTo>
                            <a:lnTo>
                              <a:pt x="121" y="366"/>
                            </a:lnTo>
                            <a:lnTo>
                              <a:pt x="114" y="372"/>
                            </a:lnTo>
                            <a:lnTo>
                              <a:pt x="83" y="359"/>
                            </a:lnTo>
                            <a:lnTo>
                              <a:pt x="52" y="350"/>
                            </a:lnTo>
                            <a:lnTo>
                              <a:pt x="38" y="340"/>
                            </a:lnTo>
                            <a:lnTo>
                              <a:pt x="24" y="334"/>
                            </a:lnTo>
                            <a:lnTo>
                              <a:pt x="11" y="325"/>
                            </a:lnTo>
                            <a:lnTo>
                              <a:pt x="0" y="315"/>
                            </a:lnTo>
                            <a:lnTo>
                              <a:pt x="0" y="287"/>
                            </a:lnTo>
                            <a:lnTo>
                              <a:pt x="7" y="296"/>
                            </a:lnTo>
                            <a:lnTo>
                              <a:pt x="14" y="299"/>
                            </a:lnTo>
                            <a:lnTo>
                              <a:pt x="24" y="299"/>
                            </a:lnTo>
                            <a:lnTo>
                              <a:pt x="28" y="293"/>
                            </a:lnTo>
                            <a:lnTo>
                              <a:pt x="35" y="287"/>
                            </a:lnTo>
                            <a:lnTo>
                              <a:pt x="38" y="274"/>
                            </a:lnTo>
                            <a:lnTo>
                              <a:pt x="21" y="271"/>
                            </a:lnTo>
                            <a:lnTo>
                              <a:pt x="7" y="268"/>
                            </a:lnTo>
                            <a:lnTo>
                              <a:pt x="7" y="224"/>
                            </a:lnTo>
                            <a:lnTo>
                              <a:pt x="11" y="202"/>
                            </a:lnTo>
                            <a:lnTo>
                              <a:pt x="11" y="180"/>
                            </a:lnTo>
                            <a:lnTo>
                              <a:pt x="14" y="157"/>
                            </a:lnTo>
                            <a:lnTo>
                              <a:pt x="17" y="135"/>
                            </a:lnTo>
                            <a:lnTo>
                              <a:pt x="21" y="113"/>
                            </a:lnTo>
                            <a:lnTo>
                              <a:pt x="28" y="91"/>
                            </a:lnTo>
                            <a:lnTo>
                              <a:pt x="42" y="88"/>
                            </a:lnTo>
                            <a:lnTo>
                              <a:pt x="52" y="79"/>
                            </a:lnTo>
                            <a:lnTo>
                              <a:pt x="55" y="69"/>
                            </a:lnTo>
                            <a:lnTo>
                              <a:pt x="52" y="63"/>
                            </a:lnTo>
                            <a:lnTo>
                              <a:pt x="45" y="53"/>
                            </a:lnTo>
                            <a:lnTo>
                              <a:pt x="52" y="38"/>
                            </a:lnTo>
                            <a:lnTo>
                              <a:pt x="55" y="25"/>
                            </a:lnTo>
                            <a:lnTo>
                              <a:pt x="62" y="12"/>
                            </a:lnTo>
                            <a:lnTo>
                              <a:pt x="66" y="0"/>
                            </a:lnTo>
                            <a:lnTo>
                              <a:pt x="80" y="6"/>
                            </a:lnTo>
                            <a:lnTo>
                              <a:pt x="93" y="9"/>
                            </a:lnTo>
                            <a:lnTo>
                              <a:pt x="111" y="9"/>
                            </a:lnTo>
                            <a:lnTo>
                              <a:pt x="121" y="12"/>
                            </a:lnTo>
                            <a:lnTo>
                              <a:pt x="121" y="12"/>
                            </a:lnTo>
                            <a:close/>
                          </a:path>
                        </a:pathLst>
                      </a:custGeom>
                      <a:solidFill>
                        <a:srgbClr val="99336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7" name=""/>
                      <p:cNvSpPr/>
                      <p:nvPr/>
                    </p:nvSpPr>
                    <p:spPr>
                      <a:xfrm>
                        <a:off x="1015920" y="2178000"/>
                        <a:ext cx="1332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29">
                            <a:moveTo>
                              <a:pt x="41" y="10"/>
                            </a:moveTo>
                            <a:lnTo>
                              <a:pt x="41" y="16"/>
                            </a:lnTo>
                            <a:lnTo>
                              <a:pt x="34" y="19"/>
                            </a:lnTo>
                            <a:lnTo>
                              <a:pt x="27" y="22"/>
                            </a:lnTo>
                            <a:lnTo>
                              <a:pt x="21" y="29"/>
                            </a:lnTo>
                            <a:lnTo>
                              <a:pt x="7" y="22"/>
                            </a:lnTo>
                            <a:lnTo>
                              <a:pt x="3" y="19"/>
                            </a:lnTo>
                            <a:lnTo>
                              <a:pt x="0" y="16"/>
                            </a:lnTo>
                            <a:lnTo>
                              <a:pt x="0" y="7"/>
                            </a:lnTo>
                            <a:lnTo>
                              <a:pt x="7" y="0"/>
                            </a:lnTo>
                            <a:lnTo>
                              <a:pt x="14" y="3"/>
                            </a:lnTo>
                            <a:lnTo>
                              <a:pt x="24" y="3"/>
                            </a:lnTo>
                            <a:lnTo>
                              <a:pt x="34" y="7"/>
                            </a:lnTo>
                            <a:lnTo>
                              <a:pt x="41" y="10"/>
                            </a:lnTo>
                            <a:lnTo>
                              <a:pt x="41" y="1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8" name=""/>
                      <p:cNvSpPr/>
                      <p:nvPr/>
                    </p:nvSpPr>
                    <p:spPr>
                      <a:xfrm>
                        <a:off x="1122120" y="2191680"/>
                        <a:ext cx="1008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31">
                            <a:moveTo>
                              <a:pt x="31" y="19"/>
                            </a:moveTo>
                            <a:lnTo>
                              <a:pt x="28" y="25"/>
                            </a:lnTo>
                            <a:lnTo>
                              <a:pt x="21" y="31"/>
                            </a:lnTo>
                            <a:lnTo>
                              <a:pt x="14" y="31"/>
                            </a:lnTo>
                            <a:lnTo>
                              <a:pt x="10" y="25"/>
                            </a:lnTo>
                            <a:lnTo>
                              <a:pt x="7" y="19"/>
                            </a:lnTo>
                            <a:lnTo>
                              <a:pt x="0" y="12"/>
                            </a:lnTo>
                            <a:lnTo>
                              <a:pt x="7" y="6"/>
                            </a:lnTo>
                            <a:lnTo>
                              <a:pt x="14" y="0"/>
                            </a:lnTo>
                            <a:lnTo>
                              <a:pt x="24" y="3"/>
                            </a:lnTo>
                            <a:lnTo>
                              <a:pt x="28" y="6"/>
                            </a:lnTo>
                            <a:lnTo>
                              <a:pt x="31" y="19"/>
                            </a:lnTo>
                            <a:lnTo>
                              <a:pt x="31" y="1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9" name=""/>
                      <p:cNvSpPr/>
                      <p:nvPr/>
                    </p:nvSpPr>
                    <p:spPr>
                      <a:xfrm>
                        <a:off x="890280" y="2191680"/>
                        <a:ext cx="65880" cy="5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" h="195">
                            <a:moveTo>
                              <a:pt x="200" y="37"/>
                            </a:moveTo>
                            <a:lnTo>
                              <a:pt x="197" y="41"/>
                            </a:lnTo>
                            <a:lnTo>
                              <a:pt x="186" y="44"/>
                            </a:lnTo>
                            <a:lnTo>
                              <a:pt x="169" y="78"/>
                            </a:lnTo>
                            <a:lnTo>
                              <a:pt x="145" y="119"/>
                            </a:lnTo>
                            <a:lnTo>
                              <a:pt x="121" y="164"/>
                            </a:lnTo>
                            <a:lnTo>
                              <a:pt x="100" y="195"/>
                            </a:lnTo>
                            <a:lnTo>
                              <a:pt x="72" y="179"/>
                            </a:lnTo>
                            <a:lnTo>
                              <a:pt x="48" y="160"/>
                            </a:lnTo>
                            <a:lnTo>
                              <a:pt x="21" y="142"/>
                            </a:lnTo>
                            <a:lnTo>
                              <a:pt x="0" y="123"/>
                            </a:lnTo>
                            <a:lnTo>
                              <a:pt x="3" y="116"/>
                            </a:lnTo>
                            <a:lnTo>
                              <a:pt x="7" y="107"/>
                            </a:lnTo>
                            <a:lnTo>
                              <a:pt x="21" y="97"/>
                            </a:lnTo>
                            <a:lnTo>
                              <a:pt x="28" y="97"/>
                            </a:lnTo>
                            <a:lnTo>
                              <a:pt x="31" y="97"/>
                            </a:lnTo>
                            <a:lnTo>
                              <a:pt x="34" y="104"/>
                            </a:lnTo>
                            <a:lnTo>
                              <a:pt x="41" y="119"/>
                            </a:lnTo>
                            <a:lnTo>
                              <a:pt x="52" y="135"/>
                            </a:lnTo>
                            <a:lnTo>
                              <a:pt x="62" y="142"/>
                            </a:lnTo>
                            <a:lnTo>
                              <a:pt x="69" y="145"/>
                            </a:lnTo>
                            <a:lnTo>
                              <a:pt x="79" y="148"/>
                            </a:lnTo>
                            <a:lnTo>
                              <a:pt x="93" y="151"/>
                            </a:lnTo>
                            <a:lnTo>
                              <a:pt x="107" y="148"/>
                            </a:lnTo>
                            <a:lnTo>
                              <a:pt x="114" y="145"/>
                            </a:lnTo>
                            <a:lnTo>
                              <a:pt x="121" y="138"/>
                            </a:lnTo>
                            <a:lnTo>
                              <a:pt x="128" y="138"/>
                            </a:lnTo>
                            <a:lnTo>
                              <a:pt x="135" y="129"/>
                            </a:lnTo>
                            <a:lnTo>
                              <a:pt x="135" y="119"/>
                            </a:lnTo>
                            <a:lnTo>
                              <a:pt x="128" y="113"/>
                            </a:lnTo>
                            <a:lnTo>
                              <a:pt x="121" y="104"/>
                            </a:lnTo>
                            <a:lnTo>
                              <a:pt x="135" y="91"/>
                            </a:lnTo>
                            <a:lnTo>
                              <a:pt x="131" y="78"/>
                            </a:lnTo>
                            <a:lnTo>
                              <a:pt x="128" y="72"/>
                            </a:lnTo>
                            <a:lnTo>
                              <a:pt x="121" y="72"/>
                            </a:lnTo>
                            <a:lnTo>
                              <a:pt x="100" y="69"/>
                            </a:lnTo>
                            <a:lnTo>
                              <a:pt x="90" y="66"/>
                            </a:lnTo>
                            <a:lnTo>
                              <a:pt x="79" y="66"/>
                            </a:lnTo>
                            <a:lnTo>
                              <a:pt x="79" y="56"/>
                            </a:lnTo>
                            <a:lnTo>
                              <a:pt x="72" y="50"/>
                            </a:lnTo>
                            <a:lnTo>
                              <a:pt x="66" y="41"/>
                            </a:lnTo>
                            <a:lnTo>
                              <a:pt x="66" y="31"/>
                            </a:lnTo>
                            <a:lnTo>
                              <a:pt x="72" y="25"/>
                            </a:lnTo>
                            <a:lnTo>
                              <a:pt x="76" y="12"/>
                            </a:lnTo>
                            <a:lnTo>
                              <a:pt x="79" y="3"/>
                            </a:lnTo>
                            <a:lnTo>
                              <a:pt x="86" y="0"/>
                            </a:lnTo>
                            <a:lnTo>
                              <a:pt x="93" y="0"/>
                            </a:lnTo>
                            <a:lnTo>
                              <a:pt x="121" y="12"/>
                            </a:lnTo>
                            <a:lnTo>
                              <a:pt x="155" y="25"/>
                            </a:lnTo>
                            <a:lnTo>
                              <a:pt x="200" y="37"/>
                            </a:lnTo>
                            <a:lnTo>
                              <a:pt x="200" y="37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0" name=""/>
                      <p:cNvSpPr/>
                      <p:nvPr/>
                    </p:nvSpPr>
                    <p:spPr>
                      <a:xfrm>
                        <a:off x="1096200" y="2198880"/>
                        <a:ext cx="100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19">
                            <a:moveTo>
                              <a:pt x="31" y="12"/>
                            </a:moveTo>
                            <a:lnTo>
                              <a:pt x="27" y="19"/>
                            </a:lnTo>
                            <a:lnTo>
                              <a:pt x="24" y="19"/>
                            </a:lnTo>
                            <a:lnTo>
                              <a:pt x="10" y="19"/>
                            </a:lnTo>
                            <a:lnTo>
                              <a:pt x="0" y="12"/>
                            </a:lnTo>
                            <a:lnTo>
                              <a:pt x="6" y="6"/>
                            </a:lnTo>
                            <a:lnTo>
                              <a:pt x="17" y="0"/>
                            </a:lnTo>
                            <a:lnTo>
                              <a:pt x="24" y="6"/>
                            </a:lnTo>
                            <a:lnTo>
                              <a:pt x="31" y="12"/>
                            </a:lnTo>
                            <a:lnTo>
                              <a:pt x="31" y="1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1" name=""/>
                      <p:cNvSpPr/>
                      <p:nvPr/>
                    </p:nvSpPr>
                    <p:spPr>
                      <a:xfrm>
                        <a:off x="1020600" y="2197080"/>
                        <a:ext cx="1116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" h="34">
                            <a:moveTo>
                              <a:pt x="34" y="12"/>
                            </a:moveTo>
                            <a:lnTo>
                              <a:pt x="27" y="22"/>
                            </a:lnTo>
                            <a:lnTo>
                              <a:pt x="20" y="34"/>
                            </a:lnTo>
                            <a:lnTo>
                              <a:pt x="10" y="28"/>
                            </a:lnTo>
                            <a:lnTo>
                              <a:pt x="0" y="18"/>
                            </a:lnTo>
                            <a:lnTo>
                              <a:pt x="0" y="12"/>
                            </a:lnTo>
                            <a:lnTo>
                              <a:pt x="3" y="6"/>
                            </a:lnTo>
                            <a:lnTo>
                              <a:pt x="13" y="0"/>
                            </a:lnTo>
                            <a:lnTo>
                              <a:pt x="24" y="3"/>
                            </a:lnTo>
                            <a:lnTo>
                              <a:pt x="27" y="6"/>
                            </a:lnTo>
                            <a:lnTo>
                              <a:pt x="31" y="12"/>
                            </a:lnTo>
                            <a:lnTo>
                              <a:pt x="34" y="12"/>
                            </a:lnTo>
                            <a:lnTo>
                              <a:pt x="34" y="1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2" name=""/>
                      <p:cNvSpPr/>
                      <p:nvPr/>
                    </p:nvSpPr>
                    <p:spPr>
                      <a:xfrm>
                        <a:off x="1037520" y="2197080"/>
                        <a:ext cx="11520" cy="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25">
                            <a:moveTo>
                              <a:pt x="35" y="12"/>
                            </a:moveTo>
                            <a:lnTo>
                              <a:pt x="32" y="22"/>
                            </a:lnTo>
                            <a:lnTo>
                              <a:pt x="21" y="25"/>
                            </a:lnTo>
                            <a:lnTo>
                              <a:pt x="11" y="22"/>
                            </a:lnTo>
                            <a:lnTo>
                              <a:pt x="0" y="12"/>
                            </a:lnTo>
                            <a:lnTo>
                              <a:pt x="7" y="6"/>
                            </a:lnTo>
                            <a:lnTo>
                              <a:pt x="7" y="3"/>
                            </a:lnTo>
                            <a:lnTo>
                              <a:pt x="14" y="0"/>
                            </a:lnTo>
                            <a:lnTo>
                              <a:pt x="28" y="6"/>
                            </a:lnTo>
                            <a:lnTo>
                              <a:pt x="32" y="9"/>
                            </a:lnTo>
                            <a:lnTo>
                              <a:pt x="35" y="12"/>
                            </a:lnTo>
                            <a:lnTo>
                              <a:pt x="35" y="1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3" name=""/>
                      <p:cNvSpPr/>
                      <p:nvPr/>
                    </p:nvSpPr>
                    <p:spPr>
                      <a:xfrm>
                        <a:off x="1053720" y="2204280"/>
                        <a:ext cx="1692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28">
                            <a:moveTo>
                              <a:pt x="52" y="16"/>
                            </a:moveTo>
                            <a:lnTo>
                              <a:pt x="45" y="22"/>
                            </a:lnTo>
                            <a:lnTo>
                              <a:pt x="34" y="28"/>
                            </a:lnTo>
                            <a:lnTo>
                              <a:pt x="24" y="25"/>
                            </a:lnTo>
                            <a:lnTo>
                              <a:pt x="14" y="22"/>
                            </a:lnTo>
                            <a:lnTo>
                              <a:pt x="7" y="16"/>
                            </a:lnTo>
                            <a:lnTo>
                              <a:pt x="0" y="9"/>
                            </a:lnTo>
                            <a:lnTo>
                              <a:pt x="7" y="3"/>
                            </a:lnTo>
                            <a:lnTo>
                              <a:pt x="14" y="0"/>
                            </a:lnTo>
                            <a:lnTo>
                              <a:pt x="24" y="0"/>
                            </a:lnTo>
                            <a:lnTo>
                              <a:pt x="34" y="0"/>
                            </a:lnTo>
                            <a:lnTo>
                              <a:pt x="45" y="6"/>
                            </a:lnTo>
                            <a:lnTo>
                              <a:pt x="52" y="16"/>
                            </a:lnTo>
                            <a:lnTo>
                              <a:pt x="52" y="1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4" name=""/>
                      <p:cNvSpPr/>
                      <p:nvPr/>
                    </p:nvSpPr>
                    <p:spPr>
                      <a:xfrm>
                        <a:off x="1003320" y="2204280"/>
                        <a:ext cx="100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34">
                            <a:moveTo>
                              <a:pt x="31" y="22"/>
                            </a:moveTo>
                            <a:lnTo>
                              <a:pt x="27" y="25"/>
                            </a:lnTo>
                            <a:lnTo>
                              <a:pt x="24" y="34"/>
                            </a:lnTo>
                            <a:lnTo>
                              <a:pt x="7" y="28"/>
                            </a:lnTo>
                            <a:lnTo>
                              <a:pt x="3" y="22"/>
                            </a:lnTo>
                            <a:lnTo>
                              <a:pt x="0" y="16"/>
                            </a:lnTo>
                            <a:lnTo>
                              <a:pt x="3" y="9"/>
                            </a:lnTo>
                            <a:lnTo>
                              <a:pt x="10" y="0"/>
                            </a:lnTo>
                            <a:lnTo>
                              <a:pt x="17" y="3"/>
                            </a:lnTo>
                            <a:lnTo>
                              <a:pt x="24" y="6"/>
                            </a:lnTo>
                            <a:lnTo>
                              <a:pt x="27" y="12"/>
                            </a:lnTo>
                            <a:lnTo>
                              <a:pt x="31" y="22"/>
                            </a:lnTo>
                            <a:lnTo>
                              <a:pt x="31" y="2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5" name=""/>
                      <p:cNvSpPr/>
                      <p:nvPr/>
                    </p:nvSpPr>
                    <p:spPr>
                      <a:xfrm>
                        <a:off x="1112040" y="2210400"/>
                        <a:ext cx="1008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38">
                            <a:moveTo>
                              <a:pt x="31" y="12"/>
                            </a:moveTo>
                            <a:lnTo>
                              <a:pt x="31" y="22"/>
                            </a:lnTo>
                            <a:lnTo>
                              <a:pt x="31" y="31"/>
                            </a:lnTo>
                            <a:lnTo>
                              <a:pt x="24" y="35"/>
                            </a:lnTo>
                            <a:lnTo>
                              <a:pt x="17" y="38"/>
                            </a:lnTo>
                            <a:lnTo>
                              <a:pt x="7" y="31"/>
                            </a:lnTo>
                            <a:lnTo>
                              <a:pt x="3" y="19"/>
                            </a:lnTo>
                            <a:lnTo>
                              <a:pt x="0" y="6"/>
                            </a:lnTo>
                            <a:lnTo>
                              <a:pt x="3" y="0"/>
                            </a:lnTo>
                            <a:lnTo>
                              <a:pt x="10" y="0"/>
                            </a:lnTo>
                            <a:lnTo>
                              <a:pt x="24" y="3"/>
                            </a:lnTo>
                            <a:lnTo>
                              <a:pt x="31" y="6"/>
                            </a:lnTo>
                            <a:lnTo>
                              <a:pt x="31" y="12"/>
                            </a:lnTo>
                            <a:lnTo>
                              <a:pt x="31" y="1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6" name=""/>
                      <p:cNvSpPr/>
                      <p:nvPr/>
                    </p:nvSpPr>
                    <p:spPr>
                      <a:xfrm>
                        <a:off x="932760" y="2205720"/>
                        <a:ext cx="32760" cy="48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173">
                            <a:moveTo>
                              <a:pt x="100" y="10"/>
                            </a:moveTo>
                            <a:lnTo>
                              <a:pt x="93" y="25"/>
                            </a:lnTo>
                            <a:lnTo>
                              <a:pt x="86" y="44"/>
                            </a:lnTo>
                            <a:lnTo>
                              <a:pt x="65" y="85"/>
                            </a:lnTo>
                            <a:lnTo>
                              <a:pt x="41" y="126"/>
                            </a:lnTo>
                            <a:lnTo>
                              <a:pt x="31" y="145"/>
                            </a:lnTo>
                            <a:lnTo>
                              <a:pt x="20" y="164"/>
                            </a:lnTo>
                            <a:lnTo>
                              <a:pt x="17" y="167"/>
                            </a:lnTo>
                            <a:lnTo>
                              <a:pt x="14" y="173"/>
                            </a:lnTo>
                            <a:lnTo>
                              <a:pt x="3" y="161"/>
                            </a:lnTo>
                            <a:lnTo>
                              <a:pt x="0" y="151"/>
                            </a:lnTo>
                            <a:lnTo>
                              <a:pt x="7" y="136"/>
                            </a:lnTo>
                            <a:lnTo>
                              <a:pt x="14" y="117"/>
                            </a:lnTo>
                            <a:lnTo>
                              <a:pt x="34" y="76"/>
                            </a:lnTo>
                            <a:lnTo>
                              <a:pt x="55" y="38"/>
                            </a:lnTo>
                            <a:lnTo>
                              <a:pt x="72" y="3"/>
                            </a:lnTo>
                            <a:lnTo>
                              <a:pt x="79" y="0"/>
                            </a:lnTo>
                            <a:lnTo>
                              <a:pt x="86" y="0"/>
                            </a:lnTo>
                            <a:lnTo>
                              <a:pt x="100" y="10"/>
                            </a:lnTo>
                            <a:lnTo>
                              <a:pt x="100" y="1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60" bIns="2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7" name=""/>
                      <p:cNvSpPr/>
                      <p:nvPr/>
                    </p:nvSpPr>
                    <p:spPr>
                      <a:xfrm>
                        <a:off x="1077480" y="2213640"/>
                        <a:ext cx="1152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38">
                            <a:moveTo>
                              <a:pt x="35" y="7"/>
                            </a:moveTo>
                            <a:lnTo>
                              <a:pt x="31" y="16"/>
                            </a:lnTo>
                            <a:lnTo>
                              <a:pt x="31" y="26"/>
                            </a:lnTo>
                            <a:lnTo>
                              <a:pt x="28" y="32"/>
                            </a:lnTo>
                            <a:lnTo>
                              <a:pt x="21" y="38"/>
                            </a:lnTo>
                            <a:lnTo>
                              <a:pt x="14" y="38"/>
                            </a:lnTo>
                            <a:lnTo>
                              <a:pt x="7" y="32"/>
                            </a:lnTo>
                            <a:lnTo>
                              <a:pt x="4" y="29"/>
                            </a:lnTo>
                            <a:lnTo>
                              <a:pt x="0" y="26"/>
                            </a:lnTo>
                            <a:lnTo>
                              <a:pt x="0" y="10"/>
                            </a:lnTo>
                            <a:lnTo>
                              <a:pt x="7" y="4"/>
                            </a:lnTo>
                            <a:lnTo>
                              <a:pt x="14" y="0"/>
                            </a:lnTo>
                            <a:lnTo>
                              <a:pt x="24" y="0"/>
                            </a:lnTo>
                            <a:lnTo>
                              <a:pt x="35" y="7"/>
                            </a:lnTo>
                            <a:lnTo>
                              <a:pt x="35" y="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8" name=""/>
                      <p:cNvSpPr/>
                      <p:nvPr/>
                    </p:nvSpPr>
                    <p:spPr>
                      <a:xfrm>
                        <a:off x="1096200" y="2215800"/>
                        <a:ext cx="7920" cy="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25">
                            <a:moveTo>
                              <a:pt x="24" y="12"/>
                            </a:moveTo>
                            <a:lnTo>
                              <a:pt x="20" y="19"/>
                            </a:lnTo>
                            <a:lnTo>
                              <a:pt x="17" y="25"/>
                            </a:lnTo>
                            <a:lnTo>
                              <a:pt x="6" y="22"/>
                            </a:lnTo>
                            <a:lnTo>
                              <a:pt x="0" y="12"/>
                            </a:lnTo>
                            <a:lnTo>
                              <a:pt x="3" y="3"/>
                            </a:lnTo>
                            <a:lnTo>
                              <a:pt x="6" y="0"/>
                            </a:lnTo>
                            <a:lnTo>
                              <a:pt x="17" y="3"/>
                            </a:lnTo>
                            <a:lnTo>
                              <a:pt x="24" y="12"/>
                            </a:lnTo>
                            <a:lnTo>
                              <a:pt x="24" y="1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9" name=""/>
                      <p:cNvSpPr/>
                      <p:nvPr/>
                    </p:nvSpPr>
                    <p:spPr>
                      <a:xfrm>
                        <a:off x="910800" y="2212920"/>
                        <a:ext cx="1692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57">
                            <a:moveTo>
                              <a:pt x="52" y="10"/>
                            </a:moveTo>
                            <a:lnTo>
                              <a:pt x="52" y="16"/>
                            </a:lnTo>
                            <a:lnTo>
                              <a:pt x="48" y="22"/>
                            </a:lnTo>
                            <a:lnTo>
                              <a:pt x="38" y="22"/>
                            </a:lnTo>
                            <a:lnTo>
                              <a:pt x="45" y="29"/>
                            </a:lnTo>
                            <a:lnTo>
                              <a:pt x="48" y="35"/>
                            </a:lnTo>
                            <a:lnTo>
                              <a:pt x="52" y="41"/>
                            </a:lnTo>
                            <a:lnTo>
                              <a:pt x="48" y="48"/>
                            </a:lnTo>
                            <a:lnTo>
                              <a:pt x="38" y="54"/>
                            </a:lnTo>
                            <a:lnTo>
                              <a:pt x="28" y="57"/>
                            </a:lnTo>
                            <a:lnTo>
                              <a:pt x="24" y="54"/>
                            </a:lnTo>
                            <a:lnTo>
                              <a:pt x="14" y="51"/>
                            </a:lnTo>
                            <a:lnTo>
                              <a:pt x="4" y="41"/>
                            </a:lnTo>
                            <a:lnTo>
                              <a:pt x="0" y="32"/>
                            </a:lnTo>
                            <a:lnTo>
                              <a:pt x="4" y="22"/>
                            </a:lnTo>
                            <a:lnTo>
                              <a:pt x="7" y="10"/>
                            </a:lnTo>
                            <a:lnTo>
                              <a:pt x="14" y="0"/>
                            </a:lnTo>
                            <a:lnTo>
                              <a:pt x="24" y="0"/>
                            </a:lnTo>
                            <a:lnTo>
                              <a:pt x="31" y="10"/>
                            </a:lnTo>
                            <a:lnTo>
                              <a:pt x="38" y="7"/>
                            </a:lnTo>
                            <a:lnTo>
                              <a:pt x="45" y="7"/>
                            </a:lnTo>
                            <a:lnTo>
                              <a:pt x="52" y="10"/>
                            </a:lnTo>
                            <a:lnTo>
                              <a:pt x="52" y="10"/>
                            </a:lnTo>
                            <a:close/>
                          </a:path>
                        </a:pathLst>
                      </a:custGeom>
                      <a:solidFill>
                        <a:srgbClr val="6699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0" name=""/>
                      <p:cNvSpPr/>
                      <p:nvPr/>
                    </p:nvSpPr>
                    <p:spPr>
                      <a:xfrm>
                        <a:off x="1034280" y="2217600"/>
                        <a:ext cx="1224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47">
                            <a:moveTo>
                              <a:pt x="38" y="19"/>
                            </a:moveTo>
                            <a:lnTo>
                              <a:pt x="38" y="28"/>
                            </a:lnTo>
                            <a:lnTo>
                              <a:pt x="35" y="38"/>
                            </a:lnTo>
                            <a:lnTo>
                              <a:pt x="31" y="44"/>
                            </a:lnTo>
                            <a:lnTo>
                              <a:pt x="24" y="47"/>
                            </a:lnTo>
                            <a:lnTo>
                              <a:pt x="14" y="44"/>
                            </a:lnTo>
                            <a:lnTo>
                              <a:pt x="7" y="41"/>
                            </a:lnTo>
                            <a:lnTo>
                              <a:pt x="0" y="32"/>
                            </a:lnTo>
                            <a:lnTo>
                              <a:pt x="4" y="16"/>
                            </a:lnTo>
                            <a:lnTo>
                              <a:pt x="7" y="6"/>
                            </a:lnTo>
                            <a:lnTo>
                              <a:pt x="17" y="0"/>
                            </a:lnTo>
                            <a:lnTo>
                              <a:pt x="24" y="3"/>
                            </a:lnTo>
                            <a:lnTo>
                              <a:pt x="31" y="6"/>
                            </a:lnTo>
                            <a:lnTo>
                              <a:pt x="38" y="19"/>
                            </a:lnTo>
                            <a:lnTo>
                              <a:pt x="38" y="1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1" name=""/>
                      <p:cNvSpPr/>
                      <p:nvPr/>
                    </p:nvSpPr>
                    <p:spPr>
                      <a:xfrm>
                        <a:off x="1058400" y="2219400"/>
                        <a:ext cx="864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32">
                            <a:moveTo>
                              <a:pt x="27" y="13"/>
                            </a:moveTo>
                            <a:lnTo>
                              <a:pt x="24" y="26"/>
                            </a:lnTo>
                            <a:lnTo>
                              <a:pt x="24" y="32"/>
                            </a:lnTo>
                            <a:lnTo>
                              <a:pt x="20" y="32"/>
                            </a:lnTo>
                            <a:lnTo>
                              <a:pt x="13" y="32"/>
                            </a:lnTo>
                            <a:lnTo>
                              <a:pt x="10" y="26"/>
                            </a:lnTo>
                            <a:lnTo>
                              <a:pt x="0" y="13"/>
                            </a:lnTo>
                            <a:lnTo>
                              <a:pt x="0" y="4"/>
                            </a:lnTo>
                            <a:lnTo>
                              <a:pt x="7" y="0"/>
                            </a:lnTo>
                            <a:lnTo>
                              <a:pt x="17" y="4"/>
                            </a:lnTo>
                            <a:lnTo>
                              <a:pt x="27" y="13"/>
                            </a:lnTo>
                            <a:lnTo>
                              <a:pt x="27" y="1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2" name=""/>
                      <p:cNvSpPr/>
                      <p:nvPr/>
                    </p:nvSpPr>
                    <p:spPr>
                      <a:xfrm>
                        <a:off x="1020600" y="2217600"/>
                        <a:ext cx="864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32">
                            <a:moveTo>
                              <a:pt x="27" y="19"/>
                            </a:moveTo>
                            <a:lnTo>
                              <a:pt x="20" y="28"/>
                            </a:lnTo>
                            <a:lnTo>
                              <a:pt x="13" y="32"/>
                            </a:lnTo>
                            <a:lnTo>
                              <a:pt x="3" y="28"/>
                            </a:lnTo>
                            <a:lnTo>
                              <a:pt x="0" y="25"/>
                            </a:lnTo>
                            <a:lnTo>
                              <a:pt x="0" y="10"/>
                            </a:lnTo>
                            <a:lnTo>
                              <a:pt x="7" y="0"/>
                            </a:lnTo>
                            <a:lnTo>
                              <a:pt x="17" y="6"/>
                            </a:lnTo>
                            <a:lnTo>
                              <a:pt x="27" y="19"/>
                            </a:lnTo>
                            <a:lnTo>
                              <a:pt x="27" y="1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3" name=""/>
                      <p:cNvSpPr/>
                      <p:nvPr/>
                    </p:nvSpPr>
                    <p:spPr>
                      <a:xfrm>
                        <a:off x="1126800" y="2223000"/>
                        <a:ext cx="100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28">
                            <a:moveTo>
                              <a:pt x="31" y="13"/>
                            </a:moveTo>
                            <a:lnTo>
                              <a:pt x="27" y="22"/>
                            </a:lnTo>
                            <a:lnTo>
                              <a:pt x="24" y="28"/>
                            </a:lnTo>
                            <a:lnTo>
                              <a:pt x="14" y="25"/>
                            </a:lnTo>
                            <a:lnTo>
                              <a:pt x="7" y="22"/>
                            </a:lnTo>
                            <a:lnTo>
                              <a:pt x="3" y="16"/>
                            </a:lnTo>
                            <a:lnTo>
                              <a:pt x="0" y="6"/>
                            </a:lnTo>
                            <a:lnTo>
                              <a:pt x="0" y="3"/>
                            </a:lnTo>
                            <a:lnTo>
                              <a:pt x="7" y="0"/>
                            </a:lnTo>
                            <a:lnTo>
                              <a:pt x="17" y="3"/>
                            </a:lnTo>
                            <a:lnTo>
                              <a:pt x="21" y="6"/>
                            </a:lnTo>
                            <a:lnTo>
                              <a:pt x="31" y="13"/>
                            </a:lnTo>
                            <a:lnTo>
                              <a:pt x="31" y="1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4" name=""/>
                      <p:cNvSpPr/>
                      <p:nvPr/>
                    </p:nvSpPr>
                    <p:spPr>
                      <a:xfrm>
                        <a:off x="1003320" y="2219400"/>
                        <a:ext cx="1008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32">
                            <a:moveTo>
                              <a:pt x="31" y="7"/>
                            </a:moveTo>
                            <a:lnTo>
                              <a:pt x="27" y="26"/>
                            </a:lnTo>
                            <a:lnTo>
                              <a:pt x="27" y="32"/>
                            </a:lnTo>
                            <a:lnTo>
                              <a:pt x="24" y="32"/>
                            </a:lnTo>
                            <a:lnTo>
                              <a:pt x="10" y="32"/>
                            </a:lnTo>
                            <a:lnTo>
                              <a:pt x="3" y="29"/>
                            </a:lnTo>
                            <a:lnTo>
                              <a:pt x="0" y="19"/>
                            </a:lnTo>
                            <a:lnTo>
                              <a:pt x="0" y="13"/>
                            </a:lnTo>
                            <a:lnTo>
                              <a:pt x="3" y="7"/>
                            </a:lnTo>
                            <a:lnTo>
                              <a:pt x="24" y="0"/>
                            </a:lnTo>
                            <a:lnTo>
                              <a:pt x="31" y="7"/>
                            </a:lnTo>
                            <a:lnTo>
                              <a:pt x="31" y="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5" name=""/>
                      <p:cNvSpPr/>
                      <p:nvPr/>
                    </p:nvSpPr>
                    <p:spPr>
                      <a:xfrm>
                        <a:off x="1076400" y="2230920"/>
                        <a:ext cx="792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19">
                            <a:moveTo>
                              <a:pt x="24" y="7"/>
                            </a:moveTo>
                            <a:lnTo>
                              <a:pt x="24" y="13"/>
                            </a:lnTo>
                            <a:lnTo>
                              <a:pt x="17" y="19"/>
                            </a:lnTo>
                            <a:lnTo>
                              <a:pt x="3" y="16"/>
                            </a:lnTo>
                            <a:lnTo>
                              <a:pt x="0" y="13"/>
                            </a:lnTo>
                            <a:lnTo>
                              <a:pt x="3" y="7"/>
                            </a:lnTo>
                            <a:lnTo>
                              <a:pt x="3" y="4"/>
                            </a:lnTo>
                            <a:lnTo>
                              <a:pt x="10" y="0"/>
                            </a:lnTo>
                            <a:lnTo>
                              <a:pt x="21" y="0"/>
                            </a:lnTo>
                            <a:lnTo>
                              <a:pt x="24" y="7"/>
                            </a:lnTo>
                            <a:lnTo>
                              <a:pt x="24" y="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6" name=""/>
                      <p:cNvSpPr/>
                      <p:nvPr/>
                    </p:nvSpPr>
                    <p:spPr>
                      <a:xfrm>
                        <a:off x="1096200" y="2230920"/>
                        <a:ext cx="1260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32">
                            <a:moveTo>
                              <a:pt x="38" y="13"/>
                            </a:moveTo>
                            <a:lnTo>
                              <a:pt x="34" y="19"/>
                            </a:lnTo>
                            <a:lnTo>
                              <a:pt x="31" y="26"/>
                            </a:lnTo>
                            <a:lnTo>
                              <a:pt x="24" y="32"/>
                            </a:lnTo>
                            <a:lnTo>
                              <a:pt x="13" y="29"/>
                            </a:lnTo>
                            <a:lnTo>
                              <a:pt x="6" y="26"/>
                            </a:lnTo>
                            <a:lnTo>
                              <a:pt x="0" y="22"/>
                            </a:lnTo>
                            <a:lnTo>
                              <a:pt x="0" y="13"/>
                            </a:lnTo>
                            <a:lnTo>
                              <a:pt x="0" y="4"/>
                            </a:lnTo>
                            <a:lnTo>
                              <a:pt x="0" y="0"/>
                            </a:lnTo>
                            <a:lnTo>
                              <a:pt x="10" y="4"/>
                            </a:lnTo>
                            <a:lnTo>
                              <a:pt x="20" y="7"/>
                            </a:lnTo>
                            <a:lnTo>
                              <a:pt x="31" y="7"/>
                            </a:lnTo>
                            <a:lnTo>
                              <a:pt x="38" y="13"/>
                            </a:lnTo>
                            <a:lnTo>
                              <a:pt x="38" y="1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7" name=""/>
                      <p:cNvSpPr/>
                      <p:nvPr/>
                    </p:nvSpPr>
                    <p:spPr>
                      <a:xfrm>
                        <a:off x="1128960" y="2236320"/>
                        <a:ext cx="540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9">
                            <a:moveTo>
                              <a:pt x="17" y="7"/>
                            </a:moveTo>
                            <a:lnTo>
                              <a:pt x="14" y="13"/>
                            </a:lnTo>
                            <a:lnTo>
                              <a:pt x="10" y="19"/>
                            </a:lnTo>
                            <a:lnTo>
                              <a:pt x="3" y="16"/>
                            </a:lnTo>
                            <a:lnTo>
                              <a:pt x="0" y="13"/>
                            </a:lnTo>
                            <a:lnTo>
                              <a:pt x="3" y="3"/>
                            </a:lnTo>
                            <a:lnTo>
                              <a:pt x="10" y="0"/>
                            </a:lnTo>
                            <a:lnTo>
                              <a:pt x="17" y="7"/>
                            </a:lnTo>
                            <a:lnTo>
                              <a:pt x="17" y="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8" name=""/>
                      <p:cNvSpPr/>
                      <p:nvPr/>
                    </p:nvSpPr>
                    <p:spPr>
                      <a:xfrm>
                        <a:off x="1009080" y="2236320"/>
                        <a:ext cx="1224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38">
                            <a:moveTo>
                              <a:pt x="35" y="19"/>
                            </a:moveTo>
                            <a:lnTo>
                              <a:pt x="38" y="29"/>
                            </a:lnTo>
                            <a:lnTo>
                              <a:pt x="35" y="35"/>
                            </a:lnTo>
                            <a:lnTo>
                              <a:pt x="28" y="38"/>
                            </a:lnTo>
                            <a:lnTo>
                              <a:pt x="17" y="38"/>
                            </a:lnTo>
                            <a:lnTo>
                              <a:pt x="7" y="35"/>
                            </a:lnTo>
                            <a:lnTo>
                              <a:pt x="0" y="32"/>
                            </a:lnTo>
                            <a:lnTo>
                              <a:pt x="0" y="26"/>
                            </a:lnTo>
                            <a:lnTo>
                              <a:pt x="0" y="13"/>
                            </a:lnTo>
                            <a:lnTo>
                              <a:pt x="0" y="7"/>
                            </a:lnTo>
                            <a:lnTo>
                              <a:pt x="7" y="0"/>
                            </a:lnTo>
                            <a:lnTo>
                              <a:pt x="17" y="0"/>
                            </a:lnTo>
                            <a:lnTo>
                              <a:pt x="24" y="7"/>
                            </a:lnTo>
                            <a:lnTo>
                              <a:pt x="35" y="19"/>
                            </a:lnTo>
                            <a:lnTo>
                              <a:pt x="35" y="1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9" name=""/>
                      <p:cNvSpPr/>
                      <p:nvPr/>
                    </p:nvSpPr>
                    <p:spPr>
                      <a:xfrm>
                        <a:off x="1027080" y="2238120"/>
                        <a:ext cx="126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28">
                            <a:moveTo>
                              <a:pt x="38" y="6"/>
                            </a:moveTo>
                            <a:lnTo>
                              <a:pt x="35" y="15"/>
                            </a:lnTo>
                            <a:lnTo>
                              <a:pt x="31" y="22"/>
                            </a:lnTo>
                            <a:lnTo>
                              <a:pt x="21" y="25"/>
                            </a:lnTo>
                            <a:lnTo>
                              <a:pt x="14" y="28"/>
                            </a:lnTo>
                            <a:lnTo>
                              <a:pt x="11" y="25"/>
                            </a:lnTo>
                            <a:lnTo>
                              <a:pt x="0" y="12"/>
                            </a:lnTo>
                            <a:lnTo>
                              <a:pt x="0" y="3"/>
                            </a:lnTo>
                            <a:lnTo>
                              <a:pt x="7" y="0"/>
                            </a:lnTo>
                            <a:lnTo>
                              <a:pt x="25" y="0"/>
                            </a:lnTo>
                            <a:lnTo>
                              <a:pt x="38" y="6"/>
                            </a:lnTo>
                            <a:lnTo>
                              <a:pt x="38" y="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0" name=""/>
                      <p:cNvSpPr/>
                      <p:nvPr/>
                    </p:nvSpPr>
                    <p:spPr>
                      <a:xfrm>
                        <a:off x="1050120" y="2238120"/>
                        <a:ext cx="82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28">
                            <a:moveTo>
                              <a:pt x="25" y="12"/>
                            </a:moveTo>
                            <a:lnTo>
                              <a:pt x="25" y="25"/>
                            </a:lnTo>
                            <a:lnTo>
                              <a:pt x="21" y="28"/>
                            </a:lnTo>
                            <a:lnTo>
                              <a:pt x="18" y="25"/>
                            </a:lnTo>
                            <a:lnTo>
                              <a:pt x="4" y="25"/>
                            </a:lnTo>
                            <a:lnTo>
                              <a:pt x="0" y="19"/>
                            </a:lnTo>
                            <a:lnTo>
                              <a:pt x="4" y="12"/>
                            </a:lnTo>
                            <a:lnTo>
                              <a:pt x="4" y="3"/>
                            </a:lnTo>
                            <a:lnTo>
                              <a:pt x="11" y="0"/>
                            </a:lnTo>
                            <a:lnTo>
                              <a:pt x="21" y="3"/>
                            </a:lnTo>
                            <a:lnTo>
                              <a:pt x="25" y="12"/>
                            </a:lnTo>
                            <a:lnTo>
                              <a:pt x="25" y="1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1" name=""/>
                      <p:cNvSpPr/>
                      <p:nvPr/>
                    </p:nvSpPr>
                    <p:spPr>
                      <a:xfrm>
                        <a:off x="1106280" y="2241720"/>
                        <a:ext cx="8640" cy="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25">
                            <a:moveTo>
                              <a:pt x="27" y="13"/>
                            </a:moveTo>
                            <a:lnTo>
                              <a:pt x="24" y="22"/>
                            </a:lnTo>
                            <a:lnTo>
                              <a:pt x="13" y="25"/>
                            </a:lnTo>
                            <a:lnTo>
                              <a:pt x="3" y="25"/>
                            </a:lnTo>
                            <a:lnTo>
                              <a:pt x="0" y="22"/>
                            </a:lnTo>
                            <a:lnTo>
                              <a:pt x="0" y="13"/>
                            </a:lnTo>
                            <a:lnTo>
                              <a:pt x="0" y="3"/>
                            </a:lnTo>
                            <a:lnTo>
                              <a:pt x="3" y="0"/>
                            </a:lnTo>
                            <a:lnTo>
                              <a:pt x="13" y="0"/>
                            </a:lnTo>
                            <a:lnTo>
                              <a:pt x="24" y="3"/>
                            </a:lnTo>
                            <a:lnTo>
                              <a:pt x="27" y="13"/>
                            </a:lnTo>
                            <a:lnTo>
                              <a:pt x="27" y="1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2" name=""/>
                      <p:cNvSpPr/>
                      <p:nvPr/>
                    </p:nvSpPr>
                    <p:spPr>
                      <a:xfrm>
                        <a:off x="954000" y="2239920"/>
                        <a:ext cx="11520" cy="16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60">
                            <a:moveTo>
                              <a:pt x="35" y="44"/>
                            </a:moveTo>
                            <a:lnTo>
                              <a:pt x="21" y="53"/>
                            </a:lnTo>
                            <a:lnTo>
                              <a:pt x="14" y="57"/>
                            </a:lnTo>
                            <a:lnTo>
                              <a:pt x="7" y="60"/>
                            </a:lnTo>
                            <a:lnTo>
                              <a:pt x="4" y="47"/>
                            </a:lnTo>
                            <a:lnTo>
                              <a:pt x="0" y="31"/>
                            </a:lnTo>
                            <a:lnTo>
                              <a:pt x="0" y="13"/>
                            </a:lnTo>
                            <a:lnTo>
                              <a:pt x="7" y="6"/>
                            </a:lnTo>
                            <a:lnTo>
                              <a:pt x="18" y="3"/>
                            </a:lnTo>
                            <a:lnTo>
                              <a:pt x="28" y="0"/>
                            </a:lnTo>
                            <a:lnTo>
                              <a:pt x="35" y="44"/>
                            </a:lnTo>
                            <a:lnTo>
                              <a:pt x="35" y="44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3" name=""/>
                      <p:cNvSpPr/>
                      <p:nvPr/>
                    </p:nvSpPr>
                    <p:spPr>
                      <a:xfrm>
                        <a:off x="1071000" y="2243520"/>
                        <a:ext cx="1116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" h="31">
                            <a:moveTo>
                              <a:pt x="34" y="12"/>
                            </a:moveTo>
                            <a:lnTo>
                              <a:pt x="34" y="25"/>
                            </a:lnTo>
                            <a:lnTo>
                              <a:pt x="31" y="31"/>
                            </a:lnTo>
                            <a:lnTo>
                              <a:pt x="27" y="31"/>
                            </a:lnTo>
                            <a:lnTo>
                              <a:pt x="10" y="31"/>
                            </a:lnTo>
                            <a:lnTo>
                              <a:pt x="3" y="28"/>
                            </a:lnTo>
                            <a:lnTo>
                              <a:pt x="0" y="18"/>
                            </a:lnTo>
                            <a:lnTo>
                              <a:pt x="0" y="12"/>
                            </a:lnTo>
                            <a:lnTo>
                              <a:pt x="7" y="6"/>
                            </a:lnTo>
                            <a:lnTo>
                              <a:pt x="20" y="0"/>
                            </a:lnTo>
                            <a:lnTo>
                              <a:pt x="31" y="3"/>
                            </a:lnTo>
                            <a:lnTo>
                              <a:pt x="34" y="12"/>
                            </a:lnTo>
                            <a:lnTo>
                              <a:pt x="34" y="1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4" name=""/>
                      <p:cNvSpPr/>
                      <p:nvPr/>
                    </p:nvSpPr>
                    <p:spPr>
                      <a:xfrm>
                        <a:off x="1124640" y="2245320"/>
                        <a:ext cx="10080" cy="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25">
                            <a:moveTo>
                              <a:pt x="31" y="6"/>
                            </a:moveTo>
                            <a:lnTo>
                              <a:pt x="24" y="19"/>
                            </a:lnTo>
                            <a:lnTo>
                              <a:pt x="21" y="25"/>
                            </a:lnTo>
                            <a:lnTo>
                              <a:pt x="14" y="25"/>
                            </a:lnTo>
                            <a:lnTo>
                              <a:pt x="7" y="22"/>
                            </a:lnTo>
                            <a:lnTo>
                              <a:pt x="0" y="12"/>
                            </a:lnTo>
                            <a:lnTo>
                              <a:pt x="3" y="3"/>
                            </a:lnTo>
                            <a:lnTo>
                              <a:pt x="7" y="0"/>
                            </a:lnTo>
                            <a:lnTo>
                              <a:pt x="17" y="3"/>
                            </a:lnTo>
                            <a:lnTo>
                              <a:pt x="31" y="6"/>
                            </a:lnTo>
                            <a:lnTo>
                              <a:pt x="31" y="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5" name=""/>
                      <p:cNvSpPr/>
                      <p:nvPr/>
                    </p:nvSpPr>
                    <p:spPr>
                      <a:xfrm>
                        <a:off x="892440" y="2242440"/>
                        <a:ext cx="1116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" h="82">
                            <a:moveTo>
                              <a:pt x="34" y="4"/>
                            </a:moveTo>
                            <a:lnTo>
                              <a:pt x="31" y="19"/>
                            </a:lnTo>
                            <a:lnTo>
                              <a:pt x="27" y="41"/>
                            </a:lnTo>
                            <a:lnTo>
                              <a:pt x="27" y="82"/>
                            </a:lnTo>
                            <a:lnTo>
                              <a:pt x="0" y="76"/>
                            </a:lnTo>
                            <a:lnTo>
                              <a:pt x="3" y="41"/>
                            </a:lnTo>
                            <a:lnTo>
                              <a:pt x="7" y="22"/>
                            </a:lnTo>
                            <a:lnTo>
                              <a:pt x="7" y="4"/>
                            </a:lnTo>
                            <a:lnTo>
                              <a:pt x="17" y="4"/>
                            </a:lnTo>
                            <a:lnTo>
                              <a:pt x="24" y="0"/>
                            </a:lnTo>
                            <a:lnTo>
                              <a:pt x="31" y="0"/>
                            </a:lnTo>
                            <a:lnTo>
                              <a:pt x="34" y="4"/>
                            </a:lnTo>
                            <a:lnTo>
                              <a:pt x="34" y="4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6" name=""/>
                      <p:cNvSpPr/>
                      <p:nvPr/>
                    </p:nvSpPr>
                    <p:spPr>
                      <a:xfrm>
                        <a:off x="877680" y="2243520"/>
                        <a:ext cx="1008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72">
                            <a:moveTo>
                              <a:pt x="31" y="0"/>
                            </a:moveTo>
                            <a:lnTo>
                              <a:pt x="28" y="34"/>
                            </a:lnTo>
                            <a:lnTo>
                              <a:pt x="28" y="53"/>
                            </a:lnTo>
                            <a:lnTo>
                              <a:pt x="31" y="72"/>
                            </a:lnTo>
                            <a:lnTo>
                              <a:pt x="10" y="66"/>
                            </a:lnTo>
                            <a:lnTo>
                              <a:pt x="3" y="59"/>
                            </a:lnTo>
                            <a:lnTo>
                              <a:pt x="0" y="53"/>
                            </a:lnTo>
                            <a:lnTo>
                              <a:pt x="0" y="40"/>
                            </a:lnTo>
                            <a:lnTo>
                              <a:pt x="0" y="28"/>
                            </a:lnTo>
                            <a:lnTo>
                              <a:pt x="3" y="18"/>
                            </a:lnTo>
                            <a:lnTo>
                              <a:pt x="0" y="6"/>
                            </a:lnTo>
                            <a:lnTo>
                              <a:pt x="17" y="3"/>
                            </a:lnTo>
                            <a:lnTo>
                              <a:pt x="31" y="0"/>
                            </a:lnTo>
                            <a:lnTo>
                              <a:pt x="31" y="0"/>
                            </a:lnTo>
                            <a:close/>
                          </a:path>
                        </a:pathLst>
                      </a:custGeom>
                      <a:solidFill>
                        <a:srgbClr val="6699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7" name=""/>
                      <p:cNvSpPr/>
                      <p:nvPr/>
                    </p:nvSpPr>
                    <p:spPr>
                      <a:xfrm>
                        <a:off x="908280" y="2247120"/>
                        <a:ext cx="1260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66">
                            <a:moveTo>
                              <a:pt x="38" y="19"/>
                            </a:moveTo>
                            <a:lnTo>
                              <a:pt x="35" y="32"/>
                            </a:lnTo>
                            <a:lnTo>
                              <a:pt x="35" y="44"/>
                            </a:lnTo>
                            <a:lnTo>
                              <a:pt x="35" y="57"/>
                            </a:lnTo>
                            <a:lnTo>
                              <a:pt x="31" y="66"/>
                            </a:lnTo>
                            <a:lnTo>
                              <a:pt x="0" y="66"/>
                            </a:lnTo>
                            <a:lnTo>
                              <a:pt x="4" y="35"/>
                            </a:lnTo>
                            <a:lnTo>
                              <a:pt x="4" y="16"/>
                            </a:lnTo>
                            <a:lnTo>
                              <a:pt x="11" y="0"/>
                            </a:lnTo>
                            <a:lnTo>
                              <a:pt x="38" y="19"/>
                            </a:lnTo>
                            <a:lnTo>
                              <a:pt x="38" y="19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8" name=""/>
                      <p:cNvSpPr/>
                      <p:nvPr/>
                    </p:nvSpPr>
                    <p:spPr>
                      <a:xfrm>
                        <a:off x="925560" y="2250720"/>
                        <a:ext cx="2412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" h="53">
                            <a:moveTo>
                              <a:pt x="59" y="34"/>
                            </a:moveTo>
                            <a:lnTo>
                              <a:pt x="41" y="41"/>
                            </a:lnTo>
                            <a:lnTo>
                              <a:pt x="28" y="47"/>
                            </a:lnTo>
                            <a:lnTo>
                              <a:pt x="0" y="53"/>
                            </a:lnTo>
                            <a:lnTo>
                              <a:pt x="3" y="44"/>
                            </a:lnTo>
                            <a:lnTo>
                              <a:pt x="3" y="34"/>
                            </a:lnTo>
                            <a:lnTo>
                              <a:pt x="0" y="15"/>
                            </a:lnTo>
                            <a:lnTo>
                              <a:pt x="14" y="22"/>
                            </a:lnTo>
                            <a:lnTo>
                              <a:pt x="28" y="28"/>
                            </a:lnTo>
                            <a:lnTo>
                              <a:pt x="38" y="31"/>
                            </a:lnTo>
                            <a:lnTo>
                              <a:pt x="48" y="28"/>
                            </a:lnTo>
                            <a:lnTo>
                              <a:pt x="62" y="15"/>
                            </a:lnTo>
                            <a:lnTo>
                              <a:pt x="69" y="6"/>
                            </a:lnTo>
                            <a:lnTo>
                              <a:pt x="73" y="0"/>
                            </a:lnTo>
                            <a:lnTo>
                              <a:pt x="69" y="12"/>
                            </a:lnTo>
                            <a:lnTo>
                              <a:pt x="73" y="22"/>
                            </a:lnTo>
                            <a:lnTo>
                              <a:pt x="69" y="31"/>
                            </a:lnTo>
                            <a:lnTo>
                              <a:pt x="66" y="31"/>
                            </a:lnTo>
                            <a:lnTo>
                              <a:pt x="59" y="34"/>
                            </a:lnTo>
                            <a:lnTo>
                              <a:pt x="59" y="34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9" name=""/>
                      <p:cNvSpPr/>
                      <p:nvPr/>
                    </p:nvSpPr>
                    <p:spPr>
                      <a:xfrm>
                        <a:off x="1039680" y="2253960"/>
                        <a:ext cx="90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29">
                            <a:moveTo>
                              <a:pt x="28" y="10"/>
                            </a:moveTo>
                            <a:lnTo>
                              <a:pt x="25" y="19"/>
                            </a:lnTo>
                            <a:lnTo>
                              <a:pt x="21" y="22"/>
                            </a:lnTo>
                            <a:lnTo>
                              <a:pt x="14" y="29"/>
                            </a:lnTo>
                            <a:lnTo>
                              <a:pt x="7" y="22"/>
                            </a:lnTo>
                            <a:lnTo>
                              <a:pt x="0" y="19"/>
                            </a:lnTo>
                            <a:lnTo>
                              <a:pt x="0" y="16"/>
                            </a:lnTo>
                            <a:lnTo>
                              <a:pt x="0" y="7"/>
                            </a:lnTo>
                            <a:lnTo>
                              <a:pt x="7" y="3"/>
                            </a:lnTo>
                            <a:lnTo>
                              <a:pt x="14" y="0"/>
                            </a:lnTo>
                            <a:lnTo>
                              <a:pt x="21" y="0"/>
                            </a:lnTo>
                            <a:lnTo>
                              <a:pt x="25" y="3"/>
                            </a:lnTo>
                            <a:lnTo>
                              <a:pt x="28" y="10"/>
                            </a:lnTo>
                            <a:lnTo>
                              <a:pt x="28" y="1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0" name=""/>
                      <p:cNvSpPr/>
                      <p:nvPr/>
                    </p:nvSpPr>
                    <p:spPr>
                      <a:xfrm>
                        <a:off x="1098000" y="2256840"/>
                        <a:ext cx="1224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31">
                            <a:moveTo>
                              <a:pt x="38" y="6"/>
                            </a:moveTo>
                            <a:lnTo>
                              <a:pt x="38" y="16"/>
                            </a:lnTo>
                            <a:lnTo>
                              <a:pt x="35" y="22"/>
                            </a:lnTo>
                            <a:lnTo>
                              <a:pt x="32" y="28"/>
                            </a:lnTo>
                            <a:lnTo>
                              <a:pt x="25" y="31"/>
                            </a:lnTo>
                            <a:lnTo>
                              <a:pt x="11" y="28"/>
                            </a:lnTo>
                            <a:lnTo>
                              <a:pt x="4" y="25"/>
                            </a:lnTo>
                            <a:lnTo>
                              <a:pt x="0" y="19"/>
                            </a:lnTo>
                            <a:lnTo>
                              <a:pt x="7" y="6"/>
                            </a:lnTo>
                            <a:lnTo>
                              <a:pt x="11" y="0"/>
                            </a:lnTo>
                            <a:lnTo>
                              <a:pt x="18" y="0"/>
                            </a:lnTo>
                            <a:lnTo>
                              <a:pt x="28" y="0"/>
                            </a:lnTo>
                            <a:lnTo>
                              <a:pt x="35" y="0"/>
                            </a:lnTo>
                            <a:lnTo>
                              <a:pt x="38" y="6"/>
                            </a:lnTo>
                            <a:lnTo>
                              <a:pt x="38" y="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1" name=""/>
                      <p:cNvSpPr/>
                      <p:nvPr/>
                    </p:nvSpPr>
                    <p:spPr>
                      <a:xfrm>
                        <a:off x="1071000" y="2260440"/>
                        <a:ext cx="111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" h="32">
                            <a:moveTo>
                              <a:pt x="34" y="19"/>
                            </a:moveTo>
                            <a:lnTo>
                              <a:pt x="34" y="26"/>
                            </a:lnTo>
                            <a:lnTo>
                              <a:pt x="27" y="32"/>
                            </a:lnTo>
                            <a:lnTo>
                              <a:pt x="7" y="26"/>
                            </a:lnTo>
                            <a:lnTo>
                              <a:pt x="0" y="22"/>
                            </a:lnTo>
                            <a:lnTo>
                              <a:pt x="0" y="19"/>
                            </a:lnTo>
                            <a:lnTo>
                              <a:pt x="0" y="10"/>
                            </a:lnTo>
                            <a:lnTo>
                              <a:pt x="7" y="0"/>
                            </a:lnTo>
                            <a:lnTo>
                              <a:pt x="13" y="0"/>
                            </a:lnTo>
                            <a:lnTo>
                              <a:pt x="24" y="4"/>
                            </a:lnTo>
                            <a:lnTo>
                              <a:pt x="34" y="7"/>
                            </a:lnTo>
                            <a:lnTo>
                              <a:pt x="34" y="10"/>
                            </a:lnTo>
                            <a:lnTo>
                              <a:pt x="34" y="19"/>
                            </a:lnTo>
                            <a:lnTo>
                              <a:pt x="34" y="1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2" name=""/>
                      <p:cNvSpPr/>
                      <p:nvPr/>
                    </p:nvSpPr>
                    <p:spPr>
                      <a:xfrm>
                        <a:off x="1010160" y="2260440"/>
                        <a:ext cx="111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" h="32">
                            <a:moveTo>
                              <a:pt x="31" y="13"/>
                            </a:moveTo>
                            <a:lnTo>
                              <a:pt x="34" y="19"/>
                            </a:lnTo>
                            <a:lnTo>
                              <a:pt x="31" y="26"/>
                            </a:lnTo>
                            <a:lnTo>
                              <a:pt x="24" y="32"/>
                            </a:lnTo>
                            <a:lnTo>
                              <a:pt x="6" y="26"/>
                            </a:lnTo>
                            <a:lnTo>
                              <a:pt x="0" y="16"/>
                            </a:lnTo>
                            <a:lnTo>
                              <a:pt x="3" y="7"/>
                            </a:lnTo>
                            <a:lnTo>
                              <a:pt x="10" y="0"/>
                            </a:lnTo>
                            <a:lnTo>
                              <a:pt x="20" y="0"/>
                            </a:lnTo>
                            <a:lnTo>
                              <a:pt x="31" y="4"/>
                            </a:lnTo>
                            <a:lnTo>
                              <a:pt x="31" y="13"/>
                            </a:lnTo>
                            <a:lnTo>
                              <a:pt x="31" y="1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3" name=""/>
                      <p:cNvSpPr/>
                      <p:nvPr/>
                    </p:nvSpPr>
                    <p:spPr>
                      <a:xfrm>
                        <a:off x="934920" y="2267640"/>
                        <a:ext cx="12240" cy="16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60">
                            <a:moveTo>
                              <a:pt x="0" y="12"/>
                            </a:moveTo>
                            <a:lnTo>
                              <a:pt x="17" y="6"/>
                            </a:lnTo>
                            <a:lnTo>
                              <a:pt x="27" y="3"/>
                            </a:lnTo>
                            <a:lnTo>
                              <a:pt x="38" y="0"/>
                            </a:lnTo>
                            <a:lnTo>
                              <a:pt x="38" y="12"/>
                            </a:lnTo>
                            <a:lnTo>
                              <a:pt x="38" y="34"/>
                            </a:lnTo>
                            <a:lnTo>
                              <a:pt x="34" y="44"/>
                            </a:lnTo>
                            <a:lnTo>
                              <a:pt x="31" y="53"/>
                            </a:lnTo>
                            <a:lnTo>
                              <a:pt x="24" y="60"/>
                            </a:lnTo>
                            <a:lnTo>
                              <a:pt x="13" y="60"/>
                            </a:lnTo>
                            <a:lnTo>
                              <a:pt x="10" y="53"/>
                            </a:lnTo>
                            <a:lnTo>
                              <a:pt x="7" y="47"/>
                            </a:lnTo>
                            <a:lnTo>
                              <a:pt x="3" y="25"/>
                            </a:lnTo>
                            <a:lnTo>
                              <a:pt x="0" y="12"/>
                            </a:lnTo>
                            <a:lnTo>
                              <a:pt x="0" y="12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4" name=""/>
                      <p:cNvSpPr/>
                      <p:nvPr/>
                    </p:nvSpPr>
                    <p:spPr>
                      <a:xfrm>
                        <a:off x="898200" y="2273040"/>
                        <a:ext cx="11520" cy="16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59">
                            <a:moveTo>
                              <a:pt x="31" y="0"/>
                            </a:moveTo>
                            <a:lnTo>
                              <a:pt x="35" y="25"/>
                            </a:lnTo>
                            <a:lnTo>
                              <a:pt x="35" y="34"/>
                            </a:lnTo>
                            <a:lnTo>
                              <a:pt x="31" y="47"/>
                            </a:lnTo>
                            <a:lnTo>
                              <a:pt x="24" y="56"/>
                            </a:lnTo>
                            <a:lnTo>
                              <a:pt x="21" y="59"/>
                            </a:lnTo>
                            <a:lnTo>
                              <a:pt x="10" y="59"/>
                            </a:lnTo>
                            <a:lnTo>
                              <a:pt x="4" y="47"/>
                            </a:lnTo>
                            <a:lnTo>
                              <a:pt x="0" y="37"/>
                            </a:lnTo>
                            <a:lnTo>
                              <a:pt x="0" y="25"/>
                            </a:lnTo>
                            <a:lnTo>
                              <a:pt x="4" y="12"/>
                            </a:lnTo>
                            <a:lnTo>
                              <a:pt x="4" y="0"/>
                            </a:lnTo>
                            <a:lnTo>
                              <a:pt x="31" y="0"/>
                            </a:lnTo>
                            <a:lnTo>
                              <a:pt x="31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5" name=""/>
                      <p:cNvSpPr/>
                      <p:nvPr/>
                    </p:nvSpPr>
                    <p:spPr>
                      <a:xfrm>
                        <a:off x="583920" y="2312280"/>
                        <a:ext cx="99360" cy="50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1" h="177">
                            <a:moveTo>
                              <a:pt x="301" y="19"/>
                            </a:moveTo>
                            <a:lnTo>
                              <a:pt x="284" y="26"/>
                            </a:lnTo>
                            <a:lnTo>
                              <a:pt x="270" y="35"/>
                            </a:lnTo>
                            <a:lnTo>
                              <a:pt x="259" y="48"/>
                            </a:lnTo>
                            <a:lnTo>
                              <a:pt x="249" y="63"/>
                            </a:lnTo>
                            <a:lnTo>
                              <a:pt x="242" y="76"/>
                            </a:lnTo>
                            <a:lnTo>
                              <a:pt x="239" y="92"/>
                            </a:lnTo>
                            <a:lnTo>
                              <a:pt x="232" y="123"/>
                            </a:lnTo>
                            <a:lnTo>
                              <a:pt x="232" y="139"/>
                            </a:lnTo>
                            <a:lnTo>
                              <a:pt x="235" y="152"/>
                            </a:lnTo>
                            <a:lnTo>
                              <a:pt x="239" y="164"/>
                            </a:lnTo>
                            <a:lnTo>
                              <a:pt x="246" y="177"/>
                            </a:lnTo>
                            <a:lnTo>
                              <a:pt x="232" y="167"/>
                            </a:lnTo>
                            <a:lnTo>
                              <a:pt x="225" y="158"/>
                            </a:lnTo>
                            <a:lnTo>
                              <a:pt x="211" y="133"/>
                            </a:lnTo>
                            <a:lnTo>
                              <a:pt x="208" y="123"/>
                            </a:lnTo>
                            <a:lnTo>
                              <a:pt x="201" y="114"/>
                            </a:lnTo>
                            <a:lnTo>
                              <a:pt x="190" y="107"/>
                            </a:lnTo>
                            <a:lnTo>
                              <a:pt x="180" y="104"/>
                            </a:lnTo>
                            <a:lnTo>
                              <a:pt x="163" y="98"/>
                            </a:lnTo>
                            <a:lnTo>
                              <a:pt x="149" y="85"/>
                            </a:lnTo>
                            <a:lnTo>
                              <a:pt x="135" y="79"/>
                            </a:lnTo>
                            <a:lnTo>
                              <a:pt x="125" y="76"/>
                            </a:lnTo>
                            <a:lnTo>
                              <a:pt x="114" y="79"/>
                            </a:lnTo>
                            <a:lnTo>
                              <a:pt x="101" y="73"/>
                            </a:lnTo>
                            <a:lnTo>
                              <a:pt x="83" y="70"/>
                            </a:lnTo>
                            <a:lnTo>
                              <a:pt x="70" y="70"/>
                            </a:lnTo>
                            <a:lnTo>
                              <a:pt x="56" y="70"/>
                            </a:lnTo>
                            <a:lnTo>
                              <a:pt x="42" y="73"/>
                            </a:lnTo>
                            <a:lnTo>
                              <a:pt x="32" y="79"/>
                            </a:lnTo>
                            <a:lnTo>
                              <a:pt x="18" y="89"/>
                            </a:lnTo>
                            <a:lnTo>
                              <a:pt x="7" y="98"/>
                            </a:lnTo>
                            <a:lnTo>
                              <a:pt x="0" y="95"/>
                            </a:lnTo>
                            <a:lnTo>
                              <a:pt x="4" y="92"/>
                            </a:lnTo>
                            <a:lnTo>
                              <a:pt x="7" y="79"/>
                            </a:lnTo>
                            <a:lnTo>
                              <a:pt x="18" y="63"/>
                            </a:lnTo>
                            <a:lnTo>
                              <a:pt x="28" y="51"/>
                            </a:lnTo>
                            <a:lnTo>
                              <a:pt x="45" y="38"/>
                            </a:lnTo>
                            <a:lnTo>
                              <a:pt x="66" y="26"/>
                            </a:lnTo>
                            <a:lnTo>
                              <a:pt x="66" y="38"/>
                            </a:lnTo>
                            <a:lnTo>
                              <a:pt x="73" y="44"/>
                            </a:lnTo>
                            <a:lnTo>
                              <a:pt x="80" y="44"/>
                            </a:lnTo>
                            <a:lnTo>
                              <a:pt x="108" y="38"/>
                            </a:lnTo>
                            <a:lnTo>
                              <a:pt x="121" y="54"/>
                            </a:lnTo>
                            <a:lnTo>
                              <a:pt x="135" y="63"/>
                            </a:lnTo>
                            <a:lnTo>
                              <a:pt x="152" y="70"/>
                            </a:lnTo>
                            <a:lnTo>
                              <a:pt x="173" y="73"/>
                            </a:lnTo>
                            <a:lnTo>
                              <a:pt x="187" y="76"/>
                            </a:lnTo>
                            <a:lnTo>
                              <a:pt x="201" y="79"/>
                            </a:lnTo>
                            <a:lnTo>
                              <a:pt x="218" y="63"/>
                            </a:lnTo>
                            <a:lnTo>
                              <a:pt x="235" y="48"/>
                            </a:lnTo>
                            <a:lnTo>
                              <a:pt x="249" y="32"/>
                            </a:lnTo>
                            <a:lnTo>
                              <a:pt x="256" y="22"/>
                            </a:lnTo>
                            <a:lnTo>
                              <a:pt x="259" y="13"/>
                            </a:lnTo>
                            <a:lnTo>
                              <a:pt x="253" y="0"/>
                            </a:lnTo>
                            <a:lnTo>
                              <a:pt x="277" y="7"/>
                            </a:lnTo>
                            <a:lnTo>
                              <a:pt x="291" y="13"/>
                            </a:lnTo>
                            <a:lnTo>
                              <a:pt x="301" y="19"/>
                            </a:lnTo>
                            <a:lnTo>
                              <a:pt x="301" y="19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" bIns="3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6" name=""/>
                      <p:cNvSpPr/>
                      <p:nvPr/>
                    </p:nvSpPr>
                    <p:spPr>
                      <a:xfrm>
                        <a:off x="614880" y="2357280"/>
                        <a:ext cx="12240" cy="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25">
                            <a:moveTo>
                              <a:pt x="38" y="25"/>
                            </a:moveTo>
                            <a:lnTo>
                              <a:pt x="20" y="25"/>
                            </a:lnTo>
                            <a:lnTo>
                              <a:pt x="14" y="25"/>
                            </a:lnTo>
                            <a:lnTo>
                              <a:pt x="7" y="19"/>
                            </a:lnTo>
                            <a:lnTo>
                              <a:pt x="0" y="13"/>
                            </a:lnTo>
                            <a:lnTo>
                              <a:pt x="0" y="6"/>
                            </a:lnTo>
                            <a:lnTo>
                              <a:pt x="3" y="3"/>
                            </a:lnTo>
                            <a:lnTo>
                              <a:pt x="14" y="0"/>
                            </a:lnTo>
                            <a:lnTo>
                              <a:pt x="24" y="3"/>
                            </a:lnTo>
                            <a:lnTo>
                              <a:pt x="38" y="13"/>
                            </a:lnTo>
                            <a:lnTo>
                              <a:pt x="38" y="16"/>
                            </a:lnTo>
                            <a:lnTo>
                              <a:pt x="38" y="25"/>
                            </a:lnTo>
                            <a:lnTo>
                              <a:pt x="38" y="2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7" name=""/>
                      <p:cNvSpPr/>
                      <p:nvPr/>
                    </p:nvSpPr>
                    <p:spPr>
                      <a:xfrm>
                        <a:off x="600840" y="2360880"/>
                        <a:ext cx="100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28">
                            <a:moveTo>
                              <a:pt x="28" y="18"/>
                            </a:moveTo>
                            <a:lnTo>
                              <a:pt x="18" y="25"/>
                            </a:lnTo>
                            <a:lnTo>
                              <a:pt x="7" y="28"/>
                            </a:lnTo>
                            <a:lnTo>
                              <a:pt x="0" y="25"/>
                            </a:lnTo>
                            <a:lnTo>
                              <a:pt x="0" y="15"/>
                            </a:lnTo>
                            <a:lnTo>
                              <a:pt x="0" y="9"/>
                            </a:lnTo>
                            <a:lnTo>
                              <a:pt x="0" y="6"/>
                            </a:lnTo>
                            <a:lnTo>
                              <a:pt x="11" y="0"/>
                            </a:lnTo>
                            <a:lnTo>
                              <a:pt x="24" y="0"/>
                            </a:lnTo>
                            <a:lnTo>
                              <a:pt x="31" y="6"/>
                            </a:lnTo>
                            <a:lnTo>
                              <a:pt x="31" y="12"/>
                            </a:lnTo>
                            <a:lnTo>
                              <a:pt x="28" y="18"/>
                            </a:lnTo>
                            <a:lnTo>
                              <a:pt x="28" y="1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8" name=""/>
                      <p:cNvSpPr/>
                      <p:nvPr/>
                    </p:nvSpPr>
                    <p:spPr>
                      <a:xfrm>
                        <a:off x="552240" y="2376720"/>
                        <a:ext cx="33840" cy="16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60">
                            <a:moveTo>
                              <a:pt x="48" y="0"/>
                            </a:moveTo>
                            <a:lnTo>
                              <a:pt x="52" y="16"/>
                            </a:lnTo>
                            <a:lnTo>
                              <a:pt x="58" y="22"/>
                            </a:lnTo>
                            <a:lnTo>
                              <a:pt x="69" y="29"/>
                            </a:lnTo>
                            <a:lnTo>
                              <a:pt x="79" y="26"/>
                            </a:lnTo>
                            <a:lnTo>
                              <a:pt x="90" y="22"/>
                            </a:lnTo>
                            <a:lnTo>
                              <a:pt x="96" y="16"/>
                            </a:lnTo>
                            <a:lnTo>
                              <a:pt x="100" y="16"/>
                            </a:lnTo>
                            <a:lnTo>
                              <a:pt x="103" y="22"/>
                            </a:lnTo>
                            <a:lnTo>
                              <a:pt x="103" y="26"/>
                            </a:lnTo>
                            <a:lnTo>
                              <a:pt x="100" y="29"/>
                            </a:lnTo>
                            <a:lnTo>
                              <a:pt x="79" y="35"/>
                            </a:lnTo>
                            <a:lnTo>
                              <a:pt x="58" y="38"/>
                            </a:lnTo>
                            <a:lnTo>
                              <a:pt x="41" y="41"/>
                            </a:lnTo>
                            <a:lnTo>
                              <a:pt x="38" y="48"/>
                            </a:lnTo>
                            <a:lnTo>
                              <a:pt x="31" y="54"/>
                            </a:lnTo>
                            <a:lnTo>
                              <a:pt x="24" y="57"/>
                            </a:lnTo>
                            <a:lnTo>
                              <a:pt x="17" y="60"/>
                            </a:lnTo>
                            <a:lnTo>
                              <a:pt x="7" y="60"/>
                            </a:lnTo>
                            <a:lnTo>
                              <a:pt x="3" y="54"/>
                            </a:lnTo>
                            <a:lnTo>
                              <a:pt x="0" y="41"/>
                            </a:lnTo>
                            <a:lnTo>
                              <a:pt x="3" y="29"/>
                            </a:lnTo>
                            <a:lnTo>
                              <a:pt x="10" y="22"/>
                            </a:lnTo>
                            <a:lnTo>
                              <a:pt x="17" y="16"/>
                            </a:lnTo>
                            <a:lnTo>
                              <a:pt x="34" y="7"/>
                            </a:lnTo>
                            <a:lnTo>
                              <a:pt x="48" y="0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9" name=""/>
                      <p:cNvSpPr/>
                      <p:nvPr/>
                    </p:nvSpPr>
                    <p:spPr>
                      <a:xfrm>
                        <a:off x="610200" y="2386800"/>
                        <a:ext cx="2124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5" h="44">
                            <a:moveTo>
                              <a:pt x="65" y="13"/>
                            </a:moveTo>
                            <a:lnTo>
                              <a:pt x="59" y="32"/>
                            </a:lnTo>
                            <a:lnTo>
                              <a:pt x="52" y="28"/>
                            </a:lnTo>
                            <a:lnTo>
                              <a:pt x="41" y="25"/>
                            </a:lnTo>
                            <a:lnTo>
                              <a:pt x="41" y="32"/>
                            </a:lnTo>
                            <a:lnTo>
                              <a:pt x="41" y="38"/>
                            </a:lnTo>
                            <a:lnTo>
                              <a:pt x="41" y="44"/>
                            </a:lnTo>
                            <a:lnTo>
                              <a:pt x="34" y="44"/>
                            </a:lnTo>
                            <a:lnTo>
                              <a:pt x="34" y="38"/>
                            </a:lnTo>
                            <a:lnTo>
                              <a:pt x="28" y="32"/>
                            </a:lnTo>
                            <a:lnTo>
                              <a:pt x="21" y="32"/>
                            </a:lnTo>
                            <a:lnTo>
                              <a:pt x="21" y="38"/>
                            </a:lnTo>
                            <a:lnTo>
                              <a:pt x="21" y="38"/>
                            </a:lnTo>
                            <a:lnTo>
                              <a:pt x="10" y="38"/>
                            </a:lnTo>
                            <a:lnTo>
                              <a:pt x="7" y="35"/>
                            </a:lnTo>
                            <a:lnTo>
                              <a:pt x="0" y="25"/>
                            </a:lnTo>
                            <a:lnTo>
                              <a:pt x="0" y="19"/>
                            </a:lnTo>
                            <a:lnTo>
                              <a:pt x="7" y="13"/>
                            </a:lnTo>
                            <a:lnTo>
                              <a:pt x="28" y="0"/>
                            </a:lnTo>
                            <a:lnTo>
                              <a:pt x="45" y="0"/>
                            </a:lnTo>
                            <a:lnTo>
                              <a:pt x="55" y="3"/>
                            </a:lnTo>
                            <a:lnTo>
                              <a:pt x="65" y="13"/>
                            </a:lnTo>
                            <a:lnTo>
                              <a:pt x="65" y="1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0" name=""/>
                      <p:cNvSpPr/>
                      <p:nvPr/>
                    </p:nvSpPr>
                    <p:spPr>
                      <a:xfrm>
                        <a:off x="570240" y="2389320"/>
                        <a:ext cx="284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51">
                            <a:moveTo>
                              <a:pt x="62" y="4"/>
                            </a:moveTo>
                            <a:lnTo>
                              <a:pt x="66" y="7"/>
                            </a:lnTo>
                            <a:lnTo>
                              <a:pt x="62" y="10"/>
                            </a:lnTo>
                            <a:lnTo>
                              <a:pt x="86" y="29"/>
                            </a:lnTo>
                            <a:lnTo>
                              <a:pt x="69" y="35"/>
                            </a:lnTo>
                            <a:lnTo>
                              <a:pt x="55" y="41"/>
                            </a:lnTo>
                            <a:lnTo>
                              <a:pt x="41" y="48"/>
                            </a:lnTo>
                            <a:lnTo>
                              <a:pt x="28" y="51"/>
                            </a:lnTo>
                            <a:lnTo>
                              <a:pt x="7" y="45"/>
                            </a:lnTo>
                            <a:lnTo>
                              <a:pt x="0" y="41"/>
                            </a:lnTo>
                            <a:lnTo>
                              <a:pt x="7" y="23"/>
                            </a:lnTo>
                            <a:lnTo>
                              <a:pt x="10" y="16"/>
                            </a:lnTo>
                            <a:lnTo>
                              <a:pt x="21" y="10"/>
                            </a:lnTo>
                            <a:lnTo>
                              <a:pt x="31" y="7"/>
                            </a:lnTo>
                            <a:lnTo>
                              <a:pt x="41" y="0"/>
                            </a:lnTo>
                            <a:lnTo>
                              <a:pt x="52" y="0"/>
                            </a:lnTo>
                            <a:lnTo>
                              <a:pt x="62" y="4"/>
                            </a:lnTo>
                            <a:lnTo>
                              <a:pt x="62" y="4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1" name=""/>
                      <p:cNvSpPr/>
                      <p:nvPr/>
                    </p:nvSpPr>
                    <p:spPr>
                      <a:xfrm>
                        <a:off x="1494720" y="2129760"/>
                        <a:ext cx="684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35">
                            <a:moveTo>
                              <a:pt x="14" y="35"/>
                            </a:moveTo>
                            <a:lnTo>
                              <a:pt x="10" y="35"/>
                            </a:lnTo>
                            <a:lnTo>
                              <a:pt x="3" y="32"/>
                            </a:lnTo>
                            <a:lnTo>
                              <a:pt x="0" y="22"/>
                            </a:lnTo>
                            <a:lnTo>
                              <a:pt x="0" y="10"/>
                            </a:lnTo>
                            <a:lnTo>
                              <a:pt x="3" y="3"/>
                            </a:lnTo>
                            <a:lnTo>
                              <a:pt x="7" y="0"/>
                            </a:lnTo>
                            <a:lnTo>
                              <a:pt x="14" y="0"/>
                            </a:lnTo>
                            <a:lnTo>
                              <a:pt x="17" y="3"/>
                            </a:lnTo>
                            <a:lnTo>
                              <a:pt x="21" y="16"/>
                            </a:lnTo>
                            <a:lnTo>
                              <a:pt x="21" y="28"/>
                            </a:lnTo>
                            <a:lnTo>
                              <a:pt x="14" y="35"/>
                            </a:lnTo>
                            <a:lnTo>
                              <a:pt x="14" y="3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2" name=""/>
                      <p:cNvSpPr/>
                      <p:nvPr/>
                    </p:nvSpPr>
                    <p:spPr>
                      <a:xfrm>
                        <a:off x="1416960" y="2122560"/>
                        <a:ext cx="792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35">
                            <a:moveTo>
                              <a:pt x="14" y="35"/>
                            </a:moveTo>
                            <a:lnTo>
                              <a:pt x="3" y="28"/>
                            </a:lnTo>
                            <a:lnTo>
                              <a:pt x="0" y="19"/>
                            </a:lnTo>
                            <a:lnTo>
                              <a:pt x="0" y="9"/>
                            </a:lnTo>
                            <a:lnTo>
                              <a:pt x="0" y="3"/>
                            </a:lnTo>
                            <a:lnTo>
                              <a:pt x="7" y="0"/>
                            </a:lnTo>
                            <a:lnTo>
                              <a:pt x="14" y="0"/>
                            </a:lnTo>
                            <a:lnTo>
                              <a:pt x="17" y="3"/>
                            </a:lnTo>
                            <a:lnTo>
                              <a:pt x="24" y="16"/>
                            </a:lnTo>
                            <a:lnTo>
                              <a:pt x="21" y="28"/>
                            </a:lnTo>
                            <a:lnTo>
                              <a:pt x="14" y="35"/>
                            </a:lnTo>
                            <a:lnTo>
                              <a:pt x="14" y="3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3" name=""/>
                      <p:cNvSpPr/>
                      <p:nvPr/>
                    </p:nvSpPr>
                    <p:spPr>
                      <a:xfrm>
                        <a:off x="1428480" y="2124360"/>
                        <a:ext cx="792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35">
                            <a:moveTo>
                              <a:pt x="13" y="35"/>
                            </a:moveTo>
                            <a:lnTo>
                              <a:pt x="3" y="29"/>
                            </a:lnTo>
                            <a:lnTo>
                              <a:pt x="0" y="19"/>
                            </a:lnTo>
                            <a:lnTo>
                              <a:pt x="0" y="6"/>
                            </a:lnTo>
                            <a:lnTo>
                              <a:pt x="6" y="3"/>
                            </a:lnTo>
                            <a:lnTo>
                              <a:pt x="13" y="0"/>
                            </a:lnTo>
                            <a:lnTo>
                              <a:pt x="20" y="3"/>
                            </a:lnTo>
                            <a:lnTo>
                              <a:pt x="24" y="13"/>
                            </a:lnTo>
                            <a:lnTo>
                              <a:pt x="20" y="25"/>
                            </a:lnTo>
                            <a:lnTo>
                              <a:pt x="13" y="35"/>
                            </a:lnTo>
                            <a:lnTo>
                              <a:pt x="13" y="3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4" name=""/>
                      <p:cNvSpPr/>
                      <p:nvPr/>
                    </p:nvSpPr>
                    <p:spPr>
                      <a:xfrm>
                        <a:off x="1505880" y="2131560"/>
                        <a:ext cx="792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35">
                            <a:moveTo>
                              <a:pt x="18" y="35"/>
                            </a:moveTo>
                            <a:lnTo>
                              <a:pt x="7" y="35"/>
                            </a:lnTo>
                            <a:lnTo>
                              <a:pt x="4" y="32"/>
                            </a:lnTo>
                            <a:lnTo>
                              <a:pt x="0" y="22"/>
                            </a:lnTo>
                            <a:lnTo>
                              <a:pt x="0" y="16"/>
                            </a:lnTo>
                            <a:lnTo>
                              <a:pt x="0" y="10"/>
                            </a:lnTo>
                            <a:lnTo>
                              <a:pt x="4" y="4"/>
                            </a:lnTo>
                            <a:lnTo>
                              <a:pt x="7" y="4"/>
                            </a:lnTo>
                            <a:lnTo>
                              <a:pt x="14" y="0"/>
                            </a:lnTo>
                            <a:lnTo>
                              <a:pt x="21" y="4"/>
                            </a:lnTo>
                            <a:lnTo>
                              <a:pt x="25" y="16"/>
                            </a:lnTo>
                            <a:lnTo>
                              <a:pt x="21" y="29"/>
                            </a:lnTo>
                            <a:lnTo>
                              <a:pt x="18" y="35"/>
                            </a:lnTo>
                            <a:lnTo>
                              <a:pt x="18" y="3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pic>
                    <p:nvPicPr>
                      <p:cNvPr id="745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 flipH="1">
                        <a:off x="1317960" y="1402920"/>
                        <a:ext cx="297720" cy="218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"/>
          <p:cNvGrpSpPr/>
          <p:nvPr/>
        </p:nvGrpSpPr>
        <p:grpSpPr>
          <a:xfrm>
            <a:off x="0" y="0"/>
            <a:ext cx="6858000" cy="9143640"/>
            <a:chOff x="0" y="0"/>
            <a:chExt cx="6858000" cy="9143640"/>
          </a:xfrm>
        </p:grpSpPr>
        <p:pic>
          <p:nvPicPr>
            <p:cNvPr id="747" name="" descr=""/>
            <p:cNvPicPr/>
            <p:nvPr/>
          </p:nvPicPr>
          <p:blipFill>
            <a:blip r:embed="rId1"/>
            <a:stretch/>
          </p:blipFill>
          <p:spPr>
            <a:xfrm>
              <a:off x="0" y="103680"/>
              <a:ext cx="6858000" cy="903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8" name=""/>
            <p:cNvGrpSpPr/>
            <p:nvPr/>
          </p:nvGrpSpPr>
          <p:grpSpPr>
            <a:xfrm>
              <a:off x="331560" y="0"/>
              <a:ext cx="6083640" cy="8973360"/>
              <a:chOff x="331560" y="0"/>
              <a:chExt cx="6083640" cy="8973360"/>
            </a:xfrm>
          </p:grpSpPr>
          <p:pic>
            <p:nvPicPr>
              <p:cNvPr id="749" name="" descr=""/>
              <p:cNvPicPr/>
              <p:nvPr/>
            </p:nvPicPr>
            <p:blipFill>
              <a:blip r:embed="rId2">
                <a:lum bright="70000" contrast="-70000"/>
              </a:blip>
              <a:stretch/>
            </p:blipFill>
            <p:spPr>
              <a:xfrm>
                <a:off x="442080" y="727200"/>
                <a:ext cx="5862240" cy="152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0" name=""/>
              <p:cNvSpPr/>
              <p:nvPr/>
            </p:nvSpPr>
            <p:spPr>
              <a:xfrm>
                <a:off x="442080" y="0"/>
                <a:ext cx="5973120" cy="51948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2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أضف الكلمات الواردة في الجدول حسب التنوين</a:t>
                </a:r>
                <a:r>
                  <a:rPr b="0" lang="ar-SA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.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1" name=""/>
              <p:cNvGrpSpPr/>
              <p:nvPr/>
            </p:nvGrpSpPr>
            <p:grpSpPr>
              <a:xfrm>
                <a:off x="1105920" y="2389680"/>
                <a:ext cx="5294160" cy="5091480"/>
                <a:chOff x="1105920" y="2389680"/>
                <a:chExt cx="5294160" cy="5091480"/>
              </a:xfrm>
            </p:grpSpPr>
            <p:grpSp>
              <p:nvGrpSpPr>
                <p:cNvPr id="752" name=""/>
                <p:cNvGrpSpPr/>
                <p:nvPr/>
              </p:nvGrpSpPr>
              <p:grpSpPr>
                <a:xfrm>
                  <a:off x="5006520" y="2389680"/>
                  <a:ext cx="1393560" cy="5091480"/>
                  <a:chOff x="5006520" y="2389680"/>
                  <a:chExt cx="1393560" cy="5091480"/>
                </a:xfrm>
              </p:grpSpPr>
              <p:sp>
                <p:nvSpPr>
                  <p:cNvPr id="753" name=""/>
                  <p:cNvSpPr/>
                  <p:nvPr/>
                </p:nvSpPr>
                <p:spPr>
                  <a:xfrm>
                    <a:off x="5023440" y="2389680"/>
                    <a:ext cx="137664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الكلمة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5023440" y="2910600"/>
                    <a:ext cx="137664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جديد</a:t>
                    </a: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ٍ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5023440" y="3431520"/>
                    <a:ext cx="137664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ماءً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5023440" y="3952800"/>
                    <a:ext cx="137664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طويلة</a:t>
                    </a: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ٌ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5006520" y="4473360"/>
                    <a:ext cx="137664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شبلٌ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5006520" y="4995000"/>
                    <a:ext cx="137664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نظيفة</a:t>
                    </a: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ٌ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5006520" y="5515920"/>
                    <a:ext cx="137664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اتحادا</a:t>
                    </a: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ً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5006520" y="6037200"/>
                    <a:ext cx="137664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ضيفا</a:t>
                    </a: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ً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5006520" y="6558120"/>
                    <a:ext cx="137664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والدٍ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5006520" y="7079400"/>
                    <a:ext cx="137664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دفترا</a:t>
                    </a: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ً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3" name=""/>
                <p:cNvGrpSpPr/>
                <p:nvPr/>
              </p:nvGrpSpPr>
              <p:grpSpPr>
                <a:xfrm>
                  <a:off x="1105920" y="2389680"/>
                  <a:ext cx="3776760" cy="5091480"/>
                  <a:chOff x="1105920" y="2389680"/>
                  <a:chExt cx="3776760" cy="5091480"/>
                </a:xfrm>
              </p:grpSpPr>
              <p:sp>
                <p:nvSpPr>
                  <p:cNvPr id="764" name=""/>
                  <p:cNvSpPr/>
                  <p:nvPr/>
                </p:nvSpPr>
                <p:spPr>
                  <a:xfrm>
                    <a:off x="2420280" y="2389680"/>
                    <a:ext cx="116280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تنوين ضم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2420280" y="2910600"/>
                    <a:ext cx="116280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2420280" y="3431520"/>
                    <a:ext cx="116280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2405880" y="4995000"/>
                    <a:ext cx="116280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2420280" y="3952800"/>
                    <a:ext cx="116280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2405880" y="4473360"/>
                    <a:ext cx="116280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2405880" y="5515920"/>
                    <a:ext cx="116280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2405880" y="6037200"/>
                    <a:ext cx="116280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2405880" y="6558120"/>
                    <a:ext cx="116280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2405880" y="7079400"/>
                    <a:ext cx="116280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1120320" y="2389680"/>
                    <a:ext cx="11620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تنوين كسر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1120320" y="2910600"/>
                    <a:ext cx="11620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1120320" y="3431520"/>
                    <a:ext cx="11620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1105920" y="4995000"/>
                    <a:ext cx="11620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1120320" y="3952800"/>
                    <a:ext cx="11620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1105920" y="4473360"/>
                    <a:ext cx="11620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1105920" y="5515920"/>
                    <a:ext cx="11620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1105920" y="6037200"/>
                    <a:ext cx="11620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1105920" y="6558120"/>
                    <a:ext cx="11620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1105920" y="7079400"/>
                    <a:ext cx="11620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3720600" y="2389680"/>
                    <a:ext cx="11620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تنوين فت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3720600" y="3431520"/>
                    <a:ext cx="11620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3706200" y="4995000"/>
                    <a:ext cx="11620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3720600" y="2910600"/>
                    <a:ext cx="11620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3720600" y="3952800"/>
                    <a:ext cx="11620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3706200" y="4473360"/>
                    <a:ext cx="11620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3706200" y="5515920"/>
                    <a:ext cx="11620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3706200" y="6037200"/>
                    <a:ext cx="11620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3706200" y="6558120"/>
                    <a:ext cx="11620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3720600" y="7079400"/>
                    <a:ext cx="1162080" cy="40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79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216440" y="311400"/>
                <a:ext cx="4645800" cy="190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31560" y="7377480"/>
                <a:ext cx="3539520" cy="1595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6" name="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pic>
          <p:nvPicPr>
            <p:cNvPr id="79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0" cy="914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8" name=""/>
            <p:cNvGrpSpPr/>
            <p:nvPr/>
          </p:nvGrpSpPr>
          <p:grpSpPr>
            <a:xfrm>
              <a:off x="221040" y="105120"/>
              <a:ext cx="6482880" cy="8351640"/>
              <a:chOff x="221040" y="105120"/>
              <a:chExt cx="6482880" cy="8351640"/>
            </a:xfrm>
          </p:grpSpPr>
          <p:grpSp>
            <p:nvGrpSpPr>
              <p:cNvPr id="799" name=""/>
              <p:cNvGrpSpPr/>
              <p:nvPr/>
            </p:nvGrpSpPr>
            <p:grpSpPr>
              <a:xfrm>
                <a:off x="5105160" y="1050840"/>
                <a:ext cx="1598760" cy="7357320"/>
                <a:chOff x="5105160" y="1050840"/>
                <a:chExt cx="1598760" cy="735732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5198760" y="1050840"/>
                  <a:ext cx="1106280" cy="525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الصورة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751720" y="1576080"/>
                  <a:ext cx="0" cy="6831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2" name=""/>
                <p:cNvGrpSpPr/>
                <p:nvPr/>
              </p:nvGrpSpPr>
              <p:grpSpPr>
                <a:xfrm>
                  <a:off x="5198760" y="6095880"/>
                  <a:ext cx="1106280" cy="945720"/>
                  <a:chOff x="5198760" y="6095880"/>
                  <a:chExt cx="1106280" cy="945720"/>
                </a:xfrm>
              </p:grpSpPr>
              <p:pic>
                <p:nvPicPr>
                  <p:cNvPr id="8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8760" y="6095880"/>
                    <a:ext cx="110628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4" name=""/>
                  <p:cNvSpPr/>
                  <p:nvPr/>
                </p:nvSpPr>
                <p:spPr>
                  <a:xfrm>
                    <a:off x="5198760" y="7041600"/>
                    <a:ext cx="1106280" cy="0"/>
                  </a:xfrm>
                  <a:prstGeom prst="line">
                    <a:avLst/>
                  </a:prstGeom>
                  <a:ln w="1015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5" name=""/>
                <p:cNvGrpSpPr/>
                <p:nvPr/>
              </p:nvGrpSpPr>
              <p:grpSpPr>
                <a:xfrm>
                  <a:off x="5198760" y="3363120"/>
                  <a:ext cx="1106280" cy="945720"/>
                  <a:chOff x="5198760" y="3363120"/>
                  <a:chExt cx="1106280" cy="945720"/>
                </a:xfrm>
              </p:grpSpPr>
              <p:pic>
                <p:nvPicPr>
                  <p:cNvPr id="8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98760" y="3363120"/>
                    <a:ext cx="1106280" cy="8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7" name=""/>
                  <p:cNvSpPr/>
                  <p:nvPr/>
                </p:nvSpPr>
                <p:spPr>
                  <a:xfrm>
                    <a:off x="5198760" y="4308840"/>
                    <a:ext cx="1106280" cy="0"/>
                  </a:xfrm>
                  <a:prstGeom prst="line">
                    <a:avLst/>
                  </a:prstGeom>
                  <a:ln w="10152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8" name=""/>
                <p:cNvGrpSpPr/>
                <p:nvPr/>
              </p:nvGrpSpPr>
              <p:grpSpPr>
                <a:xfrm>
                  <a:off x="5105160" y="4711320"/>
                  <a:ext cx="1598760" cy="1582200"/>
                  <a:chOff x="5105160" y="4711320"/>
                  <a:chExt cx="1598760" cy="1582200"/>
                </a:xfrm>
              </p:grpSpPr>
              <p:sp>
                <p:nvSpPr>
                  <p:cNvPr id="809" name=""/>
                  <p:cNvSpPr/>
                  <p:nvPr/>
                </p:nvSpPr>
                <p:spPr>
                  <a:xfrm>
                    <a:off x="5198760" y="5675400"/>
                    <a:ext cx="1106280" cy="0"/>
                  </a:xfrm>
                  <a:prstGeom prst="line">
                    <a:avLst/>
                  </a:prstGeom>
                  <a:ln w="10152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8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 rot="3389400">
                    <a:off x="5345280" y="4913640"/>
                    <a:ext cx="1118160" cy="11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811" name=""/>
                <p:cNvGrpSpPr/>
                <p:nvPr/>
              </p:nvGrpSpPr>
              <p:grpSpPr>
                <a:xfrm>
                  <a:off x="5198760" y="1996560"/>
                  <a:ext cx="1106280" cy="945720"/>
                  <a:chOff x="5198760" y="1996560"/>
                  <a:chExt cx="1106280" cy="945720"/>
                </a:xfrm>
              </p:grpSpPr>
              <p:sp>
                <p:nvSpPr>
                  <p:cNvPr id="812" name=""/>
                  <p:cNvSpPr/>
                  <p:nvPr/>
                </p:nvSpPr>
                <p:spPr>
                  <a:xfrm>
                    <a:off x="5198760" y="2942280"/>
                    <a:ext cx="1106280" cy="0"/>
                  </a:xfrm>
                  <a:prstGeom prst="line">
                    <a:avLst/>
                  </a:prstGeom>
                  <a:ln w="101520">
                    <a:solidFill>
                      <a:srgbClr val="00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8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98760" y="1996560"/>
                    <a:ext cx="1106280" cy="9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814" name=""/>
                <p:cNvGrpSpPr/>
                <p:nvPr/>
              </p:nvGrpSpPr>
              <p:grpSpPr>
                <a:xfrm>
                  <a:off x="5198760" y="7462440"/>
                  <a:ext cx="1106280" cy="945720"/>
                  <a:chOff x="5198760" y="7462440"/>
                  <a:chExt cx="1106280" cy="945720"/>
                </a:xfrm>
              </p:grpSpPr>
              <p:sp>
                <p:nvSpPr>
                  <p:cNvPr id="815" name=""/>
                  <p:cNvSpPr/>
                  <p:nvPr/>
                </p:nvSpPr>
                <p:spPr>
                  <a:xfrm>
                    <a:off x="5198760" y="8408160"/>
                    <a:ext cx="1106280" cy="0"/>
                  </a:xfrm>
                  <a:prstGeom prst="line">
                    <a:avLst/>
                  </a:prstGeom>
                  <a:ln w="1015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8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98760" y="7462440"/>
                    <a:ext cx="110628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817" name=""/>
              <p:cNvGrpSpPr/>
              <p:nvPr/>
            </p:nvGrpSpPr>
            <p:grpSpPr>
              <a:xfrm>
                <a:off x="221040" y="1050840"/>
                <a:ext cx="4756320" cy="7405920"/>
                <a:chOff x="221040" y="1050840"/>
                <a:chExt cx="4756320" cy="7405920"/>
              </a:xfrm>
            </p:grpSpPr>
            <p:grpSp>
              <p:nvGrpSpPr>
                <p:cNvPr id="818" name=""/>
                <p:cNvGrpSpPr/>
                <p:nvPr/>
              </p:nvGrpSpPr>
              <p:grpSpPr>
                <a:xfrm>
                  <a:off x="3871440" y="1050840"/>
                  <a:ext cx="1105920" cy="7405920"/>
                  <a:chOff x="3871440" y="1050840"/>
                  <a:chExt cx="1105920" cy="7405920"/>
                </a:xfrm>
              </p:grpSpPr>
              <p:sp>
                <p:nvSpPr>
                  <p:cNvPr id="819" name=""/>
                  <p:cNvSpPr/>
                  <p:nvPr/>
                </p:nvSpPr>
                <p:spPr>
                  <a:xfrm>
                    <a:off x="3871440" y="1050840"/>
                    <a:ext cx="1105920" cy="5252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الاسم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3871440" y="2466000"/>
                    <a:ext cx="1105920" cy="5252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3871440" y="3832560"/>
                    <a:ext cx="1105920" cy="5252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3871440" y="5198760"/>
                    <a:ext cx="1105920" cy="5252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3871440" y="6565320"/>
                    <a:ext cx="1105920" cy="5252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3871440" y="7931520"/>
                    <a:ext cx="1105920" cy="5252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4424400" y="1625040"/>
                    <a:ext cx="0" cy="8406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4424400" y="2991600"/>
                    <a:ext cx="0" cy="8406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4424400" y="4358160"/>
                    <a:ext cx="0" cy="8406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4424400" y="5724360"/>
                    <a:ext cx="0" cy="8406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4424400" y="7090920"/>
                    <a:ext cx="0" cy="8406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0" name=""/>
                <p:cNvGrpSpPr/>
                <p:nvPr/>
              </p:nvGrpSpPr>
              <p:grpSpPr>
                <a:xfrm>
                  <a:off x="2654640" y="1050840"/>
                  <a:ext cx="1105920" cy="7405920"/>
                  <a:chOff x="2654640" y="1050840"/>
                  <a:chExt cx="1105920" cy="7405920"/>
                </a:xfrm>
              </p:grpSpPr>
              <p:sp>
                <p:nvSpPr>
                  <p:cNvPr id="831" name=""/>
                  <p:cNvSpPr/>
                  <p:nvPr/>
                </p:nvSpPr>
                <p:spPr>
                  <a:xfrm>
                    <a:off x="2654640" y="1050840"/>
                    <a:ext cx="1105920" cy="5252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بالفتح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2654640" y="2466000"/>
                    <a:ext cx="1105920" cy="5252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2654640" y="3832560"/>
                    <a:ext cx="1105920" cy="5252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2654640" y="5198760"/>
                    <a:ext cx="1105920" cy="5252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2654640" y="6565320"/>
                    <a:ext cx="1105920" cy="5252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2654640" y="7931520"/>
                    <a:ext cx="1105920" cy="5252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3207600" y="1625040"/>
                    <a:ext cx="0" cy="840600"/>
                  </a:xfrm>
                  <a:prstGeom prst="line">
                    <a:avLst/>
                  </a:prstGeom>
                  <a:ln w="38160">
                    <a:solidFill>
                      <a:srgbClr val="00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3207600" y="2991600"/>
                    <a:ext cx="0" cy="840600"/>
                  </a:xfrm>
                  <a:prstGeom prst="line">
                    <a:avLst/>
                  </a:prstGeom>
                  <a:ln w="38160">
                    <a:solidFill>
                      <a:srgbClr val="00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3207600" y="4358160"/>
                    <a:ext cx="0" cy="840600"/>
                  </a:xfrm>
                  <a:prstGeom prst="line">
                    <a:avLst/>
                  </a:prstGeom>
                  <a:ln w="38160">
                    <a:solidFill>
                      <a:srgbClr val="00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3207600" y="5724360"/>
                    <a:ext cx="0" cy="840600"/>
                  </a:xfrm>
                  <a:prstGeom prst="line">
                    <a:avLst/>
                  </a:prstGeom>
                  <a:ln w="38160">
                    <a:solidFill>
                      <a:srgbClr val="00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3207600" y="7090920"/>
                    <a:ext cx="0" cy="840600"/>
                  </a:xfrm>
                  <a:prstGeom prst="line">
                    <a:avLst/>
                  </a:prstGeom>
                  <a:ln w="38160">
                    <a:solidFill>
                      <a:srgbClr val="00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2" name=""/>
                <p:cNvGrpSpPr/>
                <p:nvPr/>
              </p:nvGrpSpPr>
              <p:grpSpPr>
                <a:xfrm>
                  <a:off x="1437480" y="1050840"/>
                  <a:ext cx="1105920" cy="7405920"/>
                  <a:chOff x="1437480" y="1050840"/>
                  <a:chExt cx="1105920" cy="7405920"/>
                </a:xfrm>
              </p:grpSpPr>
              <p:sp>
                <p:nvSpPr>
                  <p:cNvPr id="843" name=""/>
                  <p:cNvSpPr/>
                  <p:nvPr/>
                </p:nvSpPr>
                <p:spPr>
                  <a:xfrm>
                    <a:off x="1437480" y="1050840"/>
                    <a:ext cx="1105920" cy="5252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بالضم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1437480" y="2466000"/>
                    <a:ext cx="1105920" cy="5252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1437480" y="3832560"/>
                    <a:ext cx="1105920" cy="5252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1437480" y="5198760"/>
                    <a:ext cx="1105920" cy="5252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1437480" y="6565320"/>
                    <a:ext cx="1105920" cy="5252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1437480" y="7931520"/>
                    <a:ext cx="1105920" cy="5252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1990440" y="1625040"/>
                    <a:ext cx="0" cy="840600"/>
                  </a:xfrm>
                  <a:prstGeom prst="line">
                    <a:avLst/>
                  </a:prstGeom>
                  <a:ln w="381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1990440" y="2991600"/>
                    <a:ext cx="0" cy="840600"/>
                  </a:xfrm>
                  <a:prstGeom prst="line">
                    <a:avLst/>
                  </a:prstGeom>
                  <a:ln w="381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1990440" y="4358160"/>
                    <a:ext cx="0" cy="840600"/>
                  </a:xfrm>
                  <a:prstGeom prst="line">
                    <a:avLst/>
                  </a:prstGeom>
                  <a:ln w="381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1990440" y="5724360"/>
                    <a:ext cx="0" cy="840600"/>
                  </a:xfrm>
                  <a:prstGeom prst="line">
                    <a:avLst/>
                  </a:prstGeom>
                  <a:ln w="381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1990440" y="7090920"/>
                    <a:ext cx="0" cy="840600"/>
                  </a:xfrm>
                  <a:prstGeom prst="line">
                    <a:avLst/>
                  </a:prstGeom>
                  <a:ln w="381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4" name=""/>
                <p:cNvGrpSpPr/>
                <p:nvPr/>
              </p:nvGrpSpPr>
              <p:grpSpPr>
                <a:xfrm>
                  <a:off x="221040" y="1050840"/>
                  <a:ext cx="1105920" cy="7405920"/>
                  <a:chOff x="221040" y="1050840"/>
                  <a:chExt cx="1105920" cy="7405920"/>
                </a:xfrm>
              </p:grpSpPr>
              <p:sp>
                <p:nvSpPr>
                  <p:cNvPr id="855" name=""/>
                  <p:cNvSpPr/>
                  <p:nvPr/>
                </p:nvSpPr>
                <p:spPr>
                  <a:xfrm>
                    <a:off x="221040" y="1050840"/>
                    <a:ext cx="1105920" cy="5252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بالكسر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221040" y="2466000"/>
                    <a:ext cx="1105920" cy="5252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221040" y="3832560"/>
                    <a:ext cx="1105920" cy="5252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221040" y="5198760"/>
                    <a:ext cx="1105920" cy="5252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221040" y="6565320"/>
                    <a:ext cx="1105920" cy="5252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221040" y="7931520"/>
                    <a:ext cx="1105920" cy="5252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774000" y="1625040"/>
                    <a:ext cx="0" cy="840600"/>
                  </a:xfrm>
                  <a:prstGeom prst="line">
                    <a:avLst/>
                  </a:prstGeom>
                  <a:ln w="381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774000" y="2991600"/>
                    <a:ext cx="0" cy="840600"/>
                  </a:xfrm>
                  <a:prstGeom prst="line">
                    <a:avLst/>
                  </a:prstGeom>
                  <a:ln w="381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774000" y="4358160"/>
                    <a:ext cx="0" cy="840600"/>
                  </a:xfrm>
                  <a:prstGeom prst="line">
                    <a:avLst/>
                  </a:prstGeom>
                  <a:ln w="381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774000" y="5724360"/>
                    <a:ext cx="0" cy="840600"/>
                  </a:xfrm>
                  <a:prstGeom prst="line">
                    <a:avLst/>
                  </a:prstGeom>
                  <a:ln w="381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774000" y="7090920"/>
                    <a:ext cx="0" cy="840600"/>
                  </a:xfrm>
                  <a:prstGeom prst="line">
                    <a:avLst/>
                  </a:prstGeom>
                  <a:ln w="381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6" name=""/>
              <p:cNvSpPr/>
              <p:nvPr/>
            </p:nvSpPr>
            <p:spPr>
              <a:xfrm>
                <a:off x="3207600" y="105120"/>
                <a:ext cx="3318480" cy="42012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6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اكتب اسم الصورة ثم نون بـ</a:t>
                </a:r>
                <a:r>
                  <a:rPr b="0" lang="ar-SA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ar-SA" sz="2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7" name=""/>
              <p:cNvGrpSpPr/>
              <p:nvPr/>
            </p:nvGrpSpPr>
            <p:grpSpPr>
              <a:xfrm>
                <a:off x="774000" y="315360"/>
                <a:ext cx="2544120" cy="630360"/>
                <a:chOff x="774000" y="315360"/>
                <a:chExt cx="2544120" cy="630360"/>
              </a:xfrm>
            </p:grpSpPr>
            <p:sp>
              <p:nvSpPr>
                <p:cNvPr id="868" name=""/>
                <p:cNvSpPr/>
                <p:nvPr/>
              </p:nvSpPr>
              <p:spPr>
                <a:xfrm>
                  <a:off x="3207600" y="585360"/>
                  <a:ext cx="0" cy="36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1990800" y="315360"/>
                  <a:ext cx="0" cy="63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74000" y="585360"/>
                  <a:ext cx="0" cy="36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774000" y="585360"/>
                  <a:ext cx="2433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1990800" y="315360"/>
                  <a:ext cx="1327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3" name=""/>
          <p:cNvGrpSpPr/>
          <p:nvPr/>
        </p:nvGrpSpPr>
        <p:grpSpPr>
          <a:xfrm>
            <a:off x="0" y="0"/>
            <a:ext cx="6858000" cy="9143640"/>
            <a:chOff x="0" y="0"/>
            <a:chExt cx="6858000" cy="9143640"/>
          </a:xfrm>
        </p:grpSpPr>
        <p:pic>
          <p:nvPicPr>
            <p:cNvPr id="874" name="" descr=""/>
            <p:cNvPicPr/>
            <p:nvPr/>
          </p:nvPicPr>
          <p:blipFill>
            <a:blip r:embed="rId1"/>
            <a:stretch/>
          </p:blipFill>
          <p:spPr>
            <a:xfrm>
              <a:off x="0" y="205200"/>
              <a:ext cx="6858000" cy="8938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5" name=""/>
            <p:cNvGrpSpPr/>
            <p:nvPr/>
          </p:nvGrpSpPr>
          <p:grpSpPr>
            <a:xfrm>
              <a:off x="221040" y="0"/>
              <a:ext cx="6403320" cy="8835840"/>
              <a:chOff x="221040" y="0"/>
              <a:chExt cx="6403320" cy="8835840"/>
            </a:xfrm>
          </p:grpSpPr>
          <p:grpSp>
            <p:nvGrpSpPr>
              <p:cNvPr id="876" name=""/>
              <p:cNvGrpSpPr/>
              <p:nvPr/>
            </p:nvGrpSpPr>
            <p:grpSpPr>
              <a:xfrm>
                <a:off x="221040" y="0"/>
                <a:ext cx="6403320" cy="2054880"/>
                <a:chOff x="221040" y="0"/>
                <a:chExt cx="6403320" cy="2054880"/>
              </a:xfrm>
            </p:grpSpPr>
            <p:sp>
              <p:nvSpPr>
                <p:cNvPr id="877" name=""/>
                <p:cNvSpPr/>
                <p:nvPr/>
              </p:nvSpPr>
              <p:spPr>
                <a:xfrm>
                  <a:off x="331560" y="513720"/>
                  <a:ext cx="4313880" cy="8218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حول إلى تنوين ضم و كسر و فتح ثم اكتب و لا تنسى هروب (ال)  من الكلمة عند إدخال التنوين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7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313520" y="0"/>
                  <a:ext cx="2310840" cy="2054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21040" y="1130040"/>
                  <a:ext cx="4313880" cy="669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80" name=""/>
              <p:cNvGrpSpPr/>
              <p:nvPr/>
            </p:nvGrpSpPr>
            <p:grpSpPr>
              <a:xfrm>
                <a:off x="221040" y="2054880"/>
                <a:ext cx="6305040" cy="6780960"/>
                <a:chOff x="221040" y="2054880"/>
                <a:chExt cx="6305040" cy="678096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5530680" y="2054880"/>
                  <a:ext cx="995400" cy="616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الكلمة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3760560" y="2054880"/>
                  <a:ext cx="1658880" cy="616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تنوين ضم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1990800" y="2054880"/>
                  <a:ext cx="1658880" cy="616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تنوين كسر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221040" y="2054880"/>
                  <a:ext cx="1658880" cy="616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تنوين فتح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85" name=""/>
                <p:cNvGrpSpPr/>
                <p:nvPr/>
              </p:nvGrpSpPr>
              <p:grpSpPr>
                <a:xfrm>
                  <a:off x="221040" y="2773800"/>
                  <a:ext cx="6305040" cy="513720"/>
                  <a:chOff x="221040" y="2773800"/>
                  <a:chExt cx="6305040" cy="513720"/>
                </a:xfrm>
              </p:grpSpPr>
              <p:sp>
                <p:nvSpPr>
                  <p:cNvPr id="886" name=""/>
                  <p:cNvSpPr/>
                  <p:nvPr/>
                </p:nvSpPr>
                <p:spPr>
                  <a:xfrm>
                    <a:off x="221040" y="2773800"/>
                    <a:ext cx="1658880" cy="513720"/>
                  </a:xfrm>
                  <a:prstGeom prst="rect">
                    <a:avLst/>
                  </a:prstGeom>
                  <a:solidFill>
                    <a:srgbClr val="ffffff">
                      <a:alpha val="4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1990800" y="2773800"/>
                    <a:ext cx="1658880" cy="513720"/>
                  </a:xfrm>
                  <a:prstGeom prst="rect">
                    <a:avLst/>
                  </a:prstGeom>
                  <a:solidFill>
                    <a:srgbClr val="ffffff">
                      <a:alpha val="4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3760560" y="2773800"/>
                    <a:ext cx="1658880" cy="513720"/>
                  </a:xfrm>
                  <a:prstGeom prst="rect">
                    <a:avLst/>
                  </a:prstGeom>
                  <a:solidFill>
                    <a:srgbClr val="ffffff">
                      <a:alpha val="4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5530680" y="2773800"/>
                    <a:ext cx="995400" cy="51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الغزال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0" name=""/>
                <p:cNvGrpSpPr/>
                <p:nvPr/>
              </p:nvGrpSpPr>
              <p:grpSpPr>
                <a:xfrm>
                  <a:off x="221040" y="3390480"/>
                  <a:ext cx="6305040" cy="513720"/>
                  <a:chOff x="221040" y="3390480"/>
                  <a:chExt cx="6305040" cy="513720"/>
                </a:xfrm>
              </p:grpSpPr>
              <p:sp>
                <p:nvSpPr>
                  <p:cNvPr id="891" name=""/>
                  <p:cNvSpPr/>
                  <p:nvPr/>
                </p:nvSpPr>
                <p:spPr>
                  <a:xfrm>
                    <a:off x="221040" y="3390480"/>
                    <a:ext cx="1658880" cy="513720"/>
                  </a:xfrm>
                  <a:prstGeom prst="rect">
                    <a:avLst/>
                  </a:prstGeom>
                  <a:solidFill>
                    <a:srgbClr val="ffffff">
                      <a:alpha val="4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1990800" y="3390480"/>
                    <a:ext cx="1658880" cy="513720"/>
                  </a:xfrm>
                  <a:prstGeom prst="rect">
                    <a:avLst/>
                  </a:prstGeom>
                  <a:solidFill>
                    <a:srgbClr val="ffffff">
                      <a:alpha val="4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3760560" y="3390480"/>
                    <a:ext cx="1658880" cy="513720"/>
                  </a:xfrm>
                  <a:prstGeom prst="rect">
                    <a:avLst/>
                  </a:prstGeom>
                  <a:solidFill>
                    <a:srgbClr val="ffffff">
                      <a:alpha val="4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5530680" y="3390480"/>
                    <a:ext cx="995400" cy="51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الصياد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5" name=""/>
                <p:cNvGrpSpPr/>
                <p:nvPr/>
              </p:nvGrpSpPr>
              <p:grpSpPr>
                <a:xfrm>
                  <a:off x="221040" y="4006800"/>
                  <a:ext cx="6305040" cy="513720"/>
                  <a:chOff x="221040" y="4006800"/>
                  <a:chExt cx="6305040" cy="513720"/>
                </a:xfrm>
              </p:grpSpPr>
              <p:sp>
                <p:nvSpPr>
                  <p:cNvPr id="896" name=""/>
                  <p:cNvSpPr/>
                  <p:nvPr/>
                </p:nvSpPr>
                <p:spPr>
                  <a:xfrm>
                    <a:off x="221040" y="4006800"/>
                    <a:ext cx="1658880" cy="513720"/>
                  </a:xfrm>
                  <a:prstGeom prst="rect">
                    <a:avLst/>
                  </a:prstGeom>
                  <a:solidFill>
                    <a:srgbClr val="ffffff">
                      <a:alpha val="4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1990800" y="4006800"/>
                    <a:ext cx="1658880" cy="513720"/>
                  </a:xfrm>
                  <a:prstGeom prst="rect">
                    <a:avLst/>
                  </a:prstGeom>
                  <a:solidFill>
                    <a:srgbClr val="ffffff">
                      <a:alpha val="4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3760560" y="4006800"/>
                    <a:ext cx="1658880" cy="513720"/>
                  </a:xfrm>
                  <a:prstGeom prst="rect">
                    <a:avLst/>
                  </a:prstGeom>
                  <a:solidFill>
                    <a:srgbClr val="ffffff">
                      <a:alpha val="4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5530680" y="4006800"/>
                    <a:ext cx="995400" cy="51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الفتاة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0" name=""/>
                <p:cNvGrpSpPr/>
                <p:nvPr/>
              </p:nvGrpSpPr>
              <p:grpSpPr>
                <a:xfrm>
                  <a:off x="221040" y="4623480"/>
                  <a:ext cx="6305040" cy="513720"/>
                  <a:chOff x="221040" y="4623480"/>
                  <a:chExt cx="6305040" cy="513720"/>
                </a:xfrm>
              </p:grpSpPr>
              <p:sp>
                <p:nvSpPr>
                  <p:cNvPr id="901" name=""/>
                  <p:cNvSpPr/>
                  <p:nvPr/>
                </p:nvSpPr>
                <p:spPr>
                  <a:xfrm>
                    <a:off x="221040" y="4623480"/>
                    <a:ext cx="1658880" cy="513720"/>
                  </a:xfrm>
                  <a:prstGeom prst="rect">
                    <a:avLst/>
                  </a:prstGeom>
                  <a:solidFill>
                    <a:srgbClr val="ffffff">
                      <a:alpha val="4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1990800" y="4623480"/>
                    <a:ext cx="1658880" cy="513720"/>
                  </a:xfrm>
                  <a:prstGeom prst="rect">
                    <a:avLst/>
                  </a:prstGeom>
                  <a:solidFill>
                    <a:srgbClr val="ffffff">
                      <a:alpha val="4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3760560" y="4623480"/>
                    <a:ext cx="1658880" cy="513720"/>
                  </a:xfrm>
                  <a:prstGeom prst="rect">
                    <a:avLst/>
                  </a:prstGeom>
                  <a:solidFill>
                    <a:srgbClr val="ffffff">
                      <a:alpha val="4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5530680" y="4623480"/>
                    <a:ext cx="995400" cy="51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الهواء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5" name=""/>
                <p:cNvGrpSpPr/>
                <p:nvPr/>
              </p:nvGrpSpPr>
              <p:grpSpPr>
                <a:xfrm>
                  <a:off x="221040" y="5239800"/>
                  <a:ext cx="6305040" cy="513720"/>
                  <a:chOff x="221040" y="5239800"/>
                  <a:chExt cx="6305040" cy="513720"/>
                </a:xfrm>
              </p:grpSpPr>
              <p:sp>
                <p:nvSpPr>
                  <p:cNvPr id="906" name=""/>
                  <p:cNvSpPr/>
                  <p:nvPr/>
                </p:nvSpPr>
                <p:spPr>
                  <a:xfrm>
                    <a:off x="221040" y="5239800"/>
                    <a:ext cx="1658880" cy="513720"/>
                  </a:xfrm>
                  <a:prstGeom prst="rect">
                    <a:avLst/>
                  </a:prstGeom>
                  <a:solidFill>
                    <a:srgbClr val="ffffff">
                      <a:alpha val="4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1990800" y="5239800"/>
                    <a:ext cx="1658880" cy="513720"/>
                  </a:xfrm>
                  <a:prstGeom prst="rect">
                    <a:avLst/>
                  </a:prstGeom>
                  <a:solidFill>
                    <a:srgbClr val="ffffff">
                      <a:alpha val="4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3760560" y="5239800"/>
                    <a:ext cx="1658880" cy="513720"/>
                  </a:xfrm>
                  <a:prstGeom prst="rect">
                    <a:avLst/>
                  </a:prstGeom>
                  <a:solidFill>
                    <a:srgbClr val="ffffff">
                      <a:alpha val="4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5530680" y="5239800"/>
                    <a:ext cx="995400" cy="51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العلم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0" name=""/>
                <p:cNvGrpSpPr/>
                <p:nvPr/>
              </p:nvGrpSpPr>
              <p:grpSpPr>
                <a:xfrm>
                  <a:off x="221040" y="8322120"/>
                  <a:ext cx="6305040" cy="513720"/>
                  <a:chOff x="221040" y="8322120"/>
                  <a:chExt cx="6305040" cy="513720"/>
                </a:xfrm>
              </p:grpSpPr>
              <p:sp>
                <p:nvSpPr>
                  <p:cNvPr id="911" name=""/>
                  <p:cNvSpPr/>
                  <p:nvPr/>
                </p:nvSpPr>
                <p:spPr>
                  <a:xfrm>
                    <a:off x="221040" y="8322120"/>
                    <a:ext cx="1658880" cy="513720"/>
                  </a:xfrm>
                  <a:prstGeom prst="rect">
                    <a:avLst/>
                  </a:prstGeom>
                  <a:solidFill>
                    <a:srgbClr val="ffffff">
                      <a:alpha val="4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1990800" y="8322120"/>
                    <a:ext cx="1658880" cy="513720"/>
                  </a:xfrm>
                  <a:prstGeom prst="rect">
                    <a:avLst/>
                  </a:prstGeom>
                  <a:solidFill>
                    <a:srgbClr val="ffffff">
                      <a:alpha val="4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3760560" y="8322120"/>
                    <a:ext cx="1658880" cy="513720"/>
                  </a:xfrm>
                  <a:prstGeom prst="rect">
                    <a:avLst/>
                  </a:prstGeom>
                  <a:solidFill>
                    <a:srgbClr val="ffffff">
                      <a:alpha val="4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5530680" y="8322120"/>
                    <a:ext cx="995400" cy="51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القمر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5" name=""/>
                <p:cNvGrpSpPr/>
                <p:nvPr/>
              </p:nvGrpSpPr>
              <p:grpSpPr>
                <a:xfrm>
                  <a:off x="221040" y="6472800"/>
                  <a:ext cx="6305040" cy="513720"/>
                  <a:chOff x="221040" y="6472800"/>
                  <a:chExt cx="6305040" cy="513720"/>
                </a:xfrm>
              </p:grpSpPr>
              <p:sp>
                <p:nvSpPr>
                  <p:cNvPr id="916" name=""/>
                  <p:cNvSpPr/>
                  <p:nvPr/>
                </p:nvSpPr>
                <p:spPr>
                  <a:xfrm>
                    <a:off x="221040" y="6472800"/>
                    <a:ext cx="1658880" cy="513720"/>
                  </a:xfrm>
                  <a:prstGeom prst="rect">
                    <a:avLst/>
                  </a:prstGeom>
                  <a:solidFill>
                    <a:srgbClr val="ffffff">
                      <a:alpha val="4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1990800" y="6472800"/>
                    <a:ext cx="1658880" cy="513720"/>
                  </a:xfrm>
                  <a:prstGeom prst="rect">
                    <a:avLst/>
                  </a:prstGeom>
                  <a:solidFill>
                    <a:srgbClr val="ffffff">
                      <a:alpha val="4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3760560" y="6472800"/>
                    <a:ext cx="1658880" cy="513720"/>
                  </a:xfrm>
                  <a:prstGeom prst="rect">
                    <a:avLst/>
                  </a:prstGeom>
                  <a:solidFill>
                    <a:srgbClr val="ffffff">
                      <a:alpha val="4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5530680" y="6472800"/>
                    <a:ext cx="995400" cy="51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الكرسي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0" name=""/>
                <p:cNvGrpSpPr/>
                <p:nvPr/>
              </p:nvGrpSpPr>
              <p:grpSpPr>
                <a:xfrm>
                  <a:off x="221040" y="7089120"/>
                  <a:ext cx="6305040" cy="513720"/>
                  <a:chOff x="221040" y="7089120"/>
                  <a:chExt cx="6305040" cy="513720"/>
                </a:xfrm>
              </p:grpSpPr>
              <p:sp>
                <p:nvSpPr>
                  <p:cNvPr id="921" name=""/>
                  <p:cNvSpPr/>
                  <p:nvPr/>
                </p:nvSpPr>
                <p:spPr>
                  <a:xfrm>
                    <a:off x="221040" y="7089120"/>
                    <a:ext cx="1658880" cy="513720"/>
                  </a:xfrm>
                  <a:prstGeom prst="rect">
                    <a:avLst/>
                  </a:prstGeom>
                  <a:solidFill>
                    <a:srgbClr val="ffffff">
                      <a:alpha val="4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1990800" y="7089120"/>
                    <a:ext cx="1658880" cy="513720"/>
                  </a:xfrm>
                  <a:prstGeom prst="rect">
                    <a:avLst/>
                  </a:prstGeom>
                  <a:solidFill>
                    <a:srgbClr val="ffffff">
                      <a:alpha val="4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3760560" y="7089120"/>
                    <a:ext cx="1658880" cy="513720"/>
                  </a:xfrm>
                  <a:prstGeom prst="rect">
                    <a:avLst/>
                  </a:prstGeom>
                  <a:solidFill>
                    <a:srgbClr val="ffffff">
                      <a:alpha val="4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5530680" y="7089120"/>
                    <a:ext cx="995400" cy="51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الشباك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5" name=""/>
                <p:cNvGrpSpPr/>
                <p:nvPr/>
              </p:nvGrpSpPr>
              <p:grpSpPr>
                <a:xfrm>
                  <a:off x="221040" y="7705440"/>
                  <a:ext cx="6305040" cy="513720"/>
                  <a:chOff x="221040" y="7705440"/>
                  <a:chExt cx="6305040" cy="513720"/>
                </a:xfrm>
              </p:grpSpPr>
              <p:sp>
                <p:nvSpPr>
                  <p:cNvPr id="926" name=""/>
                  <p:cNvSpPr/>
                  <p:nvPr/>
                </p:nvSpPr>
                <p:spPr>
                  <a:xfrm>
                    <a:off x="221040" y="7705440"/>
                    <a:ext cx="1658880" cy="513720"/>
                  </a:xfrm>
                  <a:prstGeom prst="rect">
                    <a:avLst/>
                  </a:prstGeom>
                  <a:solidFill>
                    <a:srgbClr val="ffffff">
                      <a:alpha val="4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1990800" y="7705440"/>
                    <a:ext cx="1658880" cy="513720"/>
                  </a:xfrm>
                  <a:prstGeom prst="rect">
                    <a:avLst/>
                  </a:prstGeom>
                  <a:solidFill>
                    <a:srgbClr val="ffffff">
                      <a:alpha val="4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3760560" y="7705440"/>
                    <a:ext cx="1658880" cy="513720"/>
                  </a:xfrm>
                  <a:prstGeom prst="rect">
                    <a:avLst/>
                  </a:prstGeom>
                  <a:solidFill>
                    <a:srgbClr val="ffffff">
                      <a:alpha val="4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5530680" y="7705440"/>
                    <a:ext cx="995400" cy="51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الكوب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0" name=""/>
                <p:cNvGrpSpPr/>
                <p:nvPr/>
              </p:nvGrpSpPr>
              <p:grpSpPr>
                <a:xfrm>
                  <a:off x="221040" y="5856120"/>
                  <a:ext cx="6305040" cy="513720"/>
                  <a:chOff x="221040" y="5856120"/>
                  <a:chExt cx="6305040" cy="513720"/>
                </a:xfrm>
              </p:grpSpPr>
              <p:sp>
                <p:nvSpPr>
                  <p:cNvPr id="931" name=""/>
                  <p:cNvSpPr/>
                  <p:nvPr/>
                </p:nvSpPr>
                <p:spPr>
                  <a:xfrm>
                    <a:off x="221040" y="5856120"/>
                    <a:ext cx="1658880" cy="513720"/>
                  </a:xfrm>
                  <a:prstGeom prst="rect">
                    <a:avLst/>
                  </a:prstGeom>
                  <a:solidFill>
                    <a:srgbClr val="ffffff">
                      <a:alpha val="4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1990800" y="5856120"/>
                    <a:ext cx="1658880" cy="513720"/>
                  </a:xfrm>
                  <a:prstGeom prst="rect">
                    <a:avLst/>
                  </a:prstGeom>
                  <a:solidFill>
                    <a:srgbClr val="ffffff">
                      <a:alpha val="4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3760560" y="5856120"/>
                    <a:ext cx="1658880" cy="513720"/>
                  </a:xfrm>
                  <a:prstGeom prst="rect">
                    <a:avLst/>
                  </a:prstGeom>
                  <a:solidFill>
                    <a:srgbClr val="ffffff">
                      <a:alpha val="4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5530680" y="5856120"/>
                    <a:ext cx="995400" cy="51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الصديق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5" name=""/>
                <p:cNvSpPr/>
                <p:nvPr/>
              </p:nvSpPr>
              <p:spPr>
                <a:xfrm>
                  <a:off x="3539520" y="3184920"/>
                  <a:ext cx="331560" cy="3081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1769760" y="3184920"/>
                  <a:ext cx="331560" cy="30816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1769760" y="4417920"/>
                  <a:ext cx="331560" cy="3081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3539520" y="4417920"/>
                  <a:ext cx="331560" cy="308160"/>
                </a:xfrm>
                <a:prstGeom prst="ellipse">
                  <a:avLst/>
                </a:prstGeom>
                <a:solidFill>
                  <a:srgbClr val="ff7c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1769760" y="5650560"/>
                  <a:ext cx="331560" cy="30816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3539520" y="5650560"/>
                  <a:ext cx="331560" cy="3081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1769760" y="6883560"/>
                  <a:ext cx="331560" cy="308160"/>
                </a:xfrm>
                <a:prstGeom prst="ellipse">
                  <a:avLst/>
                </a:prstGeom>
                <a:solidFill>
                  <a:srgbClr val="ff7c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3539520" y="6883560"/>
                  <a:ext cx="331560" cy="30816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1769760" y="8116560"/>
                  <a:ext cx="331560" cy="3081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3539520" y="8116560"/>
                  <a:ext cx="331560" cy="30816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pic>
          <p:nvPicPr>
            <p:cNvPr id="94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0" cy="914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47" name=""/>
            <p:cNvGrpSpPr/>
            <p:nvPr/>
          </p:nvGrpSpPr>
          <p:grpSpPr>
            <a:xfrm>
              <a:off x="110520" y="209880"/>
              <a:ext cx="6301080" cy="8591040"/>
              <a:chOff x="110520" y="209880"/>
              <a:chExt cx="6301080" cy="8591040"/>
            </a:xfrm>
          </p:grpSpPr>
          <p:grpSp>
            <p:nvGrpSpPr>
              <p:cNvPr id="948" name=""/>
              <p:cNvGrpSpPr/>
              <p:nvPr/>
            </p:nvGrpSpPr>
            <p:grpSpPr>
              <a:xfrm>
                <a:off x="2543760" y="1681200"/>
                <a:ext cx="3867840" cy="6458040"/>
                <a:chOff x="2543760" y="1681200"/>
                <a:chExt cx="3867840" cy="6458040"/>
              </a:xfrm>
            </p:grpSpPr>
            <p:grpSp>
              <p:nvGrpSpPr>
                <p:cNvPr id="949" name=""/>
                <p:cNvGrpSpPr/>
                <p:nvPr/>
              </p:nvGrpSpPr>
              <p:grpSpPr>
                <a:xfrm>
                  <a:off x="4866480" y="1681200"/>
                  <a:ext cx="1545120" cy="6458040"/>
                  <a:chOff x="4866480" y="1681200"/>
                  <a:chExt cx="1545120" cy="6458040"/>
                </a:xfrm>
              </p:grpSpPr>
              <p:sp>
                <p:nvSpPr>
                  <p:cNvPr id="950" name=""/>
                  <p:cNvSpPr/>
                  <p:nvPr/>
                </p:nvSpPr>
                <p:spPr>
                  <a:xfrm>
                    <a:off x="4866480" y="1681200"/>
                    <a:ext cx="154512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الكلمة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4866480" y="2283480"/>
                    <a:ext cx="1545120" cy="430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ثوب</a:t>
                    </a: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ٌ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4866480" y="2886840"/>
                    <a:ext cx="154512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صيفـًّا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4866480" y="3489480"/>
                    <a:ext cx="154512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أكواب</a:t>
                    </a: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ٌ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4866480" y="4092120"/>
                    <a:ext cx="154512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طبل</a:t>
                    </a: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ٍ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4866480" y="4694760"/>
                    <a:ext cx="1545120" cy="430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 </a:t>
                    </a: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شمسا</a:t>
                    </a: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ً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4866480" y="5297760"/>
                    <a:ext cx="154512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مساءً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4866480" y="5900400"/>
                    <a:ext cx="154512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عنب</a:t>
                    </a: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ٍ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4866480" y="6503040"/>
                    <a:ext cx="154512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بدرٌ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4866480" y="7105680"/>
                    <a:ext cx="1545120" cy="430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سلاما</a:t>
                    </a: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ً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4866480" y="7709040"/>
                    <a:ext cx="154512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جميل</a:t>
                    </a: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ٍ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1" name=""/>
                <p:cNvGrpSpPr/>
                <p:nvPr/>
              </p:nvGrpSpPr>
              <p:grpSpPr>
                <a:xfrm>
                  <a:off x="2543760" y="1681200"/>
                  <a:ext cx="2208960" cy="6458040"/>
                  <a:chOff x="2543760" y="1681200"/>
                  <a:chExt cx="2208960" cy="6458040"/>
                </a:xfrm>
              </p:grpSpPr>
              <p:sp>
                <p:nvSpPr>
                  <p:cNvPr id="962" name=""/>
                  <p:cNvSpPr/>
                  <p:nvPr/>
                </p:nvSpPr>
                <p:spPr>
                  <a:xfrm>
                    <a:off x="2543760" y="1681200"/>
                    <a:ext cx="220896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ادخل اللام على الكلمة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2543760" y="2283480"/>
                    <a:ext cx="2208960" cy="430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2543760" y="2886840"/>
                    <a:ext cx="220896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2543760" y="3489480"/>
                    <a:ext cx="220896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2543760" y="4092120"/>
                    <a:ext cx="220896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2543760" y="4694760"/>
                    <a:ext cx="2208960" cy="430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2543760" y="5297760"/>
                    <a:ext cx="220896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2543760" y="5900400"/>
                    <a:ext cx="220896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2543760" y="6503040"/>
                    <a:ext cx="220896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2543760" y="7105680"/>
                    <a:ext cx="2208960" cy="43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2543760" y="7709040"/>
                    <a:ext cx="220896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73" name=""/>
              <p:cNvGrpSpPr/>
              <p:nvPr/>
            </p:nvGrpSpPr>
            <p:grpSpPr>
              <a:xfrm>
                <a:off x="110520" y="209880"/>
                <a:ext cx="6083640" cy="8591040"/>
                <a:chOff x="110520" y="209880"/>
                <a:chExt cx="6083640" cy="8591040"/>
              </a:xfrm>
            </p:grpSpPr>
            <p:pic>
              <p:nvPicPr>
                <p:cNvPr id="974" name="" descr=""/>
                <p:cNvPicPr/>
                <p:nvPr/>
              </p:nvPicPr>
              <p:blipFill>
                <a:blip r:embed="rId2"/>
                <a:stretch/>
              </p:blipFill>
              <p:spPr>
                <a:xfrm flipH="1">
                  <a:off x="220680" y="5570280"/>
                  <a:ext cx="2853720" cy="32306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75" name=""/>
                <p:cNvGrpSpPr/>
                <p:nvPr/>
              </p:nvGrpSpPr>
              <p:grpSpPr>
                <a:xfrm>
                  <a:off x="110520" y="209880"/>
                  <a:ext cx="6083640" cy="5360400"/>
                  <a:chOff x="110520" y="209880"/>
                  <a:chExt cx="6083640" cy="5360400"/>
                </a:xfrm>
              </p:grpSpPr>
              <p:grpSp>
                <p:nvGrpSpPr>
                  <p:cNvPr id="976" name=""/>
                  <p:cNvGrpSpPr/>
                  <p:nvPr/>
                </p:nvGrpSpPr>
                <p:grpSpPr>
                  <a:xfrm>
                    <a:off x="110520" y="209880"/>
                    <a:ext cx="6083640" cy="1366200"/>
                    <a:chOff x="110520" y="209880"/>
                    <a:chExt cx="6083640" cy="1366200"/>
                  </a:xfrm>
                </p:grpSpPr>
                <p:sp>
                  <p:nvSpPr>
                    <p:cNvPr id="977" name=""/>
                    <p:cNvSpPr/>
                    <p:nvPr/>
                  </p:nvSpPr>
                  <p:spPr>
                    <a:xfrm>
                      <a:off x="110520" y="209880"/>
                      <a:ext cx="6083640" cy="1366200"/>
                    </a:xfrm>
                    <a:prstGeom prst="cloudCallout">
                      <a:avLst>
                        <a:gd name="adj1" fmla="val -24768"/>
                        <a:gd name="adj2" fmla="val 127694"/>
                      </a:avLst>
                    </a:prstGeom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3240">
                      <a:solidFill>
                        <a:srgbClr val="cc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"/>
                    <p:cNvSpPr/>
                    <p:nvPr/>
                  </p:nvSpPr>
                  <p:spPr>
                    <a:xfrm>
                      <a:off x="552960" y="525240"/>
                      <a:ext cx="5641200" cy="735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دخل ( ال ) على الكلمة و لاحظ ( ال ) القمرية و ( ال )  الشمس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و لا تنسى حذف التنوين من الكلمة إذا دخلت عليها ( ال 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9" name=""/>
                  <p:cNvGrpSpPr/>
                  <p:nvPr/>
                </p:nvGrpSpPr>
                <p:grpSpPr>
                  <a:xfrm>
                    <a:off x="331560" y="1996560"/>
                    <a:ext cx="1327320" cy="3573720"/>
                    <a:chOff x="331560" y="1996560"/>
                    <a:chExt cx="1327320" cy="3573720"/>
                  </a:xfrm>
                </p:grpSpPr>
                <p:sp>
                  <p:nvSpPr>
                    <p:cNvPr id="980" name=""/>
                    <p:cNvSpPr/>
                    <p:nvPr/>
                  </p:nvSpPr>
                  <p:spPr>
                    <a:xfrm>
                      <a:off x="338040" y="2005200"/>
                      <a:ext cx="1314000" cy="353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55" h="23720">
                          <a:moveTo>
                            <a:pt x="7394" y="594"/>
                          </a:moveTo>
                          <a:lnTo>
                            <a:pt x="7429" y="640"/>
                          </a:lnTo>
                          <a:lnTo>
                            <a:pt x="7465" y="690"/>
                          </a:lnTo>
                          <a:lnTo>
                            <a:pt x="7499" y="741"/>
                          </a:lnTo>
                          <a:lnTo>
                            <a:pt x="7533" y="795"/>
                          </a:lnTo>
                          <a:lnTo>
                            <a:pt x="7566" y="849"/>
                          </a:lnTo>
                          <a:lnTo>
                            <a:pt x="7599" y="906"/>
                          </a:lnTo>
                          <a:lnTo>
                            <a:pt x="7631" y="962"/>
                          </a:lnTo>
                          <a:lnTo>
                            <a:pt x="7661" y="1021"/>
                          </a:lnTo>
                          <a:lnTo>
                            <a:pt x="7691" y="1082"/>
                          </a:lnTo>
                          <a:lnTo>
                            <a:pt x="7720" y="1144"/>
                          </a:lnTo>
                          <a:lnTo>
                            <a:pt x="7747" y="1208"/>
                          </a:lnTo>
                          <a:lnTo>
                            <a:pt x="7773" y="1273"/>
                          </a:lnTo>
                          <a:lnTo>
                            <a:pt x="7798" y="1339"/>
                          </a:lnTo>
                          <a:lnTo>
                            <a:pt x="7821" y="1405"/>
                          </a:lnTo>
                          <a:lnTo>
                            <a:pt x="7843" y="1474"/>
                          </a:lnTo>
                          <a:lnTo>
                            <a:pt x="7863" y="1543"/>
                          </a:lnTo>
                          <a:lnTo>
                            <a:pt x="7881" y="1613"/>
                          </a:lnTo>
                          <a:lnTo>
                            <a:pt x="7898" y="1685"/>
                          </a:lnTo>
                          <a:lnTo>
                            <a:pt x="7912" y="1757"/>
                          </a:lnTo>
                          <a:lnTo>
                            <a:pt x="7925" y="1831"/>
                          </a:lnTo>
                          <a:lnTo>
                            <a:pt x="7935" y="1904"/>
                          </a:lnTo>
                          <a:lnTo>
                            <a:pt x="7944" y="1979"/>
                          </a:lnTo>
                          <a:lnTo>
                            <a:pt x="7950" y="2054"/>
                          </a:lnTo>
                          <a:lnTo>
                            <a:pt x="7954" y="2130"/>
                          </a:lnTo>
                          <a:lnTo>
                            <a:pt x="7955" y="2207"/>
                          </a:lnTo>
                          <a:lnTo>
                            <a:pt x="7954" y="2283"/>
                          </a:lnTo>
                          <a:lnTo>
                            <a:pt x="7950" y="2361"/>
                          </a:lnTo>
                          <a:lnTo>
                            <a:pt x="7944" y="2439"/>
                          </a:lnTo>
                          <a:lnTo>
                            <a:pt x="7935" y="2519"/>
                          </a:lnTo>
                          <a:lnTo>
                            <a:pt x="7923" y="2597"/>
                          </a:lnTo>
                          <a:lnTo>
                            <a:pt x="7908" y="2676"/>
                          </a:lnTo>
                          <a:lnTo>
                            <a:pt x="7890" y="2756"/>
                          </a:lnTo>
                          <a:lnTo>
                            <a:pt x="7881" y="2801"/>
                          </a:lnTo>
                          <a:lnTo>
                            <a:pt x="7871" y="2846"/>
                          </a:lnTo>
                          <a:lnTo>
                            <a:pt x="7859" y="2888"/>
                          </a:lnTo>
                          <a:lnTo>
                            <a:pt x="7846" y="2930"/>
                          </a:lnTo>
                          <a:lnTo>
                            <a:pt x="7832" y="2970"/>
                          </a:lnTo>
                          <a:lnTo>
                            <a:pt x="7818" y="3009"/>
                          </a:lnTo>
                          <a:lnTo>
                            <a:pt x="7803" y="3048"/>
                          </a:lnTo>
                          <a:lnTo>
                            <a:pt x="7787" y="3087"/>
                          </a:lnTo>
                          <a:lnTo>
                            <a:pt x="7757" y="3163"/>
                          </a:lnTo>
                          <a:lnTo>
                            <a:pt x="7728" y="3241"/>
                          </a:lnTo>
                          <a:lnTo>
                            <a:pt x="7715" y="3280"/>
                          </a:lnTo>
                          <a:lnTo>
                            <a:pt x="7703" y="3321"/>
                          </a:lnTo>
                          <a:lnTo>
                            <a:pt x="7692" y="3363"/>
                          </a:lnTo>
                          <a:lnTo>
                            <a:pt x="7682" y="3405"/>
                          </a:lnTo>
                          <a:lnTo>
                            <a:pt x="7669" y="3421"/>
                          </a:lnTo>
                          <a:lnTo>
                            <a:pt x="7655" y="3439"/>
                          </a:lnTo>
                          <a:lnTo>
                            <a:pt x="7643" y="3457"/>
                          </a:lnTo>
                          <a:lnTo>
                            <a:pt x="7630" y="3475"/>
                          </a:lnTo>
                          <a:lnTo>
                            <a:pt x="7619" y="3495"/>
                          </a:lnTo>
                          <a:lnTo>
                            <a:pt x="7607" y="3514"/>
                          </a:lnTo>
                          <a:lnTo>
                            <a:pt x="7596" y="3535"/>
                          </a:lnTo>
                          <a:lnTo>
                            <a:pt x="7586" y="3556"/>
                          </a:lnTo>
                          <a:lnTo>
                            <a:pt x="7565" y="3600"/>
                          </a:lnTo>
                          <a:lnTo>
                            <a:pt x="7546" y="3643"/>
                          </a:lnTo>
                          <a:lnTo>
                            <a:pt x="7528" y="3688"/>
                          </a:lnTo>
                          <a:lnTo>
                            <a:pt x="7510" y="3735"/>
                          </a:lnTo>
                          <a:lnTo>
                            <a:pt x="7476" y="3826"/>
                          </a:lnTo>
                          <a:lnTo>
                            <a:pt x="7441" y="3915"/>
                          </a:lnTo>
                          <a:lnTo>
                            <a:pt x="7423" y="3956"/>
                          </a:lnTo>
                          <a:lnTo>
                            <a:pt x="7404" y="3997"/>
                          </a:lnTo>
                          <a:lnTo>
                            <a:pt x="7394" y="4016"/>
                          </a:lnTo>
                          <a:lnTo>
                            <a:pt x="7384" y="4034"/>
                          </a:lnTo>
                          <a:lnTo>
                            <a:pt x="7373" y="4054"/>
                          </a:lnTo>
                          <a:lnTo>
                            <a:pt x="7362" y="4070"/>
                          </a:lnTo>
                          <a:lnTo>
                            <a:pt x="7362" y="4087"/>
                          </a:lnTo>
                          <a:lnTo>
                            <a:pt x="7361" y="4102"/>
                          </a:lnTo>
                          <a:lnTo>
                            <a:pt x="7360" y="4117"/>
                          </a:lnTo>
                          <a:lnTo>
                            <a:pt x="7358" y="4132"/>
                          </a:lnTo>
                          <a:lnTo>
                            <a:pt x="7355" y="4147"/>
                          </a:lnTo>
                          <a:lnTo>
                            <a:pt x="7351" y="4162"/>
                          </a:lnTo>
                          <a:lnTo>
                            <a:pt x="7348" y="4175"/>
                          </a:lnTo>
                          <a:lnTo>
                            <a:pt x="7343" y="4190"/>
                          </a:lnTo>
                          <a:lnTo>
                            <a:pt x="7333" y="4217"/>
                          </a:lnTo>
                          <a:lnTo>
                            <a:pt x="7320" y="4244"/>
                          </a:lnTo>
                          <a:lnTo>
                            <a:pt x="7307" y="4270"/>
                          </a:lnTo>
                          <a:lnTo>
                            <a:pt x="7291" y="4294"/>
                          </a:lnTo>
                          <a:lnTo>
                            <a:pt x="7275" y="4318"/>
                          </a:lnTo>
                          <a:lnTo>
                            <a:pt x="7258" y="4340"/>
                          </a:lnTo>
                          <a:lnTo>
                            <a:pt x="7241" y="4361"/>
                          </a:lnTo>
                          <a:lnTo>
                            <a:pt x="7223" y="4382"/>
                          </a:lnTo>
                          <a:lnTo>
                            <a:pt x="7186" y="4421"/>
                          </a:lnTo>
                          <a:lnTo>
                            <a:pt x="7152" y="4456"/>
                          </a:lnTo>
                          <a:lnTo>
                            <a:pt x="7117" y="4549"/>
                          </a:lnTo>
                          <a:lnTo>
                            <a:pt x="7081" y="4643"/>
                          </a:lnTo>
                          <a:lnTo>
                            <a:pt x="7045" y="4739"/>
                          </a:lnTo>
                          <a:lnTo>
                            <a:pt x="7008" y="4834"/>
                          </a:lnTo>
                          <a:lnTo>
                            <a:pt x="6970" y="4931"/>
                          </a:lnTo>
                          <a:lnTo>
                            <a:pt x="6931" y="5027"/>
                          </a:lnTo>
                          <a:lnTo>
                            <a:pt x="6893" y="5124"/>
                          </a:lnTo>
                          <a:lnTo>
                            <a:pt x="6854" y="5223"/>
                          </a:lnTo>
                          <a:lnTo>
                            <a:pt x="6815" y="5322"/>
                          </a:lnTo>
                          <a:lnTo>
                            <a:pt x="6777" y="5421"/>
                          </a:lnTo>
                          <a:lnTo>
                            <a:pt x="6738" y="5522"/>
                          </a:lnTo>
                          <a:lnTo>
                            <a:pt x="6700" y="5622"/>
                          </a:lnTo>
                          <a:lnTo>
                            <a:pt x="6662" y="5724"/>
                          </a:lnTo>
                          <a:lnTo>
                            <a:pt x="6626" y="5825"/>
                          </a:lnTo>
                          <a:lnTo>
                            <a:pt x="6589" y="5928"/>
                          </a:lnTo>
                          <a:lnTo>
                            <a:pt x="6554" y="6030"/>
                          </a:lnTo>
                          <a:lnTo>
                            <a:pt x="6560" y="6054"/>
                          </a:lnTo>
                          <a:lnTo>
                            <a:pt x="6564" y="6076"/>
                          </a:lnTo>
                          <a:lnTo>
                            <a:pt x="6566" y="6099"/>
                          </a:lnTo>
                          <a:lnTo>
                            <a:pt x="6566" y="6121"/>
                          </a:lnTo>
                          <a:lnTo>
                            <a:pt x="6565" y="6142"/>
                          </a:lnTo>
                          <a:lnTo>
                            <a:pt x="6562" y="6163"/>
                          </a:lnTo>
                          <a:lnTo>
                            <a:pt x="6558" y="6184"/>
                          </a:lnTo>
                          <a:lnTo>
                            <a:pt x="6553" y="6204"/>
                          </a:lnTo>
                          <a:lnTo>
                            <a:pt x="6547" y="6223"/>
                          </a:lnTo>
                          <a:lnTo>
                            <a:pt x="6540" y="6243"/>
                          </a:lnTo>
                          <a:lnTo>
                            <a:pt x="6533" y="6261"/>
                          </a:lnTo>
                          <a:lnTo>
                            <a:pt x="6526" y="6279"/>
                          </a:lnTo>
                          <a:lnTo>
                            <a:pt x="6511" y="6313"/>
                          </a:lnTo>
                          <a:lnTo>
                            <a:pt x="6497" y="6346"/>
                          </a:lnTo>
                          <a:lnTo>
                            <a:pt x="6481" y="6351"/>
                          </a:lnTo>
                          <a:lnTo>
                            <a:pt x="6466" y="6355"/>
                          </a:lnTo>
                          <a:lnTo>
                            <a:pt x="6452" y="6363"/>
                          </a:lnTo>
                          <a:lnTo>
                            <a:pt x="6439" y="6372"/>
                          </a:lnTo>
                          <a:lnTo>
                            <a:pt x="6426" y="6381"/>
                          </a:lnTo>
                          <a:lnTo>
                            <a:pt x="6414" y="6391"/>
                          </a:lnTo>
                          <a:lnTo>
                            <a:pt x="6403" y="6403"/>
                          </a:lnTo>
                          <a:lnTo>
                            <a:pt x="6392" y="6417"/>
                          </a:lnTo>
                          <a:lnTo>
                            <a:pt x="6382" y="6430"/>
                          </a:lnTo>
                          <a:lnTo>
                            <a:pt x="6373" y="6445"/>
                          </a:lnTo>
                          <a:lnTo>
                            <a:pt x="6363" y="6460"/>
                          </a:lnTo>
                          <a:lnTo>
                            <a:pt x="6355" y="6475"/>
                          </a:lnTo>
                          <a:lnTo>
                            <a:pt x="6338" y="6510"/>
                          </a:lnTo>
                          <a:lnTo>
                            <a:pt x="6323" y="6544"/>
                          </a:lnTo>
                          <a:lnTo>
                            <a:pt x="6295" y="6619"/>
                          </a:lnTo>
                          <a:lnTo>
                            <a:pt x="6267" y="6693"/>
                          </a:lnTo>
                          <a:lnTo>
                            <a:pt x="6252" y="6729"/>
                          </a:lnTo>
                          <a:lnTo>
                            <a:pt x="6236" y="6762"/>
                          </a:lnTo>
                          <a:lnTo>
                            <a:pt x="6227" y="6778"/>
                          </a:lnTo>
                          <a:lnTo>
                            <a:pt x="6218" y="6793"/>
                          </a:lnTo>
                          <a:lnTo>
                            <a:pt x="6209" y="6808"/>
                          </a:lnTo>
                          <a:lnTo>
                            <a:pt x="6199" y="6822"/>
                          </a:lnTo>
                          <a:lnTo>
                            <a:pt x="6165" y="6895"/>
                          </a:lnTo>
                          <a:lnTo>
                            <a:pt x="6130" y="6967"/>
                          </a:lnTo>
                          <a:lnTo>
                            <a:pt x="6096" y="7040"/>
                          </a:lnTo>
                          <a:lnTo>
                            <a:pt x="6062" y="7112"/>
                          </a:lnTo>
                          <a:lnTo>
                            <a:pt x="6029" y="7186"/>
                          </a:lnTo>
                          <a:lnTo>
                            <a:pt x="5996" y="7259"/>
                          </a:lnTo>
                          <a:lnTo>
                            <a:pt x="5962" y="7334"/>
                          </a:lnTo>
                          <a:lnTo>
                            <a:pt x="5930" y="7408"/>
                          </a:lnTo>
                          <a:lnTo>
                            <a:pt x="5898" y="7483"/>
                          </a:lnTo>
                          <a:lnTo>
                            <a:pt x="5867" y="7559"/>
                          </a:lnTo>
                          <a:lnTo>
                            <a:pt x="5836" y="7636"/>
                          </a:lnTo>
                          <a:lnTo>
                            <a:pt x="5806" y="7714"/>
                          </a:lnTo>
                          <a:lnTo>
                            <a:pt x="5776" y="7793"/>
                          </a:lnTo>
                          <a:lnTo>
                            <a:pt x="5746" y="7873"/>
                          </a:lnTo>
                          <a:lnTo>
                            <a:pt x="5717" y="7953"/>
                          </a:lnTo>
                          <a:lnTo>
                            <a:pt x="5688" y="8037"/>
                          </a:lnTo>
                          <a:lnTo>
                            <a:pt x="5696" y="8262"/>
                          </a:lnTo>
                          <a:lnTo>
                            <a:pt x="5736" y="8346"/>
                          </a:lnTo>
                          <a:lnTo>
                            <a:pt x="5774" y="8432"/>
                          </a:lnTo>
                          <a:lnTo>
                            <a:pt x="5812" y="8517"/>
                          </a:lnTo>
                          <a:lnTo>
                            <a:pt x="5850" y="8603"/>
                          </a:lnTo>
                          <a:lnTo>
                            <a:pt x="5886" y="8690"/>
                          </a:lnTo>
                          <a:lnTo>
                            <a:pt x="5922" y="8775"/>
                          </a:lnTo>
                          <a:lnTo>
                            <a:pt x="5958" y="8862"/>
                          </a:lnTo>
                          <a:lnTo>
                            <a:pt x="5993" y="8950"/>
                          </a:lnTo>
                          <a:lnTo>
                            <a:pt x="6027" y="9037"/>
                          </a:lnTo>
                          <a:lnTo>
                            <a:pt x="6060" y="9126"/>
                          </a:lnTo>
                          <a:lnTo>
                            <a:pt x="6092" y="9214"/>
                          </a:lnTo>
                          <a:lnTo>
                            <a:pt x="6124" y="9304"/>
                          </a:lnTo>
                          <a:lnTo>
                            <a:pt x="6154" y="9394"/>
                          </a:lnTo>
                          <a:lnTo>
                            <a:pt x="6184" y="9484"/>
                          </a:lnTo>
                          <a:lnTo>
                            <a:pt x="6213" y="9576"/>
                          </a:lnTo>
                          <a:lnTo>
                            <a:pt x="6241" y="9667"/>
                          </a:lnTo>
                          <a:lnTo>
                            <a:pt x="6267" y="9759"/>
                          </a:lnTo>
                          <a:lnTo>
                            <a:pt x="6293" y="9852"/>
                          </a:lnTo>
                          <a:lnTo>
                            <a:pt x="6318" y="9944"/>
                          </a:lnTo>
                          <a:lnTo>
                            <a:pt x="6342" y="10039"/>
                          </a:lnTo>
                          <a:lnTo>
                            <a:pt x="6365" y="10135"/>
                          </a:lnTo>
                          <a:lnTo>
                            <a:pt x="6386" y="10229"/>
                          </a:lnTo>
                          <a:lnTo>
                            <a:pt x="6407" y="10327"/>
                          </a:lnTo>
                          <a:lnTo>
                            <a:pt x="6426" y="10424"/>
                          </a:lnTo>
                          <a:lnTo>
                            <a:pt x="6444" y="10522"/>
                          </a:lnTo>
                          <a:lnTo>
                            <a:pt x="6461" y="10621"/>
                          </a:lnTo>
                          <a:lnTo>
                            <a:pt x="6477" y="10721"/>
                          </a:lnTo>
                          <a:lnTo>
                            <a:pt x="6492" y="10822"/>
                          </a:lnTo>
                          <a:lnTo>
                            <a:pt x="6505" y="10922"/>
                          </a:lnTo>
                          <a:lnTo>
                            <a:pt x="6517" y="11025"/>
                          </a:lnTo>
                          <a:lnTo>
                            <a:pt x="6528" y="11129"/>
                          </a:lnTo>
                          <a:lnTo>
                            <a:pt x="6537" y="11234"/>
                          </a:lnTo>
                          <a:lnTo>
                            <a:pt x="6537" y="11282"/>
                          </a:lnTo>
                          <a:lnTo>
                            <a:pt x="6537" y="11333"/>
                          </a:lnTo>
                          <a:lnTo>
                            <a:pt x="6535" y="11384"/>
                          </a:lnTo>
                          <a:lnTo>
                            <a:pt x="6532" y="11436"/>
                          </a:lnTo>
                          <a:lnTo>
                            <a:pt x="6528" y="11489"/>
                          </a:lnTo>
                          <a:lnTo>
                            <a:pt x="6522" y="11541"/>
                          </a:lnTo>
                          <a:lnTo>
                            <a:pt x="6518" y="11567"/>
                          </a:lnTo>
                          <a:lnTo>
                            <a:pt x="6514" y="11592"/>
                          </a:lnTo>
                          <a:lnTo>
                            <a:pt x="6509" y="11618"/>
                          </a:lnTo>
                          <a:lnTo>
                            <a:pt x="6504" y="11643"/>
                          </a:lnTo>
                          <a:lnTo>
                            <a:pt x="6498" y="11669"/>
                          </a:lnTo>
                          <a:lnTo>
                            <a:pt x="6492" y="11693"/>
                          </a:lnTo>
                          <a:lnTo>
                            <a:pt x="6485" y="11717"/>
                          </a:lnTo>
                          <a:lnTo>
                            <a:pt x="6477" y="11741"/>
                          </a:lnTo>
                          <a:lnTo>
                            <a:pt x="6468" y="11763"/>
                          </a:lnTo>
                          <a:lnTo>
                            <a:pt x="6459" y="11786"/>
                          </a:lnTo>
                          <a:lnTo>
                            <a:pt x="6449" y="11808"/>
                          </a:lnTo>
                          <a:lnTo>
                            <a:pt x="6439" y="11829"/>
                          </a:lnTo>
                          <a:lnTo>
                            <a:pt x="6427" y="11850"/>
                          </a:lnTo>
                          <a:lnTo>
                            <a:pt x="6415" y="11870"/>
                          </a:lnTo>
                          <a:lnTo>
                            <a:pt x="6402" y="11889"/>
                          </a:lnTo>
                          <a:lnTo>
                            <a:pt x="6388" y="11907"/>
                          </a:lnTo>
                          <a:lnTo>
                            <a:pt x="6374" y="11924"/>
                          </a:lnTo>
                          <a:lnTo>
                            <a:pt x="6358" y="11940"/>
                          </a:lnTo>
                          <a:lnTo>
                            <a:pt x="6341" y="11955"/>
                          </a:lnTo>
                          <a:lnTo>
                            <a:pt x="6324" y="11968"/>
                          </a:lnTo>
                          <a:lnTo>
                            <a:pt x="6276" y="11992"/>
                          </a:lnTo>
                          <a:lnTo>
                            <a:pt x="6228" y="12015"/>
                          </a:lnTo>
                          <a:lnTo>
                            <a:pt x="6179" y="12034"/>
                          </a:lnTo>
                          <a:lnTo>
                            <a:pt x="6130" y="12052"/>
                          </a:lnTo>
                          <a:lnTo>
                            <a:pt x="6081" y="12069"/>
                          </a:lnTo>
                          <a:lnTo>
                            <a:pt x="6031" y="12082"/>
                          </a:lnTo>
                          <a:lnTo>
                            <a:pt x="5979" y="12096"/>
                          </a:lnTo>
                          <a:lnTo>
                            <a:pt x="5929" y="12106"/>
                          </a:lnTo>
                          <a:lnTo>
                            <a:pt x="5878" y="12115"/>
                          </a:lnTo>
                          <a:lnTo>
                            <a:pt x="5827" y="12123"/>
                          </a:lnTo>
                          <a:lnTo>
                            <a:pt x="5775" y="12130"/>
                          </a:lnTo>
                          <a:lnTo>
                            <a:pt x="5723" y="12136"/>
                          </a:lnTo>
                          <a:lnTo>
                            <a:pt x="5671" y="12141"/>
                          </a:lnTo>
                          <a:lnTo>
                            <a:pt x="5619" y="12144"/>
                          </a:lnTo>
                          <a:lnTo>
                            <a:pt x="5567" y="12147"/>
                          </a:lnTo>
                          <a:lnTo>
                            <a:pt x="5514" y="12150"/>
                          </a:lnTo>
                          <a:lnTo>
                            <a:pt x="5409" y="12153"/>
                          </a:lnTo>
                          <a:lnTo>
                            <a:pt x="5304" y="12156"/>
                          </a:lnTo>
                          <a:lnTo>
                            <a:pt x="5198" y="12157"/>
                          </a:lnTo>
                          <a:lnTo>
                            <a:pt x="5093" y="12160"/>
                          </a:lnTo>
                          <a:lnTo>
                            <a:pt x="4988" y="12165"/>
                          </a:lnTo>
                          <a:lnTo>
                            <a:pt x="4884" y="12172"/>
                          </a:lnTo>
                          <a:lnTo>
                            <a:pt x="4832" y="12177"/>
                          </a:lnTo>
                          <a:lnTo>
                            <a:pt x="4780" y="12183"/>
                          </a:lnTo>
                          <a:lnTo>
                            <a:pt x="4729" y="12189"/>
                          </a:lnTo>
                          <a:lnTo>
                            <a:pt x="4678" y="12198"/>
                          </a:lnTo>
                          <a:lnTo>
                            <a:pt x="4677" y="12210"/>
                          </a:lnTo>
                          <a:lnTo>
                            <a:pt x="4676" y="12222"/>
                          </a:lnTo>
                          <a:lnTo>
                            <a:pt x="4674" y="12232"/>
                          </a:lnTo>
                          <a:lnTo>
                            <a:pt x="4672" y="12243"/>
                          </a:lnTo>
                          <a:lnTo>
                            <a:pt x="4667" y="12262"/>
                          </a:lnTo>
                          <a:lnTo>
                            <a:pt x="4660" y="12279"/>
                          </a:lnTo>
                          <a:lnTo>
                            <a:pt x="4653" y="12294"/>
                          </a:lnTo>
                          <a:lnTo>
                            <a:pt x="4644" y="12309"/>
                          </a:lnTo>
                          <a:lnTo>
                            <a:pt x="4634" y="12322"/>
                          </a:lnTo>
                          <a:lnTo>
                            <a:pt x="4625" y="12334"/>
                          </a:lnTo>
                          <a:lnTo>
                            <a:pt x="4604" y="12358"/>
                          </a:lnTo>
                          <a:lnTo>
                            <a:pt x="4585" y="12382"/>
                          </a:lnTo>
                          <a:lnTo>
                            <a:pt x="4576" y="12396"/>
                          </a:lnTo>
                          <a:lnTo>
                            <a:pt x="4567" y="12411"/>
                          </a:lnTo>
                          <a:lnTo>
                            <a:pt x="4560" y="12427"/>
                          </a:lnTo>
                          <a:lnTo>
                            <a:pt x="4554" y="12444"/>
                          </a:lnTo>
                          <a:lnTo>
                            <a:pt x="4562" y="12454"/>
                          </a:lnTo>
                          <a:lnTo>
                            <a:pt x="4570" y="12463"/>
                          </a:lnTo>
                          <a:lnTo>
                            <a:pt x="4577" y="12475"/>
                          </a:lnTo>
                          <a:lnTo>
                            <a:pt x="4584" y="12487"/>
                          </a:lnTo>
                          <a:lnTo>
                            <a:pt x="4598" y="12514"/>
                          </a:lnTo>
                          <a:lnTo>
                            <a:pt x="4611" y="12544"/>
                          </a:lnTo>
                          <a:lnTo>
                            <a:pt x="4637" y="12606"/>
                          </a:lnTo>
                          <a:lnTo>
                            <a:pt x="4664" y="12666"/>
                          </a:lnTo>
                          <a:lnTo>
                            <a:pt x="4671" y="12679"/>
                          </a:lnTo>
                          <a:lnTo>
                            <a:pt x="4679" y="12693"/>
                          </a:lnTo>
                          <a:lnTo>
                            <a:pt x="4686" y="12705"/>
                          </a:lnTo>
                          <a:lnTo>
                            <a:pt x="4694" y="12717"/>
                          </a:lnTo>
                          <a:lnTo>
                            <a:pt x="4702" y="12726"/>
                          </a:lnTo>
                          <a:lnTo>
                            <a:pt x="4711" y="12735"/>
                          </a:lnTo>
                          <a:lnTo>
                            <a:pt x="4720" y="12744"/>
                          </a:lnTo>
                          <a:lnTo>
                            <a:pt x="4729" y="12750"/>
                          </a:lnTo>
                          <a:lnTo>
                            <a:pt x="4739" y="12754"/>
                          </a:lnTo>
                          <a:lnTo>
                            <a:pt x="4749" y="12757"/>
                          </a:lnTo>
                          <a:lnTo>
                            <a:pt x="4760" y="12759"/>
                          </a:lnTo>
                          <a:lnTo>
                            <a:pt x="4771" y="12757"/>
                          </a:lnTo>
                          <a:lnTo>
                            <a:pt x="4783" y="12756"/>
                          </a:lnTo>
                          <a:lnTo>
                            <a:pt x="4796" y="12751"/>
                          </a:lnTo>
                          <a:lnTo>
                            <a:pt x="4809" y="12744"/>
                          </a:lnTo>
                          <a:lnTo>
                            <a:pt x="4822" y="12735"/>
                          </a:lnTo>
                          <a:lnTo>
                            <a:pt x="4846" y="12745"/>
                          </a:lnTo>
                          <a:lnTo>
                            <a:pt x="4870" y="12759"/>
                          </a:lnTo>
                          <a:lnTo>
                            <a:pt x="4895" y="12771"/>
                          </a:lnTo>
                          <a:lnTo>
                            <a:pt x="4918" y="12786"/>
                          </a:lnTo>
                          <a:lnTo>
                            <a:pt x="4942" y="12801"/>
                          </a:lnTo>
                          <a:lnTo>
                            <a:pt x="4964" y="12817"/>
                          </a:lnTo>
                          <a:lnTo>
                            <a:pt x="4986" y="12835"/>
                          </a:lnTo>
                          <a:lnTo>
                            <a:pt x="5006" y="12855"/>
                          </a:lnTo>
                          <a:lnTo>
                            <a:pt x="5016" y="12867"/>
                          </a:lnTo>
                          <a:lnTo>
                            <a:pt x="5025" y="12877"/>
                          </a:lnTo>
                          <a:lnTo>
                            <a:pt x="5034" y="12889"/>
                          </a:lnTo>
                          <a:lnTo>
                            <a:pt x="5043" y="12903"/>
                          </a:lnTo>
                          <a:lnTo>
                            <a:pt x="5051" y="12915"/>
                          </a:lnTo>
                          <a:lnTo>
                            <a:pt x="5058" y="12928"/>
                          </a:lnTo>
                          <a:lnTo>
                            <a:pt x="5065" y="12943"/>
                          </a:lnTo>
                          <a:lnTo>
                            <a:pt x="5071" y="12958"/>
                          </a:lnTo>
                          <a:lnTo>
                            <a:pt x="5077" y="12974"/>
                          </a:lnTo>
                          <a:lnTo>
                            <a:pt x="5082" y="12991"/>
                          </a:lnTo>
                          <a:lnTo>
                            <a:pt x="5087" y="13007"/>
                          </a:lnTo>
                          <a:lnTo>
                            <a:pt x="5091" y="13025"/>
                          </a:lnTo>
                          <a:lnTo>
                            <a:pt x="5094" y="13045"/>
                          </a:lnTo>
                          <a:lnTo>
                            <a:pt x="5097" y="13064"/>
                          </a:lnTo>
                          <a:lnTo>
                            <a:pt x="5098" y="13085"/>
                          </a:lnTo>
                          <a:lnTo>
                            <a:pt x="5099" y="13106"/>
                          </a:lnTo>
                          <a:lnTo>
                            <a:pt x="5093" y="13126"/>
                          </a:lnTo>
                          <a:lnTo>
                            <a:pt x="5089" y="13145"/>
                          </a:lnTo>
                          <a:lnTo>
                            <a:pt x="5085" y="13163"/>
                          </a:lnTo>
                          <a:lnTo>
                            <a:pt x="5083" y="13180"/>
                          </a:lnTo>
                          <a:lnTo>
                            <a:pt x="5083" y="13196"/>
                          </a:lnTo>
                          <a:lnTo>
                            <a:pt x="5083" y="13211"/>
                          </a:lnTo>
                          <a:lnTo>
                            <a:pt x="5084" y="13226"/>
                          </a:lnTo>
                          <a:lnTo>
                            <a:pt x="5087" y="13241"/>
                          </a:lnTo>
                          <a:lnTo>
                            <a:pt x="5090" y="13255"/>
                          </a:lnTo>
                          <a:lnTo>
                            <a:pt x="5094" y="13268"/>
                          </a:lnTo>
                          <a:lnTo>
                            <a:pt x="5099" y="13280"/>
                          </a:lnTo>
                          <a:lnTo>
                            <a:pt x="5104" y="13294"/>
                          </a:lnTo>
                          <a:lnTo>
                            <a:pt x="5117" y="13318"/>
                          </a:lnTo>
                          <a:lnTo>
                            <a:pt x="5131" y="13340"/>
                          </a:lnTo>
                          <a:lnTo>
                            <a:pt x="5161" y="13387"/>
                          </a:lnTo>
                          <a:lnTo>
                            <a:pt x="5191" y="13436"/>
                          </a:lnTo>
                          <a:lnTo>
                            <a:pt x="5198" y="13448"/>
                          </a:lnTo>
                          <a:lnTo>
                            <a:pt x="5205" y="13462"/>
                          </a:lnTo>
                          <a:lnTo>
                            <a:pt x="5210" y="13477"/>
                          </a:lnTo>
                          <a:lnTo>
                            <a:pt x="5216" y="13490"/>
                          </a:lnTo>
                          <a:lnTo>
                            <a:pt x="5220" y="13507"/>
                          </a:lnTo>
                          <a:lnTo>
                            <a:pt x="5224" y="13522"/>
                          </a:lnTo>
                          <a:lnTo>
                            <a:pt x="5227" y="13538"/>
                          </a:lnTo>
                          <a:lnTo>
                            <a:pt x="5229" y="13556"/>
                          </a:lnTo>
                          <a:lnTo>
                            <a:pt x="5232" y="13573"/>
                          </a:lnTo>
                          <a:lnTo>
                            <a:pt x="5234" y="13589"/>
                          </a:lnTo>
                          <a:lnTo>
                            <a:pt x="5235" y="13606"/>
                          </a:lnTo>
                          <a:lnTo>
                            <a:pt x="5236" y="13622"/>
                          </a:lnTo>
                          <a:lnTo>
                            <a:pt x="5236" y="13639"/>
                          </a:lnTo>
                          <a:lnTo>
                            <a:pt x="5236" y="13655"/>
                          </a:lnTo>
                          <a:lnTo>
                            <a:pt x="5235" y="13672"/>
                          </a:lnTo>
                          <a:lnTo>
                            <a:pt x="5234" y="13688"/>
                          </a:lnTo>
                          <a:lnTo>
                            <a:pt x="5232" y="13703"/>
                          </a:lnTo>
                          <a:lnTo>
                            <a:pt x="5229" y="13718"/>
                          </a:lnTo>
                          <a:lnTo>
                            <a:pt x="5226" y="13735"/>
                          </a:lnTo>
                          <a:lnTo>
                            <a:pt x="5221" y="13748"/>
                          </a:lnTo>
                          <a:lnTo>
                            <a:pt x="5217" y="13763"/>
                          </a:lnTo>
                          <a:lnTo>
                            <a:pt x="5211" y="13777"/>
                          </a:lnTo>
                          <a:lnTo>
                            <a:pt x="5205" y="13790"/>
                          </a:lnTo>
                          <a:lnTo>
                            <a:pt x="5197" y="13802"/>
                          </a:lnTo>
                          <a:lnTo>
                            <a:pt x="5169" y="13846"/>
                          </a:lnTo>
                          <a:lnTo>
                            <a:pt x="5189" y="13870"/>
                          </a:lnTo>
                          <a:lnTo>
                            <a:pt x="5210" y="13895"/>
                          </a:lnTo>
                          <a:lnTo>
                            <a:pt x="5220" y="13909"/>
                          </a:lnTo>
                          <a:lnTo>
                            <a:pt x="5230" y="13922"/>
                          </a:lnTo>
                          <a:lnTo>
                            <a:pt x="5240" y="13935"/>
                          </a:lnTo>
                          <a:lnTo>
                            <a:pt x="5249" y="13950"/>
                          </a:lnTo>
                          <a:lnTo>
                            <a:pt x="5257" y="13965"/>
                          </a:lnTo>
                          <a:lnTo>
                            <a:pt x="5265" y="13982"/>
                          </a:lnTo>
                          <a:lnTo>
                            <a:pt x="5271" y="14000"/>
                          </a:lnTo>
                          <a:lnTo>
                            <a:pt x="5277" y="14018"/>
                          </a:lnTo>
                          <a:lnTo>
                            <a:pt x="5281" y="14036"/>
                          </a:lnTo>
                          <a:lnTo>
                            <a:pt x="5284" y="14057"/>
                          </a:lnTo>
                          <a:lnTo>
                            <a:pt x="5285" y="14078"/>
                          </a:lnTo>
                          <a:lnTo>
                            <a:pt x="5284" y="14100"/>
                          </a:lnTo>
                          <a:lnTo>
                            <a:pt x="5284" y="14115"/>
                          </a:lnTo>
                          <a:lnTo>
                            <a:pt x="5283" y="14130"/>
                          </a:lnTo>
                          <a:lnTo>
                            <a:pt x="5281" y="14145"/>
                          </a:lnTo>
                          <a:lnTo>
                            <a:pt x="5279" y="14159"/>
                          </a:lnTo>
                          <a:lnTo>
                            <a:pt x="5274" y="14186"/>
                          </a:lnTo>
                          <a:lnTo>
                            <a:pt x="5266" y="14213"/>
                          </a:lnTo>
                          <a:lnTo>
                            <a:pt x="5257" y="14238"/>
                          </a:lnTo>
                          <a:lnTo>
                            <a:pt x="5247" y="14264"/>
                          </a:lnTo>
                          <a:lnTo>
                            <a:pt x="5235" y="14288"/>
                          </a:lnTo>
                          <a:lnTo>
                            <a:pt x="5222" y="14310"/>
                          </a:lnTo>
                          <a:lnTo>
                            <a:pt x="5208" y="14333"/>
                          </a:lnTo>
                          <a:lnTo>
                            <a:pt x="5193" y="14354"/>
                          </a:lnTo>
                          <a:lnTo>
                            <a:pt x="5178" y="14373"/>
                          </a:lnTo>
                          <a:lnTo>
                            <a:pt x="5162" y="14394"/>
                          </a:lnTo>
                          <a:lnTo>
                            <a:pt x="5130" y="14430"/>
                          </a:lnTo>
                          <a:lnTo>
                            <a:pt x="5099" y="14465"/>
                          </a:lnTo>
                          <a:lnTo>
                            <a:pt x="5046" y="14486"/>
                          </a:lnTo>
                          <a:lnTo>
                            <a:pt x="4991" y="14507"/>
                          </a:lnTo>
                          <a:lnTo>
                            <a:pt x="4935" y="14528"/>
                          </a:lnTo>
                          <a:lnTo>
                            <a:pt x="4878" y="14546"/>
                          </a:lnTo>
                          <a:lnTo>
                            <a:pt x="4849" y="14555"/>
                          </a:lnTo>
                          <a:lnTo>
                            <a:pt x="4820" y="14562"/>
                          </a:lnTo>
                          <a:lnTo>
                            <a:pt x="4791" y="14570"/>
                          </a:lnTo>
                          <a:lnTo>
                            <a:pt x="4762" y="14576"/>
                          </a:lnTo>
                          <a:lnTo>
                            <a:pt x="4733" y="14582"/>
                          </a:lnTo>
                          <a:lnTo>
                            <a:pt x="4703" y="14586"/>
                          </a:lnTo>
                          <a:lnTo>
                            <a:pt x="4674" y="14589"/>
                          </a:lnTo>
                          <a:lnTo>
                            <a:pt x="4645" y="14591"/>
                          </a:lnTo>
                          <a:lnTo>
                            <a:pt x="4616" y="14592"/>
                          </a:lnTo>
                          <a:lnTo>
                            <a:pt x="4587" y="14592"/>
                          </a:lnTo>
                          <a:lnTo>
                            <a:pt x="4559" y="14589"/>
                          </a:lnTo>
                          <a:lnTo>
                            <a:pt x="4530" y="14586"/>
                          </a:lnTo>
                          <a:lnTo>
                            <a:pt x="4502" y="14582"/>
                          </a:lnTo>
                          <a:lnTo>
                            <a:pt x="4474" y="14574"/>
                          </a:lnTo>
                          <a:lnTo>
                            <a:pt x="4447" y="14565"/>
                          </a:lnTo>
                          <a:lnTo>
                            <a:pt x="4420" y="14555"/>
                          </a:lnTo>
                          <a:lnTo>
                            <a:pt x="4393" y="14543"/>
                          </a:lnTo>
                          <a:lnTo>
                            <a:pt x="4367" y="14528"/>
                          </a:lnTo>
                          <a:lnTo>
                            <a:pt x="4341" y="14511"/>
                          </a:lnTo>
                          <a:lnTo>
                            <a:pt x="4315" y="14492"/>
                          </a:lnTo>
                          <a:lnTo>
                            <a:pt x="4290" y="14471"/>
                          </a:lnTo>
                          <a:lnTo>
                            <a:pt x="4266" y="14447"/>
                          </a:lnTo>
                          <a:lnTo>
                            <a:pt x="4242" y="14420"/>
                          </a:lnTo>
                          <a:lnTo>
                            <a:pt x="4219" y="14391"/>
                          </a:lnTo>
                          <a:lnTo>
                            <a:pt x="4204" y="14367"/>
                          </a:lnTo>
                          <a:lnTo>
                            <a:pt x="4189" y="14343"/>
                          </a:lnTo>
                          <a:lnTo>
                            <a:pt x="4174" y="14319"/>
                          </a:lnTo>
                          <a:lnTo>
                            <a:pt x="4161" y="14294"/>
                          </a:lnTo>
                          <a:lnTo>
                            <a:pt x="4148" y="14268"/>
                          </a:lnTo>
                          <a:lnTo>
                            <a:pt x="4135" y="14241"/>
                          </a:lnTo>
                          <a:lnTo>
                            <a:pt x="4123" y="14214"/>
                          </a:lnTo>
                          <a:lnTo>
                            <a:pt x="4111" y="14187"/>
                          </a:lnTo>
                          <a:lnTo>
                            <a:pt x="4100" y="14160"/>
                          </a:lnTo>
                          <a:lnTo>
                            <a:pt x="4090" y="14132"/>
                          </a:lnTo>
                          <a:lnTo>
                            <a:pt x="4080" y="14103"/>
                          </a:lnTo>
                          <a:lnTo>
                            <a:pt x="4070" y="14075"/>
                          </a:lnTo>
                          <a:lnTo>
                            <a:pt x="4052" y="14016"/>
                          </a:lnTo>
                          <a:lnTo>
                            <a:pt x="4035" y="13958"/>
                          </a:lnTo>
                          <a:lnTo>
                            <a:pt x="4020" y="13898"/>
                          </a:lnTo>
                          <a:lnTo>
                            <a:pt x="4005" y="13838"/>
                          </a:lnTo>
                          <a:lnTo>
                            <a:pt x="3992" y="13778"/>
                          </a:lnTo>
                          <a:lnTo>
                            <a:pt x="3979" y="13718"/>
                          </a:lnTo>
                          <a:lnTo>
                            <a:pt x="3954" y="13598"/>
                          </a:lnTo>
                          <a:lnTo>
                            <a:pt x="3931" y="13483"/>
                          </a:lnTo>
                          <a:lnTo>
                            <a:pt x="3888" y="13645"/>
                          </a:lnTo>
                          <a:lnTo>
                            <a:pt x="3846" y="13808"/>
                          </a:lnTo>
                          <a:lnTo>
                            <a:pt x="3806" y="13973"/>
                          </a:lnTo>
                          <a:lnTo>
                            <a:pt x="3768" y="14138"/>
                          </a:lnTo>
                          <a:lnTo>
                            <a:pt x="3730" y="14306"/>
                          </a:lnTo>
                          <a:lnTo>
                            <a:pt x="3693" y="14472"/>
                          </a:lnTo>
                          <a:lnTo>
                            <a:pt x="3656" y="14640"/>
                          </a:lnTo>
                          <a:lnTo>
                            <a:pt x="3620" y="14808"/>
                          </a:lnTo>
                          <a:lnTo>
                            <a:pt x="3584" y="14977"/>
                          </a:lnTo>
                          <a:lnTo>
                            <a:pt x="3548" y="15145"/>
                          </a:lnTo>
                          <a:lnTo>
                            <a:pt x="3512" y="15315"/>
                          </a:lnTo>
                          <a:lnTo>
                            <a:pt x="3476" y="15483"/>
                          </a:lnTo>
                          <a:lnTo>
                            <a:pt x="3439" y="15651"/>
                          </a:lnTo>
                          <a:lnTo>
                            <a:pt x="3401" y="15819"/>
                          </a:lnTo>
                          <a:lnTo>
                            <a:pt x="3362" y="15985"/>
                          </a:lnTo>
                          <a:lnTo>
                            <a:pt x="3322" y="16151"/>
                          </a:lnTo>
                          <a:lnTo>
                            <a:pt x="3315" y="16205"/>
                          </a:lnTo>
                          <a:lnTo>
                            <a:pt x="3306" y="16261"/>
                          </a:lnTo>
                          <a:lnTo>
                            <a:pt x="3297" y="16315"/>
                          </a:lnTo>
                          <a:lnTo>
                            <a:pt x="3287" y="16369"/>
                          </a:lnTo>
                          <a:lnTo>
                            <a:pt x="3266" y="16475"/>
                          </a:lnTo>
                          <a:lnTo>
                            <a:pt x="3245" y="16582"/>
                          </a:lnTo>
                          <a:lnTo>
                            <a:pt x="3223" y="16690"/>
                          </a:lnTo>
                          <a:lnTo>
                            <a:pt x="3202" y="16796"/>
                          </a:lnTo>
                          <a:lnTo>
                            <a:pt x="3193" y="16850"/>
                          </a:lnTo>
                          <a:lnTo>
                            <a:pt x="3184" y="16906"/>
                          </a:lnTo>
                          <a:lnTo>
                            <a:pt x="3176" y="16961"/>
                          </a:lnTo>
                          <a:lnTo>
                            <a:pt x="3169" y="17016"/>
                          </a:lnTo>
                          <a:lnTo>
                            <a:pt x="3095" y="17115"/>
                          </a:lnTo>
                          <a:lnTo>
                            <a:pt x="3021" y="17217"/>
                          </a:lnTo>
                          <a:lnTo>
                            <a:pt x="2948" y="17321"/>
                          </a:lnTo>
                          <a:lnTo>
                            <a:pt x="2876" y="17426"/>
                          </a:lnTo>
                          <a:lnTo>
                            <a:pt x="2804" y="17531"/>
                          </a:lnTo>
                          <a:lnTo>
                            <a:pt x="2734" y="17639"/>
                          </a:lnTo>
                          <a:lnTo>
                            <a:pt x="2664" y="17748"/>
                          </a:lnTo>
                          <a:lnTo>
                            <a:pt x="2595" y="17858"/>
                          </a:lnTo>
                          <a:lnTo>
                            <a:pt x="2527" y="17968"/>
                          </a:lnTo>
                          <a:lnTo>
                            <a:pt x="2460" y="18081"/>
                          </a:lnTo>
                          <a:lnTo>
                            <a:pt x="2394" y="18195"/>
                          </a:lnTo>
                          <a:lnTo>
                            <a:pt x="2329" y="18309"/>
                          </a:lnTo>
                          <a:lnTo>
                            <a:pt x="2266" y="18424"/>
                          </a:lnTo>
                          <a:lnTo>
                            <a:pt x="2203" y="18541"/>
                          </a:lnTo>
                          <a:lnTo>
                            <a:pt x="2142" y="18658"/>
                          </a:lnTo>
                          <a:lnTo>
                            <a:pt x="2082" y="18777"/>
                          </a:lnTo>
                          <a:lnTo>
                            <a:pt x="1997" y="18944"/>
                          </a:lnTo>
                          <a:lnTo>
                            <a:pt x="1913" y="19111"/>
                          </a:lnTo>
                          <a:lnTo>
                            <a:pt x="1832" y="19279"/>
                          </a:lnTo>
                          <a:lnTo>
                            <a:pt x="1752" y="19448"/>
                          </a:lnTo>
                          <a:lnTo>
                            <a:pt x="1673" y="19616"/>
                          </a:lnTo>
                          <a:lnTo>
                            <a:pt x="1596" y="19786"/>
                          </a:lnTo>
                          <a:lnTo>
                            <a:pt x="1519" y="19955"/>
                          </a:lnTo>
                          <a:lnTo>
                            <a:pt x="1444" y="20126"/>
                          </a:lnTo>
                          <a:lnTo>
                            <a:pt x="1370" y="20297"/>
                          </a:lnTo>
                          <a:lnTo>
                            <a:pt x="1297" y="20469"/>
                          </a:lnTo>
                          <a:lnTo>
                            <a:pt x="1224" y="20642"/>
                          </a:lnTo>
                          <a:lnTo>
                            <a:pt x="1152" y="20814"/>
                          </a:lnTo>
                          <a:lnTo>
                            <a:pt x="1081" y="20988"/>
                          </a:lnTo>
                          <a:lnTo>
                            <a:pt x="1010" y="21163"/>
                          </a:lnTo>
                          <a:lnTo>
                            <a:pt x="939" y="21339"/>
                          </a:lnTo>
                          <a:lnTo>
                            <a:pt x="869" y="21514"/>
                          </a:lnTo>
                          <a:lnTo>
                            <a:pt x="862" y="21504"/>
                          </a:lnTo>
                          <a:lnTo>
                            <a:pt x="854" y="21493"/>
                          </a:lnTo>
                          <a:lnTo>
                            <a:pt x="845" y="21484"/>
                          </a:lnTo>
                          <a:lnTo>
                            <a:pt x="836" y="21475"/>
                          </a:lnTo>
                          <a:lnTo>
                            <a:pt x="827" y="21468"/>
                          </a:lnTo>
                          <a:lnTo>
                            <a:pt x="816" y="21462"/>
                          </a:lnTo>
                          <a:lnTo>
                            <a:pt x="806" y="21456"/>
                          </a:lnTo>
                          <a:lnTo>
                            <a:pt x="794" y="21451"/>
                          </a:lnTo>
                          <a:lnTo>
                            <a:pt x="771" y="21444"/>
                          </a:lnTo>
                          <a:lnTo>
                            <a:pt x="746" y="21439"/>
                          </a:lnTo>
                          <a:lnTo>
                            <a:pt x="719" y="21436"/>
                          </a:lnTo>
                          <a:lnTo>
                            <a:pt x="692" y="21435"/>
                          </a:lnTo>
                          <a:lnTo>
                            <a:pt x="636" y="21436"/>
                          </a:lnTo>
                          <a:lnTo>
                            <a:pt x="580" y="21441"/>
                          </a:lnTo>
                          <a:lnTo>
                            <a:pt x="526" y="21444"/>
                          </a:lnTo>
                          <a:lnTo>
                            <a:pt x="476" y="21445"/>
                          </a:lnTo>
                          <a:lnTo>
                            <a:pt x="415" y="21453"/>
                          </a:lnTo>
                          <a:lnTo>
                            <a:pt x="353" y="21462"/>
                          </a:lnTo>
                          <a:lnTo>
                            <a:pt x="322" y="21469"/>
                          </a:lnTo>
                          <a:lnTo>
                            <a:pt x="291" y="21477"/>
                          </a:lnTo>
                          <a:lnTo>
                            <a:pt x="261" y="21486"/>
                          </a:lnTo>
                          <a:lnTo>
                            <a:pt x="232" y="21498"/>
                          </a:lnTo>
                          <a:lnTo>
                            <a:pt x="218" y="21505"/>
                          </a:lnTo>
                          <a:lnTo>
                            <a:pt x="204" y="21513"/>
                          </a:lnTo>
                          <a:lnTo>
                            <a:pt x="190" y="21520"/>
                          </a:lnTo>
                          <a:lnTo>
                            <a:pt x="177" y="21529"/>
                          </a:lnTo>
                          <a:lnTo>
                            <a:pt x="164" y="21538"/>
                          </a:lnTo>
                          <a:lnTo>
                            <a:pt x="152" y="21549"/>
                          </a:lnTo>
                          <a:lnTo>
                            <a:pt x="140" y="21561"/>
                          </a:lnTo>
                          <a:lnTo>
                            <a:pt x="129" y="21571"/>
                          </a:lnTo>
                          <a:lnTo>
                            <a:pt x="118" y="21585"/>
                          </a:lnTo>
                          <a:lnTo>
                            <a:pt x="108" y="21598"/>
                          </a:lnTo>
                          <a:lnTo>
                            <a:pt x="99" y="21613"/>
                          </a:lnTo>
                          <a:lnTo>
                            <a:pt x="90" y="21628"/>
                          </a:lnTo>
                          <a:lnTo>
                            <a:pt x="81" y="21645"/>
                          </a:lnTo>
                          <a:lnTo>
                            <a:pt x="74" y="21663"/>
                          </a:lnTo>
                          <a:lnTo>
                            <a:pt x="67" y="21681"/>
                          </a:lnTo>
                          <a:lnTo>
                            <a:pt x="61" y="21700"/>
                          </a:lnTo>
                          <a:lnTo>
                            <a:pt x="65" y="21712"/>
                          </a:lnTo>
                          <a:lnTo>
                            <a:pt x="70" y="21724"/>
                          </a:lnTo>
                          <a:lnTo>
                            <a:pt x="76" y="21735"/>
                          </a:lnTo>
                          <a:lnTo>
                            <a:pt x="81" y="21745"/>
                          </a:lnTo>
                          <a:lnTo>
                            <a:pt x="93" y="21763"/>
                          </a:lnTo>
                          <a:lnTo>
                            <a:pt x="107" y="21780"/>
                          </a:lnTo>
                          <a:lnTo>
                            <a:pt x="121" y="21793"/>
                          </a:lnTo>
                          <a:lnTo>
                            <a:pt x="136" y="21805"/>
                          </a:lnTo>
                          <a:lnTo>
                            <a:pt x="152" y="21816"/>
                          </a:lnTo>
                          <a:lnTo>
                            <a:pt x="168" y="21825"/>
                          </a:lnTo>
                          <a:lnTo>
                            <a:pt x="202" y="21840"/>
                          </a:lnTo>
                          <a:lnTo>
                            <a:pt x="237" y="21855"/>
                          </a:lnTo>
                          <a:lnTo>
                            <a:pt x="254" y="21862"/>
                          </a:lnTo>
                          <a:lnTo>
                            <a:pt x="271" y="21870"/>
                          </a:lnTo>
                          <a:lnTo>
                            <a:pt x="287" y="21877"/>
                          </a:lnTo>
                          <a:lnTo>
                            <a:pt x="303" y="21886"/>
                          </a:lnTo>
                          <a:lnTo>
                            <a:pt x="332" y="21892"/>
                          </a:lnTo>
                          <a:lnTo>
                            <a:pt x="360" y="21898"/>
                          </a:lnTo>
                          <a:lnTo>
                            <a:pt x="388" y="21903"/>
                          </a:lnTo>
                          <a:lnTo>
                            <a:pt x="417" y="21906"/>
                          </a:lnTo>
                          <a:lnTo>
                            <a:pt x="475" y="21912"/>
                          </a:lnTo>
                          <a:lnTo>
                            <a:pt x="533" y="21915"/>
                          </a:lnTo>
                          <a:lnTo>
                            <a:pt x="592" y="21916"/>
                          </a:lnTo>
                          <a:lnTo>
                            <a:pt x="651" y="21916"/>
                          </a:lnTo>
                          <a:lnTo>
                            <a:pt x="711" y="21916"/>
                          </a:lnTo>
                          <a:lnTo>
                            <a:pt x="770" y="21915"/>
                          </a:lnTo>
                          <a:lnTo>
                            <a:pt x="830" y="21915"/>
                          </a:lnTo>
                          <a:lnTo>
                            <a:pt x="890" y="21915"/>
                          </a:lnTo>
                          <a:lnTo>
                            <a:pt x="949" y="21916"/>
                          </a:lnTo>
                          <a:lnTo>
                            <a:pt x="1009" y="21921"/>
                          </a:lnTo>
                          <a:lnTo>
                            <a:pt x="1068" y="21925"/>
                          </a:lnTo>
                          <a:lnTo>
                            <a:pt x="1127" y="21934"/>
                          </a:lnTo>
                          <a:lnTo>
                            <a:pt x="1156" y="21938"/>
                          </a:lnTo>
                          <a:lnTo>
                            <a:pt x="1186" y="21944"/>
                          </a:lnTo>
                          <a:lnTo>
                            <a:pt x="1215" y="21952"/>
                          </a:lnTo>
                          <a:lnTo>
                            <a:pt x="1244" y="21959"/>
                          </a:lnTo>
                          <a:lnTo>
                            <a:pt x="1227" y="21977"/>
                          </a:lnTo>
                          <a:lnTo>
                            <a:pt x="1210" y="21994"/>
                          </a:lnTo>
                          <a:lnTo>
                            <a:pt x="1192" y="22007"/>
                          </a:lnTo>
                          <a:lnTo>
                            <a:pt x="1174" y="22021"/>
                          </a:lnTo>
                          <a:lnTo>
                            <a:pt x="1156" y="22033"/>
                          </a:lnTo>
                          <a:lnTo>
                            <a:pt x="1138" y="22042"/>
                          </a:lnTo>
                          <a:lnTo>
                            <a:pt x="1120" y="22051"/>
                          </a:lnTo>
                          <a:lnTo>
                            <a:pt x="1101" y="22060"/>
                          </a:lnTo>
                          <a:lnTo>
                            <a:pt x="1064" y="22073"/>
                          </a:lnTo>
                          <a:lnTo>
                            <a:pt x="1026" y="22084"/>
                          </a:lnTo>
                          <a:lnTo>
                            <a:pt x="988" y="22094"/>
                          </a:lnTo>
                          <a:lnTo>
                            <a:pt x="950" y="22103"/>
                          </a:lnTo>
                          <a:lnTo>
                            <a:pt x="912" y="22114"/>
                          </a:lnTo>
                          <a:lnTo>
                            <a:pt x="874" y="22126"/>
                          </a:lnTo>
                          <a:lnTo>
                            <a:pt x="856" y="22133"/>
                          </a:lnTo>
                          <a:lnTo>
                            <a:pt x="837" y="22141"/>
                          </a:lnTo>
                          <a:lnTo>
                            <a:pt x="819" y="22150"/>
                          </a:lnTo>
                          <a:lnTo>
                            <a:pt x="801" y="22159"/>
                          </a:lnTo>
                          <a:lnTo>
                            <a:pt x="783" y="22171"/>
                          </a:lnTo>
                          <a:lnTo>
                            <a:pt x="766" y="22183"/>
                          </a:lnTo>
                          <a:lnTo>
                            <a:pt x="748" y="22196"/>
                          </a:lnTo>
                          <a:lnTo>
                            <a:pt x="731" y="22213"/>
                          </a:lnTo>
                          <a:lnTo>
                            <a:pt x="715" y="22229"/>
                          </a:lnTo>
                          <a:lnTo>
                            <a:pt x="698" y="22249"/>
                          </a:lnTo>
                          <a:lnTo>
                            <a:pt x="682" y="22270"/>
                          </a:lnTo>
                          <a:lnTo>
                            <a:pt x="667" y="22292"/>
                          </a:lnTo>
                          <a:lnTo>
                            <a:pt x="683" y="22318"/>
                          </a:lnTo>
                          <a:lnTo>
                            <a:pt x="699" y="22340"/>
                          </a:lnTo>
                          <a:lnTo>
                            <a:pt x="717" y="22361"/>
                          </a:lnTo>
                          <a:lnTo>
                            <a:pt x="735" y="22379"/>
                          </a:lnTo>
                          <a:lnTo>
                            <a:pt x="754" y="22397"/>
                          </a:lnTo>
                          <a:lnTo>
                            <a:pt x="774" y="22412"/>
                          </a:lnTo>
                          <a:lnTo>
                            <a:pt x="794" y="22426"/>
                          </a:lnTo>
                          <a:lnTo>
                            <a:pt x="815" y="22438"/>
                          </a:lnTo>
                          <a:lnTo>
                            <a:pt x="837" y="22448"/>
                          </a:lnTo>
                          <a:lnTo>
                            <a:pt x="859" y="22456"/>
                          </a:lnTo>
                          <a:lnTo>
                            <a:pt x="881" y="22466"/>
                          </a:lnTo>
                          <a:lnTo>
                            <a:pt x="904" y="22472"/>
                          </a:lnTo>
                          <a:lnTo>
                            <a:pt x="927" y="22478"/>
                          </a:lnTo>
                          <a:lnTo>
                            <a:pt x="951" y="22483"/>
                          </a:lnTo>
                          <a:lnTo>
                            <a:pt x="975" y="22486"/>
                          </a:lnTo>
                          <a:lnTo>
                            <a:pt x="999" y="22489"/>
                          </a:lnTo>
                          <a:lnTo>
                            <a:pt x="1024" y="22490"/>
                          </a:lnTo>
                          <a:lnTo>
                            <a:pt x="1048" y="22490"/>
                          </a:lnTo>
                          <a:lnTo>
                            <a:pt x="1073" y="22490"/>
                          </a:lnTo>
                          <a:lnTo>
                            <a:pt x="1098" y="22490"/>
                          </a:lnTo>
                          <a:lnTo>
                            <a:pt x="1148" y="22486"/>
                          </a:lnTo>
                          <a:lnTo>
                            <a:pt x="1197" y="22481"/>
                          </a:lnTo>
                          <a:lnTo>
                            <a:pt x="1247" y="22475"/>
                          </a:lnTo>
                          <a:lnTo>
                            <a:pt x="1295" y="22468"/>
                          </a:lnTo>
                          <a:lnTo>
                            <a:pt x="1342" y="22459"/>
                          </a:lnTo>
                          <a:lnTo>
                            <a:pt x="1388" y="22453"/>
                          </a:lnTo>
                          <a:lnTo>
                            <a:pt x="1388" y="22525"/>
                          </a:lnTo>
                          <a:lnTo>
                            <a:pt x="1363" y="22541"/>
                          </a:lnTo>
                          <a:lnTo>
                            <a:pt x="1337" y="22553"/>
                          </a:lnTo>
                          <a:lnTo>
                            <a:pt x="1310" y="22564"/>
                          </a:lnTo>
                          <a:lnTo>
                            <a:pt x="1283" y="22577"/>
                          </a:lnTo>
                          <a:lnTo>
                            <a:pt x="1228" y="22600"/>
                          </a:lnTo>
                          <a:lnTo>
                            <a:pt x="1175" y="22627"/>
                          </a:lnTo>
                          <a:lnTo>
                            <a:pt x="1149" y="22640"/>
                          </a:lnTo>
                          <a:lnTo>
                            <a:pt x="1124" y="22658"/>
                          </a:lnTo>
                          <a:lnTo>
                            <a:pt x="1100" y="22676"/>
                          </a:lnTo>
                          <a:lnTo>
                            <a:pt x="1077" y="22699"/>
                          </a:lnTo>
                          <a:lnTo>
                            <a:pt x="1067" y="22708"/>
                          </a:lnTo>
                          <a:lnTo>
                            <a:pt x="1056" y="22720"/>
                          </a:lnTo>
                          <a:lnTo>
                            <a:pt x="1046" y="22735"/>
                          </a:lnTo>
                          <a:lnTo>
                            <a:pt x="1037" y="22747"/>
                          </a:lnTo>
                          <a:lnTo>
                            <a:pt x="1028" y="22762"/>
                          </a:lnTo>
                          <a:lnTo>
                            <a:pt x="1020" y="22777"/>
                          </a:lnTo>
                          <a:lnTo>
                            <a:pt x="1012" y="22793"/>
                          </a:lnTo>
                          <a:lnTo>
                            <a:pt x="1004" y="22811"/>
                          </a:lnTo>
                          <a:lnTo>
                            <a:pt x="1005" y="22831"/>
                          </a:lnTo>
                          <a:lnTo>
                            <a:pt x="1006" y="22849"/>
                          </a:lnTo>
                          <a:lnTo>
                            <a:pt x="1009" y="22867"/>
                          </a:lnTo>
                          <a:lnTo>
                            <a:pt x="1012" y="22883"/>
                          </a:lnTo>
                          <a:lnTo>
                            <a:pt x="1016" y="22900"/>
                          </a:lnTo>
                          <a:lnTo>
                            <a:pt x="1021" y="22913"/>
                          </a:lnTo>
                          <a:lnTo>
                            <a:pt x="1027" y="22928"/>
                          </a:lnTo>
                          <a:lnTo>
                            <a:pt x="1034" y="22940"/>
                          </a:lnTo>
                          <a:lnTo>
                            <a:pt x="1041" y="22953"/>
                          </a:lnTo>
                          <a:lnTo>
                            <a:pt x="1048" y="22964"/>
                          </a:lnTo>
                          <a:lnTo>
                            <a:pt x="1057" y="22976"/>
                          </a:lnTo>
                          <a:lnTo>
                            <a:pt x="1066" y="22985"/>
                          </a:lnTo>
                          <a:lnTo>
                            <a:pt x="1075" y="22995"/>
                          </a:lnTo>
                          <a:lnTo>
                            <a:pt x="1085" y="23004"/>
                          </a:lnTo>
                          <a:lnTo>
                            <a:pt x="1095" y="23012"/>
                          </a:lnTo>
                          <a:lnTo>
                            <a:pt x="1105" y="23021"/>
                          </a:lnTo>
                          <a:lnTo>
                            <a:pt x="1127" y="23034"/>
                          </a:lnTo>
                          <a:lnTo>
                            <a:pt x="1150" y="23048"/>
                          </a:lnTo>
                          <a:lnTo>
                            <a:pt x="1173" y="23060"/>
                          </a:lnTo>
                          <a:lnTo>
                            <a:pt x="1197" y="23070"/>
                          </a:lnTo>
                          <a:lnTo>
                            <a:pt x="1242" y="23091"/>
                          </a:lnTo>
                          <a:lnTo>
                            <a:pt x="1284" y="23114"/>
                          </a:lnTo>
                          <a:lnTo>
                            <a:pt x="1317" y="23121"/>
                          </a:lnTo>
                          <a:lnTo>
                            <a:pt x="1350" y="23129"/>
                          </a:lnTo>
                          <a:lnTo>
                            <a:pt x="1384" y="23136"/>
                          </a:lnTo>
                          <a:lnTo>
                            <a:pt x="1418" y="23141"/>
                          </a:lnTo>
                          <a:lnTo>
                            <a:pt x="1452" y="23145"/>
                          </a:lnTo>
                          <a:lnTo>
                            <a:pt x="1487" y="23150"/>
                          </a:lnTo>
                          <a:lnTo>
                            <a:pt x="1522" y="23153"/>
                          </a:lnTo>
                          <a:lnTo>
                            <a:pt x="1557" y="23154"/>
                          </a:lnTo>
                          <a:lnTo>
                            <a:pt x="1592" y="23154"/>
                          </a:lnTo>
                          <a:lnTo>
                            <a:pt x="1628" y="23156"/>
                          </a:lnTo>
                          <a:lnTo>
                            <a:pt x="1664" y="23154"/>
                          </a:lnTo>
                          <a:lnTo>
                            <a:pt x="1699" y="23153"/>
                          </a:lnTo>
                          <a:lnTo>
                            <a:pt x="1735" y="23150"/>
                          </a:lnTo>
                          <a:lnTo>
                            <a:pt x="1771" y="23147"/>
                          </a:lnTo>
                          <a:lnTo>
                            <a:pt x="1807" y="23142"/>
                          </a:lnTo>
                          <a:lnTo>
                            <a:pt x="1843" y="23138"/>
                          </a:lnTo>
                          <a:lnTo>
                            <a:pt x="1879" y="23132"/>
                          </a:lnTo>
                          <a:lnTo>
                            <a:pt x="1914" y="23126"/>
                          </a:lnTo>
                          <a:lnTo>
                            <a:pt x="1950" y="23118"/>
                          </a:lnTo>
                          <a:lnTo>
                            <a:pt x="1986" y="23109"/>
                          </a:lnTo>
                          <a:lnTo>
                            <a:pt x="2021" y="23100"/>
                          </a:lnTo>
                          <a:lnTo>
                            <a:pt x="2055" y="23091"/>
                          </a:lnTo>
                          <a:lnTo>
                            <a:pt x="2090" y="23081"/>
                          </a:lnTo>
                          <a:lnTo>
                            <a:pt x="2124" y="23070"/>
                          </a:lnTo>
                          <a:lnTo>
                            <a:pt x="2157" y="23058"/>
                          </a:lnTo>
                          <a:lnTo>
                            <a:pt x="2191" y="23046"/>
                          </a:lnTo>
                          <a:lnTo>
                            <a:pt x="2223" y="23033"/>
                          </a:lnTo>
                          <a:lnTo>
                            <a:pt x="2256" y="23019"/>
                          </a:lnTo>
                          <a:lnTo>
                            <a:pt x="2287" y="23004"/>
                          </a:lnTo>
                          <a:lnTo>
                            <a:pt x="2318" y="22989"/>
                          </a:lnTo>
                          <a:lnTo>
                            <a:pt x="2349" y="22974"/>
                          </a:lnTo>
                          <a:lnTo>
                            <a:pt x="2379" y="22958"/>
                          </a:lnTo>
                          <a:lnTo>
                            <a:pt x="2390" y="22950"/>
                          </a:lnTo>
                          <a:lnTo>
                            <a:pt x="2401" y="22946"/>
                          </a:lnTo>
                          <a:lnTo>
                            <a:pt x="2412" y="22943"/>
                          </a:lnTo>
                          <a:lnTo>
                            <a:pt x="2423" y="22940"/>
                          </a:lnTo>
                          <a:lnTo>
                            <a:pt x="2434" y="22940"/>
                          </a:lnTo>
                          <a:lnTo>
                            <a:pt x="2445" y="22940"/>
                          </a:lnTo>
                          <a:lnTo>
                            <a:pt x="2456" y="22940"/>
                          </a:lnTo>
                          <a:lnTo>
                            <a:pt x="2467" y="22943"/>
                          </a:lnTo>
                          <a:lnTo>
                            <a:pt x="2489" y="22949"/>
                          </a:lnTo>
                          <a:lnTo>
                            <a:pt x="2508" y="22958"/>
                          </a:lnTo>
                          <a:lnTo>
                            <a:pt x="2527" y="22968"/>
                          </a:lnTo>
                          <a:lnTo>
                            <a:pt x="2543" y="22979"/>
                          </a:lnTo>
                          <a:lnTo>
                            <a:pt x="2528" y="22995"/>
                          </a:lnTo>
                          <a:lnTo>
                            <a:pt x="2512" y="23010"/>
                          </a:lnTo>
                          <a:lnTo>
                            <a:pt x="2496" y="23022"/>
                          </a:lnTo>
                          <a:lnTo>
                            <a:pt x="2480" y="23036"/>
                          </a:lnTo>
                          <a:lnTo>
                            <a:pt x="2463" y="23046"/>
                          </a:lnTo>
                          <a:lnTo>
                            <a:pt x="2445" y="23057"/>
                          </a:lnTo>
                          <a:lnTo>
                            <a:pt x="2428" y="23067"/>
                          </a:lnTo>
                          <a:lnTo>
                            <a:pt x="2410" y="23076"/>
                          </a:lnTo>
                          <a:lnTo>
                            <a:pt x="2338" y="23108"/>
                          </a:lnTo>
                          <a:lnTo>
                            <a:pt x="2265" y="23139"/>
                          </a:lnTo>
                          <a:lnTo>
                            <a:pt x="2230" y="23156"/>
                          </a:lnTo>
                          <a:lnTo>
                            <a:pt x="2196" y="23175"/>
                          </a:lnTo>
                          <a:lnTo>
                            <a:pt x="2179" y="23187"/>
                          </a:lnTo>
                          <a:lnTo>
                            <a:pt x="2163" y="23199"/>
                          </a:lnTo>
                          <a:lnTo>
                            <a:pt x="2148" y="23213"/>
                          </a:lnTo>
                          <a:lnTo>
                            <a:pt x="2133" y="23226"/>
                          </a:lnTo>
                          <a:lnTo>
                            <a:pt x="2118" y="23243"/>
                          </a:lnTo>
                          <a:lnTo>
                            <a:pt x="2104" y="23259"/>
                          </a:lnTo>
                          <a:lnTo>
                            <a:pt x="2091" y="23279"/>
                          </a:lnTo>
                          <a:lnTo>
                            <a:pt x="2078" y="23298"/>
                          </a:lnTo>
                          <a:lnTo>
                            <a:pt x="2066" y="23321"/>
                          </a:lnTo>
                          <a:lnTo>
                            <a:pt x="2055" y="23345"/>
                          </a:lnTo>
                          <a:lnTo>
                            <a:pt x="2045" y="23370"/>
                          </a:lnTo>
                          <a:lnTo>
                            <a:pt x="2035" y="23399"/>
                          </a:lnTo>
                          <a:lnTo>
                            <a:pt x="2039" y="23409"/>
                          </a:lnTo>
                          <a:lnTo>
                            <a:pt x="2043" y="23418"/>
                          </a:lnTo>
                          <a:lnTo>
                            <a:pt x="2047" y="23427"/>
                          </a:lnTo>
                          <a:lnTo>
                            <a:pt x="2051" y="23435"/>
                          </a:lnTo>
                          <a:lnTo>
                            <a:pt x="2056" y="23442"/>
                          </a:lnTo>
                          <a:lnTo>
                            <a:pt x="2061" y="23448"/>
                          </a:lnTo>
                          <a:lnTo>
                            <a:pt x="2066" y="23453"/>
                          </a:lnTo>
                          <a:lnTo>
                            <a:pt x="2072" y="23459"/>
                          </a:lnTo>
                          <a:lnTo>
                            <a:pt x="2084" y="23466"/>
                          </a:lnTo>
                          <a:lnTo>
                            <a:pt x="2096" y="23472"/>
                          </a:lnTo>
                          <a:lnTo>
                            <a:pt x="2109" y="23477"/>
                          </a:lnTo>
                          <a:lnTo>
                            <a:pt x="2123" y="23480"/>
                          </a:lnTo>
                          <a:lnTo>
                            <a:pt x="2151" y="23487"/>
                          </a:lnTo>
                          <a:lnTo>
                            <a:pt x="2178" y="23496"/>
                          </a:lnTo>
                          <a:lnTo>
                            <a:pt x="2191" y="23502"/>
                          </a:lnTo>
                          <a:lnTo>
                            <a:pt x="2203" y="23510"/>
                          </a:lnTo>
                          <a:lnTo>
                            <a:pt x="2209" y="23514"/>
                          </a:lnTo>
                          <a:lnTo>
                            <a:pt x="2215" y="23520"/>
                          </a:lnTo>
                          <a:lnTo>
                            <a:pt x="2220" y="23526"/>
                          </a:lnTo>
                          <a:lnTo>
                            <a:pt x="2226" y="23532"/>
                          </a:lnTo>
                          <a:lnTo>
                            <a:pt x="2284" y="23540"/>
                          </a:lnTo>
                          <a:lnTo>
                            <a:pt x="2342" y="23544"/>
                          </a:lnTo>
                          <a:lnTo>
                            <a:pt x="2401" y="23547"/>
                          </a:lnTo>
                          <a:lnTo>
                            <a:pt x="2460" y="23549"/>
                          </a:lnTo>
                          <a:lnTo>
                            <a:pt x="2520" y="23549"/>
                          </a:lnTo>
                          <a:lnTo>
                            <a:pt x="2579" y="23547"/>
                          </a:lnTo>
                          <a:lnTo>
                            <a:pt x="2639" y="23546"/>
                          </a:lnTo>
                          <a:lnTo>
                            <a:pt x="2699" y="23543"/>
                          </a:lnTo>
                          <a:lnTo>
                            <a:pt x="2819" y="23534"/>
                          </a:lnTo>
                          <a:lnTo>
                            <a:pt x="2940" y="23523"/>
                          </a:lnTo>
                          <a:lnTo>
                            <a:pt x="3060" y="23511"/>
                          </a:lnTo>
                          <a:lnTo>
                            <a:pt x="3181" y="23502"/>
                          </a:lnTo>
                          <a:lnTo>
                            <a:pt x="3241" y="23498"/>
                          </a:lnTo>
                          <a:lnTo>
                            <a:pt x="3300" y="23493"/>
                          </a:lnTo>
                          <a:lnTo>
                            <a:pt x="3360" y="23490"/>
                          </a:lnTo>
                          <a:lnTo>
                            <a:pt x="3419" y="23489"/>
                          </a:lnTo>
                          <a:lnTo>
                            <a:pt x="3479" y="23489"/>
                          </a:lnTo>
                          <a:lnTo>
                            <a:pt x="3537" y="23489"/>
                          </a:lnTo>
                          <a:lnTo>
                            <a:pt x="3596" y="23492"/>
                          </a:lnTo>
                          <a:lnTo>
                            <a:pt x="3654" y="23495"/>
                          </a:lnTo>
                          <a:lnTo>
                            <a:pt x="3712" y="23501"/>
                          </a:lnTo>
                          <a:lnTo>
                            <a:pt x="3769" y="23508"/>
                          </a:lnTo>
                          <a:lnTo>
                            <a:pt x="3826" y="23519"/>
                          </a:lnTo>
                          <a:lnTo>
                            <a:pt x="3882" y="23531"/>
                          </a:lnTo>
                          <a:lnTo>
                            <a:pt x="3937" y="23546"/>
                          </a:lnTo>
                          <a:lnTo>
                            <a:pt x="3993" y="23564"/>
                          </a:lnTo>
                          <a:lnTo>
                            <a:pt x="4047" y="23583"/>
                          </a:lnTo>
                          <a:lnTo>
                            <a:pt x="4101" y="23607"/>
                          </a:lnTo>
                          <a:lnTo>
                            <a:pt x="4145" y="23618"/>
                          </a:lnTo>
                          <a:lnTo>
                            <a:pt x="4190" y="23628"/>
                          </a:lnTo>
                          <a:lnTo>
                            <a:pt x="4234" y="23639"/>
                          </a:lnTo>
                          <a:lnTo>
                            <a:pt x="4277" y="23649"/>
                          </a:lnTo>
                          <a:lnTo>
                            <a:pt x="4321" y="23663"/>
                          </a:lnTo>
                          <a:lnTo>
                            <a:pt x="4364" y="23678"/>
                          </a:lnTo>
                          <a:lnTo>
                            <a:pt x="4385" y="23687"/>
                          </a:lnTo>
                          <a:lnTo>
                            <a:pt x="4406" y="23697"/>
                          </a:lnTo>
                          <a:lnTo>
                            <a:pt x="4427" y="23708"/>
                          </a:lnTo>
                          <a:lnTo>
                            <a:pt x="4447" y="23720"/>
                          </a:lnTo>
                          <a:lnTo>
                            <a:pt x="4383" y="23690"/>
                          </a:lnTo>
                          <a:lnTo>
                            <a:pt x="4319" y="23664"/>
                          </a:lnTo>
                          <a:lnTo>
                            <a:pt x="4254" y="23640"/>
                          </a:lnTo>
                          <a:lnTo>
                            <a:pt x="4189" y="23621"/>
                          </a:lnTo>
                          <a:lnTo>
                            <a:pt x="4123" y="23603"/>
                          </a:lnTo>
                          <a:lnTo>
                            <a:pt x="4057" y="23588"/>
                          </a:lnTo>
                          <a:lnTo>
                            <a:pt x="3990" y="23576"/>
                          </a:lnTo>
                          <a:lnTo>
                            <a:pt x="3923" y="23565"/>
                          </a:lnTo>
                          <a:lnTo>
                            <a:pt x="3856" y="23556"/>
                          </a:lnTo>
                          <a:lnTo>
                            <a:pt x="3788" y="23550"/>
                          </a:lnTo>
                          <a:lnTo>
                            <a:pt x="3720" y="23546"/>
                          </a:lnTo>
                          <a:lnTo>
                            <a:pt x="3652" y="23541"/>
                          </a:lnTo>
                          <a:lnTo>
                            <a:pt x="3583" y="23540"/>
                          </a:lnTo>
                          <a:lnTo>
                            <a:pt x="3515" y="23540"/>
                          </a:lnTo>
                          <a:lnTo>
                            <a:pt x="3446" y="23540"/>
                          </a:lnTo>
                          <a:lnTo>
                            <a:pt x="3377" y="23543"/>
                          </a:lnTo>
                          <a:lnTo>
                            <a:pt x="3239" y="23547"/>
                          </a:lnTo>
                          <a:lnTo>
                            <a:pt x="3101" y="23556"/>
                          </a:lnTo>
                          <a:lnTo>
                            <a:pt x="2963" y="23564"/>
                          </a:lnTo>
                          <a:lnTo>
                            <a:pt x="2826" y="23573"/>
                          </a:lnTo>
                          <a:lnTo>
                            <a:pt x="2689" y="23579"/>
                          </a:lnTo>
                          <a:lnTo>
                            <a:pt x="2552" y="23583"/>
                          </a:lnTo>
                          <a:lnTo>
                            <a:pt x="2485" y="23583"/>
                          </a:lnTo>
                          <a:lnTo>
                            <a:pt x="2417" y="23582"/>
                          </a:lnTo>
                          <a:lnTo>
                            <a:pt x="2350" y="23580"/>
                          </a:lnTo>
                          <a:lnTo>
                            <a:pt x="2283" y="23576"/>
                          </a:lnTo>
                          <a:lnTo>
                            <a:pt x="2274" y="23570"/>
                          </a:lnTo>
                          <a:lnTo>
                            <a:pt x="2265" y="23564"/>
                          </a:lnTo>
                          <a:lnTo>
                            <a:pt x="2255" y="23559"/>
                          </a:lnTo>
                          <a:lnTo>
                            <a:pt x="2244" y="23553"/>
                          </a:lnTo>
                          <a:lnTo>
                            <a:pt x="2222" y="23546"/>
                          </a:lnTo>
                          <a:lnTo>
                            <a:pt x="2199" y="23540"/>
                          </a:lnTo>
                          <a:lnTo>
                            <a:pt x="2151" y="23528"/>
                          </a:lnTo>
                          <a:lnTo>
                            <a:pt x="2105" y="23516"/>
                          </a:lnTo>
                          <a:lnTo>
                            <a:pt x="2083" y="23507"/>
                          </a:lnTo>
                          <a:lnTo>
                            <a:pt x="2063" y="23496"/>
                          </a:lnTo>
                          <a:lnTo>
                            <a:pt x="2054" y="23490"/>
                          </a:lnTo>
                          <a:lnTo>
                            <a:pt x="2046" y="23483"/>
                          </a:lnTo>
                          <a:lnTo>
                            <a:pt x="2038" y="23475"/>
                          </a:lnTo>
                          <a:lnTo>
                            <a:pt x="2031" y="23468"/>
                          </a:lnTo>
                          <a:lnTo>
                            <a:pt x="2024" y="23457"/>
                          </a:lnTo>
                          <a:lnTo>
                            <a:pt x="2019" y="23447"/>
                          </a:lnTo>
                          <a:lnTo>
                            <a:pt x="2014" y="23436"/>
                          </a:lnTo>
                          <a:lnTo>
                            <a:pt x="2010" y="23423"/>
                          </a:lnTo>
                          <a:lnTo>
                            <a:pt x="2008" y="23409"/>
                          </a:lnTo>
                          <a:lnTo>
                            <a:pt x="2006" y="23394"/>
                          </a:lnTo>
                          <a:lnTo>
                            <a:pt x="2006" y="23378"/>
                          </a:lnTo>
                          <a:lnTo>
                            <a:pt x="2007" y="23360"/>
                          </a:lnTo>
                          <a:lnTo>
                            <a:pt x="2031" y="23327"/>
                          </a:lnTo>
                          <a:lnTo>
                            <a:pt x="2055" y="23292"/>
                          </a:lnTo>
                          <a:lnTo>
                            <a:pt x="2080" y="23259"/>
                          </a:lnTo>
                          <a:lnTo>
                            <a:pt x="2105" y="23226"/>
                          </a:lnTo>
                          <a:lnTo>
                            <a:pt x="2131" y="23195"/>
                          </a:lnTo>
                          <a:lnTo>
                            <a:pt x="2157" y="23163"/>
                          </a:lnTo>
                          <a:lnTo>
                            <a:pt x="2182" y="23132"/>
                          </a:lnTo>
                          <a:lnTo>
                            <a:pt x="2208" y="23100"/>
                          </a:lnTo>
                          <a:lnTo>
                            <a:pt x="2137" y="23120"/>
                          </a:lnTo>
                          <a:lnTo>
                            <a:pt x="2063" y="23139"/>
                          </a:lnTo>
                          <a:lnTo>
                            <a:pt x="1987" y="23156"/>
                          </a:lnTo>
                          <a:lnTo>
                            <a:pt x="1909" y="23171"/>
                          </a:lnTo>
                          <a:lnTo>
                            <a:pt x="1870" y="23177"/>
                          </a:lnTo>
                          <a:lnTo>
                            <a:pt x="1830" y="23183"/>
                          </a:lnTo>
                          <a:lnTo>
                            <a:pt x="1791" y="23187"/>
                          </a:lnTo>
                          <a:lnTo>
                            <a:pt x="1751" y="23190"/>
                          </a:lnTo>
                          <a:lnTo>
                            <a:pt x="1711" y="23193"/>
                          </a:lnTo>
                          <a:lnTo>
                            <a:pt x="1671" y="23195"/>
                          </a:lnTo>
                          <a:lnTo>
                            <a:pt x="1632" y="23196"/>
                          </a:lnTo>
                          <a:lnTo>
                            <a:pt x="1592" y="23195"/>
                          </a:lnTo>
                          <a:lnTo>
                            <a:pt x="1552" y="23193"/>
                          </a:lnTo>
                          <a:lnTo>
                            <a:pt x="1513" y="23190"/>
                          </a:lnTo>
                          <a:lnTo>
                            <a:pt x="1473" y="23186"/>
                          </a:lnTo>
                          <a:lnTo>
                            <a:pt x="1434" y="23180"/>
                          </a:lnTo>
                          <a:lnTo>
                            <a:pt x="1396" y="23172"/>
                          </a:lnTo>
                          <a:lnTo>
                            <a:pt x="1357" y="23163"/>
                          </a:lnTo>
                          <a:lnTo>
                            <a:pt x="1319" y="23151"/>
                          </a:lnTo>
                          <a:lnTo>
                            <a:pt x="1282" y="23139"/>
                          </a:lnTo>
                          <a:lnTo>
                            <a:pt x="1245" y="23124"/>
                          </a:lnTo>
                          <a:lnTo>
                            <a:pt x="1209" y="23108"/>
                          </a:lnTo>
                          <a:lnTo>
                            <a:pt x="1173" y="23090"/>
                          </a:lnTo>
                          <a:lnTo>
                            <a:pt x="1138" y="23069"/>
                          </a:lnTo>
                          <a:lnTo>
                            <a:pt x="1103" y="23046"/>
                          </a:lnTo>
                          <a:lnTo>
                            <a:pt x="1069" y="23022"/>
                          </a:lnTo>
                          <a:lnTo>
                            <a:pt x="1036" y="22995"/>
                          </a:lnTo>
                          <a:lnTo>
                            <a:pt x="1004" y="22967"/>
                          </a:lnTo>
                          <a:lnTo>
                            <a:pt x="998" y="22958"/>
                          </a:lnTo>
                          <a:lnTo>
                            <a:pt x="991" y="22949"/>
                          </a:lnTo>
                          <a:lnTo>
                            <a:pt x="985" y="22938"/>
                          </a:lnTo>
                          <a:lnTo>
                            <a:pt x="980" y="22927"/>
                          </a:lnTo>
                          <a:lnTo>
                            <a:pt x="976" y="22913"/>
                          </a:lnTo>
                          <a:lnTo>
                            <a:pt x="972" y="22900"/>
                          </a:lnTo>
                          <a:lnTo>
                            <a:pt x="968" y="22885"/>
                          </a:lnTo>
                          <a:lnTo>
                            <a:pt x="966" y="22870"/>
                          </a:lnTo>
                          <a:lnTo>
                            <a:pt x="965" y="22855"/>
                          </a:lnTo>
                          <a:lnTo>
                            <a:pt x="964" y="22840"/>
                          </a:lnTo>
                          <a:lnTo>
                            <a:pt x="965" y="22823"/>
                          </a:lnTo>
                          <a:lnTo>
                            <a:pt x="966" y="22808"/>
                          </a:lnTo>
                          <a:lnTo>
                            <a:pt x="969" y="22793"/>
                          </a:lnTo>
                          <a:lnTo>
                            <a:pt x="973" y="22778"/>
                          </a:lnTo>
                          <a:lnTo>
                            <a:pt x="978" y="22765"/>
                          </a:lnTo>
                          <a:lnTo>
                            <a:pt x="984" y="22750"/>
                          </a:lnTo>
                          <a:lnTo>
                            <a:pt x="1008" y="22718"/>
                          </a:lnTo>
                          <a:lnTo>
                            <a:pt x="1034" y="22685"/>
                          </a:lnTo>
                          <a:lnTo>
                            <a:pt x="1062" y="22654"/>
                          </a:lnTo>
                          <a:lnTo>
                            <a:pt x="1092" y="22622"/>
                          </a:lnTo>
                          <a:lnTo>
                            <a:pt x="1107" y="22606"/>
                          </a:lnTo>
                          <a:lnTo>
                            <a:pt x="1123" y="22594"/>
                          </a:lnTo>
                          <a:lnTo>
                            <a:pt x="1139" y="22580"/>
                          </a:lnTo>
                          <a:lnTo>
                            <a:pt x="1156" y="22567"/>
                          </a:lnTo>
                          <a:lnTo>
                            <a:pt x="1172" y="22558"/>
                          </a:lnTo>
                          <a:lnTo>
                            <a:pt x="1189" y="22549"/>
                          </a:lnTo>
                          <a:lnTo>
                            <a:pt x="1206" y="22541"/>
                          </a:lnTo>
                          <a:lnTo>
                            <a:pt x="1224" y="22534"/>
                          </a:lnTo>
                          <a:lnTo>
                            <a:pt x="1185" y="22538"/>
                          </a:lnTo>
                          <a:lnTo>
                            <a:pt x="1148" y="22541"/>
                          </a:lnTo>
                          <a:lnTo>
                            <a:pt x="1111" y="22541"/>
                          </a:lnTo>
                          <a:lnTo>
                            <a:pt x="1074" y="22541"/>
                          </a:lnTo>
                          <a:lnTo>
                            <a:pt x="1038" y="22538"/>
                          </a:lnTo>
                          <a:lnTo>
                            <a:pt x="1002" y="22534"/>
                          </a:lnTo>
                          <a:lnTo>
                            <a:pt x="966" y="22528"/>
                          </a:lnTo>
                          <a:lnTo>
                            <a:pt x="931" y="22522"/>
                          </a:lnTo>
                          <a:lnTo>
                            <a:pt x="896" y="22513"/>
                          </a:lnTo>
                          <a:lnTo>
                            <a:pt x="862" y="22502"/>
                          </a:lnTo>
                          <a:lnTo>
                            <a:pt x="827" y="22489"/>
                          </a:lnTo>
                          <a:lnTo>
                            <a:pt x="793" y="22474"/>
                          </a:lnTo>
                          <a:lnTo>
                            <a:pt x="759" y="22456"/>
                          </a:lnTo>
                          <a:lnTo>
                            <a:pt x="725" y="22438"/>
                          </a:lnTo>
                          <a:lnTo>
                            <a:pt x="692" y="22417"/>
                          </a:lnTo>
                          <a:lnTo>
                            <a:pt x="658" y="22393"/>
                          </a:lnTo>
                          <a:lnTo>
                            <a:pt x="655" y="22384"/>
                          </a:lnTo>
                          <a:lnTo>
                            <a:pt x="652" y="22375"/>
                          </a:lnTo>
                          <a:lnTo>
                            <a:pt x="650" y="22366"/>
                          </a:lnTo>
                          <a:lnTo>
                            <a:pt x="649" y="22357"/>
                          </a:lnTo>
                          <a:lnTo>
                            <a:pt x="647" y="22337"/>
                          </a:lnTo>
                          <a:lnTo>
                            <a:pt x="647" y="22316"/>
                          </a:lnTo>
                          <a:lnTo>
                            <a:pt x="647" y="22295"/>
                          </a:lnTo>
                          <a:lnTo>
                            <a:pt x="648" y="22276"/>
                          </a:lnTo>
                          <a:lnTo>
                            <a:pt x="648" y="22255"/>
                          </a:lnTo>
                          <a:lnTo>
                            <a:pt x="647" y="22237"/>
                          </a:lnTo>
                          <a:lnTo>
                            <a:pt x="657" y="22217"/>
                          </a:lnTo>
                          <a:lnTo>
                            <a:pt x="669" y="22199"/>
                          </a:lnTo>
                          <a:lnTo>
                            <a:pt x="680" y="22184"/>
                          </a:lnTo>
                          <a:lnTo>
                            <a:pt x="692" y="22169"/>
                          </a:lnTo>
                          <a:lnTo>
                            <a:pt x="705" y="22156"/>
                          </a:lnTo>
                          <a:lnTo>
                            <a:pt x="718" y="22144"/>
                          </a:lnTo>
                          <a:lnTo>
                            <a:pt x="731" y="22133"/>
                          </a:lnTo>
                          <a:lnTo>
                            <a:pt x="745" y="22124"/>
                          </a:lnTo>
                          <a:lnTo>
                            <a:pt x="759" y="22117"/>
                          </a:lnTo>
                          <a:lnTo>
                            <a:pt x="773" y="22109"/>
                          </a:lnTo>
                          <a:lnTo>
                            <a:pt x="787" y="22102"/>
                          </a:lnTo>
                          <a:lnTo>
                            <a:pt x="802" y="22097"/>
                          </a:lnTo>
                          <a:lnTo>
                            <a:pt x="832" y="22087"/>
                          </a:lnTo>
                          <a:lnTo>
                            <a:pt x="862" y="22079"/>
                          </a:lnTo>
                          <a:lnTo>
                            <a:pt x="925" y="22066"/>
                          </a:lnTo>
                          <a:lnTo>
                            <a:pt x="987" y="22051"/>
                          </a:lnTo>
                          <a:lnTo>
                            <a:pt x="1018" y="22040"/>
                          </a:lnTo>
                          <a:lnTo>
                            <a:pt x="1049" y="22028"/>
                          </a:lnTo>
                          <a:lnTo>
                            <a:pt x="1064" y="22021"/>
                          </a:lnTo>
                          <a:lnTo>
                            <a:pt x="1079" y="22012"/>
                          </a:lnTo>
                          <a:lnTo>
                            <a:pt x="1094" y="22001"/>
                          </a:lnTo>
                          <a:lnTo>
                            <a:pt x="1108" y="21991"/>
                          </a:lnTo>
                          <a:lnTo>
                            <a:pt x="1073" y="21980"/>
                          </a:lnTo>
                          <a:lnTo>
                            <a:pt x="1038" y="21973"/>
                          </a:lnTo>
                          <a:lnTo>
                            <a:pt x="1003" y="21965"/>
                          </a:lnTo>
                          <a:lnTo>
                            <a:pt x="968" y="21959"/>
                          </a:lnTo>
                          <a:lnTo>
                            <a:pt x="933" y="21956"/>
                          </a:lnTo>
                          <a:lnTo>
                            <a:pt x="899" y="21952"/>
                          </a:lnTo>
                          <a:lnTo>
                            <a:pt x="865" y="21950"/>
                          </a:lnTo>
                          <a:lnTo>
                            <a:pt x="831" y="21947"/>
                          </a:lnTo>
                          <a:lnTo>
                            <a:pt x="763" y="21946"/>
                          </a:lnTo>
                          <a:lnTo>
                            <a:pt x="696" y="21946"/>
                          </a:lnTo>
                          <a:lnTo>
                            <a:pt x="630" y="21946"/>
                          </a:lnTo>
                          <a:lnTo>
                            <a:pt x="564" y="21946"/>
                          </a:lnTo>
                          <a:lnTo>
                            <a:pt x="498" y="21943"/>
                          </a:lnTo>
                          <a:lnTo>
                            <a:pt x="433" y="21937"/>
                          </a:lnTo>
                          <a:lnTo>
                            <a:pt x="401" y="21934"/>
                          </a:lnTo>
                          <a:lnTo>
                            <a:pt x="368" y="21928"/>
                          </a:lnTo>
                          <a:lnTo>
                            <a:pt x="336" y="21922"/>
                          </a:lnTo>
                          <a:lnTo>
                            <a:pt x="304" y="21915"/>
                          </a:lnTo>
                          <a:lnTo>
                            <a:pt x="272" y="21906"/>
                          </a:lnTo>
                          <a:lnTo>
                            <a:pt x="240" y="21894"/>
                          </a:lnTo>
                          <a:lnTo>
                            <a:pt x="208" y="21882"/>
                          </a:lnTo>
                          <a:lnTo>
                            <a:pt x="176" y="21867"/>
                          </a:lnTo>
                          <a:lnTo>
                            <a:pt x="145" y="21850"/>
                          </a:lnTo>
                          <a:lnTo>
                            <a:pt x="113" y="21832"/>
                          </a:lnTo>
                          <a:lnTo>
                            <a:pt x="81" y="21811"/>
                          </a:lnTo>
                          <a:lnTo>
                            <a:pt x="49" y="21787"/>
                          </a:lnTo>
                          <a:lnTo>
                            <a:pt x="45" y="21781"/>
                          </a:lnTo>
                          <a:lnTo>
                            <a:pt x="41" y="21774"/>
                          </a:lnTo>
                          <a:lnTo>
                            <a:pt x="38" y="21766"/>
                          </a:lnTo>
                          <a:lnTo>
                            <a:pt x="36" y="21757"/>
                          </a:lnTo>
                          <a:lnTo>
                            <a:pt x="34" y="21748"/>
                          </a:lnTo>
                          <a:lnTo>
                            <a:pt x="32" y="21739"/>
                          </a:lnTo>
                          <a:lnTo>
                            <a:pt x="32" y="21729"/>
                          </a:lnTo>
                          <a:lnTo>
                            <a:pt x="31" y="21720"/>
                          </a:lnTo>
                          <a:lnTo>
                            <a:pt x="32" y="21699"/>
                          </a:lnTo>
                          <a:lnTo>
                            <a:pt x="35" y="21679"/>
                          </a:lnTo>
                          <a:lnTo>
                            <a:pt x="39" y="21660"/>
                          </a:lnTo>
                          <a:lnTo>
                            <a:pt x="44" y="21645"/>
                          </a:lnTo>
                          <a:lnTo>
                            <a:pt x="55" y="21618"/>
                          </a:lnTo>
                          <a:lnTo>
                            <a:pt x="67" y="21592"/>
                          </a:lnTo>
                          <a:lnTo>
                            <a:pt x="81" y="21570"/>
                          </a:lnTo>
                          <a:lnTo>
                            <a:pt x="94" y="21549"/>
                          </a:lnTo>
                          <a:lnTo>
                            <a:pt x="109" y="21531"/>
                          </a:lnTo>
                          <a:lnTo>
                            <a:pt x="124" y="21513"/>
                          </a:lnTo>
                          <a:lnTo>
                            <a:pt x="140" y="21499"/>
                          </a:lnTo>
                          <a:lnTo>
                            <a:pt x="156" y="21486"/>
                          </a:lnTo>
                          <a:lnTo>
                            <a:pt x="173" y="21474"/>
                          </a:lnTo>
                          <a:lnTo>
                            <a:pt x="191" y="21463"/>
                          </a:lnTo>
                          <a:lnTo>
                            <a:pt x="209" y="21454"/>
                          </a:lnTo>
                          <a:lnTo>
                            <a:pt x="227" y="21447"/>
                          </a:lnTo>
                          <a:lnTo>
                            <a:pt x="245" y="21439"/>
                          </a:lnTo>
                          <a:lnTo>
                            <a:pt x="264" y="21433"/>
                          </a:lnTo>
                          <a:lnTo>
                            <a:pt x="284" y="21429"/>
                          </a:lnTo>
                          <a:lnTo>
                            <a:pt x="303" y="21426"/>
                          </a:lnTo>
                          <a:lnTo>
                            <a:pt x="342" y="21420"/>
                          </a:lnTo>
                          <a:lnTo>
                            <a:pt x="382" y="21415"/>
                          </a:lnTo>
                          <a:lnTo>
                            <a:pt x="422" y="21412"/>
                          </a:lnTo>
                          <a:lnTo>
                            <a:pt x="462" y="21411"/>
                          </a:lnTo>
                          <a:lnTo>
                            <a:pt x="501" y="21406"/>
                          </a:lnTo>
                          <a:lnTo>
                            <a:pt x="539" y="21402"/>
                          </a:lnTo>
                          <a:lnTo>
                            <a:pt x="558" y="21399"/>
                          </a:lnTo>
                          <a:lnTo>
                            <a:pt x="577" y="21396"/>
                          </a:lnTo>
                          <a:lnTo>
                            <a:pt x="594" y="21390"/>
                          </a:lnTo>
                          <a:lnTo>
                            <a:pt x="612" y="21385"/>
                          </a:lnTo>
                          <a:lnTo>
                            <a:pt x="640" y="21390"/>
                          </a:lnTo>
                          <a:lnTo>
                            <a:pt x="668" y="21397"/>
                          </a:lnTo>
                          <a:lnTo>
                            <a:pt x="696" y="21403"/>
                          </a:lnTo>
                          <a:lnTo>
                            <a:pt x="724" y="21409"/>
                          </a:lnTo>
                          <a:lnTo>
                            <a:pt x="752" y="21415"/>
                          </a:lnTo>
                          <a:lnTo>
                            <a:pt x="781" y="21418"/>
                          </a:lnTo>
                          <a:lnTo>
                            <a:pt x="795" y="21418"/>
                          </a:lnTo>
                          <a:lnTo>
                            <a:pt x="810" y="21418"/>
                          </a:lnTo>
                          <a:lnTo>
                            <a:pt x="825" y="21417"/>
                          </a:lnTo>
                          <a:lnTo>
                            <a:pt x="840" y="21415"/>
                          </a:lnTo>
                          <a:lnTo>
                            <a:pt x="839" y="21183"/>
                          </a:lnTo>
                          <a:lnTo>
                            <a:pt x="838" y="20952"/>
                          </a:lnTo>
                          <a:lnTo>
                            <a:pt x="837" y="20720"/>
                          </a:lnTo>
                          <a:lnTo>
                            <a:pt x="835" y="20489"/>
                          </a:lnTo>
                          <a:lnTo>
                            <a:pt x="832" y="20258"/>
                          </a:lnTo>
                          <a:lnTo>
                            <a:pt x="829" y="20027"/>
                          </a:lnTo>
                          <a:lnTo>
                            <a:pt x="824" y="19796"/>
                          </a:lnTo>
                          <a:lnTo>
                            <a:pt x="818" y="19565"/>
                          </a:lnTo>
                          <a:lnTo>
                            <a:pt x="810" y="19336"/>
                          </a:lnTo>
                          <a:lnTo>
                            <a:pt x="800" y="19106"/>
                          </a:lnTo>
                          <a:lnTo>
                            <a:pt x="795" y="18991"/>
                          </a:lnTo>
                          <a:lnTo>
                            <a:pt x="789" y="18877"/>
                          </a:lnTo>
                          <a:lnTo>
                            <a:pt x="782" y="18763"/>
                          </a:lnTo>
                          <a:lnTo>
                            <a:pt x="775" y="18648"/>
                          </a:lnTo>
                          <a:lnTo>
                            <a:pt x="767" y="18534"/>
                          </a:lnTo>
                          <a:lnTo>
                            <a:pt x="759" y="18420"/>
                          </a:lnTo>
                          <a:lnTo>
                            <a:pt x="750" y="18306"/>
                          </a:lnTo>
                          <a:lnTo>
                            <a:pt x="741" y="18192"/>
                          </a:lnTo>
                          <a:lnTo>
                            <a:pt x="730" y="18078"/>
                          </a:lnTo>
                          <a:lnTo>
                            <a:pt x="720" y="17965"/>
                          </a:lnTo>
                          <a:lnTo>
                            <a:pt x="708" y="17852"/>
                          </a:lnTo>
                          <a:lnTo>
                            <a:pt x="696" y="17739"/>
                          </a:lnTo>
                          <a:lnTo>
                            <a:pt x="691" y="17672"/>
                          </a:lnTo>
                          <a:lnTo>
                            <a:pt x="686" y="17606"/>
                          </a:lnTo>
                          <a:lnTo>
                            <a:pt x="681" y="17538"/>
                          </a:lnTo>
                          <a:lnTo>
                            <a:pt x="676" y="17471"/>
                          </a:lnTo>
                          <a:lnTo>
                            <a:pt x="670" y="17403"/>
                          </a:lnTo>
                          <a:lnTo>
                            <a:pt x="665" y="17336"/>
                          </a:lnTo>
                          <a:lnTo>
                            <a:pt x="659" y="17268"/>
                          </a:lnTo>
                          <a:lnTo>
                            <a:pt x="654" y="17201"/>
                          </a:lnTo>
                          <a:lnTo>
                            <a:pt x="649" y="17133"/>
                          </a:lnTo>
                          <a:lnTo>
                            <a:pt x="643" y="17067"/>
                          </a:lnTo>
                          <a:lnTo>
                            <a:pt x="639" y="17000"/>
                          </a:lnTo>
                          <a:lnTo>
                            <a:pt x="634" y="16932"/>
                          </a:lnTo>
                          <a:lnTo>
                            <a:pt x="630" y="16867"/>
                          </a:lnTo>
                          <a:lnTo>
                            <a:pt x="626" y="16801"/>
                          </a:lnTo>
                          <a:lnTo>
                            <a:pt x="623" y="16735"/>
                          </a:lnTo>
                          <a:lnTo>
                            <a:pt x="621" y="16670"/>
                          </a:lnTo>
                          <a:lnTo>
                            <a:pt x="610" y="16597"/>
                          </a:lnTo>
                          <a:lnTo>
                            <a:pt x="599" y="16525"/>
                          </a:lnTo>
                          <a:lnTo>
                            <a:pt x="588" y="16453"/>
                          </a:lnTo>
                          <a:lnTo>
                            <a:pt x="576" y="16382"/>
                          </a:lnTo>
                          <a:lnTo>
                            <a:pt x="566" y="16310"/>
                          </a:lnTo>
                          <a:lnTo>
                            <a:pt x="556" y="16238"/>
                          </a:lnTo>
                          <a:lnTo>
                            <a:pt x="552" y="16202"/>
                          </a:lnTo>
                          <a:lnTo>
                            <a:pt x="548" y="16166"/>
                          </a:lnTo>
                          <a:lnTo>
                            <a:pt x="545" y="16129"/>
                          </a:lnTo>
                          <a:lnTo>
                            <a:pt x="543" y="16090"/>
                          </a:lnTo>
                          <a:lnTo>
                            <a:pt x="534" y="16025"/>
                          </a:lnTo>
                          <a:lnTo>
                            <a:pt x="525" y="15959"/>
                          </a:lnTo>
                          <a:lnTo>
                            <a:pt x="518" y="15892"/>
                          </a:lnTo>
                          <a:lnTo>
                            <a:pt x="511" y="15825"/>
                          </a:lnTo>
                          <a:lnTo>
                            <a:pt x="505" y="15756"/>
                          </a:lnTo>
                          <a:lnTo>
                            <a:pt x="500" y="15688"/>
                          </a:lnTo>
                          <a:lnTo>
                            <a:pt x="495" y="15619"/>
                          </a:lnTo>
                          <a:lnTo>
                            <a:pt x="489" y="15550"/>
                          </a:lnTo>
                          <a:lnTo>
                            <a:pt x="484" y="15483"/>
                          </a:lnTo>
                          <a:lnTo>
                            <a:pt x="479" y="15415"/>
                          </a:lnTo>
                          <a:lnTo>
                            <a:pt x="473" y="15348"/>
                          </a:lnTo>
                          <a:lnTo>
                            <a:pt x="467" y="15280"/>
                          </a:lnTo>
                          <a:lnTo>
                            <a:pt x="461" y="15216"/>
                          </a:lnTo>
                          <a:lnTo>
                            <a:pt x="453" y="15151"/>
                          </a:lnTo>
                          <a:lnTo>
                            <a:pt x="445" y="15088"/>
                          </a:lnTo>
                          <a:lnTo>
                            <a:pt x="436" y="15027"/>
                          </a:lnTo>
                          <a:lnTo>
                            <a:pt x="479" y="14822"/>
                          </a:lnTo>
                          <a:lnTo>
                            <a:pt x="523" y="14616"/>
                          </a:lnTo>
                          <a:lnTo>
                            <a:pt x="569" y="14411"/>
                          </a:lnTo>
                          <a:lnTo>
                            <a:pt x="615" y="14207"/>
                          </a:lnTo>
                          <a:lnTo>
                            <a:pt x="662" y="14004"/>
                          </a:lnTo>
                          <a:lnTo>
                            <a:pt x="710" y="13802"/>
                          </a:lnTo>
                          <a:lnTo>
                            <a:pt x="759" y="13600"/>
                          </a:lnTo>
                          <a:lnTo>
                            <a:pt x="809" y="13399"/>
                          </a:lnTo>
                          <a:lnTo>
                            <a:pt x="859" y="13198"/>
                          </a:lnTo>
                          <a:lnTo>
                            <a:pt x="911" y="12997"/>
                          </a:lnTo>
                          <a:lnTo>
                            <a:pt x="964" y="12798"/>
                          </a:lnTo>
                          <a:lnTo>
                            <a:pt x="1018" y="12598"/>
                          </a:lnTo>
                          <a:lnTo>
                            <a:pt x="1073" y="12400"/>
                          </a:lnTo>
                          <a:lnTo>
                            <a:pt x="1129" y="12202"/>
                          </a:lnTo>
                          <a:lnTo>
                            <a:pt x="1186" y="12004"/>
                          </a:lnTo>
                          <a:lnTo>
                            <a:pt x="1244" y="11808"/>
                          </a:lnTo>
                          <a:lnTo>
                            <a:pt x="1229" y="11808"/>
                          </a:lnTo>
                          <a:lnTo>
                            <a:pt x="1214" y="11810"/>
                          </a:lnTo>
                          <a:lnTo>
                            <a:pt x="1199" y="11813"/>
                          </a:lnTo>
                          <a:lnTo>
                            <a:pt x="1184" y="11819"/>
                          </a:lnTo>
                          <a:lnTo>
                            <a:pt x="1169" y="11826"/>
                          </a:lnTo>
                          <a:lnTo>
                            <a:pt x="1155" y="11835"/>
                          </a:lnTo>
                          <a:lnTo>
                            <a:pt x="1140" y="11844"/>
                          </a:lnTo>
                          <a:lnTo>
                            <a:pt x="1125" y="11855"/>
                          </a:lnTo>
                          <a:lnTo>
                            <a:pt x="1096" y="11877"/>
                          </a:lnTo>
                          <a:lnTo>
                            <a:pt x="1066" y="11898"/>
                          </a:lnTo>
                          <a:lnTo>
                            <a:pt x="1051" y="11909"/>
                          </a:lnTo>
                          <a:lnTo>
                            <a:pt x="1035" y="11916"/>
                          </a:lnTo>
                          <a:lnTo>
                            <a:pt x="1020" y="11924"/>
                          </a:lnTo>
                          <a:lnTo>
                            <a:pt x="1004" y="11930"/>
                          </a:lnTo>
                          <a:lnTo>
                            <a:pt x="955" y="11947"/>
                          </a:lnTo>
                          <a:lnTo>
                            <a:pt x="905" y="11964"/>
                          </a:lnTo>
                          <a:lnTo>
                            <a:pt x="854" y="11977"/>
                          </a:lnTo>
                          <a:lnTo>
                            <a:pt x="802" y="11989"/>
                          </a:lnTo>
                          <a:lnTo>
                            <a:pt x="775" y="11994"/>
                          </a:lnTo>
                          <a:lnTo>
                            <a:pt x="749" y="11997"/>
                          </a:lnTo>
                          <a:lnTo>
                            <a:pt x="723" y="12000"/>
                          </a:lnTo>
                          <a:lnTo>
                            <a:pt x="696" y="12001"/>
                          </a:lnTo>
                          <a:lnTo>
                            <a:pt x="670" y="12003"/>
                          </a:lnTo>
                          <a:lnTo>
                            <a:pt x="643" y="12003"/>
                          </a:lnTo>
                          <a:lnTo>
                            <a:pt x="617" y="12003"/>
                          </a:lnTo>
                          <a:lnTo>
                            <a:pt x="591" y="12000"/>
                          </a:lnTo>
                          <a:lnTo>
                            <a:pt x="565" y="11997"/>
                          </a:lnTo>
                          <a:lnTo>
                            <a:pt x="539" y="11992"/>
                          </a:lnTo>
                          <a:lnTo>
                            <a:pt x="513" y="11988"/>
                          </a:lnTo>
                          <a:lnTo>
                            <a:pt x="488" y="11980"/>
                          </a:lnTo>
                          <a:lnTo>
                            <a:pt x="462" y="11973"/>
                          </a:lnTo>
                          <a:lnTo>
                            <a:pt x="438" y="11964"/>
                          </a:lnTo>
                          <a:lnTo>
                            <a:pt x="413" y="11952"/>
                          </a:lnTo>
                          <a:lnTo>
                            <a:pt x="389" y="11940"/>
                          </a:lnTo>
                          <a:lnTo>
                            <a:pt x="365" y="11927"/>
                          </a:lnTo>
                          <a:lnTo>
                            <a:pt x="342" y="11910"/>
                          </a:lnTo>
                          <a:lnTo>
                            <a:pt x="319" y="11894"/>
                          </a:lnTo>
                          <a:lnTo>
                            <a:pt x="297" y="11876"/>
                          </a:lnTo>
                          <a:lnTo>
                            <a:pt x="275" y="11855"/>
                          </a:lnTo>
                          <a:lnTo>
                            <a:pt x="254" y="11832"/>
                          </a:lnTo>
                          <a:lnTo>
                            <a:pt x="234" y="11808"/>
                          </a:lnTo>
                          <a:lnTo>
                            <a:pt x="214" y="11783"/>
                          </a:lnTo>
                          <a:lnTo>
                            <a:pt x="172" y="11702"/>
                          </a:lnTo>
                          <a:lnTo>
                            <a:pt x="129" y="11616"/>
                          </a:lnTo>
                          <a:lnTo>
                            <a:pt x="108" y="11573"/>
                          </a:lnTo>
                          <a:lnTo>
                            <a:pt x="87" y="11526"/>
                          </a:lnTo>
                          <a:lnTo>
                            <a:pt x="68" y="11478"/>
                          </a:lnTo>
                          <a:lnTo>
                            <a:pt x="51" y="11430"/>
                          </a:lnTo>
                          <a:lnTo>
                            <a:pt x="42" y="11406"/>
                          </a:lnTo>
                          <a:lnTo>
                            <a:pt x="35" y="11381"/>
                          </a:lnTo>
                          <a:lnTo>
                            <a:pt x="28" y="11357"/>
                          </a:lnTo>
                          <a:lnTo>
                            <a:pt x="22" y="11331"/>
                          </a:lnTo>
                          <a:lnTo>
                            <a:pt x="16" y="11304"/>
                          </a:lnTo>
                          <a:lnTo>
                            <a:pt x="11" y="11279"/>
                          </a:lnTo>
                          <a:lnTo>
                            <a:pt x="7" y="11253"/>
                          </a:lnTo>
                          <a:lnTo>
                            <a:pt x="4" y="11226"/>
                          </a:lnTo>
                          <a:lnTo>
                            <a:pt x="2" y="11199"/>
                          </a:lnTo>
                          <a:lnTo>
                            <a:pt x="0" y="11172"/>
                          </a:lnTo>
                          <a:lnTo>
                            <a:pt x="0" y="11145"/>
                          </a:lnTo>
                          <a:lnTo>
                            <a:pt x="1" y="11117"/>
                          </a:lnTo>
                          <a:lnTo>
                            <a:pt x="3" y="11090"/>
                          </a:lnTo>
                          <a:lnTo>
                            <a:pt x="5" y="11061"/>
                          </a:lnTo>
                          <a:lnTo>
                            <a:pt x="9" y="11033"/>
                          </a:lnTo>
                          <a:lnTo>
                            <a:pt x="15" y="11004"/>
                          </a:lnTo>
                          <a:lnTo>
                            <a:pt x="22" y="10988"/>
                          </a:lnTo>
                          <a:lnTo>
                            <a:pt x="29" y="10971"/>
                          </a:lnTo>
                          <a:lnTo>
                            <a:pt x="37" y="10956"/>
                          </a:lnTo>
                          <a:lnTo>
                            <a:pt x="45" y="10941"/>
                          </a:lnTo>
                          <a:lnTo>
                            <a:pt x="54" y="10930"/>
                          </a:lnTo>
                          <a:lnTo>
                            <a:pt x="63" y="10916"/>
                          </a:lnTo>
                          <a:lnTo>
                            <a:pt x="73" y="10906"/>
                          </a:lnTo>
                          <a:lnTo>
                            <a:pt x="83" y="10895"/>
                          </a:lnTo>
                          <a:lnTo>
                            <a:pt x="94" y="10886"/>
                          </a:lnTo>
                          <a:lnTo>
                            <a:pt x="105" y="10877"/>
                          </a:lnTo>
                          <a:lnTo>
                            <a:pt x="116" y="10871"/>
                          </a:lnTo>
                          <a:lnTo>
                            <a:pt x="128" y="10865"/>
                          </a:lnTo>
                          <a:lnTo>
                            <a:pt x="140" y="10861"/>
                          </a:lnTo>
                          <a:lnTo>
                            <a:pt x="153" y="10859"/>
                          </a:lnTo>
                          <a:lnTo>
                            <a:pt x="166" y="10858"/>
                          </a:lnTo>
                          <a:lnTo>
                            <a:pt x="179" y="10858"/>
                          </a:lnTo>
                          <a:lnTo>
                            <a:pt x="189" y="10865"/>
                          </a:lnTo>
                          <a:lnTo>
                            <a:pt x="198" y="10871"/>
                          </a:lnTo>
                          <a:lnTo>
                            <a:pt x="206" y="10876"/>
                          </a:lnTo>
                          <a:lnTo>
                            <a:pt x="214" y="10879"/>
                          </a:lnTo>
                          <a:lnTo>
                            <a:pt x="222" y="10880"/>
                          </a:lnTo>
                          <a:lnTo>
                            <a:pt x="228" y="10879"/>
                          </a:lnTo>
                          <a:lnTo>
                            <a:pt x="235" y="10877"/>
                          </a:lnTo>
                          <a:lnTo>
                            <a:pt x="241" y="10874"/>
                          </a:lnTo>
                          <a:lnTo>
                            <a:pt x="246" y="10870"/>
                          </a:lnTo>
                          <a:lnTo>
                            <a:pt x="252" y="10864"/>
                          </a:lnTo>
                          <a:lnTo>
                            <a:pt x="257" y="10856"/>
                          </a:lnTo>
                          <a:lnTo>
                            <a:pt x="261" y="10849"/>
                          </a:lnTo>
                          <a:lnTo>
                            <a:pt x="270" y="10831"/>
                          </a:lnTo>
                          <a:lnTo>
                            <a:pt x="278" y="10810"/>
                          </a:lnTo>
                          <a:lnTo>
                            <a:pt x="294" y="10762"/>
                          </a:lnTo>
                          <a:lnTo>
                            <a:pt x="311" y="10714"/>
                          </a:lnTo>
                          <a:lnTo>
                            <a:pt x="321" y="10691"/>
                          </a:lnTo>
                          <a:lnTo>
                            <a:pt x="332" y="10672"/>
                          </a:lnTo>
                          <a:lnTo>
                            <a:pt x="338" y="10663"/>
                          </a:lnTo>
                          <a:lnTo>
                            <a:pt x="344" y="10654"/>
                          </a:lnTo>
                          <a:lnTo>
                            <a:pt x="351" y="10648"/>
                          </a:lnTo>
                          <a:lnTo>
                            <a:pt x="358" y="10640"/>
                          </a:lnTo>
                          <a:lnTo>
                            <a:pt x="371" y="10639"/>
                          </a:lnTo>
                          <a:lnTo>
                            <a:pt x="384" y="10634"/>
                          </a:lnTo>
                          <a:lnTo>
                            <a:pt x="397" y="10628"/>
                          </a:lnTo>
                          <a:lnTo>
                            <a:pt x="409" y="10622"/>
                          </a:lnTo>
                          <a:lnTo>
                            <a:pt x="421" y="10613"/>
                          </a:lnTo>
                          <a:lnTo>
                            <a:pt x="433" y="10604"/>
                          </a:lnTo>
                          <a:lnTo>
                            <a:pt x="444" y="10595"/>
                          </a:lnTo>
                          <a:lnTo>
                            <a:pt x="456" y="10583"/>
                          </a:lnTo>
                          <a:lnTo>
                            <a:pt x="501" y="10535"/>
                          </a:lnTo>
                          <a:lnTo>
                            <a:pt x="546" y="10484"/>
                          </a:lnTo>
                          <a:lnTo>
                            <a:pt x="569" y="10460"/>
                          </a:lnTo>
                          <a:lnTo>
                            <a:pt x="593" y="10439"/>
                          </a:lnTo>
                          <a:lnTo>
                            <a:pt x="605" y="10430"/>
                          </a:lnTo>
                          <a:lnTo>
                            <a:pt x="617" y="10421"/>
                          </a:lnTo>
                          <a:lnTo>
                            <a:pt x="629" y="10414"/>
                          </a:lnTo>
                          <a:lnTo>
                            <a:pt x="642" y="10408"/>
                          </a:lnTo>
                          <a:lnTo>
                            <a:pt x="655" y="10405"/>
                          </a:lnTo>
                          <a:lnTo>
                            <a:pt x="668" y="10402"/>
                          </a:lnTo>
                          <a:lnTo>
                            <a:pt x="682" y="10400"/>
                          </a:lnTo>
                          <a:lnTo>
                            <a:pt x="696" y="10400"/>
                          </a:lnTo>
                          <a:lnTo>
                            <a:pt x="710" y="10403"/>
                          </a:lnTo>
                          <a:lnTo>
                            <a:pt x="725" y="10408"/>
                          </a:lnTo>
                          <a:lnTo>
                            <a:pt x="741" y="10415"/>
                          </a:lnTo>
                          <a:lnTo>
                            <a:pt x="756" y="10424"/>
                          </a:lnTo>
                          <a:lnTo>
                            <a:pt x="788" y="10451"/>
                          </a:lnTo>
                          <a:lnTo>
                            <a:pt x="818" y="10475"/>
                          </a:lnTo>
                          <a:lnTo>
                            <a:pt x="847" y="10499"/>
                          </a:lnTo>
                          <a:lnTo>
                            <a:pt x="876" y="10523"/>
                          </a:lnTo>
                          <a:lnTo>
                            <a:pt x="905" y="10547"/>
                          </a:lnTo>
                          <a:lnTo>
                            <a:pt x="934" y="10574"/>
                          </a:lnTo>
                          <a:lnTo>
                            <a:pt x="964" y="10601"/>
                          </a:lnTo>
                          <a:lnTo>
                            <a:pt x="996" y="10633"/>
                          </a:lnTo>
                          <a:lnTo>
                            <a:pt x="1009" y="10606"/>
                          </a:lnTo>
                          <a:lnTo>
                            <a:pt x="1023" y="10582"/>
                          </a:lnTo>
                          <a:lnTo>
                            <a:pt x="1038" y="10559"/>
                          </a:lnTo>
                          <a:lnTo>
                            <a:pt x="1054" y="10538"/>
                          </a:lnTo>
                          <a:lnTo>
                            <a:pt x="1071" y="10520"/>
                          </a:lnTo>
                          <a:lnTo>
                            <a:pt x="1088" y="10504"/>
                          </a:lnTo>
                          <a:lnTo>
                            <a:pt x="1105" y="10489"/>
                          </a:lnTo>
                          <a:lnTo>
                            <a:pt x="1124" y="10475"/>
                          </a:lnTo>
                          <a:lnTo>
                            <a:pt x="1143" y="10463"/>
                          </a:lnTo>
                          <a:lnTo>
                            <a:pt x="1162" y="10453"/>
                          </a:lnTo>
                          <a:lnTo>
                            <a:pt x="1181" y="10444"/>
                          </a:lnTo>
                          <a:lnTo>
                            <a:pt x="1201" y="10436"/>
                          </a:lnTo>
                          <a:lnTo>
                            <a:pt x="1222" y="10430"/>
                          </a:lnTo>
                          <a:lnTo>
                            <a:pt x="1242" y="10424"/>
                          </a:lnTo>
                          <a:lnTo>
                            <a:pt x="1263" y="10420"/>
                          </a:lnTo>
                          <a:lnTo>
                            <a:pt x="1284" y="10415"/>
                          </a:lnTo>
                          <a:lnTo>
                            <a:pt x="1257" y="10361"/>
                          </a:lnTo>
                          <a:lnTo>
                            <a:pt x="1231" y="10306"/>
                          </a:lnTo>
                          <a:lnTo>
                            <a:pt x="1207" y="10249"/>
                          </a:lnTo>
                          <a:lnTo>
                            <a:pt x="1183" y="10189"/>
                          </a:lnTo>
                          <a:lnTo>
                            <a:pt x="1160" y="10129"/>
                          </a:lnTo>
                          <a:lnTo>
                            <a:pt x="1138" y="10067"/>
                          </a:lnTo>
                          <a:lnTo>
                            <a:pt x="1118" y="10006"/>
                          </a:lnTo>
                          <a:lnTo>
                            <a:pt x="1098" y="9941"/>
                          </a:lnTo>
                          <a:lnTo>
                            <a:pt x="1080" y="9877"/>
                          </a:lnTo>
                          <a:lnTo>
                            <a:pt x="1063" y="9811"/>
                          </a:lnTo>
                          <a:lnTo>
                            <a:pt x="1047" y="9745"/>
                          </a:lnTo>
                          <a:lnTo>
                            <a:pt x="1032" y="9678"/>
                          </a:lnTo>
                          <a:lnTo>
                            <a:pt x="1019" y="9610"/>
                          </a:lnTo>
                          <a:lnTo>
                            <a:pt x="1007" y="9541"/>
                          </a:lnTo>
                          <a:lnTo>
                            <a:pt x="997" y="9472"/>
                          </a:lnTo>
                          <a:lnTo>
                            <a:pt x="988" y="9402"/>
                          </a:lnTo>
                          <a:lnTo>
                            <a:pt x="980" y="9331"/>
                          </a:lnTo>
                          <a:lnTo>
                            <a:pt x="974" y="9261"/>
                          </a:lnTo>
                          <a:lnTo>
                            <a:pt x="969" y="9190"/>
                          </a:lnTo>
                          <a:lnTo>
                            <a:pt x="966" y="9120"/>
                          </a:lnTo>
                          <a:lnTo>
                            <a:pt x="964" y="9048"/>
                          </a:lnTo>
                          <a:lnTo>
                            <a:pt x="964" y="8976"/>
                          </a:lnTo>
                          <a:lnTo>
                            <a:pt x="966" y="8906"/>
                          </a:lnTo>
                          <a:lnTo>
                            <a:pt x="969" y="8834"/>
                          </a:lnTo>
                          <a:lnTo>
                            <a:pt x="974" y="8763"/>
                          </a:lnTo>
                          <a:lnTo>
                            <a:pt x="981" y="8691"/>
                          </a:lnTo>
                          <a:lnTo>
                            <a:pt x="990" y="8621"/>
                          </a:lnTo>
                          <a:lnTo>
                            <a:pt x="1000" y="8550"/>
                          </a:lnTo>
                          <a:lnTo>
                            <a:pt x="1012" y="8481"/>
                          </a:lnTo>
                          <a:lnTo>
                            <a:pt x="1026" y="8412"/>
                          </a:lnTo>
                          <a:lnTo>
                            <a:pt x="1041" y="8343"/>
                          </a:lnTo>
                          <a:lnTo>
                            <a:pt x="1059" y="8274"/>
                          </a:lnTo>
                          <a:lnTo>
                            <a:pt x="1128" y="8190"/>
                          </a:lnTo>
                          <a:lnTo>
                            <a:pt x="1198" y="8109"/>
                          </a:lnTo>
                          <a:lnTo>
                            <a:pt x="1267" y="8030"/>
                          </a:lnTo>
                          <a:lnTo>
                            <a:pt x="1337" y="7952"/>
                          </a:lnTo>
                          <a:lnTo>
                            <a:pt x="1407" y="7877"/>
                          </a:lnTo>
                          <a:lnTo>
                            <a:pt x="1478" y="7804"/>
                          </a:lnTo>
                          <a:lnTo>
                            <a:pt x="1549" y="7733"/>
                          </a:lnTo>
                          <a:lnTo>
                            <a:pt x="1621" y="7663"/>
                          </a:lnTo>
                          <a:lnTo>
                            <a:pt x="1694" y="7597"/>
                          </a:lnTo>
                          <a:lnTo>
                            <a:pt x="1768" y="7531"/>
                          </a:lnTo>
                          <a:lnTo>
                            <a:pt x="1842" y="7466"/>
                          </a:lnTo>
                          <a:lnTo>
                            <a:pt x="1918" y="7405"/>
                          </a:lnTo>
                          <a:lnTo>
                            <a:pt x="1996" y="7343"/>
                          </a:lnTo>
                          <a:lnTo>
                            <a:pt x="2074" y="7285"/>
                          </a:lnTo>
                          <a:lnTo>
                            <a:pt x="2153" y="7228"/>
                          </a:lnTo>
                          <a:lnTo>
                            <a:pt x="2234" y="7172"/>
                          </a:lnTo>
                          <a:lnTo>
                            <a:pt x="2267" y="7151"/>
                          </a:lnTo>
                          <a:lnTo>
                            <a:pt x="2299" y="7130"/>
                          </a:lnTo>
                          <a:lnTo>
                            <a:pt x="2331" y="7108"/>
                          </a:lnTo>
                          <a:lnTo>
                            <a:pt x="2362" y="7085"/>
                          </a:lnTo>
                          <a:lnTo>
                            <a:pt x="2425" y="7037"/>
                          </a:lnTo>
                          <a:lnTo>
                            <a:pt x="2487" y="6988"/>
                          </a:lnTo>
                          <a:lnTo>
                            <a:pt x="2549" y="6940"/>
                          </a:lnTo>
                          <a:lnTo>
                            <a:pt x="2612" y="6892"/>
                          </a:lnTo>
                          <a:lnTo>
                            <a:pt x="2644" y="6870"/>
                          </a:lnTo>
                          <a:lnTo>
                            <a:pt x="2677" y="6849"/>
                          </a:lnTo>
                          <a:lnTo>
                            <a:pt x="2711" y="6828"/>
                          </a:lnTo>
                          <a:lnTo>
                            <a:pt x="2745" y="6808"/>
                          </a:lnTo>
                          <a:lnTo>
                            <a:pt x="2762" y="6763"/>
                          </a:lnTo>
                          <a:lnTo>
                            <a:pt x="2779" y="6717"/>
                          </a:lnTo>
                          <a:lnTo>
                            <a:pt x="2795" y="6670"/>
                          </a:lnTo>
                          <a:lnTo>
                            <a:pt x="2811" y="6622"/>
                          </a:lnTo>
                          <a:lnTo>
                            <a:pt x="2841" y="6525"/>
                          </a:lnTo>
                          <a:lnTo>
                            <a:pt x="2871" y="6424"/>
                          </a:lnTo>
                          <a:lnTo>
                            <a:pt x="2899" y="6324"/>
                          </a:lnTo>
                          <a:lnTo>
                            <a:pt x="2928" y="6223"/>
                          </a:lnTo>
                          <a:lnTo>
                            <a:pt x="2956" y="6124"/>
                          </a:lnTo>
                          <a:lnTo>
                            <a:pt x="2986" y="6025"/>
                          </a:lnTo>
                          <a:lnTo>
                            <a:pt x="3001" y="5976"/>
                          </a:lnTo>
                          <a:lnTo>
                            <a:pt x="3017" y="5928"/>
                          </a:lnTo>
                          <a:lnTo>
                            <a:pt x="3033" y="5882"/>
                          </a:lnTo>
                          <a:lnTo>
                            <a:pt x="3049" y="5834"/>
                          </a:lnTo>
                          <a:lnTo>
                            <a:pt x="3066" y="5789"/>
                          </a:lnTo>
                          <a:lnTo>
                            <a:pt x="3084" y="5744"/>
                          </a:lnTo>
                          <a:lnTo>
                            <a:pt x="3102" y="5700"/>
                          </a:lnTo>
                          <a:lnTo>
                            <a:pt x="3121" y="5657"/>
                          </a:lnTo>
                          <a:lnTo>
                            <a:pt x="3140" y="5616"/>
                          </a:lnTo>
                          <a:lnTo>
                            <a:pt x="3161" y="5576"/>
                          </a:lnTo>
                          <a:lnTo>
                            <a:pt x="3182" y="5537"/>
                          </a:lnTo>
                          <a:lnTo>
                            <a:pt x="3205" y="5499"/>
                          </a:lnTo>
                          <a:lnTo>
                            <a:pt x="3228" y="5465"/>
                          </a:lnTo>
                          <a:lnTo>
                            <a:pt x="3253" y="5430"/>
                          </a:lnTo>
                          <a:lnTo>
                            <a:pt x="3278" y="5399"/>
                          </a:lnTo>
                          <a:lnTo>
                            <a:pt x="3305" y="5369"/>
                          </a:lnTo>
                          <a:lnTo>
                            <a:pt x="3323" y="5327"/>
                          </a:lnTo>
                          <a:lnTo>
                            <a:pt x="3340" y="5286"/>
                          </a:lnTo>
                          <a:lnTo>
                            <a:pt x="3357" y="5244"/>
                          </a:lnTo>
                          <a:lnTo>
                            <a:pt x="3374" y="5202"/>
                          </a:lnTo>
                          <a:lnTo>
                            <a:pt x="3406" y="5120"/>
                          </a:lnTo>
                          <a:lnTo>
                            <a:pt x="3436" y="5034"/>
                          </a:lnTo>
                          <a:lnTo>
                            <a:pt x="3466" y="4950"/>
                          </a:lnTo>
                          <a:lnTo>
                            <a:pt x="3494" y="4867"/>
                          </a:lnTo>
                          <a:lnTo>
                            <a:pt x="3523" y="4783"/>
                          </a:lnTo>
                          <a:lnTo>
                            <a:pt x="3551" y="4697"/>
                          </a:lnTo>
                          <a:lnTo>
                            <a:pt x="3580" y="4615"/>
                          </a:lnTo>
                          <a:lnTo>
                            <a:pt x="3609" y="4531"/>
                          </a:lnTo>
                          <a:lnTo>
                            <a:pt x="3640" y="4448"/>
                          </a:lnTo>
                          <a:lnTo>
                            <a:pt x="3672" y="4367"/>
                          </a:lnTo>
                          <a:lnTo>
                            <a:pt x="3689" y="4327"/>
                          </a:lnTo>
                          <a:lnTo>
                            <a:pt x="3706" y="4286"/>
                          </a:lnTo>
                          <a:lnTo>
                            <a:pt x="3723" y="4247"/>
                          </a:lnTo>
                          <a:lnTo>
                            <a:pt x="3742" y="4207"/>
                          </a:lnTo>
                          <a:lnTo>
                            <a:pt x="3760" y="4168"/>
                          </a:lnTo>
                          <a:lnTo>
                            <a:pt x="3780" y="4129"/>
                          </a:lnTo>
                          <a:lnTo>
                            <a:pt x="3800" y="4091"/>
                          </a:lnTo>
                          <a:lnTo>
                            <a:pt x="3821" y="4054"/>
                          </a:lnTo>
                          <a:lnTo>
                            <a:pt x="3840" y="3974"/>
                          </a:lnTo>
                          <a:lnTo>
                            <a:pt x="3858" y="3892"/>
                          </a:lnTo>
                          <a:lnTo>
                            <a:pt x="3867" y="3852"/>
                          </a:lnTo>
                          <a:lnTo>
                            <a:pt x="3877" y="3810"/>
                          </a:lnTo>
                          <a:lnTo>
                            <a:pt x="3887" y="3769"/>
                          </a:lnTo>
                          <a:lnTo>
                            <a:pt x="3899" y="3729"/>
                          </a:lnTo>
                          <a:lnTo>
                            <a:pt x="3912" y="3690"/>
                          </a:lnTo>
                          <a:lnTo>
                            <a:pt x="3926" y="3651"/>
                          </a:lnTo>
                          <a:lnTo>
                            <a:pt x="3934" y="3633"/>
                          </a:lnTo>
                          <a:lnTo>
                            <a:pt x="3942" y="3615"/>
                          </a:lnTo>
                          <a:lnTo>
                            <a:pt x="3951" y="3597"/>
                          </a:lnTo>
                          <a:lnTo>
                            <a:pt x="3960" y="3580"/>
                          </a:lnTo>
                          <a:lnTo>
                            <a:pt x="3970" y="3564"/>
                          </a:lnTo>
                          <a:lnTo>
                            <a:pt x="3980" y="3547"/>
                          </a:lnTo>
                          <a:lnTo>
                            <a:pt x="3991" y="3532"/>
                          </a:lnTo>
                          <a:lnTo>
                            <a:pt x="4002" y="3517"/>
                          </a:lnTo>
                          <a:lnTo>
                            <a:pt x="4014" y="3502"/>
                          </a:lnTo>
                          <a:lnTo>
                            <a:pt x="4027" y="3489"/>
                          </a:lnTo>
                          <a:lnTo>
                            <a:pt x="4041" y="3477"/>
                          </a:lnTo>
                          <a:lnTo>
                            <a:pt x="4055" y="3465"/>
                          </a:lnTo>
                          <a:lnTo>
                            <a:pt x="4091" y="3376"/>
                          </a:lnTo>
                          <a:lnTo>
                            <a:pt x="4128" y="3289"/>
                          </a:lnTo>
                          <a:lnTo>
                            <a:pt x="4166" y="3201"/>
                          </a:lnTo>
                          <a:lnTo>
                            <a:pt x="4205" y="3114"/>
                          </a:lnTo>
                          <a:lnTo>
                            <a:pt x="4244" y="3027"/>
                          </a:lnTo>
                          <a:lnTo>
                            <a:pt x="4284" y="2940"/>
                          </a:lnTo>
                          <a:lnTo>
                            <a:pt x="4324" y="2855"/>
                          </a:lnTo>
                          <a:lnTo>
                            <a:pt x="4364" y="2768"/>
                          </a:lnTo>
                          <a:lnTo>
                            <a:pt x="4405" y="2684"/>
                          </a:lnTo>
                          <a:lnTo>
                            <a:pt x="4446" y="2598"/>
                          </a:lnTo>
                          <a:lnTo>
                            <a:pt x="4486" y="2514"/>
                          </a:lnTo>
                          <a:lnTo>
                            <a:pt x="4527" y="2432"/>
                          </a:lnTo>
                          <a:lnTo>
                            <a:pt x="4568" y="2349"/>
                          </a:lnTo>
                          <a:lnTo>
                            <a:pt x="4608" y="2268"/>
                          </a:lnTo>
                          <a:lnTo>
                            <a:pt x="4647" y="2187"/>
                          </a:lnTo>
                          <a:lnTo>
                            <a:pt x="4687" y="2106"/>
                          </a:lnTo>
                          <a:lnTo>
                            <a:pt x="4689" y="2067"/>
                          </a:lnTo>
                          <a:lnTo>
                            <a:pt x="4693" y="2027"/>
                          </a:lnTo>
                          <a:lnTo>
                            <a:pt x="4698" y="1989"/>
                          </a:lnTo>
                          <a:lnTo>
                            <a:pt x="4705" y="1952"/>
                          </a:lnTo>
                          <a:lnTo>
                            <a:pt x="4714" y="1915"/>
                          </a:lnTo>
                          <a:lnTo>
                            <a:pt x="4724" y="1879"/>
                          </a:lnTo>
                          <a:lnTo>
                            <a:pt x="4736" y="1844"/>
                          </a:lnTo>
                          <a:lnTo>
                            <a:pt x="4749" y="1810"/>
                          </a:lnTo>
                          <a:lnTo>
                            <a:pt x="4763" y="1777"/>
                          </a:lnTo>
                          <a:lnTo>
                            <a:pt x="4779" y="1744"/>
                          </a:lnTo>
                          <a:lnTo>
                            <a:pt x="4795" y="1712"/>
                          </a:lnTo>
                          <a:lnTo>
                            <a:pt x="4813" y="1682"/>
                          </a:lnTo>
                          <a:lnTo>
                            <a:pt x="4831" y="1654"/>
                          </a:lnTo>
                          <a:lnTo>
                            <a:pt x="4851" y="1625"/>
                          </a:lnTo>
                          <a:lnTo>
                            <a:pt x="4871" y="1597"/>
                          </a:lnTo>
                          <a:lnTo>
                            <a:pt x="4892" y="1571"/>
                          </a:lnTo>
                          <a:lnTo>
                            <a:pt x="4903" y="1576"/>
                          </a:lnTo>
                          <a:lnTo>
                            <a:pt x="4914" y="1580"/>
                          </a:lnTo>
                          <a:lnTo>
                            <a:pt x="4924" y="1582"/>
                          </a:lnTo>
                          <a:lnTo>
                            <a:pt x="4933" y="1582"/>
                          </a:lnTo>
                          <a:lnTo>
                            <a:pt x="4941" y="1582"/>
                          </a:lnTo>
                          <a:lnTo>
                            <a:pt x="4949" y="1579"/>
                          </a:lnTo>
                          <a:lnTo>
                            <a:pt x="4956" y="1574"/>
                          </a:lnTo>
                          <a:lnTo>
                            <a:pt x="4962" y="1570"/>
                          </a:lnTo>
                          <a:lnTo>
                            <a:pt x="4967" y="1564"/>
                          </a:lnTo>
                          <a:lnTo>
                            <a:pt x="4972" y="1556"/>
                          </a:lnTo>
                          <a:lnTo>
                            <a:pt x="4977" y="1547"/>
                          </a:lnTo>
                          <a:lnTo>
                            <a:pt x="4981" y="1538"/>
                          </a:lnTo>
                          <a:lnTo>
                            <a:pt x="4988" y="1517"/>
                          </a:lnTo>
                          <a:lnTo>
                            <a:pt x="4994" y="1493"/>
                          </a:lnTo>
                          <a:lnTo>
                            <a:pt x="5004" y="1442"/>
                          </a:lnTo>
                          <a:lnTo>
                            <a:pt x="5013" y="1388"/>
                          </a:lnTo>
                          <a:lnTo>
                            <a:pt x="5019" y="1364"/>
                          </a:lnTo>
                          <a:lnTo>
                            <a:pt x="5026" y="1340"/>
                          </a:lnTo>
                          <a:lnTo>
                            <a:pt x="5030" y="1330"/>
                          </a:lnTo>
                          <a:lnTo>
                            <a:pt x="5034" y="1319"/>
                          </a:lnTo>
                          <a:lnTo>
                            <a:pt x="5039" y="1310"/>
                          </a:lnTo>
                          <a:lnTo>
                            <a:pt x="5044" y="1303"/>
                          </a:lnTo>
                          <a:lnTo>
                            <a:pt x="5070" y="1247"/>
                          </a:lnTo>
                          <a:lnTo>
                            <a:pt x="5095" y="1192"/>
                          </a:lnTo>
                          <a:lnTo>
                            <a:pt x="5119" y="1136"/>
                          </a:lnTo>
                          <a:lnTo>
                            <a:pt x="5142" y="1079"/>
                          </a:lnTo>
                          <a:lnTo>
                            <a:pt x="5166" y="1021"/>
                          </a:lnTo>
                          <a:lnTo>
                            <a:pt x="5189" y="962"/>
                          </a:lnTo>
                          <a:lnTo>
                            <a:pt x="5213" y="903"/>
                          </a:lnTo>
                          <a:lnTo>
                            <a:pt x="5238" y="840"/>
                          </a:lnTo>
                          <a:lnTo>
                            <a:pt x="5268" y="793"/>
                          </a:lnTo>
                          <a:lnTo>
                            <a:pt x="5300" y="747"/>
                          </a:lnTo>
                          <a:lnTo>
                            <a:pt x="5332" y="700"/>
                          </a:lnTo>
                          <a:lnTo>
                            <a:pt x="5366" y="654"/>
                          </a:lnTo>
                          <a:lnTo>
                            <a:pt x="5400" y="607"/>
                          </a:lnTo>
                          <a:lnTo>
                            <a:pt x="5436" y="562"/>
                          </a:lnTo>
                          <a:lnTo>
                            <a:pt x="5471" y="517"/>
                          </a:lnTo>
                          <a:lnTo>
                            <a:pt x="5508" y="472"/>
                          </a:lnTo>
                          <a:lnTo>
                            <a:pt x="5545" y="429"/>
                          </a:lnTo>
                          <a:lnTo>
                            <a:pt x="5582" y="387"/>
                          </a:lnTo>
                          <a:lnTo>
                            <a:pt x="5619" y="345"/>
                          </a:lnTo>
                          <a:lnTo>
                            <a:pt x="5657" y="304"/>
                          </a:lnTo>
                          <a:lnTo>
                            <a:pt x="5694" y="267"/>
                          </a:lnTo>
                          <a:lnTo>
                            <a:pt x="5732" y="229"/>
                          </a:lnTo>
                          <a:lnTo>
                            <a:pt x="5769" y="193"/>
                          </a:lnTo>
                          <a:lnTo>
                            <a:pt x="5806" y="160"/>
                          </a:lnTo>
                          <a:lnTo>
                            <a:pt x="5868" y="136"/>
                          </a:lnTo>
                          <a:lnTo>
                            <a:pt x="5931" y="114"/>
                          </a:lnTo>
                          <a:lnTo>
                            <a:pt x="5995" y="90"/>
                          </a:lnTo>
                          <a:lnTo>
                            <a:pt x="6059" y="69"/>
                          </a:lnTo>
                          <a:lnTo>
                            <a:pt x="6123" y="49"/>
                          </a:lnTo>
                          <a:lnTo>
                            <a:pt x="6188" y="31"/>
                          </a:lnTo>
                          <a:lnTo>
                            <a:pt x="6220" y="24"/>
                          </a:lnTo>
                          <a:lnTo>
                            <a:pt x="6253" y="18"/>
                          </a:lnTo>
                          <a:lnTo>
                            <a:pt x="6285" y="12"/>
                          </a:lnTo>
                          <a:lnTo>
                            <a:pt x="6317" y="7"/>
                          </a:lnTo>
                          <a:lnTo>
                            <a:pt x="6350" y="4"/>
                          </a:lnTo>
                          <a:lnTo>
                            <a:pt x="6382" y="1"/>
                          </a:lnTo>
                          <a:lnTo>
                            <a:pt x="6414" y="0"/>
                          </a:lnTo>
                          <a:lnTo>
                            <a:pt x="6447" y="0"/>
                          </a:lnTo>
                          <a:lnTo>
                            <a:pt x="6479" y="1"/>
                          </a:lnTo>
                          <a:lnTo>
                            <a:pt x="6511" y="4"/>
                          </a:lnTo>
                          <a:lnTo>
                            <a:pt x="6543" y="9"/>
                          </a:lnTo>
                          <a:lnTo>
                            <a:pt x="6575" y="15"/>
                          </a:lnTo>
                          <a:lnTo>
                            <a:pt x="6607" y="22"/>
                          </a:lnTo>
                          <a:lnTo>
                            <a:pt x="6639" y="33"/>
                          </a:lnTo>
                          <a:lnTo>
                            <a:pt x="6670" y="43"/>
                          </a:lnTo>
                          <a:lnTo>
                            <a:pt x="6702" y="57"/>
                          </a:lnTo>
                          <a:lnTo>
                            <a:pt x="6733" y="72"/>
                          </a:lnTo>
                          <a:lnTo>
                            <a:pt x="6764" y="90"/>
                          </a:lnTo>
                          <a:lnTo>
                            <a:pt x="6795" y="109"/>
                          </a:lnTo>
                          <a:lnTo>
                            <a:pt x="6826" y="130"/>
                          </a:lnTo>
                          <a:lnTo>
                            <a:pt x="6844" y="139"/>
                          </a:lnTo>
                          <a:lnTo>
                            <a:pt x="6863" y="150"/>
                          </a:lnTo>
                          <a:lnTo>
                            <a:pt x="6881" y="160"/>
                          </a:lnTo>
                          <a:lnTo>
                            <a:pt x="6900" y="172"/>
                          </a:lnTo>
                          <a:lnTo>
                            <a:pt x="6935" y="196"/>
                          </a:lnTo>
                          <a:lnTo>
                            <a:pt x="6971" y="223"/>
                          </a:lnTo>
                          <a:lnTo>
                            <a:pt x="7006" y="253"/>
                          </a:lnTo>
                          <a:lnTo>
                            <a:pt x="7040" y="283"/>
                          </a:lnTo>
                          <a:lnTo>
                            <a:pt x="7074" y="315"/>
                          </a:lnTo>
                          <a:lnTo>
                            <a:pt x="7109" y="348"/>
                          </a:lnTo>
                          <a:lnTo>
                            <a:pt x="7177" y="412"/>
                          </a:lnTo>
                          <a:lnTo>
                            <a:pt x="7247" y="478"/>
                          </a:lnTo>
                          <a:lnTo>
                            <a:pt x="7283" y="508"/>
                          </a:lnTo>
                          <a:lnTo>
                            <a:pt x="7319" y="538"/>
                          </a:lnTo>
                          <a:lnTo>
                            <a:pt x="7356" y="567"/>
                          </a:lnTo>
                          <a:lnTo>
                            <a:pt x="7394" y="594"/>
                          </a:lnTo>
                          <a:close/>
                          <a:moveTo>
                            <a:pt x="2159" y="8738"/>
                          </a:moveTo>
                          <a:lnTo>
                            <a:pt x="2133" y="8817"/>
                          </a:lnTo>
                          <a:lnTo>
                            <a:pt x="2108" y="8897"/>
                          </a:lnTo>
                          <a:lnTo>
                            <a:pt x="2084" y="8977"/>
                          </a:lnTo>
                          <a:lnTo>
                            <a:pt x="2060" y="9058"/>
                          </a:lnTo>
                          <a:lnTo>
                            <a:pt x="2037" y="9139"/>
                          </a:lnTo>
                          <a:lnTo>
                            <a:pt x="2014" y="9220"/>
                          </a:lnTo>
                          <a:lnTo>
                            <a:pt x="1991" y="9301"/>
                          </a:lnTo>
                          <a:lnTo>
                            <a:pt x="1969" y="9382"/>
                          </a:lnTo>
                          <a:lnTo>
                            <a:pt x="1945" y="9463"/>
                          </a:lnTo>
                          <a:lnTo>
                            <a:pt x="1921" y="9544"/>
                          </a:lnTo>
                          <a:lnTo>
                            <a:pt x="1898" y="9624"/>
                          </a:lnTo>
                          <a:lnTo>
                            <a:pt x="1873" y="9702"/>
                          </a:lnTo>
                          <a:lnTo>
                            <a:pt x="1848" y="9780"/>
                          </a:lnTo>
                          <a:lnTo>
                            <a:pt x="1822" y="9856"/>
                          </a:lnTo>
                          <a:lnTo>
                            <a:pt x="1795" y="9931"/>
                          </a:lnTo>
                          <a:lnTo>
                            <a:pt x="1766" y="10004"/>
                          </a:lnTo>
                          <a:lnTo>
                            <a:pt x="1743" y="9980"/>
                          </a:lnTo>
                          <a:lnTo>
                            <a:pt x="1721" y="9953"/>
                          </a:lnTo>
                          <a:lnTo>
                            <a:pt x="1700" y="9927"/>
                          </a:lnTo>
                          <a:lnTo>
                            <a:pt x="1681" y="9897"/>
                          </a:lnTo>
                          <a:lnTo>
                            <a:pt x="1663" y="9865"/>
                          </a:lnTo>
                          <a:lnTo>
                            <a:pt x="1646" y="9834"/>
                          </a:lnTo>
                          <a:lnTo>
                            <a:pt x="1630" y="9799"/>
                          </a:lnTo>
                          <a:lnTo>
                            <a:pt x="1616" y="9765"/>
                          </a:lnTo>
                          <a:lnTo>
                            <a:pt x="1603" y="9729"/>
                          </a:lnTo>
                          <a:lnTo>
                            <a:pt x="1590" y="9693"/>
                          </a:lnTo>
                          <a:lnTo>
                            <a:pt x="1579" y="9655"/>
                          </a:lnTo>
                          <a:lnTo>
                            <a:pt x="1569" y="9616"/>
                          </a:lnTo>
                          <a:lnTo>
                            <a:pt x="1560" y="9577"/>
                          </a:lnTo>
                          <a:lnTo>
                            <a:pt x="1551" y="9537"/>
                          </a:lnTo>
                          <a:lnTo>
                            <a:pt x="1544" y="9496"/>
                          </a:lnTo>
                          <a:lnTo>
                            <a:pt x="1537" y="9454"/>
                          </a:lnTo>
                          <a:lnTo>
                            <a:pt x="1532" y="9412"/>
                          </a:lnTo>
                          <a:lnTo>
                            <a:pt x="1526" y="9370"/>
                          </a:lnTo>
                          <a:lnTo>
                            <a:pt x="1522" y="9328"/>
                          </a:lnTo>
                          <a:lnTo>
                            <a:pt x="1518" y="9285"/>
                          </a:lnTo>
                          <a:lnTo>
                            <a:pt x="1515" y="9243"/>
                          </a:lnTo>
                          <a:lnTo>
                            <a:pt x="1513" y="9199"/>
                          </a:lnTo>
                          <a:lnTo>
                            <a:pt x="1511" y="9156"/>
                          </a:lnTo>
                          <a:lnTo>
                            <a:pt x="1510" y="9114"/>
                          </a:lnTo>
                          <a:lnTo>
                            <a:pt x="1508" y="9028"/>
                          </a:lnTo>
                          <a:lnTo>
                            <a:pt x="1508" y="8943"/>
                          </a:lnTo>
                          <a:lnTo>
                            <a:pt x="1510" y="8861"/>
                          </a:lnTo>
                          <a:lnTo>
                            <a:pt x="1512" y="8781"/>
                          </a:lnTo>
                          <a:lnTo>
                            <a:pt x="1575" y="8691"/>
                          </a:lnTo>
                          <a:lnTo>
                            <a:pt x="1636" y="8604"/>
                          </a:lnTo>
                          <a:lnTo>
                            <a:pt x="1698" y="8520"/>
                          </a:lnTo>
                          <a:lnTo>
                            <a:pt x="1759" y="8439"/>
                          </a:lnTo>
                          <a:lnTo>
                            <a:pt x="1820" y="8361"/>
                          </a:lnTo>
                          <a:lnTo>
                            <a:pt x="1881" y="8285"/>
                          </a:lnTo>
                          <a:lnTo>
                            <a:pt x="1943" y="8211"/>
                          </a:lnTo>
                          <a:lnTo>
                            <a:pt x="2005" y="8139"/>
                          </a:lnTo>
                          <a:lnTo>
                            <a:pt x="2068" y="8069"/>
                          </a:lnTo>
                          <a:lnTo>
                            <a:pt x="2131" y="8000"/>
                          </a:lnTo>
                          <a:lnTo>
                            <a:pt x="2195" y="7933"/>
                          </a:lnTo>
                          <a:lnTo>
                            <a:pt x="2260" y="7865"/>
                          </a:lnTo>
                          <a:lnTo>
                            <a:pt x="2326" y="7799"/>
                          </a:lnTo>
                          <a:lnTo>
                            <a:pt x="2394" y="7735"/>
                          </a:lnTo>
                          <a:lnTo>
                            <a:pt x="2463" y="7669"/>
                          </a:lnTo>
                          <a:lnTo>
                            <a:pt x="2534" y="7604"/>
                          </a:lnTo>
                          <a:lnTo>
                            <a:pt x="2529" y="7642"/>
                          </a:lnTo>
                          <a:lnTo>
                            <a:pt x="2522" y="7679"/>
                          </a:lnTo>
                          <a:lnTo>
                            <a:pt x="2515" y="7715"/>
                          </a:lnTo>
                          <a:lnTo>
                            <a:pt x="2506" y="7751"/>
                          </a:lnTo>
                          <a:lnTo>
                            <a:pt x="2497" y="7787"/>
                          </a:lnTo>
                          <a:lnTo>
                            <a:pt x="2487" y="7823"/>
                          </a:lnTo>
                          <a:lnTo>
                            <a:pt x="2477" y="7858"/>
                          </a:lnTo>
                          <a:lnTo>
                            <a:pt x="2466" y="7894"/>
                          </a:lnTo>
                          <a:lnTo>
                            <a:pt x="2442" y="7962"/>
                          </a:lnTo>
                          <a:lnTo>
                            <a:pt x="2416" y="8030"/>
                          </a:lnTo>
                          <a:lnTo>
                            <a:pt x="2389" y="8099"/>
                          </a:lnTo>
                          <a:lnTo>
                            <a:pt x="2361" y="8166"/>
                          </a:lnTo>
                          <a:lnTo>
                            <a:pt x="2333" y="8234"/>
                          </a:lnTo>
                          <a:lnTo>
                            <a:pt x="2304" y="8303"/>
                          </a:lnTo>
                          <a:lnTo>
                            <a:pt x="2276" y="8372"/>
                          </a:lnTo>
                          <a:lnTo>
                            <a:pt x="2249" y="8442"/>
                          </a:lnTo>
                          <a:lnTo>
                            <a:pt x="2236" y="8478"/>
                          </a:lnTo>
                          <a:lnTo>
                            <a:pt x="2224" y="8513"/>
                          </a:lnTo>
                          <a:lnTo>
                            <a:pt x="2211" y="8550"/>
                          </a:lnTo>
                          <a:lnTo>
                            <a:pt x="2200" y="8586"/>
                          </a:lnTo>
                          <a:lnTo>
                            <a:pt x="2189" y="8624"/>
                          </a:lnTo>
                          <a:lnTo>
                            <a:pt x="2178" y="8661"/>
                          </a:lnTo>
                          <a:lnTo>
                            <a:pt x="2168" y="8699"/>
                          </a:lnTo>
                          <a:lnTo>
                            <a:pt x="2159" y="8738"/>
                          </a:lnTo>
                          <a:close/>
                          <a:moveTo>
                            <a:pt x="5832" y="11234"/>
                          </a:moveTo>
                          <a:lnTo>
                            <a:pt x="5758" y="11241"/>
                          </a:lnTo>
                          <a:lnTo>
                            <a:pt x="5684" y="11250"/>
                          </a:lnTo>
                          <a:lnTo>
                            <a:pt x="5611" y="11261"/>
                          </a:lnTo>
                          <a:lnTo>
                            <a:pt x="5537" y="11273"/>
                          </a:lnTo>
                          <a:lnTo>
                            <a:pt x="5464" y="11286"/>
                          </a:lnTo>
                          <a:lnTo>
                            <a:pt x="5391" y="11300"/>
                          </a:lnTo>
                          <a:lnTo>
                            <a:pt x="5318" y="11313"/>
                          </a:lnTo>
                          <a:lnTo>
                            <a:pt x="5245" y="11328"/>
                          </a:lnTo>
                          <a:lnTo>
                            <a:pt x="5172" y="11342"/>
                          </a:lnTo>
                          <a:lnTo>
                            <a:pt x="5100" y="11355"/>
                          </a:lnTo>
                          <a:lnTo>
                            <a:pt x="5027" y="11367"/>
                          </a:lnTo>
                          <a:lnTo>
                            <a:pt x="4954" y="11379"/>
                          </a:lnTo>
                          <a:lnTo>
                            <a:pt x="4881" y="11388"/>
                          </a:lnTo>
                          <a:lnTo>
                            <a:pt x="4808" y="11397"/>
                          </a:lnTo>
                          <a:lnTo>
                            <a:pt x="4734" y="11403"/>
                          </a:lnTo>
                          <a:lnTo>
                            <a:pt x="4661" y="11406"/>
                          </a:lnTo>
                          <a:lnTo>
                            <a:pt x="4662" y="11397"/>
                          </a:lnTo>
                          <a:lnTo>
                            <a:pt x="4662" y="11391"/>
                          </a:lnTo>
                          <a:lnTo>
                            <a:pt x="4662" y="11384"/>
                          </a:lnTo>
                          <a:lnTo>
                            <a:pt x="4660" y="11379"/>
                          </a:lnTo>
                          <a:lnTo>
                            <a:pt x="4654" y="11369"/>
                          </a:lnTo>
                          <a:lnTo>
                            <a:pt x="4646" y="11361"/>
                          </a:lnTo>
                          <a:lnTo>
                            <a:pt x="4637" y="11354"/>
                          </a:lnTo>
                          <a:lnTo>
                            <a:pt x="4630" y="11345"/>
                          </a:lnTo>
                          <a:lnTo>
                            <a:pt x="4626" y="11340"/>
                          </a:lnTo>
                          <a:lnTo>
                            <a:pt x="4623" y="11334"/>
                          </a:lnTo>
                          <a:lnTo>
                            <a:pt x="4621" y="11327"/>
                          </a:lnTo>
                          <a:lnTo>
                            <a:pt x="4620" y="11319"/>
                          </a:lnTo>
                          <a:lnTo>
                            <a:pt x="4603" y="11319"/>
                          </a:lnTo>
                          <a:lnTo>
                            <a:pt x="4637" y="11180"/>
                          </a:lnTo>
                          <a:lnTo>
                            <a:pt x="4673" y="11039"/>
                          </a:lnTo>
                          <a:lnTo>
                            <a:pt x="4711" y="10900"/>
                          </a:lnTo>
                          <a:lnTo>
                            <a:pt x="4750" y="10760"/>
                          </a:lnTo>
                          <a:lnTo>
                            <a:pt x="4790" y="10621"/>
                          </a:lnTo>
                          <a:lnTo>
                            <a:pt x="4832" y="10481"/>
                          </a:lnTo>
                          <a:lnTo>
                            <a:pt x="4874" y="10343"/>
                          </a:lnTo>
                          <a:lnTo>
                            <a:pt x="4917" y="10204"/>
                          </a:lnTo>
                          <a:lnTo>
                            <a:pt x="4961" y="10066"/>
                          </a:lnTo>
                          <a:lnTo>
                            <a:pt x="5005" y="9930"/>
                          </a:lnTo>
                          <a:lnTo>
                            <a:pt x="5049" y="9793"/>
                          </a:lnTo>
                          <a:lnTo>
                            <a:pt x="5093" y="9657"/>
                          </a:lnTo>
                          <a:lnTo>
                            <a:pt x="5136" y="9520"/>
                          </a:lnTo>
                          <a:lnTo>
                            <a:pt x="5180" y="9385"/>
                          </a:lnTo>
                          <a:lnTo>
                            <a:pt x="5222" y="9252"/>
                          </a:lnTo>
                          <a:lnTo>
                            <a:pt x="5264" y="9118"/>
                          </a:lnTo>
                          <a:lnTo>
                            <a:pt x="5428" y="9058"/>
                          </a:lnTo>
                          <a:lnTo>
                            <a:pt x="5451" y="9118"/>
                          </a:lnTo>
                          <a:lnTo>
                            <a:pt x="5474" y="9180"/>
                          </a:lnTo>
                          <a:lnTo>
                            <a:pt x="5496" y="9241"/>
                          </a:lnTo>
                          <a:lnTo>
                            <a:pt x="5517" y="9304"/>
                          </a:lnTo>
                          <a:lnTo>
                            <a:pt x="5539" y="9367"/>
                          </a:lnTo>
                          <a:lnTo>
                            <a:pt x="5560" y="9432"/>
                          </a:lnTo>
                          <a:lnTo>
                            <a:pt x="5580" y="9496"/>
                          </a:lnTo>
                          <a:lnTo>
                            <a:pt x="5600" y="9561"/>
                          </a:lnTo>
                          <a:lnTo>
                            <a:pt x="5619" y="9627"/>
                          </a:lnTo>
                          <a:lnTo>
                            <a:pt x="5638" y="9694"/>
                          </a:lnTo>
                          <a:lnTo>
                            <a:pt x="5656" y="9760"/>
                          </a:lnTo>
                          <a:lnTo>
                            <a:pt x="5674" y="9828"/>
                          </a:lnTo>
                          <a:lnTo>
                            <a:pt x="5690" y="9895"/>
                          </a:lnTo>
                          <a:lnTo>
                            <a:pt x="5706" y="9964"/>
                          </a:lnTo>
                          <a:lnTo>
                            <a:pt x="5722" y="10033"/>
                          </a:lnTo>
                          <a:lnTo>
                            <a:pt x="5736" y="10102"/>
                          </a:lnTo>
                          <a:lnTo>
                            <a:pt x="5750" y="10171"/>
                          </a:lnTo>
                          <a:lnTo>
                            <a:pt x="5763" y="10241"/>
                          </a:lnTo>
                          <a:lnTo>
                            <a:pt x="5774" y="10310"/>
                          </a:lnTo>
                          <a:lnTo>
                            <a:pt x="5785" y="10381"/>
                          </a:lnTo>
                          <a:lnTo>
                            <a:pt x="5795" y="10451"/>
                          </a:lnTo>
                          <a:lnTo>
                            <a:pt x="5804" y="10522"/>
                          </a:lnTo>
                          <a:lnTo>
                            <a:pt x="5812" y="10594"/>
                          </a:lnTo>
                          <a:lnTo>
                            <a:pt x="5819" y="10664"/>
                          </a:lnTo>
                          <a:lnTo>
                            <a:pt x="5825" y="10735"/>
                          </a:lnTo>
                          <a:lnTo>
                            <a:pt x="5830" y="10807"/>
                          </a:lnTo>
                          <a:lnTo>
                            <a:pt x="5833" y="10877"/>
                          </a:lnTo>
                          <a:lnTo>
                            <a:pt x="5836" y="10949"/>
                          </a:lnTo>
                          <a:lnTo>
                            <a:pt x="5837" y="11019"/>
                          </a:lnTo>
                          <a:lnTo>
                            <a:pt x="5836" y="11091"/>
                          </a:lnTo>
                          <a:lnTo>
                            <a:pt x="5835" y="11162"/>
                          </a:lnTo>
                          <a:lnTo>
                            <a:pt x="5832" y="1123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1" name=""/>
                    <p:cNvSpPr/>
                    <p:nvPr/>
                  </p:nvSpPr>
                  <p:spPr>
                    <a:xfrm>
                      <a:off x="1554840" y="2086560"/>
                      <a:ext cx="104040" cy="33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9" h="2230">
                          <a:moveTo>
                            <a:pt x="562" y="2224"/>
                          </a:moveTo>
                          <a:lnTo>
                            <a:pt x="561" y="2230"/>
                          </a:lnTo>
                          <a:lnTo>
                            <a:pt x="571" y="2189"/>
                          </a:lnTo>
                          <a:lnTo>
                            <a:pt x="580" y="2147"/>
                          </a:lnTo>
                          <a:lnTo>
                            <a:pt x="588" y="2107"/>
                          </a:lnTo>
                          <a:lnTo>
                            <a:pt x="595" y="2065"/>
                          </a:lnTo>
                          <a:lnTo>
                            <a:pt x="602" y="2024"/>
                          </a:lnTo>
                          <a:lnTo>
                            <a:pt x="608" y="1984"/>
                          </a:lnTo>
                          <a:lnTo>
                            <a:pt x="613" y="1942"/>
                          </a:lnTo>
                          <a:lnTo>
                            <a:pt x="617" y="1901"/>
                          </a:lnTo>
                          <a:lnTo>
                            <a:pt x="621" y="1861"/>
                          </a:lnTo>
                          <a:lnTo>
                            <a:pt x="623" y="1820"/>
                          </a:lnTo>
                          <a:lnTo>
                            <a:pt x="626" y="1780"/>
                          </a:lnTo>
                          <a:lnTo>
                            <a:pt x="627" y="1739"/>
                          </a:lnTo>
                          <a:lnTo>
                            <a:pt x="628" y="1699"/>
                          </a:lnTo>
                          <a:lnTo>
                            <a:pt x="629" y="1660"/>
                          </a:lnTo>
                          <a:lnTo>
                            <a:pt x="628" y="1619"/>
                          </a:lnTo>
                          <a:lnTo>
                            <a:pt x="627" y="1580"/>
                          </a:lnTo>
                          <a:lnTo>
                            <a:pt x="625" y="1540"/>
                          </a:lnTo>
                          <a:lnTo>
                            <a:pt x="623" y="1501"/>
                          </a:lnTo>
                          <a:lnTo>
                            <a:pt x="620" y="1462"/>
                          </a:lnTo>
                          <a:lnTo>
                            <a:pt x="617" y="1423"/>
                          </a:lnTo>
                          <a:lnTo>
                            <a:pt x="613" y="1384"/>
                          </a:lnTo>
                          <a:lnTo>
                            <a:pt x="608" y="1345"/>
                          </a:lnTo>
                          <a:lnTo>
                            <a:pt x="603" y="1308"/>
                          </a:lnTo>
                          <a:lnTo>
                            <a:pt x="597" y="1270"/>
                          </a:lnTo>
                          <a:lnTo>
                            <a:pt x="591" y="1231"/>
                          </a:lnTo>
                          <a:lnTo>
                            <a:pt x="584" y="1194"/>
                          </a:lnTo>
                          <a:lnTo>
                            <a:pt x="577" y="1156"/>
                          </a:lnTo>
                          <a:lnTo>
                            <a:pt x="569" y="1119"/>
                          </a:lnTo>
                          <a:lnTo>
                            <a:pt x="552" y="1045"/>
                          </a:lnTo>
                          <a:lnTo>
                            <a:pt x="533" y="973"/>
                          </a:lnTo>
                          <a:lnTo>
                            <a:pt x="512" y="901"/>
                          </a:lnTo>
                          <a:lnTo>
                            <a:pt x="490" y="831"/>
                          </a:lnTo>
                          <a:lnTo>
                            <a:pt x="466" y="763"/>
                          </a:lnTo>
                          <a:lnTo>
                            <a:pt x="441" y="696"/>
                          </a:lnTo>
                          <a:lnTo>
                            <a:pt x="414" y="628"/>
                          </a:lnTo>
                          <a:lnTo>
                            <a:pt x="386" y="564"/>
                          </a:lnTo>
                          <a:lnTo>
                            <a:pt x="357" y="501"/>
                          </a:lnTo>
                          <a:lnTo>
                            <a:pt x="326" y="438"/>
                          </a:lnTo>
                          <a:lnTo>
                            <a:pt x="295" y="378"/>
                          </a:lnTo>
                          <a:lnTo>
                            <a:pt x="263" y="318"/>
                          </a:lnTo>
                          <a:lnTo>
                            <a:pt x="229" y="261"/>
                          </a:lnTo>
                          <a:lnTo>
                            <a:pt x="195" y="206"/>
                          </a:lnTo>
                          <a:lnTo>
                            <a:pt x="161" y="152"/>
                          </a:lnTo>
                          <a:lnTo>
                            <a:pt x="125" y="99"/>
                          </a:lnTo>
                          <a:lnTo>
                            <a:pt x="90" y="50"/>
                          </a:lnTo>
                          <a:lnTo>
                            <a:pt x="53" y="0"/>
                          </a:lnTo>
                          <a:lnTo>
                            <a:pt x="0" y="92"/>
                          </a:lnTo>
                          <a:lnTo>
                            <a:pt x="35" y="138"/>
                          </a:lnTo>
                          <a:lnTo>
                            <a:pt x="70" y="186"/>
                          </a:lnTo>
                          <a:lnTo>
                            <a:pt x="103" y="237"/>
                          </a:lnTo>
                          <a:lnTo>
                            <a:pt x="137" y="288"/>
                          </a:lnTo>
                          <a:lnTo>
                            <a:pt x="169" y="342"/>
                          </a:lnTo>
                          <a:lnTo>
                            <a:pt x="201" y="397"/>
                          </a:lnTo>
                          <a:lnTo>
                            <a:pt x="232" y="453"/>
                          </a:lnTo>
                          <a:lnTo>
                            <a:pt x="262" y="511"/>
                          </a:lnTo>
                          <a:lnTo>
                            <a:pt x="291" y="570"/>
                          </a:lnTo>
                          <a:lnTo>
                            <a:pt x="319" y="631"/>
                          </a:lnTo>
                          <a:lnTo>
                            <a:pt x="346" y="693"/>
                          </a:lnTo>
                          <a:lnTo>
                            <a:pt x="371" y="756"/>
                          </a:lnTo>
                          <a:lnTo>
                            <a:pt x="395" y="820"/>
                          </a:lnTo>
                          <a:lnTo>
                            <a:pt x="418" y="885"/>
                          </a:lnTo>
                          <a:lnTo>
                            <a:pt x="439" y="952"/>
                          </a:lnTo>
                          <a:lnTo>
                            <a:pt x="458" y="1020"/>
                          </a:lnTo>
                          <a:lnTo>
                            <a:pt x="476" y="1087"/>
                          </a:lnTo>
                          <a:lnTo>
                            <a:pt x="492" y="1158"/>
                          </a:lnTo>
                          <a:lnTo>
                            <a:pt x="499" y="1191"/>
                          </a:lnTo>
                          <a:lnTo>
                            <a:pt x="506" y="1227"/>
                          </a:lnTo>
                          <a:lnTo>
                            <a:pt x="513" y="1261"/>
                          </a:lnTo>
                          <a:lnTo>
                            <a:pt x="519" y="1297"/>
                          </a:lnTo>
                          <a:lnTo>
                            <a:pt x="524" y="1333"/>
                          </a:lnTo>
                          <a:lnTo>
                            <a:pt x="529" y="1369"/>
                          </a:lnTo>
                          <a:lnTo>
                            <a:pt x="533" y="1403"/>
                          </a:lnTo>
                          <a:lnTo>
                            <a:pt x="537" y="1441"/>
                          </a:lnTo>
                          <a:lnTo>
                            <a:pt x="540" y="1477"/>
                          </a:lnTo>
                          <a:lnTo>
                            <a:pt x="543" y="1513"/>
                          </a:lnTo>
                          <a:lnTo>
                            <a:pt x="545" y="1549"/>
                          </a:lnTo>
                          <a:lnTo>
                            <a:pt x="547" y="1586"/>
                          </a:lnTo>
                          <a:lnTo>
                            <a:pt x="548" y="1622"/>
                          </a:lnTo>
                          <a:lnTo>
                            <a:pt x="548" y="1660"/>
                          </a:lnTo>
                          <a:lnTo>
                            <a:pt x="548" y="1697"/>
                          </a:lnTo>
                          <a:lnTo>
                            <a:pt x="547" y="1735"/>
                          </a:lnTo>
                          <a:lnTo>
                            <a:pt x="545" y="1772"/>
                          </a:lnTo>
                          <a:lnTo>
                            <a:pt x="543" y="1810"/>
                          </a:lnTo>
                          <a:lnTo>
                            <a:pt x="541" y="1847"/>
                          </a:lnTo>
                          <a:lnTo>
                            <a:pt x="537" y="1885"/>
                          </a:lnTo>
                          <a:lnTo>
                            <a:pt x="533" y="1922"/>
                          </a:lnTo>
                          <a:lnTo>
                            <a:pt x="528" y="1960"/>
                          </a:lnTo>
                          <a:lnTo>
                            <a:pt x="523" y="1997"/>
                          </a:lnTo>
                          <a:lnTo>
                            <a:pt x="517" y="2035"/>
                          </a:lnTo>
                          <a:lnTo>
                            <a:pt x="510" y="2074"/>
                          </a:lnTo>
                          <a:lnTo>
                            <a:pt x="503" y="2111"/>
                          </a:lnTo>
                          <a:lnTo>
                            <a:pt x="494" y="2150"/>
                          </a:lnTo>
                          <a:lnTo>
                            <a:pt x="485" y="2188"/>
                          </a:lnTo>
                          <a:lnTo>
                            <a:pt x="484" y="2194"/>
                          </a:lnTo>
                          <a:lnTo>
                            <a:pt x="562" y="22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2" name=""/>
                    <p:cNvSpPr/>
                    <p:nvPr/>
                  </p:nvSpPr>
                  <p:spPr>
                    <a:xfrm>
                      <a:off x="1600920" y="2413800"/>
                      <a:ext cx="4680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" h="712">
                          <a:moveTo>
                            <a:pt x="63" y="712"/>
                          </a:moveTo>
                          <a:lnTo>
                            <a:pt x="77" y="680"/>
                          </a:lnTo>
                          <a:lnTo>
                            <a:pt x="86" y="641"/>
                          </a:lnTo>
                          <a:lnTo>
                            <a:pt x="96" y="604"/>
                          </a:lnTo>
                          <a:lnTo>
                            <a:pt x="107" y="566"/>
                          </a:lnTo>
                          <a:lnTo>
                            <a:pt x="120" y="529"/>
                          </a:lnTo>
                          <a:lnTo>
                            <a:pt x="148" y="452"/>
                          </a:lnTo>
                          <a:lnTo>
                            <a:pt x="178" y="376"/>
                          </a:lnTo>
                          <a:lnTo>
                            <a:pt x="193" y="337"/>
                          </a:lnTo>
                          <a:lnTo>
                            <a:pt x="209" y="298"/>
                          </a:lnTo>
                          <a:lnTo>
                            <a:pt x="224" y="257"/>
                          </a:lnTo>
                          <a:lnTo>
                            <a:pt x="238" y="214"/>
                          </a:lnTo>
                          <a:lnTo>
                            <a:pt x="252" y="171"/>
                          </a:lnTo>
                          <a:lnTo>
                            <a:pt x="264" y="126"/>
                          </a:lnTo>
                          <a:lnTo>
                            <a:pt x="275" y="79"/>
                          </a:lnTo>
                          <a:lnTo>
                            <a:pt x="285" y="30"/>
                          </a:lnTo>
                          <a:lnTo>
                            <a:pt x="207" y="0"/>
                          </a:lnTo>
                          <a:lnTo>
                            <a:pt x="199" y="42"/>
                          </a:lnTo>
                          <a:lnTo>
                            <a:pt x="189" y="82"/>
                          </a:lnTo>
                          <a:lnTo>
                            <a:pt x="178" y="123"/>
                          </a:lnTo>
                          <a:lnTo>
                            <a:pt x="166" y="162"/>
                          </a:lnTo>
                          <a:lnTo>
                            <a:pt x="152" y="200"/>
                          </a:lnTo>
                          <a:lnTo>
                            <a:pt x="138" y="238"/>
                          </a:lnTo>
                          <a:lnTo>
                            <a:pt x="124" y="277"/>
                          </a:lnTo>
                          <a:lnTo>
                            <a:pt x="109" y="314"/>
                          </a:lnTo>
                          <a:lnTo>
                            <a:pt x="78" y="392"/>
                          </a:lnTo>
                          <a:lnTo>
                            <a:pt x="49" y="472"/>
                          </a:lnTo>
                          <a:lnTo>
                            <a:pt x="35" y="514"/>
                          </a:lnTo>
                          <a:lnTo>
                            <a:pt x="22" y="556"/>
                          </a:lnTo>
                          <a:lnTo>
                            <a:pt x="10" y="601"/>
                          </a:lnTo>
                          <a:lnTo>
                            <a:pt x="0" y="646"/>
                          </a:lnTo>
                          <a:lnTo>
                            <a:pt x="14" y="616"/>
                          </a:lnTo>
                          <a:lnTo>
                            <a:pt x="63" y="712"/>
                          </a:lnTo>
                          <a:lnTo>
                            <a:pt x="73" y="700"/>
                          </a:lnTo>
                          <a:lnTo>
                            <a:pt x="77" y="680"/>
                          </a:lnTo>
                          <a:lnTo>
                            <a:pt x="63" y="71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3" name=""/>
                    <p:cNvSpPr/>
                    <p:nvPr/>
                  </p:nvSpPr>
                  <p:spPr>
                    <a:xfrm>
                      <a:off x="1547280" y="2505240"/>
                      <a:ext cx="6372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6" h="755">
                          <a:moveTo>
                            <a:pt x="81" y="712"/>
                          </a:moveTo>
                          <a:lnTo>
                            <a:pt x="70" y="755"/>
                          </a:lnTo>
                          <a:lnTo>
                            <a:pt x="82" y="737"/>
                          </a:lnTo>
                          <a:lnTo>
                            <a:pt x="93" y="718"/>
                          </a:lnTo>
                          <a:lnTo>
                            <a:pt x="104" y="697"/>
                          </a:lnTo>
                          <a:lnTo>
                            <a:pt x="115" y="676"/>
                          </a:lnTo>
                          <a:lnTo>
                            <a:pt x="135" y="634"/>
                          </a:lnTo>
                          <a:lnTo>
                            <a:pt x="154" y="589"/>
                          </a:lnTo>
                          <a:lnTo>
                            <a:pt x="190" y="499"/>
                          </a:lnTo>
                          <a:lnTo>
                            <a:pt x="224" y="408"/>
                          </a:lnTo>
                          <a:lnTo>
                            <a:pt x="242" y="363"/>
                          </a:lnTo>
                          <a:lnTo>
                            <a:pt x="259" y="318"/>
                          </a:lnTo>
                          <a:lnTo>
                            <a:pt x="278" y="276"/>
                          </a:lnTo>
                          <a:lnTo>
                            <a:pt x="297" y="234"/>
                          </a:lnTo>
                          <a:lnTo>
                            <a:pt x="307" y="216"/>
                          </a:lnTo>
                          <a:lnTo>
                            <a:pt x="317" y="196"/>
                          </a:lnTo>
                          <a:lnTo>
                            <a:pt x="328" y="178"/>
                          </a:lnTo>
                          <a:lnTo>
                            <a:pt x="339" y="160"/>
                          </a:lnTo>
                          <a:lnTo>
                            <a:pt x="350" y="142"/>
                          </a:lnTo>
                          <a:lnTo>
                            <a:pt x="362" y="126"/>
                          </a:lnTo>
                          <a:lnTo>
                            <a:pt x="373" y="111"/>
                          </a:lnTo>
                          <a:lnTo>
                            <a:pt x="386" y="96"/>
                          </a:lnTo>
                          <a:lnTo>
                            <a:pt x="337" y="0"/>
                          </a:lnTo>
                          <a:lnTo>
                            <a:pt x="322" y="18"/>
                          </a:lnTo>
                          <a:lnTo>
                            <a:pt x="307" y="37"/>
                          </a:lnTo>
                          <a:lnTo>
                            <a:pt x="293" y="57"/>
                          </a:lnTo>
                          <a:lnTo>
                            <a:pt x="280" y="78"/>
                          </a:lnTo>
                          <a:lnTo>
                            <a:pt x="267" y="97"/>
                          </a:lnTo>
                          <a:lnTo>
                            <a:pt x="255" y="120"/>
                          </a:lnTo>
                          <a:lnTo>
                            <a:pt x="244" y="141"/>
                          </a:lnTo>
                          <a:lnTo>
                            <a:pt x="232" y="163"/>
                          </a:lnTo>
                          <a:lnTo>
                            <a:pt x="211" y="208"/>
                          </a:lnTo>
                          <a:lnTo>
                            <a:pt x="191" y="255"/>
                          </a:lnTo>
                          <a:lnTo>
                            <a:pt x="172" y="301"/>
                          </a:lnTo>
                          <a:lnTo>
                            <a:pt x="154" y="348"/>
                          </a:lnTo>
                          <a:lnTo>
                            <a:pt x="120" y="439"/>
                          </a:lnTo>
                          <a:lnTo>
                            <a:pt x="86" y="526"/>
                          </a:lnTo>
                          <a:lnTo>
                            <a:pt x="68" y="565"/>
                          </a:lnTo>
                          <a:lnTo>
                            <a:pt x="50" y="604"/>
                          </a:lnTo>
                          <a:lnTo>
                            <a:pt x="41" y="622"/>
                          </a:lnTo>
                          <a:lnTo>
                            <a:pt x="32" y="638"/>
                          </a:lnTo>
                          <a:lnTo>
                            <a:pt x="22" y="656"/>
                          </a:lnTo>
                          <a:lnTo>
                            <a:pt x="12" y="671"/>
                          </a:lnTo>
                          <a:lnTo>
                            <a:pt x="1" y="715"/>
                          </a:lnTo>
                          <a:lnTo>
                            <a:pt x="12" y="671"/>
                          </a:lnTo>
                          <a:lnTo>
                            <a:pt x="0" y="689"/>
                          </a:lnTo>
                          <a:lnTo>
                            <a:pt x="1" y="715"/>
                          </a:lnTo>
                          <a:lnTo>
                            <a:pt x="81" y="71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4" name=""/>
                    <p:cNvSpPr/>
                    <p:nvPr/>
                  </p:nvSpPr>
                  <p:spPr>
                    <a:xfrm>
                      <a:off x="1513440" y="2611440"/>
                      <a:ext cx="47160" cy="6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6" h="438">
                          <a:moveTo>
                            <a:pt x="71" y="415"/>
                          </a:moveTo>
                          <a:lnTo>
                            <a:pt x="57" y="438"/>
                          </a:lnTo>
                          <a:lnTo>
                            <a:pt x="93" y="402"/>
                          </a:lnTo>
                          <a:lnTo>
                            <a:pt x="130" y="363"/>
                          </a:lnTo>
                          <a:lnTo>
                            <a:pt x="150" y="340"/>
                          </a:lnTo>
                          <a:lnTo>
                            <a:pt x="168" y="318"/>
                          </a:lnTo>
                          <a:lnTo>
                            <a:pt x="187" y="292"/>
                          </a:lnTo>
                          <a:lnTo>
                            <a:pt x="204" y="267"/>
                          </a:lnTo>
                          <a:lnTo>
                            <a:pt x="221" y="240"/>
                          </a:lnTo>
                          <a:lnTo>
                            <a:pt x="237" y="211"/>
                          </a:lnTo>
                          <a:lnTo>
                            <a:pt x="251" y="180"/>
                          </a:lnTo>
                          <a:lnTo>
                            <a:pt x="263" y="150"/>
                          </a:lnTo>
                          <a:lnTo>
                            <a:pt x="268" y="130"/>
                          </a:lnTo>
                          <a:lnTo>
                            <a:pt x="273" y="114"/>
                          </a:lnTo>
                          <a:lnTo>
                            <a:pt x="277" y="96"/>
                          </a:lnTo>
                          <a:lnTo>
                            <a:pt x="281" y="78"/>
                          </a:lnTo>
                          <a:lnTo>
                            <a:pt x="284" y="58"/>
                          </a:lnTo>
                          <a:lnTo>
                            <a:pt x="285" y="39"/>
                          </a:lnTo>
                          <a:lnTo>
                            <a:pt x="286" y="19"/>
                          </a:lnTo>
                          <a:lnTo>
                            <a:pt x="286" y="0"/>
                          </a:lnTo>
                          <a:lnTo>
                            <a:pt x="206" y="3"/>
                          </a:lnTo>
                          <a:lnTo>
                            <a:pt x="206" y="15"/>
                          </a:lnTo>
                          <a:lnTo>
                            <a:pt x="205" y="27"/>
                          </a:lnTo>
                          <a:lnTo>
                            <a:pt x="204" y="37"/>
                          </a:lnTo>
                          <a:lnTo>
                            <a:pt x="202" y="49"/>
                          </a:lnTo>
                          <a:lnTo>
                            <a:pt x="200" y="60"/>
                          </a:lnTo>
                          <a:lnTo>
                            <a:pt x="198" y="70"/>
                          </a:lnTo>
                          <a:lnTo>
                            <a:pt x="195" y="82"/>
                          </a:lnTo>
                          <a:lnTo>
                            <a:pt x="192" y="93"/>
                          </a:lnTo>
                          <a:lnTo>
                            <a:pt x="183" y="115"/>
                          </a:lnTo>
                          <a:lnTo>
                            <a:pt x="172" y="138"/>
                          </a:lnTo>
                          <a:lnTo>
                            <a:pt x="160" y="160"/>
                          </a:lnTo>
                          <a:lnTo>
                            <a:pt x="147" y="183"/>
                          </a:lnTo>
                          <a:lnTo>
                            <a:pt x="132" y="204"/>
                          </a:lnTo>
                          <a:lnTo>
                            <a:pt x="116" y="225"/>
                          </a:lnTo>
                          <a:lnTo>
                            <a:pt x="100" y="246"/>
                          </a:lnTo>
                          <a:lnTo>
                            <a:pt x="83" y="265"/>
                          </a:lnTo>
                          <a:lnTo>
                            <a:pt x="48" y="303"/>
                          </a:lnTo>
                          <a:lnTo>
                            <a:pt x="14" y="336"/>
                          </a:lnTo>
                          <a:lnTo>
                            <a:pt x="0" y="358"/>
                          </a:lnTo>
                          <a:lnTo>
                            <a:pt x="14" y="336"/>
                          </a:lnTo>
                          <a:lnTo>
                            <a:pt x="5" y="345"/>
                          </a:lnTo>
                          <a:lnTo>
                            <a:pt x="0" y="358"/>
                          </a:lnTo>
                          <a:lnTo>
                            <a:pt x="71" y="4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5" name=""/>
                    <p:cNvSpPr/>
                    <p:nvPr/>
                  </p:nvSpPr>
                  <p:spPr>
                    <a:xfrm>
                      <a:off x="1413360" y="2665080"/>
                      <a:ext cx="111600" cy="24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7" h="1630">
                          <a:moveTo>
                            <a:pt x="81" y="1579"/>
                          </a:moveTo>
                          <a:lnTo>
                            <a:pt x="80" y="1630"/>
                          </a:lnTo>
                          <a:lnTo>
                            <a:pt x="115" y="1528"/>
                          </a:lnTo>
                          <a:lnTo>
                            <a:pt x="151" y="1426"/>
                          </a:lnTo>
                          <a:lnTo>
                            <a:pt x="188" y="1326"/>
                          </a:lnTo>
                          <a:lnTo>
                            <a:pt x="225" y="1225"/>
                          </a:lnTo>
                          <a:lnTo>
                            <a:pt x="263" y="1125"/>
                          </a:lnTo>
                          <a:lnTo>
                            <a:pt x="301" y="1024"/>
                          </a:lnTo>
                          <a:lnTo>
                            <a:pt x="340" y="925"/>
                          </a:lnTo>
                          <a:lnTo>
                            <a:pt x="379" y="828"/>
                          </a:lnTo>
                          <a:lnTo>
                            <a:pt x="418" y="729"/>
                          </a:lnTo>
                          <a:lnTo>
                            <a:pt x="456" y="631"/>
                          </a:lnTo>
                          <a:lnTo>
                            <a:pt x="494" y="534"/>
                          </a:lnTo>
                          <a:lnTo>
                            <a:pt x="532" y="438"/>
                          </a:lnTo>
                          <a:lnTo>
                            <a:pt x="570" y="342"/>
                          </a:lnTo>
                          <a:lnTo>
                            <a:pt x="606" y="246"/>
                          </a:lnTo>
                          <a:lnTo>
                            <a:pt x="642" y="152"/>
                          </a:lnTo>
                          <a:lnTo>
                            <a:pt x="677" y="57"/>
                          </a:lnTo>
                          <a:lnTo>
                            <a:pt x="606" y="0"/>
                          </a:lnTo>
                          <a:lnTo>
                            <a:pt x="572" y="93"/>
                          </a:lnTo>
                          <a:lnTo>
                            <a:pt x="536" y="186"/>
                          </a:lnTo>
                          <a:lnTo>
                            <a:pt x="500" y="281"/>
                          </a:lnTo>
                          <a:lnTo>
                            <a:pt x="463" y="377"/>
                          </a:lnTo>
                          <a:lnTo>
                            <a:pt x="425" y="473"/>
                          </a:lnTo>
                          <a:lnTo>
                            <a:pt x="387" y="570"/>
                          </a:lnTo>
                          <a:lnTo>
                            <a:pt x="348" y="667"/>
                          </a:lnTo>
                          <a:lnTo>
                            <a:pt x="309" y="765"/>
                          </a:lnTo>
                          <a:lnTo>
                            <a:pt x="271" y="865"/>
                          </a:lnTo>
                          <a:lnTo>
                            <a:pt x="232" y="964"/>
                          </a:lnTo>
                          <a:lnTo>
                            <a:pt x="193" y="1065"/>
                          </a:lnTo>
                          <a:lnTo>
                            <a:pt x="155" y="1165"/>
                          </a:lnTo>
                          <a:lnTo>
                            <a:pt x="117" y="1267"/>
                          </a:lnTo>
                          <a:lnTo>
                            <a:pt x="80" y="1369"/>
                          </a:lnTo>
                          <a:lnTo>
                            <a:pt x="44" y="1473"/>
                          </a:lnTo>
                          <a:lnTo>
                            <a:pt x="8" y="1576"/>
                          </a:lnTo>
                          <a:lnTo>
                            <a:pt x="8" y="1627"/>
                          </a:lnTo>
                          <a:lnTo>
                            <a:pt x="8" y="1576"/>
                          </a:lnTo>
                          <a:lnTo>
                            <a:pt x="0" y="1601"/>
                          </a:lnTo>
                          <a:lnTo>
                            <a:pt x="8" y="1627"/>
                          </a:lnTo>
                          <a:lnTo>
                            <a:pt x="81" y="15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6" name=""/>
                    <p:cNvSpPr/>
                    <p:nvPr/>
                  </p:nvSpPr>
                  <p:spPr>
                    <a:xfrm>
                      <a:off x="1405440" y="2900160"/>
                      <a:ext cx="2376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3" h="400">
                          <a:moveTo>
                            <a:pt x="39" y="400"/>
                          </a:moveTo>
                          <a:lnTo>
                            <a:pt x="68" y="372"/>
                          </a:lnTo>
                          <a:lnTo>
                            <a:pt x="81" y="340"/>
                          </a:lnTo>
                          <a:lnTo>
                            <a:pt x="96" y="306"/>
                          </a:lnTo>
                          <a:lnTo>
                            <a:pt x="105" y="286"/>
                          </a:lnTo>
                          <a:lnTo>
                            <a:pt x="112" y="265"/>
                          </a:lnTo>
                          <a:lnTo>
                            <a:pt x="120" y="244"/>
                          </a:lnTo>
                          <a:lnTo>
                            <a:pt x="127" y="222"/>
                          </a:lnTo>
                          <a:lnTo>
                            <a:pt x="133" y="198"/>
                          </a:lnTo>
                          <a:lnTo>
                            <a:pt x="138" y="172"/>
                          </a:lnTo>
                          <a:lnTo>
                            <a:pt x="141" y="145"/>
                          </a:lnTo>
                          <a:lnTo>
                            <a:pt x="143" y="117"/>
                          </a:lnTo>
                          <a:lnTo>
                            <a:pt x="143" y="88"/>
                          </a:lnTo>
                          <a:lnTo>
                            <a:pt x="141" y="58"/>
                          </a:lnTo>
                          <a:lnTo>
                            <a:pt x="136" y="30"/>
                          </a:lnTo>
                          <a:lnTo>
                            <a:pt x="128" y="0"/>
                          </a:lnTo>
                          <a:lnTo>
                            <a:pt x="55" y="48"/>
                          </a:lnTo>
                          <a:lnTo>
                            <a:pt x="59" y="66"/>
                          </a:lnTo>
                          <a:lnTo>
                            <a:pt x="61" y="81"/>
                          </a:lnTo>
                          <a:lnTo>
                            <a:pt x="63" y="96"/>
                          </a:lnTo>
                          <a:lnTo>
                            <a:pt x="63" y="112"/>
                          </a:lnTo>
                          <a:lnTo>
                            <a:pt x="62" y="127"/>
                          </a:lnTo>
                          <a:lnTo>
                            <a:pt x="60" y="142"/>
                          </a:lnTo>
                          <a:lnTo>
                            <a:pt x="56" y="159"/>
                          </a:lnTo>
                          <a:lnTo>
                            <a:pt x="52" y="175"/>
                          </a:lnTo>
                          <a:lnTo>
                            <a:pt x="47" y="192"/>
                          </a:lnTo>
                          <a:lnTo>
                            <a:pt x="42" y="208"/>
                          </a:lnTo>
                          <a:lnTo>
                            <a:pt x="35" y="225"/>
                          </a:lnTo>
                          <a:lnTo>
                            <a:pt x="29" y="241"/>
                          </a:lnTo>
                          <a:lnTo>
                            <a:pt x="14" y="274"/>
                          </a:lnTo>
                          <a:lnTo>
                            <a:pt x="0" y="307"/>
                          </a:lnTo>
                          <a:lnTo>
                            <a:pt x="28" y="280"/>
                          </a:lnTo>
                          <a:lnTo>
                            <a:pt x="39" y="400"/>
                          </a:lnTo>
                          <a:lnTo>
                            <a:pt x="58" y="396"/>
                          </a:lnTo>
                          <a:lnTo>
                            <a:pt x="68" y="372"/>
                          </a:lnTo>
                          <a:lnTo>
                            <a:pt x="39" y="40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7" name=""/>
                    <p:cNvSpPr/>
                    <p:nvPr/>
                  </p:nvSpPr>
                  <p:spPr>
                    <a:xfrm>
                      <a:off x="1356840" y="2941560"/>
                      <a:ext cx="55440" cy="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5" h="581">
                          <a:moveTo>
                            <a:pt x="65" y="570"/>
                          </a:moveTo>
                          <a:lnTo>
                            <a:pt x="59" y="581"/>
                          </a:lnTo>
                          <a:lnTo>
                            <a:pt x="71" y="564"/>
                          </a:lnTo>
                          <a:lnTo>
                            <a:pt x="81" y="548"/>
                          </a:lnTo>
                          <a:lnTo>
                            <a:pt x="91" y="530"/>
                          </a:lnTo>
                          <a:lnTo>
                            <a:pt x="101" y="512"/>
                          </a:lnTo>
                          <a:lnTo>
                            <a:pt x="118" y="476"/>
                          </a:lnTo>
                          <a:lnTo>
                            <a:pt x="134" y="437"/>
                          </a:lnTo>
                          <a:lnTo>
                            <a:pt x="163" y="363"/>
                          </a:lnTo>
                          <a:lnTo>
                            <a:pt x="191" y="290"/>
                          </a:lnTo>
                          <a:lnTo>
                            <a:pt x="205" y="257"/>
                          </a:lnTo>
                          <a:lnTo>
                            <a:pt x="220" y="227"/>
                          </a:lnTo>
                          <a:lnTo>
                            <a:pt x="227" y="213"/>
                          </a:lnTo>
                          <a:lnTo>
                            <a:pt x="235" y="200"/>
                          </a:lnTo>
                          <a:lnTo>
                            <a:pt x="243" y="188"/>
                          </a:lnTo>
                          <a:lnTo>
                            <a:pt x="251" y="177"/>
                          </a:lnTo>
                          <a:lnTo>
                            <a:pt x="260" y="167"/>
                          </a:lnTo>
                          <a:lnTo>
                            <a:pt x="269" y="156"/>
                          </a:lnTo>
                          <a:lnTo>
                            <a:pt x="279" y="147"/>
                          </a:lnTo>
                          <a:lnTo>
                            <a:pt x="288" y="140"/>
                          </a:lnTo>
                          <a:lnTo>
                            <a:pt x="299" y="134"/>
                          </a:lnTo>
                          <a:lnTo>
                            <a:pt x="310" y="128"/>
                          </a:lnTo>
                          <a:lnTo>
                            <a:pt x="323" y="123"/>
                          </a:lnTo>
                          <a:lnTo>
                            <a:pt x="335" y="120"/>
                          </a:lnTo>
                          <a:lnTo>
                            <a:pt x="324" y="0"/>
                          </a:lnTo>
                          <a:lnTo>
                            <a:pt x="305" y="5"/>
                          </a:lnTo>
                          <a:lnTo>
                            <a:pt x="287" y="12"/>
                          </a:lnTo>
                          <a:lnTo>
                            <a:pt x="271" y="21"/>
                          </a:lnTo>
                          <a:lnTo>
                            <a:pt x="255" y="30"/>
                          </a:lnTo>
                          <a:lnTo>
                            <a:pt x="239" y="42"/>
                          </a:lnTo>
                          <a:lnTo>
                            <a:pt x="225" y="56"/>
                          </a:lnTo>
                          <a:lnTo>
                            <a:pt x="212" y="69"/>
                          </a:lnTo>
                          <a:lnTo>
                            <a:pt x="199" y="84"/>
                          </a:lnTo>
                          <a:lnTo>
                            <a:pt x="187" y="101"/>
                          </a:lnTo>
                          <a:lnTo>
                            <a:pt x="176" y="117"/>
                          </a:lnTo>
                          <a:lnTo>
                            <a:pt x="166" y="135"/>
                          </a:lnTo>
                          <a:lnTo>
                            <a:pt x="155" y="153"/>
                          </a:lnTo>
                          <a:lnTo>
                            <a:pt x="138" y="189"/>
                          </a:lnTo>
                          <a:lnTo>
                            <a:pt x="122" y="228"/>
                          </a:lnTo>
                          <a:lnTo>
                            <a:pt x="93" y="303"/>
                          </a:lnTo>
                          <a:lnTo>
                            <a:pt x="65" y="375"/>
                          </a:lnTo>
                          <a:lnTo>
                            <a:pt x="51" y="408"/>
                          </a:lnTo>
                          <a:lnTo>
                            <a:pt x="36" y="440"/>
                          </a:lnTo>
                          <a:lnTo>
                            <a:pt x="29" y="453"/>
                          </a:lnTo>
                          <a:lnTo>
                            <a:pt x="22" y="467"/>
                          </a:lnTo>
                          <a:lnTo>
                            <a:pt x="14" y="479"/>
                          </a:lnTo>
                          <a:lnTo>
                            <a:pt x="6" y="491"/>
                          </a:lnTo>
                          <a:lnTo>
                            <a:pt x="0" y="500"/>
                          </a:lnTo>
                          <a:lnTo>
                            <a:pt x="65" y="57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8" name=""/>
                    <p:cNvSpPr/>
                    <p:nvPr/>
                  </p:nvSpPr>
                  <p:spPr>
                    <a:xfrm>
                      <a:off x="1271160" y="3016440"/>
                      <a:ext cx="96120" cy="19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5" h="1278">
                          <a:moveTo>
                            <a:pt x="81" y="1247"/>
                          </a:moveTo>
                          <a:lnTo>
                            <a:pt x="77" y="1278"/>
                          </a:lnTo>
                          <a:lnTo>
                            <a:pt x="105" y="1196"/>
                          </a:lnTo>
                          <a:lnTo>
                            <a:pt x="134" y="1115"/>
                          </a:lnTo>
                          <a:lnTo>
                            <a:pt x="164" y="1036"/>
                          </a:lnTo>
                          <a:lnTo>
                            <a:pt x="194" y="958"/>
                          </a:lnTo>
                          <a:lnTo>
                            <a:pt x="224" y="881"/>
                          </a:lnTo>
                          <a:lnTo>
                            <a:pt x="255" y="805"/>
                          </a:lnTo>
                          <a:lnTo>
                            <a:pt x="286" y="730"/>
                          </a:lnTo>
                          <a:lnTo>
                            <a:pt x="317" y="655"/>
                          </a:lnTo>
                          <a:lnTo>
                            <a:pt x="350" y="581"/>
                          </a:lnTo>
                          <a:lnTo>
                            <a:pt x="382" y="506"/>
                          </a:lnTo>
                          <a:lnTo>
                            <a:pt x="415" y="434"/>
                          </a:lnTo>
                          <a:lnTo>
                            <a:pt x="448" y="361"/>
                          </a:lnTo>
                          <a:lnTo>
                            <a:pt x="482" y="289"/>
                          </a:lnTo>
                          <a:lnTo>
                            <a:pt x="516" y="215"/>
                          </a:lnTo>
                          <a:lnTo>
                            <a:pt x="550" y="144"/>
                          </a:lnTo>
                          <a:lnTo>
                            <a:pt x="585" y="70"/>
                          </a:lnTo>
                          <a:lnTo>
                            <a:pt x="520" y="0"/>
                          </a:lnTo>
                          <a:lnTo>
                            <a:pt x="485" y="73"/>
                          </a:lnTo>
                          <a:lnTo>
                            <a:pt x="450" y="147"/>
                          </a:lnTo>
                          <a:lnTo>
                            <a:pt x="416" y="220"/>
                          </a:lnTo>
                          <a:lnTo>
                            <a:pt x="382" y="293"/>
                          </a:lnTo>
                          <a:lnTo>
                            <a:pt x="348" y="367"/>
                          </a:lnTo>
                          <a:lnTo>
                            <a:pt x="314" y="440"/>
                          </a:lnTo>
                          <a:lnTo>
                            <a:pt x="282" y="515"/>
                          </a:lnTo>
                          <a:lnTo>
                            <a:pt x="249" y="590"/>
                          </a:lnTo>
                          <a:lnTo>
                            <a:pt x="217" y="665"/>
                          </a:lnTo>
                          <a:lnTo>
                            <a:pt x="186" y="742"/>
                          </a:lnTo>
                          <a:lnTo>
                            <a:pt x="155" y="820"/>
                          </a:lnTo>
                          <a:lnTo>
                            <a:pt x="124" y="898"/>
                          </a:lnTo>
                          <a:lnTo>
                            <a:pt x="93" y="977"/>
                          </a:lnTo>
                          <a:lnTo>
                            <a:pt x="64" y="1058"/>
                          </a:lnTo>
                          <a:lnTo>
                            <a:pt x="34" y="1141"/>
                          </a:lnTo>
                          <a:lnTo>
                            <a:pt x="5" y="1223"/>
                          </a:lnTo>
                          <a:lnTo>
                            <a:pt x="1" y="1254"/>
                          </a:lnTo>
                          <a:lnTo>
                            <a:pt x="5" y="1223"/>
                          </a:lnTo>
                          <a:lnTo>
                            <a:pt x="0" y="1238"/>
                          </a:lnTo>
                          <a:lnTo>
                            <a:pt x="1" y="1254"/>
                          </a:lnTo>
                          <a:lnTo>
                            <a:pt x="81" y="124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9" name=""/>
                    <p:cNvSpPr/>
                    <p:nvPr/>
                  </p:nvSpPr>
                  <p:spPr>
                    <a:xfrm>
                      <a:off x="1271160" y="3202200"/>
                      <a:ext cx="1476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9" h="264">
                          <a:moveTo>
                            <a:pt x="16" y="264"/>
                          </a:moveTo>
                          <a:lnTo>
                            <a:pt x="89" y="225"/>
                          </a:lnTo>
                          <a:lnTo>
                            <a:pt x="80" y="0"/>
                          </a:lnTo>
                          <a:lnTo>
                            <a:pt x="0" y="7"/>
                          </a:lnTo>
                          <a:lnTo>
                            <a:pt x="8" y="232"/>
                          </a:lnTo>
                          <a:lnTo>
                            <a:pt x="16" y="264"/>
                          </a:lnTo>
                          <a:lnTo>
                            <a:pt x="8" y="232"/>
                          </a:lnTo>
                          <a:lnTo>
                            <a:pt x="9" y="249"/>
                          </a:lnTo>
                          <a:lnTo>
                            <a:pt x="16" y="26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0" name=""/>
                    <p:cNvSpPr/>
                    <p:nvPr/>
                  </p:nvSpPr>
                  <p:spPr>
                    <a:xfrm>
                      <a:off x="1273680" y="3231360"/>
                      <a:ext cx="150480" cy="44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3" h="3013">
                          <a:moveTo>
                            <a:pt x="913" y="3004"/>
                          </a:moveTo>
                          <a:lnTo>
                            <a:pt x="913" y="2998"/>
                          </a:lnTo>
                          <a:lnTo>
                            <a:pt x="904" y="2892"/>
                          </a:lnTo>
                          <a:lnTo>
                            <a:pt x="893" y="2787"/>
                          </a:lnTo>
                          <a:lnTo>
                            <a:pt x="881" y="2684"/>
                          </a:lnTo>
                          <a:lnTo>
                            <a:pt x="867" y="2582"/>
                          </a:lnTo>
                          <a:lnTo>
                            <a:pt x="852" y="2480"/>
                          </a:lnTo>
                          <a:lnTo>
                            <a:pt x="836" y="2378"/>
                          </a:lnTo>
                          <a:lnTo>
                            <a:pt x="819" y="2279"/>
                          </a:lnTo>
                          <a:lnTo>
                            <a:pt x="801" y="2178"/>
                          </a:lnTo>
                          <a:lnTo>
                            <a:pt x="781" y="2081"/>
                          </a:lnTo>
                          <a:lnTo>
                            <a:pt x="761" y="1983"/>
                          </a:lnTo>
                          <a:lnTo>
                            <a:pt x="739" y="1886"/>
                          </a:lnTo>
                          <a:lnTo>
                            <a:pt x="716" y="1790"/>
                          </a:lnTo>
                          <a:lnTo>
                            <a:pt x="692" y="1696"/>
                          </a:lnTo>
                          <a:lnTo>
                            <a:pt x="667" y="1601"/>
                          </a:lnTo>
                          <a:lnTo>
                            <a:pt x="640" y="1507"/>
                          </a:lnTo>
                          <a:lnTo>
                            <a:pt x="613" y="1414"/>
                          </a:lnTo>
                          <a:lnTo>
                            <a:pt x="585" y="1322"/>
                          </a:lnTo>
                          <a:lnTo>
                            <a:pt x="556" y="1229"/>
                          </a:lnTo>
                          <a:lnTo>
                            <a:pt x="526" y="1139"/>
                          </a:lnTo>
                          <a:lnTo>
                            <a:pt x="496" y="1048"/>
                          </a:lnTo>
                          <a:lnTo>
                            <a:pt x="464" y="958"/>
                          </a:lnTo>
                          <a:lnTo>
                            <a:pt x="432" y="869"/>
                          </a:lnTo>
                          <a:lnTo>
                            <a:pt x="398" y="779"/>
                          </a:lnTo>
                          <a:lnTo>
                            <a:pt x="364" y="691"/>
                          </a:lnTo>
                          <a:lnTo>
                            <a:pt x="329" y="604"/>
                          </a:lnTo>
                          <a:lnTo>
                            <a:pt x="293" y="516"/>
                          </a:lnTo>
                          <a:lnTo>
                            <a:pt x="256" y="429"/>
                          </a:lnTo>
                          <a:lnTo>
                            <a:pt x="220" y="343"/>
                          </a:lnTo>
                          <a:lnTo>
                            <a:pt x="182" y="256"/>
                          </a:lnTo>
                          <a:lnTo>
                            <a:pt x="144" y="171"/>
                          </a:lnTo>
                          <a:lnTo>
                            <a:pt x="105" y="85"/>
                          </a:lnTo>
                          <a:lnTo>
                            <a:pt x="65" y="0"/>
                          </a:lnTo>
                          <a:lnTo>
                            <a:pt x="0" y="69"/>
                          </a:lnTo>
                          <a:lnTo>
                            <a:pt x="38" y="153"/>
                          </a:lnTo>
                          <a:lnTo>
                            <a:pt x="77" y="237"/>
                          </a:lnTo>
                          <a:lnTo>
                            <a:pt x="115" y="322"/>
                          </a:lnTo>
                          <a:lnTo>
                            <a:pt x="152" y="408"/>
                          </a:lnTo>
                          <a:lnTo>
                            <a:pt x="188" y="493"/>
                          </a:lnTo>
                          <a:lnTo>
                            <a:pt x="224" y="580"/>
                          </a:lnTo>
                          <a:lnTo>
                            <a:pt x="259" y="666"/>
                          </a:lnTo>
                          <a:lnTo>
                            <a:pt x="294" y="752"/>
                          </a:lnTo>
                          <a:lnTo>
                            <a:pt x="328" y="839"/>
                          </a:lnTo>
                          <a:lnTo>
                            <a:pt x="361" y="926"/>
                          </a:lnTo>
                          <a:lnTo>
                            <a:pt x="393" y="1015"/>
                          </a:lnTo>
                          <a:lnTo>
                            <a:pt x="424" y="1103"/>
                          </a:lnTo>
                          <a:lnTo>
                            <a:pt x="454" y="1193"/>
                          </a:lnTo>
                          <a:lnTo>
                            <a:pt x="484" y="1282"/>
                          </a:lnTo>
                          <a:lnTo>
                            <a:pt x="512" y="1372"/>
                          </a:lnTo>
                          <a:lnTo>
                            <a:pt x="540" y="1463"/>
                          </a:lnTo>
                          <a:lnTo>
                            <a:pt x="566" y="1555"/>
                          </a:lnTo>
                          <a:lnTo>
                            <a:pt x="592" y="1646"/>
                          </a:lnTo>
                          <a:lnTo>
                            <a:pt x="617" y="1739"/>
                          </a:lnTo>
                          <a:lnTo>
                            <a:pt x="640" y="1832"/>
                          </a:lnTo>
                          <a:lnTo>
                            <a:pt x="663" y="1926"/>
                          </a:lnTo>
                          <a:lnTo>
                            <a:pt x="684" y="2021"/>
                          </a:lnTo>
                          <a:lnTo>
                            <a:pt x="704" y="2117"/>
                          </a:lnTo>
                          <a:lnTo>
                            <a:pt x="723" y="2213"/>
                          </a:lnTo>
                          <a:lnTo>
                            <a:pt x="741" y="2309"/>
                          </a:lnTo>
                          <a:lnTo>
                            <a:pt x="758" y="2408"/>
                          </a:lnTo>
                          <a:lnTo>
                            <a:pt x="774" y="2505"/>
                          </a:lnTo>
                          <a:lnTo>
                            <a:pt x="788" y="2606"/>
                          </a:lnTo>
                          <a:lnTo>
                            <a:pt x="801" y="2706"/>
                          </a:lnTo>
                          <a:lnTo>
                            <a:pt x="813" y="2806"/>
                          </a:lnTo>
                          <a:lnTo>
                            <a:pt x="824" y="2910"/>
                          </a:lnTo>
                          <a:lnTo>
                            <a:pt x="833" y="3013"/>
                          </a:lnTo>
                          <a:lnTo>
                            <a:pt x="833" y="3006"/>
                          </a:lnTo>
                          <a:lnTo>
                            <a:pt x="913" y="3004"/>
                          </a:lnTo>
                          <a:lnTo>
                            <a:pt x="913" y="3001"/>
                          </a:lnTo>
                          <a:lnTo>
                            <a:pt x="913" y="2998"/>
                          </a:lnTo>
                          <a:lnTo>
                            <a:pt x="913" y="300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1" name=""/>
                    <p:cNvSpPr/>
                    <p:nvPr/>
                  </p:nvSpPr>
                  <p:spPr>
                    <a:xfrm>
                      <a:off x="1379880" y="3678840"/>
                      <a:ext cx="44640" cy="11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2" h="793">
                          <a:moveTo>
                            <a:pt x="31" y="793"/>
                          </a:moveTo>
                          <a:lnTo>
                            <a:pt x="35" y="790"/>
                          </a:lnTo>
                          <a:lnTo>
                            <a:pt x="55" y="775"/>
                          </a:lnTo>
                          <a:lnTo>
                            <a:pt x="74" y="759"/>
                          </a:lnTo>
                          <a:lnTo>
                            <a:pt x="91" y="741"/>
                          </a:lnTo>
                          <a:lnTo>
                            <a:pt x="108" y="721"/>
                          </a:lnTo>
                          <a:lnTo>
                            <a:pt x="123" y="701"/>
                          </a:lnTo>
                          <a:lnTo>
                            <a:pt x="138" y="680"/>
                          </a:lnTo>
                          <a:lnTo>
                            <a:pt x="152" y="659"/>
                          </a:lnTo>
                          <a:lnTo>
                            <a:pt x="164" y="635"/>
                          </a:lnTo>
                          <a:lnTo>
                            <a:pt x="176" y="611"/>
                          </a:lnTo>
                          <a:lnTo>
                            <a:pt x="187" y="587"/>
                          </a:lnTo>
                          <a:lnTo>
                            <a:pt x="197" y="561"/>
                          </a:lnTo>
                          <a:lnTo>
                            <a:pt x="207" y="536"/>
                          </a:lnTo>
                          <a:lnTo>
                            <a:pt x="215" y="510"/>
                          </a:lnTo>
                          <a:lnTo>
                            <a:pt x="223" y="485"/>
                          </a:lnTo>
                          <a:lnTo>
                            <a:pt x="230" y="458"/>
                          </a:lnTo>
                          <a:lnTo>
                            <a:pt x="236" y="431"/>
                          </a:lnTo>
                          <a:lnTo>
                            <a:pt x="242" y="402"/>
                          </a:lnTo>
                          <a:lnTo>
                            <a:pt x="247" y="375"/>
                          </a:lnTo>
                          <a:lnTo>
                            <a:pt x="251" y="348"/>
                          </a:lnTo>
                          <a:lnTo>
                            <a:pt x="255" y="320"/>
                          </a:lnTo>
                          <a:lnTo>
                            <a:pt x="262" y="264"/>
                          </a:lnTo>
                          <a:lnTo>
                            <a:pt x="266" y="210"/>
                          </a:lnTo>
                          <a:lnTo>
                            <a:pt x="269" y="155"/>
                          </a:lnTo>
                          <a:lnTo>
                            <a:pt x="271" y="102"/>
                          </a:lnTo>
                          <a:lnTo>
                            <a:pt x="272" y="50"/>
                          </a:lnTo>
                          <a:lnTo>
                            <a:pt x="271" y="0"/>
                          </a:lnTo>
                          <a:lnTo>
                            <a:pt x="191" y="2"/>
                          </a:lnTo>
                          <a:lnTo>
                            <a:pt x="191" y="50"/>
                          </a:lnTo>
                          <a:lnTo>
                            <a:pt x="190" y="98"/>
                          </a:lnTo>
                          <a:lnTo>
                            <a:pt x="189" y="147"/>
                          </a:lnTo>
                          <a:lnTo>
                            <a:pt x="186" y="198"/>
                          </a:lnTo>
                          <a:lnTo>
                            <a:pt x="182" y="248"/>
                          </a:lnTo>
                          <a:lnTo>
                            <a:pt x="176" y="297"/>
                          </a:lnTo>
                          <a:lnTo>
                            <a:pt x="173" y="321"/>
                          </a:lnTo>
                          <a:lnTo>
                            <a:pt x="169" y="345"/>
                          </a:lnTo>
                          <a:lnTo>
                            <a:pt x="164" y="369"/>
                          </a:lnTo>
                          <a:lnTo>
                            <a:pt x="160" y="392"/>
                          </a:lnTo>
                          <a:lnTo>
                            <a:pt x="154" y="416"/>
                          </a:lnTo>
                          <a:lnTo>
                            <a:pt x="148" y="438"/>
                          </a:lnTo>
                          <a:lnTo>
                            <a:pt x="142" y="459"/>
                          </a:lnTo>
                          <a:lnTo>
                            <a:pt x="135" y="482"/>
                          </a:lnTo>
                          <a:lnTo>
                            <a:pt x="127" y="501"/>
                          </a:lnTo>
                          <a:lnTo>
                            <a:pt x="119" y="522"/>
                          </a:lnTo>
                          <a:lnTo>
                            <a:pt x="111" y="542"/>
                          </a:lnTo>
                          <a:lnTo>
                            <a:pt x="101" y="560"/>
                          </a:lnTo>
                          <a:lnTo>
                            <a:pt x="91" y="578"/>
                          </a:lnTo>
                          <a:lnTo>
                            <a:pt x="81" y="596"/>
                          </a:lnTo>
                          <a:lnTo>
                            <a:pt x="69" y="612"/>
                          </a:lnTo>
                          <a:lnTo>
                            <a:pt x="57" y="627"/>
                          </a:lnTo>
                          <a:lnTo>
                            <a:pt x="44" y="642"/>
                          </a:lnTo>
                          <a:lnTo>
                            <a:pt x="30" y="657"/>
                          </a:lnTo>
                          <a:lnTo>
                            <a:pt x="15" y="671"/>
                          </a:lnTo>
                          <a:lnTo>
                            <a:pt x="0" y="683"/>
                          </a:lnTo>
                          <a:lnTo>
                            <a:pt x="4" y="680"/>
                          </a:lnTo>
                          <a:lnTo>
                            <a:pt x="31" y="793"/>
                          </a:lnTo>
                          <a:lnTo>
                            <a:pt x="33" y="792"/>
                          </a:lnTo>
                          <a:lnTo>
                            <a:pt x="35" y="790"/>
                          </a:lnTo>
                          <a:lnTo>
                            <a:pt x="31" y="79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2" name=""/>
                    <p:cNvSpPr/>
                    <p:nvPr/>
                  </p:nvSpPr>
                  <p:spPr>
                    <a:xfrm>
                      <a:off x="1104120" y="3780360"/>
                      <a:ext cx="280440" cy="5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99" h="346">
                          <a:moveTo>
                            <a:pt x="80" y="290"/>
                          </a:moveTo>
                          <a:lnTo>
                            <a:pt x="45" y="346"/>
                          </a:lnTo>
                          <a:lnTo>
                            <a:pt x="95" y="338"/>
                          </a:lnTo>
                          <a:lnTo>
                            <a:pt x="146" y="331"/>
                          </a:lnTo>
                          <a:lnTo>
                            <a:pt x="197" y="325"/>
                          </a:lnTo>
                          <a:lnTo>
                            <a:pt x="248" y="320"/>
                          </a:lnTo>
                          <a:lnTo>
                            <a:pt x="351" y="313"/>
                          </a:lnTo>
                          <a:lnTo>
                            <a:pt x="456" y="308"/>
                          </a:lnTo>
                          <a:lnTo>
                            <a:pt x="561" y="305"/>
                          </a:lnTo>
                          <a:lnTo>
                            <a:pt x="666" y="304"/>
                          </a:lnTo>
                          <a:lnTo>
                            <a:pt x="772" y="301"/>
                          </a:lnTo>
                          <a:lnTo>
                            <a:pt x="877" y="298"/>
                          </a:lnTo>
                          <a:lnTo>
                            <a:pt x="930" y="296"/>
                          </a:lnTo>
                          <a:lnTo>
                            <a:pt x="983" y="293"/>
                          </a:lnTo>
                          <a:lnTo>
                            <a:pt x="1035" y="289"/>
                          </a:lnTo>
                          <a:lnTo>
                            <a:pt x="1088" y="284"/>
                          </a:lnTo>
                          <a:lnTo>
                            <a:pt x="1140" y="278"/>
                          </a:lnTo>
                          <a:lnTo>
                            <a:pt x="1192" y="271"/>
                          </a:lnTo>
                          <a:lnTo>
                            <a:pt x="1244" y="263"/>
                          </a:lnTo>
                          <a:lnTo>
                            <a:pt x="1296" y="254"/>
                          </a:lnTo>
                          <a:lnTo>
                            <a:pt x="1348" y="242"/>
                          </a:lnTo>
                          <a:lnTo>
                            <a:pt x="1400" y="230"/>
                          </a:lnTo>
                          <a:lnTo>
                            <a:pt x="1451" y="215"/>
                          </a:lnTo>
                          <a:lnTo>
                            <a:pt x="1501" y="200"/>
                          </a:lnTo>
                          <a:lnTo>
                            <a:pt x="1551" y="181"/>
                          </a:lnTo>
                          <a:lnTo>
                            <a:pt x="1601" y="161"/>
                          </a:lnTo>
                          <a:lnTo>
                            <a:pt x="1650" y="139"/>
                          </a:lnTo>
                          <a:lnTo>
                            <a:pt x="1699" y="113"/>
                          </a:lnTo>
                          <a:lnTo>
                            <a:pt x="1672" y="0"/>
                          </a:lnTo>
                          <a:lnTo>
                            <a:pt x="1626" y="23"/>
                          </a:lnTo>
                          <a:lnTo>
                            <a:pt x="1579" y="44"/>
                          </a:lnTo>
                          <a:lnTo>
                            <a:pt x="1531" y="64"/>
                          </a:lnTo>
                          <a:lnTo>
                            <a:pt x="1483" y="82"/>
                          </a:lnTo>
                          <a:lnTo>
                            <a:pt x="1435" y="97"/>
                          </a:lnTo>
                          <a:lnTo>
                            <a:pt x="1386" y="112"/>
                          </a:lnTo>
                          <a:lnTo>
                            <a:pt x="1335" y="124"/>
                          </a:lnTo>
                          <a:lnTo>
                            <a:pt x="1286" y="134"/>
                          </a:lnTo>
                          <a:lnTo>
                            <a:pt x="1235" y="143"/>
                          </a:lnTo>
                          <a:lnTo>
                            <a:pt x="1185" y="151"/>
                          </a:lnTo>
                          <a:lnTo>
                            <a:pt x="1134" y="158"/>
                          </a:lnTo>
                          <a:lnTo>
                            <a:pt x="1083" y="163"/>
                          </a:lnTo>
                          <a:lnTo>
                            <a:pt x="1031" y="169"/>
                          </a:lnTo>
                          <a:lnTo>
                            <a:pt x="979" y="172"/>
                          </a:lnTo>
                          <a:lnTo>
                            <a:pt x="928" y="175"/>
                          </a:lnTo>
                          <a:lnTo>
                            <a:pt x="875" y="178"/>
                          </a:lnTo>
                          <a:lnTo>
                            <a:pt x="770" y="181"/>
                          </a:lnTo>
                          <a:lnTo>
                            <a:pt x="665" y="182"/>
                          </a:lnTo>
                          <a:lnTo>
                            <a:pt x="560" y="185"/>
                          </a:lnTo>
                          <a:lnTo>
                            <a:pt x="454" y="188"/>
                          </a:lnTo>
                          <a:lnTo>
                            <a:pt x="349" y="193"/>
                          </a:lnTo>
                          <a:lnTo>
                            <a:pt x="244" y="199"/>
                          </a:lnTo>
                          <a:lnTo>
                            <a:pt x="191" y="205"/>
                          </a:lnTo>
                          <a:lnTo>
                            <a:pt x="139" y="211"/>
                          </a:lnTo>
                          <a:lnTo>
                            <a:pt x="87" y="217"/>
                          </a:lnTo>
                          <a:lnTo>
                            <a:pt x="35" y="226"/>
                          </a:lnTo>
                          <a:lnTo>
                            <a:pt x="0" y="281"/>
                          </a:lnTo>
                          <a:lnTo>
                            <a:pt x="35" y="226"/>
                          </a:lnTo>
                          <a:lnTo>
                            <a:pt x="2" y="232"/>
                          </a:lnTo>
                          <a:lnTo>
                            <a:pt x="0" y="281"/>
                          </a:lnTo>
                          <a:lnTo>
                            <a:pt x="80" y="29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" bIns="4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3" name=""/>
                    <p:cNvSpPr/>
                    <p:nvPr/>
                  </p:nvSpPr>
                  <p:spPr>
                    <a:xfrm>
                      <a:off x="1082160" y="3821760"/>
                      <a:ext cx="3528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4" h="300">
                          <a:moveTo>
                            <a:pt x="73" y="201"/>
                          </a:moveTo>
                          <a:lnTo>
                            <a:pt x="87" y="276"/>
                          </a:lnTo>
                          <a:lnTo>
                            <a:pt x="91" y="264"/>
                          </a:lnTo>
                          <a:lnTo>
                            <a:pt x="95" y="254"/>
                          </a:lnTo>
                          <a:lnTo>
                            <a:pt x="101" y="245"/>
                          </a:lnTo>
                          <a:lnTo>
                            <a:pt x="107" y="234"/>
                          </a:lnTo>
                          <a:lnTo>
                            <a:pt x="126" y="212"/>
                          </a:lnTo>
                          <a:lnTo>
                            <a:pt x="146" y="188"/>
                          </a:lnTo>
                          <a:lnTo>
                            <a:pt x="157" y="174"/>
                          </a:lnTo>
                          <a:lnTo>
                            <a:pt x="168" y="158"/>
                          </a:lnTo>
                          <a:lnTo>
                            <a:pt x="179" y="140"/>
                          </a:lnTo>
                          <a:lnTo>
                            <a:pt x="190" y="119"/>
                          </a:lnTo>
                          <a:lnTo>
                            <a:pt x="199" y="96"/>
                          </a:lnTo>
                          <a:lnTo>
                            <a:pt x="206" y="71"/>
                          </a:lnTo>
                          <a:lnTo>
                            <a:pt x="209" y="54"/>
                          </a:lnTo>
                          <a:lnTo>
                            <a:pt x="212" y="41"/>
                          </a:lnTo>
                          <a:lnTo>
                            <a:pt x="213" y="24"/>
                          </a:lnTo>
                          <a:lnTo>
                            <a:pt x="214" y="9"/>
                          </a:lnTo>
                          <a:lnTo>
                            <a:pt x="134" y="0"/>
                          </a:lnTo>
                          <a:lnTo>
                            <a:pt x="133" y="9"/>
                          </a:lnTo>
                          <a:lnTo>
                            <a:pt x="132" y="17"/>
                          </a:lnTo>
                          <a:lnTo>
                            <a:pt x="131" y="24"/>
                          </a:lnTo>
                          <a:lnTo>
                            <a:pt x="131" y="29"/>
                          </a:lnTo>
                          <a:lnTo>
                            <a:pt x="127" y="42"/>
                          </a:lnTo>
                          <a:lnTo>
                            <a:pt x="123" y="53"/>
                          </a:lnTo>
                          <a:lnTo>
                            <a:pt x="118" y="63"/>
                          </a:lnTo>
                          <a:lnTo>
                            <a:pt x="111" y="72"/>
                          </a:lnTo>
                          <a:lnTo>
                            <a:pt x="104" y="83"/>
                          </a:lnTo>
                          <a:lnTo>
                            <a:pt x="95" y="93"/>
                          </a:lnTo>
                          <a:lnTo>
                            <a:pt x="75" y="119"/>
                          </a:lnTo>
                          <a:lnTo>
                            <a:pt x="54" y="144"/>
                          </a:lnTo>
                          <a:lnTo>
                            <a:pt x="42" y="162"/>
                          </a:lnTo>
                          <a:lnTo>
                            <a:pt x="31" y="182"/>
                          </a:lnTo>
                          <a:lnTo>
                            <a:pt x="22" y="203"/>
                          </a:lnTo>
                          <a:lnTo>
                            <a:pt x="13" y="227"/>
                          </a:lnTo>
                          <a:lnTo>
                            <a:pt x="27" y="300"/>
                          </a:lnTo>
                          <a:lnTo>
                            <a:pt x="13" y="227"/>
                          </a:lnTo>
                          <a:lnTo>
                            <a:pt x="0" y="272"/>
                          </a:lnTo>
                          <a:lnTo>
                            <a:pt x="27" y="300"/>
                          </a:lnTo>
                          <a:lnTo>
                            <a:pt x="73" y="20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"/>
                    <p:cNvSpPr/>
                    <p:nvPr/>
                  </p:nvSpPr>
                  <p:spPr>
                    <a:xfrm>
                      <a:off x="1086840" y="3851640"/>
                      <a:ext cx="5076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9" h="425">
                          <a:moveTo>
                            <a:pt x="303" y="282"/>
                          </a:moveTo>
                          <a:lnTo>
                            <a:pt x="273" y="287"/>
                          </a:lnTo>
                          <a:lnTo>
                            <a:pt x="262" y="294"/>
                          </a:lnTo>
                          <a:lnTo>
                            <a:pt x="253" y="299"/>
                          </a:lnTo>
                          <a:lnTo>
                            <a:pt x="244" y="302"/>
                          </a:lnTo>
                          <a:lnTo>
                            <a:pt x="237" y="303"/>
                          </a:lnTo>
                          <a:lnTo>
                            <a:pt x="230" y="303"/>
                          </a:lnTo>
                          <a:lnTo>
                            <a:pt x="224" y="303"/>
                          </a:lnTo>
                          <a:lnTo>
                            <a:pt x="218" y="302"/>
                          </a:lnTo>
                          <a:lnTo>
                            <a:pt x="213" y="299"/>
                          </a:lnTo>
                          <a:lnTo>
                            <a:pt x="207" y="296"/>
                          </a:lnTo>
                          <a:lnTo>
                            <a:pt x="202" y="290"/>
                          </a:lnTo>
                          <a:lnTo>
                            <a:pt x="196" y="284"/>
                          </a:lnTo>
                          <a:lnTo>
                            <a:pt x="190" y="276"/>
                          </a:lnTo>
                          <a:lnTo>
                            <a:pt x="184" y="269"/>
                          </a:lnTo>
                          <a:lnTo>
                            <a:pt x="178" y="258"/>
                          </a:lnTo>
                          <a:lnTo>
                            <a:pt x="172" y="248"/>
                          </a:lnTo>
                          <a:lnTo>
                            <a:pt x="166" y="237"/>
                          </a:lnTo>
                          <a:lnTo>
                            <a:pt x="140" y="179"/>
                          </a:lnTo>
                          <a:lnTo>
                            <a:pt x="114" y="117"/>
                          </a:lnTo>
                          <a:lnTo>
                            <a:pt x="100" y="86"/>
                          </a:lnTo>
                          <a:lnTo>
                            <a:pt x="85" y="56"/>
                          </a:lnTo>
                          <a:lnTo>
                            <a:pt x="76" y="41"/>
                          </a:lnTo>
                          <a:lnTo>
                            <a:pt x="67" y="26"/>
                          </a:lnTo>
                          <a:lnTo>
                            <a:pt x="57" y="14"/>
                          </a:lnTo>
                          <a:lnTo>
                            <a:pt x="46" y="0"/>
                          </a:lnTo>
                          <a:lnTo>
                            <a:pt x="0" y="99"/>
                          </a:lnTo>
                          <a:lnTo>
                            <a:pt x="5" y="105"/>
                          </a:lnTo>
                          <a:lnTo>
                            <a:pt x="11" y="113"/>
                          </a:lnTo>
                          <a:lnTo>
                            <a:pt x="16" y="122"/>
                          </a:lnTo>
                          <a:lnTo>
                            <a:pt x="22" y="131"/>
                          </a:lnTo>
                          <a:lnTo>
                            <a:pt x="34" y="156"/>
                          </a:lnTo>
                          <a:lnTo>
                            <a:pt x="47" y="183"/>
                          </a:lnTo>
                          <a:lnTo>
                            <a:pt x="73" y="245"/>
                          </a:lnTo>
                          <a:lnTo>
                            <a:pt x="100" y="306"/>
                          </a:lnTo>
                          <a:lnTo>
                            <a:pt x="109" y="323"/>
                          </a:lnTo>
                          <a:lnTo>
                            <a:pt x="118" y="339"/>
                          </a:lnTo>
                          <a:lnTo>
                            <a:pt x="127" y="353"/>
                          </a:lnTo>
                          <a:lnTo>
                            <a:pt x="136" y="368"/>
                          </a:lnTo>
                          <a:lnTo>
                            <a:pt x="147" y="380"/>
                          </a:lnTo>
                          <a:lnTo>
                            <a:pt x="158" y="392"/>
                          </a:lnTo>
                          <a:lnTo>
                            <a:pt x="171" y="402"/>
                          </a:lnTo>
                          <a:lnTo>
                            <a:pt x="184" y="411"/>
                          </a:lnTo>
                          <a:lnTo>
                            <a:pt x="198" y="419"/>
                          </a:lnTo>
                          <a:lnTo>
                            <a:pt x="213" y="423"/>
                          </a:lnTo>
                          <a:lnTo>
                            <a:pt x="228" y="425"/>
                          </a:lnTo>
                          <a:lnTo>
                            <a:pt x="244" y="425"/>
                          </a:lnTo>
                          <a:lnTo>
                            <a:pt x="260" y="420"/>
                          </a:lnTo>
                          <a:lnTo>
                            <a:pt x="276" y="414"/>
                          </a:lnTo>
                          <a:lnTo>
                            <a:pt x="293" y="405"/>
                          </a:lnTo>
                          <a:lnTo>
                            <a:pt x="309" y="395"/>
                          </a:lnTo>
                          <a:lnTo>
                            <a:pt x="279" y="398"/>
                          </a:lnTo>
                          <a:lnTo>
                            <a:pt x="303" y="282"/>
                          </a:lnTo>
                          <a:lnTo>
                            <a:pt x="288" y="275"/>
                          </a:lnTo>
                          <a:lnTo>
                            <a:pt x="273" y="287"/>
                          </a:lnTo>
                          <a:lnTo>
                            <a:pt x="303" y="28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"/>
                    <p:cNvSpPr/>
                    <p:nvPr/>
                  </p:nvSpPr>
                  <p:spPr>
                    <a:xfrm>
                      <a:off x="1132560" y="3893760"/>
                      <a:ext cx="5436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0" h="457">
                          <a:moveTo>
                            <a:pt x="325" y="457"/>
                          </a:moveTo>
                          <a:lnTo>
                            <a:pt x="330" y="427"/>
                          </a:lnTo>
                          <a:lnTo>
                            <a:pt x="328" y="403"/>
                          </a:lnTo>
                          <a:lnTo>
                            <a:pt x="327" y="379"/>
                          </a:lnTo>
                          <a:lnTo>
                            <a:pt x="324" y="355"/>
                          </a:lnTo>
                          <a:lnTo>
                            <a:pt x="320" y="333"/>
                          </a:lnTo>
                          <a:lnTo>
                            <a:pt x="315" y="312"/>
                          </a:lnTo>
                          <a:lnTo>
                            <a:pt x="309" y="291"/>
                          </a:lnTo>
                          <a:lnTo>
                            <a:pt x="303" y="270"/>
                          </a:lnTo>
                          <a:lnTo>
                            <a:pt x="296" y="252"/>
                          </a:lnTo>
                          <a:lnTo>
                            <a:pt x="288" y="233"/>
                          </a:lnTo>
                          <a:lnTo>
                            <a:pt x="280" y="216"/>
                          </a:lnTo>
                          <a:lnTo>
                            <a:pt x="271" y="200"/>
                          </a:lnTo>
                          <a:lnTo>
                            <a:pt x="262" y="185"/>
                          </a:lnTo>
                          <a:lnTo>
                            <a:pt x="252" y="170"/>
                          </a:lnTo>
                          <a:lnTo>
                            <a:pt x="241" y="156"/>
                          </a:lnTo>
                          <a:lnTo>
                            <a:pt x="231" y="143"/>
                          </a:lnTo>
                          <a:lnTo>
                            <a:pt x="219" y="129"/>
                          </a:lnTo>
                          <a:lnTo>
                            <a:pt x="197" y="108"/>
                          </a:lnTo>
                          <a:lnTo>
                            <a:pt x="173" y="87"/>
                          </a:lnTo>
                          <a:lnTo>
                            <a:pt x="149" y="69"/>
                          </a:lnTo>
                          <a:lnTo>
                            <a:pt x="124" y="53"/>
                          </a:lnTo>
                          <a:lnTo>
                            <a:pt x="99" y="39"/>
                          </a:lnTo>
                          <a:lnTo>
                            <a:pt x="74" y="26"/>
                          </a:lnTo>
                          <a:lnTo>
                            <a:pt x="49" y="12"/>
                          </a:lnTo>
                          <a:lnTo>
                            <a:pt x="24" y="0"/>
                          </a:lnTo>
                          <a:lnTo>
                            <a:pt x="0" y="116"/>
                          </a:lnTo>
                          <a:lnTo>
                            <a:pt x="24" y="128"/>
                          </a:lnTo>
                          <a:lnTo>
                            <a:pt x="47" y="140"/>
                          </a:lnTo>
                          <a:lnTo>
                            <a:pt x="70" y="152"/>
                          </a:lnTo>
                          <a:lnTo>
                            <a:pt x="93" y="165"/>
                          </a:lnTo>
                          <a:lnTo>
                            <a:pt x="115" y="179"/>
                          </a:lnTo>
                          <a:lnTo>
                            <a:pt x="135" y="195"/>
                          </a:lnTo>
                          <a:lnTo>
                            <a:pt x="155" y="210"/>
                          </a:lnTo>
                          <a:lnTo>
                            <a:pt x="174" y="230"/>
                          </a:lnTo>
                          <a:lnTo>
                            <a:pt x="181" y="239"/>
                          </a:lnTo>
                          <a:lnTo>
                            <a:pt x="189" y="248"/>
                          </a:lnTo>
                          <a:lnTo>
                            <a:pt x="196" y="258"/>
                          </a:lnTo>
                          <a:lnTo>
                            <a:pt x="204" y="267"/>
                          </a:lnTo>
                          <a:lnTo>
                            <a:pt x="210" y="279"/>
                          </a:lnTo>
                          <a:lnTo>
                            <a:pt x="216" y="289"/>
                          </a:lnTo>
                          <a:lnTo>
                            <a:pt x="222" y="301"/>
                          </a:lnTo>
                          <a:lnTo>
                            <a:pt x="227" y="313"/>
                          </a:lnTo>
                          <a:lnTo>
                            <a:pt x="231" y="325"/>
                          </a:lnTo>
                          <a:lnTo>
                            <a:pt x="236" y="337"/>
                          </a:lnTo>
                          <a:lnTo>
                            <a:pt x="239" y="352"/>
                          </a:lnTo>
                          <a:lnTo>
                            <a:pt x="242" y="366"/>
                          </a:lnTo>
                          <a:lnTo>
                            <a:pt x="245" y="381"/>
                          </a:lnTo>
                          <a:lnTo>
                            <a:pt x="247" y="397"/>
                          </a:lnTo>
                          <a:lnTo>
                            <a:pt x="248" y="414"/>
                          </a:lnTo>
                          <a:lnTo>
                            <a:pt x="249" y="432"/>
                          </a:lnTo>
                          <a:lnTo>
                            <a:pt x="253" y="403"/>
                          </a:lnTo>
                          <a:lnTo>
                            <a:pt x="325" y="457"/>
                          </a:lnTo>
                          <a:lnTo>
                            <a:pt x="330" y="444"/>
                          </a:lnTo>
                          <a:lnTo>
                            <a:pt x="330" y="427"/>
                          </a:lnTo>
                          <a:lnTo>
                            <a:pt x="325" y="45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"/>
                    <p:cNvSpPr/>
                    <p:nvPr/>
                  </p:nvSpPr>
                  <p:spPr>
                    <a:xfrm>
                      <a:off x="1171080" y="3954240"/>
                      <a:ext cx="3744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7" h="492">
                          <a:moveTo>
                            <a:pt x="226" y="462"/>
                          </a:moveTo>
                          <a:lnTo>
                            <a:pt x="227" y="468"/>
                          </a:lnTo>
                          <a:lnTo>
                            <a:pt x="224" y="446"/>
                          </a:lnTo>
                          <a:lnTo>
                            <a:pt x="220" y="425"/>
                          </a:lnTo>
                          <a:lnTo>
                            <a:pt x="216" y="404"/>
                          </a:lnTo>
                          <a:lnTo>
                            <a:pt x="210" y="386"/>
                          </a:lnTo>
                          <a:lnTo>
                            <a:pt x="203" y="368"/>
                          </a:lnTo>
                          <a:lnTo>
                            <a:pt x="196" y="350"/>
                          </a:lnTo>
                          <a:lnTo>
                            <a:pt x="189" y="333"/>
                          </a:lnTo>
                          <a:lnTo>
                            <a:pt x="180" y="317"/>
                          </a:lnTo>
                          <a:lnTo>
                            <a:pt x="148" y="266"/>
                          </a:lnTo>
                          <a:lnTo>
                            <a:pt x="118" y="219"/>
                          </a:lnTo>
                          <a:lnTo>
                            <a:pt x="105" y="200"/>
                          </a:lnTo>
                          <a:lnTo>
                            <a:pt x="95" y="179"/>
                          </a:lnTo>
                          <a:lnTo>
                            <a:pt x="91" y="171"/>
                          </a:lnTo>
                          <a:lnTo>
                            <a:pt x="88" y="162"/>
                          </a:lnTo>
                          <a:lnTo>
                            <a:pt x="85" y="153"/>
                          </a:lnTo>
                          <a:lnTo>
                            <a:pt x="83" y="144"/>
                          </a:lnTo>
                          <a:lnTo>
                            <a:pt x="82" y="137"/>
                          </a:lnTo>
                          <a:lnTo>
                            <a:pt x="81" y="128"/>
                          </a:lnTo>
                          <a:lnTo>
                            <a:pt x="81" y="119"/>
                          </a:lnTo>
                          <a:lnTo>
                            <a:pt x="82" y="108"/>
                          </a:lnTo>
                          <a:lnTo>
                            <a:pt x="83" y="96"/>
                          </a:lnTo>
                          <a:lnTo>
                            <a:pt x="85" y="84"/>
                          </a:lnTo>
                          <a:lnTo>
                            <a:pt x="88" y="69"/>
                          </a:lnTo>
                          <a:lnTo>
                            <a:pt x="93" y="54"/>
                          </a:lnTo>
                          <a:lnTo>
                            <a:pt x="21" y="0"/>
                          </a:lnTo>
                          <a:lnTo>
                            <a:pt x="14" y="24"/>
                          </a:lnTo>
                          <a:lnTo>
                            <a:pt x="8" y="47"/>
                          </a:lnTo>
                          <a:lnTo>
                            <a:pt x="4" y="71"/>
                          </a:lnTo>
                          <a:lnTo>
                            <a:pt x="1" y="93"/>
                          </a:lnTo>
                          <a:lnTo>
                            <a:pt x="0" y="116"/>
                          </a:lnTo>
                          <a:lnTo>
                            <a:pt x="1" y="138"/>
                          </a:lnTo>
                          <a:lnTo>
                            <a:pt x="3" y="159"/>
                          </a:lnTo>
                          <a:lnTo>
                            <a:pt x="6" y="179"/>
                          </a:lnTo>
                          <a:lnTo>
                            <a:pt x="11" y="198"/>
                          </a:lnTo>
                          <a:lnTo>
                            <a:pt x="16" y="216"/>
                          </a:lnTo>
                          <a:lnTo>
                            <a:pt x="22" y="233"/>
                          </a:lnTo>
                          <a:lnTo>
                            <a:pt x="30" y="251"/>
                          </a:lnTo>
                          <a:lnTo>
                            <a:pt x="44" y="278"/>
                          </a:lnTo>
                          <a:lnTo>
                            <a:pt x="60" y="303"/>
                          </a:lnTo>
                          <a:lnTo>
                            <a:pt x="90" y="350"/>
                          </a:lnTo>
                          <a:lnTo>
                            <a:pt x="119" y="398"/>
                          </a:lnTo>
                          <a:lnTo>
                            <a:pt x="124" y="405"/>
                          </a:lnTo>
                          <a:lnTo>
                            <a:pt x="129" y="417"/>
                          </a:lnTo>
                          <a:lnTo>
                            <a:pt x="133" y="428"/>
                          </a:lnTo>
                          <a:lnTo>
                            <a:pt x="137" y="438"/>
                          </a:lnTo>
                          <a:lnTo>
                            <a:pt x="141" y="450"/>
                          </a:lnTo>
                          <a:lnTo>
                            <a:pt x="143" y="461"/>
                          </a:lnTo>
                          <a:lnTo>
                            <a:pt x="146" y="473"/>
                          </a:lnTo>
                          <a:lnTo>
                            <a:pt x="147" y="485"/>
                          </a:lnTo>
                          <a:lnTo>
                            <a:pt x="148" y="492"/>
                          </a:lnTo>
                          <a:lnTo>
                            <a:pt x="147" y="485"/>
                          </a:lnTo>
                          <a:lnTo>
                            <a:pt x="148" y="488"/>
                          </a:lnTo>
                          <a:lnTo>
                            <a:pt x="148" y="492"/>
                          </a:lnTo>
                          <a:lnTo>
                            <a:pt x="226" y="46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7" name=""/>
                    <p:cNvSpPr/>
                    <p:nvPr/>
                  </p:nvSpPr>
                  <p:spPr>
                    <a:xfrm>
                      <a:off x="1191600" y="4023000"/>
                      <a:ext cx="18000" cy="4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305">
                          <a:moveTo>
                            <a:pt x="58" y="305"/>
                          </a:moveTo>
                          <a:lnTo>
                            <a:pt x="59" y="303"/>
                          </a:lnTo>
                          <a:lnTo>
                            <a:pt x="68" y="287"/>
                          </a:lnTo>
                          <a:lnTo>
                            <a:pt x="76" y="270"/>
                          </a:lnTo>
                          <a:lnTo>
                            <a:pt x="84" y="252"/>
                          </a:lnTo>
                          <a:lnTo>
                            <a:pt x="90" y="233"/>
                          </a:lnTo>
                          <a:lnTo>
                            <a:pt x="95" y="215"/>
                          </a:lnTo>
                          <a:lnTo>
                            <a:pt x="100" y="195"/>
                          </a:lnTo>
                          <a:lnTo>
                            <a:pt x="103" y="176"/>
                          </a:lnTo>
                          <a:lnTo>
                            <a:pt x="106" y="156"/>
                          </a:lnTo>
                          <a:lnTo>
                            <a:pt x="107" y="137"/>
                          </a:lnTo>
                          <a:lnTo>
                            <a:pt x="108" y="117"/>
                          </a:lnTo>
                          <a:lnTo>
                            <a:pt x="109" y="98"/>
                          </a:lnTo>
                          <a:lnTo>
                            <a:pt x="108" y="78"/>
                          </a:lnTo>
                          <a:lnTo>
                            <a:pt x="107" y="59"/>
                          </a:lnTo>
                          <a:lnTo>
                            <a:pt x="105" y="39"/>
                          </a:lnTo>
                          <a:lnTo>
                            <a:pt x="103" y="20"/>
                          </a:lnTo>
                          <a:lnTo>
                            <a:pt x="100" y="0"/>
                          </a:lnTo>
                          <a:lnTo>
                            <a:pt x="22" y="30"/>
                          </a:lnTo>
                          <a:lnTo>
                            <a:pt x="24" y="44"/>
                          </a:lnTo>
                          <a:lnTo>
                            <a:pt x="26" y="57"/>
                          </a:lnTo>
                          <a:lnTo>
                            <a:pt x="27" y="71"/>
                          </a:lnTo>
                          <a:lnTo>
                            <a:pt x="28" y="84"/>
                          </a:lnTo>
                          <a:lnTo>
                            <a:pt x="28" y="98"/>
                          </a:lnTo>
                          <a:lnTo>
                            <a:pt x="28" y="111"/>
                          </a:lnTo>
                          <a:lnTo>
                            <a:pt x="27" y="125"/>
                          </a:lnTo>
                          <a:lnTo>
                            <a:pt x="26" y="137"/>
                          </a:lnTo>
                          <a:lnTo>
                            <a:pt x="24" y="149"/>
                          </a:lnTo>
                          <a:lnTo>
                            <a:pt x="22" y="161"/>
                          </a:lnTo>
                          <a:lnTo>
                            <a:pt x="20" y="171"/>
                          </a:lnTo>
                          <a:lnTo>
                            <a:pt x="17" y="183"/>
                          </a:lnTo>
                          <a:lnTo>
                            <a:pt x="13" y="192"/>
                          </a:lnTo>
                          <a:lnTo>
                            <a:pt x="9" y="203"/>
                          </a:lnTo>
                          <a:lnTo>
                            <a:pt x="5" y="212"/>
                          </a:lnTo>
                          <a:lnTo>
                            <a:pt x="0" y="221"/>
                          </a:lnTo>
                          <a:lnTo>
                            <a:pt x="1" y="219"/>
                          </a:lnTo>
                          <a:lnTo>
                            <a:pt x="58" y="30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" bIns="-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8" name=""/>
                    <p:cNvSpPr/>
                    <p:nvPr/>
                  </p:nvSpPr>
                  <p:spPr>
                    <a:xfrm>
                      <a:off x="1182240" y="4055400"/>
                      <a:ext cx="19080" cy="1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" h="132">
                          <a:moveTo>
                            <a:pt x="34" y="132"/>
                          </a:moveTo>
                          <a:lnTo>
                            <a:pt x="88" y="129"/>
                          </a:lnTo>
                          <a:lnTo>
                            <a:pt x="117" y="86"/>
                          </a:lnTo>
                          <a:lnTo>
                            <a:pt x="60" y="0"/>
                          </a:lnTo>
                          <a:lnTo>
                            <a:pt x="31" y="44"/>
                          </a:lnTo>
                          <a:lnTo>
                            <a:pt x="34" y="132"/>
                          </a:lnTo>
                          <a:lnTo>
                            <a:pt x="31" y="44"/>
                          </a:lnTo>
                          <a:lnTo>
                            <a:pt x="0" y="90"/>
                          </a:lnTo>
                          <a:lnTo>
                            <a:pt x="34" y="13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"/>
                    <p:cNvSpPr/>
                    <p:nvPr/>
                  </p:nvSpPr>
                  <p:spPr>
                    <a:xfrm>
                      <a:off x="1187640" y="4061520"/>
                      <a:ext cx="29880" cy="4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2" h="307">
                          <a:moveTo>
                            <a:pt x="181" y="301"/>
                          </a:moveTo>
                          <a:lnTo>
                            <a:pt x="181" y="307"/>
                          </a:lnTo>
                          <a:lnTo>
                            <a:pt x="182" y="279"/>
                          </a:lnTo>
                          <a:lnTo>
                            <a:pt x="180" y="250"/>
                          </a:lnTo>
                          <a:lnTo>
                            <a:pt x="177" y="222"/>
                          </a:lnTo>
                          <a:lnTo>
                            <a:pt x="172" y="196"/>
                          </a:lnTo>
                          <a:lnTo>
                            <a:pt x="164" y="172"/>
                          </a:lnTo>
                          <a:lnTo>
                            <a:pt x="156" y="151"/>
                          </a:lnTo>
                          <a:lnTo>
                            <a:pt x="147" y="131"/>
                          </a:lnTo>
                          <a:lnTo>
                            <a:pt x="136" y="113"/>
                          </a:lnTo>
                          <a:lnTo>
                            <a:pt x="126" y="95"/>
                          </a:lnTo>
                          <a:lnTo>
                            <a:pt x="115" y="78"/>
                          </a:lnTo>
                          <a:lnTo>
                            <a:pt x="103" y="65"/>
                          </a:lnTo>
                          <a:lnTo>
                            <a:pt x="92" y="50"/>
                          </a:lnTo>
                          <a:lnTo>
                            <a:pt x="71" y="24"/>
                          </a:lnTo>
                          <a:lnTo>
                            <a:pt x="51" y="0"/>
                          </a:lnTo>
                          <a:lnTo>
                            <a:pt x="0" y="93"/>
                          </a:lnTo>
                          <a:lnTo>
                            <a:pt x="20" y="119"/>
                          </a:lnTo>
                          <a:lnTo>
                            <a:pt x="41" y="142"/>
                          </a:lnTo>
                          <a:lnTo>
                            <a:pt x="51" y="154"/>
                          </a:lnTo>
                          <a:lnTo>
                            <a:pt x="60" y="166"/>
                          </a:lnTo>
                          <a:lnTo>
                            <a:pt x="68" y="180"/>
                          </a:lnTo>
                          <a:lnTo>
                            <a:pt x="76" y="192"/>
                          </a:lnTo>
                          <a:lnTo>
                            <a:pt x="82" y="204"/>
                          </a:lnTo>
                          <a:lnTo>
                            <a:pt x="88" y="216"/>
                          </a:lnTo>
                          <a:lnTo>
                            <a:pt x="92" y="228"/>
                          </a:lnTo>
                          <a:lnTo>
                            <a:pt x="96" y="240"/>
                          </a:lnTo>
                          <a:lnTo>
                            <a:pt x="99" y="252"/>
                          </a:lnTo>
                          <a:lnTo>
                            <a:pt x="101" y="265"/>
                          </a:lnTo>
                          <a:lnTo>
                            <a:pt x="101" y="280"/>
                          </a:lnTo>
                          <a:lnTo>
                            <a:pt x="101" y="295"/>
                          </a:lnTo>
                          <a:lnTo>
                            <a:pt x="101" y="301"/>
                          </a:lnTo>
                          <a:lnTo>
                            <a:pt x="101" y="295"/>
                          </a:lnTo>
                          <a:lnTo>
                            <a:pt x="101" y="298"/>
                          </a:lnTo>
                          <a:lnTo>
                            <a:pt x="101" y="301"/>
                          </a:lnTo>
                          <a:lnTo>
                            <a:pt x="181" y="30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" bIns="-1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"/>
                    <p:cNvSpPr/>
                    <p:nvPr/>
                  </p:nvSpPr>
                  <p:spPr>
                    <a:xfrm>
                      <a:off x="1176480" y="4106160"/>
                      <a:ext cx="40680" cy="6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8" h="423">
                          <a:moveTo>
                            <a:pt x="34" y="423"/>
                          </a:moveTo>
                          <a:lnTo>
                            <a:pt x="47" y="414"/>
                          </a:lnTo>
                          <a:lnTo>
                            <a:pt x="79" y="378"/>
                          </a:lnTo>
                          <a:lnTo>
                            <a:pt x="111" y="341"/>
                          </a:lnTo>
                          <a:lnTo>
                            <a:pt x="128" y="320"/>
                          </a:lnTo>
                          <a:lnTo>
                            <a:pt x="144" y="297"/>
                          </a:lnTo>
                          <a:lnTo>
                            <a:pt x="160" y="275"/>
                          </a:lnTo>
                          <a:lnTo>
                            <a:pt x="176" y="251"/>
                          </a:lnTo>
                          <a:lnTo>
                            <a:pt x="190" y="225"/>
                          </a:lnTo>
                          <a:lnTo>
                            <a:pt x="204" y="198"/>
                          </a:lnTo>
                          <a:lnTo>
                            <a:pt x="216" y="170"/>
                          </a:lnTo>
                          <a:lnTo>
                            <a:pt x="227" y="138"/>
                          </a:lnTo>
                          <a:lnTo>
                            <a:pt x="236" y="107"/>
                          </a:lnTo>
                          <a:lnTo>
                            <a:pt x="242" y="74"/>
                          </a:lnTo>
                          <a:lnTo>
                            <a:pt x="245" y="56"/>
                          </a:lnTo>
                          <a:lnTo>
                            <a:pt x="247" y="38"/>
                          </a:lnTo>
                          <a:lnTo>
                            <a:pt x="248" y="20"/>
                          </a:lnTo>
                          <a:lnTo>
                            <a:pt x="248" y="0"/>
                          </a:lnTo>
                          <a:lnTo>
                            <a:pt x="168" y="0"/>
                          </a:lnTo>
                          <a:lnTo>
                            <a:pt x="167" y="12"/>
                          </a:lnTo>
                          <a:lnTo>
                            <a:pt x="167" y="23"/>
                          </a:lnTo>
                          <a:lnTo>
                            <a:pt x="166" y="35"/>
                          </a:lnTo>
                          <a:lnTo>
                            <a:pt x="164" y="44"/>
                          </a:lnTo>
                          <a:lnTo>
                            <a:pt x="160" y="66"/>
                          </a:lnTo>
                          <a:lnTo>
                            <a:pt x="154" y="87"/>
                          </a:lnTo>
                          <a:lnTo>
                            <a:pt x="146" y="108"/>
                          </a:lnTo>
                          <a:lnTo>
                            <a:pt x="138" y="129"/>
                          </a:lnTo>
                          <a:lnTo>
                            <a:pt x="127" y="150"/>
                          </a:lnTo>
                          <a:lnTo>
                            <a:pt x="116" y="170"/>
                          </a:lnTo>
                          <a:lnTo>
                            <a:pt x="103" y="189"/>
                          </a:lnTo>
                          <a:lnTo>
                            <a:pt x="90" y="209"/>
                          </a:lnTo>
                          <a:lnTo>
                            <a:pt x="76" y="228"/>
                          </a:lnTo>
                          <a:lnTo>
                            <a:pt x="61" y="246"/>
                          </a:lnTo>
                          <a:lnTo>
                            <a:pt x="30" y="282"/>
                          </a:lnTo>
                          <a:lnTo>
                            <a:pt x="0" y="315"/>
                          </a:lnTo>
                          <a:lnTo>
                            <a:pt x="13" y="306"/>
                          </a:lnTo>
                          <a:lnTo>
                            <a:pt x="34" y="423"/>
                          </a:lnTo>
                          <a:lnTo>
                            <a:pt x="41" y="420"/>
                          </a:lnTo>
                          <a:lnTo>
                            <a:pt x="47" y="414"/>
                          </a:lnTo>
                          <a:lnTo>
                            <a:pt x="34" y="42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840" bIns="15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"/>
                    <p:cNvSpPr/>
                    <p:nvPr/>
                  </p:nvSpPr>
                  <p:spPr>
                    <a:xfrm>
                      <a:off x="1030680" y="4142520"/>
                      <a:ext cx="151560" cy="4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9" h="306">
                          <a:moveTo>
                            <a:pt x="0" y="89"/>
                          </a:moveTo>
                          <a:lnTo>
                            <a:pt x="2" y="90"/>
                          </a:lnTo>
                          <a:lnTo>
                            <a:pt x="26" y="122"/>
                          </a:lnTo>
                          <a:lnTo>
                            <a:pt x="52" y="150"/>
                          </a:lnTo>
                          <a:lnTo>
                            <a:pt x="78" y="176"/>
                          </a:lnTo>
                          <a:lnTo>
                            <a:pt x="105" y="198"/>
                          </a:lnTo>
                          <a:lnTo>
                            <a:pt x="133" y="219"/>
                          </a:lnTo>
                          <a:lnTo>
                            <a:pt x="161" y="237"/>
                          </a:lnTo>
                          <a:lnTo>
                            <a:pt x="189" y="254"/>
                          </a:lnTo>
                          <a:lnTo>
                            <a:pt x="218" y="267"/>
                          </a:lnTo>
                          <a:lnTo>
                            <a:pt x="247" y="279"/>
                          </a:lnTo>
                          <a:lnTo>
                            <a:pt x="276" y="288"/>
                          </a:lnTo>
                          <a:lnTo>
                            <a:pt x="306" y="296"/>
                          </a:lnTo>
                          <a:lnTo>
                            <a:pt x="336" y="300"/>
                          </a:lnTo>
                          <a:lnTo>
                            <a:pt x="365" y="305"/>
                          </a:lnTo>
                          <a:lnTo>
                            <a:pt x="395" y="306"/>
                          </a:lnTo>
                          <a:lnTo>
                            <a:pt x="425" y="306"/>
                          </a:lnTo>
                          <a:lnTo>
                            <a:pt x="456" y="306"/>
                          </a:lnTo>
                          <a:lnTo>
                            <a:pt x="486" y="303"/>
                          </a:lnTo>
                          <a:lnTo>
                            <a:pt x="516" y="300"/>
                          </a:lnTo>
                          <a:lnTo>
                            <a:pt x="546" y="296"/>
                          </a:lnTo>
                          <a:lnTo>
                            <a:pt x="576" y="290"/>
                          </a:lnTo>
                          <a:lnTo>
                            <a:pt x="606" y="284"/>
                          </a:lnTo>
                          <a:lnTo>
                            <a:pt x="636" y="276"/>
                          </a:lnTo>
                          <a:lnTo>
                            <a:pt x="666" y="267"/>
                          </a:lnTo>
                          <a:lnTo>
                            <a:pt x="695" y="260"/>
                          </a:lnTo>
                          <a:lnTo>
                            <a:pt x="753" y="240"/>
                          </a:lnTo>
                          <a:lnTo>
                            <a:pt x="810" y="219"/>
                          </a:lnTo>
                          <a:lnTo>
                            <a:pt x="865" y="198"/>
                          </a:lnTo>
                          <a:lnTo>
                            <a:pt x="919" y="177"/>
                          </a:lnTo>
                          <a:lnTo>
                            <a:pt x="898" y="60"/>
                          </a:lnTo>
                          <a:lnTo>
                            <a:pt x="845" y="81"/>
                          </a:lnTo>
                          <a:lnTo>
                            <a:pt x="790" y="102"/>
                          </a:lnTo>
                          <a:lnTo>
                            <a:pt x="735" y="122"/>
                          </a:lnTo>
                          <a:lnTo>
                            <a:pt x="678" y="141"/>
                          </a:lnTo>
                          <a:lnTo>
                            <a:pt x="650" y="149"/>
                          </a:lnTo>
                          <a:lnTo>
                            <a:pt x="622" y="156"/>
                          </a:lnTo>
                          <a:lnTo>
                            <a:pt x="594" y="164"/>
                          </a:lnTo>
                          <a:lnTo>
                            <a:pt x="565" y="170"/>
                          </a:lnTo>
                          <a:lnTo>
                            <a:pt x="537" y="176"/>
                          </a:lnTo>
                          <a:lnTo>
                            <a:pt x="509" y="180"/>
                          </a:lnTo>
                          <a:lnTo>
                            <a:pt x="481" y="183"/>
                          </a:lnTo>
                          <a:lnTo>
                            <a:pt x="453" y="185"/>
                          </a:lnTo>
                          <a:lnTo>
                            <a:pt x="425" y="186"/>
                          </a:lnTo>
                          <a:lnTo>
                            <a:pt x="398" y="185"/>
                          </a:lnTo>
                          <a:lnTo>
                            <a:pt x="370" y="183"/>
                          </a:lnTo>
                          <a:lnTo>
                            <a:pt x="343" y="180"/>
                          </a:lnTo>
                          <a:lnTo>
                            <a:pt x="317" y="176"/>
                          </a:lnTo>
                          <a:lnTo>
                            <a:pt x="291" y="168"/>
                          </a:lnTo>
                          <a:lnTo>
                            <a:pt x="265" y="161"/>
                          </a:lnTo>
                          <a:lnTo>
                            <a:pt x="240" y="150"/>
                          </a:lnTo>
                          <a:lnTo>
                            <a:pt x="215" y="140"/>
                          </a:lnTo>
                          <a:lnTo>
                            <a:pt x="191" y="126"/>
                          </a:lnTo>
                          <a:lnTo>
                            <a:pt x="167" y="110"/>
                          </a:lnTo>
                          <a:lnTo>
                            <a:pt x="143" y="92"/>
                          </a:lnTo>
                          <a:lnTo>
                            <a:pt x="121" y="72"/>
                          </a:lnTo>
                          <a:lnTo>
                            <a:pt x="98" y="51"/>
                          </a:lnTo>
                          <a:lnTo>
                            <a:pt x="76" y="27"/>
                          </a:lnTo>
                          <a:lnTo>
                            <a:pt x="55" y="0"/>
                          </a:lnTo>
                          <a:lnTo>
                            <a:pt x="56" y="2"/>
                          </a:lnTo>
                          <a:lnTo>
                            <a:pt x="0" y="89"/>
                          </a:lnTo>
                          <a:lnTo>
                            <a:pt x="1" y="89"/>
                          </a:lnTo>
                          <a:lnTo>
                            <a:pt x="2" y="90"/>
                          </a:lnTo>
                          <a:lnTo>
                            <a:pt x="0" y="8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" bIns="-1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2" name=""/>
                    <p:cNvSpPr/>
                    <p:nvPr/>
                  </p:nvSpPr>
                  <p:spPr>
                    <a:xfrm>
                      <a:off x="981000" y="3987720"/>
                      <a:ext cx="58680" cy="16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5" h="1131">
                          <a:moveTo>
                            <a:pt x="76" y="201"/>
                          </a:moveTo>
                          <a:lnTo>
                            <a:pt x="0" y="197"/>
                          </a:lnTo>
                          <a:lnTo>
                            <a:pt x="24" y="312"/>
                          </a:lnTo>
                          <a:lnTo>
                            <a:pt x="48" y="431"/>
                          </a:lnTo>
                          <a:lnTo>
                            <a:pt x="61" y="492"/>
                          </a:lnTo>
                          <a:lnTo>
                            <a:pt x="75" y="554"/>
                          </a:lnTo>
                          <a:lnTo>
                            <a:pt x="90" y="615"/>
                          </a:lnTo>
                          <a:lnTo>
                            <a:pt x="106" y="676"/>
                          </a:lnTo>
                          <a:lnTo>
                            <a:pt x="123" y="738"/>
                          </a:lnTo>
                          <a:lnTo>
                            <a:pt x="142" y="796"/>
                          </a:lnTo>
                          <a:lnTo>
                            <a:pt x="152" y="828"/>
                          </a:lnTo>
                          <a:lnTo>
                            <a:pt x="162" y="856"/>
                          </a:lnTo>
                          <a:lnTo>
                            <a:pt x="173" y="886"/>
                          </a:lnTo>
                          <a:lnTo>
                            <a:pt x="185" y="915"/>
                          </a:lnTo>
                          <a:lnTo>
                            <a:pt x="197" y="943"/>
                          </a:lnTo>
                          <a:lnTo>
                            <a:pt x="210" y="972"/>
                          </a:lnTo>
                          <a:lnTo>
                            <a:pt x="223" y="1000"/>
                          </a:lnTo>
                          <a:lnTo>
                            <a:pt x="237" y="1027"/>
                          </a:lnTo>
                          <a:lnTo>
                            <a:pt x="252" y="1054"/>
                          </a:lnTo>
                          <a:lnTo>
                            <a:pt x="267" y="1080"/>
                          </a:lnTo>
                          <a:lnTo>
                            <a:pt x="283" y="1105"/>
                          </a:lnTo>
                          <a:lnTo>
                            <a:pt x="299" y="1131"/>
                          </a:lnTo>
                          <a:lnTo>
                            <a:pt x="355" y="1044"/>
                          </a:lnTo>
                          <a:lnTo>
                            <a:pt x="341" y="1021"/>
                          </a:lnTo>
                          <a:lnTo>
                            <a:pt x="327" y="999"/>
                          </a:lnTo>
                          <a:lnTo>
                            <a:pt x="313" y="976"/>
                          </a:lnTo>
                          <a:lnTo>
                            <a:pt x="300" y="952"/>
                          </a:lnTo>
                          <a:lnTo>
                            <a:pt x="288" y="928"/>
                          </a:lnTo>
                          <a:lnTo>
                            <a:pt x="276" y="903"/>
                          </a:lnTo>
                          <a:lnTo>
                            <a:pt x="265" y="877"/>
                          </a:lnTo>
                          <a:lnTo>
                            <a:pt x="254" y="852"/>
                          </a:lnTo>
                          <a:lnTo>
                            <a:pt x="243" y="825"/>
                          </a:lnTo>
                          <a:lnTo>
                            <a:pt x="233" y="799"/>
                          </a:lnTo>
                          <a:lnTo>
                            <a:pt x="223" y="771"/>
                          </a:lnTo>
                          <a:lnTo>
                            <a:pt x="214" y="744"/>
                          </a:lnTo>
                          <a:lnTo>
                            <a:pt x="197" y="688"/>
                          </a:lnTo>
                          <a:lnTo>
                            <a:pt x="180" y="631"/>
                          </a:lnTo>
                          <a:lnTo>
                            <a:pt x="165" y="573"/>
                          </a:lnTo>
                          <a:lnTo>
                            <a:pt x="151" y="515"/>
                          </a:lnTo>
                          <a:lnTo>
                            <a:pt x="138" y="455"/>
                          </a:lnTo>
                          <a:lnTo>
                            <a:pt x="125" y="396"/>
                          </a:lnTo>
                          <a:lnTo>
                            <a:pt x="101" y="276"/>
                          </a:lnTo>
                          <a:lnTo>
                            <a:pt x="77" y="161"/>
                          </a:lnTo>
                          <a:lnTo>
                            <a:pt x="1" y="156"/>
                          </a:lnTo>
                          <a:lnTo>
                            <a:pt x="77" y="161"/>
                          </a:lnTo>
                          <a:lnTo>
                            <a:pt x="44" y="0"/>
                          </a:lnTo>
                          <a:lnTo>
                            <a:pt x="1" y="156"/>
                          </a:lnTo>
                          <a:lnTo>
                            <a:pt x="76" y="20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3" name=""/>
                    <p:cNvSpPr/>
                    <p:nvPr/>
                  </p:nvSpPr>
                  <p:spPr>
                    <a:xfrm>
                      <a:off x="880200" y="4010760"/>
                      <a:ext cx="113040" cy="40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6" h="2712">
                          <a:moveTo>
                            <a:pt x="80" y="2702"/>
                          </a:moveTo>
                          <a:lnTo>
                            <a:pt x="78" y="2712"/>
                          </a:lnTo>
                          <a:lnTo>
                            <a:pt x="118" y="2546"/>
                          </a:lnTo>
                          <a:lnTo>
                            <a:pt x="157" y="2378"/>
                          </a:lnTo>
                          <a:lnTo>
                            <a:pt x="195" y="2210"/>
                          </a:lnTo>
                          <a:lnTo>
                            <a:pt x="232" y="2042"/>
                          </a:lnTo>
                          <a:lnTo>
                            <a:pt x="268" y="1873"/>
                          </a:lnTo>
                          <a:lnTo>
                            <a:pt x="304" y="1705"/>
                          </a:lnTo>
                          <a:lnTo>
                            <a:pt x="340" y="1535"/>
                          </a:lnTo>
                          <a:lnTo>
                            <a:pt x="376" y="1368"/>
                          </a:lnTo>
                          <a:lnTo>
                            <a:pt x="412" y="1198"/>
                          </a:lnTo>
                          <a:lnTo>
                            <a:pt x="449" y="1032"/>
                          </a:lnTo>
                          <a:lnTo>
                            <a:pt x="486" y="864"/>
                          </a:lnTo>
                          <a:lnTo>
                            <a:pt x="524" y="697"/>
                          </a:lnTo>
                          <a:lnTo>
                            <a:pt x="562" y="532"/>
                          </a:lnTo>
                          <a:lnTo>
                            <a:pt x="602" y="369"/>
                          </a:lnTo>
                          <a:lnTo>
                            <a:pt x="643" y="206"/>
                          </a:lnTo>
                          <a:lnTo>
                            <a:pt x="686" y="45"/>
                          </a:lnTo>
                          <a:lnTo>
                            <a:pt x="611" y="0"/>
                          </a:lnTo>
                          <a:lnTo>
                            <a:pt x="568" y="162"/>
                          </a:lnTo>
                          <a:lnTo>
                            <a:pt x="527" y="327"/>
                          </a:lnTo>
                          <a:lnTo>
                            <a:pt x="486" y="492"/>
                          </a:lnTo>
                          <a:lnTo>
                            <a:pt x="448" y="658"/>
                          </a:lnTo>
                          <a:lnTo>
                            <a:pt x="409" y="826"/>
                          </a:lnTo>
                          <a:lnTo>
                            <a:pt x="372" y="994"/>
                          </a:lnTo>
                          <a:lnTo>
                            <a:pt x="336" y="1162"/>
                          </a:lnTo>
                          <a:lnTo>
                            <a:pt x="300" y="1330"/>
                          </a:lnTo>
                          <a:lnTo>
                            <a:pt x="264" y="1499"/>
                          </a:lnTo>
                          <a:lnTo>
                            <a:pt x="228" y="1667"/>
                          </a:lnTo>
                          <a:lnTo>
                            <a:pt x="192" y="1837"/>
                          </a:lnTo>
                          <a:lnTo>
                            <a:pt x="155" y="2005"/>
                          </a:lnTo>
                          <a:lnTo>
                            <a:pt x="118" y="2171"/>
                          </a:lnTo>
                          <a:lnTo>
                            <a:pt x="81" y="2339"/>
                          </a:lnTo>
                          <a:lnTo>
                            <a:pt x="42" y="2505"/>
                          </a:lnTo>
                          <a:lnTo>
                            <a:pt x="2" y="2670"/>
                          </a:lnTo>
                          <a:lnTo>
                            <a:pt x="0" y="2679"/>
                          </a:lnTo>
                          <a:lnTo>
                            <a:pt x="80" y="270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4" name=""/>
                    <p:cNvSpPr/>
                    <p:nvPr/>
                  </p:nvSpPr>
                  <p:spPr>
                    <a:xfrm>
                      <a:off x="854640" y="4410000"/>
                      <a:ext cx="38520" cy="13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3" h="922">
                          <a:moveTo>
                            <a:pt x="67" y="922"/>
                          </a:moveTo>
                          <a:lnTo>
                            <a:pt x="80" y="888"/>
                          </a:lnTo>
                          <a:lnTo>
                            <a:pt x="87" y="834"/>
                          </a:lnTo>
                          <a:lnTo>
                            <a:pt x="94" y="780"/>
                          </a:lnTo>
                          <a:lnTo>
                            <a:pt x="103" y="726"/>
                          </a:lnTo>
                          <a:lnTo>
                            <a:pt x="112" y="674"/>
                          </a:lnTo>
                          <a:lnTo>
                            <a:pt x="133" y="567"/>
                          </a:lnTo>
                          <a:lnTo>
                            <a:pt x="154" y="461"/>
                          </a:lnTo>
                          <a:lnTo>
                            <a:pt x="176" y="354"/>
                          </a:lnTo>
                          <a:lnTo>
                            <a:pt x="197" y="246"/>
                          </a:lnTo>
                          <a:lnTo>
                            <a:pt x="207" y="191"/>
                          </a:lnTo>
                          <a:lnTo>
                            <a:pt x="216" y="135"/>
                          </a:lnTo>
                          <a:lnTo>
                            <a:pt x="225" y="80"/>
                          </a:lnTo>
                          <a:lnTo>
                            <a:pt x="233" y="23"/>
                          </a:lnTo>
                          <a:lnTo>
                            <a:pt x="153" y="0"/>
                          </a:lnTo>
                          <a:lnTo>
                            <a:pt x="146" y="54"/>
                          </a:lnTo>
                          <a:lnTo>
                            <a:pt x="138" y="107"/>
                          </a:lnTo>
                          <a:lnTo>
                            <a:pt x="129" y="161"/>
                          </a:lnTo>
                          <a:lnTo>
                            <a:pt x="119" y="213"/>
                          </a:lnTo>
                          <a:lnTo>
                            <a:pt x="99" y="320"/>
                          </a:lnTo>
                          <a:lnTo>
                            <a:pt x="77" y="426"/>
                          </a:lnTo>
                          <a:lnTo>
                            <a:pt x="55" y="533"/>
                          </a:lnTo>
                          <a:lnTo>
                            <a:pt x="35" y="642"/>
                          </a:lnTo>
                          <a:lnTo>
                            <a:pt x="25" y="698"/>
                          </a:lnTo>
                          <a:lnTo>
                            <a:pt x="16" y="753"/>
                          </a:lnTo>
                          <a:lnTo>
                            <a:pt x="8" y="810"/>
                          </a:lnTo>
                          <a:lnTo>
                            <a:pt x="0" y="867"/>
                          </a:lnTo>
                          <a:lnTo>
                            <a:pt x="14" y="832"/>
                          </a:lnTo>
                          <a:lnTo>
                            <a:pt x="67" y="922"/>
                          </a:lnTo>
                          <a:lnTo>
                            <a:pt x="78" y="909"/>
                          </a:lnTo>
                          <a:lnTo>
                            <a:pt x="80" y="888"/>
                          </a:lnTo>
                          <a:lnTo>
                            <a:pt x="67" y="9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5" name=""/>
                    <p:cNvSpPr/>
                    <p:nvPr/>
                  </p:nvSpPr>
                  <p:spPr>
                    <a:xfrm>
                      <a:off x="676440" y="4533840"/>
                      <a:ext cx="189360" cy="27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47" h="1842">
                          <a:moveTo>
                            <a:pt x="65" y="1842"/>
                          </a:moveTo>
                          <a:lnTo>
                            <a:pt x="125" y="1725"/>
                          </a:lnTo>
                          <a:lnTo>
                            <a:pt x="186" y="1608"/>
                          </a:lnTo>
                          <a:lnTo>
                            <a:pt x="248" y="1492"/>
                          </a:lnTo>
                          <a:lnTo>
                            <a:pt x="311" y="1377"/>
                          </a:lnTo>
                          <a:lnTo>
                            <a:pt x="376" y="1263"/>
                          </a:lnTo>
                          <a:lnTo>
                            <a:pt x="441" y="1150"/>
                          </a:lnTo>
                          <a:lnTo>
                            <a:pt x="508" y="1038"/>
                          </a:lnTo>
                          <a:lnTo>
                            <a:pt x="576" y="927"/>
                          </a:lnTo>
                          <a:lnTo>
                            <a:pt x="644" y="818"/>
                          </a:lnTo>
                          <a:lnTo>
                            <a:pt x="714" y="710"/>
                          </a:lnTo>
                          <a:lnTo>
                            <a:pt x="784" y="603"/>
                          </a:lnTo>
                          <a:lnTo>
                            <a:pt x="855" y="497"/>
                          </a:lnTo>
                          <a:lnTo>
                            <a:pt x="927" y="393"/>
                          </a:lnTo>
                          <a:lnTo>
                            <a:pt x="1000" y="291"/>
                          </a:lnTo>
                          <a:lnTo>
                            <a:pt x="1073" y="189"/>
                          </a:lnTo>
                          <a:lnTo>
                            <a:pt x="1147" y="90"/>
                          </a:lnTo>
                          <a:lnTo>
                            <a:pt x="1094" y="0"/>
                          </a:lnTo>
                          <a:lnTo>
                            <a:pt x="1019" y="101"/>
                          </a:lnTo>
                          <a:lnTo>
                            <a:pt x="945" y="203"/>
                          </a:lnTo>
                          <a:lnTo>
                            <a:pt x="871" y="306"/>
                          </a:lnTo>
                          <a:lnTo>
                            <a:pt x="799" y="411"/>
                          </a:lnTo>
                          <a:lnTo>
                            <a:pt x="727" y="518"/>
                          </a:lnTo>
                          <a:lnTo>
                            <a:pt x="656" y="626"/>
                          </a:lnTo>
                          <a:lnTo>
                            <a:pt x="586" y="735"/>
                          </a:lnTo>
                          <a:lnTo>
                            <a:pt x="517" y="846"/>
                          </a:lnTo>
                          <a:lnTo>
                            <a:pt x="448" y="957"/>
                          </a:lnTo>
                          <a:lnTo>
                            <a:pt x="381" y="1071"/>
                          </a:lnTo>
                          <a:lnTo>
                            <a:pt x="315" y="1185"/>
                          </a:lnTo>
                          <a:lnTo>
                            <a:pt x="249" y="1299"/>
                          </a:lnTo>
                          <a:lnTo>
                            <a:pt x="185" y="1416"/>
                          </a:lnTo>
                          <a:lnTo>
                            <a:pt x="122" y="1533"/>
                          </a:lnTo>
                          <a:lnTo>
                            <a:pt x="61" y="1651"/>
                          </a:lnTo>
                          <a:lnTo>
                            <a:pt x="0" y="1770"/>
                          </a:lnTo>
                          <a:lnTo>
                            <a:pt x="65" y="184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6" name=""/>
                    <p:cNvSpPr/>
                    <p:nvPr/>
                  </p:nvSpPr>
                  <p:spPr>
                    <a:xfrm>
                      <a:off x="475920" y="4797360"/>
                      <a:ext cx="211320" cy="42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80" h="2875">
                          <a:moveTo>
                            <a:pt x="4" y="2814"/>
                          </a:moveTo>
                          <a:lnTo>
                            <a:pt x="69" y="2805"/>
                          </a:lnTo>
                          <a:lnTo>
                            <a:pt x="140" y="2628"/>
                          </a:lnTo>
                          <a:lnTo>
                            <a:pt x="210" y="2452"/>
                          </a:lnTo>
                          <a:lnTo>
                            <a:pt x="281" y="2278"/>
                          </a:lnTo>
                          <a:lnTo>
                            <a:pt x="352" y="2105"/>
                          </a:lnTo>
                          <a:lnTo>
                            <a:pt x="424" y="1932"/>
                          </a:lnTo>
                          <a:lnTo>
                            <a:pt x="497" y="1760"/>
                          </a:lnTo>
                          <a:lnTo>
                            <a:pt x="570" y="1589"/>
                          </a:lnTo>
                          <a:lnTo>
                            <a:pt x="644" y="1418"/>
                          </a:lnTo>
                          <a:lnTo>
                            <a:pt x="719" y="1248"/>
                          </a:lnTo>
                          <a:lnTo>
                            <a:pt x="795" y="1079"/>
                          </a:lnTo>
                          <a:lnTo>
                            <a:pt x="872" y="910"/>
                          </a:lnTo>
                          <a:lnTo>
                            <a:pt x="951" y="742"/>
                          </a:lnTo>
                          <a:lnTo>
                            <a:pt x="1030" y="574"/>
                          </a:lnTo>
                          <a:lnTo>
                            <a:pt x="1111" y="406"/>
                          </a:lnTo>
                          <a:lnTo>
                            <a:pt x="1195" y="239"/>
                          </a:lnTo>
                          <a:lnTo>
                            <a:pt x="1280" y="72"/>
                          </a:lnTo>
                          <a:lnTo>
                            <a:pt x="1215" y="0"/>
                          </a:lnTo>
                          <a:lnTo>
                            <a:pt x="1130" y="166"/>
                          </a:lnTo>
                          <a:lnTo>
                            <a:pt x="1046" y="335"/>
                          </a:lnTo>
                          <a:lnTo>
                            <a:pt x="965" y="503"/>
                          </a:lnTo>
                          <a:lnTo>
                            <a:pt x="885" y="671"/>
                          </a:lnTo>
                          <a:lnTo>
                            <a:pt x="806" y="841"/>
                          </a:lnTo>
                          <a:lnTo>
                            <a:pt x="728" y="1012"/>
                          </a:lnTo>
                          <a:lnTo>
                            <a:pt x="652" y="1181"/>
                          </a:lnTo>
                          <a:lnTo>
                            <a:pt x="577" y="1352"/>
                          </a:lnTo>
                          <a:lnTo>
                            <a:pt x="502" y="1523"/>
                          </a:lnTo>
                          <a:lnTo>
                            <a:pt x="429" y="1695"/>
                          </a:lnTo>
                          <a:lnTo>
                            <a:pt x="356" y="1868"/>
                          </a:lnTo>
                          <a:lnTo>
                            <a:pt x="284" y="2042"/>
                          </a:lnTo>
                          <a:lnTo>
                            <a:pt x="212" y="2215"/>
                          </a:lnTo>
                          <a:lnTo>
                            <a:pt x="141" y="2391"/>
                          </a:lnTo>
                          <a:lnTo>
                            <a:pt x="71" y="2566"/>
                          </a:lnTo>
                          <a:lnTo>
                            <a:pt x="0" y="2743"/>
                          </a:lnTo>
                          <a:lnTo>
                            <a:pt x="65" y="2734"/>
                          </a:lnTo>
                          <a:lnTo>
                            <a:pt x="4" y="2814"/>
                          </a:lnTo>
                          <a:lnTo>
                            <a:pt x="41" y="2875"/>
                          </a:lnTo>
                          <a:lnTo>
                            <a:pt x="69" y="2805"/>
                          </a:lnTo>
                          <a:lnTo>
                            <a:pt x="4" y="281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7" name=""/>
                    <p:cNvSpPr/>
                    <p:nvPr/>
                  </p:nvSpPr>
                  <p:spPr>
                    <a:xfrm>
                      <a:off x="416520" y="5189400"/>
                      <a:ext cx="702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" h="182">
                          <a:moveTo>
                            <a:pt x="5" y="132"/>
                          </a:moveTo>
                          <a:lnTo>
                            <a:pt x="2" y="132"/>
                          </a:lnTo>
                          <a:lnTo>
                            <a:pt x="53" y="132"/>
                          </a:lnTo>
                          <a:lnTo>
                            <a:pt x="108" y="128"/>
                          </a:lnTo>
                          <a:lnTo>
                            <a:pt x="163" y="123"/>
                          </a:lnTo>
                          <a:lnTo>
                            <a:pt x="218" y="122"/>
                          </a:lnTo>
                          <a:lnTo>
                            <a:pt x="243" y="123"/>
                          </a:lnTo>
                          <a:lnTo>
                            <a:pt x="268" y="126"/>
                          </a:lnTo>
                          <a:lnTo>
                            <a:pt x="290" y="131"/>
                          </a:lnTo>
                          <a:lnTo>
                            <a:pt x="311" y="137"/>
                          </a:lnTo>
                          <a:lnTo>
                            <a:pt x="319" y="141"/>
                          </a:lnTo>
                          <a:lnTo>
                            <a:pt x="328" y="146"/>
                          </a:lnTo>
                          <a:lnTo>
                            <a:pt x="336" y="150"/>
                          </a:lnTo>
                          <a:lnTo>
                            <a:pt x="343" y="156"/>
                          </a:lnTo>
                          <a:lnTo>
                            <a:pt x="349" y="161"/>
                          </a:lnTo>
                          <a:lnTo>
                            <a:pt x="355" y="167"/>
                          </a:lnTo>
                          <a:lnTo>
                            <a:pt x="360" y="174"/>
                          </a:lnTo>
                          <a:lnTo>
                            <a:pt x="364" y="182"/>
                          </a:lnTo>
                          <a:lnTo>
                            <a:pt x="425" y="102"/>
                          </a:lnTo>
                          <a:lnTo>
                            <a:pt x="415" y="87"/>
                          </a:lnTo>
                          <a:lnTo>
                            <a:pt x="405" y="72"/>
                          </a:lnTo>
                          <a:lnTo>
                            <a:pt x="394" y="60"/>
                          </a:lnTo>
                          <a:lnTo>
                            <a:pt x="382" y="50"/>
                          </a:lnTo>
                          <a:lnTo>
                            <a:pt x="369" y="41"/>
                          </a:lnTo>
                          <a:lnTo>
                            <a:pt x="357" y="33"/>
                          </a:lnTo>
                          <a:lnTo>
                            <a:pt x="344" y="26"/>
                          </a:lnTo>
                          <a:lnTo>
                            <a:pt x="330" y="20"/>
                          </a:lnTo>
                          <a:lnTo>
                            <a:pt x="304" y="11"/>
                          </a:lnTo>
                          <a:lnTo>
                            <a:pt x="276" y="6"/>
                          </a:lnTo>
                          <a:lnTo>
                            <a:pt x="247" y="2"/>
                          </a:lnTo>
                          <a:lnTo>
                            <a:pt x="218" y="0"/>
                          </a:lnTo>
                          <a:lnTo>
                            <a:pt x="161" y="3"/>
                          </a:lnTo>
                          <a:lnTo>
                            <a:pt x="104" y="6"/>
                          </a:lnTo>
                          <a:lnTo>
                            <a:pt x="51" y="11"/>
                          </a:lnTo>
                          <a:lnTo>
                            <a:pt x="3" y="12"/>
                          </a:lnTo>
                          <a:lnTo>
                            <a:pt x="0" y="12"/>
                          </a:lnTo>
                          <a:lnTo>
                            <a:pt x="5" y="13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8" name=""/>
                    <p:cNvSpPr/>
                    <p:nvPr/>
                  </p:nvSpPr>
                  <p:spPr>
                    <a:xfrm>
                      <a:off x="340560" y="5191200"/>
                      <a:ext cx="76320" cy="5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3" h="344">
                          <a:moveTo>
                            <a:pt x="81" y="288"/>
                          </a:moveTo>
                          <a:lnTo>
                            <a:pt x="82" y="339"/>
                          </a:lnTo>
                          <a:lnTo>
                            <a:pt x="87" y="323"/>
                          </a:lnTo>
                          <a:lnTo>
                            <a:pt x="92" y="308"/>
                          </a:lnTo>
                          <a:lnTo>
                            <a:pt x="98" y="294"/>
                          </a:lnTo>
                          <a:lnTo>
                            <a:pt x="105" y="281"/>
                          </a:lnTo>
                          <a:lnTo>
                            <a:pt x="112" y="269"/>
                          </a:lnTo>
                          <a:lnTo>
                            <a:pt x="120" y="257"/>
                          </a:lnTo>
                          <a:lnTo>
                            <a:pt x="128" y="246"/>
                          </a:lnTo>
                          <a:lnTo>
                            <a:pt x="137" y="236"/>
                          </a:lnTo>
                          <a:lnTo>
                            <a:pt x="147" y="225"/>
                          </a:lnTo>
                          <a:lnTo>
                            <a:pt x="157" y="216"/>
                          </a:lnTo>
                          <a:lnTo>
                            <a:pt x="167" y="207"/>
                          </a:lnTo>
                          <a:lnTo>
                            <a:pt x="178" y="200"/>
                          </a:lnTo>
                          <a:lnTo>
                            <a:pt x="190" y="191"/>
                          </a:lnTo>
                          <a:lnTo>
                            <a:pt x="202" y="185"/>
                          </a:lnTo>
                          <a:lnTo>
                            <a:pt x="214" y="177"/>
                          </a:lnTo>
                          <a:lnTo>
                            <a:pt x="227" y="171"/>
                          </a:lnTo>
                          <a:lnTo>
                            <a:pt x="255" y="161"/>
                          </a:lnTo>
                          <a:lnTo>
                            <a:pt x="283" y="152"/>
                          </a:lnTo>
                          <a:lnTo>
                            <a:pt x="312" y="143"/>
                          </a:lnTo>
                          <a:lnTo>
                            <a:pt x="342" y="137"/>
                          </a:lnTo>
                          <a:lnTo>
                            <a:pt x="403" y="128"/>
                          </a:lnTo>
                          <a:lnTo>
                            <a:pt x="463" y="120"/>
                          </a:lnTo>
                          <a:lnTo>
                            <a:pt x="458" y="0"/>
                          </a:lnTo>
                          <a:lnTo>
                            <a:pt x="396" y="8"/>
                          </a:lnTo>
                          <a:lnTo>
                            <a:pt x="332" y="17"/>
                          </a:lnTo>
                          <a:lnTo>
                            <a:pt x="300" y="24"/>
                          </a:lnTo>
                          <a:lnTo>
                            <a:pt x="267" y="32"/>
                          </a:lnTo>
                          <a:lnTo>
                            <a:pt x="236" y="42"/>
                          </a:lnTo>
                          <a:lnTo>
                            <a:pt x="205" y="56"/>
                          </a:lnTo>
                          <a:lnTo>
                            <a:pt x="189" y="63"/>
                          </a:lnTo>
                          <a:lnTo>
                            <a:pt x="174" y="71"/>
                          </a:lnTo>
                          <a:lnTo>
                            <a:pt x="159" y="80"/>
                          </a:lnTo>
                          <a:lnTo>
                            <a:pt x="144" y="90"/>
                          </a:lnTo>
                          <a:lnTo>
                            <a:pt x="130" y="101"/>
                          </a:lnTo>
                          <a:lnTo>
                            <a:pt x="116" y="111"/>
                          </a:lnTo>
                          <a:lnTo>
                            <a:pt x="102" y="125"/>
                          </a:lnTo>
                          <a:lnTo>
                            <a:pt x="89" y="138"/>
                          </a:lnTo>
                          <a:lnTo>
                            <a:pt x="76" y="153"/>
                          </a:lnTo>
                          <a:lnTo>
                            <a:pt x="64" y="170"/>
                          </a:lnTo>
                          <a:lnTo>
                            <a:pt x="53" y="186"/>
                          </a:lnTo>
                          <a:lnTo>
                            <a:pt x="42" y="206"/>
                          </a:lnTo>
                          <a:lnTo>
                            <a:pt x="32" y="225"/>
                          </a:lnTo>
                          <a:lnTo>
                            <a:pt x="23" y="246"/>
                          </a:lnTo>
                          <a:lnTo>
                            <a:pt x="15" y="269"/>
                          </a:lnTo>
                          <a:lnTo>
                            <a:pt x="8" y="293"/>
                          </a:lnTo>
                          <a:lnTo>
                            <a:pt x="9" y="344"/>
                          </a:lnTo>
                          <a:lnTo>
                            <a:pt x="8" y="293"/>
                          </a:lnTo>
                          <a:lnTo>
                            <a:pt x="0" y="318"/>
                          </a:lnTo>
                          <a:lnTo>
                            <a:pt x="9" y="344"/>
                          </a:lnTo>
                          <a:lnTo>
                            <a:pt x="81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" bIns="4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9" name=""/>
                    <p:cNvSpPr/>
                    <p:nvPr/>
                  </p:nvSpPr>
                  <p:spPr>
                    <a:xfrm>
                      <a:off x="342360" y="5234400"/>
                      <a:ext cx="4824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4" h="273">
                          <a:moveTo>
                            <a:pt x="284" y="153"/>
                          </a:moveTo>
                          <a:lnTo>
                            <a:pt x="294" y="158"/>
                          </a:lnTo>
                          <a:lnTo>
                            <a:pt x="276" y="147"/>
                          </a:lnTo>
                          <a:lnTo>
                            <a:pt x="258" y="138"/>
                          </a:lnTo>
                          <a:lnTo>
                            <a:pt x="240" y="131"/>
                          </a:lnTo>
                          <a:lnTo>
                            <a:pt x="222" y="123"/>
                          </a:lnTo>
                          <a:lnTo>
                            <a:pt x="188" y="110"/>
                          </a:lnTo>
                          <a:lnTo>
                            <a:pt x="156" y="95"/>
                          </a:lnTo>
                          <a:lnTo>
                            <a:pt x="142" y="86"/>
                          </a:lnTo>
                          <a:lnTo>
                            <a:pt x="128" y="77"/>
                          </a:lnTo>
                          <a:lnTo>
                            <a:pt x="116" y="68"/>
                          </a:lnTo>
                          <a:lnTo>
                            <a:pt x="105" y="57"/>
                          </a:lnTo>
                          <a:lnTo>
                            <a:pt x="95" y="45"/>
                          </a:lnTo>
                          <a:lnTo>
                            <a:pt x="86" y="30"/>
                          </a:lnTo>
                          <a:lnTo>
                            <a:pt x="82" y="24"/>
                          </a:lnTo>
                          <a:lnTo>
                            <a:pt x="79" y="17"/>
                          </a:lnTo>
                          <a:lnTo>
                            <a:pt x="75" y="9"/>
                          </a:lnTo>
                          <a:lnTo>
                            <a:pt x="72" y="0"/>
                          </a:lnTo>
                          <a:lnTo>
                            <a:pt x="0" y="56"/>
                          </a:lnTo>
                          <a:lnTo>
                            <a:pt x="6" y="71"/>
                          </a:lnTo>
                          <a:lnTo>
                            <a:pt x="12" y="86"/>
                          </a:lnTo>
                          <a:lnTo>
                            <a:pt x="19" y="99"/>
                          </a:lnTo>
                          <a:lnTo>
                            <a:pt x="27" y="113"/>
                          </a:lnTo>
                          <a:lnTo>
                            <a:pt x="41" y="135"/>
                          </a:lnTo>
                          <a:lnTo>
                            <a:pt x="58" y="155"/>
                          </a:lnTo>
                          <a:lnTo>
                            <a:pt x="75" y="171"/>
                          </a:lnTo>
                          <a:lnTo>
                            <a:pt x="93" y="186"/>
                          </a:lnTo>
                          <a:lnTo>
                            <a:pt x="112" y="198"/>
                          </a:lnTo>
                          <a:lnTo>
                            <a:pt x="130" y="209"/>
                          </a:lnTo>
                          <a:lnTo>
                            <a:pt x="166" y="225"/>
                          </a:lnTo>
                          <a:lnTo>
                            <a:pt x="201" y="240"/>
                          </a:lnTo>
                          <a:lnTo>
                            <a:pt x="218" y="246"/>
                          </a:lnTo>
                          <a:lnTo>
                            <a:pt x="234" y="254"/>
                          </a:lnTo>
                          <a:lnTo>
                            <a:pt x="249" y="261"/>
                          </a:lnTo>
                          <a:lnTo>
                            <a:pt x="263" y="270"/>
                          </a:lnTo>
                          <a:lnTo>
                            <a:pt x="272" y="273"/>
                          </a:lnTo>
                          <a:lnTo>
                            <a:pt x="263" y="270"/>
                          </a:lnTo>
                          <a:lnTo>
                            <a:pt x="268" y="271"/>
                          </a:lnTo>
                          <a:lnTo>
                            <a:pt x="272" y="273"/>
                          </a:lnTo>
                          <a:lnTo>
                            <a:pt x="284" y="15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0" name=""/>
                    <p:cNvSpPr/>
                    <p:nvPr/>
                  </p:nvSpPr>
                  <p:spPr>
                    <a:xfrm>
                      <a:off x="387360" y="5257080"/>
                      <a:ext cx="17208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3" h="193">
                          <a:moveTo>
                            <a:pt x="971" y="183"/>
                          </a:moveTo>
                          <a:lnTo>
                            <a:pt x="955" y="75"/>
                          </a:lnTo>
                          <a:lnTo>
                            <a:pt x="925" y="66"/>
                          </a:lnTo>
                          <a:lnTo>
                            <a:pt x="895" y="59"/>
                          </a:lnTo>
                          <a:lnTo>
                            <a:pt x="865" y="53"/>
                          </a:lnTo>
                          <a:lnTo>
                            <a:pt x="834" y="48"/>
                          </a:lnTo>
                          <a:lnTo>
                            <a:pt x="774" y="39"/>
                          </a:lnTo>
                          <a:lnTo>
                            <a:pt x="714" y="33"/>
                          </a:lnTo>
                          <a:lnTo>
                            <a:pt x="653" y="30"/>
                          </a:lnTo>
                          <a:lnTo>
                            <a:pt x="593" y="29"/>
                          </a:lnTo>
                          <a:lnTo>
                            <a:pt x="533" y="29"/>
                          </a:lnTo>
                          <a:lnTo>
                            <a:pt x="473" y="29"/>
                          </a:lnTo>
                          <a:lnTo>
                            <a:pt x="414" y="29"/>
                          </a:lnTo>
                          <a:lnTo>
                            <a:pt x="354" y="30"/>
                          </a:lnTo>
                          <a:lnTo>
                            <a:pt x="296" y="30"/>
                          </a:lnTo>
                          <a:lnTo>
                            <a:pt x="237" y="29"/>
                          </a:lnTo>
                          <a:lnTo>
                            <a:pt x="180" y="26"/>
                          </a:lnTo>
                          <a:lnTo>
                            <a:pt x="123" y="20"/>
                          </a:lnTo>
                          <a:lnTo>
                            <a:pt x="95" y="17"/>
                          </a:lnTo>
                          <a:lnTo>
                            <a:pt x="67" y="12"/>
                          </a:lnTo>
                          <a:lnTo>
                            <a:pt x="40" y="6"/>
                          </a:lnTo>
                          <a:lnTo>
                            <a:pt x="12" y="0"/>
                          </a:lnTo>
                          <a:lnTo>
                            <a:pt x="0" y="120"/>
                          </a:lnTo>
                          <a:lnTo>
                            <a:pt x="29" y="126"/>
                          </a:lnTo>
                          <a:lnTo>
                            <a:pt x="59" y="132"/>
                          </a:lnTo>
                          <a:lnTo>
                            <a:pt x="88" y="136"/>
                          </a:lnTo>
                          <a:lnTo>
                            <a:pt x="118" y="139"/>
                          </a:lnTo>
                          <a:lnTo>
                            <a:pt x="176" y="145"/>
                          </a:lnTo>
                          <a:lnTo>
                            <a:pt x="236" y="148"/>
                          </a:lnTo>
                          <a:lnTo>
                            <a:pt x="295" y="150"/>
                          </a:lnTo>
                          <a:lnTo>
                            <a:pt x="354" y="151"/>
                          </a:lnTo>
                          <a:lnTo>
                            <a:pt x="414" y="150"/>
                          </a:lnTo>
                          <a:lnTo>
                            <a:pt x="473" y="150"/>
                          </a:lnTo>
                          <a:lnTo>
                            <a:pt x="533" y="150"/>
                          </a:lnTo>
                          <a:lnTo>
                            <a:pt x="592" y="150"/>
                          </a:lnTo>
                          <a:lnTo>
                            <a:pt x="651" y="151"/>
                          </a:lnTo>
                          <a:lnTo>
                            <a:pt x="710" y="154"/>
                          </a:lnTo>
                          <a:lnTo>
                            <a:pt x="768" y="160"/>
                          </a:lnTo>
                          <a:lnTo>
                            <a:pt x="826" y="168"/>
                          </a:lnTo>
                          <a:lnTo>
                            <a:pt x="854" y="172"/>
                          </a:lnTo>
                          <a:lnTo>
                            <a:pt x="883" y="178"/>
                          </a:lnTo>
                          <a:lnTo>
                            <a:pt x="911" y="186"/>
                          </a:lnTo>
                          <a:lnTo>
                            <a:pt x="939" y="193"/>
                          </a:lnTo>
                          <a:lnTo>
                            <a:pt x="923" y="86"/>
                          </a:lnTo>
                          <a:lnTo>
                            <a:pt x="971" y="183"/>
                          </a:lnTo>
                          <a:lnTo>
                            <a:pt x="1043" y="101"/>
                          </a:lnTo>
                          <a:lnTo>
                            <a:pt x="955" y="75"/>
                          </a:lnTo>
                          <a:lnTo>
                            <a:pt x="971" y="18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1" name=""/>
                    <p:cNvSpPr/>
                    <p:nvPr/>
                  </p:nvSpPr>
                  <p:spPr>
                    <a:xfrm>
                      <a:off x="439200" y="5270040"/>
                      <a:ext cx="108000" cy="6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6" h="422">
                          <a:moveTo>
                            <a:pt x="85" y="341"/>
                          </a:moveTo>
                          <a:lnTo>
                            <a:pt x="84" y="422"/>
                          </a:lnTo>
                          <a:lnTo>
                            <a:pt x="98" y="401"/>
                          </a:lnTo>
                          <a:lnTo>
                            <a:pt x="112" y="383"/>
                          </a:lnTo>
                          <a:lnTo>
                            <a:pt x="127" y="367"/>
                          </a:lnTo>
                          <a:lnTo>
                            <a:pt x="141" y="350"/>
                          </a:lnTo>
                          <a:lnTo>
                            <a:pt x="157" y="337"/>
                          </a:lnTo>
                          <a:lnTo>
                            <a:pt x="172" y="325"/>
                          </a:lnTo>
                          <a:lnTo>
                            <a:pt x="188" y="314"/>
                          </a:lnTo>
                          <a:lnTo>
                            <a:pt x="204" y="304"/>
                          </a:lnTo>
                          <a:lnTo>
                            <a:pt x="220" y="295"/>
                          </a:lnTo>
                          <a:lnTo>
                            <a:pt x="237" y="287"/>
                          </a:lnTo>
                          <a:lnTo>
                            <a:pt x="254" y="280"/>
                          </a:lnTo>
                          <a:lnTo>
                            <a:pt x="271" y="272"/>
                          </a:lnTo>
                          <a:lnTo>
                            <a:pt x="308" y="262"/>
                          </a:lnTo>
                          <a:lnTo>
                            <a:pt x="345" y="251"/>
                          </a:lnTo>
                          <a:lnTo>
                            <a:pt x="383" y="242"/>
                          </a:lnTo>
                          <a:lnTo>
                            <a:pt x="421" y="232"/>
                          </a:lnTo>
                          <a:lnTo>
                            <a:pt x="461" y="220"/>
                          </a:lnTo>
                          <a:lnTo>
                            <a:pt x="499" y="206"/>
                          </a:lnTo>
                          <a:lnTo>
                            <a:pt x="520" y="197"/>
                          </a:lnTo>
                          <a:lnTo>
                            <a:pt x="540" y="187"/>
                          </a:lnTo>
                          <a:lnTo>
                            <a:pt x="559" y="176"/>
                          </a:lnTo>
                          <a:lnTo>
                            <a:pt x="579" y="164"/>
                          </a:lnTo>
                          <a:lnTo>
                            <a:pt x="598" y="149"/>
                          </a:lnTo>
                          <a:lnTo>
                            <a:pt x="618" y="134"/>
                          </a:lnTo>
                          <a:lnTo>
                            <a:pt x="637" y="116"/>
                          </a:lnTo>
                          <a:lnTo>
                            <a:pt x="656" y="97"/>
                          </a:lnTo>
                          <a:lnTo>
                            <a:pt x="608" y="0"/>
                          </a:lnTo>
                          <a:lnTo>
                            <a:pt x="593" y="16"/>
                          </a:lnTo>
                          <a:lnTo>
                            <a:pt x="577" y="29"/>
                          </a:lnTo>
                          <a:lnTo>
                            <a:pt x="562" y="43"/>
                          </a:lnTo>
                          <a:lnTo>
                            <a:pt x="546" y="53"/>
                          </a:lnTo>
                          <a:lnTo>
                            <a:pt x="530" y="64"/>
                          </a:lnTo>
                          <a:lnTo>
                            <a:pt x="513" y="73"/>
                          </a:lnTo>
                          <a:lnTo>
                            <a:pt x="496" y="82"/>
                          </a:lnTo>
                          <a:lnTo>
                            <a:pt x="479" y="89"/>
                          </a:lnTo>
                          <a:lnTo>
                            <a:pt x="443" y="101"/>
                          </a:lnTo>
                          <a:lnTo>
                            <a:pt x="407" y="113"/>
                          </a:lnTo>
                          <a:lnTo>
                            <a:pt x="369" y="122"/>
                          </a:lnTo>
                          <a:lnTo>
                            <a:pt x="331" y="133"/>
                          </a:lnTo>
                          <a:lnTo>
                            <a:pt x="292" y="143"/>
                          </a:lnTo>
                          <a:lnTo>
                            <a:pt x="254" y="155"/>
                          </a:lnTo>
                          <a:lnTo>
                            <a:pt x="233" y="163"/>
                          </a:lnTo>
                          <a:lnTo>
                            <a:pt x="214" y="170"/>
                          </a:lnTo>
                          <a:lnTo>
                            <a:pt x="194" y="181"/>
                          </a:lnTo>
                          <a:lnTo>
                            <a:pt x="175" y="191"/>
                          </a:lnTo>
                          <a:lnTo>
                            <a:pt x="155" y="203"/>
                          </a:lnTo>
                          <a:lnTo>
                            <a:pt x="136" y="217"/>
                          </a:lnTo>
                          <a:lnTo>
                            <a:pt x="116" y="232"/>
                          </a:lnTo>
                          <a:lnTo>
                            <a:pt x="98" y="250"/>
                          </a:lnTo>
                          <a:lnTo>
                            <a:pt x="79" y="269"/>
                          </a:lnTo>
                          <a:lnTo>
                            <a:pt x="61" y="290"/>
                          </a:lnTo>
                          <a:lnTo>
                            <a:pt x="43" y="314"/>
                          </a:lnTo>
                          <a:lnTo>
                            <a:pt x="26" y="340"/>
                          </a:lnTo>
                          <a:lnTo>
                            <a:pt x="25" y="421"/>
                          </a:lnTo>
                          <a:lnTo>
                            <a:pt x="26" y="340"/>
                          </a:lnTo>
                          <a:lnTo>
                            <a:pt x="0" y="380"/>
                          </a:lnTo>
                          <a:lnTo>
                            <a:pt x="25" y="421"/>
                          </a:lnTo>
                          <a:lnTo>
                            <a:pt x="85" y="34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840" bIns="15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2" name=""/>
                    <p:cNvSpPr/>
                    <p:nvPr/>
                  </p:nvSpPr>
                  <p:spPr>
                    <a:xfrm>
                      <a:off x="443520" y="5320800"/>
                      <a:ext cx="13032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1" h="299">
                          <a:moveTo>
                            <a:pt x="791" y="200"/>
                          </a:moveTo>
                          <a:lnTo>
                            <a:pt x="747" y="140"/>
                          </a:lnTo>
                          <a:lnTo>
                            <a:pt x="701" y="147"/>
                          </a:lnTo>
                          <a:lnTo>
                            <a:pt x="654" y="155"/>
                          </a:lnTo>
                          <a:lnTo>
                            <a:pt x="606" y="161"/>
                          </a:lnTo>
                          <a:lnTo>
                            <a:pt x="557" y="167"/>
                          </a:lnTo>
                          <a:lnTo>
                            <a:pt x="509" y="173"/>
                          </a:lnTo>
                          <a:lnTo>
                            <a:pt x="460" y="176"/>
                          </a:lnTo>
                          <a:lnTo>
                            <a:pt x="436" y="177"/>
                          </a:lnTo>
                          <a:lnTo>
                            <a:pt x="412" y="177"/>
                          </a:lnTo>
                          <a:lnTo>
                            <a:pt x="388" y="176"/>
                          </a:lnTo>
                          <a:lnTo>
                            <a:pt x="364" y="174"/>
                          </a:lnTo>
                          <a:lnTo>
                            <a:pt x="341" y="173"/>
                          </a:lnTo>
                          <a:lnTo>
                            <a:pt x="318" y="168"/>
                          </a:lnTo>
                          <a:lnTo>
                            <a:pt x="296" y="165"/>
                          </a:lnTo>
                          <a:lnTo>
                            <a:pt x="274" y="159"/>
                          </a:lnTo>
                          <a:lnTo>
                            <a:pt x="253" y="153"/>
                          </a:lnTo>
                          <a:lnTo>
                            <a:pt x="232" y="146"/>
                          </a:lnTo>
                          <a:lnTo>
                            <a:pt x="212" y="138"/>
                          </a:lnTo>
                          <a:lnTo>
                            <a:pt x="192" y="128"/>
                          </a:lnTo>
                          <a:lnTo>
                            <a:pt x="173" y="117"/>
                          </a:lnTo>
                          <a:lnTo>
                            <a:pt x="154" y="105"/>
                          </a:lnTo>
                          <a:lnTo>
                            <a:pt x="137" y="90"/>
                          </a:lnTo>
                          <a:lnTo>
                            <a:pt x="120" y="75"/>
                          </a:lnTo>
                          <a:lnTo>
                            <a:pt x="104" y="59"/>
                          </a:lnTo>
                          <a:lnTo>
                            <a:pt x="88" y="41"/>
                          </a:lnTo>
                          <a:lnTo>
                            <a:pt x="74" y="21"/>
                          </a:lnTo>
                          <a:lnTo>
                            <a:pt x="60" y="0"/>
                          </a:lnTo>
                          <a:lnTo>
                            <a:pt x="0" y="80"/>
                          </a:lnTo>
                          <a:lnTo>
                            <a:pt x="18" y="108"/>
                          </a:lnTo>
                          <a:lnTo>
                            <a:pt x="37" y="132"/>
                          </a:lnTo>
                          <a:lnTo>
                            <a:pt x="56" y="156"/>
                          </a:lnTo>
                          <a:lnTo>
                            <a:pt x="76" y="177"/>
                          </a:lnTo>
                          <a:lnTo>
                            <a:pt x="98" y="197"/>
                          </a:lnTo>
                          <a:lnTo>
                            <a:pt x="119" y="213"/>
                          </a:lnTo>
                          <a:lnTo>
                            <a:pt x="142" y="228"/>
                          </a:lnTo>
                          <a:lnTo>
                            <a:pt x="165" y="240"/>
                          </a:lnTo>
                          <a:lnTo>
                            <a:pt x="188" y="254"/>
                          </a:lnTo>
                          <a:lnTo>
                            <a:pt x="212" y="263"/>
                          </a:lnTo>
                          <a:lnTo>
                            <a:pt x="236" y="272"/>
                          </a:lnTo>
                          <a:lnTo>
                            <a:pt x="260" y="278"/>
                          </a:lnTo>
                          <a:lnTo>
                            <a:pt x="285" y="285"/>
                          </a:lnTo>
                          <a:lnTo>
                            <a:pt x="310" y="290"/>
                          </a:lnTo>
                          <a:lnTo>
                            <a:pt x="335" y="293"/>
                          </a:lnTo>
                          <a:lnTo>
                            <a:pt x="360" y="296"/>
                          </a:lnTo>
                          <a:lnTo>
                            <a:pt x="386" y="297"/>
                          </a:lnTo>
                          <a:lnTo>
                            <a:pt x="411" y="299"/>
                          </a:lnTo>
                          <a:lnTo>
                            <a:pt x="436" y="297"/>
                          </a:lnTo>
                          <a:lnTo>
                            <a:pt x="462" y="297"/>
                          </a:lnTo>
                          <a:lnTo>
                            <a:pt x="513" y="294"/>
                          </a:lnTo>
                          <a:lnTo>
                            <a:pt x="564" y="288"/>
                          </a:lnTo>
                          <a:lnTo>
                            <a:pt x="613" y="281"/>
                          </a:lnTo>
                          <a:lnTo>
                            <a:pt x="662" y="273"/>
                          </a:lnTo>
                          <a:lnTo>
                            <a:pt x="709" y="267"/>
                          </a:lnTo>
                          <a:lnTo>
                            <a:pt x="755" y="260"/>
                          </a:lnTo>
                          <a:lnTo>
                            <a:pt x="711" y="200"/>
                          </a:lnTo>
                          <a:lnTo>
                            <a:pt x="791" y="200"/>
                          </a:lnTo>
                          <a:lnTo>
                            <a:pt x="791" y="132"/>
                          </a:lnTo>
                          <a:lnTo>
                            <a:pt x="747" y="140"/>
                          </a:lnTo>
                          <a:lnTo>
                            <a:pt x="791" y="20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3" name=""/>
                    <p:cNvSpPr/>
                    <p:nvPr/>
                  </p:nvSpPr>
                  <p:spPr>
                    <a:xfrm>
                      <a:off x="560880" y="5350320"/>
                      <a:ext cx="12960" cy="1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130">
                          <a:moveTo>
                            <a:pt x="55" y="130"/>
                          </a:moveTo>
                          <a:lnTo>
                            <a:pt x="80" y="72"/>
                          </a:lnTo>
                          <a:lnTo>
                            <a:pt x="80" y="0"/>
                          </a:lnTo>
                          <a:lnTo>
                            <a:pt x="0" y="0"/>
                          </a:lnTo>
                          <a:lnTo>
                            <a:pt x="0" y="72"/>
                          </a:lnTo>
                          <a:lnTo>
                            <a:pt x="55" y="130"/>
                          </a:lnTo>
                          <a:lnTo>
                            <a:pt x="80" y="114"/>
                          </a:lnTo>
                          <a:lnTo>
                            <a:pt x="80" y="72"/>
                          </a:lnTo>
                          <a:lnTo>
                            <a:pt x="55" y="13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4" name=""/>
                    <p:cNvSpPr/>
                    <p:nvPr/>
                  </p:nvSpPr>
                  <p:spPr>
                    <a:xfrm>
                      <a:off x="497160" y="5353200"/>
                      <a:ext cx="7236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9" h="370">
                          <a:moveTo>
                            <a:pt x="81" y="340"/>
                          </a:moveTo>
                          <a:lnTo>
                            <a:pt x="75" y="370"/>
                          </a:lnTo>
                          <a:lnTo>
                            <a:pt x="81" y="357"/>
                          </a:lnTo>
                          <a:lnTo>
                            <a:pt x="87" y="343"/>
                          </a:lnTo>
                          <a:lnTo>
                            <a:pt x="94" y="331"/>
                          </a:lnTo>
                          <a:lnTo>
                            <a:pt x="102" y="318"/>
                          </a:lnTo>
                          <a:lnTo>
                            <a:pt x="110" y="307"/>
                          </a:lnTo>
                          <a:lnTo>
                            <a:pt x="118" y="298"/>
                          </a:lnTo>
                          <a:lnTo>
                            <a:pt x="127" y="286"/>
                          </a:lnTo>
                          <a:lnTo>
                            <a:pt x="135" y="276"/>
                          </a:lnTo>
                          <a:lnTo>
                            <a:pt x="156" y="259"/>
                          </a:lnTo>
                          <a:lnTo>
                            <a:pt x="177" y="241"/>
                          </a:lnTo>
                          <a:lnTo>
                            <a:pt x="200" y="228"/>
                          </a:lnTo>
                          <a:lnTo>
                            <a:pt x="224" y="211"/>
                          </a:lnTo>
                          <a:lnTo>
                            <a:pt x="276" y="187"/>
                          </a:lnTo>
                          <a:lnTo>
                            <a:pt x="330" y="163"/>
                          </a:lnTo>
                          <a:lnTo>
                            <a:pt x="357" y="153"/>
                          </a:lnTo>
                          <a:lnTo>
                            <a:pt x="385" y="139"/>
                          </a:lnTo>
                          <a:lnTo>
                            <a:pt x="412" y="126"/>
                          </a:lnTo>
                          <a:lnTo>
                            <a:pt x="439" y="112"/>
                          </a:lnTo>
                          <a:lnTo>
                            <a:pt x="409" y="0"/>
                          </a:lnTo>
                          <a:lnTo>
                            <a:pt x="385" y="13"/>
                          </a:lnTo>
                          <a:lnTo>
                            <a:pt x="361" y="24"/>
                          </a:lnTo>
                          <a:lnTo>
                            <a:pt x="334" y="37"/>
                          </a:lnTo>
                          <a:lnTo>
                            <a:pt x="307" y="48"/>
                          </a:lnTo>
                          <a:lnTo>
                            <a:pt x="252" y="72"/>
                          </a:lnTo>
                          <a:lnTo>
                            <a:pt x="198" y="97"/>
                          </a:lnTo>
                          <a:lnTo>
                            <a:pt x="169" y="115"/>
                          </a:lnTo>
                          <a:lnTo>
                            <a:pt x="142" y="132"/>
                          </a:lnTo>
                          <a:lnTo>
                            <a:pt x="116" y="154"/>
                          </a:lnTo>
                          <a:lnTo>
                            <a:pt x="91" y="175"/>
                          </a:lnTo>
                          <a:lnTo>
                            <a:pt x="78" y="190"/>
                          </a:lnTo>
                          <a:lnTo>
                            <a:pt x="67" y="202"/>
                          </a:lnTo>
                          <a:lnTo>
                            <a:pt x="55" y="219"/>
                          </a:lnTo>
                          <a:lnTo>
                            <a:pt x="44" y="234"/>
                          </a:lnTo>
                          <a:lnTo>
                            <a:pt x="34" y="252"/>
                          </a:lnTo>
                          <a:lnTo>
                            <a:pt x="24" y="270"/>
                          </a:lnTo>
                          <a:lnTo>
                            <a:pt x="14" y="289"/>
                          </a:lnTo>
                          <a:lnTo>
                            <a:pt x="6" y="309"/>
                          </a:lnTo>
                          <a:lnTo>
                            <a:pt x="0" y="340"/>
                          </a:lnTo>
                          <a:lnTo>
                            <a:pt x="6" y="309"/>
                          </a:lnTo>
                          <a:lnTo>
                            <a:pt x="0" y="324"/>
                          </a:lnTo>
                          <a:lnTo>
                            <a:pt x="0" y="340"/>
                          </a:lnTo>
                          <a:lnTo>
                            <a:pt x="81" y="34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5" name=""/>
                    <p:cNvSpPr/>
                    <p:nvPr/>
                  </p:nvSpPr>
                  <p:spPr>
                    <a:xfrm>
                      <a:off x="497160" y="5403960"/>
                      <a:ext cx="55440" cy="5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5" h="361">
                          <a:moveTo>
                            <a:pt x="327" y="243"/>
                          </a:moveTo>
                          <a:lnTo>
                            <a:pt x="335" y="246"/>
                          </a:lnTo>
                          <a:lnTo>
                            <a:pt x="291" y="223"/>
                          </a:lnTo>
                          <a:lnTo>
                            <a:pt x="245" y="202"/>
                          </a:lnTo>
                          <a:lnTo>
                            <a:pt x="222" y="192"/>
                          </a:lnTo>
                          <a:lnTo>
                            <a:pt x="200" y="180"/>
                          </a:lnTo>
                          <a:lnTo>
                            <a:pt x="179" y="168"/>
                          </a:lnTo>
                          <a:lnTo>
                            <a:pt x="158" y="154"/>
                          </a:lnTo>
                          <a:lnTo>
                            <a:pt x="150" y="148"/>
                          </a:lnTo>
                          <a:lnTo>
                            <a:pt x="141" y="141"/>
                          </a:lnTo>
                          <a:lnTo>
                            <a:pt x="133" y="133"/>
                          </a:lnTo>
                          <a:lnTo>
                            <a:pt x="125" y="126"/>
                          </a:lnTo>
                          <a:lnTo>
                            <a:pt x="118" y="117"/>
                          </a:lnTo>
                          <a:lnTo>
                            <a:pt x="112" y="110"/>
                          </a:lnTo>
                          <a:lnTo>
                            <a:pt x="106" y="101"/>
                          </a:lnTo>
                          <a:lnTo>
                            <a:pt x="101" y="92"/>
                          </a:lnTo>
                          <a:lnTo>
                            <a:pt x="96" y="83"/>
                          </a:lnTo>
                          <a:lnTo>
                            <a:pt x="92" y="74"/>
                          </a:lnTo>
                          <a:lnTo>
                            <a:pt x="89" y="63"/>
                          </a:lnTo>
                          <a:lnTo>
                            <a:pt x="86" y="53"/>
                          </a:lnTo>
                          <a:lnTo>
                            <a:pt x="84" y="41"/>
                          </a:lnTo>
                          <a:lnTo>
                            <a:pt x="82" y="30"/>
                          </a:lnTo>
                          <a:lnTo>
                            <a:pt x="81" y="15"/>
                          </a:lnTo>
                          <a:lnTo>
                            <a:pt x="81" y="0"/>
                          </a:lnTo>
                          <a:lnTo>
                            <a:pt x="0" y="0"/>
                          </a:lnTo>
                          <a:lnTo>
                            <a:pt x="1" y="24"/>
                          </a:lnTo>
                          <a:lnTo>
                            <a:pt x="3" y="48"/>
                          </a:lnTo>
                          <a:lnTo>
                            <a:pt x="6" y="71"/>
                          </a:lnTo>
                          <a:lnTo>
                            <a:pt x="10" y="92"/>
                          </a:lnTo>
                          <a:lnTo>
                            <a:pt x="16" y="113"/>
                          </a:lnTo>
                          <a:lnTo>
                            <a:pt x="22" y="132"/>
                          </a:lnTo>
                          <a:lnTo>
                            <a:pt x="30" y="150"/>
                          </a:lnTo>
                          <a:lnTo>
                            <a:pt x="38" y="168"/>
                          </a:lnTo>
                          <a:lnTo>
                            <a:pt x="47" y="183"/>
                          </a:lnTo>
                          <a:lnTo>
                            <a:pt x="57" y="198"/>
                          </a:lnTo>
                          <a:lnTo>
                            <a:pt x="67" y="211"/>
                          </a:lnTo>
                          <a:lnTo>
                            <a:pt x="78" y="223"/>
                          </a:lnTo>
                          <a:lnTo>
                            <a:pt x="89" y="234"/>
                          </a:lnTo>
                          <a:lnTo>
                            <a:pt x="100" y="246"/>
                          </a:lnTo>
                          <a:lnTo>
                            <a:pt x="112" y="255"/>
                          </a:lnTo>
                          <a:lnTo>
                            <a:pt x="124" y="264"/>
                          </a:lnTo>
                          <a:lnTo>
                            <a:pt x="148" y="280"/>
                          </a:lnTo>
                          <a:lnTo>
                            <a:pt x="172" y="294"/>
                          </a:lnTo>
                          <a:lnTo>
                            <a:pt x="197" y="306"/>
                          </a:lnTo>
                          <a:lnTo>
                            <a:pt x="221" y="318"/>
                          </a:lnTo>
                          <a:lnTo>
                            <a:pt x="266" y="339"/>
                          </a:lnTo>
                          <a:lnTo>
                            <a:pt x="306" y="358"/>
                          </a:lnTo>
                          <a:lnTo>
                            <a:pt x="313" y="361"/>
                          </a:lnTo>
                          <a:lnTo>
                            <a:pt x="306" y="358"/>
                          </a:lnTo>
                          <a:lnTo>
                            <a:pt x="309" y="361"/>
                          </a:lnTo>
                          <a:lnTo>
                            <a:pt x="313" y="361"/>
                          </a:lnTo>
                          <a:lnTo>
                            <a:pt x="327" y="24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6" name=""/>
                    <p:cNvSpPr/>
                    <p:nvPr/>
                  </p:nvSpPr>
                  <p:spPr>
                    <a:xfrm>
                      <a:off x="549000" y="5417640"/>
                      <a:ext cx="18432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8" h="315">
                          <a:moveTo>
                            <a:pt x="1085" y="2"/>
                          </a:moveTo>
                          <a:lnTo>
                            <a:pt x="1087" y="0"/>
                          </a:lnTo>
                          <a:lnTo>
                            <a:pt x="1058" y="17"/>
                          </a:lnTo>
                          <a:lnTo>
                            <a:pt x="1029" y="31"/>
                          </a:lnTo>
                          <a:lnTo>
                            <a:pt x="998" y="46"/>
                          </a:lnTo>
                          <a:lnTo>
                            <a:pt x="967" y="60"/>
                          </a:lnTo>
                          <a:lnTo>
                            <a:pt x="936" y="73"/>
                          </a:lnTo>
                          <a:lnTo>
                            <a:pt x="904" y="87"/>
                          </a:lnTo>
                          <a:lnTo>
                            <a:pt x="871" y="99"/>
                          </a:lnTo>
                          <a:lnTo>
                            <a:pt x="838" y="111"/>
                          </a:lnTo>
                          <a:lnTo>
                            <a:pt x="805" y="121"/>
                          </a:lnTo>
                          <a:lnTo>
                            <a:pt x="771" y="130"/>
                          </a:lnTo>
                          <a:lnTo>
                            <a:pt x="737" y="141"/>
                          </a:lnTo>
                          <a:lnTo>
                            <a:pt x="702" y="150"/>
                          </a:lnTo>
                          <a:lnTo>
                            <a:pt x="667" y="157"/>
                          </a:lnTo>
                          <a:lnTo>
                            <a:pt x="632" y="165"/>
                          </a:lnTo>
                          <a:lnTo>
                            <a:pt x="597" y="171"/>
                          </a:lnTo>
                          <a:lnTo>
                            <a:pt x="562" y="177"/>
                          </a:lnTo>
                          <a:lnTo>
                            <a:pt x="527" y="181"/>
                          </a:lnTo>
                          <a:lnTo>
                            <a:pt x="491" y="186"/>
                          </a:lnTo>
                          <a:lnTo>
                            <a:pt x="456" y="189"/>
                          </a:lnTo>
                          <a:lnTo>
                            <a:pt x="421" y="192"/>
                          </a:lnTo>
                          <a:lnTo>
                            <a:pt x="386" y="193"/>
                          </a:lnTo>
                          <a:lnTo>
                            <a:pt x="351" y="193"/>
                          </a:lnTo>
                          <a:lnTo>
                            <a:pt x="316" y="193"/>
                          </a:lnTo>
                          <a:lnTo>
                            <a:pt x="281" y="193"/>
                          </a:lnTo>
                          <a:lnTo>
                            <a:pt x="246" y="190"/>
                          </a:lnTo>
                          <a:lnTo>
                            <a:pt x="212" y="189"/>
                          </a:lnTo>
                          <a:lnTo>
                            <a:pt x="178" y="184"/>
                          </a:lnTo>
                          <a:lnTo>
                            <a:pt x="145" y="180"/>
                          </a:lnTo>
                          <a:lnTo>
                            <a:pt x="111" y="175"/>
                          </a:lnTo>
                          <a:lnTo>
                            <a:pt x="79" y="168"/>
                          </a:lnTo>
                          <a:lnTo>
                            <a:pt x="46" y="162"/>
                          </a:lnTo>
                          <a:lnTo>
                            <a:pt x="14" y="153"/>
                          </a:lnTo>
                          <a:lnTo>
                            <a:pt x="0" y="271"/>
                          </a:lnTo>
                          <a:lnTo>
                            <a:pt x="34" y="280"/>
                          </a:lnTo>
                          <a:lnTo>
                            <a:pt x="68" y="288"/>
                          </a:lnTo>
                          <a:lnTo>
                            <a:pt x="102" y="295"/>
                          </a:lnTo>
                          <a:lnTo>
                            <a:pt x="137" y="300"/>
                          </a:lnTo>
                          <a:lnTo>
                            <a:pt x="172" y="306"/>
                          </a:lnTo>
                          <a:lnTo>
                            <a:pt x="207" y="309"/>
                          </a:lnTo>
                          <a:lnTo>
                            <a:pt x="243" y="312"/>
                          </a:lnTo>
                          <a:lnTo>
                            <a:pt x="279" y="313"/>
                          </a:lnTo>
                          <a:lnTo>
                            <a:pt x="315" y="315"/>
                          </a:lnTo>
                          <a:lnTo>
                            <a:pt x="351" y="315"/>
                          </a:lnTo>
                          <a:lnTo>
                            <a:pt x="387" y="313"/>
                          </a:lnTo>
                          <a:lnTo>
                            <a:pt x="424" y="312"/>
                          </a:lnTo>
                          <a:lnTo>
                            <a:pt x="460" y="309"/>
                          </a:lnTo>
                          <a:lnTo>
                            <a:pt x="497" y="306"/>
                          </a:lnTo>
                          <a:lnTo>
                            <a:pt x="533" y="301"/>
                          </a:lnTo>
                          <a:lnTo>
                            <a:pt x="570" y="297"/>
                          </a:lnTo>
                          <a:lnTo>
                            <a:pt x="606" y="291"/>
                          </a:lnTo>
                          <a:lnTo>
                            <a:pt x="642" y="285"/>
                          </a:lnTo>
                          <a:lnTo>
                            <a:pt x="678" y="277"/>
                          </a:lnTo>
                          <a:lnTo>
                            <a:pt x="715" y="268"/>
                          </a:lnTo>
                          <a:lnTo>
                            <a:pt x="751" y="259"/>
                          </a:lnTo>
                          <a:lnTo>
                            <a:pt x="786" y="250"/>
                          </a:lnTo>
                          <a:lnTo>
                            <a:pt x="821" y="240"/>
                          </a:lnTo>
                          <a:lnTo>
                            <a:pt x="856" y="228"/>
                          </a:lnTo>
                          <a:lnTo>
                            <a:pt x="890" y="216"/>
                          </a:lnTo>
                          <a:lnTo>
                            <a:pt x="924" y="204"/>
                          </a:lnTo>
                          <a:lnTo>
                            <a:pt x="957" y="190"/>
                          </a:lnTo>
                          <a:lnTo>
                            <a:pt x="990" y="175"/>
                          </a:lnTo>
                          <a:lnTo>
                            <a:pt x="1022" y="162"/>
                          </a:lnTo>
                          <a:lnTo>
                            <a:pt x="1054" y="145"/>
                          </a:lnTo>
                          <a:lnTo>
                            <a:pt x="1085" y="130"/>
                          </a:lnTo>
                          <a:lnTo>
                            <a:pt x="1116" y="112"/>
                          </a:lnTo>
                          <a:lnTo>
                            <a:pt x="1118" y="112"/>
                          </a:lnTo>
                          <a:lnTo>
                            <a:pt x="1116" y="112"/>
                          </a:lnTo>
                          <a:lnTo>
                            <a:pt x="1117" y="112"/>
                          </a:lnTo>
                          <a:lnTo>
                            <a:pt x="1118" y="112"/>
                          </a:lnTo>
                          <a:lnTo>
                            <a:pt x="1085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7" name=""/>
                    <p:cNvSpPr/>
                    <p:nvPr/>
                  </p:nvSpPr>
                  <p:spPr>
                    <a:xfrm>
                      <a:off x="728280" y="5413680"/>
                      <a:ext cx="4248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8" h="154">
                          <a:moveTo>
                            <a:pt x="205" y="149"/>
                          </a:moveTo>
                          <a:lnTo>
                            <a:pt x="199" y="46"/>
                          </a:lnTo>
                          <a:lnTo>
                            <a:pt x="180" y="33"/>
                          </a:lnTo>
                          <a:lnTo>
                            <a:pt x="159" y="22"/>
                          </a:lnTo>
                          <a:lnTo>
                            <a:pt x="136" y="12"/>
                          </a:lnTo>
                          <a:lnTo>
                            <a:pt x="112" y="4"/>
                          </a:lnTo>
                          <a:lnTo>
                            <a:pt x="98" y="1"/>
                          </a:lnTo>
                          <a:lnTo>
                            <a:pt x="85" y="0"/>
                          </a:lnTo>
                          <a:lnTo>
                            <a:pt x="71" y="0"/>
                          </a:lnTo>
                          <a:lnTo>
                            <a:pt x="57" y="1"/>
                          </a:lnTo>
                          <a:lnTo>
                            <a:pt x="43" y="4"/>
                          </a:lnTo>
                          <a:lnTo>
                            <a:pt x="29" y="9"/>
                          </a:lnTo>
                          <a:lnTo>
                            <a:pt x="14" y="15"/>
                          </a:lnTo>
                          <a:lnTo>
                            <a:pt x="0" y="24"/>
                          </a:lnTo>
                          <a:lnTo>
                            <a:pt x="33" y="134"/>
                          </a:lnTo>
                          <a:lnTo>
                            <a:pt x="41" y="128"/>
                          </a:lnTo>
                          <a:lnTo>
                            <a:pt x="49" y="125"/>
                          </a:lnTo>
                          <a:lnTo>
                            <a:pt x="57" y="124"/>
                          </a:lnTo>
                          <a:lnTo>
                            <a:pt x="65" y="121"/>
                          </a:lnTo>
                          <a:lnTo>
                            <a:pt x="73" y="121"/>
                          </a:lnTo>
                          <a:lnTo>
                            <a:pt x="82" y="121"/>
                          </a:lnTo>
                          <a:lnTo>
                            <a:pt x="91" y="121"/>
                          </a:lnTo>
                          <a:lnTo>
                            <a:pt x="99" y="122"/>
                          </a:lnTo>
                          <a:lnTo>
                            <a:pt x="117" y="128"/>
                          </a:lnTo>
                          <a:lnTo>
                            <a:pt x="134" y="136"/>
                          </a:lnTo>
                          <a:lnTo>
                            <a:pt x="149" y="145"/>
                          </a:lnTo>
                          <a:lnTo>
                            <a:pt x="163" y="154"/>
                          </a:lnTo>
                          <a:lnTo>
                            <a:pt x="157" y="52"/>
                          </a:lnTo>
                          <a:lnTo>
                            <a:pt x="205" y="149"/>
                          </a:lnTo>
                          <a:lnTo>
                            <a:pt x="258" y="89"/>
                          </a:lnTo>
                          <a:lnTo>
                            <a:pt x="199" y="46"/>
                          </a:lnTo>
                          <a:lnTo>
                            <a:pt x="205" y="14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8" name=""/>
                    <p:cNvSpPr/>
                    <p:nvPr/>
                  </p:nvSpPr>
                  <p:spPr>
                    <a:xfrm>
                      <a:off x="666720" y="5421960"/>
                      <a:ext cx="9504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6" h="493">
                          <a:moveTo>
                            <a:pt x="81" y="444"/>
                          </a:moveTo>
                          <a:lnTo>
                            <a:pt x="81" y="493"/>
                          </a:lnTo>
                          <a:lnTo>
                            <a:pt x="89" y="469"/>
                          </a:lnTo>
                          <a:lnTo>
                            <a:pt x="98" y="447"/>
                          </a:lnTo>
                          <a:lnTo>
                            <a:pt x="107" y="426"/>
                          </a:lnTo>
                          <a:lnTo>
                            <a:pt x="117" y="408"/>
                          </a:lnTo>
                          <a:lnTo>
                            <a:pt x="128" y="390"/>
                          </a:lnTo>
                          <a:lnTo>
                            <a:pt x="139" y="375"/>
                          </a:lnTo>
                          <a:lnTo>
                            <a:pt x="151" y="360"/>
                          </a:lnTo>
                          <a:lnTo>
                            <a:pt x="164" y="346"/>
                          </a:lnTo>
                          <a:lnTo>
                            <a:pt x="177" y="333"/>
                          </a:lnTo>
                          <a:lnTo>
                            <a:pt x="191" y="322"/>
                          </a:lnTo>
                          <a:lnTo>
                            <a:pt x="206" y="310"/>
                          </a:lnTo>
                          <a:lnTo>
                            <a:pt x="220" y="301"/>
                          </a:lnTo>
                          <a:lnTo>
                            <a:pt x="253" y="282"/>
                          </a:lnTo>
                          <a:lnTo>
                            <a:pt x="286" y="265"/>
                          </a:lnTo>
                          <a:lnTo>
                            <a:pt x="358" y="235"/>
                          </a:lnTo>
                          <a:lnTo>
                            <a:pt x="431" y="202"/>
                          </a:lnTo>
                          <a:lnTo>
                            <a:pt x="450" y="193"/>
                          </a:lnTo>
                          <a:lnTo>
                            <a:pt x="469" y="183"/>
                          </a:lnTo>
                          <a:lnTo>
                            <a:pt x="487" y="171"/>
                          </a:lnTo>
                          <a:lnTo>
                            <a:pt x="506" y="159"/>
                          </a:lnTo>
                          <a:lnTo>
                            <a:pt x="524" y="145"/>
                          </a:lnTo>
                          <a:lnTo>
                            <a:pt x="542" y="130"/>
                          </a:lnTo>
                          <a:lnTo>
                            <a:pt x="559" y="114"/>
                          </a:lnTo>
                          <a:lnTo>
                            <a:pt x="576" y="97"/>
                          </a:lnTo>
                          <a:lnTo>
                            <a:pt x="528" y="0"/>
                          </a:lnTo>
                          <a:lnTo>
                            <a:pt x="515" y="13"/>
                          </a:lnTo>
                          <a:lnTo>
                            <a:pt x="501" y="27"/>
                          </a:lnTo>
                          <a:lnTo>
                            <a:pt x="487" y="39"/>
                          </a:lnTo>
                          <a:lnTo>
                            <a:pt x="472" y="49"/>
                          </a:lnTo>
                          <a:lnTo>
                            <a:pt x="456" y="60"/>
                          </a:lnTo>
                          <a:lnTo>
                            <a:pt x="440" y="70"/>
                          </a:lnTo>
                          <a:lnTo>
                            <a:pt x="424" y="79"/>
                          </a:lnTo>
                          <a:lnTo>
                            <a:pt x="408" y="87"/>
                          </a:lnTo>
                          <a:lnTo>
                            <a:pt x="336" y="118"/>
                          </a:lnTo>
                          <a:lnTo>
                            <a:pt x="263" y="150"/>
                          </a:lnTo>
                          <a:lnTo>
                            <a:pt x="226" y="168"/>
                          </a:lnTo>
                          <a:lnTo>
                            <a:pt x="190" y="189"/>
                          </a:lnTo>
                          <a:lnTo>
                            <a:pt x="171" y="201"/>
                          </a:lnTo>
                          <a:lnTo>
                            <a:pt x="153" y="214"/>
                          </a:lnTo>
                          <a:lnTo>
                            <a:pt x="136" y="229"/>
                          </a:lnTo>
                          <a:lnTo>
                            <a:pt x="119" y="246"/>
                          </a:lnTo>
                          <a:lnTo>
                            <a:pt x="102" y="264"/>
                          </a:lnTo>
                          <a:lnTo>
                            <a:pt x="86" y="283"/>
                          </a:lnTo>
                          <a:lnTo>
                            <a:pt x="71" y="304"/>
                          </a:lnTo>
                          <a:lnTo>
                            <a:pt x="57" y="328"/>
                          </a:lnTo>
                          <a:lnTo>
                            <a:pt x="43" y="354"/>
                          </a:lnTo>
                          <a:lnTo>
                            <a:pt x="30" y="381"/>
                          </a:lnTo>
                          <a:lnTo>
                            <a:pt x="18" y="411"/>
                          </a:lnTo>
                          <a:lnTo>
                            <a:pt x="8" y="442"/>
                          </a:lnTo>
                          <a:lnTo>
                            <a:pt x="8" y="492"/>
                          </a:lnTo>
                          <a:lnTo>
                            <a:pt x="8" y="442"/>
                          </a:lnTo>
                          <a:lnTo>
                            <a:pt x="0" y="468"/>
                          </a:lnTo>
                          <a:lnTo>
                            <a:pt x="8" y="492"/>
                          </a:lnTo>
                          <a:lnTo>
                            <a:pt x="81" y="44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9" name=""/>
                    <p:cNvSpPr/>
                    <p:nvPr/>
                  </p:nvSpPr>
                  <p:spPr>
                    <a:xfrm>
                      <a:off x="668160" y="5488200"/>
                      <a:ext cx="42120" cy="3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5" h="219">
                          <a:moveTo>
                            <a:pt x="230" y="97"/>
                          </a:moveTo>
                          <a:lnTo>
                            <a:pt x="255" y="114"/>
                          </a:lnTo>
                          <a:lnTo>
                            <a:pt x="247" y="103"/>
                          </a:lnTo>
                          <a:lnTo>
                            <a:pt x="239" y="94"/>
                          </a:lnTo>
                          <a:lnTo>
                            <a:pt x="231" y="87"/>
                          </a:lnTo>
                          <a:lnTo>
                            <a:pt x="221" y="79"/>
                          </a:lnTo>
                          <a:lnTo>
                            <a:pt x="206" y="70"/>
                          </a:lnTo>
                          <a:lnTo>
                            <a:pt x="188" y="61"/>
                          </a:lnTo>
                          <a:lnTo>
                            <a:pt x="159" y="52"/>
                          </a:lnTo>
                          <a:lnTo>
                            <a:pt x="131" y="46"/>
                          </a:lnTo>
                          <a:lnTo>
                            <a:pt x="119" y="43"/>
                          </a:lnTo>
                          <a:lnTo>
                            <a:pt x="108" y="39"/>
                          </a:lnTo>
                          <a:lnTo>
                            <a:pt x="99" y="34"/>
                          </a:lnTo>
                          <a:lnTo>
                            <a:pt x="91" y="28"/>
                          </a:lnTo>
                          <a:lnTo>
                            <a:pt x="89" y="27"/>
                          </a:lnTo>
                          <a:lnTo>
                            <a:pt x="86" y="24"/>
                          </a:lnTo>
                          <a:lnTo>
                            <a:pt x="84" y="21"/>
                          </a:lnTo>
                          <a:lnTo>
                            <a:pt x="81" y="18"/>
                          </a:lnTo>
                          <a:lnTo>
                            <a:pt x="79" y="15"/>
                          </a:lnTo>
                          <a:lnTo>
                            <a:pt x="77" y="10"/>
                          </a:lnTo>
                          <a:lnTo>
                            <a:pt x="75" y="6"/>
                          </a:lnTo>
                          <a:lnTo>
                            <a:pt x="73" y="0"/>
                          </a:lnTo>
                          <a:lnTo>
                            <a:pt x="0" y="48"/>
                          </a:lnTo>
                          <a:lnTo>
                            <a:pt x="4" y="63"/>
                          </a:lnTo>
                          <a:lnTo>
                            <a:pt x="10" y="78"/>
                          </a:lnTo>
                          <a:lnTo>
                            <a:pt x="16" y="90"/>
                          </a:lnTo>
                          <a:lnTo>
                            <a:pt x="23" y="102"/>
                          </a:lnTo>
                          <a:lnTo>
                            <a:pt x="30" y="112"/>
                          </a:lnTo>
                          <a:lnTo>
                            <a:pt x="38" y="121"/>
                          </a:lnTo>
                          <a:lnTo>
                            <a:pt x="46" y="130"/>
                          </a:lnTo>
                          <a:lnTo>
                            <a:pt x="55" y="138"/>
                          </a:lnTo>
                          <a:lnTo>
                            <a:pt x="70" y="148"/>
                          </a:lnTo>
                          <a:lnTo>
                            <a:pt x="87" y="156"/>
                          </a:lnTo>
                          <a:lnTo>
                            <a:pt x="102" y="160"/>
                          </a:lnTo>
                          <a:lnTo>
                            <a:pt x="117" y="165"/>
                          </a:lnTo>
                          <a:lnTo>
                            <a:pt x="144" y="172"/>
                          </a:lnTo>
                          <a:lnTo>
                            <a:pt x="169" y="180"/>
                          </a:lnTo>
                          <a:lnTo>
                            <a:pt x="178" y="183"/>
                          </a:lnTo>
                          <a:lnTo>
                            <a:pt x="187" y="190"/>
                          </a:lnTo>
                          <a:lnTo>
                            <a:pt x="190" y="192"/>
                          </a:lnTo>
                          <a:lnTo>
                            <a:pt x="193" y="195"/>
                          </a:lnTo>
                          <a:lnTo>
                            <a:pt x="196" y="198"/>
                          </a:lnTo>
                          <a:lnTo>
                            <a:pt x="199" y="202"/>
                          </a:lnTo>
                          <a:lnTo>
                            <a:pt x="223" y="219"/>
                          </a:lnTo>
                          <a:lnTo>
                            <a:pt x="199" y="202"/>
                          </a:lnTo>
                          <a:lnTo>
                            <a:pt x="209" y="216"/>
                          </a:lnTo>
                          <a:lnTo>
                            <a:pt x="223" y="219"/>
                          </a:lnTo>
                          <a:lnTo>
                            <a:pt x="230" y="9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0" name=""/>
                    <p:cNvSpPr/>
                    <p:nvPr/>
                  </p:nvSpPr>
                  <p:spPr>
                    <a:xfrm>
                      <a:off x="705240" y="5495760"/>
                      <a:ext cx="31248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91" h="239">
                          <a:moveTo>
                            <a:pt x="1886" y="120"/>
                          </a:moveTo>
                          <a:lnTo>
                            <a:pt x="1891" y="122"/>
                          </a:lnTo>
                          <a:lnTo>
                            <a:pt x="1863" y="110"/>
                          </a:lnTo>
                          <a:lnTo>
                            <a:pt x="1835" y="98"/>
                          </a:lnTo>
                          <a:lnTo>
                            <a:pt x="1808" y="87"/>
                          </a:lnTo>
                          <a:lnTo>
                            <a:pt x="1779" y="77"/>
                          </a:lnTo>
                          <a:lnTo>
                            <a:pt x="1723" y="59"/>
                          </a:lnTo>
                          <a:lnTo>
                            <a:pt x="1666" y="44"/>
                          </a:lnTo>
                          <a:lnTo>
                            <a:pt x="1609" y="32"/>
                          </a:lnTo>
                          <a:lnTo>
                            <a:pt x="1551" y="21"/>
                          </a:lnTo>
                          <a:lnTo>
                            <a:pt x="1493" y="14"/>
                          </a:lnTo>
                          <a:lnTo>
                            <a:pt x="1434" y="8"/>
                          </a:lnTo>
                          <a:lnTo>
                            <a:pt x="1375" y="3"/>
                          </a:lnTo>
                          <a:lnTo>
                            <a:pt x="1316" y="2"/>
                          </a:lnTo>
                          <a:lnTo>
                            <a:pt x="1257" y="0"/>
                          </a:lnTo>
                          <a:lnTo>
                            <a:pt x="1197" y="2"/>
                          </a:lnTo>
                          <a:lnTo>
                            <a:pt x="1137" y="3"/>
                          </a:lnTo>
                          <a:lnTo>
                            <a:pt x="1077" y="6"/>
                          </a:lnTo>
                          <a:lnTo>
                            <a:pt x="1017" y="9"/>
                          </a:lnTo>
                          <a:lnTo>
                            <a:pt x="957" y="14"/>
                          </a:lnTo>
                          <a:lnTo>
                            <a:pt x="836" y="24"/>
                          </a:lnTo>
                          <a:lnTo>
                            <a:pt x="715" y="35"/>
                          </a:lnTo>
                          <a:lnTo>
                            <a:pt x="595" y="45"/>
                          </a:lnTo>
                          <a:lnTo>
                            <a:pt x="475" y="54"/>
                          </a:lnTo>
                          <a:lnTo>
                            <a:pt x="416" y="57"/>
                          </a:lnTo>
                          <a:lnTo>
                            <a:pt x="356" y="60"/>
                          </a:lnTo>
                          <a:lnTo>
                            <a:pt x="297" y="62"/>
                          </a:lnTo>
                          <a:lnTo>
                            <a:pt x="238" y="62"/>
                          </a:lnTo>
                          <a:lnTo>
                            <a:pt x="180" y="60"/>
                          </a:lnTo>
                          <a:lnTo>
                            <a:pt x="122" y="57"/>
                          </a:lnTo>
                          <a:lnTo>
                            <a:pt x="64" y="53"/>
                          </a:lnTo>
                          <a:lnTo>
                            <a:pt x="7" y="45"/>
                          </a:lnTo>
                          <a:lnTo>
                            <a:pt x="0" y="167"/>
                          </a:lnTo>
                          <a:lnTo>
                            <a:pt x="59" y="173"/>
                          </a:lnTo>
                          <a:lnTo>
                            <a:pt x="119" y="177"/>
                          </a:lnTo>
                          <a:lnTo>
                            <a:pt x="178" y="180"/>
                          </a:lnTo>
                          <a:lnTo>
                            <a:pt x="238" y="183"/>
                          </a:lnTo>
                          <a:lnTo>
                            <a:pt x="298" y="183"/>
                          </a:lnTo>
                          <a:lnTo>
                            <a:pt x="358" y="182"/>
                          </a:lnTo>
                          <a:lnTo>
                            <a:pt x="418" y="179"/>
                          </a:lnTo>
                          <a:lnTo>
                            <a:pt x="479" y="176"/>
                          </a:lnTo>
                          <a:lnTo>
                            <a:pt x="599" y="167"/>
                          </a:lnTo>
                          <a:lnTo>
                            <a:pt x="720" y="156"/>
                          </a:lnTo>
                          <a:lnTo>
                            <a:pt x="841" y="146"/>
                          </a:lnTo>
                          <a:lnTo>
                            <a:pt x="961" y="135"/>
                          </a:lnTo>
                          <a:lnTo>
                            <a:pt x="1020" y="131"/>
                          </a:lnTo>
                          <a:lnTo>
                            <a:pt x="1080" y="126"/>
                          </a:lnTo>
                          <a:lnTo>
                            <a:pt x="1139" y="125"/>
                          </a:lnTo>
                          <a:lnTo>
                            <a:pt x="1198" y="123"/>
                          </a:lnTo>
                          <a:lnTo>
                            <a:pt x="1257" y="122"/>
                          </a:lnTo>
                          <a:lnTo>
                            <a:pt x="1315" y="122"/>
                          </a:lnTo>
                          <a:lnTo>
                            <a:pt x="1372" y="125"/>
                          </a:lnTo>
                          <a:lnTo>
                            <a:pt x="1430" y="129"/>
                          </a:lnTo>
                          <a:lnTo>
                            <a:pt x="1486" y="134"/>
                          </a:lnTo>
                          <a:lnTo>
                            <a:pt x="1543" y="141"/>
                          </a:lnTo>
                          <a:lnTo>
                            <a:pt x="1598" y="152"/>
                          </a:lnTo>
                          <a:lnTo>
                            <a:pt x="1653" y="164"/>
                          </a:lnTo>
                          <a:lnTo>
                            <a:pt x="1708" y="179"/>
                          </a:lnTo>
                          <a:lnTo>
                            <a:pt x="1762" y="195"/>
                          </a:lnTo>
                          <a:lnTo>
                            <a:pt x="1788" y="204"/>
                          </a:lnTo>
                          <a:lnTo>
                            <a:pt x="1815" y="215"/>
                          </a:lnTo>
                          <a:lnTo>
                            <a:pt x="1841" y="225"/>
                          </a:lnTo>
                          <a:lnTo>
                            <a:pt x="1867" y="237"/>
                          </a:lnTo>
                          <a:lnTo>
                            <a:pt x="1872" y="239"/>
                          </a:lnTo>
                          <a:lnTo>
                            <a:pt x="1886" y="12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1" name=""/>
                    <p:cNvSpPr/>
                    <p:nvPr/>
                  </p:nvSpPr>
                  <p:spPr>
                    <a:xfrm>
                      <a:off x="1014480" y="5513760"/>
                      <a:ext cx="132120" cy="5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0" h="381">
                          <a:moveTo>
                            <a:pt x="341" y="230"/>
                          </a:moveTo>
                          <a:lnTo>
                            <a:pt x="368" y="116"/>
                          </a:lnTo>
                          <a:lnTo>
                            <a:pt x="346" y="104"/>
                          </a:lnTo>
                          <a:lnTo>
                            <a:pt x="324" y="92"/>
                          </a:lnTo>
                          <a:lnTo>
                            <a:pt x="302" y="83"/>
                          </a:lnTo>
                          <a:lnTo>
                            <a:pt x="279" y="72"/>
                          </a:lnTo>
                          <a:lnTo>
                            <a:pt x="235" y="57"/>
                          </a:lnTo>
                          <a:lnTo>
                            <a:pt x="191" y="44"/>
                          </a:lnTo>
                          <a:lnTo>
                            <a:pt x="146" y="32"/>
                          </a:lnTo>
                          <a:lnTo>
                            <a:pt x="102" y="21"/>
                          </a:lnTo>
                          <a:lnTo>
                            <a:pt x="58" y="11"/>
                          </a:lnTo>
                          <a:lnTo>
                            <a:pt x="14" y="0"/>
                          </a:lnTo>
                          <a:lnTo>
                            <a:pt x="0" y="119"/>
                          </a:lnTo>
                          <a:lnTo>
                            <a:pt x="45" y="131"/>
                          </a:lnTo>
                          <a:lnTo>
                            <a:pt x="89" y="140"/>
                          </a:lnTo>
                          <a:lnTo>
                            <a:pt x="133" y="150"/>
                          </a:lnTo>
                          <a:lnTo>
                            <a:pt x="176" y="162"/>
                          </a:lnTo>
                          <a:lnTo>
                            <a:pt x="218" y="176"/>
                          </a:lnTo>
                          <a:lnTo>
                            <a:pt x="260" y="191"/>
                          </a:lnTo>
                          <a:lnTo>
                            <a:pt x="280" y="198"/>
                          </a:lnTo>
                          <a:lnTo>
                            <a:pt x="299" y="207"/>
                          </a:lnTo>
                          <a:lnTo>
                            <a:pt x="319" y="218"/>
                          </a:lnTo>
                          <a:lnTo>
                            <a:pt x="338" y="228"/>
                          </a:lnTo>
                          <a:lnTo>
                            <a:pt x="366" y="114"/>
                          </a:lnTo>
                          <a:lnTo>
                            <a:pt x="341" y="230"/>
                          </a:lnTo>
                          <a:lnTo>
                            <a:pt x="800" y="381"/>
                          </a:lnTo>
                          <a:lnTo>
                            <a:pt x="368" y="116"/>
                          </a:lnTo>
                          <a:lnTo>
                            <a:pt x="341" y="23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2" name=""/>
                    <p:cNvSpPr/>
                    <p:nvPr/>
                  </p:nvSpPr>
                  <p:spPr>
                    <a:xfrm>
                      <a:off x="712080" y="5503680"/>
                      <a:ext cx="36252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95" h="297">
                          <a:moveTo>
                            <a:pt x="0" y="150"/>
                          </a:moveTo>
                          <a:lnTo>
                            <a:pt x="17" y="157"/>
                          </a:lnTo>
                          <a:lnTo>
                            <a:pt x="84" y="160"/>
                          </a:lnTo>
                          <a:lnTo>
                            <a:pt x="152" y="162"/>
                          </a:lnTo>
                          <a:lnTo>
                            <a:pt x="220" y="163"/>
                          </a:lnTo>
                          <a:lnTo>
                            <a:pt x="288" y="163"/>
                          </a:lnTo>
                          <a:lnTo>
                            <a:pt x="425" y="159"/>
                          </a:lnTo>
                          <a:lnTo>
                            <a:pt x="562" y="153"/>
                          </a:lnTo>
                          <a:lnTo>
                            <a:pt x="700" y="145"/>
                          </a:lnTo>
                          <a:lnTo>
                            <a:pt x="838" y="136"/>
                          </a:lnTo>
                          <a:lnTo>
                            <a:pt x="976" y="129"/>
                          </a:lnTo>
                          <a:lnTo>
                            <a:pt x="1113" y="123"/>
                          </a:lnTo>
                          <a:lnTo>
                            <a:pt x="1181" y="121"/>
                          </a:lnTo>
                          <a:lnTo>
                            <a:pt x="1250" y="120"/>
                          </a:lnTo>
                          <a:lnTo>
                            <a:pt x="1318" y="121"/>
                          </a:lnTo>
                          <a:lnTo>
                            <a:pt x="1386" y="123"/>
                          </a:lnTo>
                          <a:lnTo>
                            <a:pt x="1454" y="126"/>
                          </a:lnTo>
                          <a:lnTo>
                            <a:pt x="1521" y="130"/>
                          </a:lnTo>
                          <a:lnTo>
                            <a:pt x="1588" y="136"/>
                          </a:lnTo>
                          <a:lnTo>
                            <a:pt x="1654" y="145"/>
                          </a:lnTo>
                          <a:lnTo>
                            <a:pt x="1720" y="156"/>
                          </a:lnTo>
                          <a:lnTo>
                            <a:pt x="1786" y="168"/>
                          </a:lnTo>
                          <a:lnTo>
                            <a:pt x="1851" y="183"/>
                          </a:lnTo>
                          <a:lnTo>
                            <a:pt x="1916" y="199"/>
                          </a:lnTo>
                          <a:lnTo>
                            <a:pt x="1980" y="220"/>
                          </a:lnTo>
                          <a:lnTo>
                            <a:pt x="2045" y="243"/>
                          </a:lnTo>
                          <a:lnTo>
                            <a:pt x="2076" y="255"/>
                          </a:lnTo>
                          <a:lnTo>
                            <a:pt x="2107" y="268"/>
                          </a:lnTo>
                          <a:lnTo>
                            <a:pt x="2139" y="282"/>
                          </a:lnTo>
                          <a:lnTo>
                            <a:pt x="2170" y="297"/>
                          </a:lnTo>
                          <a:lnTo>
                            <a:pt x="2195" y="181"/>
                          </a:lnTo>
                          <a:lnTo>
                            <a:pt x="2162" y="166"/>
                          </a:lnTo>
                          <a:lnTo>
                            <a:pt x="2129" y="151"/>
                          </a:lnTo>
                          <a:lnTo>
                            <a:pt x="2097" y="138"/>
                          </a:lnTo>
                          <a:lnTo>
                            <a:pt x="2063" y="126"/>
                          </a:lnTo>
                          <a:lnTo>
                            <a:pt x="1998" y="102"/>
                          </a:lnTo>
                          <a:lnTo>
                            <a:pt x="1931" y="81"/>
                          </a:lnTo>
                          <a:lnTo>
                            <a:pt x="1864" y="63"/>
                          </a:lnTo>
                          <a:lnTo>
                            <a:pt x="1797" y="48"/>
                          </a:lnTo>
                          <a:lnTo>
                            <a:pt x="1730" y="36"/>
                          </a:lnTo>
                          <a:lnTo>
                            <a:pt x="1662" y="25"/>
                          </a:lnTo>
                          <a:lnTo>
                            <a:pt x="1593" y="16"/>
                          </a:lnTo>
                          <a:lnTo>
                            <a:pt x="1525" y="9"/>
                          </a:lnTo>
                          <a:lnTo>
                            <a:pt x="1456" y="4"/>
                          </a:lnTo>
                          <a:lnTo>
                            <a:pt x="1388" y="1"/>
                          </a:lnTo>
                          <a:lnTo>
                            <a:pt x="1319" y="0"/>
                          </a:lnTo>
                          <a:lnTo>
                            <a:pt x="1250" y="0"/>
                          </a:lnTo>
                          <a:lnTo>
                            <a:pt x="1181" y="0"/>
                          </a:lnTo>
                          <a:lnTo>
                            <a:pt x="1111" y="1"/>
                          </a:lnTo>
                          <a:lnTo>
                            <a:pt x="973" y="7"/>
                          </a:lnTo>
                          <a:lnTo>
                            <a:pt x="835" y="15"/>
                          </a:lnTo>
                          <a:lnTo>
                            <a:pt x="697" y="24"/>
                          </a:lnTo>
                          <a:lnTo>
                            <a:pt x="559" y="33"/>
                          </a:lnTo>
                          <a:lnTo>
                            <a:pt x="423" y="39"/>
                          </a:lnTo>
                          <a:lnTo>
                            <a:pt x="287" y="42"/>
                          </a:lnTo>
                          <a:lnTo>
                            <a:pt x="220" y="42"/>
                          </a:lnTo>
                          <a:lnTo>
                            <a:pt x="153" y="42"/>
                          </a:lnTo>
                          <a:lnTo>
                            <a:pt x="86" y="40"/>
                          </a:lnTo>
                          <a:lnTo>
                            <a:pt x="20" y="36"/>
                          </a:lnTo>
                          <a:lnTo>
                            <a:pt x="37" y="43"/>
                          </a:lnTo>
                          <a:lnTo>
                            <a:pt x="0" y="150"/>
                          </a:lnTo>
                          <a:lnTo>
                            <a:pt x="8" y="156"/>
                          </a:lnTo>
                          <a:lnTo>
                            <a:pt x="17" y="157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3" name=""/>
                    <p:cNvSpPr/>
                    <p:nvPr/>
                  </p:nvSpPr>
                  <p:spPr>
                    <a:xfrm>
                      <a:off x="662400" y="5479200"/>
                      <a:ext cx="5580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8" h="314">
                          <a:moveTo>
                            <a:pt x="15" y="0"/>
                          </a:moveTo>
                          <a:lnTo>
                            <a:pt x="1" y="38"/>
                          </a:lnTo>
                          <a:lnTo>
                            <a:pt x="0" y="62"/>
                          </a:lnTo>
                          <a:lnTo>
                            <a:pt x="1" y="84"/>
                          </a:lnTo>
                          <a:lnTo>
                            <a:pt x="3" y="107"/>
                          </a:lnTo>
                          <a:lnTo>
                            <a:pt x="9" y="128"/>
                          </a:lnTo>
                          <a:lnTo>
                            <a:pt x="14" y="147"/>
                          </a:lnTo>
                          <a:lnTo>
                            <a:pt x="22" y="167"/>
                          </a:lnTo>
                          <a:lnTo>
                            <a:pt x="30" y="182"/>
                          </a:lnTo>
                          <a:lnTo>
                            <a:pt x="40" y="197"/>
                          </a:lnTo>
                          <a:lnTo>
                            <a:pt x="50" y="209"/>
                          </a:lnTo>
                          <a:lnTo>
                            <a:pt x="61" y="219"/>
                          </a:lnTo>
                          <a:lnTo>
                            <a:pt x="73" y="228"/>
                          </a:lnTo>
                          <a:lnTo>
                            <a:pt x="85" y="237"/>
                          </a:lnTo>
                          <a:lnTo>
                            <a:pt x="108" y="249"/>
                          </a:lnTo>
                          <a:lnTo>
                            <a:pt x="133" y="258"/>
                          </a:lnTo>
                          <a:lnTo>
                            <a:pt x="181" y="272"/>
                          </a:lnTo>
                          <a:lnTo>
                            <a:pt x="229" y="284"/>
                          </a:lnTo>
                          <a:lnTo>
                            <a:pt x="250" y="290"/>
                          </a:lnTo>
                          <a:lnTo>
                            <a:pt x="270" y="296"/>
                          </a:lnTo>
                          <a:lnTo>
                            <a:pt x="279" y="300"/>
                          </a:lnTo>
                          <a:lnTo>
                            <a:pt x="287" y="305"/>
                          </a:lnTo>
                          <a:lnTo>
                            <a:pt x="294" y="309"/>
                          </a:lnTo>
                          <a:lnTo>
                            <a:pt x="301" y="314"/>
                          </a:lnTo>
                          <a:lnTo>
                            <a:pt x="338" y="207"/>
                          </a:lnTo>
                          <a:lnTo>
                            <a:pt x="327" y="198"/>
                          </a:lnTo>
                          <a:lnTo>
                            <a:pt x="315" y="191"/>
                          </a:lnTo>
                          <a:lnTo>
                            <a:pt x="303" y="185"/>
                          </a:lnTo>
                          <a:lnTo>
                            <a:pt x="291" y="180"/>
                          </a:lnTo>
                          <a:lnTo>
                            <a:pt x="267" y="171"/>
                          </a:lnTo>
                          <a:lnTo>
                            <a:pt x="242" y="164"/>
                          </a:lnTo>
                          <a:lnTo>
                            <a:pt x="194" y="152"/>
                          </a:lnTo>
                          <a:lnTo>
                            <a:pt x="149" y="140"/>
                          </a:lnTo>
                          <a:lnTo>
                            <a:pt x="131" y="132"/>
                          </a:lnTo>
                          <a:lnTo>
                            <a:pt x="114" y="123"/>
                          </a:lnTo>
                          <a:lnTo>
                            <a:pt x="108" y="120"/>
                          </a:lnTo>
                          <a:lnTo>
                            <a:pt x="102" y="116"/>
                          </a:lnTo>
                          <a:lnTo>
                            <a:pt x="97" y="111"/>
                          </a:lnTo>
                          <a:lnTo>
                            <a:pt x="93" y="107"/>
                          </a:lnTo>
                          <a:lnTo>
                            <a:pt x="90" y="101"/>
                          </a:lnTo>
                          <a:lnTo>
                            <a:pt x="88" y="96"/>
                          </a:lnTo>
                          <a:lnTo>
                            <a:pt x="86" y="92"/>
                          </a:lnTo>
                          <a:lnTo>
                            <a:pt x="84" y="87"/>
                          </a:lnTo>
                          <a:lnTo>
                            <a:pt x="83" y="81"/>
                          </a:lnTo>
                          <a:lnTo>
                            <a:pt x="82" y="72"/>
                          </a:lnTo>
                          <a:lnTo>
                            <a:pt x="82" y="63"/>
                          </a:lnTo>
                          <a:lnTo>
                            <a:pt x="83" y="50"/>
                          </a:lnTo>
                          <a:lnTo>
                            <a:pt x="70" y="87"/>
                          </a:lnTo>
                          <a:lnTo>
                            <a:pt x="15" y="0"/>
                          </a:lnTo>
                          <a:lnTo>
                            <a:pt x="3" y="15"/>
                          </a:lnTo>
                          <a:lnTo>
                            <a:pt x="1" y="38"/>
                          </a:lnTo>
                          <a:lnTo>
                            <a:pt x="15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4" name=""/>
                    <p:cNvSpPr/>
                    <p:nvPr/>
                  </p:nvSpPr>
                  <p:spPr>
                    <a:xfrm>
                      <a:off x="664920" y="5431680"/>
                      <a:ext cx="61920" cy="6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6" h="405">
                          <a:moveTo>
                            <a:pt x="237" y="162"/>
                          </a:moveTo>
                          <a:lnTo>
                            <a:pt x="205" y="54"/>
                          </a:lnTo>
                          <a:lnTo>
                            <a:pt x="178" y="86"/>
                          </a:lnTo>
                          <a:lnTo>
                            <a:pt x="152" y="117"/>
                          </a:lnTo>
                          <a:lnTo>
                            <a:pt x="126" y="150"/>
                          </a:lnTo>
                          <a:lnTo>
                            <a:pt x="100" y="183"/>
                          </a:lnTo>
                          <a:lnTo>
                            <a:pt x="75" y="216"/>
                          </a:lnTo>
                          <a:lnTo>
                            <a:pt x="49" y="249"/>
                          </a:lnTo>
                          <a:lnTo>
                            <a:pt x="24" y="284"/>
                          </a:lnTo>
                          <a:lnTo>
                            <a:pt x="0" y="318"/>
                          </a:lnTo>
                          <a:lnTo>
                            <a:pt x="55" y="405"/>
                          </a:lnTo>
                          <a:lnTo>
                            <a:pt x="79" y="372"/>
                          </a:lnTo>
                          <a:lnTo>
                            <a:pt x="103" y="339"/>
                          </a:lnTo>
                          <a:lnTo>
                            <a:pt x="128" y="306"/>
                          </a:lnTo>
                          <a:lnTo>
                            <a:pt x="152" y="275"/>
                          </a:lnTo>
                          <a:lnTo>
                            <a:pt x="178" y="243"/>
                          </a:lnTo>
                          <a:lnTo>
                            <a:pt x="203" y="212"/>
                          </a:lnTo>
                          <a:lnTo>
                            <a:pt x="229" y="180"/>
                          </a:lnTo>
                          <a:lnTo>
                            <a:pt x="254" y="150"/>
                          </a:lnTo>
                          <a:lnTo>
                            <a:pt x="222" y="42"/>
                          </a:lnTo>
                          <a:lnTo>
                            <a:pt x="254" y="150"/>
                          </a:lnTo>
                          <a:lnTo>
                            <a:pt x="376" y="0"/>
                          </a:lnTo>
                          <a:lnTo>
                            <a:pt x="222" y="42"/>
                          </a:lnTo>
                          <a:lnTo>
                            <a:pt x="237" y="16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5" name=""/>
                    <p:cNvSpPr/>
                    <p:nvPr/>
                  </p:nvSpPr>
                  <p:spPr>
                    <a:xfrm>
                      <a:off x="500400" y="5419800"/>
                      <a:ext cx="203760" cy="5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4" h="340">
                          <a:moveTo>
                            <a:pt x="0" y="100"/>
                          </a:moveTo>
                          <a:lnTo>
                            <a:pt x="1" y="100"/>
                          </a:lnTo>
                          <a:lnTo>
                            <a:pt x="34" y="132"/>
                          </a:lnTo>
                          <a:lnTo>
                            <a:pt x="69" y="160"/>
                          </a:lnTo>
                          <a:lnTo>
                            <a:pt x="104" y="186"/>
                          </a:lnTo>
                          <a:lnTo>
                            <a:pt x="140" y="210"/>
                          </a:lnTo>
                          <a:lnTo>
                            <a:pt x="177" y="231"/>
                          </a:lnTo>
                          <a:lnTo>
                            <a:pt x="214" y="250"/>
                          </a:lnTo>
                          <a:lnTo>
                            <a:pt x="252" y="267"/>
                          </a:lnTo>
                          <a:lnTo>
                            <a:pt x="291" y="282"/>
                          </a:lnTo>
                          <a:lnTo>
                            <a:pt x="329" y="295"/>
                          </a:lnTo>
                          <a:lnTo>
                            <a:pt x="368" y="306"/>
                          </a:lnTo>
                          <a:lnTo>
                            <a:pt x="408" y="316"/>
                          </a:lnTo>
                          <a:lnTo>
                            <a:pt x="448" y="324"/>
                          </a:lnTo>
                          <a:lnTo>
                            <a:pt x="488" y="330"/>
                          </a:lnTo>
                          <a:lnTo>
                            <a:pt x="528" y="334"/>
                          </a:lnTo>
                          <a:lnTo>
                            <a:pt x="569" y="337"/>
                          </a:lnTo>
                          <a:lnTo>
                            <a:pt x="609" y="340"/>
                          </a:lnTo>
                          <a:lnTo>
                            <a:pt x="650" y="340"/>
                          </a:lnTo>
                          <a:lnTo>
                            <a:pt x="690" y="340"/>
                          </a:lnTo>
                          <a:lnTo>
                            <a:pt x="731" y="339"/>
                          </a:lnTo>
                          <a:lnTo>
                            <a:pt x="771" y="336"/>
                          </a:lnTo>
                          <a:lnTo>
                            <a:pt x="811" y="331"/>
                          </a:lnTo>
                          <a:lnTo>
                            <a:pt x="852" y="327"/>
                          </a:lnTo>
                          <a:lnTo>
                            <a:pt x="892" y="321"/>
                          </a:lnTo>
                          <a:lnTo>
                            <a:pt x="931" y="315"/>
                          </a:lnTo>
                          <a:lnTo>
                            <a:pt x="1010" y="300"/>
                          </a:lnTo>
                          <a:lnTo>
                            <a:pt x="1087" y="282"/>
                          </a:lnTo>
                          <a:lnTo>
                            <a:pt x="1162" y="264"/>
                          </a:lnTo>
                          <a:lnTo>
                            <a:pt x="1234" y="244"/>
                          </a:lnTo>
                          <a:lnTo>
                            <a:pt x="1219" y="124"/>
                          </a:lnTo>
                          <a:lnTo>
                            <a:pt x="1148" y="144"/>
                          </a:lnTo>
                          <a:lnTo>
                            <a:pt x="1075" y="163"/>
                          </a:lnTo>
                          <a:lnTo>
                            <a:pt x="1000" y="180"/>
                          </a:lnTo>
                          <a:lnTo>
                            <a:pt x="922" y="195"/>
                          </a:lnTo>
                          <a:lnTo>
                            <a:pt x="884" y="201"/>
                          </a:lnTo>
                          <a:lnTo>
                            <a:pt x="845" y="207"/>
                          </a:lnTo>
                          <a:lnTo>
                            <a:pt x="806" y="211"/>
                          </a:lnTo>
                          <a:lnTo>
                            <a:pt x="767" y="214"/>
                          </a:lnTo>
                          <a:lnTo>
                            <a:pt x="728" y="217"/>
                          </a:lnTo>
                          <a:lnTo>
                            <a:pt x="689" y="219"/>
                          </a:lnTo>
                          <a:lnTo>
                            <a:pt x="650" y="219"/>
                          </a:lnTo>
                          <a:lnTo>
                            <a:pt x="611" y="219"/>
                          </a:lnTo>
                          <a:lnTo>
                            <a:pt x="572" y="217"/>
                          </a:lnTo>
                          <a:lnTo>
                            <a:pt x="533" y="214"/>
                          </a:lnTo>
                          <a:lnTo>
                            <a:pt x="495" y="210"/>
                          </a:lnTo>
                          <a:lnTo>
                            <a:pt x="457" y="204"/>
                          </a:lnTo>
                          <a:lnTo>
                            <a:pt x="419" y="196"/>
                          </a:lnTo>
                          <a:lnTo>
                            <a:pt x="382" y="187"/>
                          </a:lnTo>
                          <a:lnTo>
                            <a:pt x="346" y="177"/>
                          </a:lnTo>
                          <a:lnTo>
                            <a:pt x="309" y="165"/>
                          </a:lnTo>
                          <a:lnTo>
                            <a:pt x="274" y="150"/>
                          </a:lnTo>
                          <a:lnTo>
                            <a:pt x="239" y="135"/>
                          </a:lnTo>
                          <a:lnTo>
                            <a:pt x="204" y="117"/>
                          </a:lnTo>
                          <a:lnTo>
                            <a:pt x="171" y="97"/>
                          </a:lnTo>
                          <a:lnTo>
                            <a:pt x="138" y="76"/>
                          </a:lnTo>
                          <a:lnTo>
                            <a:pt x="106" y="52"/>
                          </a:lnTo>
                          <a:lnTo>
                            <a:pt x="74" y="27"/>
                          </a:lnTo>
                          <a:lnTo>
                            <a:pt x="44" y="0"/>
                          </a:lnTo>
                          <a:lnTo>
                            <a:pt x="45" y="0"/>
                          </a:lnTo>
                          <a:lnTo>
                            <a:pt x="0" y="100"/>
                          </a:lnTo>
                          <a:lnTo>
                            <a:pt x="1" y="100"/>
                          </a:lnTo>
                          <a:lnTo>
                            <a:pt x="0" y="10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6" name=""/>
                    <p:cNvSpPr/>
                    <p:nvPr/>
                  </p:nvSpPr>
                  <p:spPr>
                    <a:xfrm>
                      <a:off x="490680" y="5388120"/>
                      <a:ext cx="1692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311">
                          <a:moveTo>
                            <a:pt x="33" y="0"/>
                          </a:moveTo>
                          <a:lnTo>
                            <a:pt x="29" y="7"/>
                          </a:lnTo>
                          <a:lnTo>
                            <a:pt x="20" y="28"/>
                          </a:lnTo>
                          <a:lnTo>
                            <a:pt x="12" y="48"/>
                          </a:lnTo>
                          <a:lnTo>
                            <a:pt x="7" y="69"/>
                          </a:lnTo>
                          <a:lnTo>
                            <a:pt x="3" y="91"/>
                          </a:lnTo>
                          <a:lnTo>
                            <a:pt x="1" y="112"/>
                          </a:lnTo>
                          <a:lnTo>
                            <a:pt x="0" y="135"/>
                          </a:lnTo>
                          <a:lnTo>
                            <a:pt x="1" y="156"/>
                          </a:lnTo>
                          <a:lnTo>
                            <a:pt x="3" y="175"/>
                          </a:lnTo>
                          <a:lnTo>
                            <a:pt x="6" y="196"/>
                          </a:lnTo>
                          <a:lnTo>
                            <a:pt x="10" y="216"/>
                          </a:lnTo>
                          <a:lnTo>
                            <a:pt x="15" y="233"/>
                          </a:lnTo>
                          <a:lnTo>
                            <a:pt x="21" y="251"/>
                          </a:lnTo>
                          <a:lnTo>
                            <a:pt x="29" y="268"/>
                          </a:lnTo>
                          <a:lnTo>
                            <a:pt x="37" y="284"/>
                          </a:lnTo>
                          <a:lnTo>
                            <a:pt x="47" y="298"/>
                          </a:lnTo>
                          <a:lnTo>
                            <a:pt x="58" y="311"/>
                          </a:lnTo>
                          <a:lnTo>
                            <a:pt x="103" y="211"/>
                          </a:lnTo>
                          <a:lnTo>
                            <a:pt x="100" y="208"/>
                          </a:lnTo>
                          <a:lnTo>
                            <a:pt x="97" y="204"/>
                          </a:lnTo>
                          <a:lnTo>
                            <a:pt x="94" y="198"/>
                          </a:lnTo>
                          <a:lnTo>
                            <a:pt x="91" y="190"/>
                          </a:lnTo>
                          <a:lnTo>
                            <a:pt x="88" y="183"/>
                          </a:lnTo>
                          <a:lnTo>
                            <a:pt x="85" y="174"/>
                          </a:lnTo>
                          <a:lnTo>
                            <a:pt x="83" y="163"/>
                          </a:lnTo>
                          <a:lnTo>
                            <a:pt x="82" y="154"/>
                          </a:lnTo>
                          <a:lnTo>
                            <a:pt x="81" y="144"/>
                          </a:lnTo>
                          <a:lnTo>
                            <a:pt x="81" y="135"/>
                          </a:lnTo>
                          <a:lnTo>
                            <a:pt x="81" y="124"/>
                          </a:lnTo>
                          <a:lnTo>
                            <a:pt x="82" y="115"/>
                          </a:lnTo>
                          <a:lnTo>
                            <a:pt x="83" y="106"/>
                          </a:lnTo>
                          <a:lnTo>
                            <a:pt x="85" y="100"/>
                          </a:lnTo>
                          <a:lnTo>
                            <a:pt x="88" y="91"/>
                          </a:lnTo>
                          <a:lnTo>
                            <a:pt x="91" y="84"/>
                          </a:lnTo>
                          <a:lnTo>
                            <a:pt x="87" y="90"/>
                          </a:lnTo>
                          <a:lnTo>
                            <a:pt x="33" y="0"/>
                          </a:lnTo>
                          <a:lnTo>
                            <a:pt x="31" y="4"/>
                          </a:lnTo>
                          <a:lnTo>
                            <a:pt x="29" y="7"/>
                          </a:lnTo>
                          <a:lnTo>
                            <a:pt x="3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7" name=""/>
                    <p:cNvSpPr/>
                    <p:nvPr/>
                  </p:nvSpPr>
                  <p:spPr>
                    <a:xfrm>
                      <a:off x="496440" y="5350320"/>
                      <a:ext cx="11376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0" h="344">
                          <a:moveTo>
                            <a:pt x="269" y="144"/>
                          </a:moveTo>
                          <a:lnTo>
                            <a:pt x="259" y="24"/>
                          </a:lnTo>
                          <a:lnTo>
                            <a:pt x="239" y="32"/>
                          </a:lnTo>
                          <a:lnTo>
                            <a:pt x="220" y="39"/>
                          </a:lnTo>
                          <a:lnTo>
                            <a:pt x="201" y="51"/>
                          </a:lnTo>
                          <a:lnTo>
                            <a:pt x="182" y="62"/>
                          </a:lnTo>
                          <a:lnTo>
                            <a:pt x="164" y="74"/>
                          </a:lnTo>
                          <a:lnTo>
                            <a:pt x="146" y="90"/>
                          </a:lnTo>
                          <a:lnTo>
                            <a:pt x="129" y="105"/>
                          </a:lnTo>
                          <a:lnTo>
                            <a:pt x="112" y="120"/>
                          </a:lnTo>
                          <a:lnTo>
                            <a:pt x="81" y="153"/>
                          </a:lnTo>
                          <a:lnTo>
                            <a:pt x="52" y="188"/>
                          </a:lnTo>
                          <a:lnTo>
                            <a:pt x="25" y="222"/>
                          </a:lnTo>
                          <a:lnTo>
                            <a:pt x="0" y="254"/>
                          </a:lnTo>
                          <a:lnTo>
                            <a:pt x="54" y="344"/>
                          </a:lnTo>
                          <a:lnTo>
                            <a:pt x="77" y="315"/>
                          </a:lnTo>
                          <a:lnTo>
                            <a:pt x="103" y="282"/>
                          </a:lnTo>
                          <a:lnTo>
                            <a:pt x="129" y="249"/>
                          </a:lnTo>
                          <a:lnTo>
                            <a:pt x="158" y="219"/>
                          </a:lnTo>
                          <a:lnTo>
                            <a:pt x="172" y="207"/>
                          </a:lnTo>
                          <a:lnTo>
                            <a:pt x="186" y="194"/>
                          </a:lnTo>
                          <a:lnTo>
                            <a:pt x="201" y="182"/>
                          </a:lnTo>
                          <a:lnTo>
                            <a:pt x="216" y="173"/>
                          </a:lnTo>
                          <a:lnTo>
                            <a:pt x="230" y="164"/>
                          </a:lnTo>
                          <a:lnTo>
                            <a:pt x="245" y="153"/>
                          </a:lnTo>
                          <a:lnTo>
                            <a:pt x="259" y="147"/>
                          </a:lnTo>
                          <a:lnTo>
                            <a:pt x="274" y="144"/>
                          </a:lnTo>
                          <a:lnTo>
                            <a:pt x="264" y="24"/>
                          </a:lnTo>
                          <a:lnTo>
                            <a:pt x="274" y="144"/>
                          </a:lnTo>
                          <a:lnTo>
                            <a:pt x="690" y="0"/>
                          </a:lnTo>
                          <a:lnTo>
                            <a:pt x="264" y="24"/>
                          </a:lnTo>
                          <a:lnTo>
                            <a:pt x="269" y="14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8" name=""/>
                    <p:cNvSpPr/>
                    <p:nvPr/>
                  </p:nvSpPr>
                  <p:spPr>
                    <a:xfrm>
                      <a:off x="441360" y="5333400"/>
                      <a:ext cx="9900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1" h="262">
                          <a:moveTo>
                            <a:pt x="0" y="88"/>
                          </a:moveTo>
                          <a:lnTo>
                            <a:pt x="15" y="108"/>
                          </a:lnTo>
                          <a:lnTo>
                            <a:pt x="50" y="133"/>
                          </a:lnTo>
                          <a:lnTo>
                            <a:pt x="85" y="154"/>
                          </a:lnTo>
                          <a:lnTo>
                            <a:pt x="121" y="175"/>
                          </a:lnTo>
                          <a:lnTo>
                            <a:pt x="156" y="192"/>
                          </a:lnTo>
                          <a:lnTo>
                            <a:pt x="192" y="208"/>
                          </a:lnTo>
                          <a:lnTo>
                            <a:pt x="228" y="222"/>
                          </a:lnTo>
                          <a:lnTo>
                            <a:pt x="264" y="232"/>
                          </a:lnTo>
                          <a:lnTo>
                            <a:pt x="300" y="243"/>
                          </a:lnTo>
                          <a:lnTo>
                            <a:pt x="337" y="250"/>
                          </a:lnTo>
                          <a:lnTo>
                            <a:pt x="373" y="256"/>
                          </a:lnTo>
                          <a:lnTo>
                            <a:pt x="411" y="259"/>
                          </a:lnTo>
                          <a:lnTo>
                            <a:pt x="448" y="261"/>
                          </a:lnTo>
                          <a:lnTo>
                            <a:pt x="486" y="262"/>
                          </a:lnTo>
                          <a:lnTo>
                            <a:pt x="524" y="261"/>
                          </a:lnTo>
                          <a:lnTo>
                            <a:pt x="562" y="259"/>
                          </a:lnTo>
                          <a:lnTo>
                            <a:pt x="601" y="256"/>
                          </a:lnTo>
                          <a:lnTo>
                            <a:pt x="596" y="136"/>
                          </a:lnTo>
                          <a:lnTo>
                            <a:pt x="559" y="139"/>
                          </a:lnTo>
                          <a:lnTo>
                            <a:pt x="522" y="142"/>
                          </a:lnTo>
                          <a:lnTo>
                            <a:pt x="486" y="142"/>
                          </a:lnTo>
                          <a:lnTo>
                            <a:pt x="450" y="142"/>
                          </a:lnTo>
                          <a:lnTo>
                            <a:pt x="415" y="139"/>
                          </a:lnTo>
                          <a:lnTo>
                            <a:pt x="380" y="136"/>
                          </a:lnTo>
                          <a:lnTo>
                            <a:pt x="346" y="130"/>
                          </a:lnTo>
                          <a:lnTo>
                            <a:pt x="312" y="121"/>
                          </a:lnTo>
                          <a:lnTo>
                            <a:pt x="279" y="115"/>
                          </a:lnTo>
                          <a:lnTo>
                            <a:pt x="246" y="105"/>
                          </a:lnTo>
                          <a:lnTo>
                            <a:pt x="213" y="93"/>
                          </a:lnTo>
                          <a:lnTo>
                            <a:pt x="180" y="78"/>
                          </a:lnTo>
                          <a:lnTo>
                            <a:pt x="148" y="61"/>
                          </a:lnTo>
                          <a:lnTo>
                            <a:pt x="115" y="43"/>
                          </a:lnTo>
                          <a:lnTo>
                            <a:pt x="83" y="22"/>
                          </a:lnTo>
                          <a:lnTo>
                            <a:pt x="51" y="0"/>
                          </a:lnTo>
                          <a:lnTo>
                            <a:pt x="66" y="19"/>
                          </a:lnTo>
                          <a:lnTo>
                            <a:pt x="0" y="88"/>
                          </a:lnTo>
                          <a:lnTo>
                            <a:pt x="6" y="100"/>
                          </a:lnTo>
                          <a:lnTo>
                            <a:pt x="15" y="108"/>
                          </a:lnTo>
                          <a:lnTo>
                            <a:pt x="0" y="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9" name=""/>
                    <p:cNvSpPr/>
                    <p:nvPr/>
                  </p:nvSpPr>
                  <p:spPr>
                    <a:xfrm>
                      <a:off x="437760" y="5312880"/>
                      <a:ext cx="1440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" h="228">
                          <a:moveTo>
                            <a:pt x="11" y="0"/>
                          </a:moveTo>
                          <a:lnTo>
                            <a:pt x="3" y="48"/>
                          </a:lnTo>
                          <a:lnTo>
                            <a:pt x="4" y="59"/>
                          </a:lnTo>
                          <a:lnTo>
                            <a:pt x="4" y="75"/>
                          </a:lnTo>
                          <a:lnTo>
                            <a:pt x="3" y="95"/>
                          </a:lnTo>
                          <a:lnTo>
                            <a:pt x="3" y="117"/>
                          </a:lnTo>
                          <a:lnTo>
                            <a:pt x="3" y="141"/>
                          </a:lnTo>
                          <a:lnTo>
                            <a:pt x="5" y="167"/>
                          </a:lnTo>
                          <a:lnTo>
                            <a:pt x="7" y="183"/>
                          </a:lnTo>
                          <a:lnTo>
                            <a:pt x="11" y="198"/>
                          </a:lnTo>
                          <a:lnTo>
                            <a:pt x="15" y="213"/>
                          </a:lnTo>
                          <a:lnTo>
                            <a:pt x="21" y="228"/>
                          </a:lnTo>
                          <a:lnTo>
                            <a:pt x="87" y="159"/>
                          </a:lnTo>
                          <a:lnTo>
                            <a:pt x="86" y="156"/>
                          </a:lnTo>
                          <a:lnTo>
                            <a:pt x="86" y="155"/>
                          </a:lnTo>
                          <a:lnTo>
                            <a:pt x="85" y="152"/>
                          </a:lnTo>
                          <a:lnTo>
                            <a:pt x="85" y="149"/>
                          </a:lnTo>
                          <a:lnTo>
                            <a:pt x="83" y="134"/>
                          </a:lnTo>
                          <a:lnTo>
                            <a:pt x="83" y="117"/>
                          </a:lnTo>
                          <a:lnTo>
                            <a:pt x="84" y="99"/>
                          </a:lnTo>
                          <a:lnTo>
                            <a:pt x="84" y="77"/>
                          </a:lnTo>
                          <a:lnTo>
                            <a:pt x="84" y="53"/>
                          </a:lnTo>
                          <a:lnTo>
                            <a:pt x="82" y="27"/>
                          </a:lnTo>
                          <a:lnTo>
                            <a:pt x="74" y="75"/>
                          </a:lnTo>
                          <a:lnTo>
                            <a:pt x="11" y="0"/>
                          </a:lnTo>
                          <a:lnTo>
                            <a:pt x="0" y="21"/>
                          </a:lnTo>
                          <a:lnTo>
                            <a:pt x="3" y="48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0" name=""/>
                    <p:cNvSpPr/>
                    <p:nvPr/>
                  </p:nvSpPr>
                  <p:spPr>
                    <a:xfrm>
                      <a:off x="439920" y="5272560"/>
                      <a:ext cx="100080" cy="5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9" h="343">
                          <a:moveTo>
                            <a:pt x="486" y="118"/>
                          </a:moveTo>
                          <a:lnTo>
                            <a:pt x="474" y="6"/>
                          </a:lnTo>
                          <a:lnTo>
                            <a:pt x="461" y="16"/>
                          </a:lnTo>
                          <a:lnTo>
                            <a:pt x="448" y="25"/>
                          </a:lnTo>
                          <a:lnTo>
                            <a:pt x="435" y="33"/>
                          </a:lnTo>
                          <a:lnTo>
                            <a:pt x="422" y="39"/>
                          </a:lnTo>
                          <a:lnTo>
                            <a:pt x="394" y="51"/>
                          </a:lnTo>
                          <a:lnTo>
                            <a:pt x="365" y="61"/>
                          </a:lnTo>
                          <a:lnTo>
                            <a:pt x="304" y="75"/>
                          </a:lnTo>
                          <a:lnTo>
                            <a:pt x="241" y="88"/>
                          </a:lnTo>
                          <a:lnTo>
                            <a:pt x="209" y="97"/>
                          </a:lnTo>
                          <a:lnTo>
                            <a:pt x="178" y="106"/>
                          </a:lnTo>
                          <a:lnTo>
                            <a:pt x="161" y="114"/>
                          </a:lnTo>
                          <a:lnTo>
                            <a:pt x="145" y="120"/>
                          </a:lnTo>
                          <a:lnTo>
                            <a:pt x="130" y="129"/>
                          </a:lnTo>
                          <a:lnTo>
                            <a:pt x="114" y="138"/>
                          </a:lnTo>
                          <a:lnTo>
                            <a:pt x="98" y="148"/>
                          </a:lnTo>
                          <a:lnTo>
                            <a:pt x="83" y="160"/>
                          </a:lnTo>
                          <a:lnTo>
                            <a:pt x="68" y="174"/>
                          </a:lnTo>
                          <a:lnTo>
                            <a:pt x="53" y="190"/>
                          </a:lnTo>
                          <a:lnTo>
                            <a:pt x="39" y="207"/>
                          </a:lnTo>
                          <a:lnTo>
                            <a:pt x="25" y="225"/>
                          </a:lnTo>
                          <a:lnTo>
                            <a:pt x="12" y="246"/>
                          </a:lnTo>
                          <a:lnTo>
                            <a:pt x="0" y="268"/>
                          </a:lnTo>
                          <a:lnTo>
                            <a:pt x="63" y="343"/>
                          </a:lnTo>
                          <a:lnTo>
                            <a:pt x="73" y="327"/>
                          </a:lnTo>
                          <a:lnTo>
                            <a:pt x="82" y="312"/>
                          </a:lnTo>
                          <a:lnTo>
                            <a:pt x="92" y="298"/>
                          </a:lnTo>
                          <a:lnTo>
                            <a:pt x="102" y="286"/>
                          </a:lnTo>
                          <a:lnTo>
                            <a:pt x="112" y="276"/>
                          </a:lnTo>
                          <a:lnTo>
                            <a:pt x="123" y="265"/>
                          </a:lnTo>
                          <a:lnTo>
                            <a:pt x="134" y="258"/>
                          </a:lnTo>
                          <a:lnTo>
                            <a:pt x="146" y="249"/>
                          </a:lnTo>
                          <a:lnTo>
                            <a:pt x="158" y="243"/>
                          </a:lnTo>
                          <a:lnTo>
                            <a:pt x="170" y="235"/>
                          </a:lnTo>
                          <a:lnTo>
                            <a:pt x="183" y="229"/>
                          </a:lnTo>
                          <a:lnTo>
                            <a:pt x="196" y="225"/>
                          </a:lnTo>
                          <a:lnTo>
                            <a:pt x="224" y="216"/>
                          </a:lnTo>
                          <a:lnTo>
                            <a:pt x="253" y="208"/>
                          </a:lnTo>
                          <a:lnTo>
                            <a:pt x="316" y="195"/>
                          </a:lnTo>
                          <a:lnTo>
                            <a:pt x="380" y="180"/>
                          </a:lnTo>
                          <a:lnTo>
                            <a:pt x="413" y="169"/>
                          </a:lnTo>
                          <a:lnTo>
                            <a:pt x="446" y="154"/>
                          </a:lnTo>
                          <a:lnTo>
                            <a:pt x="463" y="145"/>
                          </a:lnTo>
                          <a:lnTo>
                            <a:pt x="480" y="136"/>
                          </a:lnTo>
                          <a:lnTo>
                            <a:pt x="496" y="124"/>
                          </a:lnTo>
                          <a:lnTo>
                            <a:pt x="513" y="112"/>
                          </a:lnTo>
                          <a:lnTo>
                            <a:pt x="501" y="0"/>
                          </a:lnTo>
                          <a:lnTo>
                            <a:pt x="513" y="112"/>
                          </a:lnTo>
                          <a:lnTo>
                            <a:pt x="609" y="31"/>
                          </a:lnTo>
                          <a:lnTo>
                            <a:pt x="501" y="0"/>
                          </a:lnTo>
                          <a:lnTo>
                            <a:pt x="486" y="11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" bIns="4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1" name=""/>
                    <p:cNvSpPr/>
                    <p:nvPr/>
                  </p:nvSpPr>
                  <p:spPr>
                    <a:xfrm>
                      <a:off x="342360" y="5243040"/>
                      <a:ext cx="180000" cy="4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1" h="316">
                          <a:moveTo>
                            <a:pt x="0" y="102"/>
                          </a:moveTo>
                          <a:lnTo>
                            <a:pt x="6" y="108"/>
                          </a:lnTo>
                          <a:lnTo>
                            <a:pt x="39" y="132"/>
                          </a:lnTo>
                          <a:lnTo>
                            <a:pt x="72" y="155"/>
                          </a:lnTo>
                          <a:lnTo>
                            <a:pt x="105" y="174"/>
                          </a:lnTo>
                          <a:lnTo>
                            <a:pt x="139" y="192"/>
                          </a:lnTo>
                          <a:lnTo>
                            <a:pt x="172" y="207"/>
                          </a:lnTo>
                          <a:lnTo>
                            <a:pt x="205" y="220"/>
                          </a:lnTo>
                          <a:lnTo>
                            <a:pt x="239" y="231"/>
                          </a:lnTo>
                          <a:lnTo>
                            <a:pt x="272" y="241"/>
                          </a:lnTo>
                          <a:lnTo>
                            <a:pt x="305" y="249"/>
                          </a:lnTo>
                          <a:lnTo>
                            <a:pt x="339" y="255"/>
                          </a:lnTo>
                          <a:lnTo>
                            <a:pt x="372" y="261"/>
                          </a:lnTo>
                          <a:lnTo>
                            <a:pt x="406" y="265"/>
                          </a:lnTo>
                          <a:lnTo>
                            <a:pt x="472" y="270"/>
                          </a:lnTo>
                          <a:lnTo>
                            <a:pt x="538" y="273"/>
                          </a:lnTo>
                          <a:lnTo>
                            <a:pt x="605" y="273"/>
                          </a:lnTo>
                          <a:lnTo>
                            <a:pt x="671" y="273"/>
                          </a:lnTo>
                          <a:lnTo>
                            <a:pt x="738" y="274"/>
                          </a:lnTo>
                          <a:lnTo>
                            <a:pt x="805" y="276"/>
                          </a:lnTo>
                          <a:lnTo>
                            <a:pt x="838" y="277"/>
                          </a:lnTo>
                          <a:lnTo>
                            <a:pt x="872" y="279"/>
                          </a:lnTo>
                          <a:lnTo>
                            <a:pt x="905" y="283"/>
                          </a:lnTo>
                          <a:lnTo>
                            <a:pt x="939" y="286"/>
                          </a:lnTo>
                          <a:lnTo>
                            <a:pt x="973" y="292"/>
                          </a:lnTo>
                          <a:lnTo>
                            <a:pt x="1007" y="300"/>
                          </a:lnTo>
                          <a:lnTo>
                            <a:pt x="1041" y="307"/>
                          </a:lnTo>
                          <a:lnTo>
                            <a:pt x="1076" y="316"/>
                          </a:lnTo>
                          <a:lnTo>
                            <a:pt x="1091" y="198"/>
                          </a:lnTo>
                          <a:lnTo>
                            <a:pt x="1055" y="188"/>
                          </a:lnTo>
                          <a:lnTo>
                            <a:pt x="1018" y="180"/>
                          </a:lnTo>
                          <a:lnTo>
                            <a:pt x="982" y="173"/>
                          </a:lnTo>
                          <a:lnTo>
                            <a:pt x="947" y="167"/>
                          </a:lnTo>
                          <a:lnTo>
                            <a:pt x="911" y="162"/>
                          </a:lnTo>
                          <a:lnTo>
                            <a:pt x="876" y="159"/>
                          </a:lnTo>
                          <a:lnTo>
                            <a:pt x="841" y="156"/>
                          </a:lnTo>
                          <a:lnTo>
                            <a:pt x="807" y="155"/>
                          </a:lnTo>
                          <a:lnTo>
                            <a:pt x="738" y="153"/>
                          </a:lnTo>
                          <a:lnTo>
                            <a:pt x="671" y="153"/>
                          </a:lnTo>
                          <a:lnTo>
                            <a:pt x="605" y="153"/>
                          </a:lnTo>
                          <a:lnTo>
                            <a:pt x="539" y="152"/>
                          </a:lnTo>
                          <a:lnTo>
                            <a:pt x="475" y="150"/>
                          </a:lnTo>
                          <a:lnTo>
                            <a:pt x="411" y="144"/>
                          </a:lnTo>
                          <a:lnTo>
                            <a:pt x="380" y="141"/>
                          </a:lnTo>
                          <a:lnTo>
                            <a:pt x="348" y="135"/>
                          </a:lnTo>
                          <a:lnTo>
                            <a:pt x="317" y="129"/>
                          </a:lnTo>
                          <a:lnTo>
                            <a:pt x="286" y="122"/>
                          </a:lnTo>
                          <a:lnTo>
                            <a:pt x="255" y="113"/>
                          </a:lnTo>
                          <a:lnTo>
                            <a:pt x="225" y="102"/>
                          </a:lnTo>
                          <a:lnTo>
                            <a:pt x="194" y="90"/>
                          </a:lnTo>
                          <a:lnTo>
                            <a:pt x="164" y="77"/>
                          </a:lnTo>
                          <a:lnTo>
                            <a:pt x="134" y="60"/>
                          </a:lnTo>
                          <a:lnTo>
                            <a:pt x="103" y="42"/>
                          </a:lnTo>
                          <a:lnTo>
                            <a:pt x="73" y="23"/>
                          </a:lnTo>
                          <a:lnTo>
                            <a:pt x="43" y="0"/>
                          </a:lnTo>
                          <a:lnTo>
                            <a:pt x="49" y="6"/>
                          </a:lnTo>
                          <a:lnTo>
                            <a:pt x="0" y="102"/>
                          </a:lnTo>
                          <a:lnTo>
                            <a:pt x="3" y="105"/>
                          </a:lnTo>
                          <a:lnTo>
                            <a:pt x="6" y="108"/>
                          </a:lnTo>
                          <a:lnTo>
                            <a:pt x="0" y="10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"/>
                    <p:cNvSpPr/>
                    <p:nvPr/>
                  </p:nvSpPr>
                  <p:spPr>
                    <a:xfrm>
                      <a:off x="336600" y="5225400"/>
                      <a:ext cx="1440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222">
                          <a:moveTo>
                            <a:pt x="18" y="0"/>
                          </a:moveTo>
                          <a:lnTo>
                            <a:pt x="17" y="2"/>
                          </a:lnTo>
                          <a:lnTo>
                            <a:pt x="10" y="26"/>
                          </a:lnTo>
                          <a:lnTo>
                            <a:pt x="5" y="51"/>
                          </a:lnTo>
                          <a:lnTo>
                            <a:pt x="1" y="78"/>
                          </a:lnTo>
                          <a:lnTo>
                            <a:pt x="0" y="104"/>
                          </a:lnTo>
                          <a:lnTo>
                            <a:pt x="0" y="120"/>
                          </a:lnTo>
                          <a:lnTo>
                            <a:pt x="2" y="135"/>
                          </a:lnTo>
                          <a:lnTo>
                            <a:pt x="4" y="150"/>
                          </a:lnTo>
                          <a:lnTo>
                            <a:pt x="7" y="165"/>
                          </a:lnTo>
                          <a:lnTo>
                            <a:pt x="11" y="180"/>
                          </a:lnTo>
                          <a:lnTo>
                            <a:pt x="17" y="195"/>
                          </a:lnTo>
                          <a:lnTo>
                            <a:pt x="25" y="209"/>
                          </a:lnTo>
                          <a:lnTo>
                            <a:pt x="34" y="222"/>
                          </a:lnTo>
                          <a:lnTo>
                            <a:pt x="83" y="126"/>
                          </a:lnTo>
                          <a:lnTo>
                            <a:pt x="82" y="123"/>
                          </a:lnTo>
                          <a:lnTo>
                            <a:pt x="82" y="120"/>
                          </a:lnTo>
                          <a:lnTo>
                            <a:pt x="81" y="116"/>
                          </a:lnTo>
                          <a:lnTo>
                            <a:pt x="81" y="111"/>
                          </a:lnTo>
                          <a:lnTo>
                            <a:pt x="81" y="108"/>
                          </a:lnTo>
                          <a:lnTo>
                            <a:pt x="81" y="93"/>
                          </a:lnTo>
                          <a:lnTo>
                            <a:pt x="83" y="81"/>
                          </a:lnTo>
                          <a:lnTo>
                            <a:pt x="85" y="69"/>
                          </a:lnTo>
                          <a:lnTo>
                            <a:pt x="88" y="60"/>
                          </a:lnTo>
                          <a:lnTo>
                            <a:pt x="87" y="62"/>
                          </a:lnTo>
                          <a:lnTo>
                            <a:pt x="18" y="0"/>
                          </a:lnTo>
                          <a:lnTo>
                            <a:pt x="18" y="2"/>
                          </a:lnTo>
                          <a:lnTo>
                            <a:pt x="17" y="2"/>
                          </a:lnTo>
                          <a:lnTo>
                            <a:pt x="18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"/>
                    <p:cNvSpPr/>
                    <p:nvPr/>
                  </p:nvSpPr>
                  <p:spPr>
                    <a:xfrm>
                      <a:off x="339480" y="5182200"/>
                      <a:ext cx="100800" cy="5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351">
                          <a:moveTo>
                            <a:pt x="608" y="1"/>
                          </a:moveTo>
                          <a:lnTo>
                            <a:pt x="594" y="1"/>
                          </a:lnTo>
                          <a:lnTo>
                            <a:pt x="578" y="7"/>
                          </a:lnTo>
                          <a:lnTo>
                            <a:pt x="561" y="12"/>
                          </a:lnTo>
                          <a:lnTo>
                            <a:pt x="544" y="15"/>
                          </a:lnTo>
                          <a:lnTo>
                            <a:pt x="527" y="18"/>
                          </a:lnTo>
                          <a:lnTo>
                            <a:pt x="489" y="22"/>
                          </a:lnTo>
                          <a:lnTo>
                            <a:pt x="451" y="25"/>
                          </a:lnTo>
                          <a:lnTo>
                            <a:pt x="411" y="28"/>
                          </a:lnTo>
                          <a:lnTo>
                            <a:pt x="371" y="31"/>
                          </a:lnTo>
                          <a:lnTo>
                            <a:pt x="330" y="36"/>
                          </a:lnTo>
                          <a:lnTo>
                            <a:pt x="290" y="42"/>
                          </a:lnTo>
                          <a:lnTo>
                            <a:pt x="269" y="45"/>
                          </a:lnTo>
                          <a:lnTo>
                            <a:pt x="248" y="51"/>
                          </a:lnTo>
                          <a:lnTo>
                            <a:pt x="228" y="57"/>
                          </a:lnTo>
                          <a:lnTo>
                            <a:pt x="208" y="64"/>
                          </a:lnTo>
                          <a:lnTo>
                            <a:pt x="188" y="72"/>
                          </a:lnTo>
                          <a:lnTo>
                            <a:pt x="168" y="82"/>
                          </a:lnTo>
                          <a:lnTo>
                            <a:pt x="148" y="94"/>
                          </a:lnTo>
                          <a:lnTo>
                            <a:pt x="129" y="108"/>
                          </a:lnTo>
                          <a:lnTo>
                            <a:pt x="111" y="123"/>
                          </a:lnTo>
                          <a:lnTo>
                            <a:pt x="92" y="139"/>
                          </a:lnTo>
                          <a:lnTo>
                            <a:pt x="75" y="159"/>
                          </a:lnTo>
                          <a:lnTo>
                            <a:pt x="58" y="180"/>
                          </a:lnTo>
                          <a:lnTo>
                            <a:pt x="42" y="204"/>
                          </a:lnTo>
                          <a:lnTo>
                            <a:pt x="27" y="231"/>
                          </a:lnTo>
                          <a:lnTo>
                            <a:pt x="13" y="259"/>
                          </a:lnTo>
                          <a:lnTo>
                            <a:pt x="0" y="289"/>
                          </a:lnTo>
                          <a:lnTo>
                            <a:pt x="69" y="351"/>
                          </a:lnTo>
                          <a:lnTo>
                            <a:pt x="79" y="327"/>
                          </a:lnTo>
                          <a:lnTo>
                            <a:pt x="90" y="306"/>
                          </a:lnTo>
                          <a:lnTo>
                            <a:pt x="101" y="286"/>
                          </a:lnTo>
                          <a:lnTo>
                            <a:pt x="113" y="270"/>
                          </a:lnTo>
                          <a:lnTo>
                            <a:pt x="125" y="253"/>
                          </a:lnTo>
                          <a:lnTo>
                            <a:pt x="138" y="240"/>
                          </a:lnTo>
                          <a:lnTo>
                            <a:pt x="151" y="226"/>
                          </a:lnTo>
                          <a:lnTo>
                            <a:pt x="166" y="216"/>
                          </a:lnTo>
                          <a:lnTo>
                            <a:pt x="180" y="205"/>
                          </a:lnTo>
                          <a:lnTo>
                            <a:pt x="196" y="196"/>
                          </a:lnTo>
                          <a:lnTo>
                            <a:pt x="211" y="187"/>
                          </a:lnTo>
                          <a:lnTo>
                            <a:pt x="228" y="181"/>
                          </a:lnTo>
                          <a:lnTo>
                            <a:pt x="245" y="175"/>
                          </a:lnTo>
                          <a:lnTo>
                            <a:pt x="262" y="169"/>
                          </a:lnTo>
                          <a:lnTo>
                            <a:pt x="280" y="165"/>
                          </a:lnTo>
                          <a:lnTo>
                            <a:pt x="298" y="162"/>
                          </a:lnTo>
                          <a:lnTo>
                            <a:pt x="337" y="156"/>
                          </a:lnTo>
                          <a:lnTo>
                            <a:pt x="375" y="151"/>
                          </a:lnTo>
                          <a:lnTo>
                            <a:pt x="415" y="150"/>
                          </a:lnTo>
                          <a:lnTo>
                            <a:pt x="455" y="147"/>
                          </a:lnTo>
                          <a:lnTo>
                            <a:pt x="495" y="144"/>
                          </a:lnTo>
                          <a:lnTo>
                            <a:pt x="534" y="138"/>
                          </a:lnTo>
                          <a:lnTo>
                            <a:pt x="554" y="135"/>
                          </a:lnTo>
                          <a:lnTo>
                            <a:pt x="574" y="130"/>
                          </a:lnTo>
                          <a:lnTo>
                            <a:pt x="593" y="126"/>
                          </a:lnTo>
                          <a:lnTo>
                            <a:pt x="612" y="120"/>
                          </a:lnTo>
                          <a:lnTo>
                            <a:pt x="598" y="121"/>
                          </a:lnTo>
                          <a:lnTo>
                            <a:pt x="608" y="1"/>
                          </a:lnTo>
                          <a:lnTo>
                            <a:pt x="601" y="0"/>
                          </a:lnTo>
                          <a:lnTo>
                            <a:pt x="594" y="1"/>
                          </a:lnTo>
                          <a:lnTo>
                            <a:pt x="608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438480" y="5182200"/>
                      <a:ext cx="44640" cy="2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" h="153">
                          <a:moveTo>
                            <a:pt x="193" y="90"/>
                          </a:moveTo>
                          <a:lnTo>
                            <a:pt x="229" y="30"/>
                          </a:lnTo>
                          <a:lnTo>
                            <a:pt x="215" y="32"/>
                          </a:lnTo>
                          <a:lnTo>
                            <a:pt x="202" y="32"/>
                          </a:lnTo>
                          <a:lnTo>
                            <a:pt x="189" y="33"/>
                          </a:lnTo>
                          <a:lnTo>
                            <a:pt x="176" y="32"/>
                          </a:lnTo>
                          <a:lnTo>
                            <a:pt x="149" y="29"/>
                          </a:lnTo>
                          <a:lnTo>
                            <a:pt x="122" y="24"/>
                          </a:lnTo>
                          <a:lnTo>
                            <a:pt x="95" y="18"/>
                          </a:lnTo>
                          <a:lnTo>
                            <a:pt x="67" y="12"/>
                          </a:lnTo>
                          <a:lnTo>
                            <a:pt x="39" y="5"/>
                          </a:lnTo>
                          <a:lnTo>
                            <a:pt x="10" y="0"/>
                          </a:lnTo>
                          <a:lnTo>
                            <a:pt x="0" y="120"/>
                          </a:lnTo>
                          <a:lnTo>
                            <a:pt x="27" y="125"/>
                          </a:lnTo>
                          <a:lnTo>
                            <a:pt x="55" y="131"/>
                          </a:lnTo>
                          <a:lnTo>
                            <a:pt x="83" y="138"/>
                          </a:lnTo>
                          <a:lnTo>
                            <a:pt x="112" y="144"/>
                          </a:lnTo>
                          <a:lnTo>
                            <a:pt x="141" y="150"/>
                          </a:lnTo>
                          <a:lnTo>
                            <a:pt x="172" y="153"/>
                          </a:lnTo>
                          <a:lnTo>
                            <a:pt x="188" y="153"/>
                          </a:lnTo>
                          <a:lnTo>
                            <a:pt x="204" y="153"/>
                          </a:lnTo>
                          <a:lnTo>
                            <a:pt x="220" y="152"/>
                          </a:lnTo>
                          <a:lnTo>
                            <a:pt x="237" y="150"/>
                          </a:lnTo>
                          <a:lnTo>
                            <a:pt x="273" y="90"/>
                          </a:lnTo>
                          <a:lnTo>
                            <a:pt x="237" y="150"/>
                          </a:lnTo>
                          <a:lnTo>
                            <a:pt x="273" y="144"/>
                          </a:lnTo>
                          <a:lnTo>
                            <a:pt x="273" y="90"/>
                          </a:lnTo>
                          <a:lnTo>
                            <a:pt x="193" y="9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446400" y="4646880"/>
                      <a:ext cx="36720" cy="54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4" h="3686">
                          <a:moveTo>
                            <a:pt x="0" y="15"/>
                          </a:moveTo>
                          <a:lnTo>
                            <a:pt x="0" y="19"/>
                          </a:lnTo>
                          <a:lnTo>
                            <a:pt x="12" y="132"/>
                          </a:lnTo>
                          <a:lnTo>
                            <a:pt x="24" y="245"/>
                          </a:lnTo>
                          <a:lnTo>
                            <a:pt x="35" y="358"/>
                          </a:lnTo>
                          <a:lnTo>
                            <a:pt x="45" y="470"/>
                          </a:lnTo>
                          <a:lnTo>
                            <a:pt x="54" y="584"/>
                          </a:lnTo>
                          <a:lnTo>
                            <a:pt x="63" y="698"/>
                          </a:lnTo>
                          <a:lnTo>
                            <a:pt x="71" y="811"/>
                          </a:lnTo>
                          <a:lnTo>
                            <a:pt x="79" y="925"/>
                          </a:lnTo>
                          <a:lnTo>
                            <a:pt x="86" y="1039"/>
                          </a:lnTo>
                          <a:lnTo>
                            <a:pt x="92" y="1153"/>
                          </a:lnTo>
                          <a:lnTo>
                            <a:pt x="98" y="1266"/>
                          </a:lnTo>
                          <a:lnTo>
                            <a:pt x="104" y="1380"/>
                          </a:lnTo>
                          <a:lnTo>
                            <a:pt x="113" y="1610"/>
                          </a:lnTo>
                          <a:lnTo>
                            <a:pt x="121" y="1839"/>
                          </a:lnTo>
                          <a:lnTo>
                            <a:pt x="128" y="2069"/>
                          </a:lnTo>
                          <a:lnTo>
                            <a:pt x="133" y="2299"/>
                          </a:lnTo>
                          <a:lnTo>
                            <a:pt x="136" y="2529"/>
                          </a:lnTo>
                          <a:lnTo>
                            <a:pt x="139" y="2760"/>
                          </a:lnTo>
                          <a:lnTo>
                            <a:pt x="141" y="2991"/>
                          </a:lnTo>
                          <a:lnTo>
                            <a:pt x="142" y="3223"/>
                          </a:lnTo>
                          <a:lnTo>
                            <a:pt x="143" y="3454"/>
                          </a:lnTo>
                          <a:lnTo>
                            <a:pt x="144" y="3686"/>
                          </a:lnTo>
                          <a:lnTo>
                            <a:pt x="224" y="3686"/>
                          </a:lnTo>
                          <a:lnTo>
                            <a:pt x="224" y="3454"/>
                          </a:lnTo>
                          <a:lnTo>
                            <a:pt x="223" y="3221"/>
                          </a:lnTo>
                          <a:lnTo>
                            <a:pt x="221" y="2991"/>
                          </a:lnTo>
                          <a:lnTo>
                            <a:pt x="219" y="2758"/>
                          </a:lnTo>
                          <a:lnTo>
                            <a:pt x="217" y="2527"/>
                          </a:lnTo>
                          <a:lnTo>
                            <a:pt x="213" y="2295"/>
                          </a:lnTo>
                          <a:lnTo>
                            <a:pt x="208" y="2064"/>
                          </a:lnTo>
                          <a:lnTo>
                            <a:pt x="202" y="1833"/>
                          </a:lnTo>
                          <a:lnTo>
                            <a:pt x="194" y="1604"/>
                          </a:lnTo>
                          <a:lnTo>
                            <a:pt x="184" y="1373"/>
                          </a:lnTo>
                          <a:lnTo>
                            <a:pt x="179" y="1257"/>
                          </a:lnTo>
                          <a:lnTo>
                            <a:pt x="173" y="1144"/>
                          </a:lnTo>
                          <a:lnTo>
                            <a:pt x="166" y="1028"/>
                          </a:lnTo>
                          <a:lnTo>
                            <a:pt x="159" y="914"/>
                          </a:lnTo>
                          <a:lnTo>
                            <a:pt x="151" y="799"/>
                          </a:lnTo>
                          <a:lnTo>
                            <a:pt x="143" y="685"/>
                          </a:lnTo>
                          <a:lnTo>
                            <a:pt x="134" y="569"/>
                          </a:lnTo>
                          <a:lnTo>
                            <a:pt x="125" y="455"/>
                          </a:lnTo>
                          <a:lnTo>
                            <a:pt x="114" y="341"/>
                          </a:lnTo>
                          <a:lnTo>
                            <a:pt x="104" y="227"/>
                          </a:lnTo>
                          <a:lnTo>
                            <a:pt x="92" y="114"/>
                          </a:lnTo>
                          <a:lnTo>
                            <a:pt x="79" y="0"/>
                          </a:lnTo>
                          <a:lnTo>
                            <a:pt x="80" y="4"/>
                          </a:lnTo>
                          <a:lnTo>
                            <a:pt x="0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>
                      <a:off x="433800" y="4487400"/>
                      <a:ext cx="25560" cy="16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6" h="1086">
                          <a:moveTo>
                            <a:pt x="1" y="24"/>
                          </a:moveTo>
                          <a:lnTo>
                            <a:pt x="0" y="15"/>
                          </a:lnTo>
                          <a:lnTo>
                            <a:pt x="3" y="81"/>
                          </a:lnTo>
                          <a:lnTo>
                            <a:pt x="6" y="147"/>
                          </a:lnTo>
                          <a:lnTo>
                            <a:pt x="10" y="215"/>
                          </a:lnTo>
                          <a:lnTo>
                            <a:pt x="14" y="280"/>
                          </a:lnTo>
                          <a:lnTo>
                            <a:pt x="18" y="348"/>
                          </a:lnTo>
                          <a:lnTo>
                            <a:pt x="23" y="415"/>
                          </a:lnTo>
                          <a:lnTo>
                            <a:pt x="28" y="483"/>
                          </a:lnTo>
                          <a:lnTo>
                            <a:pt x="34" y="550"/>
                          </a:lnTo>
                          <a:lnTo>
                            <a:pt x="39" y="618"/>
                          </a:lnTo>
                          <a:lnTo>
                            <a:pt x="45" y="685"/>
                          </a:lnTo>
                          <a:lnTo>
                            <a:pt x="50" y="753"/>
                          </a:lnTo>
                          <a:lnTo>
                            <a:pt x="56" y="820"/>
                          </a:lnTo>
                          <a:lnTo>
                            <a:pt x="61" y="886"/>
                          </a:lnTo>
                          <a:lnTo>
                            <a:pt x="66" y="954"/>
                          </a:lnTo>
                          <a:lnTo>
                            <a:pt x="71" y="1020"/>
                          </a:lnTo>
                          <a:lnTo>
                            <a:pt x="76" y="1086"/>
                          </a:lnTo>
                          <a:lnTo>
                            <a:pt x="156" y="1075"/>
                          </a:lnTo>
                          <a:lnTo>
                            <a:pt x="151" y="1008"/>
                          </a:lnTo>
                          <a:lnTo>
                            <a:pt x="146" y="940"/>
                          </a:lnTo>
                          <a:lnTo>
                            <a:pt x="141" y="873"/>
                          </a:lnTo>
                          <a:lnTo>
                            <a:pt x="136" y="805"/>
                          </a:lnTo>
                          <a:lnTo>
                            <a:pt x="130" y="738"/>
                          </a:lnTo>
                          <a:lnTo>
                            <a:pt x="125" y="670"/>
                          </a:lnTo>
                          <a:lnTo>
                            <a:pt x="119" y="603"/>
                          </a:lnTo>
                          <a:lnTo>
                            <a:pt x="114" y="535"/>
                          </a:lnTo>
                          <a:lnTo>
                            <a:pt x="109" y="469"/>
                          </a:lnTo>
                          <a:lnTo>
                            <a:pt x="103" y="402"/>
                          </a:lnTo>
                          <a:lnTo>
                            <a:pt x="99" y="336"/>
                          </a:lnTo>
                          <a:lnTo>
                            <a:pt x="94" y="270"/>
                          </a:lnTo>
                          <a:lnTo>
                            <a:pt x="90" y="204"/>
                          </a:lnTo>
                          <a:lnTo>
                            <a:pt x="86" y="138"/>
                          </a:lnTo>
                          <a:lnTo>
                            <a:pt x="83" y="74"/>
                          </a:lnTo>
                          <a:lnTo>
                            <a:pt x="81" y="9"/>
                          </a:lnTo>
                          <a:lnTo>
                            <a:pt x="80" y="0"/>
                          </a:lnTo>
                          <a:lnTo>
                            <a:pt x="81" y="9"/>
                          </a:lnTo>
                          <a:lnTo>
                            <a:pt x="81" y="5"/>
                          </a:lnTo>
                          <a:lnTo>
                            <a:pt x="80" y="0"/>
                          </a:lnTo>
                          <a:lnTo>
                            <a:pt x="1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"/>
                    <p:cNvSpPr/>
                    <p:nvPr/>
                  </p:nvSpPr>
                  <p:spPr>
                    <a:xfrm>
                      <a:off x="421200" y="4400640"/>
                      <a:ext cx="25560" cy="9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604">
                          <a:moveTo>
                            <a:pt x="0" y="25"/>
                          </a:moveTo>
                          <a:lnTo>
                            <a:pt x="0" y="18"/>
                          </a:lnTo>
                          <a:lnTo>
                            <a:pt x="2" y="57"/>
                          </a:lnTo>
                          <a:lnTo>
                            <a:pt x="5" y="96"/>
                          </a:lnTo>
                          <a:lnTo>
                            <a:pt x="9" y="133"/>
                          </a:lnTo>
                          <a:lnTo>
                            <a:pt x="14" y="172"/>
                          </a:lnTo>
                          <a:lnTo>
                            <a:pt x="23" y="246"/>
                          </a:lnTo>
                          <a:lnTo>
                            <a:pt x="34" y="318"/>
                          </a:lnTo>
                          <a:lnTo>
                            <a:pt x="46" y="388"/>
                          </a:lnTo>
                          <a:lnTo>
                            <a:pt x="57" y="460"/>
                          </a:lnTo>
                          <a:lnTo>
                            <a:pt x="68" y="532"/>
                          </a:lnTo>
                          <a:lnTo>
                            <a:pt x="78" y="604"/>
                          </a:lnTo>
                          <a:lnTo>
                            <a:pt x="157" y="580"/>
                          </a:lnTo>
                          <a:lnTo>
                            <a:pt x="147" y="505"/>
                          </a:lnTo>
                          <a:lnTo>
                            <a:pt x="135" y="432"/>
                          </a:lnTo>
                          <a:lnTo>
                            <a:pt x="124" y="361"/>
                          </a:lnTo>
                          <a:lnTo>
                            <a:pt x="113" y="291"/>
                          </a:lnTo>
                          <a:lnTo>
                            <a:pt x="102" y="220"/>
                          </a:lnTo>
                          <a:lnTo>
                            <a:pt x="93" y="150"/>
                          </a:lnTo>
                          <a:lnTo>
                            <a:pt x="89" y="115"/>
                          </a:lnTo>
                          <a:lnTo>
                            <a:pt x="85" y="79"/>
                          </a:lnTo>
                          <a:lnTo>
                            <a:pt x="82" y="43"/>
                          </a:lnTo>
                          <a:lnTo>
                            <a:pt x="80" y="7"/>
                          </a:lnTo>
                          <a:lnTo>
                            <a:pt x="79" y="0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403200" y="4241520"/>
                      <a:ext cx="30960" cy="16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8" h="1094">
                          <a:moveTo>
                            <a:pt x="4" y="0"/>
                          </a:moveTo>
                          <a:lnTo>
                            <a:pt x="3" y="31"/>
                          </a:lnTo>
                          <a:lnTo>
                            <a:pt x="12" y="91"/>
                          </a:lnTo>
                          <a:lnTo>
                            <a:pt x="20" y="153"/>
                          </a:lnTo>
                          <a:lnTo>
                            <a:pt x="27" y="216"/>
                          </a:lnTo>
                          <a:lnTo>
                            <a:pt x="33" y="280"/>
                          </a:lnTo>
                          <a:lnTo>
                            <a:pt x="39" y="346"/>
                          </a:lnTo>
                          <a:lnTo>
                            <a:pt x="45" y="412"/>
                          </a:lnTo>
                          <a:lnTo>
                            <a:pt x="50" y="480"/>
                          </a:lnTo>
                          <a:lnTo>
                            <a:pt x="55" y="549"/>
                          </a:lnTo>
                          <a:lnTo>
                            <a:pt x="60" y="616"/>
                          </a:lnTo>
                          <a:lnTo>
                            <a:pt x="66" y="685"/>
                          </a:lnTo>
                          <a:lnTo>
                            <a:pt x="72" y="754"/>
                          </a:lnTo>
                          <a:lnTo>
                            <a:pt x="78" y="823"/>
                          </a:lnTo>
                          <a:lnTo>
                            <a:pt x="84" y="892"/>
                          </a:lnTo>
                          <a:lnTo>
                            <a:pt x="92" y="959"/>
                          </a:lnTo>
                          <a:lnTo>
                            <a:pt x="100" y="1028"/>
                          </a:lnTo>
                          <a:lnTo>
                            <a:pt x="109" y="1094"/>
                          </a:lnTo>
                          <a:lnTo>
                            <a:pt x="188" y="1069"/>
                          </a:lnTo>
                          <a:lnTo>
                            <a:pt x="179" y="1004"/>
                          </a:lnTo>
                          <a:lnTo>
                            <a:pt x="171" y="940"/>
                          </a:lnTo>
                          <a:lnTo>
                            <a:pt x="164" y="874"/>
                          </a:lnTo>
                          <a:lnTo>
                            <a:pt x="157" y="807"/>
                          </a:lnTo>
                          <a:lnTo>
                            <a:pt x="151" y="739"/>
                          </a:lnTo>
                          <a:lnTo>
                            <a:pt x="146" y="672"/>
                          </a:lnTo>
                          <a:lnTo>
                            <a:pt x="141" y="603"/>
                          </a:lnTo>
                          <a:lnTo>
                            <a:pt x="135" y="535"/>
                          </a:lnTo>
                          <a:lnTo>
                            <a:pt x="130" y="466"/>
                          </a:lnTo>
                          <a:lnTo>
                            <a:pt x="125" y="399"/>
                          </a:lnTo>
                          <a:lnTo>
                            <a:pt x="119" y="331"/>
                          </a:lnTo>
                          <a:lnTo>
                            <a:pt x="113" y="264"/>
                          </a:lnTo>
                          <a:lnTo>
                            <a:pt x="106" y="198"/>
                          </a:lnTo>
                          <a:lnTo>
                            <a:pt x="99" y="132"/>
                          </a:lnTo>
                          <a:lnTo>
                            <a:pt x="91" y="67"/>
                          </a:lnTo>
                          <a:lnTo>
                            <a:pt x="81" y="3"/>
                          </a:lnTo>
                          <a:lnTo>
                            <a:pt x="81" y="36"/>
                          </a:lnTo>
                          <a:lnTo>
                            <a:pt x="4" y="0"/>
                          </a:lnTo>
                          <a:lnTo>
                            <a:pt x="0" y="15"/>
                          </a:lnTo>
                          <a:lnTo>
                            <a:pt x="3" y="31"/>
                          </a:lnTo>
                          <a:lnTo>
                            <a:pt x="4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403920" y="3755520"/>
                      <a:ext cx="149400" cy="49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5" h="3297">
                          <a:moveTo>
                            <a:pt x="842" y="120"/>
                          </a:moveTo>
                          <a:lnTo>
                            <a:pt x="809" y="36"/>
                          </a:lnTo>
                          <a:lnTo>
                            <a:pt x="751" y="232"/>
                          </a:lnTo>
                          <a:lnTo>
                            <a:pt x="694" y="430"/>
                          </a:lnTo>
                          <a:lnTo>
                            <a:pt x="638" y="628"/>
                          </a:lnTo>
                          <a:lnTo>
                            <a:pt x="583" y="828"/>
                          </a:lnTo>
                          <a:lnTo>
                            <a:pt x="529" y="1027"/>
                          </a:lnTo>
                          <a:lnTo>
                            <a:pt x="476" y="1226"/>
                          </a:lnTo>
                          <a:lnTo>
                            <a:pt x="424" y="1427"/>
                          </a:lnTo>
                          <a:lnTo>
                            <a:pt x="373" y="1628"/>
                          </a:lnTo>
                          <a:lnTo>
                            <a:pt x="323" y="1831"/>
                          </a:lnTo>
                          <a:lnTo>
                            <a:pt x="274" y="2033"/>
                          </a:lnTo>
                          <a:lnTo>
                            <a:pt x="226" y="2237"/>
                          </a:lnTo>
                          <a:lnTo>
                            <a:pt x="178" y="2439"/>
                          </a:lnTo>
                          <a:lnTo>
                            <a:pt x="132" y="2645"/>
                          </a:lnTo>
                          <a:lnTo>
                            <a:pt x="87" y="2849"/>
                          </a:lnTo>
                          <a:lnTo>
                            <a:pt x="43" y="3054"/>
                          </a:lnTo>
                          <a:lnTo>
                            <a:pt x="0" y="3261"/>
                          </a:lnTo>
                          <a:lnTo>
                            <a:pt x="77" y="3297"/>
                          </a:lnTo>
                          <a:lnTo>
                            <a:pt x="120" y="3092"/>
                          </a:lnTo>
                          <a:lnTo>
                            <a:pt x="164" y="2886"/>
                          </a:lnTo>
                          <a:lnTo>
                            <a:pt x="209" y="2682"/>
                          </a:lnTo>
                          <a:lnTo>
                            <a:pt x="255" y="2480"/>
                          </a:lnTo>
                          <a:lnTo>
                            <a:pt x="302" y="2276"/>
                          </a:lnTo>
                          <a:lnTo>
                            <a:pt x="349" y="2074"/>
                          </a:lnTo>
                          <a:lnTo>
                            <a:pt x="398" y="1873"/>
                          </a:lnTo>
                          <a:lnTo>
                            <a:pt x="448" y="1672"/>
                          </a:lnTo>
                          <a:lnTo>
                            <a:pt x="499" y="1471"/>
                          </a:lnTo>
                          <a:lnTo>
                            <a:pt x="551" y="1271"/>
                          </a:lnTo>
                          <a:lnTo>
                            <a:pt x="604" y="1072"/>
                          </a:lnTo>
                          <a:lnTo>
                            <a:pt x="657" y="874"/>
                          </a:lnTo>
                          <a:lnTo>
                            <a:pt x="712" y="675"/>
                          </a:lnTo>
                          <a:lnTo>
                            <a:pt x="768" y="478"/>
                          </a:lnTo>
                          <a:lnTo>
                            <a:pt x="825" y="282"/>
                          </a:lnTo>
                          <a:lnTo>
                            <a:pt x="883" y="86"/>
                          </a:lnTo>
                          <a:lnTo>
                            <a:pt x="850" y="0"/>
                          </a:lnTo>
                          <a:lnTo>
                            <a:pt x="883" y="86"/>
                          </a:lnTo>
                          <a:lnTo>
                            <a:pt x="905" y="9"/>
                          </a:lnTo>
                          <a:lnTo>
                            <a:pt x="850" y="0"/>
                          </a:lnTo>
                          <a:lnTo>
                            <a:pt x="842" y="12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0" name=""/>
                    <p:cNvSpPr/>
                    <p:nvPr/>
                  </p:nvSpPr>
                  <p:spPr>
                    <a:xfrm>
                      <a:off x="502200" y="3755520"/>
                      <a:ext cx="4176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4" h="242">
                          <a:moveTo>
                            <a:pt x="20" y="241"/>
                          </a:moveTo>
                          <a:lnTo>
                            <a:pt x="18" y="242"/>
                          </a:lnTo>
                          <a:lnTo>
                            <a:pt x="37" y="235"/>
                          </a:lnTo>
                          <a:lnTo>
                            <a:pt x="55" y="226"/>
                          </a:lnTo>
                          <a:lnTo>
                            <a:pt x="72" y="217"/>
                          </a:lnTo>
                          <a:lnTo>
                            <a:pt x="89" y="206"/>
                          </a:lnTo>
                          <a:lnTo>
                            <a:pt x="119" y="184"/>
                          </a:lnTo>
                          <a:lnTo>
                            <a:pt x="149" y="162"/>
                          </a:lnTo>
                          <a:lnTo>
                            <a:pt x="163" y="153"/>
                          </a:lnTo>
                          <a:lnTo>
                            <a:pt x="176" y="144"/>
                          </a:lnTo>
                          <a:lnTo>
                            <a:pt x="189" y="136"/>
                          </a:lnTo>
                          <a:lnTo>
                            <a:pt x="201" y="130"/>
                          </a:lnTo>
                          <a:lnTo>
                            <a:pt x="213" y="126"/>
                          </a:lnTo>
                          <a:lnTo>
                            <a:pt x="224" y="123"/>
                          </a:lnTo>
                          <a:lnTo>
                            <a:pt x="235" y="121"/>
                          </a:lnTo>
                          <a:lnTo>
                            <a:pt x="246" y="121"/>
                          </a:lnTo>
                          <a:lnTo>
                            <a:pt x="254" y="1"/>
                          </a:lnTo>
                          <a:lnTo>
                            <a:pt x="234" y="0"/>
                          </a:lnTo>
                          <a:lnTo>
                            <a:pt x="215" y="3"/>
                          </a:lnTo>
                          <a:lnTo>
                            <a:pt x="197" y="7"/>
                          </a:lnTo>
                          <a:lnTo>
                            <a:pt x="179" y="13"/>
                          </a:lnTo>
                          <a:lnTo>
                            <a:pt x="162" y="22"/>
                          </a:lnTo>
                          <a:lnTo>
                            <a:pt x="145" y="31"/>
                          </a:lnTo>
                          <a:lnTo>
                            <a:pt x="129" y="42"/>
                          </a:lnTo>
                          <a:lnTo>
                            <a:pt x="114" y="54"/>
                          </a:lnTo>
                          <a:lnTo>
                            <a:pt x="84" y="75"/>
                          </a:lnTo>
                          <a:lnTo>
                            <a:pt x="55" y="96"/>
                          </a:lnTo>
                          <a:lnTo>
                            <a:pt x="41" y="105"/>
                          </a:lnTo>
                          <a:lnTo>
                            <a:pt x="28" y="112"/>
                          </a:lnTo>
                          <a:lnTo>
                            <a:pt x="15" y="118"/>
                          </a:lnTo>
                          <a:lnTo>
                            <a:pt x="2" y="124"/>
                          </a:lnTo>
                          <a:lnTo>
                            <a:pt x="0" y="124"/>
                          </a:lnTo>
                          <a:lnTo>
                            <a:pt x="2" y="124"/>
                          </a:lnTo>
                          <a:lnTo>
                            <a:pt x="1" y="124"/>
                          </a:lnTo>
                          <a:lnTo>
                            <a:pt x="0" y="124"/>
                          </a:lnTo>
                          <a:lnTo>
                            <a:pt x="20" y="24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1" name=""/>
                    <p:cNvSpPr/>
                    <p:nvPr/>
                  </p:nvSpPr>
                  <p:spPr>
                    <a:xfrm>
                      <a:off x="367920" y="3754440"/>
                      <a:ext cx="137160" cy="4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2" h="326">
                          <a:moveTo>
                            <a:pt x="0" y="82"/>
                          </a:moveTo>
                          <a:lnTo>
                            <a:pt x="5" y="90"/>
                          </a:lnTo>
                          <a:lnTo>
                            <a:pt x="26" y="117"/>
                          </a:lnTo>
                          <a:lnTo>
                            <a:pt x="48" y="144"/>
                          </a:lnTo>
                          <a:lnTo>
                            <a:pt x="71" y="168"/>
                          </a:lnTo>
                          <a:lnTo>
                            <a:pt x="94" y="189"/>
                          </a:lnTo>
                          <a:lnTo>
                            <a:pt x="118" y="209"/>
                          </a:lnTo>
                          <a:lnTo>
                            <a:pt x="143" y="227"/>
                          </a:lnTo>
                          <a:lnTo>
                            <a:pt x="168" y="244"/>
                          </a:lnTo>
                          <a:lnTo>
                            <a:pt x="193" y="259"/>
                          </a:lnTo>
                          <a:lnTo>
                            <a:pt x="219" y="272"/>
                          </a:lnTo>
                          <a:lnTo>
                            <a:pt x="245" y="283"/>
                          </a:lnTo>
                          <a:lnTo>
                            <a:pt x="271" y="293"/>
                          </a:lnTo>
                          <a:lnTo>
                            <a:pt x="298" y="302"/>
                          </a:lnTo>
                          <a:lnTo>
                            <a:pt x="325" y="310"/>
                          </a:lnTo>
                          <a:lnTo>
                            <a:pt x="352" y="314"/>
                          </a:lnTo>
                          <a:lnTo>
                            <a:pt x="379" y="319"/>
                          </a:lnTo>
                          <a:lnTo>
                            <a:pt x="406" y="323"/>
                          </a:lnTo>
                          <a:lnTo>
                            <a:pt x="434" y="325"/>
                          </a:lnTo>
                          <a:lnTo>
                            <a:pt x="461" y="326"/>
                          </a:lnTo>
                          <a:lnTo>
                            <a:pt x="488" y="326"/>
                          </a:lnTo>
                          <a:lnTo>
                            <a:pt x="516" y="325"/>
                          </a:lnTo>
                          <a:lnTo>
                            <a:pt x="543" y="322"/>
                          </a:lnTo>
                          <a:lnTo>
                            <a:pt x="570" y="319"/>
                          </a:lnTo>
                          <a:lnTo>
                            <a:pt x="598" y="316"/>
                          </a:lnTo>
                          <a:lnTo>
                            <a:pt x="625" y="310"/>
                          </a:lnTo>
                          <a:lnTo>
                            <a:pt x="678" y="299"/>
                          </a:lnTo>
                          <a:lnTo>
                            <a:pt x="731" y="284"/>
                          </a:lnTo>
                          <a:lnTo>
                            <a:pt x="782" y="268"/>
                          </a:lnTo>
                          <a:lnTo>
                            <a:pt x="832" y="250"/>
                          </a:lnTo>
                          <a:lnTo>
                            <a:pt x="812" y="133"/>
                          </a:lnTo>
                          <a:lnTo>
                            <a:pt x="764" y="151"/>
                          </a:lnTo>
                          <a:lnTo>
                            <a:pt x="715" y="166"/>
                          </a:lnTo>
                          <a:lnTo>
                            <a:pt x="665" y="180"/>
                          </a:lnTo>
                          <a:lnTo>
                            <a:pt x="614" y="192"/>
                          </a:lnTo>
                          <a:lnTo>
                            <a:pt x="589" y="196"/>
                          </a:lnTo>
                          <a:lnTo>
                            <a:pt x="564" y="199"/>
                          </a:lnTo>
                          <a:lnTo>
                            <a:pt x="538" y="202"/>
                          </a:lnTo>
                          <a:lnTo>
                            <a:pt x="513" y="203"/>
                          </a:lnTo>
                          <a:lnTo>
                            <a:pt x="487" y="205"/>
                          </a:lnTo>
                          <a:lnTo>
                            <a:pt x="462" y="205"/>
                          </a:lnTo>
                          <a:lnTo>
                            <a:pt x="436" y="203"/>
                          </a:lnTo>
                          <a:lnTo>
                            <a:pt x="411" y="202"/>
                          </a:lnTo>
                          <a:lnTo>
                            <a:pt x="386" y="199"/>
                          </a:lnTo>
                          <a:lnTo>
                            <a:pt x="362" y="196"/>
                          </a:lnTo>
                          <a:lnTo>
                            <a:pt x="337" y="190"/>
                          </a:lnTo>
                          <a:lnTo>
                            <a:pt x="313" y="184"/>
                          </a:lnTo>
                          <a:lnTo>
                            <a:pt x="290" y="177"/>
                          </a:lnTo>
                          <a:lnTo>
                            <a:pt x="266" y="168"/>
                          </a:lnTo>
                          <a:lnTo>
                            <a:pt x="243" y="157"/>
                          </a:lnTo>
                          <a:lnTo>
                            <a:pt x="221" y="145"/>
                          </a:lnTo>
                          <a:lnTo>
                            <a:pt x="199" y="133"/>
                          </a:lnTo>
                          <a:lnTo>
                            <a:pt x="177" y="118"/>
                          </a:lnTo>
                          <a:lnTo>
                            <a:pt x="156" y="102"/>
                          </a:lnTo>
                          <a:lnTo>
                            <a:pt x="135" y="85"/>
                          </a:lnTo>
                          <a:lnTo>
                            <a:pt x="116" y="66"/>
                          </a:lnTo>
                          <a:lnTo>
                            <a:pt x="96" y="46"/>
                          </a:lnTo>
                          <a:lnTo>
                            <a:pt x="77" y="24"/>
                          </a:lnTo>
                          <a:lnTo>
                            <a:pt x="59" y="0"/>
                          </a:lnTo>
                          <a:lnTo>
                            <a:pt x="64" y="7"/>
                          </a:lnTo>
                          <a:lnTo>
                            <a:pt x="0" y="82"/>
                          </a:lnTo>
                          <a:lnTo>
                            <a:pt x="2" y="85"/>
                          </a:lnTo>
                          <a:lnTo>
                            <a:pt x="5" y="90"/>
                          </a:lnTo>
                          <a:lnTo>
                            <a:pt x="0" y="8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" bIns="1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2" name=""/>
                    <p:cNvSpPr/>
                    <p:nvPr/>
                  </p:nvSpPr>
                  <p:spPr>
                    <a:xfrm>
                      <a:off x="331560" y="3640320"/>
                      <a:ext cx="47160" cy="12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6" h="846">
                          <a:moveTo>
                            <a:pt x="20" y="0"/>
                          </a:moveTo>
                          <a:lnTo>
                            <a:pt x="16" y="12"/>
                          </a:lnTo>
                          <a:lnTo>
                            <a:pt x="10" y="44"/>
                          </a:lnTo>
                          <a:lnTo>
                            <a:pt x="6" y="77"/>
                          </a:lnTo>
                          <a:lnTo>
                            <a:pt x="2" y="108"/>
                          </a:lnTo>
                          <a:lnTo>
                            <a:pt x="1" y="140"/>
                          </a:lnTo>
                          <a:lnTo>
                            <a:pt x="0" y="170"/>
                          </a:lnTo>
                          <a:lnTo>
                            <a:pt x="0" y="201"/>
                          </a:lnTo>
                          <a:lnTo>
                            <a:pt x="2" y="231"/>
                          </a:lnTo>
                          <a:lnTo>
                            <a:pt x="4" y="261"/>
                          </a:lnTo>
                          <a:lnTo>
                            <a:pt x="8" y="291"/>
                          </a:lnTo>
                          <a:lnTo>
                            <a:pt x="12" y="320"/>
                          </a:lnTo>
                          <a:lnTo>
                            <a:pt x="18" y="348"/>
                          </a:lnTo>
                          <a:lnTo>
                            <a:pt x="24" y="377"/>
                          </a:lnTo>
                          <a:lnTo>
                            <a:pt x="30" y="404"/>
                          </a:lnTo>
                          <a:lnTo>
                            <a:pt x="38" y="431"/>
                          </a:lnTo>
                          <a:lnTo>
                            <a:pt x="46" y="458"/>
                          </a:lnTo>
                          <a:lnTo>
                            <a:pt x="55" y="485"/>
                          </a:lnTo>
                          <a:lnTo>
                            <a:pt x="73" y="536"/>
                          </a:lnTo>
                          <a:lnTo>
                            <a:pt x="93" y="585"/>
                          </a:lnTo>
                          <a:lnTo>
                            <a:pt x="114" y="632"/>
                          </a:lnTo>
                          <a:lnTo>
                            <a:pt x="136" y="678"/>
                          </a:lnTo>
                          <a:lnTo>
                            <a:pt x="180" y="765"/>
                          </a:lnTo>
                          <a:lnTo>
                            <a:pt x="222" y="846"/>
                          </a:lnTo>
                          <a:lnTo>
                            <a:pt x="286" y="771"/>
                          </a:lnTo>
                          <a:lnTo>
                            <a:pt x="244" y="692"/>
                          </a:lnTo>
                          <a:lnTo>
                            <a:pt x="201" y="606"/>
                          </a:lnTo>
                          <a:lnTo>
                            <a:pt x="181" y="564"/>
                          </a:lnTo>
                          <a:lnTo>
                            <a:pt x="161" y="519"/>
                          </a:lnTo>
                          <a:lnTo>
                            <a:pt x="143" y="474"/>
                          </a:lnTo>
                          <a:lnTo>
                            <a:pt x="126" y="428"/>
                          </a:lnTo>
                          <a:lnTo>
                            <a:pt x="119" y="407"/>
                          </a:lnTo>
                          <a:lnTo>
                            <a:pt x="112" y="383"/>
                          </a:lnTo>
                          <a:lnTo>
                            <a:pt x="106" y="360"/>
                          </a:lnTo>
                          <a:lnTo>
                            <a:pt x="100" y="336"/>
                          </a:lnTo>
                          <a:lnTo>
                            <a:pt x="95" y="314"/>
                          </a:lnTo>
                          <a:lnTo>
                            <a:pt x="90" y="290"/>
                          </a:lnTo>
                          <a:lnTo>
                            <a:pt x="87" y="267"/>
                          </a:lnTo>
                          <a:lnTo>
                            <a:pt x="84" y="243"/>
                          </a:lnTo>
                          <a:lnTo>
                            <a:pt x="82" y="219"/>
                          </a:lnTo>
                          <a:lnTo>
                            <a:pt x="81" y="195"/>
                          </a:lnTo>
                          <a:lnTo>
                            <a:pt x="80" y="171"/>
                          </a:lnTo>
                          <a:lnTo>
                            <a:pt x="81" y="147"/>
                          </a:lnTo>
                          <a:lnTo>
                            <a:pt x="83" y="122"/>
                          </a:lnTo>
                          <a:lnTo>
                            <a:pt x="85" y="98"/>
                          </a:lnTo>
                          <a:lnTo>
                            <a:pt x="89" y="72"/>
                          </a:lnTo>
                          <a:lnTo>
                            <a:pt x="93" y="48"/>
                          </a:lnTo>
                          <a:lnTo>
                            <a:pt x="90" y="60"/>
                          </a:lnTo>
                          <a:lnTo>
                            <a:pt x="20" y="0"/>
                          </a:lnTo>
                          <a:lnTo>
                            <a:pt x="18" y="6"/>
                          </a:lnTo>
                          <a:lnTo>
                            <a:pt x="16" y="12"/>
                          </a:lnTo>
                          <a:lnTo>
                            <a:pt x="2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3" name=""/>
                    <p:cNvSpPr/>
                    <p:nvPr/>
                  </p:nvSpPr>
                  <p:spPr>
                    <a:xfrm>
                      <a:off x="334800" y="3614040"/>
                      <a:ext cx="3636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1" h="238">
                          <a:moveTo>
                            <a:pt x="221" y="9"/>
                          </a:moveTo>
                          <a:lnTo>
                            <a:pt x="201" y="0"/>
                          </a:lnTo>
                          <a:lnTo>
                            <a:pt x="185" y="0"/>
                          </a:lnTo>
                          <a:lnTo>
                            <a:pt x="168" y="2"/>
                          </a:lnTo>
                          <a:lnTo>
                            <a:pt x="153" y="6"/>
                          </a:lnTo>
                          <a:lnTo>
                            <a:pt x="138" y="11"/>
                          </a:lnTo>
                          <a:lnTo>
                            <a:pt x="123" y="18"/>
                          </a:lnTo>
                          <a:lnTo>
                            <a:pt x="109" y="27"/>
                          </a:lnTo>
                          <a:lnTo>
                            <a:pt x="95" y="36"/>
                          </a:lnTo>
                          <a:lnTo>
                            <a:pt x="82" y="48"/>
                          </a:lnTo>
                          <a:lnTo>
                            <a:pt x="69" y="60"/>
                          </a:lnTo>
                          <a:lnTo>
                            <a:pt x="57" y="74"/>
                          </a:lnTo>
                          <a:lnTo>
                            <a:pt x="46" y="89"/>
                          </a:lnTo>
                          <a:lnTo>
                            <a:pt x="35" y="105"/>
                          </a:lnTo>
                          <a:lnTo>
                            <a:pt x="26" y="122"/>
                          </a:lnTo>
                          <a:lnTo>
                            <a:pt x="16" y="139"/>
                          </a:lnTo>
                          <a:lnTo>
                            <a:pt x="8" y="159"/>
                          </a:lnTo>
                          <a:lnTo>
                            <a:pt x="0" y="178"/>
                          </a:lnTo>
                          <a:lnTo>
                            <a:pt x="70" y="238"/>
                          </a:lnTo>
                          <a:lnTo>
                            <a:pt x="75" y="225"/>
                          </a:lnTo>
                          <a:lnTo>
                            <a:pt x="81" y="211"/>
                          </a:lnTo>
                          <a:lnTo>
                            <a:pt x="88" y="199"/>
                          </a:lnTo>
                          <a:lnTo>
                            <a:pt x="94" y="187"/>
                          </a:lnTo>
                          <a:lnTo>
                            <a:pt x="102" y="177"/>
                          </a:lnTo>
                          <a:lnTo>
                            <a:pt x="109" y="166"/>
                          </a:lnTo>
                          <a:lnTo>
                            <a:pt x="116" y="157"/>
                          </a:lnTo>
                          <a:lnTo>
                            <a:pt x="124" y="150"/>
                          </a:lnTo>
                          <a:lnTo>
                            <a:pt x="132" y="142"/>
                          </a:lnTo>
                          <a:lnTo>
                            <a:pt x="141" y="137"/>
                          </a:lnTo>
                          <a:lnTo>
                            <a:pt x="149" y="132"/>
                          </a:lnTo>
                          <a:lnTo>
                            <a:pt x="158" y="128"/>
                          </a:lnTo>
                          <a:lnTo>
                            <a:pt x="168" y="125"/>
                          </a:lnTo>
                          <a:lnTo>
                            <a:pt x="177" y="123"/>
                          </a:lnTo>
                          <a:lnTo>
                            <a:pt x="187" y="122"/>
                          </a:lnTo>
                          <a:lnTo>
                            <a:pt x="198" y="122"/>
                          </a:lnTo>
                          <a:lnTo>
                            <a:pt x="178" y="113"/>
                          </a:lnTo>
                          <a:lnTo>
                            <a:pt x="221" y="9"/>
                          </a:lnTo>
                          <a:lnTo>
                            <a:pt x="211" y="2"/>
                          </a:lnTo>
                          <a:lnTo>
                            <a:pt x="201" y="0"/>
                          </a:lnTo>
                          <a:lnTo>
                            <a:pt x="221" y="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4" name=""/>
                    <p:cNvSpPr/>
                    <p:nvPr/>
                  </p:nvSpPr>
                  <p:spPr>
                    <a:xfrm>
                      <a:off x="363960" y="3581640"/>
                      <a:ext cx="35640" cy="5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360">
                          <a:moveTo>
                            <a:pt x="197" y="0"/>
                          </a:moveTo>
                          <a:lnTo>
                            <a:pt x="182" y="6"/>
                          </a:lnTo>
                          <a:lnTo>
                            <a:pt x="171" y="17"/>
                          </a:lnTo>
                          <a:lnTo>
                            <a:pt x="161" y="27"/>
                          </a:lnTo>
                          <a:lnTo>
                            <a:pt x="152" y="38"/>
                          </a:lnTo>
                          <a:lnTo>
                            <a:pt x="143" y="53"/>
                          </a:lnTo>
                          <a:lnTo>
                            <a:pt x="130" y="77"/>
                          </a:lnTo>
                          <a:lnTo>
                            <a:pt x="118" y="104"/>
                          </a:lnTo>
                          <a:lnTo>
                            <a:pt x="100" y="155"/>
                          </a:lnTo>
                          <a:lnTo>
                            <a:pt x="85" y="201"/>
                          </a:lnTo>
                          <a:lnTo>
                            <a:pt x="78" y="218"/>
                          </a:lnTo>
                          <a:lnTo>
                            <a:pt x="72" y="231"/>
                          </a:lnTo>
                          <a:lnTo>
                            <a:pt x="70" y="234"/>
                          </a:lnTo>
                          <a:lnTo>
                            <a:pt x="68" y="237"/>
                          </a:lnTo>
                          <a:lnTo>
                            <a:pt x="67" y="239"/>
                          </a:lnTo>
                          <a:lnTo>
                            <a:pt x="66" y="239"/>
                          </a:lnTo>
                          <a:lnTo>
                            <a:pt x="65" y="240"/>
                          </a:lnTo>
                          <a:lnTo>
                            <a:pt x="64" y="239"/>
                          </a:lnTo>
                          <a:lnTo>
                            <a:pt x="63" y="239"/>
                          </a:lnTo>
                          <a:lnTo>
                            <a:pt x="60" y="239"/>
                          </a:lnTo>
                          <a:lnTo>
                            <a:pt x="55" y="236"/>
                          </a:lnTo>
                          <a:lnTo>
                            <a:pt x="50" y="233"/>
                          </a:lnTo>
                          <a:lnTo>
                            <a:pt x="43" y="225"/>
                          </a:lnTo>
                          <a:lnTo>
                            <a:pt x="0" y="329"/>
                          </a:lnTo>
                          <a:lnTo>
                            <a:pt x="12" y="339"/>
                          </a:lnTo>
                          <a:lnTo>
                            <a:pt x="25" y="348"/>
                          </a:lnTo>
                          <a:lnTo>
                            <a:pt x="37" y="354"/>
                          </a:lnTo>
                          <a:lnTo>
                            <a:pt x="50" y="358"/>
                          </a:lnTo>
                          <a:lnTo>
                            <a:pt x="63" y="360"/>
                          </a:lnTo>
                          <a:lnTo>
                            <a:pt x="76" y="358"/>
                          </a:lnTo>
                          <a:lnTo>
                            <a:pt x="88" y="355"/>
                          </a:lnTo>
                          <a:lnTo>
                            <a:pt x="100" y="348"/>
                          </a:lnTo>
                          <a:lnTo>
                            <a:pt x="110" y="341"/>
                          </a:lnTo>
                          <a:lnTo>
                            <a:pt x="120" y="330"/>
                          </a:lnTo>
                          <a:lnTo>
                            <a:pt x="128" y="318"/>
                          </a:lnTo>
                          <a:lnTo>
                            <a:pt x="135" y="305"/>
                          </a:lnTo>
                          <a:lnTo>
                            <a:pt x="146" y="282"/>
                          </a:lnTo>
                          <a:lnTo>
                            <a:pt x="156" y="257"/>
                          </a:lnTo>
                          <a:lnTo>
                            <a:pt x="172" y="210"/>
                          </a:lnTo>
                          <a:lnTo>
                            <a:pt x="188" y="164"/>
                          </a:lnTo>
                          <a:lnTo>
                            <a:pt x="195" y="147"/>
                          </a:lnTo>
                          <a:lnTo>
                            <a:pt x="204" y="131"/>
                          </a:lnTo>
                          <a:lnTo>
                            <a:pt x="207" y="126"/>
                          </a:lnTo>
                          <a:lnTo>
                            <a:pt x="211" y="122"/>
                          </a:lnTo>
                          <a:lnTo>
                            <a:pt x="214" y="117"/>
                          </a:lnTo>
                          <a:lnTo>
                            <a:pt x="218" y="114"/>
                          </a:lnTo>
                          <a:lnTo>
                            <a:pt x="203" y="122"/>
                          </a:lnTo>
                          <a:lnTo>
                            <a:pt x="197" y="0"/>
                          </a:lnTo>
                          <a:lnTo>
                            <a:pt x="189" y="2"/>
                          </a:lnTo>
                          <a:lnTo>
                            <a:pt x="182" y="6"/>
                          </a:lnTo>
                          <a:lnTo>
                            <a:pt x="197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5" name=""/>
                    <p:cNvSpPr/>
                    <p:nvPr/>
                  </p:nvSpPr>
                  <p:spPr>
                    <a:xfrm>
                      <a:off x="396720" y="3546000"/>
                      <a:ext cx="69120" cy="5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1" h="362">
                          <a:moveTo>
                            <a:pt x="421" y="32"/>
                          </a:moveTo>
                          <a:lnTo>
                            <a:pt x="418" y="29"/>
                          </a:lnTo>
                          <a:lnTo>
                            <a:pt x="399" y="18"/>
                          </a:lnTo>
                          <a:lnTo>
                            <a:pt x="380" y="9"/>
                          </a:lnTo>
                          <a:lnTo>
                            <a:pt x="362" y="3"/>
                          </a:lnTo>
                          <a:lnTo>
                            <a:pt x="344" y="0"/>
                          </a:lnTo>
                          <a:lnTo>
                            <a:pt x="327" y="0"/>
                          </a:lnTo>
                          <a:lnTo>
                            <a:pt x="310" y="2"/>
                          </a:lnTo>
                          <a:lnTo>
                            <a:pt x="293" y="5"/>
                          </a:lnTo>
                          <a:lnTo>
                            <a:pt x="277" y="9"/>
                          </a:lnTo>
                          <a:lnTo>
                            <a:pt x="261" y="17"/>
                          </a:lnTo>
                          <a:lnTo>
                            <a:pt x="246" y="26"/>
                          </a:lnTo>
                          <a:lnTo>
                            <a:pt x="232" y="35"/>
                          </a:lnTo>
                          <a:lnTo>
                            <a:pt x="218" y="47"/>
                          </a:lnTo>
                          <a:lnTo>
                            <a:pt x="192" y="69"/>
                          </a:lnTo>
                          <a:lnTo>
                            <a:pt x="168" y="95"/>
                          </a:lnTo>
                          <a:lnTo>
                            <a:pt x="123" y="146"/>
                          </a:lnTo>
                          <a:lnTo>
                            <a:pt x="78" y="194"/>
                          </a:lnTo>
                          <a:lnTo>
                            <a:pt x="69" y="203"/>
                          </a:lnTo>
                          <a:lnTo>
                            <a:pt x="59" y="212"/>
                          </a:lnTo>
                          <a:lnTo>
                            <a:pt x="49" y="219"/>
                          </a:lnTo>
                          <a:lnTo>
                            <a:pt x="39" y="225"/>
                          </a:lnTo>
                          <a:lnTo>
                            <a:pt x="29" y="231"/>
                          </a:lnTo>
                          <a:lnTo>
                            <a:pt x="19" y="236"/>
                          </a:lnTo>
                          <a:lnTo>
                            <a:pt x="10" y="239"/>
                          </a:lnTo>
                          <a:lnTo>
                            <a:pt x="0" y="240"/>
                          </a:lnTo>
                          <a:lnTo>
                            <a:pt x="6" y="362"/>
                          </a:lnTo>
                          <a:lnTo>
                            <a:pt x="23" y="359"/>
                          </a:lnTo>
                          <a:lnTo>
                            <a:pt x="39" y="353"/>
                          </a:lnTo>
                          <a:lnTo>
                            <a:pt x="54" y="347"/>
                          </a:lnTo>
                          <a:lnTo>
                            <a:pt x="69" y="338"/>
                          </a:lnTo>
                          <a:lnTo>
                            <a:pt x="83" y="329"/>
                          </a:lnTo>
                          <a:lnTo>
                            <a:pt x="97" y="318"/>
                          </a:lnTo>
                          <a:lnTo>
                            <a:pt x="110" y="306"/>
                          </a:lnTo>
                          <a:lnTo>
                            <a:pt x="124" y="293"/>
                          </a:lnTo>
                          <a:lnTo>
                            <a:pt x="170" y="243"/>
                          </a:lnTo>
                          <a:lnTo>
                            <a:pt x="215" y="192"/>
                          </a:lnTo>
                          <a:lnTo>
                            <a:pt x="236" y="171"/>
                          </a:lnTo>
                          <a:lnTo>
                            <a:pt x="258" y="152"/>
                          </a:lnTo>
                          <a:lnTo>
                            <a:pt x="267" y="144"/>
                          </a:lnTo>
                          <a:lnTo>
                            <a:pt x="277" y="137"/>
                          </a:lnTo>
                          <a:lnTo>
                            <a:pt x="287" y="132"/>
                          </a:lnTo>
                          <a:lnTo>
                            <a:pt x="297" y="126"/>
                          </a:lnTo>
                          <a:lnTo>
                            <a:pt x="307" y="123"/>
                          </a:lnTo>
                          <a:lnTo>
                            <a:pt x="317" y="122"/>
                          </a:lnTo>
                          <a:lnTo>
                            <a:pt x="327" y="120"/>
                          </a:lnTo>
                          <a:lnTo>
                            <a:pt x="338" y="122"/>
                          </a:lnTo>
                          <a:lnTo>
                            <a:pt x="349" y="123"/>
                          </a:lnTo>
                          <a:lnTo>
                            <a:pt x="360" y="126"/>
                          </a:lnTo>
                          <a:lnTo>
                            <a:pt x="372" y="132"/>
                          </a:lnTo>
                          <a:lnTo>
                            <a:pt x="385" y="140"/>
                          </a:lnTo>
                          <a:lnTo>
                            <a:pt x="381" y="137"/>
                          </a:lnTo>
                          <a:lnTo>
                            <a:pt x="421" y="32"/>
                          </a:lnTo>
                          <a:lnTo>
                            <a:pt x="419" y="30"/>
                          </a:lnTo>
                          <a:lnTo>
                            <a:pt x="418" y="29"/>
                          </a:lnTo>
                          <a:lnTo>
                            <a:pt x="421" y="3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6" name=""/>
                    <p:cNvSpPr/>
                    <p:nvPr/>
                  </p:nvSpPr>
                  <p:spPr>
                    <a:xfrm>
                      <a:off x="459720" y="3550320"/>
                      <a:ext cx="48240" cy="5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3" h="343">
                          <a:moveTo>
                            <a:pt x="227" y="225"/>
                          </a:moveTo>
                          <a:lnTo>
                            <a:pt x="282" y="210"/>
                          </a:lnTo>
                          <a:lnTo>
                            <a:pt x="250" y="178"/>
                          </a:lnTo>
                          <a:lnTo>
                            <a:pt x="219" y="150"/>
                          </a:lnTo>
                          <a:lnTo>
                            <a:pt x="189" y="124"/>
                          </a:lnTo>
                          <a:lnTo>
                            <a:pt x="160" y="99"/>
                          </a:lnTo>
                          <a:lnTo>
                            <a:pt x="131" y="75"/>
                          </a:lnTo>
                          <a:lnTo>
                            <a:pt x="101" y="51"/>
                          </a:lnTo>
                          <a:lnTo>
                            <a:pt x="71" y="27"/>
                          </a:lnTo>
                          <a:lnTo>
                            <a:pt x="40" y="0"/>
                          </a:lnTo>
                          <a:lnTo>
                            <a:pt x="0" y="105"/>
                          </a:lnTo>
                          <a:lnTo>
                            <a:pt x="32" y="132"/>
                          </a:lnTo>
                          <a:lnTo>
                            <a:pt x="63" y="157"/>
                          </a:lnTo>
                          <a:lnTo>
                            <a:pt x="92" y="181"/>
                          </a:lnTo>
                          <a:lnTo>
                            <a:pt x="120" y="204"/>
                          </a:lnTo>
                          <a:lnTo>
                            <a:pt x="149" y="228"/>
                          </a:lnTo>
                          <a:lnTo>
                            <a:pt x="177" y="253"/>
                          </a:lnTo>
                          <a:lnTo>
                            <a:pt x="207" y="280"/>
                          </a:lnTo>
                          <a:lnTo>
                            <a:pt x="237" y="310"/>
                          </a:lnTo>
                          <a:lnTo>
                            <a:pt x="293" y="295"/>
                          </a:lnTo>
                          <a:lnTo>
                            <a:pt x="237" y="310"/>
                          </a:lnTo>
                          <a:lnTo>
                            <a:pt x="270" y="343"/>
                          </a:lnTo>
                          <a:lnTo>
                            <a:pt x="293" y="295"/>
                          </a:lnTo>
                          <a:lnTo>
                            <a:pt x="227" y="2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" bIns="4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7" name=""/>
                    <p:cNvSpPr/>
                    <p:nvPr/>
                  </p:nvSpPr>
                  <p:spPr>
                    <a:xfrm>
                      <a:off x="497160" y="3548160"/>
                      <a:ext cx="65160" cy="4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7" h="312">
                          <a:moveTo>
                            <a:pt x="289" y="98"/>
                          </a:moveTo>
                          <a:lnTo>
                            <a:pt x="317" y="0"/>
                          </a:lnTo>
                          <a:lnTo>
                            <a:pt x="295" y="5"/>
                          </a:lnTo>
                          <a:lnTo>
                            <a:pt x="273" y="9"/>
                          </a:lnTo>
                          <a:lnTo>
                            <a:pt x="251" y="15"/>
                          </a:lnTo>
                          <a:lnTo>
                            <a:pt x="229" y="23"/>
                          </a:lnTo>
                          <a:lnTo>
                            <a:pt x="208" y="30"/>
                          </a:lnTo>
                          <a:lnTo>
                            <a:pt x="186" y="41"/>
                          </a:lnTo>
                          <a:lnTo>
                            <a:pt x="165" y="53"/>
                          </a:lnTo>
                          <a:lnTo>
                            <a:pt x="144" y="65"/>
                          </a:lnTo>
                          <a:lnTo>
                            <a:pt x="124" y="80"/>
                          </a:lnTo>
                          <a:lnTo>
                            <a:pt x="104" y="96"/>
                          </a:lnTo>
                          <a:lnTo>
                            <a:pt x="85" y="116"/>
                          </a:lnTo>
                          <a:lnTo>
                            <a:pt x="66" y="137"/>
                          </a:lnTo>
                          <a:lnTo>
                            <a:pt x="48" y="159"/>
                          </a:lnTo>
                          <a:lnTo>
                            <a:pt x="31" y="185"/>
                          </a:lnTo>
                          <a:lnTo>
                            <a:pt x="15" y="213"/>
                          </a:lnTo>
                          <a:lnTo>
                            <a:pt x="0" y="242"/>
                          </a:lnTo>
                          <a:lnTo>
                            <a:pt x="66" y="312"/>
                          </a:lnTo>
                          <a:lnTo>
                            <a:pt x="77" y="288"/>
                          </a:lnTo>
                          <a:lnTo>
                            <a:pt x="90" y="267"/>
                          </a:lnTo>
                          <a:lnTo>
                            <a:pt x="103" y="249"/>
                          </a:lnTo>
                          <a:lnTo>
                            <a:pt x="116" y="231"/>
                          </a:lnTo>
                          <a:lnTo>
                            <a:pt x="131" y="215"/>
                          </a:lnTo>
                          <a:lnTo>
                            <a:pt x="146" y="200"/>
                          </a:lnTo>
                          <a:lnTo>
                            <a:pt x="161" y="188"/>
                          </a:lnTo>
                          <a:lnTo>
                            <a:pt x="177" y="176"/>
                          </a:lnTo>
                          <a:lnTo>
                            <a:pt x="194" y="165"/>
                          </a:lnTo>
                          <a:lnTo>
                            <a:pt x="211" y="155"/>
                          </a:lnTo>
                          <a:lnTo>
                            <a:pt x="229" y="147"/>
                          </a:lnTo>
                          <a:lnTo>
                            <a:pt x="248" y="140"/>
                          </a:lnTo>
                          <a:lnTo>
                            <a:pt x="266" y="134"/>
                          </a:lnTo>
                          <a:lnTo>
                            <a:pt x="286" y="129"/>
                          </a:lnTo>
                          <a:lnTo>
                            <a:pt x="305" y="125"/>
                          </a:lnTo>
                          <a:lnTo>
                            <a:pt x="325" y="120"/>
                          </a:lnTo>
                          <a:lnTo>
                            <a:pt x="353" y="24"/>
                          </a:lnTo>
                          <a:lnTo>
                            <a:pt x="325" y="120"/>
                          </a:lnTo>
                          <a:lnTo>
                            <a:pt x="397" y="110"/>
                          </a:lnTo>
                          <a:lnTo>
                            <a:pt x="353" y="24"/>
                          </a:lnTo>
                          <a:lnTo>
                            <a:pt x="289" y="9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" bIns="-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8" name=""/>
                    <p:cNvSpPr/>
                    <p:nvPr/>
                  </p:nvSpPr>
                  <p:spPr>
                    <a:xfrm>
                      <a:off x="490680" y="3231360"/>
                      <a:ext cx="64440" cy="33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2" h="2225">
                          <a:moveTo>
                            <a:pt x="110" y="0"/>
                          </a:moveTo>
                          <a:lnTo>
                            <a:pt x="98" y="24"/>
                          </a:lnTo>
                          <a:lnTo>
                            <a:pt x="80" y="94"/>
                          </a:lnTo>
                          <a:lnTo>
                            <a:pt x="63" y="165"/>
                          </a:lnTo>
                          <a:lnTo>
                            <a:pt x="49" y="237"/>
                          </a:lnTo>
                          <a:lnTo>
                            <a:pt x="36" y="309"/>
                          </a:lnTo>
                          <a:lnTo>
                            <a:pt x="26" y="382"/>
                          </a:lnTo>
                          <a:lnTo>
                            <a:pt x="17" y="454"/>
                          </a:lnTo>
                          <a:lnTo>
                            <a:pt x="10" y="528"/>
                          </a:lnTo>
                          <a:lnTo>
                            <a:pt x="5" y="601"/>
                          </a:lnTo>
                          <a:lnTo>
                            <a:pt x="2" y="675"/>
                          </a:lnTo>
                          <a:lnTo>
                            <a:pt x="0" y="748"/>
                          </a:lnTo>
                          <a:lnTo>
                            <a:pt x="0" y="821"/>
                          </a:lnTo>
                          <a:lnTo>
                            <a:pt x="2" y="893"/>
                          </a:lnTo>
                          <a:lnTo>
                            <a:pt x="5" y="967"/>
                          </a:lnTo>
                          <a:lnTo>
                            <a:pt x="10" y="1040"/>
                          </a:lnTo>
                          <a:lnTo>
                            <a:pt x="16" y="1112"/>
                          </a:lnTo>
                          <a:lnTo>
                            <a:pt x="24" y="1184"/>
                          </a:lnTo>
                          <a:lnTo>
                            <a:pt x="33" y="1256"/>
                          </a:lnTo>
                          <a:lnTo>
                            <a:pt x="44" y="1327"/>
                          </a:lnTo>
                          <a:lnTo>
                            <a:pt x="56" y="1397"/>
                          </a:lnTo>
                          <a:lnTo>
                            <a:pt x="70" y="1468"/>
                          </a:lnTo>
                          <a:lnTo>
                            <a:pt x="85" y="1537"/>
                          </a:lnTo>
                          <a:lnTo>
                            <a:pt x="101" y="1606"/>
                          </a:lnTo>
                          <a:lnTo>
                            <a:pt x="118" y="1672"/>
                          </a:lnTo>
                          <a:lnTo>
                            <a:pt x="137" y="1739"/>
                          </a:lnTo>
                          <a:lnTo>
                            <a:pt x="157" y="1803"/>
                          </a:lnTo>
                          <a:lnTo>
                            <a:pt x="178" y="1868"/>
                          </a:lnTo>
                          <a:lnTo>
                            <a:pt x="201" y="1931"/>
                          </a:lnTo>
                          <a:lnTo>
                            <a:pt x="224" y="1992"/>
                          </a:lnTo>
                          <a:lnTo>
                            <a:pt x="249" y="2052"/>
                          </a:lnTo>
                          <a:lnTo>
                            <a:pt x="274" y="2111"/>
                          </a:lnTo>
                          <a:lnTo>
                            <a:pt x="301" y="2169"/>
                          </a:lnTo>
                          <a:lnTo>
                            <a:pt x="328" y="2225"/>
                          </a:lnTo>
                          <a:lnTo>
                            <a:pt x="392" y="2151"/>
                          </a:lnTo>
                          <a:lnTo>
                            <a:pt x="366" y="2099"/>
                          </a:lnTo>
                          <a:lnTo>
                            <a:pt x="341" y="2043"/>
                          </a:lnTo>
                          <a:lnTo>
                            <a:pt x="317" y="1988"/>
                          </a:lnTo>
                          <a:lnTo>
                            <a:pt x="293" y="1931"/>
                          </a:lnTo>
                          <a:lnTo>
                            <a:pt x="271" y="1872"/>
                          </a:lnTo>
                          <a:lnTo>
                            <a:pt x="250" y="1812"/>
                          </a:lnTo>
                          <a:lnTo>
                            <a:pt x="230" y="1751"/>
                          </a:lnTo>
                          <a:lnTo>
                            <a:pt x="211" y="1690"/>
                          </a:lnTo>
                          <a:lnTo>
                            <a:pt x="193" y="1627"/>
                          </a:lnTo>
                          <a:lnTo>
                            <a:pt x="177" y="1562"/>
                          </a:lnTo>
                          <a:lnTo>
                            <a:pt x="161" y="1498"/>
                          </a:lnTo>
                          <a:lnTo>
                            <a:pt x="147" y="1432"/>
                          </a:lnTo>
                          <a:lnTo>
                            <a:pt x="134" y="1366"/>
                          </a:lnTo>
                          <a:lnTo>
                            <a:pt x="123" y="1300"/>
                          </a:lnTo>
                          <a:lnTo>
                            <a:pt x="112" y="1232"/>
                          </a:lnTo>
                          <a:lnTo>
                            <a:pt x="103" y="1163"/>
                          </a:lnTo>
                          <a:lnTo>
                            <a:pt x="96" y="1096"/>
                          </a:lnTo>
                          <a:lnTo>
                            <a:pt x="90" y="1027"/>
                          </a:lnTo>
                          <a:lnTo>
                            <a:pt x="85" y="958"/>
                          </a:lnTo>
                          <a:lnTo>
                            <a:pt x="82" y="889"/>
                          </a:lnTo>
                          <a:lnTo>
                            <a:pt x="81" y="818"/>
                          </a:lnTo>
                          <a:lnTo>
                            <a:pt x="81" y="749"/>
                          </a:lnTo>
                          <a:lnTo>
                            <a:pt x="82" y="681"/>
                          </a:lnTo>
                          <a:lnTo>
                            <a:pt x="86" y="612"/>
                          </a:lnTo>
                          <a:lnTo>
                            <a:pt x="90" y="543"/>
                          </a:lnTo>
                          <a:lnTo>
                            <a:pt x="97" y="474"/>
                          </a:lnTo>
                          <a:lnTo>
                            <a:pt x="105" y="405"/>
                          </a:lnTo>
                          <a:lnTo>
                            <a:pt x="115" y="337"/>
                          </a:lnTo>
                          <a:lnTo>
                            <a:pt x="127" y="270"/>
                          </a:lnTo>
                          <a:lnTo>
                            <a:pt x="140" y="202"/>
                          </a:lnTo>
                          <a:lnTo>
                            <a:pt x="155" y="136"/>
                          </a:lnTo>
                          <a:lnTo>
                            <a:pt x="172" y="70"/>
                          </a:lnTo>
                          <a:lnTo>
                            <a:pt x="161" y="93"/>
                          </a:lnTo>
                          <a:lnTo>
                            <a:pt x="110" y="0"/>
                          </a:lnTo>
                          <a:lnTo>
                            <a:pt x="102" y="10"/>
                          </a:lnTo>
                          <a:lnTo>
                            <a:pt x="98" y="24"/>
                          </a:lnTo>
                          <a:lnTo>
                            <a:pt x="11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9" name=""/>
                    <p:cNvSpPr/>
                    <p:nvPr/>
                  </p:nvSpPr>
                  <p:spPr>
                    <a:xfrm>
                      <a:off x="508680" y="3065400"/>
                      <a:ext cx="200520" cy="17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7" h="1206">
                          <a:moveTo>
                            <a:pt x="1186" y="0"/>
                          </a:moveTo>
                          <a:lnTo>
                            <a:pt x="1184" y="2"/>
                          </a:lnTo>
                          <a:lnTo>
                            <a:pt x="1102" y="57"/>
                          </a:lnTo>
                          <a:lnTo>
                            <a:pt x="1022" y="116"/>
                          </a:lnTo>
                          <a:lnTo>
                            <a:pt x="944" y="176"/>
                          </a:lnTo>
                          <a:lnTo>
                            <a:pt x="865" y="236"/>
                          </a:lnTo>
                          <a:lnTo>
                            <a:pt x="789" y="299"/>
                          </a:lnTo>
                          <a:lnTo>
                            <a:pt x="714" y="363"/>
                          </a:lnTo>
                          <a:lnTo>
                            <a:pt x="639" y="429"/>
                          </a:lnTo>
                          <a:lnTo>
                            <a:pt x="566" y="497"/>
                          </a:lnTo>
                          <a:lnTo>
                            <a:pt x="493" y="567"/>
                          </a:lnTo>
                          <a:lnTo>
                            <a:pt x="422" y="639"/>
                          </a:lnTo>
                          <a:lnTo>
                            <a:pt x="350" y="713"/>
                          </a:lnTo>
                          <a:lnTo>
                            <a:pt x="280" y="789"/>
                          </a:lnTo>
                          <a:lnTo>
                            <a:pt x="209" y="867"/>
                          </a:lnTo>
                          <a:lnTo>
                            <a:pt x="139" y="946"/>
                          </a:lnTo>
                          <a:lnTo>
                            <a:pt x="69" y="1029"/>
                          </a:lnTo>
                          <a:lnTo>
                            <a:pt x="0" y="1113"/>
                          </a:lnTo>
                          <a:lnTo>
                            <a:pt x="51" y="1206"/>
                          </a:lnTo>
                          <a:lnTo>
                            <a:pt x="120" y="1123"/>
                          </a:lnTo>
                          <a:lnTo>
                            <a:pt x="188" y="1042"/>
                          </a:lnTo>
                          <a:lnTo>
                            <a:pt x="257" y="963"/>
                          </a:lnTo>
                          <a:lnTo>
                            <a:pt x="327" y="886"/>
                          </a:lnTo>
                          <a:lnTo>
                            <a:pt x="397" y="812"/>
                          </a:lnTo>
                          <a:lnTo>
                            <a:pt x="467" y="738"/>
                          </a:lnTo>
                          <a:lnTo>
                            <a:pt x="538" y="668"/>
                          </a:lnTo>
                          <a:lnTo>
                            <a:pt x="609" y="600"/>
                          </a:lnTo>
                          <a:lnTo>
                            <a:pt x="681" y="533"/>
                          </a:lnTo>
                          <a:lnTo>
                            <a:pt x="754" y="468"/>
                          </a:lnTo>
                          <a:lnTo>
                            <a:pt x="828" y="404"/>
                          </a:lnTo>
                          <a:lnTo>
                            <a:pt x="903" y="342"/>
                          </a:lnTo>
                          <a:lnTo>
                            <a:pt x="980" y="282"/>
                          </a:lnTo>
                          <a:lnTo>
                            <a:pt x="1058" y="224"/>
                          </a:lnTo>
                          <a:lnTo>
                            <a:pt x="1137" y="167"/>
                          </a:lnTo>
                          <a:lnTo>
                            <a:pt x="1217" y="111"/>
                          </a:lnTo>
                          <a:lnTo>
                            <a:pt x="1215" y="113"/>
                          </a:lnTo>
                          <a:lnTo>
                            <a:pt x="1186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0" name=""/>
                    <p:cNvSpPr/>
                    <p:nvPr/>
                  </p:nvSpPr>
                  <p:spPr>
                    <a:xfrm>
                      <a:off x="704880" y="3011040"/>
                      <a:ext cx="92520" cy="7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0" h="477">
                          <a:moveTo>
                            <a:pt x="490" y="27"/>
                          </a:moveTo>
                          <a:lnTo>
                            <a:pt x="512" y="0"/>
                          </a:lnTo>
                          <a:lnTo>
                            <a:pt x="476" y="21"/>
                          </a:lnTo>
                          <a:lnTo>
                            <a:pt x="442" y="42"/>
                          </a:lnTo>
                          <a:lnTo>
                            <a:pt x="408" y="65"/>
                          </a:lnTo>
                          <a:lnTo>
                            <a:pt x="375" y="87"/>
                          </a:lnTo>
                          <a:lnTo>
                            <a:pt x="310" y="135"/>
                          </a:lnTo>
                          <a:lnTo>
                            <a:pt x="248" y="185"/>
                          </a:lnTo>
                          <a:lnTo>
                            <a:pt x="186" y="232"/>
                          </a:lnTo>
                          <a:lnTo>
                            <a:pt x="124" y="280"/>
                          </a:lnTo>
                          <a:lnTo>
                            <a:pt x="94" y="303"/>
                          </a:lnTo>
                          <a:lnTo>
                            <a:pt x="63" y="324"/>
                          </a:lnTo>
                          <a:lnTo>
                            <a:pt x="31" y="345"/>
                          </a:lnTo>
                          <a:lnTo>
                            <a:pt x="0" y="364"/>
                          </a:lnTo>
                          <a:lnTo>
                            <a:pt x="29" y="477"/>
                          </a:lnTo>
                          <a:lnTo>
                            <a:pt x="63" y="456"/>
                          </a:lnTo>
                          <a:lnTo>
                            <a:pt x="96" y="435"/>
                          </a:lnTo>
                          <a:lnTo>
                            <a:pt x="128" y="412"/>
                          </a:lnTo>
                          <a:lnTo>
                            <a:pt x="161" y="388"/>
                          </a:lnTo>
                          <a:lnTo>
                            <a:pt x="223" y="340"/>
                          </a:lnTo>
                          <a:lnTo>
                            <a:pt x="285" y="291"/>
                          </a:lnTo>
                          <a:lnTo>
                            <a:pt x="347" y="243"/>
                          </a:lnTo>
                          <a:lnTo>
                            <a:pt x="410" y="196"/>
                          </a:lnTo>
                          <a:lnTo>
                            <a:pt x="441" y="174"/>
                          </a:lnTo>
                          <a:lnTo>
                            <a:pt x="473" y="153"/>
                          </a:lnTo>
                          <a:lnTo>
                            <a:pt x="506" y="134"/>
                          </a:lnTo>
                          <a:lnTo>
                            <a:pt x="539" y="114"/>
                          </a:lnTo>
                          <a:lnTo>
                            <a:pt x="560" y="89"/>
                          </a:lnTo>
                          <a:lnTo>
                            <a:pt x="539" y="114"/>
                          </a:lnTo>
                          <a:lnTo>
                            <a:pt x="552" y="107"/>
                          </a:lnTo>
                          <a:lnTo>
                            <a:pt x="560" y="89"/>
                          </a:lnTo>
                          <a:lnTo>
                            <a:pt x="490" y="2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120" bIns="24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1" name=""/>
                    <p:cNvSpPr/>
                    <p:nvPr/>
                  </p:nvSpPr>
                  <p:spPr>
                    <a:xfrm>
                      <a:off x="785880" y="2797560"/>
                      <a:ext cx="10368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8" h="1521">
                          <a:moveTo>
                            <a:pt x="561" y="15"/>
                          </a:moveTo>
                          <a:lnTo>
                            <a:pt x="571" y="0"/>
                          </a:lnTo>
                          <a:lnTo>
                            <a:pt x="543" y="32"/>
                          </a:lnTo>
                          <a:lnTo>
                            <a:pt x="516" y="66"/>
                          </a:lnTo>
                          <a:lnTo>
                            <a:pt x="490" y="102"/>
                          </a:lnTo>
                          <a:lnTo>
                            <a:pt x="465" y="140"/>
                          </a:lnTo>
                          <a:lnTo>
                            <a:pt x="442" y="179"/>
                          </a:lnTo>
                          <a:lnTo>
                            <a:pt x="419" y="219"/>
                          </a:lnTo>
                          <a:lnTo>
                            <a:pt x="398" y="261"/>
                          </a:lnTo>
                          <a:lnTo>
                            <a:pt x="378" y="303"/>
                          </a:lnTo>
                          <a:lnTo>
                            <a:pt x="358" y="348"/>
                          </a:lnTo>
                          <a:lnTo>
                            <a:pt x="339" y="393"/>
                          </a:lnTo>
                          <a:lnTo>
                            <a:pt x="321" y="440"/>
                          </a:lnTo>
                          <a:lnTo>
                            <a:pt x="304" y="486"/>
                          </a:lnTo>
                          <a:lnTo>
                            <a:pt x="287" y="534"/>
                          </a:lnTo>
                          <a:lnTo>
                            <a:pt x="271" y="582"/>
                          </a:lnTo>
                          <a:lnTo>
                            <a:pt x="255" y="631"/>
                          </a:lnTo>
                          <a:lnTo>
                            <a:pt x="239" y="681"/>
                          </a:lnTo>
                          <a:lnTo>
                            <a:pt x="210" y="781"/>
                          </a:lnTo>
                          <a:lnTo>
                            <a:pt x="181" y="882"/>
                          </a:lnTo>
                          <a:lnTo>
                            <a:pt x="152" y="982"/>
                          </a:lnTo>
                          <a:lnTo>
                            <a:pt x="124" y="1081"/>
                          </a:lnTo>
                          <a:lnTo>
                            <a:pt x="95" y="1180"/>
                          </a:lnTo>
                          <a:lnTo>
                            <a:pt x="65" y="1276"/>
                          </a:lnTo>
                          <a:lnTo>
                            <a:pt x="49" y="1323"/>
                          </a:lnTo>
                          <a:lnTo>
                            <a:pt x="33" y="1369"/>
                          </a:lnTo>
                          <a:lnTo>
                            <a:pt x="17" y="1414"/>
                          </a:lnTo>
                          <a:lnTo>
                            <a:pt x="0" y="1459"/>
                          </a:lnTo>
                          <a:lnTo>
                            <a:pt x="70" y="1521"/>
                          </a:lnTo>
                          <a:lnTo>
                            <a:pt x="88" y="1474"/>
                          </a:lnTo>
                          <a:lnTo>
                            <a:pt x="105" y="1426"/>
                          </a:lnTo>
                          <a:lnTo>
                            <a:pt x="121" y="1378"/>
                          </a:lnTo>
                          <a:lnTo>
                            <a:pt x="137" y="1329"/>
                          </a:lnTo>
                          <a:lnTo>
                            <a:pt x="168" y="1230"/>
                          </a:lnTo>
                          <a:lnTo>
                            <a:pt x="198" y="1129"/>
                          </a:lnTo>
                          <a:lnTo>
                            <a:pt x="226" y="1029"/>
                          </a:lnTo>
                          <a:lnTo>
                            <a:pt x="255" y="928"/>
                          </a:lnTo>
                          <a:lnTo>
                            <a:pt x="283" y="829"/>
                          </a:lnTo>
                          <a:lnTo>
                            <a:pt x="313" y="730"/>
                          </a:lnTo>
                          <a:lnTo>
                            <a:pt x="328" y="684"/>
                          </a:lnTo>
                          <a:lnTo>
                            <a:pt x="343" y="636"/>
                          </a:lnTo>
                          <a:lnTo>
                            <a:pt x="358" y="590"/>
                          </a:lnTo>
                          <a:lnTo>
                            <a:pt x="375" y="545"/>
                          </a:lnTo>
                          <a:lnTo>
                            <a:pt x="391" y="500"/>
                          </a:lnTo>
                          <a:lnTo>
                            <a:pt x="408" y="456"/>
                          </a:lnTo>
                          <a:lnTo>
                            <a:pt x="426" y="414"/>
                          </a:lnTo>
                          <a:lnTo>
                            <a:pt x="444" y="372"/>
                          </a:lnTo>
                          <a:lnTo>
                            <a:pt x="463" y="333"/>
                          </a:lnTo>
                          <a:lnTo>
                            <a:pt x="483" y="294"/>
                          </a:lnTo>
                          <a:lnTo>
                            <a:pt x="503" y="258"/>
                          </a:lnTo>
                          <a:lnTo>
                            <a:pt x="524" y="222"/>
                          </a:lnTo>
                          <a:lnTo>
                            <a:pt x="546" y="189"/>
                          </a:lnTo>
                          <a:lnTo>
                            <a:pt x="569" y="156"/>
                          </a:lnTo>
                          <a:lnTo>
                            <a:pt x="593" y="126"/>
                          </a:lnTo>
                          <a:lnTo>
                            <a:pt x="618" y="98"/>
                          </a:lnTo>
                          <a:lnTo>
                            <a:pt x="628" y="83"/>
                          </a:lnTo>
                          <a:lnTo>
                            <a:pt x="618" y="98"/>
                          </a:lnTo>
                          <a:lnTo>
                            <a:pt x="624" y="92"/>
                          </a:lnTo>
                          <a:lnTo>
                            <a:pt x="628" y="83"/>
                          </a:lnTo>
                          <a:lnTo>
                            <a:pt x="561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2" name=""/>
                    <p:cNvSpPr/>
                    <p:nvPr/>
                  </p:nvSpPr>
                  <p:spPr>
                    <a:xfrm>
                      <a:off x="878040" y="2603160"/>
                      <a:ext cx="96840" cy="20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8" h="1387">
                          <a:moveTo>
                            <a:pt x="512" y="16"/>
                          </a:moveTo>
                          <a:lnTo>
                            <a:pt x="519" y="0"/>
                          </a:lnTo>
                          <a:lnTo>
                            <a:pt x="498" y="39"/>
                          </a:lnTo>
                          <a:lnTo>
                            <a:pt x="477" y="78"/>
                          </a:lnTo>
                          <a:lnTo>
                            <a:pt x="457" y="117"/>
                          </a:lnTo>
                          <a:lnTo>
                            <a:pt x="438" y="157"/>
                          </a:lnTo>
                          <a:lnTo>
                            <a:pt x="419" y="198"/>
                          </a:lnTo>
                          <a:lnTo>
                            <a:pt x="401" y="238"/>
                          </a:lnTo>
                          <a:lnTo>
                            <a:pt x="383" y="279"/>
                          </a:lnTo>
                          <a:lnTo>
                            <a:pt x="366" y="321"/>
                          </a:lnTo>
                          <a:lnTo>
                            <a:pt x="334" y="403"/>
                          </a:lnTo>
                          <a:lnTo>
                            <a:pt x="303" y="487"/>
                          </a:lnTo>
                          <a:lnTo>
                            <a:pt x="273" y="571"/>
                          </a:lnTo>
                          <a:lnTo>
                            <a:pt x="244" y="655"/>
                          </a:lnTo>
                          <a:lnTo>
                            <a:pt x="216" y="739"/>
                          </a:lnTo>
                          <a:lnTo>
                            <a:pt x="187" y="825"/>
                          </a:lnTo>
                          <a:lnTo>
                            <a:pt x="159" y="909"/>
                          </a:lnTo>
                          <a:lnTo>
                            <a:pt x="130" y="991"/>
                          </a:lnTo>
                          <a:lnTo>
                            <a:pt x="100" y="1075"/>
                          </a:lnTo>
                          <a:lnTo>
                            <a:pt x="68" y="1157"/>
                          </a:lnTo>
                          <a:lnTo>
                            <a:pt x="52" y="1198"/>
                          </a:lnTo>
                          <a:lnTo>
                            <a:pt x="35" y="1238"/>
                          </a:lnTo>
                          <a:lnTo>
                            <a:pt x="18" y="1279"/>
                          </a:lnTo>
                          <a:lnTo>
                            <a:pt x="0" y="1319"/>
                          </a:lnTo>
                          <a:lnTo>
                            <a:pt x="67" y="1387"/>
                          </a:lnTo>
                          <a:lnTo>
                            <a:pt x="86" y="1345"/>
                          </a:lnTo>
                          <a:lnTo>
                            <a:pt x="103" y="1303"/>
                          </a:lnTo>
                          <a:lnTo>
                            <a:pt x="121" y="1261"/>
                          </a:lnTo>
                          <a:lnTo>
                            <a:pt x="138" y="1219"/>
                          </a:lnTo>
                          <a:lnTo>
                            <a:pt x="170" y="1133"/>
                          </a:lnTo>
                          <a:lnTo>
                            <a:pt x="201" y="1048"/>
                          </a:lnTo>
                          <a:lnTo>
                            <a:pt x="230" y="964"/>
                          </a:lnTo>
                          <a:lnTo>
                            <a:pt x="259" y="879"/>
                          </a:lnTo>
                          <a:lnTo>
                            <a:pt x="288" y="795"/>
                          </a:lnTo>
                          <a:lnTo>
                            <a:pt x="316" y="711"/>
                          </a:lnTo>
                          <a:lnTo>
                            <a:pt x="345" y="627"/>
                          </a:lnTo>
                          <a:lnTo>
                            <a:pt x="374" y="544"/>
                          </a:lnTo>
                          <a:lnTo>
                            <a:pt x="404" y="463"/>
                          </a:lnTo>
                          <a:lnTo>
                            <a:pt x="435" y="384"/>
                          </a:lnTo>
                          <a:lnTo>
                            <a:pt x="452" y="343"/>
                          </a:lnTo>
                          <a:lnTo>
                            <a:pt x="468" y="304"/>
                          </a:lnTo>
                          <a:lnTo>
                            <a:pt x="486" y="265"/>
                          </a:lnTo>
                          <a:lnTo>
                            <a:pt x="503" y="228"/>
                          </a:lnTo>
                          <a:lnTo>
                            <a:pt x="522" y="189"/>
                          </a:lnTo>
                          <a:lnTo>
                            <a:pt x="541" y="151"/>
                          </a:lnTo>
                          <a:lnTo>
                            <a:pt x="560" y="114"/>
                          </a:lnTo>
                          <a:lnTo>
                            <a:pt x="581" y="78"/>
                          </a:lnTo>
                          <a:lnTo>
                            <a:pt x="588" y="60"/>
                          </a:lnTo>
                          <a:lnTo>
                            <a:pt x="581" y="78"/>
                          </a:lnTo>
                          <a:lnTo>
                            <a:pt x="585" y="69"/>
                          </a:lnTo>
                          <a:lnTo>
                            <a:pt x="588" y="60"/>
                          </a:lnTo>
                          <a:lnTo>
                            <a:pt x="512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3" name=""/>
                    <p:cNvSpPr/>
                    <p:nvPr/>
                  </p:nvSpPr>
                  <p:spPr>
                    <a:xfrm>
                      <a:off x="962640" y="2513520"/>
                      <a:ext cx="50760" cy="9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6" h="664">
                          <a:moveTo>
                            <a:pt x="238" y="22"/>
                          </a:moveTo>
                          <a:lnTo>
                            <a:pt x="253" y="0"/>
                          </a:lnTo>
                          <a:lnTo>
                            <a:pt x="237" y="13"/>
                          </a:lnTo>
                          <a:lnTo>
                            <a:pt x="222" y="28"/>
                          </a:lnTo>
                          <a:lnTo>
                            <a:pt x="208" y="43"/>
                          </a:lnTo>
                          <a:lnTo>
                            <a:pt x="194" y="60"/>
                          </a:lnTo>
                          <a:lnTo>
                            <a:pt x="181" y="76"/>
                          </a:lnTo>
                          <a:lnTo>
                            <a:pt x="169" y="93"/>
                          </a:lnTo>
                          <a:lnTo>
                            <a:pt x="157" y="111"/>
                          </a:lnTo>
                          <a:lnTo>
                            <a:pt x="146" y="130"/>
                          </a:lnTo>
                          <a:lnTo>
                            <a:pt x="136" y="148"/>
                          </a:lnTo>
                          <a:lnTo>
                            <a:pt x="126" y="169"/>
                          </a:lnTo>
                          <a:lnTo>
                            <a:pt x="117" y="189"/>
                          </a:lnTo>
                          <a:lnTo>
                            <a:pt x="108" y="210"/>
                          </a:lnTo>
                          <a:lnTo>
                            <a:pt x="93" y="250"/>
                          </a:lnTo>
                          <a:lnTo>
                            <a:pt x="79" y="292"/>
                          </a:lnTo>
                          <a:lnTo>
                            <a:pt x="67" y="336"/>
                          </a:lnTo>
                          <a:lnTo>
                            <a:pt x="56" y="378"/>
                          </a:lnTo>
                          <a:lnTo>
                            <a:pt x="46" y="421"/>
                          </a:lnTo>
                          <a:lnTo>
                            <a:pt x="36" y="463"/>
                          </a:lnTo>
                          <a:lnTo>
                            <a:pt x="19" y="544"/>
                          </a:lnTo>
                          <a:lnTo>
                            <a:pt x="0" y="620"/>
                          </a:lnTo>
                          <a:lnTo>
                            <a:pt x="76" y="664"/>
                          </a:lnTo>
                          <a:lnTo>
                            <a:pt x="95" y="583"/>
                          </a:lnTo>
                          <a:lnTo>
                            <a:pt x="113" y="501"/>
                          </a:lnTo>
                          <a:lnTo>
                            <a:pt x="122" y="460"/>
                          </a:lnTo>
                          <a:lnTo>
                            <a:pt x="132" y="420"/>
                          </a:lnTo>
                          <a:lnTo>
                            <a:pt x="142" y="381"/>
                          </a:lnTo>
                          <a:lnTo>
                            <a:pt x="153" y="343"/>
                          </a:lnTo>
                          <a:lnTo>
                            <a:pt x="165" y="306"/>
                          </a:lnTo>
                          <a:lnTo>
                            <a:pt x="178" y="270"/>
                          </a:lnTo>
                          <a:lnTo>
                            <a:pt x="185" y="255"/>
                          </a:lnTo>
                          <a:lnTo>
                            <a:pt x="192" y="238"/>
                          </a:lnTo>
                          <a:lnTo>
                            <a:pt x="200" y="223"/>
                          </a:lnTo>
                          <a:lnTo>
                            <a:pt x="208" y="207"/>
                          </a:lnTo>
                          <a:lnTo>
                            <a:pt x="216" y="193"/>
                          </a:lnTo>
                          <a:lnTo>
                            <a:pt x="225" y="178"/>
                          </a:lnTo>
                          <a:lnTo>
                            <a:pt x="235" y="166"/>
                          </a:lnTo>
                          <a:lnTo>
                            <a:pt x="245" y="153"/>
                          </a:lnTo>
                          <a:lnTo>
                            <a:pt x="255" y="141"/>
                          </a:lnTo>
                          <a:lnTo>
                            <a:pt x="266" y="129"/>
                          </a:lnTo>
                          <a:lnTo>
                            <a:pt x="278" y="118"/>
                          </a:lnTo>
                          <a:lnTo>
                            <a:pt x="290" y="108"/>
                          </a:lnTo>
                          <a:lnTo>
                            <a:pt x="306" y="85"/>
                          </a:lnTo>
                          <a:lnTo>
                            <a:pt x="290" y="108"/>
                          </a:lnTo>
                          <a:lnTo>
                            <a:pt x="300" y="100"/>
                          </a:lnTo>
                          <a:lnTo>
                            <a:pt x="306" y="85"/>
                          </a:lnTo>
                          <a:lnTo>
                            <a:pt x="238" y="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4" name=""/>
                    <p:cNvSpPr/>
                    <p:nvPr/>
                  </p:nvSpPr>
                  <p:spPr>
                    <a:xfrm>
                      <a:off x="1002240" y="2314080"/>
                      <a:ext cx="116640" cy="21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6" h="1424">
                          <a:moveTo>
                            <a:pt x="625" y="33"/>
                          </a:moveTo>
                          <a:lnTo>
                            <a:pt x="633" y="0"/>
                          </a:lnTo>
                          <a:lnTo>
                            <a:pt x="594" y="79"/>
                          </a:lnTo>
                          <a:lnTo>
                            <a:pt x="554" y="160"/>
                          </a:lnTo>
                          <a:lnTo>
                            <a:pt x="514" y="241"/>
                          </a:lnTo>
                          <a:lnTo>
                            <a:pt x="474" y="324"/>
                          </a:lnTo>
                          <a:lnTo>
                            <a:pt x="433" y="408"/>
                          </a:lnTo>
                          <a:lnTo>
                            <a:pt x="392" y="492"/>
                          </a:lnTo>
                          <a:lnTo>
                            <a:pt x="351" y="576"/>
                          </a:lnTo>
                          <a:lnTo>
                            <a:pt x="310" y="661"/>
                          </a:lnTo>
                          <a:lnTo>
                            <a:pt x="270" y="747"/>
                          </a:lnTo>
                          <a:lnTo>
                            <a:pt x="230" y="834"/>
                          </a:lnTo>
                          <a:lnTo>
                            <a:pt x="190" y="920"/>
                          </a:lnTo>
                          <a:lnTo>
                            <a:pt x="150" y="1007"/>
                          </a:lnTo>
                          <a:lnTo>
                            <a:pt x="111" y="1096"/>
                          </a:lnTo>
                          <a:lnTo>
                            <a:pt x="73" y="1184"/>
                          </a:lnTo>
                          <a:lnTo>
                            <a:pt x="36" y="1273"/>
                          </a:lnTo>
                          <a:lnTo>
                            <a:pt x="0" y="1361"/>
                          </a:lnTo>
                          <a:lnTo>
                            <a:pt x="68" y="1424"/>
                          </a:lnTo>
                          <a:lnTo>
                            <a:pt x="104" y="1337"/>
                          </a:lnTo>
                          <a:lnTo>
                            <a:pt x="141" y="1249"/>
                          </a:lnTo>
                          <a:lnTo>
                            <a:pt x="179" y="1162"/>
                          </a:lnTo>
                          <a:lnTo>
                            <a:pt x="217" y="1075"/>
                          </a:lnTo>
                          <a:lnTo>
                            <a:pt x="256" y="988"/>
                          </a:lnTo>
                          <a:lnTo>
                            <a:pt x="296" y="902"/>
                          </a:lnTo>
                          <a:lnTo>
                            <a:pt x="336" y="817"/>
                          </a:lnTo>
                          <a:lnTo>
                            <a:pt x="376" y="732"/>
                          </a:lnTo>
                          <a:lnTo>
                            <a:pt x="417" y="646"/>
                          </a:lnTo>
                          <a:lnTo>
                            <a:pt x="457" y="562"/>
                          </a:lnTo>
                          <a:lnTo>
                            <a:pt x="498" y="478"/>
                          </a:lnTo>
                          <a:lnTo>
                            <a:pt x="539" y="396"/>
                          </a:lnTo>
                          <a:lnTo>
                            <a:pt x="579" y="313"/>
                          </a:lnTo>
                          <a:lnTo>
                            <a:pt x="619" y="231"/>
                          </a:lnTo>
                          <a:lnTo>
                            <a:pt x="659" y="151"/>
                          </a:lnTo>
                          <a:lnTo>
                            <a:pt x="698" y="70"/>
                          </a:lnTo>
                          <a:lnTo>
                            <a:pt x="706" y="37"/>
                          </a:lnTo>
                          <a:lnTo>
                            <a:pt x="698" y="70"/>
                          </a:lnTo>
                          <a:lnTo>
                            <a:pt x="705" y="55"/>
                          </a:lnTo>
                          <a:lnTo>
                            <a:pt x="706" y="37"/>
                          </a:lnTo>
                          <a:lnTo>
                            <a:pt x="625" y="3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5" name=""/>
                    <p:cNvSpPr/>
                    <p:nvPr/>
                  </p:nvSpPr>
                  <p:spPr>
                    <a:xfrm>
                      <a:off x="1105560" y="2229120"/>
                      <a:ext cx="44640" cy="9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1" h="607">
                          <a:moveTo>
                            <a:pt x="259" y="12"/>
                          </a:moveTo>
                          <a:lnTo>
                            <a:pt x="220" y="23"/>
                          </a:lnTo>
                          <a:lnTo>
                            <a:pt x="198" y="50"/>
                          </a:lnTo>
                          <a:lnTo>
                            <a:pt x="177" y="78"/>
                          </a:lnTo>
                          <a:lnTo>
                            <a:pt x="157" y="108"/>
                          </a:lnTo>
                          <a:lnTo>
                            <a:pt x="137" y="140"/>
                          </a:lnTo>
                          <a:lnTo>
                            <a:pt x="118" y="173"/>
                          </a:lnTo>
                          <a:lnTo>
                            <a:pt x="101" y="206"/>
                          </a:lnTo>
                          <a:lnTo>
                            <a:pt x="84" y="240"/>
                          </a:lnTo>
                          <a:lnTo>
                            <a:pt x="69" y="276"/>
                          </a:lnTo>
                          <a:lnTo>
                            <a:pt x="55" y="314"/>
                          </a:lnTo>
                          <a:lnTo>
                            <a:pt x="42" y="351"/>
                          </a:lnTo>
                          <a:lnTo>
                            <a:pt x="31" y="390"/>
                          </a:lnTo>
                          <a:lnTo>
                            <a:pt x="21" y="431"/>
                          </a:lnTo>
                          <a:lnTo>
                            <a:pt x="13" y="472"/>
                          </a:lnTo>
                          <a:lnTo>
                            <a:pt x="7" y="514"/>
                          </a:lnTo>
                          <a:lnTo>
                            <a:pt x="3" y="558"/>
                          </a:lnTo>
                          <a:lnTo>
                            <a:pt x="0" y="603"/>
                          </a:lnTo>
                          <a:lnTo>
                            <a:pt x="81" y="607"/>
                          </a:lnTo>
                          <a:lnTo>
                            <a:pt x="83" y="571"/>
                          </a:lnTo>
                          <a:lnTo>
                            <a:pt x="86" y="535"/>
                          </a:lnTo>
                          <a:lnTo>
                            <a:pt x="91" y="501"/>
                          </a:lnTo>
                          <a:lnTo>
                            <a:pt x="98" y="468"/>
                          </a:lnTo>
                          <a:lnTo>
                            <a:pt x="106" y="435"/>
                          </a:lnTo>
                          <a:lnTo>
                            <a:pt x="115" y="402"/>
                          </a:lnTo>
                          <a:lnTo>
                            <a:pt x="126" y="371"/>
                          </a:lnTo>
                          <a:lnTo>
                            <a:pt x="137" y="339"/>
                          </a:lnTo>
                          <a:lnTo>
                            <a:pt x="151" y="308"/>
                          </a:lnTo>
                          <a:lnTo>
                            <a:pt x="165" y="279"/>
                          </a:lnTo>
                          <a:lnTo>
                            <a:pt x="180" y="249"/>
                          </a:lnTo>
                          <a:lnTo>
                            <a:pt x="197" y="221"/>
                          </a:lnTo>
                          <a:lnTo>
                            <a:pt x="214" y="194"/>
                          </a:lnTo>
                          <a:lnTo>
                            <a:pt x="232" y="167"/>
                          </a:lnTo>
                          <a:lnTo>
                            <a:pt x="251" y="141"/>
                          </a:lnTo>
                          <a:lnTo>
                            <a:pt x="271" y="116"/>
                          </a:lnTo>
                          <a:lnTo>
                            <a:pt x="232" y="126"/>
                          </a:lnTo>
                          <a:lnTo>
                            <a:pt x="259" y="12"/>
                          </a:lnTo>
                          <a:lnTo>
                            <a:pt x="238" y="0"/>
                          </a:lnTo>
                          <a:lnTo>
                            <a:pt x="220" y="23"/>
                          </a:lnTo>
                          <a:lnTo>
                            <a:pt x="259" y="1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6" name=""/>
                    <p:cNvSpPr/>
                    <p:nvPr/>
                  </p:nvSpPr>
                  <p:spPr>
                    <a:xfrm>
                      <a:off x="1143720" y="2192760"/>
                      <a:ext cx="32760" cy="5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9" h="385">
                          <a:moveTo>
                            <a:pt x="133" y="10"/>
                          </a:moveTo>
                          <a:lnTo>
                            <a:pt x="139" y="0"/>
                          </a:lnTo>
                          <a:lnTo>
                            <a:pt x="131" y="12"/>
                          </a:lnTo>
                          <a:lnTo>
                            <a:pt x="124" y="27"/>
                          </a:lnTo>
                          <a:lnTo>
                            <a:pt x="117" y="40"/>
                          </a:lnTo>
                          <a:lnTo>
                            <a:pt x="111" y="57"/>
                          </a:lnTo>
                          <a:lnTo>
                            <a:pt x="103" y="84"/>
                          </a:lnTo>
                          <a:lnTo>
                            <a:pt x="97" y="114"/>
                          </a:lnTo>
                          <a:lnTo>
                            <a:pt x="87" y="168"/>
                          </a:lnTo>
                          <a:lnTo>
                            <a:pt x="77" y="217"/>
                          </a:lnTo>
                          <a:lnTo>
                            <a:pt x="73" y="235"/>
                          </a:lnTo>
                          <a:lnTo>
                            <a:pt x="68" y="250"/>
                          </a:lnTo>
                          <a:lnTo>
                            <a:pt x="66" y="253"/>
                          </a:lnTo>
                          <a:lnTo>
                            <a:pt x="65" y="258"/>
                          </a:lnTo>
                          <a:lnTo>
                            <a:pt x="63" y="259"/>
                          </a:lnTo>
                          <a:lnTo>
                            <a:pt x="62" y="261"/>
                          </a:lnTo>
                          <a:lnTo>
                            <a:pt x="60" y="262"/>
                          </a:lnTo>
                          <a:lnTo>
                            <a:pt x="59" y="262"/>
                          </a:lnTo>
                          <a:lnTo>
                            <a:pt x="57" y="264"/>
                          </a:lnTo>
                          <a:lnTo>
                            <a:pt x="54" y="264"/>
                          </a:lnTo>
                          <a:lnTo>
                            <a:pt x="49" y="264"/>
                          </a:lnTo>
                          <a:lnTo>
                            <a:pt x="43" y="262"/>
                          </a:lnTo>
                          <a:lnTo>
                            <a:pt x="36" y="261"/>
                          </a:lnTo>
                          <a:lnTo>
                            <a:pt x="27" y="256"/>
                          </a:lnTo>
                          <a:lnTo>
                            <a:pt x="0" y="370"/>
                          </a:lnTo>
                          <a:lnTo>
                            <a:pt x="15" y="376"/>
                          </a:lnTo>
                          <a:lnTo>
                            <a:pt x="29" y="381"/>
                          </a:lnTo>
                          <a:lnTo>
                            <a:pt x="43" y="384"/>
                          </a:lnTo>
                          <a:lnTo>
                            <a:pt x="56" y="385"/>
                          </a:lnTo>
                          <a:lnTo>
                            <a:pt x="69" y="382"/>
                          </a:lnTo>
                          <a:lnTo>
                            <a:pt x="82" y="379"/>
                          </a:lnTo>
                          <a:lnTo>
                            <a:pt x="95" y="372"/>
                          </a:lnTo>
                          <a:lnTo>
                            <a:pt x="106" y="363"/>
                          </a:lnTo>
                          <a:lnTo>
                            <a:pt x="116" y="351"/>
                          </a:lnTo>
                          <a:lnTo>
                            <a:pt x="124" y="339"/>
                          </a:lnTo>
                          <a:lnTo>
                            <a:pt x="131" y="325"/>
                          </a:lnTo>
                          <a:lnTo>
                            <a:pt x="138" y="309"/>
                          </a:lnTo>
                          <a:lnTo>
                            <a:pt x="147" y="283"/>
                          </a:lnTo>
                          <a:lnTo>
                            <a:pt x="154" y="253"/>
                          </a:lnTo>
                          <a:lnTo>
                            <a:pt x="164" y="199"/>
                          </a:lnTo>
                          <a:lnTo>
                            <a:pt x="174" y="148"/>
                          </a:lnTo>
                          <a:lnTo>
                            <a:pt x="179" y="127"/>
                          </a:lnTo>
                          <a:lnTo>
                            <a:pt x="184" y="108"/>
                          </a:lnTo>
                          <a:lnTo>
                            <a:pt x="186" y="103"/>
                          </a:lnTo>
                          <a:lnTo>
                            <a:pt x="189" y="97"/>
                          </a:lnTo>
                          <a:lnTo>
                            <a:pt x="191" y="93"/>
                          </a:lnTo>
                          <a:lnTo>
                            <a:pt x="193" y="90"/>
                          </a:lnTo>
                          <a:lnTo>
                            <a:pt x="199" y="79"/>
                          </a:lnTo>
                          <a:lnTo>
                            <a:pt x="193" y="90"/>
                          </a:lnTo>
                          <a:lnTo>
                            <a:pt x="197" y="85"/>
                          </a:lnTo>
                          <a:lnTo>
                            <a:pt x="199" y="79"/>
                          </a:lnTo>
                          <a:lnTo>
                            <a:pt x="133" y="1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7" name=""/>
                    <p:cNvSpPr/>
                    <p:nvPr/>
                  </p:nvSpPr>
                  <p:spPr>
                    <a:xfrm>
                      <a:off x="1166040" y="2124360"/>
                      <a:ext cx="4284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1" h="539">
                          <a:moveTo>
                            <a:pt x="198" y="0"/>
                          </a:moveTo>
                          <a:lnTo>
                            <a:pt x="192" y="12"/>
                          </a:lnTo>
                          <a:lnTo>
                            <a:pt x="168" y="73"/>
                          </a:lnTo>
                          <a:lnTo>
                            <a:pt x="144" y="133"/>
                          </a:lnTo>
                          <a:lnTo>
                            <a:pt x="120" y="193"/>
                          </a:lnTo>
                          <a:lnTo>
                            <a:pt x="97" y="250"/>
                          </a:lnTo>
                          <a:lnTo>
                            <a:pt x="73" y="305"/>
                          </a:lnTo>
                          <a:lnTo>
                            <a:pt x="50" y="361"/>
                          </a:lnTo>
                          <a:lnTo>
                            <a:pt x="26" y="415"/>
                          </a:lnTo>
                          <a:lnTo>
                            <a:pt x="0" y="470"/>
                          </a:lnTo>
                          <a:lnTo>
                            <a:pt x="66" y="539"/>
                          </a:lnTo>
                          <a:lnTo>
                            <a:pt x="92" y="484"/>
                          </a:lnTo>
                          <a:lnTo>
                            <a:pt x="117" y="427"/>
                          </a:lnTo>
                          <a:lnTo>
                            <a:pt x="142" y="370"/>
                          </a:lnTo>
                          <a:lnTo>
                            <a:pt x="165" y="313"/>
                          </a:lnTo>
                          <a:lnTo>
                            <a:pt x="189" y="254"/>
                          </a:lnTo>
                          <a:lnTo>
                            <a:pt x="213" y="196"/>
                          </a:lnTo>
                          <a:lnTo>
                            <a:pt x="237" y="135"/>
                          </a:lnTo>
                          <a:lnTo>
                            <a:pt x="261" y="73"/>
                          </a:lnTo>
                          <a:lnTo>
                            <a:pt x="256" y="84"/>
                          </a:lnTo>
                          <a:lnTo>
                            <a:pt x="198" y="0"/>
                          </a:lnTo>
                          <a:lnTo>
                            <a:pt x="194" y="6"/>
                          </a:lnTo>
                          <a:lnTo>
                            <a:pt x="192" y="12"/>
                          </a:lnTo>
                          <a:lnTo>
                            <a:pt x="198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8" name=""/>
                    <p:cNvSpPr/>
                    <p:nvPr/>
                  </p:nvSpPr>
                  <p:spPr>
                    <a:xfrm>
                      <a:off x="1198800" y="2020680"/>
                      <a:ext cx="101520" cy="11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7" h="780">
                          <a:moveTo>
                            <a:pt x="587" y="0"/>
                          </a:moveTo>
                          <a:lnTo>
                            <a:pt x="577" y="6"/>
                          </a:lnTo>
                          <a:lnTo>
                            <a:pt x="539" y="40"/>
                          </a:lnTo>
                          <a:lnTo>
                            <a:pt x="501" y="76"/>
                          </a:lnTo>
                          <a:lnTo>
                            <a:pt x="463" y="114"/>
                          </a:lnTo>
                          <a:lnTo>
                            <a:pt x="425" y="154"/>
                          </a:lnTo>
                          <a:lnTo>
                            <a:pt x="387" y="195"/>
                          </a:lnTo>
                          <a:lnTo>
                            <a:pt x="349" y="237"/>
                          </a:lnTo>
                          <a:lnTo>
                            <a:pt x="311" y="279"/>
                          </a:lnTo>
                          <a:lnTo>
                            <a:pt x="274" y="324"/>
                          </a:lnTo>
                          <a:lnTo>
                            <a:pt x="237" y="369"/>
                          </a:lnTo>
                          <a:lnTo>
                            <a:pt x="200" y="414"/>
                          </a:lnTo>
                          <a:lnTo>
                            <a:pt x="165" y="460"/>
                          </a:lnTo>
                          <a:lnTo>
                            <a:pt x="130" y="507"/>
                          </a:lnTo>
                          <a:lnTo>
                            <a:pt x="96" y="555"/>
                          </a:lnTo>
                          <a:lnTo>
                            <a:pt x="63" y="601"/>
                          </a:lnTo>
                          <a:lnTo>
                            <a:pt x="31" y="649"/>
                          </a:lnTo>
                          <a:lnTo>
                            <a:pt x="0" y="696"/>
                          </a:lnTo>
                          <a:lnTo>
                            <a:pt x="58" y="780"/>
                          </a:lnTo>
                          <a:lnTo>
                            <a:pt x="88" y="735"/>
                          </a:lnTo>
                          <a:lnTo>
                            <a:pt x="119" y="688"/>
                          </a:lnTo>
                          <a:lnTo>
                            <a:pt x="151" y="642"/>
                          </a:lnTo>
                          <a:lnTo>
                            <a:pt x="184" y="597"/>
                          </a:lnTo>
                          <a:lnTo>
                            <a:pt x="218" y="552"/>
                          </a:lnTo>
                          <a:lnTo>
                            <a:pt x="253" y="507"/>
                          </a:lnTo>
                          <a:lnTo>
                            <a:pt x="288" y="462"/>
                          </a:lnTo>
                          <a:lnTo>
                            <a:pt x="324" y="418"/>
                          </a:lnTo>
                          <a:lnTo>
                            <a:pt x="360" y="375"/>
                          </a:lnTo>
                          <a:lnTo>
                            <a:pt x="397" y="333"/>
                          </a:lnTo>
                          <a:lnTo>
                            <a:pt x="434" y="292"/>
                          </a:lnTo>
                          <a:lnTo>
                            <a:pt x="471" y="252"/>
                          </a:lnTo>
                          <a:lnTo>
                            <a:pt x="508" y="214"/>
                          </a:lnTo>
                          <a:lnTo>
                            <a:pt x="545" y="178"/>
                          </a:lnTo>
                          <a:lnTo>
                            <a:pt x="581" y="144"/>
                          </a:lnTo>
                          <a:lnTo>
                            <a:pt x="617" y="111"/>
                          </a:lnTo>
                          <a:lnTo>
                            <a:pt x="607" y="117"/>
                          </a:lnTo>
                          <a:lnTo>
                            <a:pt x="587" y="0"/>
                          </a:lnTo>
                          <a:lnTo>
                            <a:pt x="582" y="1"/>
                          </a:lnTo>
                          <a:lnTo>
                            <a:pt x="577" y="6"/>
                          </a:lnTo>
                          <a:lnTo>
                            <a:pt x="587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9" name=""/>
                    <p:cNvSpPr/>
                    <p:nvPr/>
                  </p:nvSpPr>
                  <p:spPr>
                    <a:xfrm>
                      <a:off x="1295640" y="1996560"/>
                      <a:ext cx="1724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7" h="279">
                          <a:moveTo>
                            <a:pt x="1042" y="132"/>
                          </a:moveTo>
                          <a:lnTo>
                            <a:pt x="1047" y="136"/>
                          </a:lnTo>
                          <a:lnTo>
                            <a:pt x="1015" y="114"/>
                          </a:lnTo>
                          <a:lnTo>
                            <a:pt x="983" y="93"/>
                          </a:lnTo>
                          <a:lnTo>
                            <a:pt x="950" y="75"/>
                          </a:lnTo>
                          <a:lnTo>
                            <a:pt x="917" y="58"/>
                          </a:lnTo>
                          <a:lnTo>
                            <a:pt x="884" y="45"/>
                          </a:lnTo>
                          <a:lnTo>
                            <a:pt x="851" y="33"/>
                          </a:lnTo>
                          <a:lnTo>
                            <a:pt x="818" y="24"/>
                          </a:lnTo>
                          <a:lnTo>
                            <a:pt x="785" y="15"/>
                          </a:lnTo>
                          <a:lnTo>
                            <a:pt x="751" y="9"/>
                          </a:lnTo>
                          <a:lnTo>
                            <a:pt x="718" y="4"/>
                          </a:lnTo>
                          <a:lnTo>
                            <a:pt x="685" y="1"/>
                          </a:lnTo>
                          <a:lnTo>
                            <a:pt x="651" y="0"/>
                          </a:lnTo>
                          <a:lnTo>
                            <a:pt x="618" y="0"/>
                          </a:lnTo>
                          <a:lnTo>
                            <a:pt x="585" y="1"/>
                          </a:lnTo>
                          <a:lnTo>
                            <a:pt x="551" y="3"/>
                          </a:lnTo>
                          <a:lnTo>
                            <a:pt x="518" y="7"/>
                          </a:lnTo>
                          <a:lnTo>
                            <a:pt x="485" y="12"/>
                          </a:lnTo>
                          <a:lnTo>
                            <a:pt x="452" y="18"/>
                          </a:lnTo>
                          <a:lnTo>
                            <a:pt x="419" y="25"/>
                          </a:lnTo>
                          <a:lnTo>
                            <a:pt x="385" y="33"/>
                          </a:lnTo>
                          <a:lnTo>
                            <a:pt x="320" y="49"/>
                          </a:lnTo>
                          <a:lnTo>
                            <a:pt x="255" y="70"/>
                          </a:lnTo>
                          <a:lnTo>
                            <a:pt x="190" y="91"/>
                          </a:lnTo>
                          <a:lnTo>
                            <a:pt x="125" y="115"/>
                          </a:lnTo>
                          <a:lnTo>
                            <a:pt x="62" y="138"/>
                          </a:lnTo>
                          <a:lnTo>
                            <a:pt x="0" y="162"/>
                          </a:lnTo>
                          <a:lnTo>
                            <a:pt x="20" y="279"/>
                          </a:lnTo>
                          <a:lnTo>
                            <a:pt x="82" y="255"/>
                          </a:lnTo>
                          <a:lnTo>
                            <a:pt x="145" y="232"/>
                          </a:lnTo>
                          <a:lnTo>
                            <a:pt x="208" y="210"/>
                          </a:lnTo>
                          <a:lnTo>
                            <a:pt x="272" y="187"/>
                          </a:lnTo>
                          <a:lnTo>
                            <a:pt x="335" y="168"/>
                          </a:lnTo>
                          <a:lnTo>
                            <a:pt x="399" y="151"/>
                          </a:lnTo>
                          <a:lnTo>
                            <a:pt x="430" y="144"/>
                          </a:lnTo>
                          <a:lnTo>
                            <a:pt x="462" y="138"/>
                          </a:lnTo>
                          <a:lnTo>
                            <a:pt x="493" y="132"/>
                          </a:lnTo>
                          <a:lnTo>
                            <a:pt x="525" y="127"/>
                          </a:lnTo>
                          <a:lnTo>
                            <a:pt x="556" y="124"/>
                          </a:lnTo>
                          <a:lnTo>
                            <a:pt x="588" y="121"/>
                          </a:lnTo>
                          <a:lnTo>
                            <a:pt x="619" y="121"/>
                          </a:lnTo>
                          <a:lnTo>
                            <a:pt x="650" y="121"/>
                          </a:lnTo>
                          <a:lnTo>
                            <a:pt x="681" y="121"/>
                          </a:lnTo>
                          <a:lnTo>
                            <a:pt x="712" y="124"/>
                          </a:lnTo>
                          <a:lnTo>
                            <a:pt x="743" y="129"/>
                          </a:lnTo>
                          <a:lnTo>
                            <a:pt x="773" y="135"/>
                          </a:lnTo>
                          <a:lnTo>
                            <a:pt x="804" y="142"/>
                          </a:lnTo>
                          <a:lnTo>
                            <a:pt x="834" y="151"/>
                          </a:lnTo>
                          <a:lnTo>
                            <a:pt x="864" y="162"/>
                          </a:lnTo>
                          <a:lnTo>
                            <a:pt x="894" y="175"/>
                          </a:lnTo>
                          <a:lnTo>
                            <a:pt x="924" y="189"/>
                          </a:lnTo>
                          <a:lnTo>
                            <a:pt x="953" y="205"/>
                          </a:lnTo>
                          <a:lnTo>
                            <a:pt x="983" y="223"/>
                          </a:lnTo>
                          <a:lnTo>
                            <a:pt x="1012" y="244"/>
                          </a:lnTo>
                          <a:lnTo>
                            <a:pt x="1018" y="247"/>
                          </a:lnTo>
                          <a:lnTo>
                            <a:pt x="1012" y="244"/>
                          </a:lnTo>
                          <a:lnTo>
                            <a:pt x="1015" y="246"/>
                          </a:lnTo>
                          <a:lnTo>
                            <a:pt x="1018" y="247"/>
                          </a:lnTo>
                          <a:lnTo>
                            <a:pt x="1042" y="13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0" name=""/>
                    <p:cNvSpPr/>
                    <p:nvPr/>
                  </p:nvSpPr>
                  <p:spPr>
                    <a:xfrm>
                      <a:off x="1463760" y="2016000"/>
                      <a:ext cx="100080" cy="8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6" h="577">
                          <a:moveTo>
                            <a:pt x="606" y="475"/>
                          </a:moveTo>
                          <a:lnTo>
                            <a:pt x="596" y="466"/>
                          </a:lnTo>
                          <a:lnTo>
                            <a:pt x="559" y="441"/>
                          </a:lnTo>
                          <a:lnTo>
                            <a:pt x="524" y="414"/>
                          </a:lnTo>
                          <a:lnTo>
                            <a:pt x="489" y="384"/>
                          </a:lnTo>
                          <a:lnTo>
                            <a:pt x="454" y="354"/>
                          </a:lnTo>
                          <a:lnTo>
                            <a:pt x="385" y="289"/>
                          </a:lnTo>
                          <a:lnTo>
                            <a:pt x="316" y="223"/>
                          </a:lnTo>
                          <a:lnTo>
                            <a:pt x="282" y="192"/>
                          </a:lnTo>
                          <a:lnTo>
                            <a:pt x="247" y="159"/>
                          </a:lnTo>
                          <a:lnTo>
                            <a:pt x="211" y="129"/>
                          </a:lnTo>
                          <a:lnTo>
                            <a:pt x="176" y="99"/>
                          </a:lnTo>
                          <a:lnTo>
                            <a:pt x="139" y="70"/>
                          </a:lnTo>
                          <a:lnTo>
                            <a:pt x="102" y="45"/>
                          </a:lnTo>
                          <a:lnTo>
                            <a:pt x="82" y="33"/>
                          </a:lnTo>
                          <a:lnTo>
                            <a:pt x="63" y="21"/>
                          </a:lnTo>
                          <a:lnTo>
                            <a:pt x="43" y="10"/>
                          </a:lnTo>
                          <a:lnTo>
                            <a:pt x="24" y="0"/>
                          </a:lnTo>
                          <a:lnTo>
                            <a:pt x="0" y="115"/>
                          </a:lnTo>
                          <a:lnTo>
                            <a:pt x="17" y="124"/>
                          </a:lnTo>
                          <a:lnTo>
                            <a:pt x="35" y="135"/>
                          </a:lnTo>
                          <a:lnTo>
                            <a:pt x="52" y="145"/>
                          </a:lnTo>
                          <a:lnTo>
                            <a:pt x="69" y="156"/>
                          </a:lnTo>
                          <a:lnTo>
                            <a:pt x="104" y="180"/>
                          </a:lnTo>
                          <a:lnTo>
                            <a:pt x="138" y="205"/>
                          </a:lnTo>
                          <a:lnTo>
                            <a:pt x="172" y="234"/>
                          </a:lnTo>
                          <a:lnTo>
                            <a:pt x="205" y="262"/>
                          </a:lnTo>
                          <a:lnTo>
                            <a:pt x="239" y="294"/>
                          </a:lnTo>
                          <a:lnTo>
                            <a:pt x="273" y="327"/>
                          </a:lnTo>
                          <a:lnTo>
                            <a:pt x="342" y="391"/>
                          </a:lnTo>
                          <a:lnTo>
                            <a:pt x="412" y="457"/>
                          </a:lnTo>
                          <a:lnTo>
                            <a:pt x="449" y="489"/>
                          </a:lnTo>
                          <a:lnTo>
                            <a:pt x="486" y="520"/>
                          </a:lnTo>
                          <a:lnTo>
                            <a:pt x="524" y="549"/>
                          </a:lnTo>
                          <a:lnTo>
                            <a:pt x="564" y="577"/>
                          </a:lnTo>
                          <a:lnTo>
                            <a:pt x="553" y="567"/>
                          </a:lnTo>
                          <a:lnTo>
                            <a:pt x="606" y="475"/>
                          </a:lnTo>
                          <a:lnTo>
                            <a:pt x="602" y="469"/>
                          </a:lnTo>
                          <a:lnTo>
                            <a:pt x="596" y="466"/>
                          </a:lnTo>
                          <a:lnTo>
                            <a:pt x="606" y="47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1" name=""/>
                    <p:cNvSpPr/>
                    <p:nvPr/>
                  </p:nvSpPr>
                  <p:spPr>
                    <a:xfrm>
                      <a:off x="624240" y="3303360"/>
                      <a:ext cx="76320" cy="20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4" h="1379">
                          <a:moveTo>
                            <a:pt x="13" y="1344"/>
                          </a:moveTo>
                          <a:lnTo>
                            <a:pt x="70" y="1325"/>
                          </a:lnTo>
                          <a:lnTo>
                            <a:pt x="99" y="1250"/>
                          </a:lnTo>
                          <a:lnTo>
                            <a:pt x="126" y="1174"/>
                          </a:lnTo>
                          <a:lnTo>
                            <a:pt x="153" y="1096"/>
                          </a:lnTo>
                          <a:lnTo>
                            <a:pt x="179" y="1016"/>
                          </a:lnTo>
                          <a:lnTo>
                            <a:pt x="203" y="937"/>
                          </a:lnTo>
                          <a:lnTo>
                            <a:pt x="227" y="857"/>
                          </a:lnTo>
                          <a:lnTo>
                            <a:pt x="252" y="776"/>
                          </a:lnTo>
                          <a:lnTo>
                            <a:pt x="275" y="695"/>
                          </a:lnTo>
                          <a:lnTo>
                            <a:pt x="297" y="614"/>
                          </a:lnTo>
                          <a:lnTo>
                            <a:pt x="320" y="533"/>
                          </a:lnTo>
                          <a:lnTo>
                            <a:pt x="343" y="452"/>
                          </a:lnTo>
                          <a:lnTo>
                            <a:pt x="366" y="371"/>
                          </a:lnTo>
                          <a:lnTo>
                            <a:pt x="390" y="290"/>
                          </a:lnTo>
                          <a:lnTo>
                            <a:pt x="414" y="211"/>
                          </a:lnTo>
                          <a:lnTo>
                            <a:pt x="439" y="132"/>
                          </a:lnTo>
                          <a:lnTo>
                            <a:pt x="464" y="54"/>
                          </a:lnTo>
                          <a:lnTo>
                            <a:pt x="392" y="0"/>
                          </a:lnTo>
                          <a:lnTo>
                            <a:pt x="366" y="79"/>
                          </a:lnTo>
                          <a:lnTo>
                            <a:pt x="341" y="160"/>
                          </a:lnTo>
                          <a:lnTo>
                            <a:pt x="316" y="241"/>
                          </a:lnTo>
                          <a:lnTo>
                            <a:pt x="292" y="323"/>
                          </a:lnTo>
                          <a:lnTo>
                            <a:pt x="269" y="404"/>
                          </a:lnTo>
                          <a:lnTo>
                            <a:pt x="246" y="485"/>
                          </a:lnTo>
                          <a:lnTo>
                            <a:pt x="222" y="568"/>
                          </a:lnTo>
                          <a:lnTo>
                            <a:pt x="200" y="649"/>
                          </a:lnTo>
                          <a:lnTo>
                            <a:pt x="177" y="728"/>
                          </a:lnTo>
                          <a:lnTo>
                            <a:pt x="153" y="808"/>
                          </a:lnTo>
                          <a:lnTo>
                            <a:pt x="130" y="887"/>
                          </a:lnTo>
                          <a:lnTo>
                            <a:pt x="106" y="965"/>
                          </a:lnTo>
                          <a:lnTo>
                            <a:pt x="81" y="1042"/>
                          </a:lnTo>
                          <a:lnTo>
                            <a:pt x="55" y="1117"/>
                          </a:lnTo>
                          <a:lnTo>
                            <a:pt x="28" y="1190"/>
                          </a:lnTo>
                          <a:lnTo>
                            <a:pt x="0" y="1263"/>
                          </a:lnTo>
                          <a:lnTo>
                            <a:pt x="57" y="1244"/>
                          </a:lnTo>
                          <a:lnTo>
                            <a:pt x="13" y="1344"/>
                          </a:lnTo>
                          <a:lnTo>
                            <a:pt x="48" y="1379"/>
                          </a:lnTo>
                          <a:lnTo>
                            <a:pt x="70" y="1325"/>
                          </a:lnTo>
                          <a:lnTo>
                            <a:pt x="13" y="134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2" name=""/>
                    <p:cNvSpPr/>
                    <p:nvPr/>
                  </p:nvSpPr>
                  <p:spPr>
                    <a:xfrm>
                      <a:off x="580680" y="3307320"/>
                      <a:ext cx="52560" cy="19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0" h="1317">
                          <a:moveTo>
                            <a:pt x="16" y="0"/>
                          </a:moveTo>
                          <a:lnTo>
                            <a:pt x="4" y="40"/>
                          </a:lnTo>
                          <a:lnTo>
                            <a:pt x="2" y="121"/>
                          </a:lnTo>
                          <a:lnTo>
                            <a:pt x="0" y="205"/>
                          </a:lnTo>
                          <a:lnTo>
                            <a:pt x="0" y="290"/>
                          </a:lnTo>
                          <a:lnTo>
                            <a:pt x="1" y="377"/>
                          </a:lnTo>
                          <a:lnTo>
                            <a:pt x="3" y="421"/>
                          </a:lnTo>
                          <a:lnTo>
                            <a:pt x="5" y="466"/>
                          </a:lnTo>
                          <a:lnTo>
                            <a:pt x="7" y="509"/>
                          </a:lnTo>
                          <a:lnTo>
                            <a:pt x="10" y="554"/>
                          </a:lnTo>
                          <a:lnTo>
                            <a:pt x="14" y="598"/>
                          </a:lnTo>
                          <a:lnTo>
                            <a:pt x="19" y="643"/>
                          </a:lnTo>
                          <a:lnTo>
                            <a:pt x="24" y="686"/>
                          </a:lnTo>
                          <a:lnTo>
                            <a:pt x="30" y="730"/>
                          </a:lnTo>
                          <a:lnTo>
                            <a:pt x="37" y="773"/>
                          </a:lnTo>
                          <a:lnTo>
                            <a:pt x="45" y="815"/>
                          </a:lnTo>
                          <a:lnTo>
                            <a:pt x="53" y="857"/>
                          </a:lnTo>
                          <a:lnTo>
                            <a:pt x="63" y="899"/>
                          </a:lnTo>
                          <a:lnTo>
                            <a:pt x="74" y="940"/>
                          </a:lnTo>
                          <a:lnTo>
                            <a:pt x="86" y="980"/>
                          </a:lnTo>
                          <a:lnTo>
                            <a:pt x="99" y="1019"/>
                          </a:lnTo>
                          <a:lnTo>
                            <a:pt x="113" y="1058"/>
                          </a:lnTo>
                          <a:lnTo>
                            <a:pt x="129" y="1096"/>
                          </a:lnTo>
                          <a:lnTo>
                            <a:pt x="146" y="1132"/>
                          </a:lnTo>
                          <a:lnTo>
                            <a:pt x="164" y="1166"/>
                          </a:lnTo>
                          <a:lnTo>
                            <a:pt x="183" y="1199"/>
                          </a:lnTo>
                          <a:lnTo>
                            <a:pt x="204" y="1232"/>
                          </a:lnTo>
                          <a:lnTo>
                            <a:pt x="227" y="1262"/>
                          </a:lnTo>
                          <a:lnTo>
                            <a:pt x="251" y="1290"/>
                          </a:lnTo>
                          <a:lnTo>
                            <a:pt x="276" y="1317"/>
                          </a:lnTo>
                          <a:lnTo>
                            <a:pt x="320" y="1217"/>
                          </a:lnTo>
                          <a:lnTo>
                            <a:pt x="299" y="1195"/>
                          </a:lnTo>
                          <a:lnTo>
                            <a:pt x="279" y="1171"/>
                          </a:lnTo>
                          <a:lnTo>
                            <a:pt x="260" y="1144"/>
                          </a:lnTo>
                          <a:lnTo>
                            <a:pt x="242" y="1117"/>
                          </a:lnTo>
                          <a:lnTo>
                            <a:pt x="226" y="1090"/>
                          </a:lnTo>
                          <a:lnTo>
                            <a:pt x="210" y="1060"/>
                          </a:lnTo>
                          <a:lnTo>
                            <a:pt x="196" y="1028"/>
                          </a:lnTo>
                          <a:lnTo>
                            <a:pt x="183" y="997"/>
                          </a:lnTo>
                          <a:lnTo>
                            <a:pt x="170" y="964"/>
                          </a:lnTo>
                          <a:lnTo>
                            <a:pt x="159" y="929"/>
                          </a:lnTo>
                          <a:lnTo>
                            <a:pt x="148" y="893"/>
                          </a:lnTo>
                          <a:lnTo>
                            <a:pt x="139" y="857"/>
                          </a:lnTo>
                          <a:lnTo>
                            <a:pt x="130" y="820"/>
                          </a:lnTo>
                          <a:lnTo>
                            <a:pt x="122" y="782"/>
                          </a:lnTo>
                          <a:lnTo>
                            <a:pt x="115" y="743"/>
                          </a:lnTo>
                          <a:lnTo>
                            <a:pt x="109" y="703"/>
                          </a:lnTo>
                          <a:lnTo>
                            <a:pt x="103" y="664"/>
                          </a:lnTo>
                          <a:lnTo>
                            <a:pt x="98" y="623"/>
                          </a:lnTo>
                          <a:lnTo>
                            <a:pt x="94" y="581"/>
                          </a:lnTo>
                          <a:lnTo>
                            <a:pt x="91" y="541"/>
                          </a:lnTo>
                          <a:lnTo>
                            <a:pt x="87" y="499"/>
                          </a:lnTo>
                          <a:lnTo>
                            <a:pt x="85" y="457"/>
                          </a:lnTo>
                          <a:lnTo>
                            <a:pt x="83" y="415"/>
                          </a:lnTo>
                          <a:lnTo>
                            <a:pt x="82" y="373"/>
                          </a:lnTo>
                          <a:lnTo>
                            <a:pt x="81" y="289"/>
                          </a:lnTo>
                          <a:lnTo>
                            <a:pt x="81" y="206"/>
                          </a:lnTo>
                          <a:lnTo>
                            <a:pt x="82" y="126"/>
                          </a:lnTo>
                          <a:lnTo>
                            <a:pt x="84" y="46"/>
                          </a:lnTo>
                          <a:lnTo>
                            <a:pt x="72" y="87"/>
                          </a:lnTo>
                          <a:lnTo>
                            <a:pt x="16" y="0"/>
                          </a:lnTo>
                          <a:lnTo>
                            <a:pt x="5" y="16"/>
                          </a:lnTo>
                          <a:lnTo>
                            <a:pt x="4" y="40"/>
                          </a:lnTo>
                          <a:lnTo>
                            <a:pt x="16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3" name=""/>
                    <p:cNvSpPr/>
                    <p:nvPr/>
                  </p:nvSpPr>
                  <p:spPr>
                    <a:xfrm>
                      <a:off x="583200" y="3120480"/>
                      <a:ext cx="182520" cy="19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7" h="1341">
                          <a:moveTo>
                            <a:pt x="1090" y="132"/>
                          </a:moveTo>
                          <a:lnTo>
                            <a:pt x="1030" y="69"/>
                          </a:lnTo>
                          <a:lnTo>
                            <a:pt x="958" y="134"/>
                          </a:lnTo>
                          <a:lnTo>
                            <a:pt x="889" y="200"/>
                          </a:lnTo>
                          <a:lnTo>
                            <a:pt x="820" y="266"/>
                          </a:lnTo>
                          <a:lnTo>
                            <a:pt x="754" y="332"/>
                          </a:lnTo>
                          <a:lnTo>
                            <a:pt x="688" y="399"/>
                          </a:lnTo>
                          <a:lnTo>
                            <a:pt x="623" y="466"/>
                          </a:lnTo>
                          <a:lnTo>
                            <a:pt x="560" y="537"/>
                          </a:lnTo>
                          <a:lnTo>
                            <a:pt x="497" y="607"/>
                          </a:lnTo>
                          <a:lnTo>
                            <a:pt x="434" y="679"/>
                          </a:lnTo>
                          <a:lnTo>
                            <a:pt x="372" y="754"/>
                          </a:lnTo>
                          <a:lnTo>
                            <a:pt x="310" y="831"/>
                          </a:lnTo>
                          <a:lnTo>
                            <a:pt x="249" y="910"/>
                          </a:lnTo>
                          <a:lnTo>
                            <a:pt x="187" y="991"/>
                          </a:lnTo>
                          <a:lnTo>
                            <a:pt x="125" y="1075"/>
                          </a:lnTo>
                          <a:lnTo>
                            <a:pt x="63" y="1164"/>
                          </a:lnTo>
                          <a:lnTo>
                            <a:pt x="0" y="1254"/>
                          </a:lnTo>
                          <a:lnTo>
                            <a:pt x="56" y="1341"/>
                          </a:lnTo>
                          <a:lnTo>
                            <a:pt x="118" y="1251"/>
                          </a:lnTo>
                          <a:lnTo>
                            <a:pt x="180" y="1165"/>
                          </a:lnTo>
                          <a:lnTo>
                            <a:pt x="241" y="1081"/>
                          </a:lnTo>
                          <a:lnTo>
                            <a:pt x="301" y="1002"/>
                          </a:lnTo>
                          <a:lnTo>
                            <a:pt x="362" y="924"/>
                          </a:lnTo>
                          <a:lnTo>
                            <a:pt x="423" y="847"/>
                          </a:lnTo>
                          <a:lnTo>
                            <a:pt x="485" y="774"/>
                          </a:lnTo>
                          <a:lnTo>
                            <a:pt x="546" y="703"/>
                          </a:lnTo>
                          <a:lnTo>
                            <a:pt x="608" y="633"/>
                          </a:lnTo>
                          <a:lnTo>
                            <a:pt x="670" y="565"/>
                          </a:lnTo>
                          <a:lnTo>
                            <a:pt x="734" y="498"/>
                          </a:lnTo>
                          <a:lnTo>
                            <a:pt x="798" y="432"/>
                          </a:lnTo>
                          <a:lnTo>
                            <a:pt x="864" y="366"/>
                          </a:lnTo>
                          <a:lnTo>
                            <a:pt x="932" y="302"/>
                          </a:lnTo>
                          <a:lnTo>
                            <a:pt x="1001" y="237"/>
                          </a:lnTo>
                          <a:lnTo>
                            <a:pt x="1071" y="173"/>
                          </a:lnTo>
                          <a:lnTo>
                            <a:pt x="1011" y="108"/>
                          </a:lnTo>
                          <a:lnTo>
                            <a:pt x="1090" y="132"/>
                          </a:lnTo>
                          <a:lnTo>
                            <a:pt x="1107" y="0"/>
                          </a:lnTo>
                          <a:lnTo>
                            <a:pt x="1030" y="69"/>
                          </a:lnTo>
                          <a:lnTo>
                            <a:pt x="1090" y="13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4" name=""/>
                    <p:cNvSpPr/>
                    <p:nvPr/>
                  </p:nvSpPr>
                  <p:spPr>
                    <a:xfrm>
                      <a:off x="688320" y="3136680"/>
                      <a:ext cx="74880" cy="17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3" h="1173">
                          <a:moveTo>
                            <a:pt x="74" y="1173"/>
                          </a:moveTo>
                          <a:lnTo>
                            <a:pt x="77" y="1165"/>
                          </a:lnTo>
                          <a:lnTo>
                            <a:pt x="85" y="1128"/>
                          </a:lnTo>
                          <a:lnTo>
                            <a:pt x="95" y="1092"/>
                          </a:lnTo>
                          <a:lnTo>
                            <a:pt x="105" y="1056"/>
                          </a:lnTo>
                          <a:lnTo>
                            <a:pt x="115" y="1020"/>
                          </a:lnTo>
                          <a:lnTo>
                            <a:pt x="127" y="984"/>
                          </a:lnTo>
                          <a:lnTo>
                            <a:pt x="138" y="949"/>
                          </a:lnTo>
                          <a:lnTo>
                            <a:pt x="151" y="915"/>
                          </a:lnTo>
                          <a:lnTo>
                            <a:pt x="163" y="880"/>
                          </a:lnTo>
                          <a:lnTo>
                            <a:pt x="190" y="811"/>
                          </a:lnTo>
                          <a:lnTo>
                            <a:pt x="218" y="742"/>
                          </a:lnTo>
                          <a:lnTo>
                            <a:pt x="246" y="675"/>
                          </a:lnTo>
                          <a:lnTo>
                            <a:pt x="274" y="606"/>
                          </a:lnTo>
                          <a:lnTo>
                            <a:pt x="302" y="537"/>
                          </a:lnTo>
                          <a:lnTo>
                            <a:pt x="330" y="468"/>
                          </a:lnTo>
                          <a:lnTo>
                            <a:pt x="356" y="399"/>
                          </a:lnTo>
                          <a:lnTo>
                            <a:pt x="381" y="329"/>
                          </a:lnTo>
                          <a:lnTo>
                            <a:pt x="392" y="291"/>
                          </a:lnTo>
                          <a:lnTo>
                            <a:pt x="403" y="255"/>
                          </a:lnTo>
                          <a:lnTo>
                            <a:pt x="414" y="218"/>
                          </a:lnTo>
                          <a:lnTo>
                            <a:pt x="423" y="180"/>
                          </a:lnTo>
                          <a:lnTo>
                            <a:pt x="432" y="143"/>
                          </a:lnTo>
                          <a:lnTo>
                            <a:pt x="440" y="104"/>
                          </a:lnTo>
                          <a:lnTo>
                            <a:pt x="447" y="65"/>
                          </a:lnTo>
                          <a:lnTo>
                            <a:pt x="453" y="24"/>
                          </a:lnTo>
                          <a:lnTo>
                            <a:pt x="374" y="0"/>
                          </a:lnTo>
                          <a:lnTo>
                            <a:pt x="369" y="36"/>
                          </a:lnTo>
                          <a:lnTo>
                            <a:pt x="362" y="71"/>
                          </a:lnTo>
                          <a:lnTo>
                            <a:pt x="355" y="105"/>
                          </a:lnTo>
                          <a:lnTo>
                            <a:pt x="348" y="140"/>
                          </a:lnTo>
                          <a:lnTo>
                            <a:pt x="339" y="173"/>
                          </a:lnTo>
                          <a:lnTo>
                            <a:pt x="329" y="207"/>
                          </a:lnTo>
                          <a:lnTo>
                            <a:pt x="319" y="240"/>
                          </a:lnTo>
                          <a:lnTo>
                            <a:pt x="309" y="273"/>
                          </a:lnTo>
                          <a:lnTo>
                            <a:pt x="285" y="342"/>
                          </a:lnTo>
                          <a:lnTo>
                            <a:pt x="260" y="408"/>
                          </a:lnTo>
                          <a:lnTo>
                            <a:pt x="234" y="475"/>
                          </a:lnTo>
                          <a:lnTo>
                            <a:pt x="206" y="543"/>
                          </a:lnTo>
                          <a:lnTo>
                            <a:pt x="177" y="610"/>
                          </a:lnTo>
                          <a:lnTo>
                            <a:pt x="149" y="679"/>
                          </a:lnTo>
                          <a:lnTo>
                            <a:pt x="121" y="750"/>
                          </a:lnTo>
                          <a:lnTo>
                            <a:pt x="93" y="820"/>
                          </a:lnTo>
                          <a:lnTo>
                            <a:pt x="80" y="856"/>
                          </a:lnTo>
                          <a:lnTo>
                            <a:pt x="67" y="894"/>
                          </a:lnTo>
                          <a:lnTo>
                            <a:pt x="54" y="931"/>
                          </a:lnTo>
                          <a:lnTo>
                            <a:pt x="42" y="969"/>
                          </a:lnTo>
                          <a:lnTo>
                            <a:pt x="31" y="1008"/>
                          </a:lnTo>
                          <a:lnTo>
                            <a:pt x="20" y="1047"/>
                          </a:lnTo>
                          <a:lnTo>
                            <a:pt x="10" y="1086"/>
                          </a:lnTo>
                          <a:lnTo>
                            <a:pt x="0" y="1126"/>
                          </a:lnTo>
                          <a:lnTo>
                            <a:pt x="2" y="1119"/>
                          </a:lnTo>
                          <a:lnTo>
                            <a:pt x="74" y="117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5" name=""/>
                    <p:cNvSpPr/>
                    <p:nvPr/>
                  </p:nvSpPr>
                  <p:spPr>
                    <a:xfrm>
                      <a:off x="1098720" y="3669840"/>
                      <a:ext cx="20304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96">
                          <a:moveTo>
                            <a:pt x="20" y="213"/>
                          </a:moveTo>
                          <a:lnTo>
                            <a:pt x="59" y="294"/>
                          </a:lnTo>
                          <a:lnTo>
                            <a:pt x="133" y="291"/>
                          </a:lnTo>
                          <a:lnTo>
                            <a:pt x="207" y="285"/>
                          </a:lnTo>
                          <a:lnTo>
                            <a:pt x="281" y="276"/>
                          </a:lnTo>
                          <a:lnTo>
                            <a:pt x="354" y="267"/>
                          </a:lnTo>
                          <a:lnTo>
                            <a:pt x="428" y="255"/>
                          </a:lnTo>
                          <a:lnTo>
                            <a:pt x="501" y="243"/>
                          </a:lnTo>
                          <a:lnTo>
                            <a:pt x="574" y="230"/>
                          </a:lnTo>
                          <a:lnTo>
                            <a:pt x="647" y="216"/>
                          </a:lnTo>
                          <a:lnTo>
                            <a:pt x="720" y="201"/>
                          </a:lnTo>
                          <a:lnTo>
                            <a:pt x="793" y="188"/>
                          </a:lnTo>
                          <a:lnTo>
                            <a:pt x="866" y="174"/>
                          </a:lnTo>
                          <a:lnTo>
                            <a:pt x="939" y="161"/>
                          </a:lnTo>
                          <a:lnTo>
                            <a:pt x="1012" y="149"/>
                          </a:lnTo>
                          <a:lnTo>
                            <a:pt x="1085" y="138"/>
                          </a:lnTo>
                          <a:lnTo>
                            <a:pt x="1158" y="129"/>
                          </a:lnTo>
                          <a:lnTo>
                            <a:pt x="1231" y="122"/>
                          </a:lnTo>
                          <a:lnTo>
                            <a:pt x="1227" y="0"/>
                          </a:lnTo>
                          <a:lnTo>
                            <a:pt x="1152" y="8"/>
                          </a:lnTo>
                          <a:lnTo>
                            <a:pt x="1078" y="18"/>
                          </a:lnTo>
                          <a:lnTo>
                            <a:pt x="1004" y="29"/>
                          </a:lnTo>
                          <a:lnTo>
                            <a:pt x="930" y="41"/>
                          </a:lnTo>
                          <a:lnTo>
                            <a:pt x="857" y="54"/>
                          </a:lnTo>
                          <a:lnTo>
                            <a:pt x="783" y="68"/>
                          </a:lnTo>
                          <a:lnTo>
                            <a:pt x="710" y="81"/>
                          </a:lnTo>
                          <a:lnTo>
                            <a:pt x="637" y="96"/>
                          </a:lnTo>
                          <a:lnTo>
                            <a:pt x="565" y="110"/>
                          </a:lnTo>
                          <a:lnTo>
                            <a:pt x="492" y="123"/>
                          </a:lnTo>
                          <a:lnTo>
                            <a:pt x="419" y="135"/>
                          </a:lnTo>
                          <a:lnTo>
                            <a:pt x="347" y="147"/>
                          </a:lnTo>
                          <a:lnTo>
                            <a:pt x="275" y="156"/>
                          </a:lnTo>
                          <a:lnTo>
                            <a:pt x="202" y="164"/>
                          </a:lnTo>
                          <a:lnTo>
                            <a:pt x="129" y="170"/>
                          </a:lnTo>
                          <a:lnTo>
                            <a:pt x="57" y="174"/>
                          </a:lnTo>
                          <a:lnTo>
                            <a:pt x="96" y="255"/>
                          </a:lnTo>
                          <a:lnTo>
                            <a:pt x="20" y="213"/>
                          </a:lnTo>
                          <a:lnTo>
                            <a:pt x="0" y="296"/>
                          </a:lnTo>
                          <a:lnTo>
                            <a:pt x="59" y="294"/>
                          </a:lnTo>
                          <a:lnTo>
                            <a:pt x="20" y="21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6" name=""/>
                    <p:cNvSpPr/>
                    <p:nvPr/>
                  </p:nvSpPr>
                  <p:spPr>
                    <a:xfrm>
                      <a:off x="1094760" y="3682800"/>
                      <a:ext cx="2016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68">
                          <a:moveTo>
                            <a:pt x="40" y="122"/>
                          </a:moveTo>
                          <a:lnTo>
                            <a:pt x="0" y="66"/>
                          </a:lnTo>
                          <a:lnTo>
                            <a:pt x="3" y="87"/>
                          </a:lnTo>
                          <a:lnTo>
                            <a:pt x="8" y="105"/>
                          </a:lnTo>
                          <a:lnTo>
                            <a:pt x="15" y="120"/>
                          </a:lnTo>
                          <a:lnTo>
                            <a:pt x="24" y="132"/>
                          </a:lnTo>
                          <a:lnTo>
                            <a:pt x="35" y="144"/>
                          </a:lnTo>
                          <a:lnTo>
                            <a:pt x="44" y="153"/>
                          </a:lnTo>
                          <a:lnTo>
                            <a:pt x="48" y="156"/>
                          </a:lnTo>
                          <a:lnTo>
                            <a:pt x="43" y="146"/>
                          </a:lnTo>
                          <a:lnTo>
                            <a:pt x="42" y="137"/>
                          </a:lnTo>
                          <a:lnTo>
                            <a:pt x="42" y="129"/>
                          </a:lnTo>
                          <a:lnTo>
                            <a:pt x="43" y="126"/>
                          </a:lnTo>
                          <a:lnTo>
                            <a:pt x="119" y="168"/>
                          </a:lnTo>
                          <a:lnTo>
                            <a:pt x="122" y="149"/>
                          </a:lnTo>
                          <a:lnTo>
                            <a:pt x="123" y="128"/>
                          </a:lnTo>
                          <a:lnTo>
                            <a:pt x="120" y="105"/>
                          </a:lnTo>
                          <a:lnTo>
                            <a:pt x="112" y="83"/>
                          </a:lnTo>
                          <a:lnTo>
                            <a:pt x="100" y="65"/>
                          </a:lnTo>
                          <a:lnTo>
                            <a:pt x="88" y="51"/>
                          </a:lnTo>
                          <a:lnTo>
                            <a:pt x="80" y="44"/>
                          </a:lnTo>
                          <a:lnTo>
                            <a:pt x="75" y="39"/>
                          </a:lnTo>
                          <a:lnTo>
                            <a:pt x="77" y="42"/>
                          </a:lnTo>
                          <a:lnTo>
                            <a:pt x="78" y="45"/>
                          </a:lnTo>
                          <a:lnTo>
                            <a:pt x="80" y="50"/>
                          </a:lnTo>
                          <a:lnTo>
                            <a:pt x="80" y="54"/>
                          </a:lnTo>
                          <a:lnTo>
                            <a:pt x="40" y="0"/>
                          </a:lnTo>
                          <a:lnTo>
                            <a:pt x="80" y="54"/>
                          </a:lnTo>
                          <a:lnTo>
                            <a:pt x="77" y="0"/>
                          </a:lnTo>
                          <a:lnTo>
                            <a:pt x="40" y="0"/>
                          </a:lnTo>
                          <a:lnTo>
                            <a:pt x="40" y="1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7" name=""/>
                    <p:cNvSpPr/>
                    <p:nvPr/>
                  </p:nvSpPr>
                  <p:spPr>
                    <a:xfrm>
                      <a:off x="1089000" y="3682800"/>
                      <a:ext cx="1188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122">
                          <a:moveTo>
                            <a:pt x="19" y="41"/>
                          </a:moveTo>
                          <a:lnTo>
                            <a:pt x="57" y="122"/>
                          </a:lnTo>
                          <a:lnTo>
                            <a:pt x="74" y="122"/>
                          </a:lnTo>
                          <a:lnTo>
                            <a:pt x="74" y="0"/>
                          </a:lnTo>
                          <a:lnTo>
                            <a:pt x="57" y="0"/>
                          </a:lnTo>
                          <a:lnTo>
                            <a:pt x="19" y="41"/>
                          </a:lnTo>
                          <a:lnTo>
                            <a:pt x="0" y="122"/>
                          </a:lnTo>
                          <a:lnTo>
                            <a:pt x="57" y="122"/>
                          </a:lnTo>
                          <a:lnTo>
                            <a:pt x="19" y="4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8" name=""/>
                    <p:cNvSpPr/>
                    <p:nvPr/>
                  </p:nvSpPr>
                  <p:spPr>
                    <a:xfrm>
                      <a:off x="1092240" y="3355200"/>
                      <a:ext cx="120960" cy="33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5" h="2280">
                          <a:moveTo>
                            <a:pt x="689" y="0"/>
                          </a:moveTo>
                          <a:lnTo>
                            <a:pt x="662" y="33"/>
                          </a:lnTo>
                          <a:lnTo>
                            <a:pt x="621" y="166"/>
                          </a:lnTo>
                          <a:lnTo>
                            <a:pt x="578" y="300"/>
                          </a:lnTo>
                          <a:lnTo>
                            <a:pt x="535" y="435"/>
                          </a:lnTo>
                          <a:lnTo>
                            <a:pt x="491" y="570"/>
                          </a:lnTo>
                          <a:lnTo>
                            <a:pt x="447" y="706"/>
                          </a:lnTo>
                          <a:lnTo>
                            <a:pt x="403" y="843"/>
                          </a:lnTo>
                          <a:lnTo>
                            <a:pt x="359" y="980"/>
                          </a:lnTo>
                          <a:lnTo>
                            <a:pt x="316" y="1118"/>
                          </a:lnTo>
                          <a:lnTo>
                            <a:pt x="272" y="1258"/>
                          </a:lnTo>
                          <a:lnTo>
                            <a:pt x="230" y="1397"/>
                          </a:lnTo>
                          <a:lnTo>
                            <a:pt x="188" y="1537"/>
                          </a:lnTo>
                          <a:lnTo>
                            <a:pt x="148" y="1676"/>
                          </a:lnTo>
                          <a:lnTo>
                            <a:pt x="108" y="1817"/>
                          </a:lnTo>
                          <a:lnTo>
                            <a:pt x="70" y="1958"/>
                          </a:lnTo>
                          <a:lnTo>
                            <a:pt x="34" y="2099"/>
                          </a:lnTo>
                          <a:lnTo>
                            <a:pt x="0" y="2240"/>
                          </a:lnTo>
                          <a:lnTo>
                            <a:pt x="76" y="2280"/>
                          </a:lnTo>
                          <a:lnTo>
                            <a:pt x="110" y="2141"/>
                          </a:lnTo>
                          <a:lnTo>
                            <a:pt x="146" y="2001"/>
                          </a:lnTo>
                          <a:lnTo>
                            <a:pt x="183" y="1862"/>
                          </a:lnTo>
                          <a:lnTo>
                            <a:pt x="222" y="1724"/>
                          </a:lnTo>
                          <a:lnTo>
                            <a:pt x="262" y="1585"/>
                          </a:lnTo>
                          <a:lnTo>
                            <a:pt x="303" y="1447"/>
                          </a:lnTo>
                          <a:lnTo>
                            <a:pt x="346" y="1309"/>
                          </a:lnTo>
                          <a:lnTo>
                            <a:pt x="389" y="1171"/>
                          </a:lnTo>
                          <a:lnTo>
                            <a:pt x="432" y="1033"/>
                          </a:lnTo>
                          <a:lnTo>
                            <a:pt x="476" y="895"/>
                          </a:lnTo>
                          <a:lnTo>
                            <a:pt x="520" y="759"/>
                          </a:lnTo>
                          <a:lnTo>
                            <a:pt x="564" y="622"/>
                          </a:lnTo>
                          <a:lnTo>
                            <a:pt x="608" y="487"/>
                          </a:lnTo>
                          <a:lnTo>
                            <a:pt x="651" y="352"/>
                          </a:lnTo>
                          <a:lnTo>
                            <a:pt x="694" y="217"/>
                          </a:lnTo>
                          <a:lnTo>
                            <a:pt x="735" y="84"/>
                          </a:lnTo>
                          <a:lnTo>
                            <a:pt x="708" y="117"/>
                          </a:lnTo>
                          <a:lnTo>
                            <a:pt x="689" y="0"/>
                          </a:lnTo>
                          <a:lnTo>
                            <a:pt x="670" y="6"/>
                          </a:lnTo>
                          <a:lnTo>
                            <a:pt x="662" y="33"/>
                          </a:lnTo>
                          <a:lnTo>
                            <a:pt x="689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9" name=""/>
                    <p:cNvSpPr/>
                    <p:nvPr/>
                  </p:nvSpPr>
                  <p:spPr>
                    <a:xfrm>
                      <a:off x="1206000" y="3344400"/>
                      <a:ext cx="3456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9" h="189">
                          <a:moveTo>
                            <a:pt x="209" y="39"/>
                          </a:moveTo>
                          <a:lnTo>
                            <a:pt x="165" y="10"/>
                          </a:lnTo>
                          <a:lnTo>
                            <a:pt x="0" y="72"/>
                          </a:lnTo>
                          <a:lnTo>
                            <a:pt x="19" y="189"/>
                          </a:lnTo>
                          <a:lnTo>
                            <a:pt x="184" y="129"/>
                          </a:lnTo>
                          <a:lnTo>
                            <a:pt x="209" y="39"/>
                          </a:lnTo>
                          <a:lnTo>
                            <a:pt x="194" y="0"/>
                          </a:lnTo>
                          <a:lnTo>
                            <a:pt x="165" y="10"/>
                          </a:lnTo>
                          <a:lnTo>
                            <a:pt x="209" y="3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0" name=""/>
                    <p:cNvSpPr/>
                    <p:nvPr/>
                  </p:nvSpPr>
                  <p:spPr>
                    <a:xfrm>
                      <a:off x="1229040" y="3350160"/>
                      <a:ext cx="79920" cy="33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4" h="2267">
                          <a:moveTo>
                            <a:pt x="441" y="2267"/>
                          </a:moveTo>
                          <a:lnTo>
                            <a:pt x="479" y="2210"/>
                          </a:lnTo>
                          <a:lnTo>
                            <a:pt x="482" y="2138"/>
                          </a:lnTo>
                          <a:lnTo>
                            <a:pt x="484" y="2064"/>
                          </a:lnTo>
                          <a:lnTo>
                            <a:pt x="484" y="1992"/>
                          </a:lnTo>
                          <a:lnTo>
                            <a:pt x="483" y="1919"/>
                          </a:lnTo>
                          <a:lnTo>
                            <a:pt x="480" y="1847"/>
                          </a:lnTo>
                          <a:lnTo>
                            <a:pt x="477" y="1775"/>
                          </a:lnTo>
                          <a:lnTo>
                            <a:pt x="472" y="1702"/>
                          </a:lnTo>
                          <a:lnTo>
                            <a:pt x="466" y="1630"/>
                          </a:lnTo>
                          <a:lnTo>
                            <a:pt x="459" y="1556"/>
                          </a:lnTo>
                          <a:lnTo>
                            <a:pt x="451" y="1484"/>
                          </a:lnTo>
                          <a:lnTo>
                            <a:pt x="442" y="1412"/>
                          </a:lnTo>
                          <a:lnTo>
                            <a:pt x="432" y="1342"/>
                          </a:lnTo>
                          <a:lnTo>
                            <a:pt x="421" y="1270"/>
                          </a:lnTo>
                          <a:lnTo>
                            <a:pt x="409" y="1198"/>
                          </a:lnTo>
                          <a:lnTo>
                            <a:pt x="396" y="1127"/>
                          </a:lnTo>
                          <a:lnTo>
                            <a:pt x="382" y="1057"/>
                          </a:lnTo>
                          <a:lnTo>
                            <a:pt x="367" y="988"/>
                          </a:lnTo>
                          <a:lnTo>
                            <a:pt x="352" y="917"/>
                          </a:lnTo>
                          <a:lnTo>
                            <a:pt x="335" y="849"/>
                          </a:lnTo>
                          <a:lnTo>
                            <a:pt x="318" y="780"/>
                          </a:lnTo>
                          <a:lnTo>
                            <a:pt x="301" y="711"/>
                          </a:lnTo>
                          <a:lnTo>
                            <a:pt x="282" y="643"/>
                          </a:lnTo>
                          <a:lnTo>
                            <a:pt x="263" y="576"/>
                          </a:lnTo>
                          <a:lnTo>
                            <a:pt x="244" y="510"/>
                          </a:lnTo>
                          <a:lnTo>
                            <a:pt x="224" y="444"/>
                          </a:lnTo>
                          <a:lnTo>
                            <a:pt x="203" y="378"/>
                          </a:lnTo>
                          <a:lnTo>
                            <a:pt x="182" y="313"/>
                          </a:lnTo>
                          <a:lnTo>
                            <a:pt x="160" y="249"/>
                          </a:lnTo>
                          <a:lnTo>
                            <a:pt x="138" y="186"/>
                          </a:lnTo>
                          <a:lnTo>
                            <a:pt x="116" y="123"/>
                          </a:lnTo>
                          <a:lnTo>
                            <a:pt x="93" y="61"/>
                          </a:lnTo>
                          <a:lnTo>
                            <a:pt x="70" y="0"/>
                          </a:lnTo>
                          <a:lnTo>
                            <a:pt x="0" y="61"/>
                          </a:lnTo>
                          <a:lnTo>
                            <a:pt x="23" y="120"/>
                          </a:lnTo>
                          <a:lnTo>
                            <a:pt x="45" y="181"/>
                          </a:lnTo>
                          <a:lnTo>
                            <a:pt x="67" y="243"/>
                          </a:lnTo>
                          <a:lnTo>
                            <a:pt x="89" y="304"/>
                          </a:lnTo>
                          <a:lnTo>
                            <a:pt x="110" y="367"/>
                          </a:lnTo>
                          <a:lnTo>
                            <a:pt x="130" y="430"/>
                          </a:lnTo>
                          <a:lnTo>
                            <a:pt x="151" y="495"/>
                          </a:lnTo>
                          <a:lnTo>
                            <a:pt x="170" y="559"/>
                          </a:lnTo>
                          <a:lnTo>
                            <a:pt x="189" y="624"/>
                          </a:lnTo>
                          <a:lnTo>
                            <a:pt x="208" y="690"/>
                          </a:lnTo>
                          <a:lnTo>
                            <a:pt x="226" y="756"/>
                          </a:lnTo>
                          <a:lnTo>
                            <a:pt x="243" y="822"/>
                          </a:lnTo>
                          <a:lnTo>
                            <a:pt x="260" y="889"/>
                          </a:lnTo>
                          <a:lnTo>
                            <a:pt x="275" y="956"/>
                          </a:lnTo>
                          <a:lnTo>
                            <a:pt x="290" y="1024"/>
                          </a:lnTo>
                          <a:lnTo>
                            <a:pt x="305" y="1093"/>
                          </a:lnTo>
                          <a:lnTo>
                            <a:pt x="318" y="1160"/>
                          </a:lnTo>
                          <a:lnTo>
                            <a:pt x="331" y="1229"/>
                          </a:lnTo>
                          <a:lnTo>
                            <a:pt x="342" y="1298"/>
                          </a:lnTo>
                          <a:lnTo>
                            <a:pt x="353" y="1367"/>
                          </a:lnTo>
                          <a:lnTo>
                            <a:pt x="363" y="1436"/>
                          </a:lnTo>
                          <a:lnTo>
                            <a:pt x="372" y="1505"/>
                          </a:lnTo>
                          <a:lnTo>
                            <a:pt x="380" y="1576"/>
                          </a:lnTo>
                          <a:lnTo>
                            <a:pt x="386" y="1645"/>
                          </a:lnTo>
                          <a:lnTo>
                            <a:pt x="392" y="1715"/>
                          </a:lnTo>
                          <a:lnTo>
                            <a:pt x="397" y="1784"/>
                          </a:lnTo>
                          <a:lnTo>
                            <a:pt x="400" y="1855"/>
                          </a:lnTo>
                          <a:lnTo>
                            <a:pt x="402" y="1923"/>
                          </a:lnTo>
                          <a:lnTo>
                            <a:pt x="403" y="1994"/>
                          </a:lnTo>
                          <a:lnTo>
                            <a:pt x="403" y="2063"/>
                          </a:lnTo>
                          <a:lnTo>
                            <a:pt x="402" y="2133"/>
                          </a:lnTo>
                          <a:lnTo>
                            <a:pt x="399" y="2202"/>
                          </a:lnTo>
                          <a:lnTo>
                            <a:pt x="437" y="2145"/>
                          </a:lnTo>
                          <a:lnTo>
                            <a:pt x="441" y="2267"/>
                          </a:lnTo>
                          <a:lnTo>
                            <a:pt x="477" y="2264"/>
                          </a:lnTo>
                          <a:lnTo>
                            <a:pt x="479" y="2210"/>
                          </a:lnTo>
                          <a:lnTo>
                            <a:pt x="441" y="226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1" name=""/>
                    <p:cNvSpPr/>
                    <p:nvPr/>
                  </p:nvSpPr>
                  <p:spPr>
                    <a:xfrm>
                      <a:off x="1167840" y="2012040"/>
                      <a:ext cx="47664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7" h="3882">
                          <a:moveTo>
                            <a:pt x="1807" y="144"/>
                          </a:moveTo>
                          <a:lnTo>
                            <a:pt x="1854" y="176"/>
                          </a:lnTo>
                          <a:lnTo>
                            <a:pt x="1900" y="209"/>
                          </a:lnTo>
                          <a:lnTo>
                            <a:pt x="1947" y="243"/>
                          </a:lnTo>
                          <a:lnTo>
                            <a:pt x="1992" y="278"/>
                          </a:lnTo>
                          <a:lnTo>
                            <a:pt x="2038" y="315"/>
                          </a:lnTo>
                          <a:lnTo>
                            <a:pt x="2083" y="354"/>
                          </a:lnTo>
                          <a:lnTo>
                            <a:pt x="2127" y="395"/>
                          </a:lnTo>
                          <a:lnTo>
                            <a:pt x="2171" y="435"/>
                          </a:lnTo>
                          <a:lnTo>
                            <a:pt x="2214" y="479"/>
                          </a:lnTo>
                          <a:lnTo>
                            <a:pt x="2256" y="524"/>
                          </a:lnTo>
                          <a:lnTo>
                            <a:pt x="2297" y="570"/>
                          </a:lnTo>
                          <a:lnTo>
                            <a:pt x="2338" y="618"/>
                          </a:lnTo>
                          <a:lnTo>
                            <a:pt x="2378" y="666"/>
                          </a:lnTo>
                          <a:lnTo>
                            <a:pt x="2416" y="717"/>
                          </a:lnTo>
                          <a:lnTo>
                            <a:pt x="2454" y="770"/>
                          </a:lnTo>
                          <a:lnTo>
                            <a:pt x="2491" y="824"/>
                          </a:lnTo>
                          <a:lnTo>
                            <a:pt x="2526" y="879"/>
                          </a:lnTo>
                          <a:lnTo>
                            <a:pt x="2560" y="936"/>
                          </a:lnTo>
                          <a:lnTo>
                            <a:pt x="2593" y="996"/>
                          </a:lnTo>
                          <a:lnTo>
                            <a:pt x="2625" y="1056"/>
                          </a:lnTo>
                          <a:lnTo>
                            <a:pt x="2655" y="1117"/>
                          </a:lnTo>
                          <a:lnTo>
                            <a:pt x="2684" y="1180"/>
                          </a:lnTo>
                          <a:lnTo>
                            <a:pt x="2711" y="1246"/>
                          </a:lnTo>
                          <a:lnTo>
                            <a:pt x="2737" y="1312"/>
                          </a:lnTo>
                          <a:lnTo>
                            <a:pt x="2761" y="1381"/>
                          </a:lnTo>
                          <a:lnTo>
                            <a:pt x="2783" y="1452"/>
                          </a:lnTo>
                          <a:lnTo>
                            <a:pt x="2804" y="1522"/>
                          </a:lnTo>
                          <a:lnTo>
                            <a:pt x="2822" y="1596"/>
                          </a:lnTo>
                          <a:lnTo>
                            <a:pt x="2839" y="1671"/>
                          </a:lnTo>
                          <a:lnTo>
                            <a:pt x="2854" y="1747"/>
                          </a:lnTo>
                          <a:lnTo>
                            <a:pt x="2867" y="1825"/>
                          </a:lnTo>
                          <a:lnTo>
                            <a:pt x="2878" y="1906"/>
                          </a:lnTo>
                          <a:lnTo>
                            <a:pt x="2882" y="1970"/>
                          </a:lnTo>
                          <a:lnTo>
                            <a:pt x="2886" y="2033"/>
                          </a:lnTo>
                          <a:lnTo>
                            <a:pt x="2887" y="2096"/>
                          </a:lnTo>
                          <a:lnTo>
                            <a:pt x="2887" y="2159"/>
                          </a:lnTo>
                          <a:lnTo>
                            <a:pt x="2885" y="2221"/>
                          </a:lnTo>
                          <a:lnTo>
                            <a:pt x="2882" y="2281"/>
                          </a:lnTo>
                          <a:lnTo>
                            <a:pt x="2877" y="2341"/>
                          </a:lnTo>
                          <a:lnTo>
                            <a:pt x="2871" y="2401"/>
                          </a:lnTo>
                          <a:lnTo>
                            <a:pt x="2864" y="2458"/>
                          </a:lnTo>
                          <a:lnTo>
                            <a:pt x="2856" y="2516"/>
                          </a:lnTo>
                          <a:lnTo>
                            <a:pt x="2846" y="2573"/>
                          </a:lnTo>
                          <a:lnTo>
                            <a:pt x="2835" y="2629"/>
                          </a:lnTo>
                          <a:lnTo>
                            <a:pt x="2823" y="2684"/>
                          </a:lnTo>
                          <a:lnTo>
                            <a:pt x="2810" y="2740"/>
                          </a:lnTo>
                          <a:lnTo>
                            <a:pt x="2795" y="2794"/>
                          </a:lnTo>
                          <a:lnTo>
                            <a:pt x="2780" y="2846"/>
                          </a:lnTo>
                          <a:lnTo>
                            <a:pt x="2764" y="2900"/>
                          </a:lnTo>
                          <a:lnTo>
                            <a:pt x="2747" y="2952"/>
                          </a:lnTo>
                          <a:lnTo>
                            <a:pt x="2730" y="3003"/>
                          </a:lnTo>
                          <a:lnTo>
                            <a:pt x="2711" y="3054"/>
                          </a:lnTo>
                          <a:lnTo>
                            <a:pt x="2692" y="3105"/>
                          </a:lnTo>
                          <a:lnTo>
                            <a:pt x="2673" y="3156"/>
                          </a:lnTo>
                          <a:lnTo>
                            <a:pt x="2653" y="3206"/>
                          </a:lnTo>
                          <a:lnTo>
                            <a:pt x="2632" y="3255"/>
                          </a:lnTo>
                          <a:lnTo>
                            <a:pt x="2589" y="3353"/>
                          </a:lnTo>
                          <a:lnTo>
                            <a:pt x="2545" y="3449"/>
                          </a:lnTo>
                          <a:lnTo>
                            <a:pt x="2499" y="3542"/>
                          </a:lnTo>
                          <a:lnTo>
                            <a:pt x="2454" y="3635"/>
                          </a:lnTo>
                          <a:lnTo>
                            <a:pt x="2444" y="3666"/>
                          </a:lnTo>
                          <a:lnTo>
                            <a:pt x="2434" y="3698"/>
                          </a:lnTo>
                          <a:lnTo>
                            <a:pt x="2422" y="3729"/>
                          </a:lnTo>
                          <a:lnTo>
                            <a:pt x="2409" y="3761"/>
                          </a:lnTo>
                          <a:lnTo>
                            <a:pt x="2395" y="3792"/>
                          </a:lnTo>
                          <a:lnTo>
                            <a:pt x="2381" y="3822"/>
                          </a:lnTo>
                          <a:lnTo>
                            <a:pt x="2366" y="3852"/>
                          </a:lnTo>
                          <a:lnTo>
                            <a:pt x="2350" y="3882"/>
                          </a:lnTo>
                          <a:lnTo>
                            <a:pt x="2325" y="3816"/>
                          </a:lnTo>
                          <a:lnTo>
                            <a:pt x="2300" y="3749"/>
                          </a:lnTo>
                          <a:lnTo>
                            <a:pt x="2274" y="3683"/>
                          </a:lnTo>
                          <a:lnTo>
                            <a:pt x="2248" y="3618"/>
                          </a:lnTo>
                          <a:lnTo>
                            <a:pt x="2221" y="3552"/>
                          </a:lnTo>
                          <a:lnTo>
                            <a:pt x="2194" y="3488"/>
                          </a:lnTo>
                          <a:lnTo>
                            <a:pt x="2166" y="3423"/>
                          </a:lnTo>
                          <a:lnTo>
                            <a:pt x="2137" y="3360"/>
                          </a:lnTo>
                          <a:lnTo>
                            <a:pt x="2107" y="3297"/>
                          </a:lnTo>
                          <a:lnTo>
                            <a:pt x="2077" y="3234"/>
                          </a:lnTo>
                          <a:lnTo>
                            <a:pt x="2046" y="3173"/>
                          </a:lnTo>
                          <a:lnTo>
                            <a:pt x="2014" y="3113"/>
                          </a:lnTo>
                          <a:lnTo>
                            <a:pt x="1981" y="3054"/>
                          </a:lnTo>
                          <a:lnTo>
                            <a:pt x="1947" y="2996"/>
                          </a:lnTo>
                          <a:lnTo>
                            <a:pt x="1912" y="2939"/>
                          </a:lnTo>
                          <a:lnTo>
                            <a:pt x="1877" y="2884"/>
                          </a:lnTo>
                          <a:lnTo>
                            <a:pt x="1809" y="2789"/>
                          </a:lnTo>
                          <a:lnTo>
                            <a:pt x="1740" y="2696"/>
                          </a:lnTo>
                          <a:lnTo>
                            <a:pt x="1704" y="2651"/>
                          </a:lnTo>
                          <a:lnTo>
                            <a:pt x="1669" y="2606"/>
                          </a:lnTo>
                          <a:lnTo>
                            <a:pt x="1633" y="2563"/>
                          </a:lnTo>
                          <a:lnTo>
                            <a:pt x="1597" y="2519"/>
                          </a:lnTo>
                          <a:lnTo>
                            <a:pt x="1560" y="2476"/>
                          </a:lnTo>
                          <a:lnTo>
                            <a:pt x="1523" y="2434"/>
                          </a:lnTo>
                          <a:lnTo>
                            <a:pt x="1486" y="2393"/>
                          </a:lnTo>
                          <a:lnTo>
                            <a:pt x="1448" y="2351"/>
                          </a:lnTo>
                          <a:lnTo>
                            <a:pt x="1410" y="2312"/>
                          </a:lnTo>
                          <a:lnTo>
                            <a:pt x="1371" y="2273"/>
                          </a:lnTo>
                          <a:lnTo>
                            <a:pt x="1332" y="2234"/>
                          </a:lnTo>
                          <a:lnTo>
                            <a:pt x="1293" y="2197"/>
                          </a:lnTo>
                          <a:lnTo>
                            <a:pt x="1253" y="2159"/>
                          </a:lnTo>
                          <a:lnTo>
                            <a:pt x="1212" y="2123"/>
                          </a:lnTo>
                          <a:lnTo>
                            <a:pt x="1172" y="2089"/>
                          </a:lnTo>
                          <a:lnTo>
                            <a:pt x="1130" y="2054"/>
                          </a:lnTo>
                          <a:lnTo>
                            <a:pt x="1089" y="2021"/>
                          </a:lnTo>
                          <a:lnTo>
                            <a:pt x="1047" y="1990"/>
                          </a:lnTo>
                          <a:lnTo>
                            <a:pt x="1004" y="1958"/>
                          </a:lnTo>
                          <a:lnTo>
                            <a:pt x="960" y="1928"/>
                          </a:lnTo>
                          <a:lnTo>
                            <a:pt x="916" y="1900"/>
                          </a:lnTo>
                          <a:lnTo>
                            <a:pt x="872" y="1872"/>
                          </a:lnTo>
                          <a:lnTo>
                            <a:pt x="828" y="1845"/>
                          </a:lnTo>
                          <a:lnTo>
                            <a:pt x="783" y="1819"/>
                          </a:lnTo>
                          <a:lnTo>
                            <a:pt x="737" y="1795"/>
                          </a:lnTo>
                          <a:lnTo>
                            <a:pt x="691" y="1771"/>
                          </a:lnTo>
                          <a:lnTo>
                            <a:pt x="645" y="1749"/>
                          </a:lnTo>
                          <a:lnTo>
                            <a:pt x="597" y="1728"/>
                          </a:lnTo>
                          <a:lnTo>
                            <a:pt x="561" y="1720"/>
                          </a:lnTo>
                          <a:lnTo>
                            <a:pt x="525" y="1711"/>
                          </a:lnTo>
                          <a:lnTo>
                            <a:pt x="488" y="1699"/>
                          </a:lnTo>
                          <a:lnTo>
                            <a:pt x="451" y="1686"/>
                          </a:lnTo>
                          <a:lnTo>
                            <a:pt x="378" y="1656"/>
                          </a:lnTo>
                          <a:lnTo>
                            <a:pt x="303" y="1626"/>
                          </a:lnTo>
                          <a:lnTo>
                            <a:pt x="266" y="1611"/>
                          </a:lnTo>
                          <a:lnTo>
                            <a:pt x="228" y="1596"/>
                          </a:lnTo>
                          <a:lnTo>
                            <a:pt x="191" y="1582"/>
                          </a:lnTo>
                          <a:lnTo>
                            <a:pt x="153" y="1570"/>
                          </a:lnTo>
                          <a:lnTo>
                            <a:pt x="115" y="1560"/>
                          </a:lnTo>
                          <a:lnTo>
                            <a:pt x="77" y="1551"/>
                          </a:lnTo>
                          <a:lnTo>
                            <a:pt x="39" y="1545"/>
                          </a:lnTo>
                          <a:lnTo>
                            <a:pt x="0" y="1542"/>
                          </a:lnTo>
                          <a:lnTo>
                            <a:pt x="3" y="1516"/>
                          </a:lnTo>
                          <a:lnTo>
                            <a:pt x="6" y="1492"/>
                          </a:lnTo>
                          <a:lnTo>
                            <a:pt x="10" y="1468"/>
                          </a:lnTo>
                          <a:lnTo>
                            <a:pt x="14" y="1444"/>
                          </a:lnTo>
                          <a:lnTo>
                            <a:pt x="19" y="1422"/>
                          </a:lnTo>
                          <a:lnTo>
                            <a:pt x="25" y="1399"/>
                          </a:lnTo>
                          <a:lnTo>
                            <a:pt x="31" y="1377"/>
                          </a:lnTo>
                          <a:lnTo>
                            <a:pt x="37" y="1354"/>
                          </a:lnTo>
                          <a:lnTo>
                            <a:pt x="52" y="1312"/>
                          </a:lnTo>
                          <a:lnTo>
                            <a:pt x="68" y="1270"/>
                          </a:lnTo>
                          <a:lnTo>
                            <a:pt x="85" y="1230"/>
                          </a:lnTo>
                          <a:lnTo>
                            <a:pt x="103" y="1189"/>
                          </a:lnTo>
                          <a:lnTo>
                            <a:pt x="141" y="1110"/>
                          </a:lnTo>
                          <a:lnTo>
                            <a:pt x="180" y="1029"/>
                          </a:lnTo>
                          <a:lnTo>
                            <a:pt x="199" y="987"/>
                          </a:lnTo>
                          <a:lnTo>
                            <a:pt x="217" y="945"/>
                          </a:lnTo>
                          <a:lnTo>
                            <a:pt x="235" y="900"/>
                          </a:lnTo>
                          <a:lnTo>
                            <a:pt x="251" y="854"/>
                          </a:lnTo>
                          <a:lnTo>
                            <a:pt x="304" y="776"/>
                          </a:lnTo>
                          <a:lnTo>
                            <a:pt x="357" y="698"/>
                          </a:lnTo>
                          <a:lnTo>
                            <a:pt x="409" y="623"/>
                          </a:lnTo>
                          <a:lnTo>
                            <a:pt x="462" y="549"/>
                          </a:lnTo>
                          <a:lnTo>
                            <a:pt x="489" y="513"/>
                          </a:lnTo>
                          <a:lnTo>
                            <a:pt x="516" y="479"/>
                          </a:lnTo>
                          <a:lnTo>
                            <a:pt x="543" y="446"/>
                          </a:lnTo>
                          <a:lnTo>
                            <a:pt x="570" y="413"/>
                          </a:lnTo>
                          <a:lnTo>
                            <a:pt x="598" y="380"/>
                          </a:lnTo>
                          <a:lnTo>
                            <a:pt x="625" y="350"/>
                          </a:lnTo>
                          <a:lnTo>
                            <a:pt x="654" y="320"/>
                          </a:lnTo>
                          <a:lnTo>
                            <a:pt x="682" y="290"/>
                          </a:lnTo>
                          <a:lnTo>
                            <a:pt x="711" y="263"/>
                          </a:lnTo>
                          <a:lnTo>
                            <a:pt x="741" y="236"/>
                          </a:lnTo>
                          <a:lnTo>
                            <a:pt x="770" y="210"/>
                          </a:lnTo>
                          <a:lnTo>
                            <a:pt x="801" y="188"/>
                          </a:lnTo>
                          <a:lnTo>
                            <a:pt x="832" y="165"/>
                          </a:lnTo>
                          <a:lnTo>
                            <a:pt x="863" y="144"/>
                          </a:lnTo>
                          <a:lnTo>
                            <a:pt x="895" y="125"/>
                          </a:lnTo>
                          <a:lnTo>
                            <a:pt x="928" y="107"/>
                          </a:lnTo>
                          <a:lnTo>
                            <a:pt x="962" y="90"/>
                          </a:lnTo>
                          <a:lnTo>
                            <a:pt x="996" y="75"/>
                          </a:lnTo>
                          <a:lnTo>
                            <a:pt x="1031" y="63"/>
                          </a:lnTo>
                          <a:lnTo>
                            <a:pt x="1066" y="53"/>
                          </a:lnTo>
                          <a:lnTo>
                            <a:pt x="1102" y="44"/>
                          </a:lnTo>
                          <a:lnTo>
                            <a:pt x="1139" y="36"/>
                          </a:lnTo>
                          <a:lnTo>
                            <a:pt x="1177" y="32"/>
                          </a:lnTo>
                          <a:lnTo>
                            <a:pt x="1216" y="27"/>
                          </a:lnTo>
                          <a:lnTo>
                            <a:pt x="1235" y="20"/>
                          </a:lnTo>
                          <a:lnTo>
                            <a:pt x="1255" y="14"/>
                          </a:lnTo>
                          <a:lnTo>
                            <a:pt x="1274" y="9"/>
                          </a:lnTo>
                          <a:lnTo>
                            <a:pt x="1293" y="5"/>
                          </a:lnTo>
                          <a:lnTo>
                            <a:pt x="1313" y="3"/>
                          </a:lnTo>
                          <a:lnTo>
                            <a:pt x="1332" y="2"/>
                          </a:lnTo>
                          <a:lnTo>
                            <a:pt x="1351" y="0"/>
                          </a:lnTo>
                          <a:lnTo>
                            <a:pt x="1370" y="0"/>
                          </a:lnTo>
                          <a:lnTo>
                            <a:pt x="1389" y="2"/>
                          </a:lnTo>
                          <a:lnTo>
                            <a:pt x="1408" y="3"/>
                          </a:lnTo>
                          <a:lnTo>
                            <a:pt x="1427" y="6"/>
                          </a:lnTo>
                          <a:lnTo>
                            <a:pt x="1446" y="9"/>
                          </a:lnTo>
                          <a:lnTo>
                            <a:pt x="1483" y="18"/>
                          </a:lnTo>
                          <a:lnTo>
                            <a:pt x="1520" y="30"/>
                          </a:lnTo>
                          <a:lnTo>
                            <a:pt x="1557" y="42"/>
                          </a:lnTo>
                          <a:lnTo>
                            <a:pt x="1594" y="56"/>
                          </a:lnTo>
                          <a:lnTo>
                            <a:pt x="1630" y="71"/>
                          </a:lnTo>
                          <a:lnTo>
                            <a:pt x="1666" y="87"/>
                          </a:lnTo>
                          <a:lnTo>
                            <a:pt x="1737" y="117"/>
                          </a:lnTo>
                          <a:lnTo>
                            <a:pt x="1807" y="144"/>
                          </a:lnTo>
                          <a:close/>
                        </a:path>
                      </a:pathLst>
                    </a:custGeom>
                    <a:solidFill>
                      <a:srgbClr val="ffc5e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2" name=""/>
                    <p:cNvSpPr/>
                    <p:nvPr/>
                  </p:nvSpPr>
                  <p:spPr>
                    <a:xfrm>
                      <a:off x="1122480" y="2250360"/>
                      <a:ext cx="426600" cy="40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86" h="2715">
                          <a:moveTo>
                            <a:pt x="1663" y="752"/>
                          </a:moveTo>
                          <a:lnTo>
                            <a:pt x="1733" y="833"/>
                          </a:lnTo>
                          <a:lnTo>
                            <a:pt x="1802" y="916"/>
                          </a:lnTo>
                          <a:lnTo>
                            <a:pt x="1871" y="1001"/>
                          </a:lnTo>
                          <a:lnTo>
                            <a:pt x="1940" y="1090"/>
                          </a:lnTo>
                          <a:lnTo>
                            <a:pt x="1974" y="1136"/>
                          </a:lnTo>
                          <a:lnTo>
                            <a:pt x="2008" y="1183"/>
                          </a:lnTo>
                          <a:lnTo>
                            <a:pt x="2041" y="1229"/>
                          </a:lnTo>
                          <a:lnTo>
                            <a:pt x="2074" y="1277"/>
                          </a:lnTo>
                          <a:lnTo>
                            <a:pt x="2107" y="1325"/>
                          </a:lnTo>
                          <a:lnTo>
                            <a:pt x="2139" y="1374"/>
                          </a:lnTo>
                          <a:lnTo>
                            <a:pt x="2170" y="1424"/>
                          </a:lnTo>
                          <a:lnTo>
                            <a:pt x="2202" y="1475"/>
                          </a:lnTo>
                          <a:lnTo>
                            <a:pt x="2232" y="1526"/>
                          </a:lnTo>
                          <a:lnTo>
                            <a:pt x="2262" y="1578"/>
                          </a:lnTo>
                          <a:lnTo>
                            <a:pt x="2291" y="1632"/>
                          </a:lnTo>
                          <a:lnTo>
                            <a:pt x="2319" y="1686"/>
                          </a:lnTo>
                          <a:lnTo>
                            <a:pt x="2347" y="1742"/>
                          </a:lnTo>
                          <a:lnTo>
                            <a:pt x="2374" y="1797"/>
                          </a:lnTo>
                          <a:lnTo>
                            <a:pt x="2400" y="1854"/>
                          </a:lnTo>
                          <a:lnTo>
                            <a:pt x="2425" y="1911"/>
                          </a:lnTo>
                          <a:lnTo>
                            <a:pt x="2449" y="1970"/>
                          </a:lnTo>
                          <a:lnTo>
                            <a:pt x="2472" y="2030"/>
                          </a:lnTo>
                          <a:lnTo>
                            <a:pt x="2494" y="2091"/>
                          </a:lnTo>
                          <a:lnTo>
                            <a:pt x="2515" y="2153"/>
                          </a:lnTo>
                          <a:lnTo>
                            <a:pt x="2534" y="2214"/>
                          </a:lnTo>
                          <a:lnTo>
                            <a:pt x="2553" y="2279"/>
                          </a:lnTo>
                          <a:lnTo>
                            <a:pt x="2570" y="2343"/>
                          </a:lnTo>
                          <a:lnTo>
                            <a:pt x="2586" y="2409"/>
                          </a:lnTo>
                          <a:lnTo>
                            <a:pt x="2586" y="2422"/>
                          </a:lnTo>
                          <a:lnTo>
                            <a:pt x="2585" y="2436"/>
                          </a:lnTo>
                          <a:lnTo>
                            <a:pt x="2584" y="2449"/>
                          </a:lnTo>
                          <a:lnTo>
                            <a:pt x="2582" y="2461"/>
                          </a:lnTo>
                          <a:lnTo>
                            <a:pt x="2577" y="2487"/>
                          </a:lnTo>
                          <a:lnTo>
                            <a:pt x="2570" y="2509"/>
                          </a:lnTo>
                          <a:lnTo>
                            <a:pt x="2561" y="2532"/>
                          </a:lnTo>
                          <a:lnTo>
                            <a:pt x="2551" y="2553"/>
                          </a:lnTo>
                          <a:lnTo>
                            <a:pt x="2540" y="2572"/>
                          </a:lnTo>
                          <a:lnTo>
                            <a:pt x="2528" y="2590"/>
                          </a:lnTo>
                          <a:lnTo>
                            <a:pt x="2515" y="2608"/>
                          </a:lnTo>
                          <a:lnTo>
                            <a:pt x="2502" y="2626"/>
                          </a:lnTo>
                          <a:lnTo>
                            <a:pt x="2488" y="2643"/>
                          </a:lnTo>
                          <a:lnTo>
                            <a:pt x="2474" y="2658"/>
                          </a:lnTo>
                          <a:lnTo>
                            <a:pt x="2447" y="2688"/>
                          </a:lnTo>
                          <a:lnTo>
                            <a:pt x="2422" y="2715"/>
                          </a:lnTo>
                          <a:lnTo>
                            <a:pt x="2388" y="2632"/>
                          </a:lnTo>
                          <a:lnTo>
                            <a:pt x="2353" y="2551"/>
                          </a:lnTo>
                          <a:lnTo>
                            <a:pt x="2316" y="2473"/>
                          </a:lnTo>
                          <a:lnTo>
                            <a:pt x="2279" y="2397"/>
                          </a:lnTo>
                          <a:lnTo>
                            <a:pt x="2241" y="2323"/>
                          </a:lnTo>
                          <a:lnTo>
                            <a:pt x="2202" y="2250"/>
                          </a:lnTo>
                          <a:lnTo>
                            <a:pt x="2162" y="2180"/>
                          </a:lnTo>
                          <a:lnTo>
                            <a:pt x="2121" y="2111"/>
                          </a:lnTo>
                          <a:lnTo>
                            <a:pt x="2079" y="2043"/>
                          </a:lnTo>
                          <a:lnTo>
                            <a:pt x="2037" y="1979"/>
                          </a:lnTo>
                          <a:lnTo>
                            <a:pt x="1994" y="1914"/>
                          </a:lnTo>
                          <a:lnTo>
                            <a:pt x="1950" y="1851"/>
                          </a:lnTo>
                          <a:lnTo>
                            <a:pt x="1905" y="1791"/>
                          </a:lnTo>
                          <a:lnTo>
                            <a:pt x="1859" y="1731"/>
                          </a:lnTo>
                          <a:lnTo>
                            <a:pt x="1813" y="1673"/>
                          </a:lnTo>
                          <a:lnTo>
                            <a:pt x="1767" y="1616"/>
                          </a:lnTo>
                          <a:lnTo>
                            <a:pt x="1719" y="1560"/>
                          </a:lnTo>
                          <a:lnTo>
                            <a:pt x="1671" y="1505"/>
                          </a:lnTo>
                          <a:lnTo>
                            <a:pt x="1623" y="1451"/>
                          </a:lnTo>
                          <a:lnTo>
                            <a:pt x="1574" y="1398"/>
                          </a:lnTo>
                          <a:lnTo>
                            <a:pt x="1525" y="1346"/>
                          </a:lnTo>
                          <a:lnTo>
                            <a:pt x="1475" y="1295"/>
                          </a:lnTo>
                          <a:lnTo>
                            <a:pt x="1425" y="1244"/>
                          </a:lnTo>
                          <a:lnTo>
                            <a:pt x="1375" y="1193"/>
                          </a:lnTo>
                          <a:lnTo>
                            <a:pt x="1273" y="1096"/>
                          </a:lnTo>
                          <a:lnTo>
                            <a:pt x="1169" y="998"/>
                          </a:lnTo>
                          <a:lnTo>
                            <a:pt x="1065" y="904"/>
                          </a:lnTo>
                          <a:lnTo>
                            <a:pt x="961" y="808"/>
                          </a:lnTo>
                          <a:lnTo>
                            <a:pt x="904" y="769"/>
                          </a:lnTo>
                          <a:lnTo>
                            <a:pt x="848" y="730"/>
                          </a:lnTo>
                          <a:lnTo>
                            <a:pt x="791" y="691"/>
                          </a:lnTo>
                          <a:lnTo>
                            <a:pt x="734" y="652"/>
                          </a:lnTo>
                          <a:lnTo>
                            <a:pt x="677" y="613"/>
                          </a:lnTo>
                          <a:lnTo>
                            <a:pt x="620" y="577"/>
                          </a:lnTo>
                          <a:lnTo>
                            <a:pt x="562" y="541"/>
                          </a:lnTo>
                          <a:lnTo>
                            <a:pt x="503" y="508"/>
                          </a:lnTo>
                          <a:lnTo>
                            <a:pt x="474" y="491"/>
                          </a:lnTo>
                          <a:lnTo>
                            <a:pt x="444" y="476"/>
                          </a:lnTo>
                          <a:lnTo>
                            <a:pt x="414" y="463"/>
                          </a:lnTo>
                          <a:lnTo>
                            <a:pt x="384" y="449"/>
                          </a:lnTo>
                          <a:lnTo>
                            <a:pt x="354" y="437"/>
                          </a:lnTo>
                          <a:lnTo>
                            <a:pt x="323" y="425"/>
                          </a:lnTo>
                          <a:lnTo>
                            <a:pt x="292" y="415"/>
                          </a:lnTo>
                          <a:lnTo>
                            <a:pt x="261" y="406"/>
                          </a:lnTo>
                          <a:lnTo>
                            <a:pt x="230" y="397"/>
                          </a:lnTo>
                          <a:lnTo>
                            <a:pt x="198" y="389"/>
                          </a:lnTo>
                          <a:lnTo>
                            <a:pt x="166" y="383"/>
                          </a:lnTo>
                          <a:lnTo>
                            <a:pt x="134" y="379"/>
                          </a:lnTo>
                          <a:lnTo>
                            <a:pt x="101" y="376"/>
                          </a:lnTo>
                          <a:lnTo>
                            <a:pt x="68" y="374"/>
                          </a:lnTo>
                          <a:lnTo>
                            <a:pt x="34" y="374"/>
                          </a:lnTo>
                          <a:lnTo>
                            <a:pt x="0" y="376"/>
                          </a:lnTo>
                          <a:lnTo>
                            <a:pt x="1" y="346"/>
                          </a:lnTo>
                          <a:lnTo>
                            <a:pt x="3" y="316"/>
                          </a:lnTo>
                          <a:lnTo>
                            <a:pt x="7" y="289"/>
                          </a:lnTo>
                          <a:lnTo>
                            <a:pt x="11" y="262"/>
                          </a:lnTo>
                          <a:lnTo>
                            <a:pt x="17" y="237"/>
                          </a:lnTo>
                          <a:lnTo>
                            <a:pt x="25" y="213"/>
                          </a:lnTo>
                          <a:lnTo>
                            <a:pt x="33" y="189"/>
                          </a:lnTo>
                          <a:lnTo>
                            <a:pt x="42" y="166"/>
                          </a:lnTo>
                          <a:lnTo>
                            <a:pt x="52" y="144"/>
                          </a:lnTo>
                          <a:lnTo>
                            <a:pt x="63" y="123"/>
                          </a:lnTo>
                          <a:lnTo>
                            <a:pt x="75" y="102"/>
                          </a:lnTo>
                          <a:lnTo>
                            <a:pt x="88" y="81"/>
                          </a:lnTo>
                          <a:lnTo>
                            <a:pt x="115" y="40"/>
                          </a:lnTo>
                          <a:lnTo>
                            <a:pt x="145" y="0"/>
                          </a:lnTo>
                          <a:lnTo>
                            <a:pt x="197" y="6"/>
                          </a:lnTo>
                          <a:lnTo>
                            <a:pt x="248" y="12"/>
                          </a:lnTo>
                          <a:lnTo>
                            <a:pt x="299" y="21"/>
                          </a:lnTo>
                          <a:lnTo>
                            <a:pt x="350" y="30"/>
                          </a:lnTo>
                          <a:lnTo>
                            <a:pt x="400" y="39"/>
                          </a:lnTo>
                          <a:lnTo>
                            <a:pt x="450" y="51"/>
                          </a:lnTo>
                          <a:lnTo>
                            <a:pt x="499" y="63"/>
                          </a:lnTo>
                          <a:lnTo>
                            <a:pt x="548" y="75"/>
                          </a:lnTo>
                          <a:lnTo>
                            <a:pt x="597" y="88"/>
                          </a:lnTo>
                          <a:lnTo>
                            <a:pt x="646" y="105"/>
                          </a:lnTo>
                          <a:lnTo>
                            <a:pt x="694" y="120"/>
                          </a:lnTo>
                          <a:lnTo>
                            <a:pt x="742" y="138"/>
                          </a:lnTo>
                          <a:lnTo>
                            <a:pt x="789" y="156"/>
                          </a:lnTo>
                          <a:lnTo>
                            <a:pt x="836" y="175"/>
                          </a:lnTo>
                          <a:lnTo>
                            <a:pt x="884" y="196"/>
                          </a:lnTo>
                          <a:lnTo>
                            <a:pt x="930" y="219"/>
                          </a:lnTo>
                          <a:lnTo>
                            <a:pt x="977" y="241"/>
                          </a:lnTo>
                          <a:lnTo>
                            <a:pt x="1023" y="267"/>
                          </a:lnTo>
                          <a:lnTo>
                            <a:pt x="1070" y="292"/>
                          </a:lnTo>
                          <a:lnTo>
                            <a:pt x="1116" y="319"/>
                          </a:lnTo>
                          <a:lnTo>
                            <a:pt x="1162" y="347"/>
                          </a:lnTo>
                          <a:lnTo>
                            <a:pt x="1207" y="376"/>
                          </a:lnTo>
                          <a:lnTo>
                            <a:pt x="1254" y="407"/>
                          </a:lnTo>
                          <a:lnTo>
                            <a:pt x="1300" y="440"/>
                          </a:lnTo>
                          <a:lnTo>
                            <a:pt x="1345" y="473"/>
                          </a:lnTo>
                          <a:lnTo>
                            <a:pt x="1391" y="509"/>
                          </a:lnTo>
                          <a:lnTo>
                            <a:pt x="1436" y="545"/>
                          </a:lnTo>
                          <a:lnTo>
                            <a:pt x="1482" y="584"/>
                          </a:lnTo>
                          <a:lnTo>
                            <a:pt x="1527" y="623"/>
                          </a:lnTo>
                          <a:lnTo>
                            <a:pt x="1572" y="665"/>
                          </a:lnTo>
                          <a:lnTo>
                            <a:pt x="1618" y="707"/>
                          </a:lnTo>
                          <a:lnTo>
                            <a:pt x="1663" y="752"/>
                          </a:lnTo>
                          <a:close/>
                        </a:path>
                      </a:pathLst>
                    </a:custGeom>
                    <a:solidFill>
                      <a:srgbClr val="99cc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3" name=""/>
                    <p:cNvSpPr/>
                    <p:nvPr/>
                  </p:nvSpPr>
                  <p:spPr>
                    <a:xfrm>
                      <a:off x="1168200" y="2275560"/>
                      <a:ext cx="28080" cy="2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2" h="184">
                          <a:moveTo>
                            <a:pt x="172" y="45"/>
                          </a:moveTo>
                          <a:lnTo>
                            <a:pt x="162" y="55"/>
                          </a:lnTo>
                          <a:lnTo>
                            <a:pt x="153" y="67"/>
                          </a:lnTo>
                          <a:lnTo>
                            <a:pt x="144" y="81"/>
                          </a:lnTo>
                          <a:lnTo>
                            <a:pt x="136" y="96"/>
                          </a:lnTo>
                          <a:lnTo>
                            <a:pt x="121" y="124"/>
                          </a:lnTo>
                          <a:lnTo>
                            <a:pt x="107" y="151"/>
                          </a:lnTo>
                          <a:lnTo>
                            <a:pt x="99" y="161"/>
                          </a:lnTo>
                          <a:lnTo>
                            <a:pt x="91" y="172"/>
                          </a:lnTo>
                          <a:lnTo>
                            <a:pt x="86" y="175"/>
                          </a:lnTo>
                          <a:lnTo>
                            <a:pt x="82" y="178"/>
                          </a:lnTo>
                          <a:lnTo>
                            <a:pt x="77" y="181"/>
                          </a:lnTo>
                          <a:lnTo>
                            <a:pt x="72" y="182"/>
                          </a:lnTo>
                          <a:lnTo>
                            <a:pt x="66" y="184"/>
                          </a:lnTo>
                          <a:lnTo>
                            <a:pt x="61" y="184"/>
                          </a:lnTo>
                          <a:lnTo>
                            <a:pt x="55" y="184"/>
                          </a:lnTo>
                          <a:lnTo>
                            <a:pt x="49" y="182"/>
                          </a:lnTo>
                          <a:lnTo>
                            <a:pt x="42" y="179"/>
                          </a:lnTo>
                          <a:lnTo>
                            <a:pt x="35" y="176"/>
                          </a:lnTo>
                          <a:lnTo>
                            <a:pt x="27" y="172"/>
                          </a:lnTo>
                          <a:lnTo>
                            <a:pt x="19" y="166"/>
                          </a:lnTo>
                          <a:lnTo>
                            <a:pt x="13" y="157"/>
                          </a:lnTo>
                          <a:lnTo>
                            <a:pt x="8" y="146"/>
                          </a:lnTo>
                          <a:lnTo>
                            <a:pt x="4" y="137"/>
                          </a:lnTo>
                          <a:lnTo>
                            <a:pt x="1" y="127"/>
                          </a:lnTo>
                          <a:lnTo>
                            <a:pt x="0" y="117"/>
                          </a:lnTo>
                          <a:lnTo>
                            <a:pt x="0" y="105"/>
                          </a:lnTo>
                          <a:lnTo>
                            <a:pt x="1" y="94"/>
                          </a:lnTo>
                          <a:lnTo>
                            <a:pt x="2" y="84"/>
                          </a:lnTo>
                          <a:lnTo>
                            <a:pt x="7" y="61"/>
                          </a:lnTo>
                          <a:lnTo>
                            <a:pt x="14" y="40"/>
                          </a:lnTo>
                          <a:lnTo>
                            <a:pt x="21" y="21"/>
                          </a:lnTo>
                          <a:lnTo>
                            <a:pt x="28" y="1"/>
                          </a:lnTo>
                          <a:lnTo>
                            <a:pt x="37" y="4"/>
                          </a:lnTo>
                          <a:lnTo>
                            <a:pt x="46" y="6"/>
                          </a:lnTo>
                          <a:lnTo>
                            <a:pt x="56" y="6"/>
                          </a:lnTo>
                          <a:lnTo>
                            <a:pt x="66" y="4"/>
                          </a:lnTo>
                          <a:lnTo>
                            <a:pt x="86" y="3"/>
                          </a:lnTo>
                          <a:lnTo>
                            <a:pt x="107" y="0"/>
                          </a:lnTo>
                          <a:lnTo>
                            <a:pt x="117" y="0"/>
                          </a:lnTo>
                          <a:lnTo>
                            <a:pt x="126" y="1"/>
                          </a:lnTo>
                          <a:lnTo>
                            <a:pt x="135" y="4"/>
                          </a:lnTo>
                          <a:lnTo>
                            <a:pt x="144" y="7"/>
                          </a:lnTo>
                          <a:lnTo>
                            <a:pt x="152" y="13"/>
                          </a:lnTo>
                          <a:lnTo>
                            <a:pt x="160" y="21"/>
                          </a:lnTo>
                          <a:lnTo>
                            <a:pt x="166" y="31"/>
                          </a:lnTo>
                          <a:lnTo>
                            <a:pt x="172" y="45"/>
                          </a:lnTo>
                          <a:close/>
                        </a:path>
                      </a:pathLst>
                    </a:custGeom>
                    <a:solidFill>
                      <a:srgbClr val="99cc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4" name=""/>
                    <p:cNvSpPr/>
                    <p:nvPr/>
                  </p:nvSpPr>
                  <p:spPr>
                    <a:xfrm>
                      <a:off x="1174320" y="2282040"/>
                      <a:ext cx="828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76">
                          <a:moveTo>
                            <a:pt x="49" y="76"/>
                          </a:moveTo>
                          <a:lnTo>
                            <a:pt x="3" y="76"/>
                          </a:lnTo>
                          <a:lnTo>
                            <a:pt x="1" y="67"/>
                          </a:lnTo>
                          <a:lnTo>
                            <a:pt x="0" y="58"/>
                          </a:lnTo>
                          <a:lnTo>
                            <a:pt x="0" y="49"/>
                          </a:lnTo>
                          <a:lnTo>
                            <a:pt x="0" y="40"/>
                          </a:lnTo>
                          <a:lnTo>
                            <a:pt x="1" y="34"/>
                          </a:lnTo>
                          <a:lnTo>
                            <a:pt x="3" y="27"/>
                          </a:lnTo>
                          <a:lnTo>
                            <a:pt x="5" y="21"/>
                          </a:lnTo>
                          <a:lnTo>
                            <a:pt x="8" y="15"/>
                          </a:lnTo>
                          <a:lnTo>
                            <a:pt x="12" y="10"/>
                          </a:lnTo>
                          <a:lnTo>
                            <a:pt x="16" y="7"/>
                          </a:lnTo>
                          <a:lnTo>
                            <a:pt x="20" y="4"/>
                          </a:lnTo>
                          <a:lnTo>
                            <a:pt x="25" y="1"/>
                          </a:lnTo>
                          <a:lnTo>
                            <a:pt x="31" y="0"/>
                          </a:lnTo>
                          <a:lnTo>
                            <a:pt x="36" y="0"/>
                          </a:lnTo>
                          <a:lnTo>
                            <a:pt x="42" y="1"/>
                          </a:lnTo>
                          <a:lnTo>
                            <a:pt x="49" y="3"/>
                          </a:lnTo>
                          <a:lnTo>
                            <a:pt x="49" y="76"/>
                          </a:lnTo>
                          <a:close/>
                        </a:path>
                      </a:pathLst>
                    </a:custGeom>
                    <a:solidFill>
                      <a:srgbClr val="99cc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5" name=""/>
                    <p:cNvSpPr/>
                    <p:nvPr/>
                  </p:nvSpPr>
                  <p:spPr>
                    <a:xfrm>
                      <a:off x="1086840" y="2315880"/>
                      <a:ext cx="426240" cy="40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80" h="2717">
                          <a:moveTo>
                            <a:pt x="1562" y="801"/>
                          </a:moveTo>
                          <a:lnTo>
                            <a:pt x="1637" y="874"/>
                          </a:lnTo>
                          <a:lnTo>
                            <a:pt x="1712" y="951"/>
                          </a:lnTo>
                          <a:lnTo>
                            <a:pt x="1785" y="1029"/>
                          </a:lnTo>
                          <a:lnTo>
                            <a:pt x="1856" y="1110"/>
                          </a:lnTo>
                          <a:lnTo>
                            <a:pt x="1891" y="1150"/>
                          </a:lnTo>
                          <a:lnTo>
                            <a:pt x="1926" y="1191"/>
                          </a:lnTo>
                          <a:lnTo>
                            <a:pt x="1961" y="1233"/>
                          </a:lnTo>
                          <a:lnTo>
                            <a:pt x="1995" y="1276"/>
                          </a:lnTo>
                          <a:lnTo>
                            <a:pt x="2029" y="1320"/>
                          </a:lnTo>
                          <a:lnTo>
                            <a:pt x="2062" y="1363"/>
                          </a:lnTo>
                          <a:lnTo>
                            <a:pt x="2095" y="1408"/>
                          </a:lnTo>
                          <a:lnTo>
                            <a:pt x="2127" y="1453"/>
                          </a:lnTo>
                          <a:lnTo>
                            <a:pt x="2159" y="1500"/>
                          </a:lnTo>
                          <a:lnTo>
                            <a:pt x="2191" y="1546"/>
                          </a:lnTo>
                          <a:lnTo>
                            <a:pt x="2222" y="1594"/>
                          </a:lnTo>
                          <a:lnTo>
                            <a:pt x="2252" y="1642"/>
                          </a:lnTo>
                          <a:lnTo>
                            <a:pt x="2282" y="1692"/>
                          </a:lnTo>
                          <a:lnTo>
                            <a:pt x="2312" y="1741"/>
                          </a:lnTo>
                          <a:lnTo>
                            <a:pt x="2341" y="1794"/>
                          </a:lnTo>
                          <a:lnTo>
                            <a:pt x="2370" y="1845"/>
                          </a:lnTo>
                          <a:lnTo>
                            <a:pt x="2398" y="1898"/>
                          </a:lnTo>
                          <a:lnTo>
                            <a:pt x="2426" y="1952"/>
                          </a:lnTo>
                          <a:lnTo>
                            <a:pt x="2453" y="2006"/>
                          </a:lnTo>
                          <a:lnTo>
                            <a:pt x="2479" y="2063"/>
                          </a:lnTo>
                          <a:lnTo>
                            <a:pt x="2505" y="2120"/>
                          </a:lnTo>
                          <a:lnTo>
                            <a:pt x="2531" y="2177"/>
                          </a:lnTo>
                          <a:lnTo>
                            <a:pt x="2556" y="2237"/>
                          </a:lnTo>
                          <a:lnTo>
                            <a:pt x="2580" y="2297"/>
                          </a:lnTo>
                          <a:lnTo>
                            <a:pt x="2575" y="2326"/>
                          </a:lnTo>
                          <a:lnTo>
                            <a:pt x="2568" y="2354"/>
                          </a:lnTo>
                          <a:lnTo>
                            <a:pt x="2561" y="2383"/>
                          </a:lnTo>
                          <a:lnTo>
                            <a:pt x="2553" y="2410"/>
                          </a:lnTo>
                          <a:lnTo>
                            <a:pt x="2535" y="2462"/>
                          </a:lnTo>
                          <a:lnTo>
                            <a:pt x="2515" y="2515"/>
                          </a:lnTo>
                          <a:lnTo>
                            <a:pt x="2495" y="2566"/>
                          </a:lnTo>
                          <a:lnTo>
                            <a:pt x="2474" y="2617"/>
                          </a:lnTo>
                          <a:lnTo>
                            <a:pt x="2454" y="2666"/>
                          </a:lnTo>
                          <a:lnTo>
                            <a:pt x="2436" y="2717"/>
                          </a:lnTo>
                          <a:lnTo>
                            <a:pt x="2418" y="2672"/>
                          </a:lnTo>
                          <a:lnTo>
                            <a:pt x="2400" y="2629"/>
                          </a:lnTo>
                          <a:lnTo>
                            <a:pt x="2381" y="2585"/>
                          </a:lnTo>
                          <a:lnTo>
                            <a:pt x="2362" y="2543"/>
                          </a:lnTo>
                          <a:lnTo>
                            <a:pt x="2342" y="2503"/>
                          </a:lnTo>
                          <a:lnTo>
                            <a:pt x="2322" y="2461"/>
                          </a:lnTo>
                          <a:lnTo>
                            <a:pt x="2301" y="2422"/>
                          </a:lnTo>
                          <a:lnTo>
                            <a:pt x="2279" y="2381"/>
                          </a:lnTo>
                          <a:lnTo>
                            <a:pt x="2257" y="2344"/>
                          </a:lnTo>
                          <a:lnTo>
                            <a:pt x="2235" y="2305"/>
                          </a:lnTo>
                          <a:lnTo>
                            <a:pt x="2212" y="2267"/>
                          </a:lnTo>
                          <a:lnTo>
                            <a:pt x="2189" y="2230"/>
                          </a:lnTo>
                          <a:lnTo>
                            <a:pt x="2142" y="2158"/>
                          </a:lnTo>
                          <a:lnTo>
                            <a:pt x="2093" y="2086"/>
                          </a:lnTo>
                          <a:lnTo>
                            <a:pt x="2043" y="2015"/>
                          </a:lnTo>
                          <a:lnTo>
                            <a:pt x="1991" y="1946"/>
                          </a:lnTo>
                          <a:lnTo>
                            <a:pt x="1939" y="1877"/>
                          </a:lnTo>
                          <a:lnTo>
                            <a:pt x="1885" y="1810"/>
                          </a:lnTo>
                          <a:lnTo>
                            <a:pt x="1831" y="1741"/>
                          </a:lnTo>
                          <a:lnTo>
                            <a:pt x="1776" y="1674"/>
                          </a:lnTo>
                          <a:lnTo>
                            <a:pt x="1721" y="1605"/>
                          </a:lnTo>
                          <a:lnTo>
                            <a:pt x="1665" y="1536"/>
                          </a:lnTo>
                          <a:lnTo>
                            <a:pt x="1572" y="1437"/>
                          </a:lnTo>
                          <a:lnTo>
                            <a:pt x="1477" y="1338"/>
                          </a:lnTo>
                          <a:lnTo>
                            <a:pt x="1379" y="1240"/>
                          </a:lnTo>
                          <a:lnTo>
                            <a:pt x="1281" y="1146"/>
                          </a:lnTo>
                          <a:lnTo>
                            <a:pt x="1231" y="1099"/>
                          </a:lnTo>
                          <a:lnTo>
                            <a:pt x="1181" y="1053"/>
                          </a:lnTo>
                          <a:lnTo>
                            <a:pt x="1131" y="1008"/>
                          </a:lnTo>
                          <a:lnTo>
                            <a:pt x="1080" y="963"/>
                          </a:lnTo>
                          <a:lnTo>
                            <a:pt x="1029" y="921"/>
                          </a:lnTo>
                          <a:lnTo>
                            <a:pt x="977" y="879"/>
                          </a:lnTo>
                          <a:lnTo>
                            <a:pt x="925" y="839"/>
                          </a:lnTo>
                          <a:lnTo>
                            <a:pt x="873" y="798"/>
                          </a:lnTo>
                          <a:lnTo>
                            <a:pt x="821" y="761"/>
                          </a:lnTo>
                          <a:lnTo>
                            <a:pt x="768" y="725"/>
                          </a:lnTo>
                          <a:lnTo>
                            <a:pt x="715" y="689"/>
                          </a:lnTo>
                          <a:lnTo>
                            <a:pt x="661" y="656"/>
                          </a:lnTo>
                          <a:lnTo>
                            <a:pt x="608" y="624"/>
                          </a:lnTo>
                          <a:lnTo>
                            <a:pt x="554" y="596"/>
                          </a:lnTo>
                          <a:lnTo>
                            <a:pt x="499" y="567"/>
                          </a:lnTo>
                          <a:lnTo>
                            <a:pt x="445" y="542"/>
                          </a:lnTo>
                          <a:lnTo>
                            <a:pt x="390" y="519"/>
                          </a:lnTo>
                          <a:lnTo>
                            <a:pt x="335" y="498"/>
                          </a:lnTo>
                          <a:lnTo>
                            <a:pt x="280" y="479"/>
                          </a:lnTo>
                          <a:lnTo>
                            <a:pt x="224" y="462"/>
                          </a:lnTo>
                          <a:lnTo>
                            <a:pt x="168" y="449"/>
                          </a:lnTo>
                          <a:lnTo>
                            <a:pt x="112" y="438"/>
                          </a:lnTo>
                          <a:lnTo>
                            <a:pt x="56" y="429"/>
                          </a:lnTo>
                          <a:lnTo>
                            <a:pt x="0" y="425"/>
                          </a:lnTo>
                          <a:lnTo>
                            <a:pt x="23" y="381"/>
                          </a:lnTo>
                          <a:lnTo>
                            <a:pt x="46" y="335"/>
                          </a:lnTo>
                          <a:lnTo>
                            <a:pt x="70" y="288"/>
                          </a:lnTo>
                          <a:lnTo>
                            <a:pt x="94" y="240"/>
                          </a:lnTo>
                          <a:lnTo>
                            <a:pt x="117" y="191"/>
                          </a:lnTo>
                          <a:lnTo>
                            <a:pt x="140" y="140"/>
                          </a:lnTo>
                          <a:lnTo>
                            <a:pt x="161" y="90"/>
                          </a:lnTo>
                          <a:lnTo>
                            <a:pt x="182" y="39"/>
                          </a:lnTo>
                          <a:lnTo>
                            <a:pt x="199" y="30"/>
                          </a:lnTo>
                          <a:lnTo>
                            <a:pt x="216" y="23"/>
                          </a:lnTo>
                          <a:lnTo>
                            <a:pt x="234" y="17"/>
                          </a:lnTo>
                          <a:lnTo>
                            <a:pt x="251" y="12"/>
                          </a:lnTo>
                          <a:lnTo>
                            <a:pt x="269" y="8"/>
                          </a:lnTo>
                          <a:lnTo>
                            <a:pt x="286" y="5"/>
                          </a:lnTo>
                          <a:lnTo>
                            <a:pt x="304" y="2"/>
                          </a:lnTo>
                          <a:lnTo>
                            <a:pt x="322" y="0"/>
                          </a:lnTo>
                          <a:lnTo>
                            <a:pt x="339" y="0"/>
                          </a:lnTo>
                          <a:lnTo>
                            <a:pt x="357" y="0"/>
                          </a:lnTo>
                          <a:lnTo>
                            <a:pt x="374" y="0"/>
                          </a:lnTo>
                          <a:lnTo>
                            <a:pt x="392" y="2"/>
                          </a:lnTo>
                          <a:lnTo>
                            <a:pt x="427" y="8"/>
                          </a:lnTo>
                          <a:lnTo>
                            <a:pt x="462" y="15"/>
                          </a:lnTo>
                          <a:lnTo>
                            <a:pt x="497" y="26"/>
                          </a:lnTo>
                          <a:lnTo>
                            <a:pt x="531" y="38"/>
                          </a:lnTo>
                          <a:lnTo>
                            <a:pt x="566" y="51"/>
                          </a:lnTo>
                          <a:lnTo>
                            <a:pt x="599" y="66"/>
                          </a:lnTo>
                          <a:lnTo>
                            <a:pt x="633" y="83"/>
                          </a:lnTo>
                          <a:lnTo>
                            <a:pt x="666" y="99"/>
                          </a:lnTo>
                          <a:lnTo>
                            <a:pt x="698" y="117"/>
                          </a:lnTo>
                          <a:lnTo>
                            <a:pt x="730" y="134"/>
                          </a:lnTo>
                          <a:lnTo>
                            <a:pt x="760" y="152"/>
                          </a:lnTo>
                          <a:lnTo>
                            <a:pt x="791" y="171"/>
                          </a:lnTo>
                          <a:lnTo>
                            <a:pt x="824" y="192"/>
                          </a:lnTo>
                          <a:lnTo>
                            <a:pt x="857" y="213"/>
                          </a:lnTo>
                          <a:lnTo>
                            <a:pt x="924" y="261"/>
                          </a:lnTo>
                          <a:lnTo>
                            <a:pt x="993" y="314"/>
                          </a:lnTo>
                          <a:lnTo>
                            <a:pt x="1063" y="368"/>
                          </a:lnTo>
                          <a:lnTo>
                            <a:pt x="1132" y="423"/>
                          </a:lnTo>
                          <a:lnTo>
                            <a:pt x="1199" y="479"/>
                          </a:lnTo>
                          <a:lnTo>
                            <a:pt x="1264" y="534"/>
                          </a:lnTo>
                          <a:lnTo>
                            <a:pt x="1325" y="587"/>
                          </a:lnTo>
                          <a:lnTo>
                            <a:pt x="1381" y="636"/>
                          </a:lnTo>
                          <a:lnTo>
                            <a:pt x="1432" y="681"/>
                          </a:lnTo>
                          <a:lnTo>
                            <a:pt x="1476" y="722"/>
                          </a:lnTo>
                          <a:lnTo>
                            <a:pt x="1512" y="755"/>
                          </a:lnTo>
                          <a:lnTo>
                            <a:pt x="1539" y="779"/>
                          </a:lnTo>
                          <a:lnTo>
                            <a:pt x="1556" y="795"/>
                          </a:lnTo>
                          <a:lnTo>
                            <a:pt x="1562" y="801"/>
                          </a:lnTo>
                          <a:close/>
                        </a:path>
                      </a:pathLst>
                    </a:custGeom>
                    <a:solidFill>
                      <a:srgbClr val="99cc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6" name=""/>
                    <p:cNvSpPr/>
                    <p:nvPr/>
                  </p:nvSpPr>
                  <p:spPr>
                    <a:xfrm>
                      <a:off x="1138320" y="2334240"/>
                      <a:ext cx="2556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6" h="229">
                          <a:moveTo>
                            <a:pt x="152" y="12"/>
                          </a:moveTo>
                          <a:lnTo>
                            <a:pt x="155" y="31"/>
                          </a:lnTo>
                          <a:lnTo>
                            <a:pt x="156" y="51"/>
                          </a:lnTo>
                          <a:lnTo>
                            <a:pt x="156" y="70"/>
                          </a:lnTo>
                          <a:lnTo>
                            <a:pt x="155" y="88"/>
                          </a:lnTo>
                          <a:lnTo>
                            <a:pt x="153" y="106"/>
                          </a:lnTo>
                          <a:lnTo>
                            <a:pt x="150" y="123"/>
                          </a:lnTo>
                          <a:lnTo>
                            <a:pt x="146" y="139"/>
                          </a:lnTo>
                          <a:lnTo>
                            <a:pt x="141" y="154"/>
                          </a:lnTo>
                          <a:lnTo>
                            <a:pt x="135" y="169"/>
                          </a:lnTo>
                          <a:lnTo>
                            <a:pt x="129" y="181"/>
                          </a:lnTo>
                          <a:lnTo>
                            <a:pt x="121" y="193"/>
                          </a:lnTo>
                          <a:lnTo>
                            <a:pt x="113" y="204"/>
                          </a:lnTo>
                          <a:lnTo>
                            <a:pt x="105" y="213"/>
                          </a:lnTo>
                          <a:lnTo>
                            <a:pt x="96" y="220"/>
                          </a:lnTo>
                          <a:lnTo>
                            <a:pt x="87" y="225"/>
                          </a:lnTo>
                          <a:lnTo>
                            <a:pt x="77" y="229"/>
                          </a:lnTo>
                          <a:lnTo>
                            <a:pt x="69" y="228"/>
                          </a:lnTo>
                          <a:lnTo>
                            <a:pt x="62" y="226"/>
                          </a:lnTo>
                          <a:lnTo>
                            <a:pt x="54" y="223"/>
                          </a:lnTo>
                          <a:lnTo>
                            <a:pt x="47" y="220"/>
                          </a:lnTo>
                          <a:lnTo>
                            <a:pt x="40" y="216"/>
                          </a:lnTo>
                          <a:lnTo>
                            <a:pt x="34" y="210"/>
                          </a:lnTo>
                          <a:lnTo>
                            <a:pt x="28" y="204"/>
                          </a:lnTo>
                          <a:lnTo>
                            <a:pt x="22" y="196"/>
                          </a:lnTo>
                          <a:lnTo>
                            <a:pt x="17" y="189"/>
                          </a:lnTo>
                          <a:lnTo>
                            <a:pt x="13" y="180"/>
                          </a:lnTo>
                          <a:lnTo>
                            <a:pt x="9" y="171"/>
                          </a:lnTo>
                          <a:lnTo>
                            <a:pt x="6" y="162"/>
                          </a:lnTo>
                          <a:lnTo>
                            <a:pt x="3" y="151"/>
                          </a:lnTo>
                          <a:lnTo>
                            <a:pt x="1" y="139"/>
                          </a:lnTo>
                          <a:lnTo>
                            <a:pt x="0" y="129"/>
                          </a:lnTo>
                          <a:lnTo>
                            <a:pt x="0" y="117"/>
                          </a:lnTo>
                          <a:lnTo>
                            <a:pt x="0" y="106"/>
                          </a:lnTo>
                          <a:lnTo>
                            <a:pt x="1" y="96"/>
                          </a:lnTo>
                          <a:lnTo>
                            <a:pt x="2" y="85"/>
                          </a:lnTo>
                          <a:lnTo>
                            <a:pt x="4" y="76"/>
                          </a:lnTo>
                          <a:lnTo>
                            <a:pt x="6" y="69"/>
                          </a:lnTo>
                          <a:lnTo>
                            <a:pt x="9" y="61"/>
                          </a:lnTo>
                          <a:lnTo>
                            <a:pt x="12" y="54"/>
                          </a:lnTo>
                          <a:lnTo>
                            <a:pt x="16" y="46"/>
                          </a:lnTo>
                          <a:lnTo>
                            <a:pt x="24" y="34"/>
                          </a:lnTo>
                          <a:lnTo>
                            <a:pt x="33" y="24"/>
                          </a:lnTo>
                          <a:lnTo>
                            <a:pt x="44" y="16"/>
                          </a:lnTo>
                          <a:lnTo>
                            <a:pt x="55" y="9"/>
                          </a:lnTo>
                          <a:lnTo>
                            <a:pt x="67" y="4"/>
                          </a:lnTo>
                          <a:lnTo>
                            <a:pt x="80" y="1"/>
                          </a:lnTo>
                          <a:lnTo>
                            <a:pt x="93" y="0"/>
                          </a:lnTo>
                          <a:lnTo>
                            <a:pt x="105" y="0"/>
                          </a:lnTo>
                          <a:lnTo>
                            <a:pt x="118" y="1"/>
                          </a:lnTo>
                          <a:lnTo>
                            <a:pt x="130" y="3"/>
                          </a:lnTo>
                          <a:lnTo>
                            <a:pt x="142" y="7"/>
                          </a:lnTo>
                          <a:lnTo>
                            <a:pt x="152" y="12"/>
                          </a:lnTo>
                          <a:close/>
                        </a:path>
                      </a:pathLst>
                    </a:custGeom>
                    <a:solidFill>
                      <a:srgbClr val="99cc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7" name=""/>
                    <p:cNvSpPr/>
                    <p:nvPr/>
                  </p:nvSpPr>
                  <p:spPr>
                    <a:xfrm>
                      <a:off x="1143000" y="2341800"/>
                      <a:ext cx="15480" cy="1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27">
                          <a:moveTo>
                            <a:pt x="96" y="9"/>
                          </a:moveTo>
                          <a:lnTo>
                            <a:pt x="91" y="18"/>
                          </a:lnTo>
                          <a:lnTo>
                            <a:pt x="87" y="28"/>
                          </a:lnTo>
                          <a:lnTo>
                            <a:pt x="84" y="39"/>
                          </a:lnTo>
                          <a:lnTo>
                            <a:pt x="81" y="49"/>
                          </a:lnTo>
                          <a:lnTo>
                            <a:pt x="76" y="70"/>
                          </a:lnTo>
                          <a:lnTo>
                            <a:pt x="70" y="90"/>
                          </a:lnTo>
                          <a:lnTo>
                            <a:pt x="67" y="99"/>
                          </a:lnTo>
                          <a:lnTo>
                            <a:pt x="63" y="108"/>
                          </a:lnTo>
                          <a:lnTo>
                            <a:pt x="58" y="114"/>
                          </a:lnTo>
                          <a:lnTo>
                            <a:pt x="53" y="120"/>
                          </a:lnTo>
                          <a:lnTo>
                            <a:pt x="47" y="124"/>
                          </a:lnTo>
                          <a:lnTo>
                            <a:pt x="39" y="126"/>
                          </a:lnTo>
                          <a:lnTo>
                            <a:pt x="31" y="127"/>
                          </a:lnTo>
                          <a:lnTo>
                            <a:pt x="21" y="126"/>
                          </a:lnTo>
                          <a:lnTo>
                            <a:pt x="0" y="52"/>
                          </a:lnTo>
                          <a:lnTo>
                            <a:pt x="4" y="42"/>
                          </a:lnTo>
                          <a:lnTo>
                            <a:pt x="9" y="33"/>
                          </a:lnTo>
                          <a:lnTo>
                            <a:pt x="14" y="24"/>
                          </a:lnTo>
                          <a:lnTo>
                            <a:pt x="20" y="18"/>
                          </a:lnTo>
                          <a:lnTo>
                            <a:pt x="26" y="12"/>
                          </a:lnTo>
                          <a:lnTo>
                            <a:pt x="33" y="7"/>
                          </a:lnTo>
                          <a:lnTo>
                            <a:pt x="39" y="4"/>
                          </a:lnTo>
                          <a:lnTo>
                            <a:pt x="46" y="1"/>
                          </a:lnTo>
                          <a:lnTo>
                            <a:pt x="53" y="0"/>
                          </a:lnTo>
                          <a:lnTo>
                            <a:pt x="59" y="0"/>
                          </a:lnTo>
                          <a:lnTo>
                            <a:pt x="66" y="0"/>
                          </a:lnTo>
                          <a:lnTo>
                            <a:pt x="73" y="0"/>
                          </a:lnTo>
                          <a:lnTo>
                            <a:pt x="85" y="3"/>
                          </a:lnTo>
                          <a:lnTo>
                            <a:pt x="96" y="9"/>
                          </a:lnTo>
                          <a:close/>
                        </a:path>
                      </a:pathLst>
                    </a:custGeom>
                    <a:solidFill>
                      <a:srgbClr val="99cc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8" name=""/>
                    <p:cNvSpPr/>
                    <p:nvPr/>
                  </p:nvSpPr>
                  <p:spPr>
                    <a:xfrm>
                      <a:off x="1053720" y="2390040"/>
                      <a:ext cx="428760" cy="41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97" h="2811">
                          <a:moveTo>
                            <a:pt x="1963" y="1242"/>
                          </a:moveTo>
                          <a:lnTo>
                            <a:pt x="2008" y="1306"/>
                          </a:lnTo>
                          <a:lnTo>
                            <a:pt x="2054" y="1369"/>
                          </a:lnTo>
                          <a:lnTo>
                            <a:pt x="2101" y="1430"/>
                          </a:lnTo>
                          <a:lnTo>
                            <a:pt x="2147" y="1490"/>
                          </a:lnTo>
                          <a:lnTo>
                            <a:pt x="2192" y="1552"/>
                          </a:lnTo>
                          <a:lnTo>
                            <a:pt x="2237" y="1612"/>
                          </a:lnTo>
                          <a:lnTo>
                            <a:pt x="2281" y="1673"/>
                          </a:lnTo>
                          <a:lnTo>
                            <a:pt x="2324" y="1736"/>
                          </a:lnTo>
                          <a:lnTo>
                            <a:pt x="2345" y="1768"/>
                          </a:lnTo>
                          <a:lnTo>
                            <a:pt x="2366" y="1801"/>
                          </a:lnTo>
                          <a:lnTo>
                            <a:pt x="2386" y="1834"/>
                          </a:lnTo>
                          <a:lnTo>
                            <a:pt x="2406" y="1867"/>
                          </a:lnTo>
                          <a:lnTo>
                            <a:pt x="2425" y="1901"/>
                          </a:lnTo>
                          <a:lnTo>
                            <a:pt x="2444" y="1936"/>
                          </a:lnTo>
                          <a:lnTo>
                            <a:pt x="2462" y="1972"/>
                          </a:lnTo>
                          <a:lnTo>
                            <a:pt x="2480" y="2008"/>
                          </a:lnTo>
                          <a:lnTo>
                            <a:pt x="2497" y="2045"/>
                          </a:lnTo>
                          <a:lnTo>
                            <a:pt x="2514" y="2083"/>
                          </a:lnTo>
                          <a:lnTo>
                            <a:pt x="2529" y="2122"/>
                          </a:lnTo>
                          <a:lnTo>
                            <a:pt x="2544" y="2162"/>
                          </a:lnTo>
                          <a:lnTo>
                            <a:pt x="2559" y="2204"/>
                          </a:lnTo>
                          <a:lnTo>
                            <a:pt x="2572" y="2246"/>
                          </a:lnTo>
                          <a:lnTo>
                            <a:pt x="2585" y="2291"/>
                          </a:lnTo>
                          <a:lnTo>
                            <a:pt x="2597" y="2336"/>
                          </a:lnTo>
                          <a:lnTo>
                            <a:pt x="2571" y="2393"/>
                          </a:lnTo>
                          <a:lnTo>
                            <a:pt x="2544" y="2450"/>
                          </a:lnTo>
                          <a:lnTo>
                            <a:pt x="2518" y="2507"/>
                          </a:lnTo>
                          <a:lnTo>
                            <a:pt x="2493" y="2564"/>
                          </a:lnTo>
                          <a:lnTo>
                            <a:pt x="2469" y="2622"/>
                          </a:lnTo>
                          <a:lnTo>
                            <a:pt x="2446" y="2682"/>
                          </a:lnTo>
                          <a:lnTo>
                            <a:pt x="2435" y="2714"/>
                          </a:lnTo>
                          <a:lnTo>
                            <a:pt x="2424" y="2745"/>
                          </a:lnTo>
                          <a:lnTo>
                            <a:pt x="2414" y="2778"/>
                          </a:lnTo>
                          <a:lnTo>
                            <a:pt x="2404" y="2811"/>
                          </a:lnTo>
                          <a:lnTo>
                            <a:pt x="2391" y="2759"/>
                          </a:lnTo>
                          <a:lnTo>
                            <a:pt x="2376" y="2706"/>
                          </a:lnTo>
                          <a:lnTo>
                            <a:pt x="2360" y="2655"/>
                          </a:lnTo>
                          <a:lnTo>
                            <a:pt x="2342" y="2606"/>
                          </a:lnTo>
                          <a:lnTo>
                            <a:pt x="2323" y="2556"/>
                          </a:lnTo>
                          <a:lnTo>
                            <a:pt x="2303" y="2508"/>
                          </a:lnTo>
                          <a:lnTo>
                            <a:pt x="2282" y="2462"/>
                          </a:lnTo>
                          <a:lnTo>
                            <a:pt x="2259" y="2415"/>
                          </a:lnTo>
                          <a:lnTo>
                            <a:pt x="2236" y="2369"/>
                          </a:lnTo>
                          <a:lnTo>
                            <a:pt x="2211" y="2326"/>
                          </a:lnTo>
                          <a:lnTo>
                            <a:pt x="2186" y="2281"/>
                          </a:lnTo>
                          <a:lnTo>
                            <a:pt x="2160" y="2237"/>
                          </a:lnTo>
                          <a:lnTo>
                            <a:pt x="2133" y="2195"/>
                          </a:lnTo>
                          <a:lnTo>
                            <a:pt x="2105" y="2153"/>
                          </a:lnTo>
                          <a:lnTo>
                            <a:pt x="2077" y="2111"/>
                          </a:lnTo>
                          <a:lnTo>
                            <a:pt x="2049" y="2071"/>
                          </a:lnTo>
                          <a:lnTo>
                            <a:pt x="1991" y="1991"/>
                          </a:lnTo>
                          <a:lnTo>
                            <a:pt x="1931" y="1913"/>
                          </a:lnTo>
                          <a:lnTo>
                            <a:pt x="1872" y="1837"/>
                          </a:lnTo>
                          <a:lnTo>
                            <a:pt x="1812" y="1762"/>
                          </a:lnTo>
                          <a:lnTo>
                            <a:pt x="1753" y="1688"/>
                          </a:lnTo>
                          <a:lnTo>
                            <a:pt x="1696" y="1615"/>
                          </a:lnTo>
                          <a:lnTo>
                            <a:pt x="1640" y="1543"/>
                          </a:lnTo>
                          <a:lnTo>
                            <a:pt x="1587" y="1471"/>
                          </a:lnTo>
                          <a:lnTo>
                            <a:pt x="1507" y="1384"/>
                          </a:lnTo>
                          <a:lnTo>
                            <a:pt x="1427" y="1300"/>
                          </a:lnTo>
                          <a:lnTo>
                            <a:pt x="1345" y="1216"/>
                          </a:lnTo>
                          <a:lnTo>
                            <a:pt x="1262" y="1135"/>
                          </a:lnTo>
                          <a:lnTo>
                            <a:pt x="1220" y="1096"/>
                          </a:lnTo>
                          <a:lnTo>
                            <a:pt x="1177" y="1057"/>
                          </a:lnTo>
                          <a:lnTo>
                            <a:pt x="1135" y="1018"/>
                          </a:lnTo>
                          <a:lnTo>
                            <a:pt x="1092" y="981"/>
                          </a:lnTo>
                          <a:lnTo>
                            <a:pt x="1049" y="943"/>
                          </a:lnTo>
                          <a:lnTo>
                            <a:pt x="1005" y="907"/>
                          </a:lnTo>
                          <a:lnTo>
                            <a:pt x="961" y="871"/>
                          </a:lnTo>
                          <a:lnTo>
                            <a:pt x="917" y="837"/>
                          </a:lnTo>
                          <a:lnTo>
                            <a:pt x="873" y="802"/>
                          </a:lnTo>
                          <a:lnTo>
                            <a:pt x="828" y="769"/>
                          </a:lnTo>
                          <a:lnTo>
                            <a:pt x="783" y="736"/>
                          </a:lnTo>
                          <a:lnTo>
                            <a:pt x="738" y="705"/>
                          </a:lnTo>
                          <a:lnTo>
                            <a:pt x="692" y="673"/>
                          </a:lnTo>
                          <a:lnTo>
                            <a:pt x="646" y="645"/>
                          </a:lnTo>
                          <a:lnTo>
                            <a:pt x="600" y="615"/>
                          </a:lnTo>
                          <a:lnTo>
                            <a:pt x="554" y="588"/>
                          </a:lnTo>
                          <a:lnTo>
                            <a:pt x="508" y="561"/>
                          </a:lnTo>
                          <a:lnTo>
                            <a:pt x="461" y="535"/>
                          </a:lnTo>
                          <a:lnTo>
                            <a:pt x="414" y="511"/>
                          </a:lnTo>
                          <a:lnTo>
                            <a:pt x="367" y="487"/>
                          </a:lnTo>
                          <a:lnTo>
                            <a:pt x="319" y="465"/>
                          </a:lnTo>
                          <a:lnTo>
                            <a:pt x="272" y="444"/>
                          </a:lnTo>
                          <a:lnTo>
                            <a:pt x="224" y="424"/>
                          </a:lnTo>
                          <a:lnTo>
                            <a:pt x="176" y="406"/>
                          </a:lnTo>
                          <a:lnTo>
                            <a:pt x="0" y="376"/>
                          </a:lnTo>
                          <a:lnTo>
                            <a:pt x="15" y="347"/>
                          </a:lnTo>
                          <a:lnTo>
                            <a:pt x="29" y="317"/>
                          </a:lnTo>
                          <a:lnTo>
                            <a:pt x="42" y="285"/>
                          </a:lnTo>
                          <a:lnTo>
                            <a:pt x="54" y="254"/>
                          </a:lnTo>
                          <a:lnTo>
                            <a:pt x="77" y="192"/>
                          </a:lnTo>
                          <a:lnTo>
                            <a:pt x="102" y="132"/>
                          </a:lnTo>
                          <a:lnTo>
                            <a:pt x="115" y="105"/>
                          </a:lnTo>
                          <a:lnTo>
                            <a:pt x="129" y="81"/>
                          </a:lnTo>
                          <a:lnTo>
                            <a:pt x="137" y="69"/>
                          </a:lnTo>
                          <a:lnTo>
                            <a:pt x="145" y="59"/>
                          </a:lnTo>
                          <a:lnTo>
                            <a:pt x="154" y="48"/>
                          </a:lnTo>
                          <a:lnTo>
                            <a:pt x="163" y="39"/>
                          </a:lnTo>
                          <a:lnTo>
                            <a:pt x="173" y="30"/>
                          </a:lnTo>
                          <a:lnTo>
                            <a:pt x="183" y="23"/>
                          </a:lnTo>
                          <a:lnTo>
                            <a:pt x="194" y="17"/>
                          </a:lnTo>
                          <a:lnTo>
                            <a:pt x="206" y="11"/>
                          </a:lnTo>
                          <a:lnTo>
                            <a:pt x="218" y="6"/>
                          </a:lnTo>
                          <a:lnTo>
                            <a:pt x="231" y="3"/>
                          </a:lnTo>
                          <a:lnTo>
                            <a:pt x="245" y="0"/>
                          </a:lnTo>
                          <a:lnTo>
                            <a:pt x="260" y="0"/>
                          </a:lnTo>
                          <a:lnTo>
                            <a:pt x="320" y="9"/>
                          </a:lnTo>
                          <a:lnTo>
                            <a:pt x="380" y="21"/>
                          </a:lnTo>
                          <a:lnTo>
                            <a:pt x="440" y="36"/>
                          </a:lnTo>
                          <a:lnTo>
                            <a:pt x="499" y="53"/>
                          </a:lnTo>
                          <a:lnTo>
                            <a:pt x="558" y="74"/>
                          </a:lnTo>
                          <a:lnTo>
                            <a:pt x="616" y="96"/>
                          </a:lnTo>
                          <a:lnTo>
                            <a:pt x="674" y="122"/>
                          </a:lnTo>
                          <a:lnTo>
                            <a:pt x="731" y="149"/>
                          </a:lnTo>
                          <a:lnTo>
                            <a:pt x="787" y="177"/>
                          </a:lnTo>
                          <a:lnTo>
                            <a:pt x="844" y="209"/>
                          </a:lnTo>
                          <a:lnTo>
                            <a:pt x="899" y="243"/>
                          </a:lnTo>
                          <a:lnTo>
                            <a:pt x="955" y="278"/>
                          </a:lnTo>
                          <a:lnTo>
                            <a:pt x="1010" y="315"/>
                          </a:lnTo>
                          <a:lnTo>
                            <a:pt x="1064" y="354"/>
                          </a:lnTo>
                          <a:lnTo>
                            <a:pt x="1118" y="394"/>
                          </a:lnTo>
                          <a:lnTo>
                            <a:pt x="1171" y="436"/>
                          </a:lnTo>
                          <a:lnTo>
                            <a:pt x="1224" y="481"/>
                          </a:lnTo>
                          <a:lnTo>
                            <a:pt x="1277" y="525"/>
                          </a:lnTo>
                          <a:lnTo>
                            <a:pt x="1328" y="571"/>
                          </a:lnTo>
                          <a:lnTo>
                            <a:pt x="1380" y="619"/>
                          </a:lnTo>
                          <a:lnTo>
                            <a:pt x="1431" y="667"/>
                          </a:lnTo>
                          <a:lnTo>
                            <a:pt x="1482" y="717"/>
                          </a:lnTo>
                          <a:lnTo>
                            <a:pt x="1532" y="766"/>
                          </a:lnTo>
                          <a:lnTo>
                            <a:pt x="1581" y="817"/>
                          </a:lnTo>
                          <a:lnTo>
                            <a:pt x="1630" y="870"/>
                          </a:lnTo>
                          <a:lnTo>
                            <a:pt x="1680" y="922"/>
                          </a:lnTo>
                          <a:lnTo>
                            <a:pt x="1728" y="975"/>
                          </a:lnTo>
                          <a:lnTo>
                            <a:pt x="1776" y="1027"/>
                          </a:lnTo>
                          <a:lnTo>
                            <a:pt x="1870" y="1134"/>
                          </a:lnTo>
                          <a:lnTo>
                            <a:pt x="1963" y="1242"/>
                          </a:lnTo>
                          <a:close/>
                        </a:path>
                      </a:pathLst>
                    </a:custGeom>
                    <a:solidFill>
                      <a:srgbClr val="99cc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9" name=""/>
                    <p:cNvSpPr/>
                    <p:nvPr/>
                  </p:nvSpPr>
                  <p:spPr>
                    <a:xfrm>
                      <a:off x="1096560" y="2400120"/>
                      <a:ext cx="3348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5" h="328">
                          <a:moveTo>
                            <a:pt x="205" y="4"/>
                          </a:moveTo>
                          <a:lnTo>
                            <a:pt x="197" y="25"/>
                          </a:lnTo>
                          <a:lnTo>
                            <a:pt x="188" y="51"/>
                          </a:lnTo>
                          <a:lnTo>
                            <a:pt x="180" y="76"/>
                          </a:lnTo>
                          <a:lnTo>
                            <a:pt x="173" y="105"/>
                          </a:lnTo>
                          <a:lnTo>
                            <a:pt x="165" y="133"/>
                          </a:lnTo>
                          <a:lnTo>
                            <a:pt x="157" y="162"/>
                          </a:lnTo>
                          <a:lnTo>
                            <a:pt x="148" y="190"/>
                          </a:lnTo>
                          <a:lnTo>
                            <a:pt x="139" y="217"/>
                          </a:lnTo>
                          <a:lnTo>
                            <a:pt x="129" y="243"/>
                          </a:lnTo>
                          <a:lnTo>
                            <a:pt x="117" y="267"/>
                          </a:lnTo>
                          <a:lnTo>
                            <a:pt x="111" y="277"/>
                          </a:lnTo>
                          <a:lnTo>
                            <a:pt x="105" y="288"/>
                          </a:lnTo>
                          <a:lnTo>
                            <a:pt x="98" y="296"/>
                          </a:lnTo>
                          <a:lnTo>
                            <a:pt x="90" y="304"/>
                          </a:lnTo>
                          <a:lnTo>
                            <a:pt x="82" y="311"/>
                          </a:lnTo>
                          <a:lnTo>
                            <a:pt x="74" y="316"/>
                          </a:lnTo>
                          <a:lnTo>
                            <a:pt x="65" y="322"/>
                          </a:lnTo>
                          <a:lnTo>
                            <a:pt x="56" y="325"/>
                          </a:lnTo>
                          <a:lnTo>
                            <a:pt x="46" y="326"/>
                          </a:lnTo>
                          <a:lnTo>
                            <a:pt x="35" y="328"/>
                          </a:lnTo>
                          <a:lnTo>
                            <a:pt x="24" y="326"/>
                          </a:lnTo>
                          <a:lnTo>
                            <a:pt x="12" y="323"/>
                          </a:lnTo>
                          <a:lnTo>
                            <a:pt x="7" y="313"/>
                          </a:lnTo>
                          <a:lnTo>
                            <a:pt x="4" y="299"/>
                          </a:lnTo>
                          <a:lnTo>
                            <a:pt x="1" y="288"/>
                          </a:lnTo>
                          <a:lnTo>
                            <a:pt x="0" y="273"/>
                          </a:lnTo>
                          <a:lnTo>
                            <a:pt x="0" y="259"/>
                          </a:lnTo>
                          <a:lnTo>
                            <a:pt x="0" y="246"/>
                          </a:lnTo>
                          <a:lnTo>
                            <a:pt x="2" y="231"/>
                          </a:lnTo>
                          <a:lnTo>
                            <a:pt x="4" y="216"/>
                          </a:lnTo>
                          <a:lnTo>
                            <a:pt x="7" y="202"/>
                          </a:lnTo>
                          <a:lnTo>
                            <a:pt x="10" y="187"/>
                          </a:lnTo>
                          <a:lnTo>
                            <a:pt x="14" y="172"/>
                          </a:lnTo>
                          <a:lnTo>
                            <a:pt x="19" y="159"/>
                          </a:lnTo>
                          <a:lnTo>
                            <a:pt x="29" y="132"/>
                          </a:lnTo>
                          <a:lnTo>
                            <a:pt x="41" y="108"/>
                          </a:lnTo>
                          <a:lnTo>
                            <a:pt x="58" y="85"/>
                          </a:lnTo>
                          <a:lnTo>
                            <a:pt x="76" y="63"/>
                          </a:lnTo>
                          <a:lnTo>
                            <a:pt x="86" y="52"/>
                          </a:lnTo>
                          <a:lnTo>
                            <a:pt x="96" y="43"/>
                          </a:lnTo>
                          <a:lnTo>
                            <a:pt x="106" y="34"/>
                          </a:lnTo>
                          <a:lnTo>
                            <a:pt x="117" y="25"/>
                          </a:lnTo>
                          <a:lnTo>
                            <a:pt x="127" y="18"/>
                          </a:lnTo>
                          <a:lnTo>
                            <a:pt x="138" y="12"/>
                          </a:lnTo>
                          <a:lnTo>
                            <a:pt x="149" y="6"/>
                          </a:lnTo>
                          <a:lnTo>
                            <a:pt x="160" y="3"/>
                          </a:lnTo>
                          <a:lnTo>
                            <a:pt x="171" y="0"/>
                          </a:lnTo>
                          <a:lnTo>
                            <a:pt x="183" y="0"/>
                          </a:lnTo>
                          <a:lnTo>
                            <a:pt x="194" y="1"/>
                          </a:lnTo>
                          <a:lnTo>
                            <a:pt x="205" y="4"/>
                          </a:lnTo>
                          <a:close/>
                        </a:path>
                      </a:pathLst>
                    </a:custGeom>
                    <a:solidFill>
                      <a:srgbClr val="99cc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0" name=""/>
                    <p:cNvSpPr/>
                    <p:nvPr/>
                  </p:nvSpPr>
                  <p:spPr>
                    <a:xfrm>
                      <a:off x="1103040" y="2411640"/>
                      <a:ext cx="1584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" h="190">
                          <a:moveTo>
                            <a:pt x="95" y="0"/>
                          </a:moveTo>
                          <a:lnTo>
                            <a:pt x="78" y="60"/>
                          </a:lnTo>
                          <a:lnTo>
                            <a:pt x="59" y="120"/>
                          </a:lnTo>
                          <a:lnTo>
                            <a:pt x="54" y="133"/>
                          </a:lnTo>
                          <a:lnTo>
                            <a:pt x="48" y="145"/>
                          </a:lnTo>
                          <a:lnTo>
                            <a:pt x="42" y="157"/>
                          </a:lnTo>
                          <a:lnTo>
                            <a:pt x="35" y="166"/>
                          </a:lnTo>
                          <a:lnTo>
                            <a:pt x="27" y="175"/>
                          </a:lnTo>
                          <a:lnTo>
                            <a:pt x="19" y="183"/>
                          </a:lnTo>
                          <a:lnTo>
                            <a:pt x="10" y="187"/>
                          </a:lnTo>
                          <a:lnTo>
                            <a:pt x="0" y="190"/>
                          </a:lnTo>
                          <a:lnTo>
                            <a:pt x="5" y="160"/>
                          </a:lnTo>
                          <a:lnTo>
                            <a:pt x="11" y="129"/>
                          </a:lnTo>
                          <a:lnTo>
                            <a:pt x="14" y="112"/>
                          </a:lnTo>
                          <a:lnTo>
                            <a:pt x="18" y="97"/>
                          </a:lnTo>
                          <a:lnTo>
                            <a:pt x="23" y="82"/>
                          </a:lnTo>
                          <a:lnTo>
                            <a:pt x="28" y="67"/>
                          </a:lnTo>
                          <a:lnTo>
                            <a:pt x="34" y="54"/>
                          </a:lnTo>
                          <a:lnTo>
                            <a:pt x="40" y="42"/>
                          </a:lnTo>
                          <a:lnTo>
                            <a:pt x="47" y="30"/>
                          </a:lnTo>
                          <a:lnTo>
                            <a:pt x="55" y="21"/>
                          </a:lnTo>
                          <a:lnTo>
                            <a:pt x="64" y="12"/>
                          </a:lnTo>
                          <a:lnTo>
                            <a:pt x="73" y="6"/>
                          </a:lnTo>
                          <a:lnTo>
                            <a:pt x="84" y="1"/>
                          </a:lnTo>
                          <a:lnTo>
                            <a:pt x="95" y="0"/>
                          </a:lnTo>
                          <a:close/>
                        </a:path>
                      </a:pathLst>
                    </a:custGeom>
                    <a:solidFill>
                      <a:srgbClr val="99cc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1" name=""/>
                    <p:cNvSpPr/>
                    <p:nvPr/>
                  </p:nvSpPr>
                  <p:spPr>
                    <a:xfrm>
                      <a:off x="1012680" y="2457000"/>
                      <a:ext cx="431640" cy="43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15" h="2910">
                          <a:moveTo>
                            <a:pt x="1393" y="648"/>
                          </a:moveTo>
                          <a:lnTo>
                            <a:pt x="1478" y="729"/>
                          </a:lnTo>
                          <a:lnTo>
                            <a:pt x="1564" y="814"/>
                          </a:lnTo>
                          <a:lnTo>
                            <a:pt x="1651" y="903"/>
                          </a:lnTo>
                          <a:lnTo>
                            <a:pt x="1739" y="994"/>
                          </a:lnTo>
                          <a:lnTo>
                            <a:pt x="1783" y="1042"/>
                          </a:lnTo>
                          <a:lnTo>
                            <a:pt x="1827" y="1091"/>
                          </a:lnTo>
                          <a:lnTo>
                            <a:pt x="1871" y="1141"/>
                          </a:lnTo>
                          <a:lnTo>
                            <a:pt x="1915" y="1192"/>
                          </a:lnTo>
                          <a:lnTo>
                            <a:pt x="1959" y="1243"/>
                          </a:lnTo>
                          <a:lnTo>
                            <a:pt x="2001" y="1295"/>
                          </a:lnTo>
                          <a:lnTo>
                            <a:pt x="2044" y="1349"/>
                          </a:lnTo>
                          <a:lnTo>
                            <a:pt x="2086" y="1403"/>
                          </a:lnTo>
                          <a:lnTo>
                            <a:pt x="2127" y="1459"/>
                          </a:lnTo>
                          <a:lnTo>
                            <a:pt x="2167" y="1516"/>
                          </a:lnTo>
                          <a:lnTo>
                            <a:pt x="2207" y="1573"/>
                          </a:lnTo>
                          <a:lnTo>
                            <a:pt x="2245" y="1631"/>
                          </a:lnTo>
                          <a:lnTo>
                            <a:pt x="2283" y="1691"/>
                          </a:lnTo>
                          <a:lnTo>
                            <a:pt x="2320" y="1751"/>
                          </a:lnTo>
                          <a:lnTo>
                            <a:pt x="2356" y="1813"/>
                          </a:lnTo>
                          <a:lnTo>
                            <a:pt x="2390" y="1876"/>
                          </a:lnTo>
                          <a:lnTo>
                            <a:pt x="2423" y="1938"/>
                          </a:lnTo>
                          <a:lnTo>
                            <a:pt x="2455" y="2003"/>
                          </a:lnTo>
                          <a:lnTo>
                            <a:pt x="2486" y="2067"/>
                          </a:lnTo>
                          <a:lnTo>
                            <a:pt x="2515" y="2135"/>
                          </a:lnTo>
                          <a:lnTo>
                            <a:pt x="2542" y="2201"/>
                          </a:lnTo>
                          <a:lnTo>
                            <a:pt x="2568" y="2270"/>
                          </a:lnTo>
                          <a:lnTo>
                            <a:pt x="2592" y="2339"/>
                          </a:lnTo>
                          <a:lnTo>
                            <a:pt x="2615" y="2409"/>
                          </a:lnTo>
                          <a:lnTo>
                            <a:pt x="2611" y="2444"/>
                          </a:lnTo>
                          <a:lnTo>
                            <a:pt x="2606" y="2478"/>
                          </a:lnTo>
                          <a:lnTo>
                            <a:pt x="2599" y="2513"/>
                          </a:lnTo>
                          <a:lnTo>
                            <a:pt x="2591" y="2546"/>
                          </a:lnTo>
                          <a:lnTo>
                            <a:pt x="2582" y="2579"/>
                          </a:lnTo>
                          <a:lnTo>
                            <a:pt x="2572" y="2610"/>
                          </a:lnTo>
                          <a:lnTo>
                            <a:pt x="2562" y="2642"/>
                          </a:lnTo>
                          <a:lnTo>
                            <a:pt x="2550" y="2673"/>
                          </a:lnTo>
                          <a:lnTo>
                            <a:pt x="2526" y="2733"/>
                          </a:lnTo>
                          <a:lnTo>
                            <a:pt x="2501" y="2793"/>
                          </a:lnTo>
                          <a:lnTo>
                            <a:pt x="2476" y="2852"/>
                          </a:lnTo>
                          <a:lnTo>
                            <a:pt x="2453" y="2910"/>
                          </a:lnTo>
                          <a:lnTo>
                            <a:pt x="2424" y="2793"/>
                          </a:lnTo>
                          <a:lnTo>
                            <a:pt x="2392" y="2681"/>
                          </a:lnTo>
                          <a:lnTo>
                            <a:pt x="2357" y="2571"/>
                          </a:lnTo>
                          <a:lnTo>
                            <a:pt x="2318" y="2466"/>
                          </a:lnTo>
                          <a:lnTo>
                            <a:pt x="2276" y="2364"/>
                          </a:lnTo>
                          <a:lnTo>
                            <a:pt x="2231" y="2267"/>
                          </a:lnTo>
                          <a:lnTo>
                            <a:pt x="2183" y="2171"/>
                          </a:lnTo>
                          <a:lnTo>
                            <a:pt x="2132" y="2079"/>
                          </a:lnTo>
                          <a:lnTo>
                            <a:pt x="2079" y="1991"/>
                          </a:lnTo>
                          <a:lnTo>
                            <a:pt x="2024" y="1905"/>
                          </a:lnTo>
                          <a:lnTo>
                            <a:pt x="1966" y="1823"/>
                          </a:lnTo>
                          <a:lnTo>
                            <a:pt x="1906" y="1744"/>
                          </a:lnTo>
                          <a:lnTo>
                            <a:pt x="1844" y="1667"/>
                          </a:lnTo>
                          <a:lnTo>
                            <a:pt x="1780" y="1594"/>
                          </a:lnTo>
                          <a:lnTo>
                            <a:pt x="1715" y="1522"/>
                          </a:lnTo>
                          <a:lnTo>
                            <a:pt x="1649" y="1453"/>
                          </a:lnTo>
                          <a:lnTo>
                            <a:pt x="1581" y="1385"/>
                          </a:lnTo>
                          <a:lnTo>
                            <a:pt x="1512" y="1321"/>
                          </a:lnTo>
                          <a:lnTo>
                            <a:pt x="1442" y="1258"/>
                          </a:lnTo>
                          <a:lnTo>
                            <a:pt x="1371" y="1198"/>
                          </a:lnTo>
                          <a:lnTo>
                            <a:pt x="1299" y="1139"/>
                          </a:lnTo>
                          <a:lnTo>
                            <a:pt x="1227" y="1082"/>
                          </a:lnTo>
                          <a:lnTo>
                            <a:pt x="1154" y="1027"/>
                          </a:lnTo>
                          <a:lnTo>
                            <a:pt x="1082" y="973"/>
                          </a:lnTo>
                          <a:lnTo>
                            <a:pt x="1009" y="920"/>
                          </a:lnTo>
                          <a:lnTo>
                            <a:pt x="936" y="870"/>
                          </a:lnTo>
                          <a:lnTo>
                            <a:pt x="863" y="820"/>
                          </a:lnTo>
                          <a:lnTo>
                            <a:pt x="791" y="772"/>
                          </a:lnTo>
                          <a:lnTo>
                            <a:pt x="647" y="679"/>
                          </a:lnTo>
                          <a:lnTo>
                            <a:pt x="508" y="588"/>
                          </a:lnTo>
                          <a:lnTo>
                            <a:pt x="494" y="577"/>
                          </a:lnTo>
                          <a:lnTo>
                            <a:pt x="479" y="567"/>
                          </a:lnTo>
                          <a:lnTo>
                            <a:pt x="465" y="558"/>
                          </a:lnTo>
                          <a:lnTo>
                            <a:pt x="450" y="550"/>
                          </a:lnTo>
                          <a:lnTo>
                            <a:pt x="435" y="544"/>
                          </a:lnTo>
                          <a:lnTo>
                            <a:pt x="420" y="537"/>
                          </a:lnTo>
                          <a:lnTo>
                            <a:pt x="404" y="532"/>
                          </a:lnTo>
                          <a:lnTo>
                            <a:pt x="388" y="526"/>
                          </a:lnTo>
                          <a:lnTo>
                            <a:pt x="356" y="519"/>
                          </a:lnTo>
                          <a:lnTo>
                            <a:pt x="324" y="513"/>
                          </a:lnTo>
                          <a:lnTo>
                            <a:pt x="291" y="508"/>
                          </a:lnTo>
                          <a:lnTo>
                            <a:pt x="258" y="505"/>
                          </a:lnTo>
                          <a:lnTo>
                            <a:pt x="191" y="501"/>
                          </a:lnTo>
                          <a:lnTo>
                            <a:pt x="125" y="495"/>
                          </a:lnTo>
                          <a:lnTo>
                            <a:pt x="93" y="489"/>
                          </a:lnTo>
                          <a:lnTo>
                            <a:pt x="61" y="483"/>
                          </a:lnTo>
                          <a:lnTo>
                            <a:pt x="30" y="474"/>
                          </a:lnTo>
                          <a:lnTo>
                            <a:pt x="0" y="462"/>
                          </a:lnTo>
                          <a:lnTo>
                            <a:pt x="17" y="433"/>
                          </a:lnTo>
                          <a:lnTo>
                            <a:pt x="33" y="403"/>
                          </a:lnTo>
                          <a:lnTo>
                            <a:pt x="47" y="372"/>
                          </a:lnTo>
                          <a:lnTo>
                            <a:pt x="61" y="342"/>
                          </a:lnTo>
                          <a:lnTo>
                            <a:pt x="86" y="279"/>
                          </a:lnTo>
                          <a:lnTo>
                            <a:pt x="111" y="217"/>
                          </a:lnTo>
                          <a:lnTo>
                            <a:pt x="123" y="187"/>
                          </a:lnTo>
                          <a:lnTo>
                            <a:pt x="136" y="159"/>
                          </a:lnTo>
                          <a:lnTo>
                            <a:pt x="149" y="129"/>
                          </a:lnTo>
                          <a:lnTo>
                            <a:pt x="163" y="100"/>
                          </a:lnTo>
                          <a:lnTo>
                            <a:pt x="178" y="73"/>
                          </a:lnTo>
                          <a:lnTo>
                            <a:pt x="194" y="48"/>
                          </a:lnTo>
                          <a:lnTo>
                            <a:pt x="211" y="22"/>
                          </a:lnTo>
                          <a:lnTo>
                            <a:pt x="231" y="0"/>
                          </a:lnTo>
                          <a:lnTo>
                            <a:pt x="271" y="6"/>
                          </a:lnTo>
                          <a:lnTo>
                            <a:pt x="311" y="15"/>
                          </a:lnTo>
                          <a:lnTo>
                            <a:pt x="350" y="24"/>
                          </a:lnTo>
                          <a:lnTo>
                            <a:pt x="390" y="34"/>
                          </a:lnTo>
                          <a:lnTo>
                            <a:pt x="428" y="45"/>
                          </a:lnTo>
                          <a:lnTo>
                            <a:pt x="467" y="58"/>
                          </a:lnTo>
                          <a:lnTo>
                            <a:pt x="505" y="70"/>
                          </a:lnTo>
                          <a:lnTo>
                            <a:pt x="543" y="85"/>
                          </a:lnTo>
                          <a:lnTo>
                            <a:pt x="580" y="100"/>
                          </a:lnTo>
                          <a:lnTo>
                            <a:pt x="618" y="117"/>
                          </a:lnTo>
                          <a:lnTo>
                            <a:pt x="655" y="133"/>
                          </a:lnTo>
                          <a:lnTo>
                            <a:pt x="691" y="151"/>
                          </a:lnTo>
                          <a:lnTo>
                            <a:pt x="728" y="169"/>
                          </a:lnTo>
                          <a:lnTo>
                            <a:pt x="764" y="189"/>
                          </a:lnTo>
                          <a:lnTo>
                            <a:pt x="800" y="208"/>
                          </a:lnTo>
                          <a:lnTo>
                            <a:pt x="836" y="229"/>
                          </a:lnTo>
                          <a:lnTo>
                            <a:pt x="907" y="274"/>
                          </a:lnTo>
                          <a:lnTo>
                            <a:pt x="977" y="321"/>
                          </a:lnTo>
                          <a:lnTo>
                            <a:pt x="1047" y="370"/>
                          </a:lnTo>
                          <a:lnTo>
                            <a:pt x="1117" y="421"/>
                          </a:lnTo>
                          <a:lnTo>
                            <a:pt x="1186" y="475"/>
                          </a:lnTo>
                          <a:lnTo>
                            <a:pt x="1255" y="532"/>
                          </a:lnTo>
                          <a:lnTo>
                            <a:pt x="1324" y="589"/>
                          </a:lnTo>
                          <a:lnTo>
                            <a:pt x="1393" y="648"/>
                          </a:lnTo>
                          <a:close/>
                        </a:path>
                      </a:pathLst>
                    </a:custGeom>
                    <a:solidFill>
                      <a:srgbClr val="99cc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2" name=""/>
                    <p:cNvSpPr/>
                    <p:nvPr/>
                  </p:nvSpPr>
                  <p:spPr>
                    <a:xfrm>
                      <a:off x="1063080" y="2475360"/>
                      <a:ext cx="241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321">
                          <a:moveTo>
                            <a:pt x="144" y="0"/>
                          </a:moveTo>
                          <a:lnTo>
                            <a:pt x="146" y="27"/>
                          </a:lnTo>
                          <a:lnTo>
                            <a:pt x="146" y="51"/>
                          </a:lnTo>
                          <a:lnTo>
                            <a:pt x="144" y="77"/>
                          </a:lnTo>
                          <a:lnTo>
                            <a:pt x="142" y="101"/>
                          </a:lnTo>
                          <a:lnTo>
                            <a:pt x="137" y="125"/>
                          </a:lnTo>
                          <a:lnTo>
                            <a:pt x="132" y="147"/>
                          </a:lnTo>
                          <a:lnTo>
                            <a:pt x="125" y="170"/>
                          </a:lnTo>
                          <a:lnTo>
                            <a:pt x="117" y="191"/>
                          </a:lnTo>
                          <a:lnTo>
                            <a:pt x="109" y="210"/>
                          </a:lnTo>
                          <a:lnTo>
                            <a:pt x="99" y="230"/>
                          </a:lnTo>
                          <a:lnTo>
                            <a:pt x="89" y="248"/>
                          </a:lnTo>
                          <a:lnTo>
                            <a:pt x="78" y="264"/>
                          </a:lnTo>
                          <a:lnTo>
                            <a:pt x="66" y="281"/>
                          </a:lnTo>
                          <a:lnTo>
                            <a:pt x="54" y="296"/>
                          </a:lnTo>
                          <a:lnTo>
                            <a:pt x="41" y="309"/>
                          </a:lnTo>
                          <a:lnTo>
                            <a:pt x="28" y="321"/>
                          </a:lnTo>
                          <a:lnTo>
                            <a:pt x="8" y="321"/>
                          </a:lnTo>
                          <a:lnTo>
                            <a:pt x="4" y="287"/>
                          </a:lnTo>
                          <a:lnTo>
                            <a:pt x="1" y="251"/>
                          </a:lnTo>
                          <a:lnTo>
                            <a:pt x="0" y="233"/>
                          </a:lnTo>
                          <a:lnTo>
                            <a:pt x="0" y="215"/>
                          </a:lnTo>
                          <a:lnTo>
                            <a:pt x="0" y="197"/>
                          </a:lnTo>
                          <a:lnTo>
                            <a:pt x="1" y="179"/>
                          </a:lnTo>
                          <a:lnTo>
                            <a:pt x="4" y="161"/>
                          </a:lnTo>
                          <a:lnTo>
                            <a:pt x="7" y="144"/>
                          </a:lnTo>
                          <a:lnTo>
                            <a:pt x="12" y="128"/>
                          </a:lnTo>
                          <a:lnTo>
                            <a:pt x="18" y="111"/>
                          </a:lnTo>
                          <a:lnTo>
                            <a:pt x="25" y="98"/>
                          </a:lnTo>
                          <a:lnTo>
                            <a:pt x="34" y="84"/>
                          </a:lnTo>
                          <a:lnTo>
                            <a:pt x="45" y="72"/>
                          </a:lnTo>
                          <a:lnTo>
                            <a:pt x="57" y="62"/>
                          </a:lnTo>
                          <a:lnTo>
                            <a:pt x="63" y="60"/>
                          </a:lnTo>
                          <a:lnTo>
                            <a:pt x="69" y="59"/>
                          </a:lnTo>
                          <a:lnTo>
                            <a:pt x="74" y="56"/>
                          </a:lnTo>
                          <a:lnTo>
                            <a:pt x="79" y="51"/>
                          </a:lnTo>
                          <a:lnTo>
                            <a:pt x="88" y="42"/>
                          </a:lnTo>
                          <a:lnTo>
                            <a:pt x="97" y="32"/>
                          </a:lnTo>
                          <a:lnTo>
                            <a:pt x="107" y="20"/>
                          </a:lnTo>
                          <a:lnTo>
                            <a:pt x="117" y="11"/>
                          </a:lnTo>
                          <a:lnTo>
                            <a:pt x="123" y="6"/>
                          </a:lnTo>
                          <a:lnTo>
                            <a:pt x="129" y="3"/>
                          </a:lnTo>
                          <a:lnTo>
                            <a:pt x="136" y="2"/>
                          </a:lnTo>
                          <a:lnTo>
                            <a:pt x="144" y="0"/>
                          </a:lnTo>
                          <a:close/>
                        </a:path>
                      </a:pathLst>
                    </a:custGeom>
                    <a:solidFill>
                      <a:srgbClr val="99cc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3" name=""/>
                    <p:cNvSpPr/>
                    <p:nvPr/>
                  </p:nvSpPr>
                  <p:spPr>
                    <a:xfrm>
                      <a:off x="1069560" y="2489400"/>
                      <a:ext cx="111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156">
                          <a:moveTo>
                            <a:pt x="69" y="0"/>
                          </a:moveTo>
                          <a:lnTo>
                            <a:pt x="66" y="22"/>
                          </a:lnTo>
                          <a:lnTo>
                            <a:pt x="61" y="45"/>
                          </a:lnTo>
                          <a:lnTo>
                            <a:pt x="56" y="67"/>
                          </a:lnTo>
                          <a:lnTo>
                            <a:pt x="49" y="87"/>
                          </a:lnTo>
                          <a:lnTo>
                            <a:pt x="42" y="108"/>
                          </a:lnTo>
                          <a:lnTo>
                            <a:pt x="33" y="126"/>
                          </a:lnTo>
                          <a:lnTo>
                            <a:pt x="23" y="141"/>
                          </a:lnTo>
                          <a:lnTo>
                            <a:pt x="12" y="156"/>
                          </a:lnTo>
                          <a:lnTo>
                            <a:pt x="6" y="144"/>
                          </a:lnTo>
                          <a:lnTo>
                            <a:pt x="2" y="130"/>
                          </a:lnTo>
                          <a:lnTo>
                            <a:pt x="1" y="118"/>
                          </a:lnTo>
                          <a:lnTo>
                            <a:pt x="0" y="106"/>
                          </a:lnTo>
                          <a:lnTo>
                            <a:pt x="2" y="93"/>
                          </a:lnTo>
                          <a:lnTo>
                            <a:pt x="4" y="81"/>
                          </a:lnTo>
                          <a:lnTo>
                            <a:pt x="8" y="69"/>
                          </a:lnTo>
                          <a:lnTo>
                            <a:pt x="12" y="58"/>
                          </a:lnTo>
                          <a:lnTo>
                            <a:pt x="18" y="48"/>
                          </a:lnTo>
                          <a:lnTo>
                            <a:pt x="24" y="37"/>
                          </a:lnTo>
                          <a:lnTo>
                            <a:pt x="31" y="28"/>
                          </a:lnTo>
                          <a:lnTo>
                            <a:pt x="38" y="21"/>
                          </a:lnTo>
                          <a:lnTo>
                            <a:pt x="46" y="13"/>
                          </a:lnTo>
                          <a:lnTo>
                            <a:pt x="54" y="7"/>
                          </a:lnTo>
                          <a:lnTo>
                            <a:pt x="62" y="3"/>
                          </a:lnTo>
                          <a:lnTo>
                            <a:pt x="69" y="0"/>
                          </a:lnTo>
                          <a:close/>
                        </a:path>
                      </a:pathLst>
                    </a:custGeom>
                    <a:solidFill>
                      <a:srgbClr val="99cc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4" name=""/>
                    <p:cNvSpPr/>
                    <p:nvPr/>
                  </p:nvSpPr>
                  <p:spPr>
                    <a:xfrm>
                      <a:off x="980640" y="2536200"/>
                      <a:ext cx="43380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27" h="2793">
                          <a:moveTo>
                            <a:pt x="788" y="186"/>
                          </a:moveTo>
                          <a:lnTo>
                            <a:pt x="934" y="282"/>
                          </a:lnTo>
                          <a:lnTo>
                            <a:pt x="1081" y="382"/>
                          </a:lnTo>
                          <a:lnTo>
                            <a:pt x="1154" y="433"/>
                          </a:lnTo>
                          <a:lnTo>
                            <a:pt x="1228" y="486"/>
                          </a:lnTo>
                          <a:lnTo>
                            <a:pt x="1302" y="540"/>
                          </a:lnTo>
                          <a:lnTo>
                            <a:pt x="1375" y="594"/>
                          </a:lnTo>
                          <a:lnTo>
                            <a:pt x="1447" y="651"/>
                          </a:lnTo>
                          <a:lnTo>
                            <a:pt x="1519" y="708"/>
                          </a:lnTo>
                          <a:lnTo>
                            <a:pt x="1590" y="768"/>
                          </a:lnTo>
                          <a:lnTo>
                            <a:pt x="1660" y="829"/>
                          </a:lnTo>
                          <a:lnTo>
                            <a:pt x="1729" y="892"/>
                          </a:lnTo>
                          <a:lnTo>
                            <a:pt x="1797" y="958"/>
                          </a:lnTo>
                          <a:lnTo>
                            <a:pt x="1863" y="1026"/>
                          </a:lnTo>
                          <a:lnTo>
                            <a:pt x="1928" y="1095"/>
                          </a:lnTo>
                          <a:lnTo>
                            <a:pt x="1991" y="1167"/>
                          </a:lnTo>
                          <a:lnTo>
                            <a:pt x="2052" y="1242"/>
                          </a:lnTo>
                          <a:lnTo>
                            <a:pt x="2112" y="1320"/>
                          </a:lnTo>
                          <a:lnTo>
                            <a:pt x="2169" y="1399"/>
                          </a:lnTo>
                          <a:lnTo>
                            <a:pt x="2223" y="1483"/>
                          </a:lnTo>
                          <a:lnTo>
                            <a:pt x="2275" y="1568"/>
                          </a:lnTo>
                          <a:lnTo>
                            <a:pt x="2325" y="1657"/>
                          </a:lnTo>
                          <a:lnTo>
                            <a:pt x="2371" y="1750"/>
                          </a:lnTo>
                          <a:lnTo>
                            <a:pt x="2415" y="1846"/>
                          </a:lnTo>
                          <a:lnTo>
                            <a:pt x="2456" y="1945"/>
                          </a:lnTo>
                          <a:lnTo>
                            <a:pt x="2493" y="2048"/>
                          </a:lnTo>
                          <a:lnTo>
                            <a:pt x="2527" y="2155"/>
                          </a:lnTo>
                          <a:lnTo>
                            <a:pt x="2558" y="2266"/>
                          </a:lnTo>
                          <a:lnTo>
                            <a:pt x="2585" y="2379"/>
                          </a:lnTo>
                          <a:lnTo>
                            <a:pt x="2608" y="2498"/>
                          </a:lnTo>
                          <a:lnTo>
                            <a:pt x="2627" y="2621"/>
                          </a:lnTo>
                          <a:lnTo>
                            <a:pt x="2615" y="2651"/>
                          </a:lnTo>
                          <a:lnTo>
                            <a:pt x="2603" y="2681"/>
                          </a:lnTo>
                          <a:lnTo>
                            <a:pt x="2589" y="2708"/>
                          </a:lnTo>
                          <a:lnTo>
                            <a:pt x="2575" y="2733"/>
                          </a:lnTo>
                          <a:lnTo>
                            <a:pt x="2567" y="2744"/>
                          </a:lnTo>
                          <a:lnTo>
                            <a:pt x="2559" y="2754"/>
                          </a:lnTo>
                          <a:lnTo>
                            <a:pt x="2550" y="2765"/>
                          </a:lnTo>
                          <a:lnTo>
                            <a:pt x="2541" y="2772"/>
                          </a:lnTo>
                          <a:lnTo>
                            <a:pt x="2532" y="2780"/>
                          </a:lnTo>
                          <a:lnTo>
                            <a:pt x="2523" y="2786"/>
                          </a:lnTo>
                          <a:lnTo>
                            <a:pt x="2513" y="2790"/>
                          </a:lnTo>
                          <a:lnTo>
                            <a:pt x="2503" y="2793"/>
                          </a:lnTo>
                          <a:lnTo>
                            <a:pt x="2471" y="2697"/>
                          </a:lnTo>
                          <a:lnTo>
                            <a:pt x="2437" y="2601"/>
                          </a:lnTo>
                          <a:lnTo>
                            <a:pt x="2401" y="2507"/>
                          </a:lnTo>
                          <a:lnTo>
                            <a:pt x="2364" y="2414"/>
                          </a:lnTo>
                          <a:lnTo>
                            <a:pt x="2324" y="2323"/>
                          </a:lnTo>
                          <a:lnTo>
                            <a:pt x="2282" y="2233"/>
                          </a:lnTo>
                          <a:lnTo>
                            <a:pt x="2238" y="2146"/>
                          </a:lnTo>
                          <a:lnTo>
                            <a:pt x="2193" y="2059"/>
                          </a:lnTo>
                          <a:lnTo>
                            <a:pt x="2146" y="1975"/>
                          </a:lnTo>
                          <a:lnTo>
                            <a:pt x="2097" y="1892"/>
                          </a:lnTo>
                          <a:lnTo>
                            <a:pt x="2046" y="1811"/>
                          </a:lnTo>
                          <a:lnTo>
                            <a:pt x="1994" y="1732"/>
                          </a:lnTo>
                          <a:lnTo>
                            <a:pt x="1940" y="1655"/>
                          </a:lnTo>
                          <a:lnTo>
                            <a:pt x="1886" y="1580"/>
                          </a:lnTo>
                          <a:lnTo>
                            <a:pt x="1829" y="1508"/>
                          </a:lnTo>
                          <a:lnTo>
                            <a:pt x="1772" y="1436"/>
                          </a:lnTo>
                          <a:lnTo>
                            <a:pt x="1713" y="1369"/>
                          </a:lnTo>
                          <a:lnTo>
                            <a:pt x="1653" y="1303"/>
                          </a:lnTo>
                          <a:lnTo>
                            <a:pt x="1592" y="1239"/>
                          </a:lnTo>
                          <a:lnTo>
                            <a:pt x="1530" y="1177"/>
                          </a:lnTo>
                          <a:lnTo>
                            <a:pt x="1467" y="1119"/>
                          </a:lnTo>
                          <a:lnTo>
                            <a:pt x="1403" y="1063"/>
                          </a:lnTo>
                          <a:lnTo>
                            <a:pt x="1338" y="1009"/>
                          </a:lnTo>
                          <a:lnTo>
                            <a:pt x="1272" y="957"/>
                          </a:lnTo>
                          <a:lnTo>
                            <a:pt x="1205" y="909"/>
                          </a:lnTo>
                          <a:lnTo>
                            <a:pt x="1138" y="864"/>
                          </a:lnTo>
                          <a:lnTo>
                            <a:pt x="1070" y="820"/>
                          </a:lnTo>
                          <a:lnTo>
                            <a:pt x="1001" y="780"/>
                          </a:lnTo>
                          <a:lnTo>
                            <a:pt x="932" y="742"/>
                          </a:lnTo>
                          <a:lnTo>
                            <a:pt x="862" y="708"/>
                          </a:lnTo>
                          <a:lnTo>
                            <a:pt x="792" y="676"/>
                          </a:lnTo>
                          <a:lnTo>
                            <a:pt x="722" y="648"/>
                          </a:lnTo>
                          <a:lnTo>
                            <a:pt x="659" y="622"/>
                          </a:lnTo>
                          <a:lnTo>
                            <a:pt x="597" y="594"/>
                          </a:lnTo>
                          <a:lnTo>
                            <a:pt x="535" y="565"/>
                          </a:lnTo>
                          <a:lnTo>
                            <a:pt x="472" y="537"/>
                          </a:lnTo>
                          <a:lnTo>
                            <a:pt x="440" y="523"/>
                          </a:lnTo>
                          <a:lnTo>
                            <a:pt x="408" y="511"/>
                          </a:lnTo>
                          <a:lnTo>
                            <a:pt x="376" y="499"/>
                          </a:lnTo>
                          <a:lnTo>
                            <a:pt x="344" y="487"/>
                          </a:lnTo>
                          <a:lnTo>
                            <a:pt x="311" y="478"/>
                          </a:lnTo>
                          <a:lnTo>
                            <a:pt x="278" y="469"/>
                          </a:lnTo>
                          <a:lnTo>
                            <a:pt x="245" y="463"/>
                          </a:lnTo>
                          <a:lnTo>
                            <a:pt x="211" y="457"/>
                          </a:lnTo>
                          <a:lnTo>
                            <a:pt x="186" y="447"/>
                          </a:lnTo>
                          <a:lnTo>
                            <a:pt x="160" y="436"/>
                          </a:lnTo>
                          <a:lnTo>
                            <a:pt x="134" y="424"/>
                          </a:lnTo>
                          <a:lnTo>
                            <a:pt x="108" y="415"/>
                          </a:lnTo>
                          <a:lnTo>
                            <a:pt x="95" y="411"/>
                          </a:lnTo>
                          <a:lnTo>
                            <a:pt x="81" y="408"/>
                          </a:lnTo>
                          <a:lnTo>
                            <a:pt x="68" y="406"/>
                          </a:lnTo>
                          <a:lnTo>
                            <a:pt x="54" y="405"/>
                          </a:lnTo>
                          <a:lnTo>
                            <a:pt x="41" y="405"/>
                          </a:lnTo>
                          <a:lnTo>
                            <a:pt x="27" y="406"/>
                          </a:lnTo>
                          <a:lnTo>
                            <a:pt x="14" y="409"/>
                          </a:lnTo>
                          <a:lnTo>
                            <a:pt x="0" y="415"/>
                          </a:lnTo>
                          <a:lnTo>
                            <a:pt x="5" y="362"/>
                          </a:lnTo>
                          <a:lnTo>
                            <a:pt x="12" y="303"/>
                          </a:lnTo>
                          <a:lnTo>
                            <a:pt x="17" y="273"/>
                          </a:lnTo>
                          <a:lnTo>
                            <a:pt x="23" y="242"/>
                          </a:lnTo>
                          <a:lnTo>
                            <a:pt x="29" y="210"/>
                          </a:lnTo>
                          <a:lnTo>
                            <a:pt x="37" y="180"/>
                          </a:lnTo>
                          <a:lnTo>
                            <a:pt x="47" y="150"/>
                          </a:lnTo>
                          <a:lnTo>
                            <a:pt x="58" y="122"/>
                          </a:lnTo>
                          <a:lnTo>
                            <a:pt x="64" y="108"/>
                          </a:lnTo>
                          <a:lnTo>
                            <a:pt x="70" y="95"/>
                          </a:lnTo>
                          <a:lnTo>
                            <a:pt x="77" y="83"/>
                          </a:lnTo>
                          <a:lnTo>
                            <a:pt x="85" y="71"/>
                          </a:lnTo>
                          <a:lnTo>
                            <a:pt x="93" y="59"/>
                          </a:lnTo>
                          <a:lnTo>
                            <a:pt x="101" y="48"/>
                          </a:lnTo>
                          <a:lnTo>
                            <a:pt x="111" y="38"/>
                          </a:lnTo>
                          <a:lnTo>
                            <a:pt x="120" y="29"/>
                          </a:lnTo>
                          <a:lnTo>
                            <a:pt x="130" y="20"/>
                          </a:lnTo>
                          <a:lnTo>
                            <a:pt x="141" y="12"/>
                          </a:lnTo>
                          <a:lnTo>
                            <a:pt x="153" y="5"/>
                          </a:lnTo>
                          <a:lnTo>
                            <a:pt x="165" y="0"/>
                          </a:lnTo>
                          <a:lnTo>
                            <a:pt x="210" y="3"/>
                          </a:lnTo>
                          <a:lnTo>
                            <a:pt x="260" y="11"/>
                          </a:lnTo>
                          <a:lnTo>
                            <a:pt x="313" y="18"/>
                          </a:lnTo>
                          <a:lnTo>
                            <a:pt x="368" y="29"/>
                          </a:lnTo>
                          <a:lnTo>
                            <a:pt x="424" y="41"/>
                          </a:lnTo>
                          <a:lnTo>
                            <a:pt x="480" y="54"/>
                          </a:lnTo>
                          <a:lnTo>
                            <a:pt x="535" y="69"/>
                          </a:lnTo>
                          <a:lnTo>
                            <a:pt x="586" y="86"/>
                          </a:lnTo>
                          <a:lnTo>
                            <a:pt x="788" y="186"/>
                          </a:lnTo>
                          <a:close/>
                        </a:path>
                      </a:pathLst>
                    </a:custGeom>
                    <a:solidFill>
                      <a:srgbClr val="99cc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5" name=""/>
                    <p:cNvSpPr/>
                    <p:nvPr/>
                  </p:nvSpPr>
                  <p:spPr>
                    <a:xfrm>
                      <a:off x="1027800" y="2559240"/>
                      <a:ext cx="20880" cy="3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220">
                          <a:moveTo>
                            <a:pt x="128" y="64"/>
                          </a:moveTo>
                          <a:lnTo>
                            <a:pt x="129" y="78"/>
                          </a:lnTo>
                          <a:lnTo>
                            <a:pt x="129" y="91"/>
                          </a:lnTo>
                          <a:lnTo>
                            <a:pt x="128" y="103"/>
                          </a:lnTo>
                          <a:lnTo>
                            <a:pt x="127" y="115"/>
                          </a:lnTo>
                          <a:lnTo>
                            <a:pt x="124" y="127"/>
                          </a:lnTo>
                          <a:lnTo>
                            <a:pt x="121" y="139"/>
                          </a:lnTo>
                          <a:lnTo>
                            <a:pt x="116" y="150"/>
                          </a:lnTo>
                          <a:lnTo>
                            <a:pt x="112" y="160"/>
                          </a:lnTo>
                          <a:lnTo>
                            <a:pt x="106" y="169"/>
                          </a:lnTo>
                          <a:lnTo>
                            <a:pt x="101" y="178"/>
                          </a:lnTo>
                          <a:lnTo>
                            <a:pt x="94" y="187"/>
                          </a:lnTo>
                          <a:lnTo>
                            <a:pt x="88" y="195"/>
                          </a:lnTo>
                          <a:lnTo>
                            <a:pt x="74" y="208"/>
                          </a:lnTo>
                          <a:lnTo>
                            <a:pt x="59" y="220"/>
                          </a:lnTo>
                          <a:lnTo>
                            <a:pt x="4" y="211"/>
                          </a:lnTo>
                          <a:lnTo>
                            <a:pt x="1" y="196"/>
                          </a:lnTo>
                          <a:lnTo>
                            <a:pt x="0" y="181"/>
                          </a:lnTo>
                          <a:lnTo>
                            <a:pt x="0" y="165"/>
                          </a:lnTo>
                          <a:lnTo>
                            <a:pt x="1" y="150"/>
                          </a:lnTo>
                          <a:lnTo>
                            <a:pt x="3" y="133"/>
                          </a:lnTo>
                          <a:lnTo>
                            <a:pt x="6" y="118"/>
                          </a:lnTo>
                          <a:lnTo>
                            <a:pt x="10" y="103"/>
                          </a:lnTo>
                          <a:lnTo>
                            <a:pt x="14" y="88"/>
                          </a:lnTo>
                          <a:lnTo>
                            <a:pt x="20" y="73"/>
                          </a:lnTo>
                          <a:lnTo>
                            <a:pt x="27" y="60"/>
                          </a:lnTo>
                          <a:lnTo>
                            <a:pt x="34" y="48"/>
                          </a:lnTo>
                          <a:lnTo>
                            <a:pt x="42" y="36"/>
                          </a:lnTo>
                          <a:lnTo>
                            <a:pt x="50" y="25"/>
                          </a:lnTo>
                          <a:lnTo>
                            <a:pt x="59" y="16"/>
                          </a:lnTo>
                          <a:lnTo>
                            <a:pt x="69" y="9"/>
                          </a:lnTo>
                          <a:lnTo>
                            <a:pt x="79" y="3"/>
                          </a:lnTo>
                          <a:lnTo>
                            <a:pt x="86" y="1"/>
                          </a:lnTo>
                          <a:lnTo>
                            <a:pt x="91" y="0"/>
                          </a:lnTo>
                          <a:lnTo>
                            <a:pt x="97" y="0"/>
                          </a:lnTo>
                          <a:lnTo>
                            <a:pt x="101" y="1"/>
                          </a:lnTo>
                          <a:lnTo>
                            <a:pt x="105" y="4"/>
                          </a:lnTo>
                          <a:lnTo>
                            <a:pt x="109" y="7"/>
                          </a:lnTo>
                          <a:lnTo>
                            <a:pt x="112" y="12"/>
                          </a:lnTo>
                          <a:lnTo>
                            <a:pt x="114" y="16"/>
                          </a:lnTo>
                          <a:lnTo>
                            <a:pt x="122" y="39"/>
                          </a:lnTo>
                          <a:lnTo>
                            <a:pt x="128" y="64"/>
                          </a:lnTo>
                          <a:close/>
                        </a:path>
                      </a:pathLst>
                    </a:custGeom>
                    <a:solidFill>
                      <a:srgbClr val="99cc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6" name=""/>
                    <p:cNvSpPr/>
                    <p:nvPr/>
                  </p:nvSpPr>
                  <p:spPr>
                    <a:xfrm>
                      <a:off x="1031760" y="2570760"/>
                      <a:ext cx="1080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93">
                          <a:moveTo>
                            <a:pt x="67" y="0"/>
                          </a:moveTo>
                          <a:lnTo>
                            <a:pt x="55" y="36"/>
                          </a:lnTo>
                          <a:lnTo>
                            <a:pt x="46" y="70"/>
                          </a:lnTo>
                          <a:lnTo>
                            <a:pt x="43" y="76"/>
                          </a:lnTo>
                          <a:lnTo>
                            <a:pt x="40" y="82"/>
                          </a:lnTo>
                          <a:lnTo>
                            <a:pt x="36" y="88"/>
                          </a:lnTo>
                          <a:lnTo>
                            <a:pt x="31" y="91"/>
                          </a:lnTo>
                          <a:lnTo>
                            <a:pt x="25" y="93"/>
                          </a:lnTo>
                          <a:lnTo>
                            <a:pt x="18" y="93"/>
                          </a:lnTo>
                          <a:lnTo>
                            <a:pt x="10" y="90"/>
                          </a:lnTo>
                          <a:lnTo>
                            <a:pt x="0" y="85"/>
                          </a:lnTo>
                          <a:lnTo>
                            <a:pt x="5" y="73"/>
                          </a:lnTo>
                          <a:lnTo>
                            <a:pt x="10" y="60"/>
                          </a:lnTo>
                          <a:lnTo>
                            <a:pt x="16" y="45"/>
                          </a:lnTo>
                          <a:lnTo>
                            <a:pt x="24" y="31"/>
                          </a:lnTo>
                          <a:lnTo>
                            <a:pt x="28" y="24"/>
                          </a:lnTo>
                          <a:lnTo>
                            <a:pt x="32" y="18"/>
                          </a:lnTo>
                          <a:lnTo>
                            <a:pt x="37" y="13"/>
                          </a:lnTo>
                          <a:lnTo>
                            <a:pt x="42" y="9"/>
                          </a:lnTo>
                          <a:lnTo>
                            <a:pt x="47" y="4"/>
                          </a:lnTo>
                          <a:lnTo>
                            <a:pt x="53" y="1"/>
                          </a:lnTo>
                          <a:lnTo>
                            <a:pt x="60" y="0"/>
                          </a:lnTo>
                          <a:lnTo>
                            <a:pt x="67" y="0"/>
                          </a:lnTo>
                          <a:close/>
                        </a:path>
                      </a:pathLst>
                    </a:custGeom>
                    <a:solidFill>
                      <a:srgbClr val="99cc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7" name=""/>
                    <p:cNvSpPr/>
                    <p:nvPr/>
                  </p:nvSpPr>
                  <p:spPr>
                    <a:xfrm>
                      <a:off x="419760" y="2607480"/>
                      <a:ext cx="991440" cy="191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3" h="12864">
                          <a:moveTo>
                            <a:pt x="5830" y="2249"/>
                          </a:moveTo>
                          <a:lnTo>
                            <a:pt x="5827" y="2273"/>
                          </a:lnTo>
                          <a:lnTo>
                            <a:pt x="5824" y="2296"/>
                          </a:lnTo>
                          <a:lnTo>
                            <a:pt x="5821" y="2318"/>
                          </a:lnTo>
                          <a:lnTo>
                            <a:pt x="5817" y="2341"/>
                          </a:lnTo>
                          <a:lnTo>
                            <a:pt x="5807" y="2386"/>
                          </a:lnTo>
                          <a:lnTo>
                            <a:pt x="5796" y="2429"/>
                          </a:lnTo>
                          <a:lnTo>
                            <a:pt x="5783" y="2471"/>
                          </a:lnTo>
                          <a:lnTo>
                            <a:pt x="5769" y="2513"/>
                          </a:lnTo>
                          <a:lnTo>
                            <a:pt x="5754" y="2555"/>
                          </a:lnTo>
                          <a:lnTo>
                            <a:pt x="5738" y="2596"/>
                          </a:lnTo>
                          <a:lnTo>
                            <a:pt x="5704" y="2677"/>
                          </a:lnTo>
                          <a:lnTo>
                            <a:pt x="5669" y="2756"/>
                          </a:lnTo>
                          <a:lnTo>
                            <a:pt x="5634" y="2836"/>
                          </a:lnTo>
                          <a:lnTo>
                            <a:pt x="5602" y="2915"/>
                          </a:lnTo>
                          <a:lnTo>
                            <a:pt x="5575" y="2981"/>
                          </a:lnTo>
                          <a:lnTo>
                            <a:pt x="5548" y="3045"/>
                          </a:lnTo>
                          <a:lnTo>
                            <a:pt x="5520" y="3107"/>
                          </a:lnTo>
                          <a:lnTo>
                            <a:pt x="5492" y="3165"/>
                          </a:lnTo>
                          <a:lnTo>
                            <a:pt x="5436" y="3281"/>
                          </a:lnTo>
                          <a:lnTo>
                            <a:pt x="5381" y="3395"/>
                          </a:lnTo>
                          <a:lnTo>
                            <a:pt x="5353" y="3452"/>
                          </a:lnTo>
                          <a:lnTo>
                            <a:pt x="5327" y="3509"/>
                          </a:lnTo>
                          <a:lnTo>
                            <a:pt x="5301" y="3569"/>
                          </a:lnTo>
                          <a:lnTo>
                            <a:pt x="5275" y="3629"/>
                          </a:lnTo>
                          <a:lnTo>
                            <a:pt x="5251" y="3690"/>
                          </a:lnTo>
                          <a:lnTo>
                            <a:pt x="5227" y="3756"/>
                          </a:lnTo>
                          <a:lnTo>
                            <a:pt x="5204" y="3822"/>
                          </a:lnTo>
                          <a:lnTo>
                            <a:pt x="5182" y="3893"/>
                          </a:lnTo>
                          <a:lnTo>
                            <a:pt x="5176" y="3881"/>
                          </a:lnTo>
                          <a:lnTo>
                            <a:pt x="5170" y="3867"/>
                          </a:lnTo>
                          <a:lnTo>
                            <a:pt x="5165" y="3852"/>
                          </a:lnTo>
                          <a:lnTo>
                            <a:pt x="5159" y="3837"/>
                          </a:lnTo>
                          <a:lnTo>
                            <a:pt x="5149" y="3806"/>
                          </a:lnTo>
                          <a:lnTo>
                            <a:pt x="5138" y="3776"/>
                          </a:lnTo>
                          <a:lnTo>
                            <a:pt x="5132" y="3761"/>
                          </a:lnTo>
                          <a:lnTo>
                            <a:pt x="5125" y="3747"/>
                          </a:lnTo>
                          <a:lnTo>
                            <a:pt x="5118" y="3734"/>
                          </a:lnTo>
                          <a:lnTo>
                            <a:pt x="5110" y="3722"/>
                          </a:lnTo>
                          <a:lnTo>
                            <a:pt x="5102" y="3711"/>
                          </a:lnTo>
                          <a:lnTo>
                            <a:pt x="5092" y="3702"/>
                          </a:lnTo>
                          <a:lnTo>
                            <a:pt x="5082" y="3695"/>
                          </a:lnTo>
                          <a:lnTo>
                            <a:pt x="5070" y="3690"/>
                          </a:lnTo>
                          <a:lnTo>
                            <a:pt x="5050" y="3720"/>
                          </a:lnTo>
                          <a:lnTo>
                            <a:pt x="5062" y="3740"/>
                          </a:lnTo>
                          <a:lnTo>
                            <a:pt x="5074" y="3759"/>
                          </a:lnTo>
                          <a:lnTo>
                            <a:pt x="5085" y="3780"/>
                          </a:lnTo>
                          <a:lnTo>
                            <a:pt x="5096" y="3801"/>
                          </a:lnTo>
                          <a:lnTo>
                            <a:pt x="5105" y="3824"/>
                          </a:lnTo>
                          <a:lnTo>
                            <a:pt x="5114" y="3848"/>
                          </a:lnTo>
                          <a:lnTo>
                            <a:pt x="5123" y="3872"/>
                          </a:lnTo>
                          <a:lnTo>
                            <a:pt x="5130" y="3896"/>
                          </a:lnTo>
                          <a:lnTo>
                            <a:pt x="5137" y="3921"/>
                          </a:lnTo>
                          <a:lnTo>
                            <a:pt x="5144" y="3946"/>
                          </a:lnTo>
                          <a:lnTo>
                            <a:pt x="5149" y="3972"/>
                          </a:lnTo>
                          <a:lnTo>
                            <a:pt x="5154" y="3999"/>
                          </a:lnTo>
                          <a:lnTo>
                            <a:pt x="5159" y="4026"/>
                          </a:lnTo>
                          <a:lnTo>
                            <a:pt x="5162" y="4053"/>
                          </a:lnTo>
                          <a:lnTo>
                            <a:pt x="5165" y="4081"/>
                          </a:lnTo>
                          <a:lnTo>
                            <a:pt x="5168" y="4110"/>
                          </a:lnTo>
                          <a:lnTo>
                            <a:pt x="5163" y="4113"/>
                          </a:lnTo>
                          <a:lnTo>
                            <a:pt x="5159" y="4114"/>
                          </a:lnTo>
                          <a:lnTo>
                            <a:pt x="5155" y="4114"/>
                          </a:lnTo>
                          <a:lnTo>
                            <a:pt x="5151" y="4113"/>
                          </a:lnTo>
                          <a:lnTo>
                            <a:pt x="5147" y="4108"/>
                          </a:lnTo>
                          <a:lnTo>
                            <a:pt x="5144" y="4104"/>
                          </a:lnTo>
                          <a:lnTo>
                            <a:pt x="5141" y="4099"/>
                          </a:lnTo>
                          <a:lnTo>
                            <a:pt x="5138" y="4092"/>
                          </a:lnTo>
                          <a:lnTo>
                            <a:pt x="5128" y="4062"/>
                          </a:lnTo>
                          <a:lnTo>
                            <a:pt x="5119" y="4036"/>
                          </a:lnTo>
                          <a:lnTo>
                            <a:pt x="5110" y="4023"/>
                          </a:lnTo>
                          <a:lnTo>
                            <a:pt x="5101" y="4011"/>
                          </a:lnTo>
                          <a:lnTo>
                            <a:pt x="5096" y="4006"/>
                          </a:lnTo>
                          <a:lnTo>
                            <a:pt x="5090" y="4005"/>
                          </a:lnTo>
                          <a:lnTo>
                            <a:pt x="5085" y="4003"/>
                          </a:lnTo>
                          <a:lnTo>
                            <a:pt x="5078" y="4005"/>
                          </a:lnTo>
                          <a:lnTo>
                            <a:pt x="5076" y="4012"/>
                          </a:lnTo>
                          <a:lnTo>
                            <a:pt x="5074" y="4018"/>
                          </a:lnTo>
                          <a:lnTo>
                            <a:pt x="5072" y="4026"/>
                          </a:lnTo>
                          <a:lnTo>
                            <a:pt x="5071" y="4032"/>
                          </a:lnTo>
                          <a:lnTo>
                            <a:pt x="5071" y="4045"/>
                          </a:lnTo>
                          <a:lnTo>
                            <a:pt x="5072" y="4059"/>
                          </a:lnTo>
                          <a:lnTo>
                            <a:pt x="5075" y="4072"/>
                          </a:lnTo>
                          <a:lnTo>
                            <a:pt x="5079" y="4086"/>
                          </a:lnTo>
                          <a:lnTo>
                            <a:pt x="5084" y="4099"/>
                          </a:lnTo>
                          <a:lnTo>
                            <a:pt x="5090" y="4113"/>
                          </a:lnTo>
                          <a:lnTo>
                            <a:pt x="5103" y="4140"/>
                          </a:lnTo>
                          <a:lnTo>
                            <a:pt x="5117" y="4165"/>
                          </a:lnTo>
                          <a:lnTo>
                            <a:pt x="5123" y="4177"/>
                          </a:lnTo>
                          <a:lnTo>
                            <a:pt x="5128" y="4189"/>
                          </a:lnTo>
                          <a:lnTo>
                            <a:pt x="5133" y="4201"/>
                          </a:lnTo>
                          <a:lnTo>
                            <a:pt x="5136" y="4213"/>
                          </a:lnTo>
                          <a:lnTo>
                            <a:pt x="5177" y="4297"/>
                          </a:lnTo>
                          <a:lnTo>
                            <a:pt x="5217" y="4383"/>
                          </a:lnTo>
                          <a:lnTo>
                            <a:pt x="5256" y="4470"/>
                          </a:lnTo>
                          <a:lnTo>
                            <a:pt x="5295" y="4555"/>
                          </a:lnTo>
                          <a:lnTo>
                            <a:pt x="5334" y="4644"/>
                          </a:lnTo>
                          <a:lnTo>
                            <a:pt x="5372" y="4731"/>
                          </a:lnTo>
                          <a:lnTo>
                            <a:pt x="5409" y="4819"/>
                          </a:lnTo>
                          <a:lnTo>
                            <a:pt x="5446" y="4909"/>
                          </a:lnTo>
                          <a:lnTo>
                            <a:pt x="5482" y="4999"/>
                          </a:lnTo>
                          <a:lnTo>
                            <a:pt x="5518" y="5090"/>
                          </a:lnTo>
                          <a:lnTo>
                            <a:pt x="5552" y="5182"/>
                          </a:lnTo>
                          <a:lnTo>
                            <a:pt x="5586" y="5273"/>
                          </a:lnTo>
                          <a:lnTo>
                            <a:pt x="5619" y="5366"/>
                          </a:lnTo>
                          <a:lnTo>
                            <a:pt x="5650" y="5461"/>
                          </a:lnTo>
                          <a:lnTo>
                            <a:pt x="5681" y="5555"/>
                          </a:lnTo>
                          <a:lnTo>
                            <a:pt x="5711" y="5651"/>
                          </a:lnTo>
                          <a:lnTo>
                            <a:pt x="5739" y="5747"/>
                          </a:lnTo>
                          <a:lnTo>
                            <a:pt x="5766" y="5845"/>
                          </a:lnTo>
                          <a:lnTo>
                            <a:pt x="5793" y="5942"/>
                          </a:lnTo>
                          <a:lnTo>
                            <a:pt x="5818" y="6041"/>
                          </a:lnTo>
                          <a:lnTo>
                            <a:pt x="5841" y="6140"/>
                          </a:lnTo>
                          <a:lnTo>
                            <a:pt x="5863" y="6240"/>
                          </a:lnTo>
                          <a:lnTo>
                            <a:pt x="5884" y="6342"/>
                          </a:lnTo>
                          <a:lnTo>
                            <a:pt x="5904" y="6444"/>
                          </a:lnTo>
                          <a:lnTo>
                            <a:pt x="5922" y="6546"/>
                          </a:lnTo>
                          <a:lnTo>
                            <a:pt x="5938" y="6651"/>
                          </a:lnTo>
                          <a:lnTo>
                            <a:pt x="5953" y="6755"/>
                          </a:lnTo>
                          <a:lnTo>
                            <a:pt x="5967" y="6861"/>
                          </a:lnTo>
                          <a:lnTo>
                            <a:pt x="5978" y="6967"/>
                          </a:lnTo>
                          <a:lnTo>
                            <a:pt x="5988" y="7075"/>
                          </a:lnTo>
                          <a:lnTo>
                            <a:pt x="5996" y="7183"/>
                          </a:lnTo>
                          <a:lnTo>
                            <a:pt x="6003" y="7293"/>
                          </a:lnTo>
                          <a:lnTo>
                            <a:pt x="6000" y="7354"/>
                          </a:lnTo>
                          <a:lnTo>
                            <a:pt x="5996" y="7414"/>
                          </a:lnTo>
                          <a:lnTo>
                            <a:pt x="5994" y="7444"/>
                          </a:lnTo>
                          <a:lnTo>
                            <a:pt x="5991" y="7474"/>
                          </a:lnTo>
                          <a:lnTo>
                            <a:pt x="5987" y="7504"/>
                          </a:lnTo>
                          <a:lnTo>
                            <a:pt x="5983" y="7533"/>
                          </a:lnTo>
                          <a:lnTo>
                            <a:pt x="5978" y="7561"/>
                          </a:lnTo>
                          <a:lnTo>
                            <a:pt x="5972" y="7588"/>
                          </a:lnTo>
                          <a:lnTo>
                            <a:pt x="5966" y="7615"/>
                          </a:lnTo>
                          <a:lnTo>
                            <a:pt x="5958" y="7642"/>
                          </a:lnTo>
                          <a:lnTo>
                            <a:pt x="5949" y="7669"/>
                          </a:lnTo>
                          <a:lnTo>
                            <a:pt x="5939" y="7695"/>
                          </a:lnTo>
                          <a:lnTo>
                            <a:pt x="5928" y="7719"/>
                          </a:lnTo>
                          <a:lnTo>
                            <a:pt x="5916" y="7743"/>
                          </a:lnTo>
                          <a:lnTo>
                            <a:pt x="5886" y="7774"/>
                          </a:lnTo>
                          <a:lnTo>
                            <a:pt x="5856" y="7803"/>
                          </a:lnTo>
                          <a:lnTo>
                            <a:pt x="5825" y="7830"/>
                          </a:lnTo>
                          <a:lnTo>
                            <a:pt x="5793" y="7855"/>
                          </a:lnTo>
                          <a:lnTo>
                            <a:pt x="5761" y="7878"/>
                          </a:lnTo>
                          <a:lnTo>
                            <a:pt x="5728" y="7898"/>
                          </a:lnTo>
                          <a:lnTo>
                            <a:pt x="5694" y="7918"/>
                          </a:lnTo>
                          <a:lnTo>
                            <a:pt x="5660" y="7934"/>
                          </a:lnTo>
                          <a:lnTo>
                            <a:pt x="5626" y="7951"/>
                          </a:lnTo>
                          <a:lnTo>
                            <a:pt x="5591" y="7964"/>
                          </a:lnTo>
                          <a:lnTo>
                            <a:pt x="5555" y="7978"/>
                          </a:lnTo>
                          <a:lnTo>
                            <a:pt x="5519" y="7988"/>
                          </a:lnTo>
                          <a:lnTo>
                            <a:pt x="5482" y="7999"/>
                          </a:lnTo>
                          <a:lnTo>
                            <a:pt x="5445" y="8008"/>
                          </a:lnTo>
                          <a:lnTo>
                            <a:pt x="5408" y="8015"/>
                          </a:lnTo>
                          <a:lnTo>
                            <a:pt x="5371" y="8021"/>
                          </a:lnTo>
                          <a:lnTo>
                            <a:pt x="5333" y="8027"/>
                          </a:lnTo>
                          <a:lnTo>
                            <a:pt x="5295" y="8033"/>
                          </a:lnTo>
                          <a:lnTo>
                            <a:pt x="5257" y="8036"/>
                          </a:lnTo>
                          <a:lnTo>
                            <a:pt x="5219" y="8041"/>
                          </a:lnTo>
                          <a:lnTo>
                            <a:pt x="5142" y="8045"/>
                          </a:lnTo>
                          <a:lnTo>
                            <a:pt x="5066" y="8048"/>
                          </a:lnTo>
                          <a:lnTo>
                            <a:pt x="4989" y="8051"/>
                          </a:lnTo>
                          <a:lnTo>
                            <a:pt x="4912" y="8053"/>
                          </a:lnTo>
                          <a:lnTo>
                            <a:pt x="4836" y="8054"/>
                          </a:lnTo>
                          <a:lnTo>
                            <a:pt x="4761" y="8059"/>
                          </a:lnTo>
                          <a:lnTo>
                            <a:pt x="4109" y="8075"/>
                          </a:lnTo>
                          <a:lnTo>
                            <a:pt x="4096" y="8069"/>
                          </a:lnTo>
                          <a:lnTo>
                            <a:pt x="4084" y="8060"/>
                          </a:lnTo>
                          <a:lnTo>
                            <a:pt x="4074" y="8050"/>
                          </a:lnTo>
                          <a:lnTo>
                            <a:pt x="4065" y="8036"/>
                          </a:lnTo>
                          <a:lnTo>
                            <a:pt x="4057" y="8023"/>
                          </a:lnTo>
                          <a:lnTo>
                            <a:pt x="4050" y="8008"/>
                          </a:lnTo>
                          <a:lnTo>
                            <a:pt x="4045" y="7991"/>
                          </a:lnTo>
                          <a:lnTo>
                            <a:pt x="4040" y="7973"/>
                          </a:lnTo>
                          <a:lnTo>
                            <a:pt x="4036" y="7955"/>
                          </a:lnTo>
                          <a:lnTo>
                            <a:pt x="4033" y="7936"/>
                          </a:lnTo>
                          <a:lnTo>
                            <a:pt x="4030" y="7916"/>
                          </a:lnTo>
                          <a:lnTo>
                            <a:pt x="4028" y="7895"/>
                          </a:lnTo>
                          <a:lnTo>
                            <a:pt x="4025" y="7857"/>
                          </a:lnTo>
                          <a:lnTo>
                            <a:pt x="4023" y="7816"/>
                          </a:lnTo>
                          <a:lnTo>
                            <a:pt x="4027" y="7803"/>
                          </a:lnTo>
                          <a:lnTo>
                            <a:pt x="4030" y="7789"/>
                          </a:lnTo>
                          <a:lnTo>
                            <a:pt x="4033" y="7774"/>
                          </a:lnTo>
                          <a:lnTo>
                            <a:pt x="4036" y="7758"/>
                          </a:lnTo>
                          <a:lnTo>
                            <a:pt x="4041" y="7723"/>
                          </a:lnTo>
                          <a:lnTo>
                            <a:pt x="4046" y="7687"/>
                          </a:lnTo>
                          <a:lnTo>
                            <a:pt x="4050" y="7650"/>
                          </a:lnTo>
                          <a:lnTo>
                            <a:pt x="4054" y="7612"/>
                          </a:lnTo>
                          <a:lnTo>
                            <a:pt x="4059" y="7576"/>
                          </a:lnTo>
                          <a:lnTo>
                            <a:pt x="4065" y="7543"/>
                          </a:lnTo>
                          <a:lnTo>
                            <a:pt x="4068" y="7527"/>
                          </a:lnTo>
                          <a:lnTo>
                            <a:pt x="4072" y="7512"/>
                          </a:lnTo>
                          <a:lnTo>
                            <a:pt x="4077" y="7497"/>
                          </a:lnTo>
                          <a:lnTo>
                            <a:pt x="4082" y="7485"/>
                          </a:lnTo>
                          <a:lnTo>
                            <a:pt x="4087" y="7473"/>
                          </a:lnTo>
                          <a:lnTo>
                            <a:pt x="4093" y="7462"/>
                          </a:lnTo>
                          <a:lnTo>
                            <a:pt x="4100" y="7453"/>
                          </a:lnTo>
                          <a:lnTo>
                            <a:pt x="4108" y="7446"/>
                          </a:lnTo>
                          <a:lnTo>
                            <a:pt x="4117" y="7440"/>
                          </a:lnTo>
                          <a:lnTo>
                            <a:pt x="4126" y="7435"/>
                          </a:lnTo>
                          <a:lnTo>
                            <a:pt x="4136" y="7434"/>
                          </a:lnTo>
                          <a:lnTo>
                            <a:pt x="4148" y="7434"/>
                          </a:lnTo>
                          <a:lnTo>
                            <a:pt x="4160" y="7435"/>
                          </a:lnTo>
                          <a:lnTo>
                            <a:pt x="4174" y="7440"/>
                          </a:lnTo>
                          <a:lnTo>
                            <a:pt x="4188" y="7447"/>
                          </a:lnTo>
                          <a:lnTo>
                            <a:pt x="4204" y="7458"/>
                          </a:lnTo>
                          <a:lnTo>
                            <a:pt x="4279" y="7440"/>
                          </a:lnTo>
                          <a:lnTo>
                            <a:pt x="4353" y="7423"/>
                          </a:lnTo>
                          <a:lnTo>
                            <a:pt x="4428" y="7410"/>
                          </a:lnTo>
                          <a:lnTo>
                            <a:pt x="4502" y="7398"/>
                          </a:lnTo>
                          <a:lnTo>
                            <a:pt x="4576" y="7386"/>
                          </a:lnTo>
                          <a:lnTo>
                            <a:pt x="4650" y="7375"/>
                          </a:lnTo>
                          <a:lnTo>
                            <a:pt x="4724" y="7365"/>
                          </a:lnTo>
                          <a:lnTo>
                            <a:pt x="4797" y="7354"/>
                          </a:lnTo>
                          <a:lnTo>
                            <a:pt x="4871" y="7344"/>
                          </a:lnTo>
                          <a:lnTo>
                            <a:pt x="4944" y="7333"/>
                          </a:lnTo>
                          <a:lnTo>
                            <a:pt x="5017" y="7321"/>
                          </a:lnTo>
                          <a:lnTo>
                            <a:pt x="5089" y="7308"/>
                          </a:lnTo>
                          <a:lnTo>
                            <a:pt x="5161" y="7294"/>
                          </a:lnTo>
                          <a:lnTo>
                            <a:pt x="5233" y="7278"/>
                          </a:lnTo>
                          <a:lnTo>
                            <a:pt x="5305" y="7261"/>
                          </a:lnTo>
                          <a:lnTo>
                            <a:pt x="5376" y="7240"/>
                          </a:lnTo>
                          <a:lnTo>
                            <a:pt x="5383" y="7186"/>
                          </a:lnTo>
                          <a:lnTo>
                            <a:pt x="5388" y="7132"/>
                          </a:lnTo>
                          <a:lnTo>
                            <a:pt x="5393" y="7080"/>
                          </a:lnTo>
                          <a:lnTo>
                            <a:pt x="5395" y="7026"/>
                          </a:lnTo>
                          <a:lnTo>
                            <a:pt x="5397" y="6973"/>
                          </a:lnTo>
                          <a:lnTo>
                            <a:pt x="5398" y="6921"/>
                          </a:lnTo>
                          <a:lnTo>
                            <a:pt x="5397" y="6869"/>
                          </a:lnTo>
                          <a:lnTo>
                            <a:pt x="5395" y="6816"/>
                          </a:lnTo>
                          <a:lnTo>
                            <a:pt x="5392" y="6765"/>
                          </a:lnTo>
                          <a:lnTo>
                            <a:pt x="5389" y="6714"/>
                          </a:lnTo>
                          <a:lnTo>
                            <a:pt x="5384" y="6662"/>
                          </a:lnTo>
                          <a:lnTo>
                            <a:pt x="5378" y="6611"/>
                          </a:lnTo>
                          <a:lnTo>
                            <a:pt x="5372" y="6561"/>
                          </a:lnTo>
                          <a:lnTo>
                            <a:pt x="5365" y="6510"/>
                          </a:lnTo>
                          <a:lnTo>
                            <a:pt x="5358" y="6459"/>
                          </a:lnTo>
                          <a:lnTo>
                            <a:pt x="5350" y="6410"/>
                          </a:lnTo>
                          <a:lnTo>
                            <a:pt x="5332" y="6309"/>
                          </a:lnTo>
                          <a:lnTo>
                            <a:pt x="5313" y="6210"/>
                          </a:lnTo>
                          <a:lnTo>
                            <a:pt x="5292" y="6111"/>
                          </a:lnTo>
                          <a:lnTo>
                            <a:pt x="5272" y="6014"/>
                          </a:lnTo>
                          <a:lnTo>
                            <a:pt x="5251" y="5915"/>
                          </a:lnTo>
                          <a:lnTo>
                            <a:pt x="5231" y="5818"/>
                          </a:lnTo>
                          <a:lnTo>
                            <a:pt x="5212" y="5720"/>
                          </a:lnTo>
                          <a:lnTo>
                            <a:pt x="5194" y="5623"/>
                          </a:lnTo>
                          <a:lnTo>
                            <a:pt x="5172" y="5558"/>
                          </a:lnTo>
                          <a:lnTo>
                            <a:pt x="5151" y="5492"/>
                          </a:lnTo>
                          <a:lnTo>
                            <a:pt x="5131" y="5428"/>
                          </a:lnTo>
                          <a:lnTo>
                            <a:pt x="5112" y="5362"/>
                          </a:lnTo>
                          <a:lnTo>
                            <a:pt x="5073" y="5230"/>
                          </a:lnTo>
                          <a:lnTo>
                            <a:pt x="5032" y="5101"/>
                          </a:lnTo>
                          <a:lnTo>
                            <a:pt x="5011" y="5038"/>
                          </a:lnTo>
                          <a:lnTo>
                            <a:pt x="4989" y="4975"/>
                          </a:lnTo>
                          <a:lnTo>
                            <a:pt x="4965" y="4913"/>
                          </a:lnTo>
                          <a:lnTo>
                            <a:pt x="4940" y="4854"/>
                          </a:lnTo>
                          <a:lnTo>
                            <a:pt x="4927" y="4824"/>
                          </a:lnTo>
                          <a:lnTo>
                            <a:pt x="4913" y="4795"/>
                          </a:lnTo>
                          <a:lnTo>
                            <a:pt x="4899" y="4767"/>
                          </a:lnTo>
                          <a:lnTo>
                            <a:pt x="4884" y="4738"/>
                          </a:lnTo>
                          <a:lnTo>
                            <a:pt x="4869" y="4710"/>
                          </a:lnTo>
                          <a:lnTo>
                            <a:pt x="4853" y="4683"/>
                          </a:lnTo>
                          <a:lnTo>
                            <a:pt x="4836" y="4656"/>
                          </a:lnTo>
                          <a:lnTo>
                            <a:pt x="4819" y="4629"/>
                          </a:lnTo>
                          <a:lnTo>
                            <a:pt x="4811" y="4629"/>
                          </a:lnTo>
                          <a:lnTo>
                            <a:pt x="4803" y="4630"/>
                          </a:lnTo>
                          <a:lnTo>
                            <a:pt x="4799" y="4633"/>
                          </a:lnTo>
                          <a:lnTo>
                            <a:pt x="4796" y="4636"/>
                          </a:lnTo>
                          <a:lnTo>
                            <a:pt x="4792" y="4641"/>
                          </a:lnTo>
                          <a:lnTo>
                            <a:pt x="4790" y="4645"/>
                          </a:lnTo>
                          <a:lnTo>
                            <a:pt x="4791" y="4653"/>
                          </a:lnTo>
                          <a:lnTo>
                            <a:pt x="4791" y="4659"/>
                          </a:lnTo>
                          <a:lnTo>
                            <a:pt x="4791" y="4666"/>
                          </a:lnTo>
                          <a:lnTo>
                            <a:pt x="4790" y="4674"/>
                          </a:lnTo>
                          <a:lnTo>
                            <a:pt x="4790" y="4680"/>
                          </a:lnTo>
                          <a:lnTo>
                            <a:pt x="4791" y="4687"/>
                          </a:lnTo>
                          <a:lnTo>
                            <a:pt x="4793" y="4693"/>
                          </a:lnTo>
                          <a:lnTo>
                            <a:pt x="4799" y="4698"/>
                          </a:lnTo>
                          <a:lnTo>
                            <a:pt x="4807" y="4707"/>
                          </a:lnTo>
                          <a:lnTo>
                            <a:pt x="4815" y="4717"/>
                          </a:lnTo>
                          <a:lnTo>
                            <a:pt x="4823" y="4729"/>
                          </a:lnTo>
                          <a:lnTo>
                            <a:pt x="4830" y="4741"/>
                          </a:lnTo>
                          <a:lnTo>
                            <a:pt x="4845" y="4771"/>
                          </a:lnTo>
                          <a:lnTo>
                            <a:pt x="4860" y="4803"/>
                          </a:lnTo>
                          <a:lnTo>
                            <a:pt x="4873" y="4837"/>
                          </a:lnTo>
                          <a:lnTo>
                            <a:pt x="4885" y="4873"/>
                          </a:lnTo>
                          <a:lnTo>
                            <a:pt x="4896" y="4909"/>
                          </a:lnTo>
                          <a:lnTo>
                            <a:pt x="4905" y="4943"/>
                          </a:lnTo>
                          <a:lnTo>
                            <a:pt x="4896" y="4957"/>
                          </a:lnTo>
                          <a:lnTo>
                            <a:pt x="4886" y="4967"/>
                          </a:lnTo>
                          <a:lnTo>
                            <a:pt x="4876" y="4976"/>
                          </a:lnTo>
                          <a:lnTo>
                            <a:pt x="4865" y="4982"/>
                          </a:lnTo>
                          <a:lnTo>
                            <a:pt x="4853" y="4985"/>
                          </a:lnTo>
                          <a:lnTo>
                            <a:pt x="4842" y="4988"/>
                          </a:lnTo>
                          <a:lnTo>
                            <a:pt x="4829" y="4990"/>
                          </a:lnTo>
                          <a:lnTo>
                            <a:pt x="4817" y="4990"/>
                          </a:lnTo>
                          <a:lnTo>
                            <a:pt x="4791" y="4988"/>
                          </a:lnTo>
                          <a:lnTo>
                            <a:pt x="4765" y="4985"/>
                          </a:lnTo>
                          <a:lnTo>
                            <a:pt x="4752" y="4985"/>
                          </a:lnTo>
                          <a:lnTo>
                            <a:pt x="4739" y="4985"/>
                          </a:lnTo>
                          <a:lnTo>
                            <a:pt x="4727" y="4985"/>
                          </a:lnTo>
                          <a:lnTo>
                            <a:pt x="4715" y="4987"/>
                          </a:lnTo>
                          <a:lnTo>
                            <a:pt x="4591" y="4741"/>
                          </a:lnTo>
                          <a:lnTo>
                            <a:pt x="4583" y="4753"/>
                          </a:lnTo>
                          <a:lnTo>
                            <a:pt x="4577" y="4765"/>
                          </a:lnTo>
                          <a:lnTo>
                            <a:pt x="4574" y="4777"/>
                          </a:lnTo>
                          <a:lnTo>
                            <a:pt x="4573" y="4789"/>
                          </a:lnTo>
                          <a:lnTo>
                            <a:pt x="4573" y="4801"/>
                          </a:lnTo>
                          <a:lnTo>
                            <a:pt x="4574" y="4813"/>
                          </a:lnTo>
                          <a:lnTo>
                            <a:pt x="4577" y="4825"/>
                          </a:lnTo>
                          <a:lnTo>
                            <a:pt x="4581" y="4836"/>
                          </a:lnTo>
                          <a:lnTo>
                            <a:pt x="4591" y="4860"/>
                          </a:lnTo>
                          <a:lnTo>
                            <a:pt x="4601" y="4884"/>
                          </a:lnTo>
                          <a:lnTo>
                            <a:pt x="4606" y="4896"/>
                          </a:lnTo>
                          <a:lnTo>
                            <a:pt x="4610" y="4907"/>
                          </a:lnTo>
                          <a:lnTo>
                            <a:pt x="4614" y="4919"/>
                          </a:lnTo>
                          <a:lnTo>
                            <a:pt x="4617" y="4931"/>
                          </a:lnTo>
                          <a:lnTo>
                            <a:pt x="4631" y="4939"/>
                          </a:lnTo>
                          <a:lnTo>
                            <a:pt x="4644" y="4948"/>
                          </a:lnTo>
                          <a:lnTo>
                            <a:pt x="4655" y="4958"/>
                          </a:lnTo>
                          <a:lnTo>
                            <a:pt x="4665" y="4967"/>
                          </a:lnTo>
                          <a:lnTo>
                            <a:pt x="4674" y="4978"/>
                          </a:lnTo>
                          <a:lnTo>
                            <a:pt x="4681" y="4990"/>
                          </a:lnTo>
                          <a:lnTo>
                            <a:pt x="4687" y="5000"/>
                          </a:lnTo>
                          <a:lnTo>
                            <a:pt x="4692" y="5012"/>
                          </a:lnTo>
                          <a:lnTo>
                            <a:pt x="4696" y="5024"/>
                          </a:lnTo>
                          <a:lnTo>
                            <a:pt x="4699" y="5036"/>
                          </a:lnTo>
                          <a:lnTo>
                            <a:pt x="4701" y="5050"/>
                          </a:lnTo>
                          <a:lnTo>
                            <a:pt x="4702" y="5063"/>
                          </a:lnTo>
                          <a:lnTo>
                            <a:pt x="4702" y="5077"/>
                          </a:lnTo>
                          <a:lnTo>
                            <a:pt x="4701" y="5090"/>
                          </a:lnTo>
                          <a:lnTo>
                            <a:pt x="4700" y="5104"/>
                          </a:lnTo>
                          <a:lnTo>
                            <a:pt x="4698" y="5117"/>
                          </a:lnTo>
                          <a:lnTo>
                            <a:pt x="4693" y="5146"/>
                          </a:lnTo>
                          <a:lnTo>
                            <a:pt x="4686" y="5176"/>
                          </a:lnTo>
                          <a:lnTo>
                            <a:pt x="4678" y="5204"/>
                          </a:lnTo>
                          <a:lnTo>
                            <a:pt x="4669" y="5233"/>
                          </a:lnTo>
                          <a:lnTo>
                            <a:pt x="4660" y="5263"/>
                          </a:lnTo>
                          <a:lnTo>
                            <a:pt x="4651" y="5291"/>
                          </a:lnTo>
                          <a:lnTo>
                            <a:pt x="4643" y="5320"/>
                          </a:lnTo>
                          <a:lnTo>
                            <a:pt x="4637" y="5347"/>
                          </a:lnTo>
                          <a:lnTo>
                            <a:pt x="4597" y="5461"/>
                          </a:lnTo>
                          <a:lnTo>
                            <a:pt x="4558" y="5575"/>
                          </a:lnTo>
                          <a:lnTo>
                            <a:pt x="4518" y="5692"/>
                          </a:lnTo>
                          <a:lnTo>
                            <a:pt x="4478" y="5809"/>
                          </a:lnTo>
                          <a:lnTo>
                            <a:pt x="4439" y="5928"/>
                          </a:lnTo>
                          <a:lnTo>
                            <a:pt x="4400" y="6047"/>
                          </a:lnTo>
                          <a:lnTo>
                            <a:pt x="4361" y="6168"/>
                          </a:lnTo>
                          <a:lnTo>
                            <a:pt x="4324" y="6288"/>
                          </a:lnTo>
                          <a:lnTo>
                            <a:pt x="4287" y="6410"/>
                          </a:lnTo>
                          <a:lnTo>
                            <a:pt x="4250" y="6530"/>
                          </a:lnTo>
                          <a:lnTo>
                            <a:pt x="4215" y="6651"/>
                          </a:lnTo>
                          <a:lnTo>
                            <a:pt x="4181" y="6773"/>
                          </a:lnTo>
                          <a:lnTo>
                            <a:pt x="4149" y="6893"/>
                          </a:lnTo>
                          <a:lnTo>
                            <a:pt x="4118" y="7012"/>
                          </a:lnTo>
                          <a:lnTo>
                            <a:pt x="4088" y="7131"/>
                          </a:lnTo>
                          <a:lnTo>
                            <a:pt x="4060" y="7249"/>
                          </a:lnTo>
                          <a:lnTo>
                            <a:pt x="4041" y="7254"/>
                          </a:lnTo>
                          <a:lnTo>
                            <a:pt x="4022" y="7258"/>
                          </a:lnTo>
                          <a:lnTo>
                            <a:pt x="4004" y="7261"/>
                          </a:lnTo>
                          <a:lnTo>
                            <a:pt x="3986" y="7263"/>
                          </a:lnTo>
                          <a:lnTo>
                            <a:pt x="3951" y="7266"/>
                          </a:lnTo>
                          <a:lnTo>
                            <a:pt x="3917" y="7270"/>
                          </a:lnTo>
                          <a:lnTo>
                            <a:pt x="3900" y="7273"/>
                          </a:lnTo>
                          <a:lnTo>
                            <a:pt x="3884" y="7276"/>
                          </a:lnTo>
                          <a:lnTo>
                            <a:pt x="3868" y="7282"/>
                          </a:lnTo>
                          <a:lnTo>
                            <a:pt x="3852" y="7288"/>
                          </a:lnTo>
                          <a:lnTo>
                            <a:pt x="3836" y="7297"/>
                          </a:lnTo>
                          <a:lnTo>
                            <a:pt x="3820" y="7308"/>
                          </a:lnTo>
                          <a:lnTo>
                            <a:pt x="3804" y="7320"/>
                          </a:lnTo>
                          <a:lnTo>
                            <a:pt x="3789" y="7336"/>
                          </a:lnTo>
                          <a:lnTo>
                            <a:pt x="3777" y="7350"/>
                          </a:lnTo>
                          <a:lnTo>
                            <a:pt x="3766" y="7363"/>
                          </a:lnTo>
                          <a:lnTo>
                            <a:pt x="3756" y="7378"/>
                          </a:lnTo>
                          <a:lnTo>
                            <a:pt x="3746" y="7395"/>
                          </a:lnTo>
                          <a:lnTo>
                            <a:pt x="3737" y="7410"/>
                          </a:lnTo>
                          <a:lnTo>
                            <a:pt x="3729" y="7426"/>
                          </a:lnTo>
                          <a:lnTo>
                            <a:pt x="3721" y="7443"/>
                          </a:lnTo>
                          <a:lnTo>
                            <a:pt x="3714" y="7459"/>
                          </a:lnTo>
                          <a:lnTo>
                            <a:pt x="3707" y="7477"/>
                          </a:lnTo>
                          <a:lnTo>
                            <a:pt x="3700" y="7495"/>
                          </a:lnTo>
                          <a:lnTo>
                            <a:pt x="3694" y="7513"/>
                          </a:lnTo>
                          <a:lnTo>
                            <a:pt x="3689" y="7533"/>
                          </a:lnTo>
                          <a:lnTo>
                            <a:pt x="3679" y="7570"/>
                          </a:lnTo>
                          <a:lnTo>
                            <a:pt x="3670" y="7609"/>
                          </a:lnTo>
                          <a:lnTo>
                            <a:pt x="3663" y="7650"/>
                          </a:lnTo>
                          <a:lnTo>
                            <a:pt x="3656" y="7690"/>
                          </a:lnTo>
                          <a:lnTo>
                            <a:pt x="3651" y="7732"/>
                          </a:lnTo>
                          <a:lnTo>
                            <a:pt x="3646" y="7774"/>
                          </a:lnTo>
                          <a:lnTo>
                            <a:pt x="3636" y="7858"/>
                          </a:lnTo>
                          <a:lnTo>
                            <a:pt x="3627" y="7942"/>
                          </a:lnTo>
                          <a:lnTo>
                            <a:pt x="3606" y="7970"/>
                          </a:lnTo>
                          <a:lnTo>
                            <a:pt x="3585" y="8002"/>
                          </a:lnTo>
                          <a:lnTo>
                            <a:pt x="3566" y="8035"/>
                          </a:lnTo>
                          <a:lnTo>
                            <a:pt x="3548" y="8068"/>
                          </a:lnTo>
                          <a:lnTo>
                            <a:pt x="3531" y="8102"/>
                          </a:lnTo>
                          <a:lnTo>
                            <a:pt x="3514" y="8138"/>
                          </a:lnTo>
                          <a:lnTo>
                            <a:pt x="3499" y="8174"/>
                          </a:lnTo>
                          <a:lnTo>
                            <a:pt x="3485" y="8213"/>
                          </a:lnTo>
                          <a:lnTo>
                            <a:pt x="3472" y="8252"/>
                          </a:lnTo>
                          <a:lnTo>
                            <a:pt x="3460" y="8291"/>
                          </a:lnTo>
                          <a:lnTo>
                            <a:pt x="3449" y="8332"/>
                          </a:lnTo>
                          <a:lnTo>
                            <a:pt x="3439" y="8374"/>
                          </a:lnTo>
                          <a:lnTo>
                            <a:pt x="3430" y="8416"/>
                          </a:lnTo>
                          <a:lnTo>
                            <a:pt x="3422" y="8458"/>
                          </a:lnTo>
                          <a:lnTo>
                            <a:pt x="3414" y="8501"/>
                          </a:lnTo>
                          <a:lnTo>
                            <a:pt x="3408" y="8546"/>
                          </a:lnTo>
                          <a:lnTo>
                            <a:pt x="3402" y="8590"/>
                          </a:lnTo>
                          <a:lnTo>
                            <a:pt x="3397" y="8635"/>
                          </a:lnTo>
                          <a:lnTo>
                            <a:pt x="3393" y="8680"/>
                          </a:lnTo>
                          <a:lnTo>
                            <a:pt x="3390" y="8725"/>
                          </a:lnTo>
                          <a:lnTo>
                            <a:pt x="3388" y="8771"/>
                          </a:lnTo>
                          <a:lnTo>
                            <a:pt x="3386" y="8816"/>
                          </a:lnTo>
                          <a:lnTo>
                            <a:pt x="3385" y="8863"/>
                          </a:lnTo>
                          <a:lnTo>
                            <a:pt x="3385" y="8907"/>
                          </a:lnTo>
                          <a:lnTo>
                            <a:pt x="3385" y="8954"/>
                          </a:lnTo>
                          <a:lnTo>
                            <a:pt x="3386" y="9000"/>
                          </a:lnTo>
                          <a:lnTo>
                            <a:pt x="3388" y="9045"/>
                          </a:lnTo>
                          <a:lnTo>
                            <a:pt x="3390" y="9090"/>
                          </a:lnTo>
                          <a:lnTo>
                            <a:pt x="3393" y="9135"/>
                          </a:lnTo>
                          <a:lnTo>
                            <a:pt x="3396" y="9180"/>
                          </a:lnTo>
                          <a:lnTo>
                            <a:pt x="3400" y="9225"/>
                          </a:lnTo>
                          <a:lnTo>
                            <a:pt x="3405" y="9269"/>
                          </a:lnTo>
                          <a:lnTo>
                            <a:pt x="3399" y="9273"/>
                          </a:lnTo>
                          <a:lnTo>
                            <a:pt x="3394" y="9278"/>
                          </a:lnTo>
                          <a:lnTo>
                            <a:pt x="3390" y="9282"/>
                          </a:lnTo>
                          <a:lnTo>
                            <a:pt x="3386" y="9288"/>
                          </a:lnTo>
                          <a:lnTo>
                            <a:pt x="3384" y="9294"/>
                          </a:lnTo>
                          <a:lnTo>
                            <a:pt x="3381" y="9299"/>
                          </a:lnTo>
                          <a:lnTo>
                            <a:pt x="3379" y="9305"/>
                          </a:lnTo>
                          <a:lnTo>
                            <a:pt x="3378" y="9311"/>
                          </a:lnTo>
                          <a:lnTo>
                            <a:pt x="3377" y="9324"/>
                          </a:lnTo>
                          <a:lnTo>
                            <a:pt x="3377" y="9338"/>
                          </a:lnTo>
                          <a:lnTo>
                            <a:pt x="3379" y="9351"/>
                          </a:lnTo>
                          <a:lnTo>
                            <a:pt x="3381" y="9366"/>
                          </a:lnTo>
                          <a:lnTo>
                            <a:pt x="3386" y="9396"/>
                          </a:lnTo>
                          <a:lnTo>
                            <a:pt x="3388" y="9428"/>
                          </a:lnTo>
                          <a:lnTo>
                            <a:pt x="3388" y="9443"/>
                          </a:lnTo>
                          <a:lnTo>
                            <a:pt x="3386" y="9458"/>
                          </a:lnTo>
                          <a:lnTo>
                            <a:pt x="3385" y="9464"/>
                          </a:lnTo>
                          <a:lnTo>
                            <a:pt x="3382" y="9471"/>
                          </a:lnTo>
                          <a:lnTo>
                            <a:pt x="3380" y="9479"/>
                          </a:lnTo>
                          <a:lnTo>
                            <a:pt x="3376" y="9486"/>
                          </a:lnTo>
                          <a:lnTo>
                            <a:pt x="3360" y="9537"/>
                          </a:lnTo>
                          <a:lnTo>
                            <a:pt x="3345" y="9590"/>
                          </a:lnTo>
                          <a:lnTo>
                            <a:pt x="3330" y="9644"/>
                          </a:lnTo>
                          <a:lnTo>
                            <a:pt x="3316" y="9696"/>
                          </a:lnTo>
                          <a:lnTo>
                            <a:pt x="3289" y="9803"/>
                          </a:lnTo>
                          <a:lnTo>
                            <a:pt x="3264" y="9910"/>
                          </a:lnTo>
                          <a:lnTo>
                            <a:pt x="3240" y="10020"/>
                          </a:lnTo>
                          <a:lnTo>
                            <a:pt x="3218" y="10129"/>
                          </a:lnTo>
                          <a:lnTo>
                            <a:pt x="3196" y="10239"/>
                          </a:lnTo>
                          <a:lnTo>
                            <a:pt x="3175" y="10350"/>
                          </a:lnTo>
                          <a:lnTo>
                            <a:pt x="3153" y="10459"/>
                          </a:lnTo>
                          <a:lnTo>
                            <a:pt x="3132" y="10569"/>
                          </a:lnTo>
                          <a:lnTo>
                            <a:pt x="3110" y="10678"/>
                          </a:lnTo>
                          <a:lnTo>
                            <a:pt x="3088" y="10788"/>
                          </a:lnTo>
                          <a:lnTo>
                            <a:pt x="3064" y="10897"/>
                          </a:lnTo>
                          <a:lnTo>
                            <a:pt x="3039" y="11003"/>
                          </a:lnTo>
                          <a:lnTo>
                            <a:pt x="3026" y="11057"/>
                          </a:lnTo>
                          <a:lnTo>
                            <a:pt x="3013" y="11110"/>
                          </a:lnTo>
                          <a:lnTo>
                            <a:pt x="2998" y="11164"/>
                          </a:lnTo>
                          <a:lnTo>
                            <a:pt x="2984" y="11216"/>
                          </a:lnTo>
                          <a:lnTo>
                            <a:pt x="2970" y="11266"/>
                          </a:lnTo>
                          <a:lnTo>
                            <a:pt x="2956" y="11315"/>
                          </a:lnTo>
                          <a:lnTo>
                            <a:pt x="2943" y="11365"/>
                          </a:lnTo>
                          <a:lnTo>
                            <a:pt x="2930" y="11416"/>
                          </a:lnTo>
                          <a:lnTo>
                            <a:pt x="2907" y="11518"/>
                          </a:lnTo>
                          <a:lnTo>
                            <a:pt x="2885" y="11621"/>
                          </a:lnTo>
                          <a:lnTo>
                            <a:pt x="2865" y="11725"/>
                          </a:lnTo>
                          <a:lnTo>
                            <a:pt x="2846" y="11830"/>
                          </a:lnTo>
                          <a:lnTo>
                            <a:pt x="2828" y="11934"/>
                          </a:lnTo>
                          <a:lnTo>
                            <a:pt x="2810" y="12039"/>
                          </a:lnTo>
                          <a:lnTo>
                            <a:pt x="2792" y="12146"/>
                          </a:lnTo>
                          <a:lnTo>
                            <a:pt x="2774" y="12251"/>
                          </a:lnTo>
                          <a:lnTo>
                            <a:pt x="2756" y="12356"/>
                          </a:lnTo>
                          <a:lnTo>
                            <a:pt x="2737" y="12459"/>
                          </a:lnTo>
                          <a:lnTo>
                            <a:pt x="2717" y="12563"/>
                          </a:lnTo>
                          <a:lnTo>
                            <a:pt x="2695" y="12665"/>
                          </a:lnTo>
                          <a:lnTo>
                            <a:pt x="2684" y="12714"/>
                          </a:lnTo>
                          <a:lnTo>
                            <a:pt x="2672" y="12765"/>
                          </a:lnTo>
                          <a:lnTo>
                            <a:pt x="2659" y="12815"/>
                          </a:lnTo>
                          <a:lnTo>
                            <a:pt x="2646" y="12864"/>
                          </a:lnTo>
                          <a:lnTo>
                            <a:pt x="2622" y="12800"/>
                          </a:lnTo>
                          <a:lnTo>
                            <a:pt x="2596" y="12735"/>
                          </a:lnTo>
                          <a:lnTo>
                            <a:pt x="2569" y="12671"/>
                          </a:lnTo>
                          <a:lnTo>
                            <a:pt x="2541" y="12608"/>
                          </a:lnTo>
                          <a:lnTo>
                            <a:pt x="2526" y="12576"/>
                          </a:lnTo>
                          <a:lnTo>
                            <a:pt x="2510" y="12546"/>
                          </a:lnTo>
                          <a:lnTo>
                            <a:pt x="2494" y="12516"/>
                          </a:lnTo>
                          <a:lnTo>
                            <a:pt x="2478" y="12486"/>
                          </a:lnTo>
                          <a:lnTo>
                            <a:pt x="2461" y="12458"/>
                          </a:lnTo>
                          <a:lnTo>
                            <a:pt x="2444" y="12429"/>
                          </a:lnTo>
                          <a:lnTo>
                            <a:pt x="2426" y="12402"/>
                          </a:lnTo>
                          <a:lnTo>
                            <a:pt x="2408" y="12377"/>
                          </a:lnTo>
                          <a:lnTo>
                            <a:pt x="2389" y="12351"/>
                          </a:lnTo>
                          <a:lnTo>
                            <a:pt x="2370" y="12327"/>
                          </a:lnTo>
                          <a:lnTo>
                            <a:pt x="2350" y="12303"/>
                          </a:lnTo>
                          <a:lnTo>
                            <a:pt x="2329" y="12282"/>
                          </a:lnTo>
                          <a:lnTo>
                            <a:pt x="2308" y="12261"/>
                          </a:lnTo>
                          <a:lnTo>
                            <a:pt x="2286" y="12242"/>
                          </a:lnTo>
                          <a:lnTo>
                            <a:pt x="2263" y="12224"/>
                          </a:lnTo>
                          <a:lnTo>
                            <a:pt x="2240" y="12207"/>
                          </a:lnTo>
                          <a:lnTo>
                            <a:pt x="2216" y="12194"/>
                          </a:lnTo>
                          <a:lnTo>
                            <a:pt x="2192" y="12180"/>
                          </a:lnTo>
                          <a:lnTo>
                            <a:pt x="2167" y="12170"/>
                          </a:lnTo>
                          <a:lnTo>
                            <a:pt x="2141" y="12159"/>
                          </a:lnTo>
                          <a:lnTo>
                            <a:pt x="2114" y="12152"/>
                          </a:lnTo>
                          <a:lnTo>
                            <a:pt x="2086" y="12146"/>
                          </a:lnTo>
                          <a:lnTo>
                            <a:pt x="2058" y="12143"/>
                          </a:lnTo>
                          <a:lnTo>
                            <a:pt x="2029" y="12141"/>
                          </a:lnTo>
                          <a:lnTo>
                            <a:pt x="2012" y="12147"/>
                          </a:lnTo>
                          <a:lnTo>
                            <a:pt x="1994" y="12152"/>
                          </a:lnTo>
                          <a:lnTo>
                            <a:pt x="1975" y="12155"/>
                          </a:lnTo>
                          <a:lnTo>
                            <a:pt x="1956" y="12158"/>
                          </a:lnTo>
                          <a:lnTo>
                            <a:pt x="1915" y="12162"/>
                          </a:lnTo>
                          <a:lnTo>
                            <a:pt x="1873" y="12168"/>
                          </a:lnTo>
                          <a:lnTo>
                            <a:pt x="1853" y="12173"/>
                          </a:lnTo>
                          <a:lnTo>
                            <a:pt x="1832" y="12177"/>
                          </a:lnTo>
                          <a:lnTo>
                            <a:pt x="1811" y="12185"/>
                          </a:lnTo>
                          <a:lnTo>
                            <a:pt x="1792" y="12194"/>
                          </a:lnTo>
                          <a:lnTo>
                            <a:pt x="1772" y="12204"/>
                          </a:lnTo>
                          <a:lnTo>
                            <a:pt x="1754" y="12218"/>
                          </a:lnTo>
                          <a:lnTo>
                            <a:pt x="1745" y="12225"/>
                          </a:lnTo>
                          <a:lnTo>
                            <a:pt x="1737" y="12234"/>
                          </a:lnTo>
                          <a:lnTo>
                            <a:pt x="1728" y="12243"/>
                          </a:lnTo>
                          <a:lnTo>
                            <a:pt x="1720" y="12254"/>
                          </a:lnTo>
                          <a:lnTo>
                            <a:pt x="1711" y="12218"/>
                          </a:lnTo>
                          <a:lnTo>
                            <a:pt x="1702" y="12183"/>
                          </a:lnTo>
                          <a:lnTo>
                            <a:pt x="1691" y="12147"/>
                          </a:lnTo>
                          <a:lnTo>
                            <a:pt x="1681" y="12113"/>
                          </a:lnTo>
                          <a:lnTo>
                            <a:pt x="1658" y="12044"/>
                          </a:lnTo>
                          <a:lnTo>
                            <a:pt x="1634" y="11975"/>
                          </a:lnTo>
                          <a:lnTo>
                            <a:pt x="1610" y="11907"/>
                          </a:lnTo>
                          <a:lnTo>
                            <a:pt x="1586" y="11840"/>
                          </a:lnTo>
                          <a:lnTo>
                            <a:pt x="1563" y="11774"/>
                          </a:lnTo>
                          <a:lnTo>
                            <a:pt x="1541" y="11710"/>
                          </a:lnTo>
                          <a:lnTo>
                            <a:pt x="1525" y="11695"/>
                          </a:lnTo>
                          <a:lnTo>
                            <a:pt x="1509" y="11681"/>
                          </a:lnTo>
                          <a:lnTo>
                            <a:pt x="1494" y="11665"/>
                          </a:lnTo>
                          <a:lnTo>
                            <a:pt x="1478" y="11648"/>
                          </a:lnTo>
                          <a:lnTo>
                            <a:pt x="1447" y="11611"/>
                          </a:lnTo>
                          <a:lnTo>
                            <a:pt x="1417" y="11573"/>
                          </a:lnTo>
                          <a:lnTo>
                            <a:pt x="1386" y="11533"/>
                          </a:lnTo>
                          <a:lnTo>
                            <a:pt x="1356" y="11494"/>
                          </a:lnTo>
                          <a:lnTo>
                            <a:pt x="1326" y="11455"/>
                          </a:lnTo>
                          <a:lnTo>
                            <a:pt x="1294" y="11417"/>
                          </a:lnTo>
                          <a:lnTo>
                            <a:pt x="1278" y="11399"/>
                          </a:lnTo>
                          <a:lnTo>
                            <a:pt x="1262" y="11383"/>
                          </a:lnTo>
                          <a:lnTo>
                            <a:pt x="1246" y="11368"/>
                          </a:lnTo>
                          <a:lnTo>
                            <a:pt x="1229" y="11353"/>
                          </a:lnTo>
                          <a:lnTo>
                            <a:pt x="1212" y="11341"/>
                          </a:lnTo>
                          <a:lnTo>
                            <a:pt x="1194" y="11329"/>
                          </a:lnTo>
                          <a:lnTo>
                            <a:pt x="1176" y="11318"/>
                          </a:lnTo>
                          <a:lnTo>
                            <a:pt x="1158" y="11309"/>
                          </a:lnTo>
                          <a:lnTo>
                            <a:pt x="1139" y="11303"/>
                          </a:lnTo>
                          <a:lnTo>
                            <a:pt x="1120" y="11299"/>
                          </a:lnTo>
                          <a:lnTo>
                            <a:pt x="1100" y="11296"/>
                          </a:lnTo>
                          <a:lnTo>
                            <a:pt x="1080" y="11296"/>
                          </a:lnTo>
                          <a:lnTo>
                            <a:pt x="1059" y="11297"/>
                          </a:lnTo>
                          <a:lnTo>
                            <a:pt x="1037" y="11302"/>
                          </a:lnTo>
                          <a:lnTo>
                            <a:pt x="1015" y="11309"/>
                          </a:lnTo>
                          <a:lnTo>
                            <a:pt x="992" y="11320"/>
                          </a:lnTo>
                          <a:lnTo>
                            <a:pt x="980" y="11327"/>
                          </a:lnTo>
                          <a:lnTo>
                            <a:pt x="966" y="11338"/>
                          </a:lnTo>
                          <a:lnTo>
                            <a:pt x="951" y="11353"/>
                          </a:lnTo>
                          <a:lnTo>
                            <a:pt x="935" y="11368"/>
                          </a:lnTo>
                          <a:lnTo>
                            <a:pt x="918" y="11387"/>
                          </a:lnTo>
                          <a:lnTo>
                            <a:pt x="901" y="11407"/>
                          </a:lnTo>
                          <a:lnTo>
                            <a:pt x="883" y="11429"/>
                          </a:lnTo>
                          <a:lnTo>
                            <a:pt x="866" y="11452"/>
                          </a:lnTo>
                          <a:lnTo>
                            <a:pt x="832" y="11497"/>
                          </a:lnTo>
                          <a:lnTo>
                            <a:pt x="801" y="11539"/>
                          </a:lnTo>
                          <a:lnTo>
                            <a:pt x="776" y="11576"/>
                          </a:lnTo>
                          <a:lnTo>
                            <a:pt x="759" y="11605"/>
                          </a:lnTo>
                          <a:lnTo>
                            <a:pt x="729" y="11500"/>
                          </a:lnTo>
                          <a:lnTo>
                            <a:pt x="697" y="11392"/>
                          </a:lnTo>
                          <a:lnTo>
                            <a:pt x="680" y="11336"/>
                          </a:lnTo>
                          <a:lnTo>
                            <a:pt x="661" y="11282"/>
                          </a:lnTo>
                          <a:lnTo>
                            <a:pt x="642" y="11228"/>
                          </a:lnTo>
                          <a:lnTo>
                            <a:pt x="621" y="11176"/>
                          </a:lnTo>
                          <a:lnTo>
                            <a:pt x="600" y="11125"/>
                          </a:lnTo>
                          <a:lnTo>
                            <a:pt x="577" y="11075"/>
                          </a:lnTo>
                          <a:lnTo>
                            <a:pt x="565" y="11051"/>
                          </a:lnTo>
                          <a:lnTo>
                            <a:pt x="552" y="11029"/>
                          </a:lnTo>
                          <a:lnTo>
                            <a:pt x="540" y="11006"/>
                          </a:lnTo>
                          <a:lnTo>
                            <a:pt x="526" y="10984"/>
                          </a:lnTo>
                          <a:lnTo>
                            <a:pt x="513" y="10964"/>
                          </a:lnTo>
                          <a:lnTo>
                            <a:pt x="499" y="10943"/>
                          </a:lnTo>
                          <a:lnTo>
                            <a:pt x="485" y="10924"/>
                          </a:lnTo>
                          <a:lnTo>
                            <a:pt x="470" y="10906"/>
                          </a:lnTo>
                          <a:lnTo>
                            <a:pt x="455" y="10890"/>
                          </a:lnTo>
                          <a:lnTo>
                            <a:pt x="439" y="10873"/>
                          </a:lnTo>
                          <a:lnTo>
                            <a:pt x="423" y="10858"/>
                          </a:lnTo>
                          <a:lnTo>
                            <a:pt x="407" y="10845"/>
                          </a:lnTo>
                          <a:lnTo>
                            <a:pt x="379" y="10839"/>
                          </a:lnTo>
                          <a:lnTo>
                            <a:pt x="351" y="10834"/>
                          </a:lnTo>
                          <a:lnTo>
                            <a:pt x="325" y="10831"/>
                          </a:lnTo>
                          <a:lnTo>
                            <a:pt x="298" y="10830"/>
                          </a:lnTo>
                          <a:lnTo>
                            <a:pt x="272" y="10828"/>
                          </a:lnTo>
                          <a:lnTo>
                            <a:pt x="247" y="10828"/>
                          </a:lnTo>
                          <a:lnTo>
                            <a:pt x="222" y="10830"/>
                          </a:lnTo>
                          <a:lnTo>
                            <a:pt x="197" y="10831"/>
                          </a:lnTo>
                          <a:lnTo>
                            <a:pt x="172" y="10834"/>
                          </a:lnTo>
                          <a:lnTo>
                            <a:pt x="147" y="10839"/>
                          </a:lnTo>
                          <a:lnTo>
                            <a:pt x="123" y="10845"/>
                          </a:lnTo>
                          <a:lnTo>
                            <a:pt x="98" y="10851"/>
                          </a:lnTo>
                          <a:lnTo>
                            <a:pt x="74" y="10858"/>
                          </a:lnTo>
                          <a:lnTo>
                            <a:pt x="49" y="10867"/>
                          </a:lnTo>
                          <a:lnTo>
                            <a:pt x="25" y="10876"/>
                          </a:lnTo>
                          <a:lnTo>
                            <a:pt x="0" y="10887"/>
                          </a:lnTo>
                          <a:lnTo>
                            <a:pt x="15" y="10806"/>
                          </a:lnTo>
                          <a:lnTo>
                            <a:pt x="32" y="10723"/>
                          </a:lnTo>
                          <a:lnTo>
                            <a:pt x="48" y="10642"/>
                          </a:lnTo>
                          <a:lnTo>
                            <a:pt x="66" y="10561"/>
                          </a:lnTo>
                          <a:lnTo>
                            <a:pt x="102" y="10399"/>
                          </a:lnTo>
                          <a:lnTo>
                            <a:pt x="139" y="10239"/>
                          </a:lnTo>
                          <a:lnTo>
                            <a:pt x="178" y="10078"/>
                          </a:lnTo>
                          <a:lnTo>
                            <a:pt x="218" y="9919"/>
                          </a:lnTo>
                          <a:lnTo>
                            <a:pt x="259" y="9761"/>
                          </a:lnTo>
                          <a:lnTo>
                            <a:pt x="301" y="9603"/>
                          </a:lnTo>
                          <a:lnTo>
                            <a:pt x="343" y="9444"/>
                          </a:lnTo>
                          <a:lnTo>
                            <a:pt x="385" y="9287"/>
                          </a:lnTo>
                          <a:lnTo>
                            <a:pt x="427" y="9128"/>
                          </a:lnTo>
                          <a:lnTo>
                            <a:pt x="468" y="8970"/>
                          </a:lnTo>
                          <a:lnTo>
                            <a:pt x="509" y="8812"/>
                          </a:lnTo>
                          <a:lnTo>
                            <a:pt x="549" y="8651"/>
                          </a:lnTo>
                          <a:lnTo>
                            <a:pt x="588" y="8492"/>
                          </a:lnTo>
                          <a:lnTo>
                            <a:pt x="626" y="8330"/>
                          </a:lnTo>
                          <a:lnTo>
                            <a:pt x="640" y="8300"/>
                          </a:lnTo>
                          <a:lnTo>
                            <a:pt x="653" y="8267"/>
                          </a:lnTo>
                          <a:lnTo>
                            <a:pt x="665" y="8233"/>
                          </a:lnTo>
                          <a:lnTo>
                            <a:pt x="676" y="8198"/>
                          </a:lnTo>
                          <a:lnTo>
                            <a:pt x="687" y="8161"/>
                          </a:lnTo>
                          <a:lnTo>
                            <a:pt x="697" y="8123"/>
                          </a:lnTo>
                          <a:lnTo>
                            <a:pt x="706" y="8086"/>
                          </a:lnTo>
                          <a:lnTo>
                            <a:pt x="716" y="8047"/>
                          </a:lnTo>
                          <a:lnTo>
                            <a:pt x="734" y="7969"/>
                          </a:lnTo>
                          <a:lnTo>
                            <a:pt x="754" y="7891"/>
                          </a:lnTo>
                          <a:lnTo>
                            <a:pt x="764" y="7852"/>
                          </a:lnTo>
                          <a:lnTo>
                            <a:pt x="775" y="7815"/>
                          </a:lnTo>
                          <a:lnTo>
                            <a:pt x="786" y="7779"/>
                          </a:lnTo>
                          <a:lnTo>
                            <a:pt x="799" y="7743"/>
                          </a:lnTo>
                          <a:lnTo>
                            <a:pt x="803" y="7741"/>
                          </a:lnTo>
                          <a:lnTo>
                            <a:pt x="807" y="7740"/>
                          </a:lnTo>
                          <a:lnTo>
                            <a:pt x="811" y="7737"/>
                          </a:lnTo>
                          <a:lnTo>
                            <a:pt x="814" y="7734"/>
                          </a:lnTo>
                          <a:lnTo>
                            <a:pt x="819" y="7725"/>
                          </a:lnTo>
                          <a:lnTo>
                            <a:pt x="824" y="7714"/>
                          </a:lnTo>
                          <a:lnTo>
                            <a:pt x="827" y="7701"/>
                          </a:lnTo>
                          <a:lnTo>
                            <a:pt x="829" y="7687"/>
                          </a:lnTo>
                          <a:lnTo>
                            <a:pt x="831" y="7671"/>
                          </a:lnTo>
                          <a:lnTo>
                            <a:pt x="833" y="7654"/>
                          </a:lnTo>
                          <a:lnTo>
                            <a:pt x="835" y="7620"/>
                          </a:lnTo>
                          <a:lnTo>
                            <a:pt x="839" y="7585"/>
                          </a:lnTo>
                          <a:lnTo>
                            <a:pt x="841" y="7569"/>
                          </a:lnTo>
                          <a:lnTo>
                            <a:pt x="844" y="7552"/>
                          </a:lnTo>
                          <a:lnTo>
                            <a:pt x="848" y="7539"/>
                          </a:lnTo>
                          <a:lnTo>
                            <a:pt x="854" y="7527"/>
                          </a:lnTo>
                          <a:lnTo>
                            <a:pt x="880" y="7449"/>
                          </a:lnTo>
                          <a:lnTo>
                            <a:pt x="906" y="7369"/>
                          </a:lnTo>
                          <a:lnTo>
                            <a:pt x="931" y="7288"/>
                          </a:lnTo>
                          <a:lnTo>
                            <a:pt x="957" y="7207"/>
                          </a:lnTo>
                          <a:lnTo>
                            <a:pt x="983" y="7125"/>
                          </a:lnTo>
                          <a:lnTo>
                            <a:pt x="1008" y="7041"/>
                          </a:lnTo>
                          <a:lnTo>
                            <a:pt x="1034" y="6958"/>
                          </a:lnTo>
                          <a:lnTo>
                            <a:pt x="1059" y="6878"/>
                          </a:lnTo>
                          <a:lnTo>
                            <a:pt x="1115" y="6680"/>
                          </a:lnTo>
                          <a:lnTo>
                            <a:pt x="1171" y="6482"/>
                          </a:lnTo>
                          <a:lnTo>
                            <a:pt x="1229" y="6284"/>
                          </a:lnTo>
                          <a:lnTo>
                            <a:pt x="1288" y="6086"/>
                          </a:lnTo>
                          <a:lnTo>
                            <a:pt x="1347" y="5888"/>
                          </a:lnTo>
                          <a:lnTo>
                            <a:pt x="1407" y="5692"/>
                          </a:lnTo>
                          <a:lnTo>
                            <a:pt x="1468" y="5494"/>
                          </a:lnTo>
                          <a:lnTo>
                            <a:pt x="1531" y="5297"/>
                          </a:lnTo>
                          <a:lnTo>
                            <a:pt x="1593" y="5102"/>
                          </a:lnTo>
                          <a:lnTo>
                            <a:pt x="1657" y="4906"/>
                          </a:lnTo>
                          <a:lnTo>
                            <a:pt x="1721" y="4711"/>
                          </a:lnTo>
                          <a:lnTo>
                            <a:pt x="1787" y="4518"/>
                          </a:lnTo>
                          <a:lnTo>
                            <a:pt x="1853" y="4324"/>
                          </a:lnTo>
                          <a:lnTo>
                            <a:pt x="1920" y="4132"/>
                          </a:lnTo>
                          <a:lnTo>
                            <a:pt x="1988" y="3940"/>
                          </a:lnTo>
                          <a:lnTo>
                            <a:pt x="2058" y="3750"/>
                          </a:lnTo>
                          <a:lnTo>
                            <a:pt x="2093" y="3603"/>
                          </a:lnTo>
                          <a:lnTo>
                            <a:pt x="2128" y="3456"/>
                          </a:lnTo>
                          <a:lnTo>
                            <a:pt x="2164" y="3311"/>
                          </a:lnTo>
                          <a:lnTo>
                            <a:pt x="2200" y="3165"/>
                          </a:lnTo>
                          <a:lnTo>
                            <a:pt x="2237" y="3021"/>
                          </a:lnTo>
                          <a:lnTo>
                            <a:pt x="2275" y="2879"/>
                          </a:lnTo>
                          <a:lnTo>
                            <a:pt x="2314" y="2737"/>
                          </a:lnTo>
                          <a:lnTo>
                            <a:pt x="2353" y="2594"/>
                          </a:lnTo>
                          <a:lnTo>
                            <a:pt x="2394" y="2453"/>
                          </a:lnTo>
                          <a:lnTo>
                            <a:pt x="2436" y="2314"/>
                          </a:lnTo>
                          <a:lnTo>
                            <a:pt x="2480" y="2176"/>
                          </a:lnTo>
                          <a:lnTo>
                            <a:pt x="2525" y="2038"/>
                          </a:lnTo>
                          <a:lnTo>
                            <a:pt x="2572" y="1901"/>
                          </a:lnTo>
                          <a:lnTo>
                            <a:pt x="2620" y="1765"/>
                          </a:lnTo>
                          <a:lnTo>
                            <a:pt x="2646" y="1698"/>
                          </a:lnTo>
                          <a:lnTo>
                            <a:pt x="2671" y="1630"/>
                          </a:lnTo>
                          <a:lnTo>
                            <a:pt x="2697" y="1564"/>
                          </a:lnTo>
                          <a:lnTo>
                            <a:pt x="2724" y="1497"/>
                          </a:lnTo>
                          <a:lnTo>
                            <a:pt x="2735" y="1483"/>
                          </a:lnTo>
                          <a:lnTo>
                            <a:pt x="2747" y="1471"/>
                          </a:lnTo>
                          <a:lnTo>
                            <a:pt x="2759" y="1459"/>
                          </a:lnTo>
                          <a:lnTo>
                            <a:pt x="2773" y="1450"/>
                          </a:lnTo>
                          <a:lnTo>
                            <a:pt x="2787" y="1440"/>
                          </a:lnTo>
                          <a:lnTo>
                            <a:pt x="2802" y="1432"/>
                          </a:lnTo>
                          <a:lnTo>
                            <a:pt x="2817" y="1425"/>
                          </a:lnTo>
                          <a:lnTo>
                            <a:pt x="2833" y="1420"/>
                          </a:lnTo>
                          <a:lnTo>
                            <a:pt x="2849" y="1416"/>
                          </a:lnTo>
                          <a:lnTo>
                            <a:pt x="2866" y="1413"/>
                          </a:lnTo>
                          <a:lnTo>
                            <a:pt x="2882" y="1410"/>
                          </a:lnTo>
                          <a:lnTo>
                            <a:pt x="2899" y="1410"/>
                          </a:lnTo>
                          <a:lnTo>
                            <a:pt x="2915" y="1411"/>
                          </a:lnTo>
                          <a:lnTo>
                            <a:pt x="2932" y="1414"/>
                          </a:lnTo>
                          <a:lnTo>
                            <a:pt x="2948" y="1417"/>
                          </a:lnTo>
                          <a:lnTo>
                            <a:pt x="2964" y="1423"/>
                          </a:lnTo>
                          <a:lnTo>
                            <a:pt x="2991" y="1476"/>
                          </a:lnTo>
                          <a:lnTo>
                            <a:pt x="3015" y="1525"/>
                          </a:lnTo>
                          <a:lnTo>
                            <a:pt x="3026" y="1549"/>
                          </a:lnTo>
                          <a:lnTo>
                            <a:pt x="3039" y="1573"/>
                          </a:lnTo>
                          <a:lnTo>
                            <a:pt x="3052" y="1596"/>
                          </a:lnTo>
                          <a:lnTo>
                            <a:pt x="3068" y="1618"/>
                          </a:lnTo>
                          <a:lnTo>
                            <a:pt x="3073" y="1611"/>
                          </a:lnTo>
                          <a:lnTo>
                            <a:pt x="3077" y="1605"/>
                          </a:lnTo>
                          <a:lnTo>
                            <a:pt x="3081" y="1597"/>
                          </a:lnTo>
                          <a:lnTo>
                            <a:pt x="3084" y="1590"/>
                          </a:lnTo>
                          <a:lnTo>
                            <a:pt x="3086" y="1582"/>
                          </a:lnTo>
                          <a:lnTo>
                            <a:pt x="3087" y="1575"/>
                          </a:lnTo>
                          <a:lnTo>
                            <a:pt x="3088" y="1566"/>
                          </a:lnTo>
                          <a:lnTo>
                            <a:pt x="3088" y="1558"/>
                          </a:lnTo>
                          <a:lnTo>
                            <a:pt x="3086" y="1543"/>
                          </a:lnTo>
                          <a:lnTo>
                            <a:pt x="3083" y="1527"/>
                          </a:lnTo>
                          <a:lnTo>
                            <a:pt x="3078" y="1510"/>
                          </a:lnTo>
                          <a:lnTo>
                            <a:pt x="3072" y="1495"/>
                          </a:lnTo>
                          <a:lnTo>
                            <a:pt x="3056" y="1464"/>
                          </a:lnTo>
                          <a:lnTo>
                            <a:pt x="3040" y="1434"/>
                          </a:lnTo>
                          <a:lnTo>
                            <a:pt x="3024" y="1408"/>
                          </a:lnTo>
                          <a:lnTo>
                            <a:pt x="3013" y="1384"/>
                          </a:lnTo>
                          <a:lnTo>
                            <a:pt x="2996" y="1369"/>
                          </a:lnTo>
                          <a:lnTo>
                            <a:pt x="2978" y="1356"/>
                          </a:lnTo>
                          <a:lnTo>
                            <a:pt x="2961" y="1342"/>
                          </a:lnTo>
                          <a:lnTo>
                            <a:pt x="2944" y="1330"/>
                          </a:lnTo>
                          <a:lnTo>
                            <a:pt x="2926" y="1320"/>
                          </a:lnTo>
                          <a:lnTo>
                            <a:pt x="2908" y="1314"/>
                          </a:lnTo>
                          <a:lnTo>
                            <a:pt x="2898" y="1311"/>
                          </a:lnTo>
                          <a:lnTo>
                            <a:pt x="2889" y="1309"/>
                          </a:lnTo>
                          <a:lnTo>
                            <a:pt x="2879" y="1309"/>
                          </a:lnTo>
                          <a:lnTo>
                            <a:pt x="2868" y="1311"/>
                          </a:lnTo>
                          <a:lnTo>
                            <a:pt x="2898" y="1225"/>
                          </a:lnTo>
                          <a:lnTo>
                            <a:pt x="2928" y="1140"/>
                          </a:lnTo>
                          <a:lnTo>
                            <a:pt x="2957" y="1054"/>
                          </a:lnTo>
                          <a:lnTo>
                            <a:pt x="2987" y="969"/>
                          </a:lnTo>
                          <a:lnTo>
                            <a:pt x="3016" y="884"/>
                          </a:lnTo>
                          <a:lnTo>
                            <a:pt x="3047" y="800"/>
                          </a:lnTo>
                          <a:lnTo>
                            <a:pt x="3077" y="716"/>
                          </a:lnTo>
                          <a:lnTo>
                            <a:pt x="3109" y="633"/>
                          </a:lnTo>
                          <a:lnTo>
                            <a:pt x="3141" y="551"/>
                          </a:lnTo>
                          <a:lnTo>
                            <a:pt x="3174" y="470"/>
                          </a:lnTo>
                          <a:lnTo>
                            <a:pt x="3207" y="389"/>
                          </a:lnTo>
                          <a:lnTo>
                            <a:pt x="3243" y="309"/>
                          </a:lnTo>
                          <a:lnTo>
                            <a:pt x="3279" y="230"/>
                          </a:lnTo>
                          <a:lnTo>
                            <a:pt x="3316" y="152"/>
                          </a:lnTo>
                          <a:lnTo>
                            <a:pt x="3356" y="75"/>
                          </a:lnTo>
                          <a:lnTo>
                            <a:pt x="3396" y="0"/>
                          </a:lnTo>
                          <a:lnTo>
                            <a:pt x="3488" y="24"/>
                          </a:lnTo>
                          <a:lnTo>
                            <a:pt x="3580" y="50"/>
                          </a:lnTo>
                          <a:lnTo>
                            <a:pt x="3672" y="78"/>
                          </a:lnTo>
                          <a:lnTo>
                            <a:pt x="3764" y="108"/>
                          </a:lnTo>
                          <a:lnTo>
                            <a:pt x="3855" y="141"/>
                          </a:lnTo>
                          <a:lnTo>
                            <a:pt x="3946" y="177"/>
                          </a:lnTo>
                          <a:lnTo>
                            <a:pt x="4037" y="215"/>
                          </a:lnTo>
                          <a:lnTo>
                            <a:pt x="4127" y="255"/>
                          </a:lnTo>
                          <a:lnTo>
                            <a:pt x="4216" y="299"/>
                          </a:lnTo>
                          <a:lnTo>
                            <a:pt x="4305" y="344"/>
                          </a:lnTo>
                          <a:lnTo>
                            <a:pt x="4393" y="393"/>
                          </a:lnTo>
                          <a:lnTo>
                            <a:pt x="4479" y="446"/>
                          </a:lnTo>
                          <a:lnTo>
                            <a:pt x="4565" y="501"/>
                          </a:lnTo>
                          <a:lnTo>
                            <a:pt x="4649" y="560"/>
                          </a:lnTo>
                          <a:lnTo>
                            <a:pt x="4732" y="621"/>
                          </a:lnTo>
                          <a:lnTo>
                            <a:pt x="4814" y="686"/>
                          </a:lnTo>
                          <a:lnTo>
                            <a:pt x="4894" y="753"/>
                          </a:lnTo>
                          <a:lnTo>
                            <a:pt x="4972" y="825"/>
                          </a:lnTo>
                          <a:lnTo>
                            <a:pt x="5048" y="901"/>
                          </a:lnTo>
                          <a:lnTo>
                            <a:pt x="5123" y="981"/>
                          </a:lnTo>
                          <a:lnTo>
                            <a:pt x="5195" y="1063"/>
                          </a:lnTo>
                          <a:lnTo>
                            <a:pt x="5266" y="1150"/>
                          </a:lnTo>
                          <a:lnTo>
                            <a:pt x="5334" y="1240"/>
                          </a:lnTo>
                          <a:lnTo>
                            <a:pt x="5400" y="1335"/>
                          </a:lnTo>
                          <a:lnTo>
                            <a:pt x="5463" y="1434"/>
                          </a:lnTo>
                          <a:lnTo>
                            <a:pt x="5525" y="1537"/>
                          </a:lnTo>
                          <a:lnTo>
                            <a:pt x="5583" y="1645"/>
                          </a:lnTo>
                          <a:lnTo>
                            <a:pt x="5638" y="1756"/>
                          </a:lnTo>
                          <a:lnTo>
                            <a:pt x="5691" y="1873"/>
                          </a:lnTo>
                          <a:lnTo>
                            <a:pt x="5740" y="1994"/>
                          </a:lnTo>
                          <a:lnTo>
                            <a:pt x="5787" y="2119"/>
                          </a:lnTo>
                          <a:lnTo>
                            <a:pt x="5830" y="2249"/>
                          </a:lnTo>
                          <a:close/>
                        </a:path>
                      </a:pathLst>
                    </a:cu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8" name=""/>
                    <p:cNvSpPr/>
                    <p:nvPr/>
                  </p:nvSpPr>
                  <p:spPr>
                    <a:xfrm>
                      <a:off x="921600" y="2632680"/>
                      <a:ext cx="73440" cy="15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4" h="1064">
                          <a:moveTo>
                            <a:pt x="444" y="13"/>
                          </a:moveTo>
                          <a:lnTo>
                            <a:pt x="0" y="1064"/>
                          </a:lnTo>
                          <a:lnTo>
                            <a:pt x="29" y="908"/>
                          </a:lnTo>
                          <a:lnTo>
                            <a:pt x="54" y="853"/>
                          </a:lnTo>
                          <a:lnTo>
                            <a:pt x="79" y="797"/>
                          </a:lnTo>
                          <a:lnTo>
                            <a:pt x="104" y="739"/>
                          </a:lnTo>
                          <a:lnTo>
                            <a:pt x="127" y="681"/>
                          </a:lnTo>
                          <a:lnTo>
                            <a:pt x="174" y="561"/>
                          </a:lnTo>
                          <a:lnTo>
                            <a:pt x="220" y="442"/>
                          </a:lnTo>
                          <a:lnTo>
                            <a:pt x="243" y="382"/>
                          </a:lnTo>
                          <a:lnTo>
                            <a:pt x="267" y="324"/>
                          </a:lnTo>
                          <a:lnTo>
                            <a:pt x="292" y="265"/>
                          </a:lnTo>
                          <a:lnTo>
                            <a:pt x="317" y="210"/>
                          </a:lnTo>
                          <a:lnTo>
                            <a:pt x="344" y="154"/>
                          </a:lnTo>
                          <a:lnTo>
                            <a:pt x="372" y="100"/>
                          </a:lnTo>
                          <a:lnTo>
                            <a:pt x="387" y="75"/>
                          </a:lnTo>
                          <a:lnTo>
                            <a:pt x="401" y="49"/>
                          </a:lnTo>
                          <a:lnTo>
                            <a:pt x="417" y="25"/>
                          </a:lnTo>
                          <a:lnTo>
                            <a:pt x="432" y="0"/>
                          </a:lnTo>
                          <a:lnTo>
                            <a:pt x="444" y="1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9" name=""/>
                    <p:cNvSpPr/>
                    <p:nvPr/>
                  </p:nvSpPr>
                  <p:spPr>
                    <a:xfrm>
                      <a:off x="1002240" y="2643480"/>
                      <a:ext cx="7020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6" h="313">
                          <a:moveTo>
                            <a:pt x="369" y="201"/>
                          </a:moveTo>
                          <a:lnTo>
                            <a:pt x="357" y="195"/>
                          </a:lnTo>
                          <a:lnTo>
                            <a:pt x="345" y="190"/>
                          </a:lnTo>
                          <a:lnTo>
                            <a:pt x="333" y="187"/>
                          </a:lnTo>
                          <a:lnTo>
                            <a:pt x="321" y="184"/>
                          </a:lnTo>
                          <a:lnTo>
                            <a:pt x="309" y="183"/>
                          </a:lnTo>
                          <a:lnTo>
                            <a:pt x="298" y="183"/>
                          </a:lnTo>
                          <a:lnTo>
                            <a:pt x="286" y="181"/>
                          </a:lnTo>
                          <a:lnTo>
                            <a:pt x="274" y="183"/>
                          </a:lnTo>
                          <a:lnTo>
                            <a:pt x="251" y="186"/>
                          </a:lnTo>
                          <a:lnTo>
                            <a:pt x="228" y="192"/>
                          </a:lnTo>
                          <a:lnTo>
                            <a:pt x="205" y="201"/>
                          </a:lnTo>
                          <a:lnTo>
                            <a:pt x="182" y="210"/>
                          </a:lnTo>
                          <a:lnTo>
                            <a:pt x="160" y="222"/>
                          </a:lnTo>
                          <a:lnTo>
                            <a:pt x="137" y="234"/>
                          </a:lnTo>
                          <a:lnTo>
                            <a:pt x="115" y="247"/>
                          </a:lnTo>
                          <a:lnTo>
                            <a:pt x="93" y="261"/>
                          </a:lnTo>
                          <a:lnTo>
                            <a:pt x="49" y="289"/>
                          </a:lnTo>
                          <a:lnTo>
                            <a:pt x="5" y="313"/>
                          </a:lnTo>
                          <a:lnTo>
                            <a:pt x="2" y="292"/>
                          </a:lnTo>
                          <a:lnTo>
                            <a:pt x="0" y="273"/>
                          </a:lnTo>
                          <a:lnTo>
                            <a:pt x="0" y="255"/>
                          </a:lnTo>
                          <a:lnTo>
                            <a:pt x="1" y="237"/>
                          </a:lnTo>
                          <a:lnTo>
                            <a:pt x="4" y="220"/>
                          </a:lnTo>
                          <a:lnTo>
                            <a:pt x="8" y="204"/>
                          </a:lnTo>
                          <a:lnTo>
                            <a:pt x="12" y="187"/>
                          </a:lnTo>
                          <a:lnTo>
                            <a:pt x="18" y="171"/>
                          </a:lnTo>
                          <a:lnTo>
                            <a:pt x="30" y="141"/>
                          </a:lnTo>
                          <a:lnTo>
                            <a:pt x="42" y="109"/>
                          </a:lnTo>
                          <a:lnTo>
                            <a:pt x="48" y="94"/>
                          </a:lnTo>
                          <a:lnTo>
                            <a:pt x="54" y="78"/>
                          </a:lnTo>
                          <a:lnTo>
                            <a:pt x="58" y="61"/>
                          </a:lnTo>
                          <a:lnTo>
                            <a:pt x="63" y="45"/>
                          </a:lnTo>
                          <a:lnTo>
                            <a:pt x="73" y="39"/>
                          </a:lnTo>
                          <a:lnTo>
                            <a:pt x="83" y="31"/>
                          </a:lnTo>
                          <a:lnTo>
                            <a:pt x="93" y="27"/>
                          </a:lnTo>
                          <a:lnTo>
                            <a:pt x="104" y="21"/>
                          </a:lnTo>
                          <a:lnTo>
                            <a:pt x="127" y="13"/>
                          </a:lnTo>
                          <a:lnTo>
                            <a:pt x="150" y="7"/>
                          </a:lnTo>
                          <a:lnTo>
                            <a:pt x="174" y="3"/>
                          </a:lnTo>
                          <a:lnTo>
                            <a:pt x="198" y="1"/>
                          </a:lnTo>
                          <a:lnTo>
                            <a:pt x="223" y="0"/>
                          </a:lnTo>
                          <a:lnTo>
                            <a:pt x="248" y="0"/>
                          </a:lnTo>
                          <a:lnTo>
                            <a:pt x="297" y="1"/>
                          </a:lnTo>
                          <a:lnTo>
                            <a:pt x="344" y="3"/>
                          </a:lnTo>
                          <a:lnTo>
                            <a:pt x="366" y="4"/>
                          </a:lnTo>
                          <a:lnTo>
                            <a:pt x="388" y="4"/>
                          </a:lnTo>
                          <a:lnTo>
                            <a:pt x="408" y="4"/>
                          </a:lnTo>
                          <a:lnTo>
                            <a:pt x="426" y="1"/>
                          </a:lnTo>
                          <a:lnTo>
                            <a:pt x="369" y="20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>
                      <a:off x="1086840" y="2656080"/>
                      <a:ext cx="23760" cy="5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4" h="351">
                          <a:moveTo>
                            <a:pt x="144" y="0"/>
                          </a:moveTo>
                          <a:lnTo>
                            <a:pt x="140" y="25"/>
                          </a:lnTo>
                          <a:lnTo>
                            <a:pt x="136" y="51"/>
                          </a:lnTo>
                          <a:lnTo>
                            <a:pt x="130" y="76"/>
                          </a:lnTo>
                          <a:lnTo>
                            <a:pt x="124" y="100"/>
                          </a:lnTo>
                          <a:lnTo>
                            <a:pt x="116" y="126"/>
                          </a:lnTo>
                          <a:lnTo>
                            <a:pt x="108" y="150"/>
                          </a:lnTo>
                          <a:lnTo>
                            <a:pt x="100" y="174"/>
                          </a:lnTo>
                          <a:lnTo>
                            <a:pt x="90" y="196"/>
                          </a:lnTo>
                          <a:lnTo>
                            <a:pt x="80" y="219"/>
                          </a:lnTo>
                          <a:lnTo>
                            <a:pt x="70" y="241"/>
                          </a:lnTo>
                          <a:lnTo>
                            <a:pt x="59" y="262"/>
                          </a:lnTo>
                          <a:lnTo>
                            <a:pt x="48" y="282"/>
                          </a:lnTo>
                          <a:lnTo>
                            <a:pt x="36" y="301"/>
                          </a:lnTo>
                          <a:lnTo>
                            <a:pt x="24" y="319"/>
                          </a:lnTo>
                          <a:lnTo>
                            <a:pt x="12" y="336"/>
                          </a:lnTo>
                          <a:lnTo>
                            <a:pt x="0" y="351"/>
                          </a:lnTo>
                          <a:lnTo>
                            <a:pt x="7" y="334"/>
                          </a:lnTo>
                          <a:lnTo>
                            <a:pt x="14" y="315"/>
                          </a:lnTo>
                          <a:lnTo>
                            <a:pt x="20" y="294"/>
                          </a:lnTo>
                          <a:lnTo>
                            <a:pt x="27" y="271"/>
                          </a:lnTo>
                          <a:lnTo>
                            <a:pt x="41" y="220"/>
                          </a:lnTo>
                          <a:lnTo>
                            <a:pt x="57" y="168"/>
                          </a:lnTo>
                          <a:lnTo>
                            <a:pt x="65" y="141"/>
                          </a:lnTo>
                          <a:lnTo>
                            <a:pt x="74" y="115"/>
                          </a:lnTo>
                          <a:lnTo>
                            <a:pt x="84" y="91"/>
                          </a:lnTo>
                          <a:lnTo>
                            <a:pt x="94" y="67"/>
                          </a:lnTo>
                          <a:lnTo>
                            <a:pt x="105" y="46"/>
                          </a:lnTo>
                          <a:lnTo>
                            <a:pt x="117" y="28"/>
                          </a:lnTo>
                          <a:lnTo>
                            <a:pt x="123" y="19"/>
                          </a:lnTo>
                          <a:lnTo>
                            <a:pt x="130" y="12"/>
                          </a:lnTo>
                          <a:lnTo>
                            <a:pt x="137" y="6"/>
                          </a:lnTo>
                          <a:lnTo>
                            <a:pt x="144" y="0"/>
                          </a:lnTo>
                          <a:close/>
                        </a:path>
                      </a:pathLst>
                    </a:custGeom>
                    <a:solidFill>
                      <a:srgbClr val="99cc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1" name=""/>
                    <p:cNvSpPr/>
                    <p:nvPr/>
                  </p:nvSpPr>
                  <p:spPr>
                    <a:xfrm>
                      <a:off x="1119240" y="2669400"/>
                      <a:ext cx="59040" cy="9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8" h="619">
                          <a:moveTo>
                            <a:pt x="358" y="477"/>
                          </a:moveTo>
                          <a:lnTo>
                            <a:pt x="353" y="493"/>
                          </a:lnTo>
                          <a:lnTo>
                            <a:pt x="348" y="508"/>
                          </a:lnTo>
                          <a:lnTo>
                            <a:pt x="341" y="521"/>
                          </a:lnTo>
                          <a:lnTo>
                            <a:pt x="334" y="533"/>
                          </a:lnTo>
                          <a:lnTo>
                            <a:pt x="326" y="544"/>
                          </a:lnTo>
                          <a:lnTo>
                            <a:pt x="317" y="554"/>
                          </a:lnTo>
                          <a:lnTo>
                            <a:pt x="308" y="563"/>
                          </a:lnTo>
                          <a:lnTo>
                            <a:pt x="298" y="571"/>
                          </a:lnTo>
                          <a:lnTo>
                            <a:pt x="277" y="584"/>
                          </a:lnTo>
                          <a:lnTo>
                            <a:pt x="255" y="596"/>
                          </a:lnTo>
                          <a:lnTo>
                            <a:pt x="234" y="608"/>
                          </a:lnTo>
                          <a:lnTo>
                            <a:pt x="214" y="619"/>
                          </a:lnTo>
                          <a:lnTo>
                            <a:pt x="207" y="604"/>
                          </a:lnTo>
                          <a:lnTo>
                            <a:pt x="201" y="589"/>
                          </a:lnTo>
                          <a:lnTo>
                            <a:pt x="196" y="572"/>
                          </a:lnTo>
                          <a:lnTo>
                            <a:pt x="191" y="554"/>
                          </a:lnTo>
                          <a:lnTo>
                            <a:pt x="181" y="518"/>
                          </a:lnTo>
                          <a:lnTo>
                            <a:pt x="173" y="481"/>
                          </a:lnTo>
                          <a:lnTo>
                            <a:pt x="158" y="403"/>
                          </a:lnTo>
                          <a:lnTo>
                            <a:pt x="143" y="325"/>
                          </a:lnTo>
                          <a:lnTo>
                            <a:pt x="133" y="288"/>
                          </a:lnTo>
                          <a:lnTo>
                            <a:pt x="122" y="253"/>
                          </a:lnTo>
                          <a:lnTo>
                            <a:pt x="116" y="237"/>
                          </a:lnTo>
                          <a:lnTo>
                            <a:pt x="109" y="220"/>
                          </a:lnTo>
                          <a:lnTo>
                            <a:pt x="102" y="205"/>
                          </a:lnTo>
                          <a:lnTo>
                            <a:pt x="94" y="190"/>
                          </a:lnTo>
                          <a:lnTo>
                            <a:pt x="85" y="177"/>
                          </a:lnTo>
                          <a:lnTo>
                            <a:pt x="76" y="165"/>
                          </a:lnTo>
                          <a:lnTo>
                            <a:pt x="65" y="154"/>
                          </a:lnTo>
                          <a:lnTo>
                            <a:pt x="54" y="144"/>
                          </a:lnTo>
                          <a:lnTo>
                            <a:pt x="42" y="135"/>
                          </a:lnTo>
                          <a:lnTo>
                            <a:pt x="29" y="129"/>
                          </a:lnTo>
                          <a:lnTo>
                            <a:pt x="15" y="123"/>
                          </a:lnTo>
                          <a:lnTo>
                            <a:pt x="0" y="118"/>
                          </a:lnTo>
                          <a:lnTo>
                            <a:pt x="4" y="100"/>
                          </a:lnTo>
                          <a:lnTo>
                            <a:pt x="10" y="82"/>
                          </a:lnTo>
                          <a:lnTo>
                            <a:pt x="16" y="67"/>
                          </a:lnTo>
                          <a:lnTo>
                            <a:pt x="24" y="52"/>
                          </a:lnTo>
                          <a:lnTo>
                            <a:pt x="32" y="40"/>
                          </a:lnTo>
                          <a:lnTo>
                            <a:pt x="41" y="28"/>
                          </a:lnTo>
                          <a:lnTo>
                            <a:pt x="50" y="19"/>
                          </a:lnTo>
                          <a:lnTo>
                            <a:pt x="60" y="10"/>
                          </a:lnTo>
                          <a:lnTo>
                            <a:pt x="71" y="4"/>
                          </a:lnTo>
                          <a:lnTo>
                            <a:pt x="82" y="1"/>
                          </a:lnTo>
                          <a:lnTo>
                            <a:pt x="93" y="0"/>
                          </a:lnTo>
                          <a:lnTo>
                            <a:pt x="105" y="0"/>
                          </a:lnTo>
                          <a:lnTo>
                            <a:pt x="117" y="3"/>
                          </a:lnTo>
                          <a:lnTo>
                            <a:pt x="129" y="9"/>
                          </a:lnTo>
                          <a:lnTo>
                            <a:pt x="141" y="16"/>
                          </a:lnTo>
                          <a:lnTo>
                            <a:pt x="153" y="27"/>
                          </a:lnTo>
                          <a:lnTo>
                            <a:pt x="163" y="34"/>
                          </a:lnTo>
                          <a:lnTo>
                            <a:pt x="172" y="43"/>
                          </a:lnTo>
                          <a:lnTo>
                            <a:pt x="181" y="54"/>
                          </a:lnTo>
                          <a:lnTo>
                            <a:pt x="190" y="63"/>
                          </a:lnTo>
                          <a:lnTo>
                            <a:pt x="206" y="85"/>
                          </a:lnTo>
                          <a:lnTo>
                            <a:pt x="221" y="108"/>
                          </a:lnTo>
                          <a:lnTo>
                            <a:pt x="235" y="133"/>
                          </a:lnTo>
                          <a:lnTo>
                            <a:pt x="248" y="160"/>
                          </a:lnTo>
                          <a:lnTo>
                            <a:pt x="260" y="190"/>
                          </a:lnTo>
                          <a:lnTo>
                            <a:pt x="272" y="219"/>
                          </a:lnTo>
                          <a:lnTo>
                            <a:pt x="293" y="282"/>
                          </a:lnTo>
                          <a:lnTo>
                            <a:pt x="314" y="348"/>
                          </a:lnTo>
                          <a:lnTo>
                            <a:pt x="335" y="412"/>
                          </a:lnTo>
                          <a:lnTo>
                            <a:pt x="358" y="47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>
                      <a:off x="969120" y="2692800"/>
                      <a:ext cx="232920" cy="32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10" h="2193">
                          <a:moveTo>
                            <a:pt x="626" y="231"/>
                          </a:moveTo>
                          <a:lnTo>
                            <a:pt x="667" y="403"/>
                          </a:lnTo>
                          <a:lnTo>
                            <a:pt x="678" y="386"/>
                          </a:lnTo>
                          <a:lnTo>
                            <a:pt x="689" y="368"/>
                          </a:lnTo>
                          <a:lnTo>
                            <a:pt x="699" y="350"/>
                          </a:lnTo>
                          <a:lnTo>
                            <a:pt x="710" y="331"/>
                          </a:lnTo>
                          <a:lnTo>
                            <a:pt x="729" y="291"/>
                          </a:lnTo>
                          <a:lnTo>
                            <a:pt x="750" y="252"/>
                          </a:lnTo>
                          <a:lnTo>
                            <a:pt x="761" y="232"/>
                          </a:lnTo>
                          <a:lnTo>
                            <a:pt x="773" y="216"/>
                          </a:lnTo>
                          <a:lnTo>
                            <a:pt x="785" y="201"/>
                          </a:lnTo>
                          <a:lnTo>
                            <a:pt x="799" y="187"/>
                          </a:lnTo>
                          <a:lnTo>
                            <a:pt x="806" y="181"/>
                          </a:lnTo>
                          <a:lnTo>
                            <a:pt x="813" y="177"/>
                          </a:lnTo>
                          <a:lnTo>
                            <a:pt x="821" y="172"/>
                          </a:lnTo>
                          <a:lnTo>
                            <a:pt x="829" y="168"/>
                          </a:lnTo>
                          <a:lnTo>
                            <a:pt x="838" y="165"/>
                          </a:lnTo>
                          <a:lnTo>
                            <a:pt x="847" y="163"/>
                          </a:lnTo>
                          <a:lnTo>
                            <a:pt x="856" y="162"/>
                          </a:lnTo>
                          <a:lnTo>
                            <a:pt x="866" y="160"/>
                          </a:lnTo>
                          <a:lnTo>
                            <a:pt x="879" y="160"/>
                          </a:lnTo>
                          <a:lnTo>
                            <a:pt x="892" y="160"/>
                          </a:lnTo>
                          <a:lnTo>
                            <a:pt x="905" y="163"/>
                          </a:lnTo>
                          <a:lnTo>
                            <a:pt x="917" y="169"/>
                          </a:lnTo>
                          <a:lnTo>
                            <a:pt x="929" y="175"/>
                          </a:lnTo>
                          <a:lnTo>
                            <a:pt x="941" y="183"/>
                          </a:lnTo>
                          <a:lnTo>
                            <a:pt x="952" y="193"/>
                          </a:lnTo>
                          <a:lnTo>
                            <a:pt x="963" y="204"/>
                          </a:lnTo>
                          <a:lnTo>
                            <a:pt x="973" y="214"/>
                          </a:lnTo>
                          <a:lnTo>
                            <a:pt x="983" y="226"/>
                          </a:lnTo>
                          <a:lnTo>
                            <a:pt x="992" y="240"/>
                          </a:lnTo>
                          <a:lnTo>
                            <a:pt x="1001" y="252"/>
                          </a:lnTo>
                          <a:lnTo>
                            <a:pt x="1017" y="279"/>
                          </a:lnTo>
                          <a:lnTo>
                            <a:pt x="1030" y="304"/>
                          </a:lnTo>
                          <a:lnTo>
                            <a:pt x="1044" y="421"/>
                          </a:lnTo>
                          <a:lnTo>
                            <a:pt x="1058" y="538"/>
                          </a:lnTo>
                          <a:lnTo>
                            <a:pt x="1064" y="595"/>
                          </a:lnTo>
                          <a:lnTo>
                            <a:pt x="1069" y="652"/>
                          </a:lnTo>
                          <a:lnTo>
                            <a:pt x="1073" y="709"/>
                          </a:lnTo>
                          <a:lnTo>
                            <a:pt x="1077" y="766"/>
                          </a:lnTo>
                          <a:lnTo>
                            <a:pt x="1079" y="823"/>
                          </a:lnTo>
                          <a:lnTo>
                            <a:pt x="1079" y="878"/>
                          </a:lnTo>
                          <a:lnTo>
                            <a:pt x="1078" y="934"/>
                          </a:lnTo>
                          <a:lnTo>
                            <a:pt x="1074" y="991"/>
                          </a:lnTo>
                          <a:lnTo>
                            <a:pt x="1072" y="1018"/>
                          </a:lnTo>
                          <a:lnTo>
                            <a:pt x="1069" y="1046"/>
                          </a:lnTo>
                          <a:lnTo>
                            <a:pt x="1066" y="1073"/>
                          </a:lnTo>
                          <a:lnTo>
                            <a:pt x="1062" y="1102"/>
                          </a:lnTo>
                          <a:lnTo>
                            <a:pt x="1057" y="1129"/>
                          </a:lnTo>
                          <a:lnTo>
                            <a:pt x="1051" y="1157"/>
                          </a:lnTo>
                          <a:lnTo>
                            <a:pt x="1045" y="1184"/>
                          </a:lnTo>
                          <a:lnTo>
                            <a:pt x="1039" y="1211"/>
                          </a:lnTo>
                          <a:lnTo>
                            <a:pt x="1001" y="1341"/>
                          </a:lnTo>
                          <a:lnTo>
                            <a:pt x="1017" y="1340"/>
                          </a:lnTo>
                          <a:lnTo>
                            <a:pt x="1033" y="1340"/>
                          </a:lnTo>
                          <a:lnTo>
                            <a:pt x="1049" y="1341"/>
                          </a:lnTo>
                          <a:lnTo>
                            <a:pt x="1064" y="1343"/>
                          </a:lnTo>
                          <a:lnTo>
                            <a:pt x="1079" y="1349"/>
                          </a:lnTo>
                          <a:lnTo>
                            <a:pt x="1094" y="1353"/>
                          </a:lnTo>
                          <a:lnTo>
                            <a:pt x="1109" y="1361"/>
                          </a:lnTo>
                          <a:lnTo>
                            <a:pt x="1123" y="1370"/>
                          </a:lnTo>
                          <a:lnTo>
                            <a:pt x="1137" y="1379"/>
                          </a:lnTo>
                          <a:lnTo>
                            <a:pt x="1151" y="1391"/>
                          </a:lnTo>
                          <a:lnTo>
                            <a:pt x="1164" y="1403"/>
                          </a:lnTo>
                          <a:lnTo>
                            <a:pt x="1178" y="1415"/>
                          </a:lnTo>
                          <a:lnTo>
                            <a:pt x="1191" y="1428"/>
                          </a:lnTo>
                          <a:lnTo>
                            <a:pt x="1203" y="1443"/>
                          </a:lnTo>
                          <a:lnTo>
                            <a:pt x="1216" y="1458"/>
                          </a:lnTo>
                          <a:lnTo>
                            <a:pt x="1228" y="1475"/>
                          </a:lnTo>
                          <a:lnTo>
                            <a:pt x="1252" y="1509"/>
                          </a:lnTo>
                          <a:lnTo>
                            <a:pt x="1274" y="1544"/>
                          </a:lnTo>
                          <a:lnTo>
                            <a:pt x="1296" y="1581"/>
                          </a:lnTo>
                          <a:lnTo>
                            <a:pt x="1317" y="1619"/>
                          </a:lnTo>
                          <a:lnTo>
                            <a:pt x="1354" y="1692"/>
                          </a:lnTo>
                          <a:lnTo>
                            <a:pt x="1388" y="1761"/>
                          </a:lnTo>
                          <a:lnTo>
                            <a:pt x="1393" y="1788"/>
                          </a:lnTo>
                          <a:lnTo>
                            <a:pt x="1397" y="1815"/>
                          </a:lnTo>
                          <a:lnTo>
                            <a:pt x="1401" y="1844"/>
                          </a:lnTo>
                          <a:lnTo>
                            <a:pt x="1404" y="1871"/>
                          </a:lnTo>
                          <a:lnTo>
                            <a:pt x="1406" y="1898"/>
                          </a:lnTo>
                          <a:lnTo>
                            <a:pt x="1408" y="1925"/>
                          </a:lnTo>
                          <a:lnTo>
                            <a:pt x="1409" y="1952"/>
                          </a:lnTo>
                          <a:lnTo>
                            <a:pt x="1410" y="1979"/>
                          </a:lnTo>
                          <a:lnTo>
                            <a:pt x="1409" y="2006"/>
                          </a:lnTo>
                          <a:lnTo>
                            <a:pt x="1408" y="2033"/>
                          </a:lnTo>
                          <a:lnTo>
                            <a:pt x="1406" y="2060"/>
                          </a:lnTo>
                          <a:lnTo>
                            <a:pt x="1404" y="2087"/>
                          </a:lnTo>
                          <a:lnTo>
                            <a:pt x="1401" y="2114"/>
                          </a:lnTo>
                          <a:lnTo>
                            <a:pt x="1397" y="2141"/>
                          </a:lnTo>
                          <a:lnTo>
                            <a:pt x="1393" y="2166"/>
                          </a:lnTo>
                          <a:lnTo>
                            <a:pt x="1388" y="2193"/>
                          </a:lnTo>
                          <a:lnTo>
                            <a:pt x="1382" y="2160"/>
                          </a:lnTo>
                          <a:lnTo>
                            <a:pt x="1377" y="2124"/>
                          </a:lnTo>
                          <a:lnTo>
                            <a:pt x="1372" y="2087"/>
                          </a:lnTo>
                          <a:lnTo>
                            <a:pt x="1368" y="2048"/>
                          </a:lnTo>
                          <a:lnTo>
                            <a:pt x="1358" y="1968"/>
                          </a:lnTo>
                          <a:lnTo>
                            <a:pt x="1346" y="1886"/>
                          </a:lnTo>
                          <a:lnTo>
                            <a:pt x="1339" y="1845"/>
                          </a:lnTo>
                          <a:lnTo>
                            <a:pt x="1330" y="1806"/>
                          </a:lnTo>
                          <a:lnTo>
                            <a:pt x="1321" y="1767"/>
                          </a:lnTo>
                          <a:lnTo>
                            <a:pt x="1309" y="1730"/>
                          </a:lnTo>
                          <a:lnTo>
                            <a:pt x="1303" y="1712"/>
                          </a:lnTo>
                          <a:lnTo>
                            <a:pt x="1296" y="1694"/>
                          </a:lnTo>
                          <a:lnTo>
                            <a:pt x="1289" y="1677"/>
                          </a:lnTo>
                          <a:lnTo>
                            <a:pt x="1281" y="1661"/>
                          </a:lnTo>
                          <a:lnTo>
                            <a:pt x="1272" y="1644"/>
                          </a:lnTo>
                          <a:lnTo>
                            <a:pt x="1263" y="1629"/>
                          </a:lnTo>
                          <a:lnTo>
                            <a:pt x="1254" y="1614"/>
                          </a:lnTo>
                          <a:lnTo>
                            <a:pt x="1244" y="1601"/>
                          </a:lnTo>
                          <a:lnTo>
                            <a:pt x="1233" y="1584"/>
                          </a:lnTo>
                          <a:lnTo>
                            <a:pt x="1203" y="1542"/>
                          </a:lnTo>
                          <a:lnTo>
                            <a:pt x="1183" y="1517"/>
                          </a:lnTo>
                          <a:lnTo>
                            <a:pt x="1160" y="1491"/>
                          </a:lnTo>
                          <a:lnTo>
                            <a:pt x="1147" y="1479"/>
                          </a:lnTo>
                          <a:lnTo>
                            <a:pt x="1135" y="1467"/>
                          </a:lnTo>
                          <a:lnTo>
                            <a:pt x="1121" y="1455"/>
                          </a:lnTo>
                          <a:lnTo>
                            <a:pt x="1108" y="1445"/>
                          </a:lnTo>
                          <a:lnTo>
                            <a:pt x="1091" y="1442"/>
                          </a:lnTo>
                          <a:lnTo>
                            <a:pt x="1074" y="1439"/>
                          </a:lnTo>
                          <a:lnTo>
                            <a:pt x="1058" y="1440"/>
                          </a:lnTo>
                          <a:lnTo>
                            <a:pt x="1042" y="1442"/>
                          </a:lnTo>
                          <a:lnTo>
                            <a:pt x="1026" y="1446"/>
                          </a:lnTo>
                          <a:lnTo>
                            <a:pt x="1010" y="1452"/>
                          </a:lnTo>
                          <a:lnTo>
                            <a:pt x="995" y="1458"/>
                          </a:lnTo>
                          <a:lnTo>
                            <a:pt x="979" y="1467"/>
                          </a:lnTo>
                          <a:lnTo>
                            <a:pt x="949" y="1487"/>
                          </a:lnTo>
                          <a:lnTo>
                            <a:pt x="919" y="1509"/>
                          </a:lnTo>
                          <a:lnTo>
                            <a:pt x="889" y="1535"/>
                          </a:lnTo>
                          <a:lnTo>
                            <a:pt x="860" y="1559"/>
                          </a:lnTo>
                          <a:lnTo>
                            <a:pt x="830" y="1583"/>
                          </a:lnTo>
                          <a:lnTo>
                            <a:pt x="801" y="1604"/>
                          </a:lnTo>
                          <a:lnTo>
                            <a:pt x="786" y="1613"/>
                          </a:lnTo>
                          <a:lnTo>
                            <a:pt x="771" y="1620"/>
                          </a:lnTo>
                          <a:lnTo>
                            <a:pt x="757" y="1628"/>
                          </a:lnTo>
                          <a:lnTo>
                            <a:pt x="742" y="1632"/>
                          </a:lnTo>
                          <a:lnTo>
                            <a:pt x="727" y="1637"/>
                          </a:lnTo>
                          <a:lnTo>
                            <a:pt x="712" y="1638"/>
                          </a:lnTo>
                          <a:lnTo>
                            <a:pt x="696" y="1638"/>
                          </a:lnTo>
                          <a:lnTo>
                            <a:pt x="681" y="1635"/>
                          </a:lnTo>
                          <a:lnTo>
                            <a:pt x="665" y="1631"/>
                          </a:lnTo>
                          <a:lnTo>
                            <a:pt x="650" y="1623"/>
                          </a:lnTo>
                          <a:lnTo>
                            <a:pt x="634" y="1614"/>
                          </a:lnTo>
                          <a:lnTo>
                            <a:pt x="618" y="1601"/>
                          </a:lnTo>
                          <a:lnTo>
                            <a:pt x="604" y="1587"/>
                          </a:lnTo>
                          <a:lnTo>
                            <a:pt x="590" y="1572"/>
                          </a:lnTo>
                          <a:lnTo>
                            <a:pt x="577" y="1556"/>
                          </a:lnTo>
                          <a:lnTo>
                            <a:pt x="564" y="1538"/>
                          </a:lnTo>
                          <a:lnTo>
                            <a:pt x="552" y="1518"/>
                          </a:lnTo>
                          <a:lnTo>
                            <a:pt x="540" y="1496"/>
                          </a:lnTo>
                          <a:lnTo>
                            <a:pt x="529" y="1473"/>
                          </a:lnTo>
                          <a:lnTo>
                            <a:pt x="518" y="1451"/>
                          </a:lnTo>
                          <a:lnTo>
                            <a:pt x="508" y="1427"/>
                          </a:lnTo>
                          <a:lnTo>
                            <a:pt x="499" y="1401"/>
                          </a:lnTo>
                          <a:lnTo>
                            <a:pt x="490" y="1376"/>
                          </a:lnTo>
                          <a:lnTo>
                            <a:pt x="483" y="1349"/>
                          </a:lnTo>
                          <a:lnTo>
                            <a:pt x="476" y="1322"/>
                          </a:lnTo>
                          <a:lnTo>
                            <a:pt x="470" y="1295"/>
                          </a:lnTo>
                          <a:lnTo>
                            <a:pt x="466" y="1270"/>
                          </a:lnTo>
                          <a:lnTo>
                            <a:pt x="462" y="1243"/>
                          </a:lnTo>
                          <a:lnTo>
                            <a:pt x="445" y="1265"/>
                          </a:lnTo>
                          <a:lnTo>
                            <a:pt x="427" y="1286"/>
                          </a:lnTo>
                          <a:lnTo>
                            <a:pt x="408" y="1306"/>
                          </a:lnTo>
                          <a:lnTo>
                            <a:pt x="388" y="1323"/>
                          </a:lnTo>
                          <a:lnTo>
                            <a:pt x="368" y="1338"/>
                          </a:lnTo>
                          <a:lnTo>
                            <a:pt x="347" y="1352"/>
                          </a:lnTo>
                          <a:lnTo>
                            <a:pt x="326" y="1362"/>
                          </a:lnTo>
                          <a:lnTo>
                            <a:pt x="304" y="1371"/>
                          </a:lnTo>
                          <a:lnTo>
                            <a:pt x="282" y="1379"/>
                          </a:lnTo>
                          <a:lnTo>
                            <a:pt x="259" y="1383"/>
                          </a:lnTo>
                          <a:lnTo>
                            <a:pt x="236" y="1386"/>
                          </a:lnTo>
                          <a:lnTo>
                            <a:pt x="213" y="1388"/>
                          </a:lnTo>
                          <a:lnTo>
                            <a:pt x="190" y="1386"/>
                          </a:lnTo>
                          <a:lnTo>
                            <a:pt x="166" y="1383"/>
                          </a:lnTo>
                          <a:lnTo>
                            <a:pt x="142" y="1379"/>
                          </a:lnTo>
                          <a:lnTo>
                            <a:pt x="118" y="1371"/>
                          </a:lnTo>
                          <a:lnTo>
                            <a:pt x="110" y="1365"/>
                          </a:lnTo>
                          <a:lnTo>
                            <a:pt x="102" y="1359"/>
                          </a:lnTo>
                          <a:lnTo>
                            <a:pt x="94" y="1352"/>
                          </a:lnTo>
                          <a:lnTo>
                            <a:pt x="87" y="1344"/>
                          </a:lnTo>
                          <a:lnTo>
                            <a:pt x="73" y="1326"/>
                          </a:lnTo>
                          <a:lnTo>
                            <a:pt x="61" y="1307"/>
                          </a:lnTo>
                          <a:lnTo>
                            <a:pt x="50" y="1286"/>
                          </a:lnTo>
                          <a:lnTo>
                            <a:pt x="40" y="1264"/>
                          </a:lnTo>
                          <a:lnTo>
                            <a:pt x="32" y="1238"/>
                          </a:lnTo>
                          <a:lnTo>
                            <a:pt x="25" y="1213"/>
                          </a:lnTo>
                          <a:lnTo>
                            <a:pt x="18" y="1186"/>
                          </a:lnTo>
                          <a:lnTo>
                            <a:pt x="13" y="1159"/>
                          </a:lnTo>
                          <a:lnTo>
                            <a:pt x="9" y="1130"/>
                          </a:lnTo>
                          <a:lnTo>
                            <a:pt x="6" y="1100"/>
                          </a:lnTo>
                          <a:lnTo>
                            <a:pt x="3" y="1072"/>
                          </a:lnTo>
                          <a:lnTo>
                            <a:pt x="1" y="1042"/>
                          </a:lnTo>
                          <a:lnTo>
                            <a:pt x="1" y="1012"/>
                          </a:lnTo>
                          <a:lnTo>
                            <a:pt x="0" y="983"/>
                          </a:lnTo>
                          <a:lnTo>
                            <a:pt x="6" y="914"/>
                          </a:lnTo>
                          <a:lnTo>
                            <a:pt x="14" y="847"/>
                          </a:lnTo>
                          <a:lnTo>
                            <a:pt x="23" y="779"/>
                          </a:lnTo>
                          <a:lnTo>
                            <a:pt x="33" y="712"/>
                          </a:lnTo>
                          <a:lnTo>
                            <a:pt x="45" y="646"/>
                          </a:lnTo>
                          <a:lnTo>
                            <a:pt x="58" y="581"/>
                          </a:lnTo>
                          <a:lnTo>
                            <a:pt x="66" y="548"/>
                          </a:lnTo>
                          <a:lnTo>
                            <a:pt x="74" y="517"/>
                          </a:lnTo>
                          <a:lnTo>
                            <a:pt x="82" y="485"/>
                          </a:lnTo>
                          <a:lnTo>
                            <a:pt x="91" y="455"/>
                          </a:lnTo>
                          <a:lnTo>
                            <a:pt x="100" y="424"/>
                          </a:lnTo>
                          <a:lnTo>
                            <a:pt x="110" y="394"/>
                          </a:lnTo>
                          <a:lnTo>
                            <a:pt x="120" y="364"/>
                          </a:lnTo>
                          <a:lnTo>
                            <a:pt x="131" y="335"/>
                          </a:lnTo>
                          <a:lnTo>
                            <a:pt x="142" y="307"/>
                          </a:lnTo>
                          <a:lnTo>
                            <a:pt x="153" y="279"/>
                          </a:lnTo>
                          <a:lnTo>
                            <a:pt x="166" y="250"/>
                          </a:lnTo>
                          <a:lnTo>
                            <a:pt x="178" y="223"/>
                          </a:lnTo>
                          <a:lnTo>
                            <a:pt x="192" y="198"/>
                          </a:lnTo>
                          <a:lnTo>
                            <a:pt x="205" y="171"/>
                          </a:lnTo>
                          <a:lnTo>
                            <a:pt x="220" y="147"/>
                          </a:lnTo>
                          <a:lnTo>
                            <a:pt x="235" y="121"/>
                          </a:lnTo>
                          <a:lnTo>
                            <a:pt x="250" y="97"/>
                          </a:lnTo>
                          <a:lnTo>
                            <a:pt x="266" y="75"/>
                          </a:lnTo>
                          <a:lnTo>
                            <a:pt x="283" y="52"/>
                          </a:lnTo>
                          <a:lnTo>
                            <a:pt x="300" y="31"/>
                          </a:lnTo>
                          <a:lnTo>
                            <a:pt x="312" y="22"/>
                          </a:lnTo>
                          <a:lnTo>
                            <a:pt x="325" y="16"/>
                          </a:lnTo>
                          <a:lnTo>
                            <a:pt x="337" y="10"/>
                          </a:lnTo>
                          <a:lnTo>
                            <a:pt x="349" y="6"/>
                          </a:lnTo>
                          <a:lnTo>
                            <a:pt x="361" y="3"/>
                          </a:lnTo>
                          <a:lnTo>
                            <a:pt x="373" y="1"/>
                          </a:lnTo>
                          <a:lnTo>
                            <a:pt x="384" y="0"/>
                          </a:lnTo>
                          <a:lnTo>
                            <a:pt x="396" y="0"/>
                          </a:lnTo>
                          <a:lnTo>
                            <a:pt x="408" y="1"/>
                          </a:lnTo>
                          <a:lnTo>
                            <a:pt x="419" y="4"/>
                          </a:lnTo>
                          <a:lnTo>
                            <a:pt x="431" y="7"/>
                          </a:lnTo>
                          <a:lnTo>
                            <a:pt x="442" y="12"/>
                          </a:lnTo>
                          <a:lnTo>
                            <a:pt x="453" y="16"/>
                          </a:lnTo>
                          <a:lnTo>
                            <a:pt x="464" y="22"/>
                          </a:lnTo>
                          <a:lnTo>
                            <a:pt x="475" y="28"/>
                          </a:lnTo>
                          <a:lnTo>
                            <a:pt x="486" y="36"/>
                          </a:lnTo>
                          <a:lnTo>
                            <a:pt x="507" y="54"/>
                          </a:lnTo>
                          <a:lnTo>
                            <a:pt x="527" y="73"/>
                          </a:lnTo>
                          <a:lnTo>
                            <a:pt x="546" y="96"/>
                          </a:lnTo>
                          <a:lnTo>
                            <a:pt x="564" y="120"/>
                          </a:lnTo>
                          <a:lnTo>
                            <a:pt x="582" y="145"/>
                          </a:lnTo>
                          <a:lnTo>
                            <a:pt x="598" y="172"/>
                          </a:lnTo>
                          <a:lnTo>
                            <a:pt x="613" y="201"/>
                          </a:lnTo>
                          <a:lnTo>
                            <a:pt x="626" y="23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3" name=""/>
                    <p:cNvSpPr/>
                    <p:nvPr/>
                  </p:nvSpPr>
                  <p:spPr>
                    <a:xfrm>
                      <a:off x="979920" y="2709720"/>
                      <a:ext cx="151200" cy="20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4" h="1394">
                          <a:moveTo>
                            <a:pt x="477" y="103"/>
                          </a:moveTo>
                          <a:lnTo>
                            <a:pt x="485" y="126"/>
                          </a:lnTo>
                          <a:lnTo>
                            <a:pt x="492" y="150"/>
                          </a:lnTo>
                          <a:lnTo>
                            <a:pt x="499" y="174"/>
                          </a:lnTo>
                          <a:lnTo>
                            <a:pt x="506" y="199"/>
                          </a:lnTo>
                          <a:lnTo>
                            <a:pt x="512" y="224"/>
                          </a:lnTo>
                          <a:lnTo>
                            <a:pt x="517" y="250"/>
                          </a:lnTo>
                          <a:lnTo>
                            <a:pt x="522" y="275"/>
                          </a:lnTo>
                          <a:lnTo>
                            <a:pt x="526" y="302"/>
                          </a:lnTo>
                          <a:lnTo>
                            <a:pt x="529" y="329"/>
                          </a:lnTo>
                          <a:lnTo>
                            <a:pt x="531" y="356"/>
                          </a:lnTo>
                          <a:lnTo>
                            <a:pt x="532" y="383"/>
                          </a:lnTo>
                          <a:lnTo>
                            <a:pt x="533" y="410"/>
                          </a:lnTo>
                          <a:lnTo>
                            <a:pt x="532" y="437"/>
                          </a:lnTo>
                          <a:lnTo>
                            <a:pt x="530" y="464"/>
                          </a:lnTo>
                          <a:lnTo>
                            <a:pt x="527" y="491"/>
                          </a:lnTo>
                          <a:lnTo>
                            <a:pt x="523" y="518"/>
                          </a:lnTo>
                          <a:lnTo>
                            <a:pt x="514" y="536"/>
                          </a:lnTo>
                          <a:lnTo>
                            <a:pt x="505" y="554"/>
                          </a:lnTo>
                          <a:lnTo>
                            <a:pt x="498" y="574"/>
                          </a:lnTo>
                          <a:lnTo>
                            <a:pt x="492" y="593"/>
                          </a:lnTo>
                          <a:lnTo>
                            <a:pt x="486" y="613"/>
                          </a:lnTo>
                          <a:lnTo>
                            <a:pt x="481" y="634"/>
                          </a:lnTo>
                          <a:lnTo>
                            <a:pt x="477" y="655"/>
                          </a:lnTo>
                          <a:lnTo>
                            <a:pt x="473" y="677"/>
                          </a:lnTo>
                          <a:lnTo>
                            <a:pt x="467" y="719"/>
                          </a:lnTo>
                          <a:lnTo>
                            <a:pt x="463" y="761"/>
                          </a:lnTo>
                          <a:lnTo>
                            <a:pt x="460" y="800"/>
                          </a:lnTo>
                          <a:lnTo>
                            <a:pt x="456" y="838"/>
                          </a:lnTo>
                          <a:lnTo>
                            <a:pt x="459" y="856"/>
                          </a:lnTo>
                          <a:lnTo>
                            <a:pt x="464" y="872"/>
                          </a:lnTo>
                          <a:lnTo>
                            <a:pt x="470" y="889"/>
                          </a:lnTo>
                          <a:lnTo>
                            <a:pt x="478" y="902"/>
                          </a:lnTo>
                          <a:lnTo>
                            <a:pt x="487" y="914"/>
                          </a:lnTo>
                          <a:lnTo>
                            <a:pt x="497" y="925"/>
                          </a:lnTo>
                          <a:lnTo>
                            <a:pt x="508" y="934"/>
                          </a:lnTo>
                          <a:lnTo>
                            <a:pt x="519" y="941"/>
                          </a:lnTo>
                          <a:lnTo>
                            <a:pt x="531" y="947"/>
                          </a:lnTo>
                          <a:lnTo>
                            <a:pt x="544" y="952"/>
                          </a:lnTo>
                          <a:lnTo>
                            <a:pt x="557" y="953"/>
                          </a:lnTo>
                          <a:lnTo>
                            <a:pt x="570" y="955"/>
                          </a:lnTo>
                          <a:lnTo>
                            <a:pt x="583" y="953"/>
                          </a:lnTo>
                          <a:lnTo>
                            <a:pt x="596" y="950"/>
                          </a:lnTo>
                          <a:lnTo>
                            <a:pt x="609" y="944"/>
                          </a:lnTo>
                          <a:lnTo>
                            <a:pt x="621" y="938"/>
                          </a:lnTo>
                          <a:lnTo>
                            <a:pt x="636" y="919"/>
                          </a:lnTo>
                          <a:lnTo>
                            <a:pt x="649" y="896"/>
                          </a:lnTo>
                          <a:lnTo>
                            <a:pt x="662" y="874"/>
                          </a:lnTo>
                          <a:lnTo>
                            <a:pt x="673" y="847"/>
                          </a:lnTo>
                          <a:lnTo>
                            <a:pt x="684" y="820"/>
                          </a:lnTo>
                          <a:lnTo>
                            <a:pt x="692" y="793"/>
                          </a:lnTo>
                          <a:lnTo>
                            <a:pt x="699" y="764"/>
                          </a:lnTo>
                          <a:lnTo>
                            <a:pt x="705" y="734"/>
                          </a:lnTo>
                          <a:lnTo>
                            <a:pt x="706" y="713"/>
                          </a:lnTo>
                          <a:lnTo>
                            <a:pt x="706" y="694"/>
                          </a:lnTo>
                          <a:lnTo>
                            <a:pt x="706" y="674"/>
                          </a:lnTo>
                          <a:lnTo>
                            <a:pt x="705" y="656"/>
                          </a:lnTo>
                          <a:lnTo>
                            <a:pt x="704" y="640"/>
                          </a:lnTo>
                          <a:lnTo>
                            <a:pt x="701" y="623"/>
                          </a:lnTo>
                          <a:lnTo>
                            <a:pt x="697" y="608"/>
                          </a:lnTo>
                          <a:lnTo>
                            <a:pt x="693" y="595"/>
                          </a:lnTo>
                          <a:lnTo>
                            <a:pt x="687" y="583"/>
                          </a:lnTo>
                          <a:lnTo>
                            <a:pt x="680" y="571"/>
                          </a:lnTo>
                          <a:lnTo>
                            <a:pt x="671" y="560"/>
                          </a:lnTo>
                          <a:lnTo>
                            <a:pt x="662" y="551"/>
                          </a:lnTo>
                          <a:lnTo>
                            <a:pt x="651" y="542"/>
                          </a:lnTo>
                          <a:lnTo>
                            <a:pt x="639" y="536"/>
                          </a:lnTo>
                          <a:lnTo>
                            <a:pt x="625" y="530"/>
                          </a:lnTo>
                          <a:lnTo>
                            <a:pt x="609" y="527"/>
                          </a:lnTo>
                          <a:lnTo>
                            <a:pt x="615" y="488"/>
                          </a:lnTo>
                          <a:lnTo>
                            <a:pt x="623" y="452"/>
                          </a:lnTo>
                          <a:lnTo>
                            <a:pt x="632" y="418"/>
                          </a:lnTo>
                          <a:lnTo>
                            <a:pt x="642" y="386"/>
                          </a:lnTo>
                          <a:lnTo>
                            <a:pt x="653" y="356"/>
                          </a:lnTo>
                          <a:lnTo>
                            <a:pt x="666" y="329"/>
                          </a:lnTo>
                          <a:lnTo>
                            <a:pt x="679" y="304"/>
                          </a:lnTo>
                          <a:lnTo>
                            <a:pt x="693" y="280"/>
                          </a:lnTo>
                          <a:lnTo>
                            <a:pt x="708" y="257"/>
                          </a:lnTo>
                          <a:lnTo>
                            <a:pt x="723" y="238"/>
                          </a:lnTo>
                          <a:lnTo>
                            <a:pt x="739" y="221"/>
                          </a:lnTo>
                          <a:lnTo>
                            <a:pt x="755" y="205"/>
                          </a:lnTo>
                          <a:lnTo>
                            <a:pt x="771" y="192"/>
                          </a:lnTo>
                          <a:lnTo>
                            <a:pt x="787" y="178"/>
                          </a:lnTo>
                          <a:lnTo>
                            <a:pt x="804" y="168"/>
                          </a:lnTo>
                          <a:lnTo>
                            <a:pt x="820" y="159"/>
                          </a:lnTo>
                          <a:lnTo>
                            <a:pt x="833" y="186"/>
                          </a:lnTo>
                          <a:lnTo>
                            <a:pt x="845" y="214"/>
                          </a:lnTo>
                          <a:lnTo>
                            <a:pt x="855" y="241"/>
                          </a:lnTo>
                          <a:lnTo>
                            <a:pt x="865" y="271"/>
                          </a:lnTo>
                          <a:lnTo>
                            <a:pt x="874" y="299"/>
                          </a:lnTo>
                          <a:lnTo>
                            <a:pt x="881" y="331"/>
                          </a:lnTo>
                          <a:lnTo>
                            <a:pt x="888" y="361"/>
                          </a:lnTo>
                          <a:lnTo>
                            <a:pt x="894" y="392"/>
                          </a:lnTo>
                          <a:lnTo>
                            <a:pt x="899" y="424"/>
                          </a:lnTo>
                          <a:lnTo>
                            <a:pt x="903" y="457"/>
                          </a:lnTo>
                          <a:lnTo>
                            <a:pt x="907" y="488"/>
                          </a:lnTo>
                          <a:lnTo>
                            <a:pt x="909" y="521"/>
                          </a:lnTo>
                          <a:lnTo>
                            <a:pt x="911" y="554"/>
                          </a:lnTo>
                          <a:lnTo>
                            <a:pt x="913" y="589"/>
                          </a:lnTo>
                          <a:lnTo>
                            <a:pt x="914" y="622"/>
                          </a:lnTo>
                          <a:lnTo>
                            <a:pt x="914" y="655"/>
                          </a:lnTo>
                          <a:lnTo>
                            <a:pt x="912" y="724"/>
                          </a:lnTo>
                          <a:lnTo>
                            <a:pt x="909" y="791"/>
                          </a:lnTo>
                          <a:lnTo>
                            <a:pt x="905" y="859"/>
                          </a:lnTo>
                          <a:lnTo>
                            <a:pt x="899" y="926"/>
                          </a:lnTo>
                          <a:lnTo>
                            <a:pt x="884" y="1058"/>
                          </a:lnTo>
                          <a:lnTo>
                            <a:pt x="869" y="1184"/>
                          </a:lnTo>
                          <a:lnTo>
                            <a:pt x="857" y="1205"/>
                          </a:lnTo>
                          <a:lnTo>
                            <a:pt x="844" y="1227"/>
                          </a:lnTo>
                          <a:lnTo>
                            <a:pt x="829" y="1248"/>
                          </a:lnTo>
                          <a:lnTo>
                            <a:pt x="812" y="1271"/>
                          </a:lnTo>
                          <a:lnTo>
                            <a:pt x="794" y="1293"/>
                          </a:lnTo>
                          <a:lnTo>
                            <a:pt x="775" y="1313"/>
                          </a:lnTo>
                          <a:lnTo>
                            <a:pt x="755" y="1332"/>
                          </a:lnTo>
                          <a:lnTo>
                            <a:pt x="734" y="1350"/>
                          </a:lnTo>
                          <a:lnTo>
                            <a:pt x="712" y="1365"/>
                          </a:lnTo>
                          <a:lnTo>
                            <a:pt x="690" y="1377"/>
                          </a:lnTo>
                          <a:lnTo>
                            <a:pt x="679" y="1383"/>
                          </a:lnTo>
                          <a:lnTo>
                            <a:pt x="667" y="1388"/>
                          </a:lnTo>
                          <a:lnTo>
                            <a:pt x="656" y="1391"/>
                          </a:lnTo>
                          <a:lnTo>
                            <a:pt x="644" y="1392"/>
                          </a:lnTo>
                          <a:lnTo>
                            <a:pt x="633" y="1394"/>
                          </a:lnTo>
                          <a:lnTo>
                            <a:pt x="621" y="1394"/>
                          </a:lnTo>
                          <a:lnTo>
                            <a:pt x="609" y="1394"/>
                          </a:lnTo>
                          <a:lnTo>
                            <a:pt x="598" y="1391"/>
                          </a:lnTo>
                          <a:lnTo>
                            <a:pt x="586" y="1388"/>
                          </a:lnTo>
                          <a:lnTo>
                            <a:pt x="574" y="1383"/>
                          </a:lnTo>
                          <a:lnTo>
                            <a:pt x="563" y="1377"/>
                          </a:lnTo>
                          <a:lnTo>
                            <a:pt x="552" y="1370"/>
                          </a:lnTo>
                          <a:lnTo>
                            <a:pt x="536" y="1349"/>
                          </a:lnTo>
                          <a:lnTo>
                            <a:pt x="522" y="1326"/>
                          </a:lnTo>
                          <a:lnTo>
                            <a:pt x="509" y="1301"/>
                          </a:lnTo>
                          <a:lnTo>
                            <a:pt x="498" y="1275"/>
                          </a:lnTo>
                          <a:lnTo>
                            <a:pt x="487" y="1248"/>
                          </a:lnTo>
                          <a:lnTo>
                            <a:pt x="479" y="1218"/>
                          </a:lnTo>
                          <a:lnTo>
                            <a:pt x="471" y="1190"/>
                          </a:lnTo>
                          <a:lnTo>
                            <a:pt x="465" y="1159"/>
                          </a:lnTo>
                          <a:lnTo>
                            <a:pt x="460" y="1127"/>
                          </a:lnTo>
                          <a:lnTo>
                            <a:pt x="457" y="1096"/>
                          </a:lnTo>
                          <a:lnTo>
                            <a:pt x="455" y="1063"/>
                          </a:lnTo>
                          <a:lnTo>
                            <a:pt x="454" y="1030"/>
                          </a:lnTo>
                          <a:lnTo>
                            <a:pt x="455" y="997"/>
                          </a:lnTo>
                          <a:lnTo>
                            <a:pt x="457" y="964"/>
                          </a:lnTo>
                          <a:lnTo>
                            <a:pt x="460" y="931"/>
                          </a:lnTo>
                          <a:lnTo>
                            <a:pt x="465" y="899"/>
                          </a:lnTo>
                          <a:lnTo>
                            <a:pt x="458" y="896"/>
                          </a:lnTo>
                          <a:lnTo>
                            <a:pt x="451" y="895"/>
                          </a:lnTo>
                          <a:lnTo>
                            <a:pt x="445" y="893"/>
                          </a:lnTo>
                          <a:lnTo>
                            <a:pt x="439" y="895"/>
                          </a:lnTo>
                          <a:lnTo>
                            <a:pt x="434" y="896"/>
                          </a:lnTo>
                          <a:lnTo>
                            <a:pt x="429" y="899"/>
                          </a:lnTo>
                          <a:lnTo>
                            <a:pt x="424" y="902"/>
                          </a:lnTo>
                          <a:lnTo>
                            <a:pt x="419" y="907"/>
                          </a:lnTo>
                          <a:lnTo>
                            <a:pt x="411" y="919"/>
                          </a:lnTo>
                          <a:lnTo>
                            <a:pt x="403" y="934"/>
                          </a:lnTo>
                          <a:lnTo>
                            <a:pt x="396" y="950"/>
                          </a:lnTo>
                          <a:lnTo>
                            <a:pt x="390" y="968"/>
                          </a:lnTo>
                          <a:lnTo>
                            <a:pt x="378" y="1006"/>
                          </a:lnTo>
                          <a:lnTo>
                            <a:pt x="365" y="1043"/>
                          </a:lnTo>
                          <a:lnTo>
                            <a:pt x="358" y="1060"/>
                          </a:lnTo>
                          <a:lnTo>
                            <a:pt x="351" y="1075"/>
                          </a:lnTo>
                          <a:lnTo>
                            <a:pt x="346" y="1082"/>
                          </a:lnTo>
                          <a:lnTo>
                            <a:pt x="342" y="1088"/>
                          </a:lnTo>
                          <a:lnTo>
                            <a:pt x="337" y="1093"/>
                          </a:lnTo>
                          <a:lnTo>
                            <a:pt x="332" y="1097"/>
                          </a:lnTo>
                          <a:lnTo>
                            <a:pt x="303" y="1117"/>
                          </a:lnTo>
                          <a:lnTo>
                            <a:pt x="274" y="1133"/>
                          </a:lnTo>
                          <a:lnTo>
                            <a:pt x="259" y="1141"/>
                          </a:lnTo>
                          <a:lnTo>
                            <a:pt x="244" y="1147"/>
                          </a:lnTo>
                          <a:lnTo>
                            <a:pt x="228" y="1153"/>
                          </a:lnTo>
                          <a:lnTo>
                            <a:pt x="213" y="1159"/>
                          </a:lnTo>
                          <a:lnTo>
                            <a:pt x="197" y="1163"/>
                          </a:lnTo>
                          <a:lnTo>
                            <a:pt x="181" y="1166"/>
                          </a:lnTo>
                          <a:lnTo>
                            <a:pt x="165" y="1169"/>
                          </a:lnTo>
                          <a:lnTo>
                            <a:pt x="149" y="1171"/>
                          </a:lnTo>
                          <a:lnTo>
                            <a:pt x="132" y="1172"/>
                          </a:lnTo>
                          <a:lnTo>
                            <a:pt x="114" y="1171"/>
                          </a:lnTo>
                          <a:lnTo>
                            <a:pt x="97" y="1169"/>
                          </a:lnTo>
                          <a:lnTo>
                            <a:pt x="78" y="1168"/>
                          </a:lnTo>
                          <a:lnTo>
                            <a:pt x="65" y="1151"/>
                          </a:lnTo>
                          <a:lnTo>
                            <a:pt x="54" y="1135"/>
                          </a:lnTo>
                          <a:lnTo>
                            <a:pt x="43" y="1117"/>
                          </a:lnTo>
                          <a:lnTo>
                            <a:pt x="34" y="1099"/>
                          </a:lnTo>
                          <a:lnTo>
                            <a:pt x="26" y="1079"/>
                          </a:lnTo>
                          <a:lnTo>
                            <a:pt x="20" y="1060"/>
                          </a:lnTo>
                          <a:lnTo>
                            <a:pt x="14" y="1040"/>
                          </a:lnTo>
                          <a:lnTo>
                            <a:pt x="9" y="1021"/>
                          </a:lnTo>
                          <a:lnTo>
                            <a:pt x="6" y="1000"/>
                          </a:lnTo>
                          <a:lnTo>
                            <a:pt x="3" y="979"/>
                          </a:lnTo>
                          <a:lnTo>
                            <a:pt x="1" y="956"/>
                          </a:lnTo>
                          <a:lnTo>
                            <a:pt x="0" y="935"/>
                          </a:lnTo>
                          <a:lnTo>
                            <a:pt x="0" y="913"/>
                          </a:lnTo>
                          <a:lnTo>
                            <a:pt x="0" y="890"/>
                          </a:lnTo>
                          <a:lnTo>
                            <a:pt x="1" y="868"/>
                          </a:lnTo>
                          <a:lnTo>
                            <a:pt x="3" y="844"/>
                          </a:lnTo>
                          <a:lnTo>
                            <a:pt x="7" y="797"/>
                          </a:lnTo>
                          <a:lnTo>
                            <a:pt x="13" y="751"/>
                          </a:lnTo>
                          <a:lnTo>
                            <a:pt x="20" y="704"/>
                          </a:lnTo>
                          <a:lnTo>
                            <a:pt x="27" y="658"/>
                          </a:lnTo>
                          <a:lnTo>
                            <a:pt x="35" y="611"/>
                          </a:lnTo>
                          <a:lnTo>
                            <a:pt x="42" y="566"/>
                          </a:lnTo>
                          <a:lnTo>
                            <a:pt x="48" y="523"/>
                          </a:lnTo>
                          <a:lnTo>
                            <a:pt x="52" y="479"/>
                          </a:lnTo>
                          <a:lnTo>
                            <a:pt x="82" y="398"/>
                          </a:lnTo>
                          <a:lnTo>
                            <a:pt x="120" y="299"/>
                          </a:lnTo>
                          <a:lnTo>
                            <a:pt x="142" y="248"/>
                          </a:lnTo>
                          <a:lnTo>
                            <a:pt x="166" y="196"/>
                          </a:lnTo>
                          <a:lnTo>
                            <a:pt x="178" y="172"/>
                          </a:lnTo>
                          <a:lnTo>
                            <a:pt x="191" y="148"/>
                          </a:lnTo>
                          <a:lnTo>
                            <a:pt x="204" y="124"/>
                          </a:lnTo>
                          <a:lnTo>
                            <a:pt x="218" y="103"/>
                          </a:lnTo>
                          <a:lnTo>
                            <a:pt x="232" y="82"/>
                          </a:lnTo>
                          <a:lnTo>
                            <a:pt x="246" y="64"/>
                          </a:lnTo>
                          <a:lnTo>
                            <a:pt x="261" y="48"/>
                          </a:lnTo>
                          <a:lnTo>
                            <a:pt x="276" y="33"/>
                          </a:lnTo>
                          <a:lnTo>
                            <a:pt x="292" y="21"/>
                          </a:lnTo>
                          <a:lnTo>
                            <a:pt x="307" y="10"/>
                          </a:lnTo>
                          <a:lnTo>
                            <a:pt x="323" y="4"/>
                          </a:lnTo>
                          <a:lnTo>
                            <a:pt x="339" y="0"/>
                          </a:lnTo>
                          <a:lnTo>
                            <a:pt x="356" y="0"/>
                          </a:lnTo>
                          <a:lnTo>
                            <a:pt x="372" y="3"/>
                          </a:lnTo>
                          <a:lnTo>
                            <a:pt x="389" y="9"/>
                          </a:lnTo>
                          <a:lnTo>
                            <a:pt x="406" y="19"/>
                          </a:lnTo>
                          <a:lnTo>
                            <a:pt x="424" y="33"/>
                          </a:lnTo>
                          <a:lnTo>
                            <a:pt x="441" y="52"/>
                          </a:lnTo>
                          <a:lnTo>
                            <a:pt x="459" y="75"/>
                          </a:lnTo>
                          <a:lnTo>
                            <a:pt x="477" y="10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4" name=""/>
                    <p:cNvSpPr/>
                    <p:nvPr/>
                  </p:nvSpPr>
                  <p:spPr>
                    <a:xfrm>
                      <a:off x="1018440" y="2769840"/>
                      <a:ext cx="36720" cy="6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3" h="441">
                          <a:moveTo>
                            <a:pt x="223" y="165"/>
                          </a:moveTo>
                          <a:lnTo>
                            <a:pt x="223" y="185"/>
                          </a:lnTo>
                          <a:lnTo>
                            <a:pt x="222" y="204"/>
                          </a:lnTo>
                          <a:lnTo>
                            <a:pt x="220" y="225"/>
                          </a:lnTo>
                          <a:lnTo>
                            <a:pt x="218" y="245"/>
                          </a:lnTo>
                          <a:lnTo>
                            <a:pt x="215" y="264"/>
                          </a:lnTo>
                          <a:lnTo>
                            <a:pt x="211" y="282"/>
                          </a:lnTo>
                          <a:lnTo>
                            <a:pt x="207" y="300"/>
                          </a:lnTo>
                          <a:lnTo>
                            <a:pt x="201" y="318"/>
                          </a:lnTo>
                          <a:lnTo>
                            <a:pt x="195" y="336"/>
                          </a:lnTo>
                          <a:lnTo>
                            <a:pt x="189" y="353"/>
                          </a:lnTo>
                          <a:lnTo>
                            <a:pt x="182" y="369"/>
                          </a:lnTo>
                          <a:lnTo>
                            <a:pt x="173" y="384"/>
                          </a:lnTo>
                          <a:lnTo>
                            <a:pt x="165" y="399"/>
                          </a:lnTo>
                          <a:lnTo>
                            <a:pt x="155" y="413"/>
                          </a:lnTo>
                          <a:lnTo>
                            <a:pt x="145" y="425"/>
                          </a:lnTo>
                          <a:lnTo>
                            <a:pt x="134" y="437"/>
                          </a:lnTo>
                          <a:lnTo>
                            <a:pt x="124" y="440"/>
                          </a:lnTo>
                          <a:lnTo>
                            <a:pt x="114" y="441"/>
                          </a:lnTo>
                          <a:lnTo>
                            <a:pt x="105" y="441"/>
                          </a:lnTo>
                          <a:lnTo>
                            <a:pt x="95" y="440"/>
                          </a:lnTo>
                          <a:lnTo>
                            <a:pt x="86" y="437"/>
                          </a:lnTo>
                          <a:lnTo>
                            <a:pt x="76" y="434"/>
                          </a:lnTo>
                          <a:lnTo>
                            <a:pt x="68" y="429"/>
                          </a:lnTo>
                          <a:lnTo>
                            <a:pt x="59" y="423"/>
                          </a:lnTo>
                          <a:lnTo>
                            <a:pt x="51" y="417"/>
                          </a:lnTo>
                          <a:lnTo>
                            <a:pt x="43" y="410"/>
                          </a:lnTo>
                          <a:lnTo>
                            <a:pt x="36" y="401"/>
                          </a:lnTo>
                          <a:lnTo>
                            <a:pt x="29" y="392"/>
                          </a:lnTo>
                          <a:lnTo>
                            <a:pt x="23" y="383"/>
                          </a:lnTo>
                          <a:lnTo>
                            <a:pt x="18" y="372"/>
                          </a:lnTo>
                          <a:lnTo>
                            <a:pt x="14" y="362"/>
                          </a:lnTo>
                          <a:lnTo>
                            <a:pt x="10" y="351"/>
                          </a:lnTo>
                          <a:lnTo>
                            <a:pt x="5" y="329"/>
                          </a:lnTo>
                          <a:lnTo>
                            <a:pt x="2" y="308"/>
                          </a:lnTo>
                          <a:lnTo>
                            <a:pt x="0" y="288"/>
                          </a:lnTo>
                          <a:lnTo>
                            <a:pt x="0" y="269"/>
                          </a:lnTo>
                          <a:lnTo>
                            <a:pt x="1" y="249"/>
                          </a:lnTo>
                          <a:lnTo>
                            <a:pt x="4" y="231"/>
                          </a:lnTo>
                          <a:lnTo>
                            <a:pt x="7" y="213"/>
                          </a:lnTo>
                          <a:lnTo>
                            <a:pt x="12" y="195"/>
                          </a:lnTo>
                          <a:lnTo>
                            <a:pt x="17" y="177"/>
                          </a:lnTo>
                          <a:lnTo>
                            <a:pt x="23" y="161"/>
                          </a:lnTo>
                          <a:lnTo>
                            <a:pt x="30" y="144"/>
                          </a:lnTo>
                          <a:lnTo>
                            <a:pt x="37" y="128"/>
                          </a:lnTo>
                          <a:lnTo>
                            <a:pt x="52" y="96"/>
                          </a:lnTo>
                          <a:lnTo>
                            <a:pt x="68" y="65"/>
                          </a:lnTo>
                          <a:lnTo>
                            <a:pt x="74" y="53"/>
                          </a:lnTo>
                          <a:lnTo>
                            <a:pt x="80" y="42"/>
                          </a:lnTo>
                          <a:lnTo>
                            <a:pt x="86" y="33"/>
                          </a:lnTo>
                          <a:lnTo>
                            <a:pt x="92" y="24"/>
                          </a:lnTo>
                          <a:lnTo>
                            <a:pt x="99" y="17"/>
                          </a:lnTo>
                          <a:lnTo>
                            <a:pt x="105" y="12"/>
                          </a:lnTo>
                          <a:lnTo>
                            <a:pt x="111" y="8"/>
                          </a:lnTo>
                          <a:lnTo>
                            <a:pt x="118" y="3"/>
                          </a:lnTo>
                          <a:lnTo>
                            <a:pt x="124" y="2"/>
                          </a:lnTo>
                          <a:lnTo>
                            <a:pt x="131" y="0"/>
                          </a:lnTo>
                          <a:lnTo>
                            <a:pt x="137" y="0"/>
                          </a:lnTo>
                          <a:lnTo>
                            <a:pt x="143" y="2"/>
                          </a:lnTo>
                          <a:lnTo>
                            <a:pt x="149" y="3"/>
                          </a:lnTo>
                          <a:lnTo>
                            <a:pt x="155" y="6"/>
                          </a:lnTo>
                          <a:lnTo>
                            <a:pt x="161" y="9"/>
                          </a:lnTo>
                          <a:lnTo>
                            <a:pt x="167" y="14"/>
                          </a:lnTo>
                          <a:lnTo>
                            <a:pt x="178" y="26"/>
                          </a:lnTo>
                          <a:lnTo>
                            <a:pt x="188" y="39"/>
                          </a:lnTo>
                          <a:lnTo>
                            <a:pt x="197" y="56"/>
                          </a:lnTo>
                          <a:lnTo>
                            <a:pt x="206" y="75"/>
                          </a:lnTo>
                          <a:lnTo>
                            <a:pt x="212" y="95"/>
                          </a:lnTo>
                          <a:lnTo>
                            <a:pt x="218" y="117"/>
                          </a:lnTo>
                          <a:lnTo>
                            <a:pt x="221" y="141"/>
                          </a:lnTo>
                          <a:lnTo>
                            <a:pt x="223" y="16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720" bIns="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5" name=""/>
                    <p:cNvSpPr/>
                    <p:nvPr/>
                  </p:nvSpPr>
                  <p:spPr>
                    <a:xfrm>
                      <a:off x="1198800" y="2815920"/>
                      <a:ext cx="107640" cy="24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2" h="1639">
                          <a:moveTo>
                            <a:pt x="652" y="8"/>
                          </a:moveTo>
                          <a:lnTo>
                            <a:pt x="609" y="111"/>
                          </a:lnTo>
                          <a:lnTo>
                            <a:pt x="565" y="213"/>
                          </a:lnTo>
                          <a:lnTo>
                            <a:pt x="522" y="315"/>
                          </a:lnTo>
                          <a:lnTo>
                            <a:pt x="479" y="417"/>
                          </a:lnTo>
                          <a:lnTo>
                            <a:pt x="437" y="517"/>
                          </a:lnTo>
                          <a:lnTo>
                            <a:pt x="394" y="618"/>
                          </a:lnTo>
                          <a:lnTo>
                            <a:pt x="352" y="720"/>
                          </a:lnTo>
                          <a:lnTo>
                            <a:pt x="311" y="820"/>
                          </a:lnTo>
                          <a:lnTo>
                            <a:pt x="270" y="921"/>
                          </a:lnTo>
                          <a:lnTo>
                            <a:pt x="229" y="1023"/>
                          </a:lnTo>
                          <a:lnTo>
                            <a:pt x="189" y="1125"/>
                          </a:lnTo>
                          <a:lnTo>
                            <a:pt x="150" y="1227"/>
                          </a:lnTo>
                          <a:lnTo>
                            <a:pt x="111" y="1329"/>
                          </a:lnTo>
                          <a:lnTo>
                            <a:pt x="73" y="1432"/>
                          </a:lnTo>
                          <a:lnTo>
                            <a:pt x="36" y="1535"/>
                          </a:lnTo>
                          <a:lnTo>
                            <a:pt x="0" y="1639"/>
                          </a:lnTo>
                          <a:lnTo>
                            <a:pt x="13" y="1583"/>
                          </a:lnTo>
                          <a:lnTo>
                            <a:pt x="26" y="1529"/>
                          </a:lnTo>
                          <a:lnTo>
                            <a:pt x="41" y="1474"/>
                          </a:lnTo>
                          <a:lnTo>
                            <a:pt x="56" y="1420"/>
                          </a:lnTo>
                          <a:lnTo>
                            <a:pt x="72" y="1366"/>
                          </a:lnTo>
                          <a:lnTo>
                            <a:pt x="88" y="1312"/>
                          </a:lnTo>
                          <a:lnTo>
                            <a:pt x="105" y="1258"/>
                          </a:lnTo>
                          <a:lnTo>
                            <a:pt x="123" y="1206"/>
                          </a:lnTo>
                          <a:lnTo>
                            <a:pt x="141" y="1152"/>
                          </a:lnTo>
                          <a:lnTo>
                            <a:pt x="160" y="1099"/>
                          </a:lnTo>
                          <a:lnTo>
                            <a:pt x="180" y="1047"/>
                          </a:lnTo>
                          <a:lnTo>
                            <a:pt x="199" y="994"/>
                          </a:lnTo>
                          <a:lnTo>
                            <a:pt x="240" y="891"/>
                          </a:lnTo>
                          <a:lnTo>
                            <a:pt x="283" y="787"/>
                          </a:lnTo>
                          <a:lnTo>
                            <a:pt x="326" y="685"/>
                          </a:lnTo>
                          <a:lnTo>
                            <a:pt x="371" y="583"/>
                          </a:lnTo>
                          <a:lnTo>
                            <a:pt x="416" y="485"/>
                          </a:lnTo>
                          <a:lnTo>
                            <a:pt x="462" y="386"/>
                          </a:lnTo>
                          <a:lnTo>
                            <a:pt x="507" y="287"/>
                          </a:lnTo>
                          <a:lnTo>
                            <a:pt x="553" y="191"/>
                          </a:lnTo>
                          <a:lnTo>
                            <a:pt x="599" y="95"/>
                          </a:lnTo>
                          <a:lnTo>
                            <a:pt x="643" y="0"/>
                          </a:lnTo>
                          <a:lnTo>
                            <a:pt x="652" y="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6" name=""/>
                    <p:cNvSpPr/>
                    <p:nvPr/>
                  </p:nvSpPr>
                  <p:spPr>
                    <a:xfrm>
                      <a:off x="844200" y="2878560"/>
                      <a:ext cx="33696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40" h="3503">
                          <a:moveTo>
                            <a:pt x="578" y="66"/>
                          </a:moveTo>
                          <a:lnTo>
                            <a:pt x="568" y="73"/>
                          </a:lnTo>
                          <a:lnTo>
                            <a:pt x="557" y="80"/>
                          </a:lnTo>
                          <a:lnTo>
                            <a:pt x="545" y="88"/>
                          </a:lnTo>
                          <a:lnTo>
                            <a:pt x="531" y="94"/>
                          </a:lnTo>
                          <a:lnTo>
                            <a:pt x="502" y="103"/>
                          </a:lnTo>
                          <a:lnTo>
                            <a:pt x="471" y="112"/>
                          </a:lnTo>
                          <a:lnTo>
                            <a:pt x="439" y="121"/>
                          </a:lnTo>
                          <a:lnTo>
                            <a:pt x="408" y="130"/>
                          </a:lnTo>
                          <a:lnTo>
                            <a:pt x="393" y="136"/>
                          </a:lnTo>
                          <a:lnTo>
                            <a:pt x="379" y="142"/>
                          </a:lnTo>
                          <a:lnTo>
                            <a:pt x="366" y="148"/>
                          </a:lnTo>
                          <a:lnTo>
                            <a:pt x="353" y="155"/>
                          </a:lnTo>
                          <a:lnTo>
                            <a:pt x="330" y="233"/>
                          </a:lnTo>
                          <a:lnTo>
                            <a:pt x="308" y="313"/>
                          </a:lnTo>
                          <a:lnTo>
                            <a:pt x="287" y="392"/>
                          </a:lnTo>
                          <a:lnTo>
                            <a:pt x="267" y="472"/>
                          </a:lnTo>
                          <a:lnTo>
                            <a:pt x="248" y="554"/>
                          </a:lnTo>
                          <a:lnTo>
                            <a:pt x="231" y="637"/>
                          </a:lnTo>
                          <a:lnTo>
                            <a:pt x="214" y="719"/>
                          </a:lnTo>
                          <a:lnTo>
                            <a:pt x="199" y="803"/>
                          </a:lnTo>
                          <a:lnTo>
                            <a:pt x="185" y="887"/>
                          </a:lnTo>
                          <a:lnTo>
                            <a:pt x="171" y="973"/>
                          </a:lnTo>
                          <a:lnTo>
                            <a:pt x="159" y="1060"/>
                          </a:lnTo>
                          <a:lnTo>
                            <a:pt x="148" y="1146"/>
                          </a:lnTo>
                          <a:lnTo>
                            <a:pt x="138" y="1233"/>
                          </a:lnTo>
                          <a:lnTo>
                            <a:pt x="128" y="1320"/>
                          </a:lnTo>
                          <a:lnTo>
                            <a:pt x="120" y="1409"/>
                          </a:lnTo>
                          <a:lnTo>
                            <a:pt x="112" y="1497"/>
                          </a:lnTo>
                          <a:lnTo>
                            <a:pt x="105" y="1587"/>
                          </a:lnTo>
                          <a:lnTo>
                            <a:pt x="99" y="1677"/>
                          </a:lnTo>
                          <a:lnTo>
                            <a:pt x="94" y="1767"/>
                          </a:lnTo>
                          <a:lnTo>
                            <a:pt x="89" y="1857"/>
                          </a:lnTo>
                          <a:lnTo>
                            <a:pt x="86" y="1947"/>
                          </a:lnTo>
                          <a:lnTo>
                            <a:pt x="83" y="2039"/>
                          </a:lnTo>
                          <a:lnTo>
                            <a:pt x="80" y="2130"/>
                          </a:lnTo>
                          <a:lnTo>
                            <a:pt x="79" y="2220"/>
                          </a:lnTo>
                          <a:lnTo>
                            <a:pt x="78" y="2311"/>
                          </a:lnTo>
                          <a:lnTo>
                            <a:pt x="77" y="2403"/>
                          </a:lnTo>
                          <a:lnTo>
                            <a:pt x="77" y="2494"/>
                          </a:lnTo>
                          <a:lnTo>
                            <a:pt x="78" y="2586"/>
                          </a:lnTo>
                          <a:lnTo>
                            <a:pt x="80" y="2769"/>
                          </a:lnTo>
                          <a:lnTo>
                            <a:pt x="85" y="2950"/>
                          </a:lnTo>
                          <a:lnTo>
                            <a:pt x="89" y="2985"/>
                          </a:lnTo>
                          <a:lnTo>
                            <a:pt x="94" y="3018"/>
                          </a:lnTo>
                          <a:lnTo>
                            <a:pt x="99" y="3052"/>
                          </a:lnTo>
                          <a:lnTo>
                            <a:pt x="105" y="3085"/>
                          </a:lnTo>
                          <a:lnTo>
                            <a:pt x="112" y="3118"/>
                          </a:lnTo>
                          <a:lnTo>
                            <a:pt x="120" y="3149"/>
                          </a:lnTo>
                          <a:lnTo>
                            <a:pt x="128" y="3181"/>
                          </a:lnTo>
                          <a:lnTo>
                            <a:pt x="137" y="3212"/>
                          </a:lnTo>
                          <a:lnTo>
                            <a:pt x="146" y="3242"/>
                          </a:lnTo>
                          <a:lnTo>
                            <a:pt x="156" y="3272"/>
                          </a:lnTo>
                          <a:lnTo>
                            <a:pt x="167" y="3301"/>
                          </a:lnTo>
                          <a:lnTo>
                            <a:pt x="178" y="3328"/>
                          </a:lnTo>
                          <a:lnTo>
                            <a:pt x="190" y="3355"/>
                          </a:lnTo>
                          <a:lnTo>
                            <a:pt x="202" y="3379"/>
                          </a:lnTo>
                          <a:lnTo>
                            <a:pt x="215" y="3403"/>
                          </a:lnTo>
                          <a:lnTo>
                            <a:pt x="229" y="3425"/>
                          </a:lnTo>
                          <a:lnTo>
                            <a:pt x="245" y="3433"/>
                          </a:lnTo>
                          <a:lnTo>
                            <a:pt x="259" y="3439"/>
                          </a:lnTo>
                          <a:lnTo>
                            <a:pt x="273" y="3442"/>
                          </a:lnTo>
                          <a:lnTo>
                            <a:pt x="286" y="3445"/>
                          </a:lnTo>
                          <a:lnTo>
                            <a:pt x="299" y="3445"/>
                          </a:lnTo>
                          <a:lnTo>
                            <a:pt x="313" y="3445"/>
                          </a:lnTo>
                          <a:lnTo>
                            <a:pt x="328" y="3445"/>
                          </a:lnTo>
                          <a:lnTo>
                            <a:pt x="345" y="3443"/>
                          </a:lnTo>
                          <a:lnTo>
                            <a:pt x="393" y="3397"/>
                          </a:lnTo>
                          <a:lnTo>
                            <a:pt x="441" y="3347"/>
                          </a:lnTo>
                          <a:lnTo>
                            <a:pt x="490" y="3296"/>
                          </a:lnTo>
                          <a:lnTo>
                            <a:pt x="538" y="3242"/>
                          </a:lnTo>
                          <a:lnTo>
                            <a:pt x="587" y="3187"/>
                          </a:lnTo>
                          <a:lnTo>
                            <a:pt x="635" y="3130"/>
                          </a:lnTo>
                          <a:lnTo>
                            <a:pt x="683" y="3072"/>
                          </a:lnTo>
                          <a:lnTo>
                            <a:pt x="731" y="3012"/>
                          </a:lnTo>
                          <a:lnTo>
                            <a:pt x="779" y="2950"/>
                          </a:lnTo>
                          <a:lnTo>
                            <a:pt x="826" y="2887"/>
                          </a:lnTo>
                          <a:lnTo>
                            <a:pt x="873" y="2823"/>
                          </a:lnTo>
                          <a:lnTo>
                            <a:pt x="920" y="2757"/>
                          </a:lnTo>
                          <a:lnTo>
                            <a:pt x="967" y="2689"/>
                          </a:lnTo>
                          <a:lnTo>
                            <a:pt x="1014" y="2622"/>
                          </a:lnTo>
                          <a:lnTo>
                            <a:pt x="1060" y="2551"/>
                          </a:lnTo>
                          <a:lnTo>
                            <a:pt x="1106" y="2482"/>
                          </a:lnTo>
                          <a:lnTo>
                            <a:pt x="1151" y="2412"/>
                          </a:lnTo>
                          <a:lnTo>
                            <a:pt x="1196" y="2340"/>
                          </a:lnTo>
                          <a:lnTo>
                            <a:pt x="1240" y="2268"/>
                          </a:lnTo>
                          <a:lnTo>
                            <a:pt x="1284" y="2196"/>
                          </a:lnTo>
                          <a:lnTo>
                            <a:pt x="1328" y="2122"/>
                          </a:lnTo>
                          <a:lnTo>
                            <a:pt x="1371" y="2049"/>
                          </a:lnTo>
                          <a:lnTo>
                            <a:pt x="1414" y="1976"/>
                          </a:lnTo>
                          <a:lnTo>
                            <a:pt x="1455" y="1902"/>
                          </a:lnTo>
                          <a:lnTo>
                            <a:pt x="1537" y="1755"/>
                          </a:lnTo>
                          <a:lnTo>
                            <a:pt x="1617" y="1608"/>
                          </a:lnTo>
                          <a:lnTo>
                            <a:pt x="1693" y="1463"/>
                          </a:lnTo>
                          <a:lnTo>
                            <a:pt x="1767" y="1319"/>
                          </a:lnTo>
                          <a:lnTo>
                            <a:pt x="1771" y="1304"/>
                          </a:lnTo>
                          <a:lnTo>
                            <a:pt x="1776" y="1287"/>
                          </a:lnTo>
                          <a:lnTo>
                            <a:pt x="1782" y="1269"/>
                          </a:lnTo>
                          <a:lnTo>
                            <a:pt x="1788" y="1253"/>
                          </a:lnTo>
                          <a:lnTo>
                            <a:pt x="1803" y="1220"/>
                          </a:lnTo>
                          <a:lnTo>
                            <a:pt x="1819" y="1185"/>
                          </a:lnTo>
                          <a:lnTo>
                            <a:pt x="1836" y="1149"/>
                          </a:lnTo>
                          <a:lnTo>
                            <a:pt x="1853" y="1115"/>
                          </a:lnTo>
                          <a:lnTo>
                            <a:pt x="1869" y="1079"/>
                          </a:lnTo>
                          <a:lnTo>
                            <a:pt x="1885" y="1043"/>
                          </a:lnTo>
                          <a:lnTo>
                            <a:pt x="1891" y="1025"/>
                          </a:lnTo>
                          <a:lnTo>
                            <a:pt x="1898" y="1007"/>
                          </a:lnTo>
                          <a:lnTo>
                            <a:pt x="1903" y="989"/>
                          </a:lnTo>
                          <a:lnTo>
                            <a:pt x="1908" y="971"/>
                          </a:lnTo>
                          <a:lnTo>
                            <a:pt x="1912" y="953"/>
                          </a:lnTo>
                          <a:lnTo>
                            <a:pt x="1916" y="935"/>
                          </a:lnTo>
                          <a:lnTo>
                            <a:pt x="1918" y="917"/>
                          </a:lnTo>
                          <a:lnTo>
                            <a:pt x="1919" y="899"/>
                          </a:lnTo>
                          <a:lnTo>
                            <a:pt x="1919" y="881"/>
                          </a:lnTo>
                          <a:lnTo>
                            <a:pt x="1917" y="863"/>
                          </a:lnTo>
                          <a:lnTo>
                            <a:pt x="1914" y="845"/>
                          </a:lnTo>
                          <a:lnTo>
                            <a:pt x="1910" y="827"/>
                          </a:lnTo>
                          <a:lnTo>
                            <a:pt x="1904" y="811"/>
                          </a:lnTo>
                          <a:lnTo>
                            <a:pt x="1897" y="793"/>
                          </a:lnTo>
                          <a:lnTo>
                            <a:pt x="1888" y="775"/>
                          </a:lnTo>
                          <a:lnTo>
                            <a:pt x="1877" y="757"/>
                          </a:lnTo>
                          <a:lnTo>
                            <a:pt x="1871" y="763"/>
                          </a:lnTo>
                          <a:lnTo>
                            <a:pt x="1865" y="767"/>
                          </a:lnTo>
                          <a:lnTo>
                            <a:pt x="1859" y="770"/>
                          </a:lnTo>
                          <a:lnTo>
                            <a:pt x="1852" y="773"/>
                          </a:lnTo>
                          <a:lnTo>
                            <a:pt x="1839" y="778"/>
                          </a:lnTo>
                          <a:lnTo>
                            <a:pt x="1825" y="781"/>
                          </a:lnTo>
                          <a:lnTo>
                            <a:pt x="1813" y="785"/>
                          </a:lnTo>
                          <a:lnTo>
                            <a:pt x="1802" y="793"/>
                          </a:lnTo>
                          <a:lnTo>
                            <a:pt x="1797" y="797"/>
                          </a:lnTo>
                          <a:lnTo>
                            <a:pt x="1793" y="803"/>
                          </a:lnTo>
                          <a:lnTo>
                            <a:pt x="1790" y="809"/>
                          </a:lnTo>
                          <a:lnTo>
                            <a:pt x="1787" y="818"/>
                          </a:lnTo>
                          <a:lnTo>
                            <a:pt x="1783" y="818"/>
                          </a:lnTo>
                          <a:lnTo>
                            <a:pt x="1779" y="817"/>
                          </a:lnTo>
                          <a:lnTo>
                            <a:pt x="1775" y="814"/>
                          </a:lnTo>
                          <a:lnTo>
                            <a:pt x="1772" y="809"/>
                          </a:lnTo>
                          <a:lnTo>
                            <a:pt x="1765" y="799"/>
                          </a:lnTo>
                          <a:lnTo>
                            <a:pt x="1758" y="788"/>
                          </a:lnTo>
                          <a:lnTo>
                            <a:pt x="1760" y="778"/>
                          </a:lnTo>
                          <a:lnTo>
                            <a:pt x="1764" y="769"/>
                          </a:lnTo>
                          <a:lnTo>
                            <a:pt x="1768" y="761"/>
                          </a:lnTo>
                          <a:lnTo>
                            <a:pt x="1773" y="754"/>
                          </a:lnTo>
                          <a:lnTo>
                            <a:pt x="1779" y="748"/>
                          </a:lnTo>
                          <a:lnTo>
                            <a:pt x="1785" y="742"/>
                          </a:lnTo>
                          <a:lnTo>
                            <a:pt x="1792" y="737"/>
                          </a:lnTo>
                          <a:lnTo>
                            <a:pt x="1800" y="733"/>
                          </a:lnTo>
                          <a:lnTo>
                            <a:pt x="1816" y="727"/>
                          </a:lnTo>
                          <a:lnTo>
                            <a:pt x="1833" y="721"/>
                          </a:lnTo>
                          <a:lnTo>
                            <a:pt x="1849" y="718"/>
                          </a:lnTo>
                          <a:lnTo>
                            <a:pt x="1865" y="715"/>
                          </a:lnTo>
                          <a:lnTo>
                            <a:pt x="1880" y="712"/>
                          </a:lnTo>
                          <a:lnTo>
                            <a:pt x="1894" y="713"/>
                          </a:lnTo>
                          <a:lnTo>
                            <a:pt x="1907" y="718"/>
                          </a:lnTo>
                          <a:lnTo>
                            <a:pt x="1919" y="724"/>
                          </a:lnTo>
                          <a:lnTo>
                            <a:pt x="1930" y="733"/>
                          </a:lnTo>
                          <a:lnTo>
                            <a:pt x="1940" y="743"/>
                          </a:lnTo>
                          <a:lnTo>
                            <a:pt x="1949" y="757"/>
                          </a:lnTo>
                          <a:lnTo>
                            <a:pt x="1958" y="770"/>
                          </a:lnTo>
                          <a:lnTo>
                            <a:pt x="1966" y="785"/>
                          </a:lnTo>
                          <a:lnTo>
                            <a:pt x="1973" y="800"/>
                          </a:lnTo>
                          <a:lnTo>
                            <a:pt x="1980" y="817"/>
                          </a:lnTo>
                          <a:lnTo>
                            <a:pt x="1986" y="833"/>
                          </a:lnTo>
                          <a:lnTo>
                            <a:pt x="1998" y="868"/>
                          </a:lnTo>
                          <a:lnTo>
                            <a:pt x="2009" y="901"/>
                          </a:lnTo>
                          <a:lnTo>
                            <a:pt x="2017" y="926"/>
                          </a:lnTo>
                          <a:lnTo>
                            <a:pt x="2023" y="952"/>
                          </a:lnTo>
                          <a:lnTo>
                            <a:pt x="2028" y="977"/>
                          </a:lnTo>
                          <a:lnTo>
                            <a:pt x="2032" y="1004"/>
                          </a:lnTo>
                          <a:lnTo>
                            <a:pt x="2036" y="1030"/>
                          </a:lnTo>
                          <a:lnTo>
                            <a:pt x="2038" y="1055"/>
                          </a:lnTo>
                          <a:lnTo>
                            <a:pt x="2039" y="1080"/>
                          </a:lnTo>
                          <a:lnTo>
                            <a:pt x="2040" y="1106"/>
                          </a:lnTo>
                          <a:lnTo>
                            <a:pt x="2040" y="1131"/>
                          </a:lnTo>
                          <a:lnTo>
                            <a:pt x="2039" y="1157"/>
                          </a:lnTo>
                          <a:lnTo>
                            <a:pt x="2037" y="1181"/>
                          </a:lnTo>
                          <a:lnTo>
                            <a:pt x="2035" y="1206"/>
                          </a:lnTo>
                          <a:lnTo>
                            <a:pt x="2031" y="1230"/>
                          </a:lnTo>
                          <a:lnTo>
                            <a:pt x="2027" y="1256"/>
                          </a:lnTo>
                          <a:lnTo>
                            <a:pt x="2023" y="1280"/>
                          </a:lnTo>
                          <a:lnTo>
                            <a:pt x="2018" y="1304"/>
                          </a:lnTo>
                          <a:lnTo>
                            <a:pt x="2012" y="1328"/>
                          </a:lnTo>
                          <a:lnTo>
                            <a:pt x="2006" y="1352"/>
                          </a:lnTo>
                          <a:lnTo>
                            <a:pt x="1999" y="1374"/>
                          </a:lnTo>
                          <a:lnTo>
                            <a:pt x="1991" y="1398"/>
                          </a:lnTo>
                          <a:lnTo>
                            <a:pt x="1975" y="1443"/>
                          </a:lnTo>
                          <a:lnTo>
                            <a:pt x="1958" y="1488"/>
                          </a:lnTo>
                          <a:lnTo>
                            <a:pt x="1939" y="1532"/>
                          </a:lnTo>
                          <a:lnTo>
                            <a:pt x="1919" y="1574"/>
                          </a:lnTo>
                          <a:lnTo>
                            <a:pt x="1898" y="1614"/>
                          </a:lnTo>
                          <a:lnTo>
                            <a:pt x="1877" y="1653"/>
                          </a:lnTo>
                          <a:lnTo>
                            <a:pt x="1856" y="1653"/>
                          </a:lnTo>
                          <a:lnTo>
                            <a:pt x="1872" y="1616"/>
                          </a:lnTo>
                          <a:lnTo>
                            <a:pt x="1887" y="1578"/>
                          </a:lnTo>
                          <a:lnTo>
                            <a:pt x="1902" y="1541"/>
                          </a:lnTo>
                          <a:lnTo>
                            <a:pt x="1915" y="1505"/>
                          </a:lnTo>
                          <a:lnTo>
                            <a:pt x="1927" y="1467"/>
                          </a:lnTo>
                          <a:lnTo>
                            <a:pt x="1938" y="1430"/>
                          </a:lnTo>
                          <a:lnTo>
                            <a:pt x="1948" y="1391"/>
                          </a:lnTo>
                          <a:lnTo>
                            <a:pt x="1956" y="1352"/>
                          </a:lnTo>
                          <a:lnTo>
                            <a:pt x="1963" y="1313"/>
                          </a:lnTo>
                          <a:lnTo>
                            <a:pt x="1968" y="1272"/>
                          </a:lnTo>
                          <a:lnTo>
                            <a:pt x="1971" y="1230"/>
                          </a:lnTo>
                          <a:lnTo>
                            <a:pt x="1973" y="1188"/>
                          </a:lnTo>
                          <a:lnTo>
                            <a:pt x="1973" y="1145"/>
                          </a:lnTo>
                          <a:lnTo>
                            <a:pt x="1971" y="1100"/>
                          </a:lnTo>
                          <a:lnTo>
                            <a:pt x="1967" y="1052"/>
                          </a:lnTo>
                          <a:lnTo>
                            <a:pt x="1960" y="1004"/>
                          </a:lnTo>
                          <a:lnTo>
                            <a:pt x="1940" y="1004"/>
                          </a:lnTo>
                          <a:lnTo>
                            <a:pt x="1908" y="1083"/>
                          </a:lnTo>
                          <a:lnTo>
                            <a:pt x="1874" y="1163"/>
                          </a:lnTo>
                          <a:lnTo>
                            <a:pt x="1840" y="1242"/>
                          </a:lnTo>
                          <a:lnTo>
                            <a:pt x="1804" y="1322"/>
                          </a:lnTo>
                          <a:lnTo>
                            <a:pt x="1768" y="1401"/>
                          </a:lnTo>
                          <a:lnTo>
                            <a:pt x="1730" y="1479"/>
                          </a:lnTo>
                          <a:lnTo>
                            <a:pt x="1692" y="1557"/>
                          </a:lnTo>
                          <a:lnTo>
                            <a:pt x="1653" y="1635"/>
                          </a:lnTo>
                          <a:lnTo>
                            <a:pt x="1613" y="1713"/>
                          </a:lnTo>
                          <a:lnTo>
                            <a:pt x="1573" y="1791"/>
                          </a:lnTo>
                          <a:lnTo>
                            <a:pt x="1532" y="1868"/>
                          </a:lnTo>
                          <a:lnTo>
                            <a:pt x="1490" y="1944"/>
                          </a:lnTo>
                          <a:lnTo>
                            <a:pt x="1447" y="2019"/>
                          </a:lnTo>
                          <a:lnTo>
                            <a:pt x="1404" y="2094"/>
                          </a:lnTo>
                          <a:lnTo>
                            <a:pt x="1360" y="2169"/>
                          </a:lnTo>
                          <a:lnTo>
                            <a:pt x="1316" y="2242"/>
                          </a:lnTo>
                          <a:lnTo>
                            <a:pt x="1271" y="2316"/>
                          </a:lnTo>
                          <a:lnTo>
                            <a:pt x="1226" y="2388"/>
                          </a:lnTo>
                          <a:lnTo>
                            <a:pt x="1181" y="2460"/>
                          </a:lnTo>
                          <a:lnTo>
                            <a:pt x="1135" y="2530"/>
                          </a:lnTo>
                          <a:lnTo>
                            <a:pt x="1088" y="2601"/>
                          </a:lnTo>
                          <a:lnTo>
                            <a:pt x="1042" y="2670"/>
                          </a:lnTo>
                          <a:lnTo>
                            <a:pt x="995" y="2739"/>
                          </a:lnTo>
                          <a:lnTo>
                            <a:pt x="948" y="2806"/>
                          </a:lnTo>
                          <a:lnTo>
                            <a:pt x="900" y="2872"/>
                          </a:lnTo>
                          <a:lnTo>
                            <a:pt x="853" y="2938"/>
                          </a:lnTo>
                          <a:lnTo>
                            <a:pt x="805" y="3003"/>
                          </a:lnTo>
                          <a:lnTo>
                            <a:pt x="758" y="3066"/>
                          </a:lnTo>
                          <a:lnTo>
                            <a:pt x="710" y="3128"/>
                          </a:lnTo>
                          <a:lnTo>
                            <a:pt x="662" y="3190"/>
                          </a:lnTo>
                          <a:lnTo>
                            <a:pt x="614" y="3250"/>
                          </a:lnTo>
                          <a:lnTo>
                            <a:pt x="567" y="3310"/>
                          </a:lnTo>
                          <a:lnTo>
                            <a:pt x="546" y="3325"/>
                          </a:lnTo>
                          <a:lnTo>
                            <a:pt x="526" y="3341"/>
                          </a:lnTo>
                          <a:lnTo>
                            <a:pt x="506" y="3359"/>
                          </a:lnTo>
                          <a:lnTo>
                            <a:pt x="487" y="3377"/>
                          </a:lnTo>
                          <a:lnTo>
                            <a:pt x="449" y="3413"/>
                          </a:lnTo>
                          <a:lnTo>
                            <a:pt x="410" y="3448"/>
                          </a:lnTo>
                          <a:lnTo>
                            <a:pt x="390" y="3463"/>
                          </a:lnTo>
                          <a:lnTo>
                            <a:pt x="370" y="3476"/>
                          </a:lnTo>
                          <a:lnTo>
                            <a:pt x="349" y="3487"/>
                          </a:lnTo>
                          <a:lnTo>
                            <a:pt x="327" y="3496"/>
                          </a:lnTo>
                          <a:lnTo>
                            <a:pt x="316" y="3499"/>
                          </a:lnTo>
                          <a:lnTo>
                            <a:pt x="304" y="3500"/>
                          </a:lnTo>
                          <a:lnTo>
                            <a:pt x="293" y="3502"/>
                          </a:lnTo>
                          <a:lnTo>
                            <a:pt x="281" y="3503"/>
                          </a:lnTo>
                          <a:lnTo>
                            <a:pt x="268" y="3502"/>
                          </a:lnTo>
                          <a:lnTo>
                            <a:pt x="256" y="3502"/>
                          </a:lnTo>
                          <a:lnTo>
                            <a:pt x="243" y="3499"/>
                          </a:lnTo>
                          <a:lnTo>
                            <a:pt x="229" y="3496"/>
                          </a:lnTo>
                          <a:lnTo>
                            <a:pt x="193" y="3436"/>
                          </a:lnTo>
                          <a:lnTo>
                            <a:pt x="161" y="3373"/>
                          </a:lnTo>
                          <a:lnTo>
                            <a:pt x="132" y="3308"/>
                          </a:lnTo>
                          <a:lnTo>
                            <a:pt x="106" y="3241"/>
                          </a:lnTo>
                          <a:lnTo>
                            <a:pt x="84" y="3170"/>
                          </a:lnTo>
                          <a:lnTo>
                            <a:pt x="65" y="3098"/>
                          </a:lnTo>
                          <a:lnTo>
                            <a:pt x="48" y="3024"/>
                          </a:lnTo>
                          <a:lnTo>
                            <a:pt x="34" y="2947"/>
                          </a:lnTo>
                          <a:lnTo>
                            <a:pt x="23" y="2869"/>
                          </a:lnTo>
                          <a:lnTo>
                            <a:pt x="14" y="2788"/>
                          </a:lnTo>
                          <a:lnTo>
                            <a:pt x="8" y="2707"/>
                          </a:lnTo>
                          <a:lnTo>
                            <a:pt x="3" y="2625"/>
                          </a:lnTo>
                          <a:lnTo>
                            <a:pt x="1" y="2541"/>
                          </a:lnTo>
                          <a:lnTo>
                            <a:pt x="0" y="2457"/>
                          </a:lnTo>
                          <a:lnTo>
                            <a:pt x="2" y="2371"/>
                          </a:lnTo>
                          <a:lnTo>
                            <a:pt x="4" y="2284"/>
                          </a:lnTo>
                          <a:lnTo>
                            <a:pt x="8" y="2197"/>
                          </a:lnTo>
                          <a:lnTo>
                            <a:pt x="14" y="2110"/>
                          </a:lnTo>
                          <a:lnTo>
                            <a:pt x="20" y="2024"/>
                          </a:lnTo>
                          <a:lnTo>
                            <a:pt x="27" y="1937"/>
                          </a:lnTo>
                          <a:lnTo>
                            <a:pt x="35" y="1850"/>
                          </a:lnTo>
                          <a:lnTo>
                            <a:pt x="44" y="1763"/>
                          </a:lnTo>
                          <a:lnTo>
                            <a:pt x="53" y="1676"/>
                          </a:lnTo>
                          <a:lnTo>
                            <a:pt x="63" y="1590"/>
                          </a:lnTo>
                          <a:lnTo>
                            <a:pt x="82" y="1422"/>
                          </a:lnTo>
                          <a:lnTo>
                            <a:pt x="102" y="1257"/>
                          </a:lnTo>
                          <a:lnTo>
                            <a:pt x="111" y="1178"/>
                          </a:lnTo>
                          <a:lnTo>
                            <a:pt x="119" y="1098"/>
                          </a:lnTo>
                          <a:lnTo>
                            <a:pt x="127" y="1022"/>
                          </a:lnTo>
                          <a:lnTo>
                            <a:pt x="134" y="947"/>
                          </a:lnTo>
                          <a:lnTo>
                            <a:pt x="141" y="899"/>
                          </a:lnTo>
                          <a:lnTo>
                            <a:pt x="149" y="853"/>
                          </a:lnTo>
                          <a:lnTo>
                            <a:pt x="158" y="805"/>
                          </a:lnTo>
                          <a:lnTo>
                            <a:pt x="168" y="758"/>
                          </a:lnTo>
                          <a:lnTo>
                            <a:pt x="190" y="664"/>
                          </a:lnTo>
                          <a:lnTo>
                            <a:pt x="212" y="571"/>
                          </a:lnTo>
                          <a:lnTo>
                            <a:pt x="233" y="478"/>
                          </a:lnTo>
                          <a:lnTo>
                            <a:pt x="252" y="385"/>
                          </a:lnTo>
                          <a:lnTo>
                            <a:pt x="260" y="338"/>
                          </a:lnTo>
                          <a:lnTo>
                            <a:pt x="268" y="292"/>
                          </a:lnTo>
                          <a:lnTo>
                            <a:pt x="274" y="245"/>
                          </a:lnTo>
                          <a:lnTo>
                            <a:pt x="278" y="199"/>
                          </a:lnTo>
                          <a:lnTo>
                            <a:pt x="260" y="217"/>
                          </a:lnTo>
                          <a:lnTo>
                            <a:pt x="242" y="236"/>
                          </a:lnTo>
                          <a:lnTo>
                            <a:pt x="225" y="259"/>
                          </a:lnTo>
                          <a:lnTo>
                            <a:pt x="209" y="281"/>
                          </a:lnTo>
                          <a:lnTo>
                            <a:pt x="193" y="305"/>
                          </a:lnTo>
                          <a:lnTo>
                            <a:pt x="178" y="331"/>
                          </a:lnTo>
                          <a:lnTo>
                            <a:pt x="164" y="356"/>
                          </a:lnTo>
                          <a:lnTo>
                            <a:pt x="150" y="385"/>
                          </a:lnTo>
                          <a:lnTo>
                            <a:pt x="123" y="440"/>
                          </a:lnTo>
                          <a:lnTo>
                            <a:pt x="97" y="499"/>
                          </a:lnTo>
                          <a:lnTo>
                            <a:pt x="72" y="557"/>
                          </a:lnTo>
                          <a:lnTo>
                            <a:pt x="47" y="614"/>
                          </a:lnTo>
                          <a:lnTo>
                            <a:pt x="50" y="593"/>
                          </a:lnTo>
                          <a:lnTo>
                            <a:pt x="52" y="572"/>
                          </a:lnTo>
                          <a:lnTo>
                            <a:pt x="56" y="550"/>
                          </a:lnTo>
                          <a:lnTo>
                            <a:pt x="60" y="529"/>
                          </a:lnTo>
                          <a:lnTo>
                            <a:pt x="64" y="508"/>
                          </a:lnTo>
                          <a:lnTo>
                            <a:pt x="69" y="487"/>
                          </a:lnTo>
                          <a:lnTo>
                            <a:pt x="75" y="466"/>
                          </a:lnTo>
                          <a:lnTo>
                            <a:pt x="81" y="445"/>
                          </a:lnTo>
                          <a:lnTo>
                            <a:pt x="94" y="404"/>
                          </a:lnTo>
                          <a:lnTo>
                            <a:pt x="110" y="364"/>
                          </a:lnTo>
                          <a:lnTo>
                            <a:pt x="127" y="325"/>
                          </a:lnTo>
                          <a:lnTo>
                            <a:pt x="145" y="287"/>
                          </a:lnTo>
                          <a:lnTo>
                            <a:pt x="165" y="251"/>
                          </a:lnTo>
                          <a:lnTo>
                            <a:pt x="187" y="217"/>
                          </a:lnTo>
                          <a:lnTo>
                            <a:pt x="209" y="184"/>
                          </a:lnTo>
                          <a:lnTo>
                            <a:pt x="233" y="154"/>
                          </a:lnTo>
                          <a:lnTo>
                            <a:pt x="258" y="124"/>
                          </a:lnTo>
                          <a:lnTo>
                            <a:pt x="283" y="98"/>
                          </a:lnTo>
                          <a:lnTo>
                            <a:pt x="309" y="75"/>
                          </a:lnTo>
                          <a:lnTo>
                            <a:pt x="336" y="52"/>
                          </a:lnTo>
                          <a:lnTo>
                            <a:pt x="342" y="43"/>
                          </a:lnTo>
                          <a:lnTo>
                            <a:pt x="349" y="34"/>
                          </a:lnTo>
                          <a:lnTo>
                            <a:pt x="355" y="27"/>
                          </a:lnTo>
                          <a:lnTo>
                            <a:pt x="362" y="19"/>
                          </a:lnTo>
                          <a:lnTo>
                            <a:pt x="369" y="13"/>
                          </a:lnTo>
                          <a:lnTo>
                            <a:pt x="376" y="9"/>
                          </a:lnTo>
                          <a:lnTo>
                            <a:pt x="384" y="6"/>
                          </a:lnTo>
                          <a:lnTo>
                            <a:pt x="391" y="3"/>
                          </a:lnTo>
                          <a:lnTo>
                            <a:pt x="406" y="0"/>
                          </a:lnTo>
                          <a:lnTo>
                            <a:pt x="421" y="0"/>
                          </a:lnTo>
                          <a:lnTo>
                            <a:pt x="437" y="1"/>
                          </a:lnTo>
                          <a:lnTo>
                            <a:pt x="453" y="6"/>
                          </a:lnTo>
                          <a:lnTo>
                            <a:pt x="469" y="12"/>
                          </a:lnTo>
                          <a:lnTo>
                            <a:pt x="485" y="18"/>
                          </a:lnTo>
                          <a:lnTo>
                            <a:pt x="501" y="27"/>
                          </a:lnTo>
                          <a:lnTo>
                            <a:pt x="517" y="34"/>
                          </a:lnTo>
                          <a:lnTo>
                            <a:pt x="548" y="52"/>
                          </a:lnTo>
                          <a:lnTo>
                            <a:pt x="578" y="6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7" name=""/>
                    <p:cNvSpPr/>
                    <p:nvPr/>
                  </p:nvSpPr>
                  <p:spPr>
                    <a:xfrm>
                      <a:off x="878040" y="2913840"/>
                      <a:ext cx="14544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2" h="2804">
                          <a:moveTo>
                            <a:pt x="882" y="0"/>
                          </a:moveTo>
                          <a:lnTo>
                            <a:pt x="866" y="63"/>
                          </a:lnTo>
                          <a:lnTo>
                            <a:pt x="847" y="124"/>
                          </a:lnTo>
                          <a:lnTo>
                            <a:pt x="828" y="189"/>
                          </a:lnTo>
                          <a:lnTo>
                            <a:pt x="806" y="252"/>
                          </a:lnTo>
                          <a:lnTo>
                            <a:pt x="784" y="315"/>
                          </a:lnTo>
                          <a:lnTo>
                            <a:pt x="762" y="379"/>
                          </a:lnTo>
                          <a:lnTo>
                            <a:pt x="740" y="442"/>
                          </a:lnTo>
                          <a:lnTo>
                            <a:pt x="718" y="507"/>
                          </a:lnTo>
                          <a:lnTo>
                            <a:pt x="672" y="649"/>
                          </a:lnTo>
                          <a:lnTo>
                            <a:pt x="627" y="792"/>
                          </a:lnTo>
                          <a:lnTo>
                            <a:pt x="582" y="935"/>
                          </a:lnTo>
                          <a:lnTo>
                            <a:pt x="537" y="1078"/>
                          </a:lnTo>
                          <a:lnTo>
                            <a:pt x="493" y="1223"/>
                          </a:lnTo>
                          <a:lnTo>
                            <a:pt x="449" y="1367"/>
                          </a:lnTo>
                          <a:lnTo>
                            <a:pt x="405" y="1511"/>
                          </a:lnTo>
                          <a:lnTo>
                            <a:pt x="361" y="1657"/>
                          </a:lnTo>
                          <a:lnTo>
                            <a:pt x="318" y="1801"/>
                          </a:lnTo>
                          <a:lnTo>
                            <a:pt x="274" y="1944"/>
                          </a:lnTo>
                          <a:lnTo>
                            <a:pt x="230" y="2090"/>
                          </a:lnTo>
                          <a:lnTo>
                            <a:pt x="185" y="2234"/>
                          </a:lnTo>
                          <a:lnTo>
                            <a:pt x="141" y="2376"/>
                          </a:lnTo>
                          <a:lnTo>
                            <a:pt x="96" y="2519"/>
                          </a:lnTo>
                          <a:lnTo>
                            <a:pt x="51" y="2661"/>
                          </a:lnTo>
                          <a:lnTo>
                            <a:pt x="5" y="2804"/>
                          </a:lnTo>
                          <a:lnTo>
                            <a:pt x="2" y="2789"/>
                          </a:lnTo>
                          <a:lnTo>
                            <a:pt x="0" y="2774"/>
                          </a:lnTo>
                          <a:lnTo>
                            <a:pt x="0" y="2759"/>
                          </a:lnTo>
                          <a:lnTo>
                            <a:pt x="2" y="2745"/>
                          </a:lnTo>
                          <a:lnTo>
                            <a:pt x="5" y="2730"/>
                          </a:lnTo>
                          <a:lnTo>
                            <a:pt x="9" y="2715"/>
                          </a:lnTo>
                          <a:lnTo>
                            <a:pt x="14" y="2700"/>
                          </a:lnTo>
                          <a:lnTo>
                            <a:pt x="19" y="2687"/>
                          </a:lnTo>
                          <a:lnTo>
                            <a:pt x="31" y="2657"/>
                          </a:lnTo>
                          <a:lnTo>
                            <a:pt x="44" y="2628"/>
                          </a:lnTo>
                          <a:lnTo>
                            <a:pt x="51" y="2613"/>
                          </a:lnTo>
                          <a:lnTo>
                            <a:pt x="56" y="2598"/>
                          </a:lnTo>
                          <a:lnTo>
                            <a:pt x="61" y="2585"/>
                          </a:lnTo>
                          <a:lnTo>
                            <a:pt x="66" y="2570"/>
                          </a:lnTo>
                          <a:lnTo>
                            <a:pt x="111" y="2411"/>
                          </a:lnTo>
                          <a:lnTo>
                            <a:pt x="157" y="2253"/>
                          </a:lnTo>
                          <a:lnTo>
                            <a:pt x="202" y="2096"/>
                          </a:lnTo>
                          <a:lnTo>
                            <a:pt x="247" y="1940"/>
                          </a:lnTo>
                          <a:lnTo>
                            <a:pt x="293" y="1783"/>
                          </a:lnTo>
                          <a:lnTo>
                            <a:pt x="338" y="1627"/>
                          </a:lnTo>
                          <a:lnTo>
                            <a:pt x="384" y="1471"/>
                          </a:lnTo>
                          <a:lnTo>
                            <a:pt x="430" y="1315"/>
                          </a:lnTo>
                          <a:lnTo>
                            <a:pt x="476" y="1160"/>
                          </a:lnTo>
                          <a:lnTo>
                            <a:pt x="523" y="1006"/>
                          </a:lnTo>
                          <a:lnTo>
                            <a:pt x="570" y="851"/>
                          </a:lnTo>
                          <a:lnTo>
                            <a:pt x="619" y="697"/>
                          </a:lnTo>
                          <a:lnTo>
                            <a:pt x="668" y="544"/>
                          </a:lnTo>
                          <a:lnTo>
                            <a:pt x="718" y="391"/>
                          </a:lnTo>
                          <a:lnTo>
                            <a:pt x="769" y="238"/>
                          </a:lnTo>
                          <a:lnTo>
                            <a:pt x="822" y="87"/>
                          </a:lnTo>
                          <a:lnTo>
                            <a:pt x="827" y="82"/>
                          </a:lnTo>
                          <a:lnTo>
                            <a:pt x="831" y="78"/>
                          </a:lnTo>
                          <a:lnTo>
                            <a:pt x="835" y="72"/>
                          </a:lnTo>
                          <a:lnTo>
                            <a:pt x="838" y="64"/>
                          </a:lnTo>
                          <a:lnTo>
                            <a:pt x="843" y="49"/>
                          </a:lnTo>
                          <a:lnTo>
                            <a:pt x="847" y="34"/>
                          </a:lnTo>
                          <a:lnTo>
                            <a:pt x="850" y="27"/>
                          </a:lnTo>
                          <a:lnTo>
                            <a:pt x="852" y="19"/>
                          </a:lnTo>
                          <a:lnTo>
                            <a:pt x="855" y="13"/>
                          </a:lnTo>
                          <a:lnTo>
                            <a:pt x="859" y="7"/>
                          </a:lnTo>
                          <a:lnTo>
                            <a:pt x="863" y="3"/>
                          </a:lnTo>
                          <a:lnTo>
                            <a:pt x="868" y="1"/>
                          </a:lnTo>
                          <a:lnTo>
                            <a:pt x="875" y="0"/>
                          </a:lnTo>
                          <a:lnTo>
                            <a:pt x="88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8" name=""/>
                    <p:cNvSpPr/>
                    <p:nvPr/>
                  </p:nvSpPr>
                  <p:spPr>
                    <a:xfrm>
                      <a:off x="468720" y="3002040"/>
                      <a:ext cx="360720" cy="11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5" h="8003">
                          <a:moveTo>
                            <a:pt x="2185" y="0"/>
                          </a:moveTo>
                          <a:lnTo>
                            <a:pt x="2182" y="32"/>
                          </a:lnTo>
                          <a:lnTo>
                            <a:pt x="2178" y="62"/>
                          </a:lnTo>
                          <a:lnTo>
                            <a:pt x="2173" y="92"/>
                          </a:lnTo>
                          <a:lnTo>
                            <a:pt x="2166" y="122"/>
                          </a:lnTo>
                          <a:lnTo>
                            <a:pt x="2159" y="152"/>
                          </a:lnTo>
                          <a:lnTo>
                            <a:pt x="2151" y="182"/>
                          </a:lnTo>
                          <a:lnTo>
                            <a:pt x="2142" y="212"/>
                          </a:lnTo>
                          <a:lnTo>
                            <a:pt x="2133" y="242"/>
                          </a:lnTo>
                          <a:lnTo>
                            <a:pt x="2114" y="301"/>
                          </a:lnTo>
                          <a:lnTo>
                            <a:pt x="2096" y="363"/>
                          </a:lnTo>
                          <a:lnTo>
                            <a:pt x="2088" y="394"/>
                          </a:lnTo>
                          <a:lnTo>
                            <a:pt x="2081" y="426"/>
                          </a:lnTo>
                          <a:lnTo>
                            <a:pt x="2074" y="457"/>
                          </a:lnTo>
                          <a:lnTo>
                            <a:pt x="2069" y="489"/>
                          </a:lnTo>
                          <a:lnTo>
                            <a:pt x="2007" y="724"/>
                          </a:lnTo>
                          <a:lnTo>
                            <a:pt x="1944" y="958"/>
                          </a:lnTo>
                          <a:lnTo>
                            <a:pt x="1879" y="1191"/>
                          </a:lnTo>
                          <a:lnTo>
                            <a:pt x="1814" y="1423"/>
                          </a:lnTo>
                          <a:lnTo>
                            <a:pt x="1748" y="1652"/>
                          </a:lnTo>
                          <a:lnTo>
                            <a:pt x="1681" y="1883"/>
                          </a:lnTo>
                          <a:lnTo>
                            <a:pt x="1613" y="2113"/>
                          </a:lnTo>
                          <a:lnTo>
                            <a:pt x="1545" y="2340"/>
                          </a:lnTo>
                          <a:lnTo>
                            <a:pt x="1477" y="2570"/>
                          </a:lnTo>
                          <a:lnTo>
                            <a:pt x="1409" y="2798"/>
                          </a:lnTo>
                          <a:lnTo>
                            <a:pt x="1341" y="3027"/>
                          </a:lnTo>
                          <a:lnTo>
                            <a:pt x="1272" y="3256"/>
                          </a:lnTo>
                          <a:lnTo>
                            <a:pt x="1204" y="3486"/>
                          </a:lnTo>
                          <a:lnTo>
                            <a:pt x="1135" y="3715"/>
                          </a:lnTo>
                          <a:lnTo>
                            <a:pt x="1068" y="3946"/>
                          </a:lnTo>
                          <a:lnTo>
                            <a:pt x="1001" y="4179"/>
                          </a:lnTo>
                          <a:lnTo>
                            <a:pt x="937" y="4415"/>
                          </a:lnTo>
                          <a:lnTo>
                            <a:pt x="872" y="4651"/>
                          </a:lnTo>
                          <a:lnTo>
                            <a:pt x="806" y="4886"/>
                          </a:lnTo>
                          <a:lnTo>
                            <a:pt x="741" y="5122"/>
                          </a:lnTo>
                          <a:lnTo>
                            <a:pt x="675" y="5355"/>
                          </a:lnTo>
                          <a:lnTo>
                            <a:pt x="610" y="5592"/>
                          </a:lnTo>
                          <a:lnTo>
                            <a:pt x="545" y="5828"/>
                          </a:lnTo>
                          <a:lnTo>
                            <a:pt x="481" y="6063"/>
                          </a:lnTo>
                          <a:lnTo>
                            <a:pt x="418" y="6300"/>
                          </a:lnTo>
                          <a:lnTo>
                            <a:pt x="357" y="6537"/>
                          </a:lnTo>
                          <a:lnTo>
                            <a:pt x="297" y="6774"/>
                          </a:lnTo>
                          <a:lnTo>
                            <a:pt x="239" y="7012"/>
                          </a:lnTo>
                          <a:lnTo>
                            <a:pt x="210" y="7132"/>
                          </a:lnTo>
                          <a:lnTo>
                            <a:pt x="182" y="7252"/>
                          </a:lnTo>
                          <a:lnTo>
                            <a:pt x="155" y="7372"/>
                          </a:lnTo>
                          <a:lnTo>
                            <a:pt x="129" y="7492"/>
                          </a:lnTo>
                          <a:lnTo>
                            <a:pt x="103" y="7613"/>
                          </a:lnTo>
                          <a:lnTo>
                            <a:pt x="77" y="7733"/>
                          </a:lnTo>
                          <a:lnTo>
                            <a:pt x="53" y="7855"/>
                          </a:lnTo>
                          <a:lnTo>
                            <a:pt x="29" y="7976"/>
                          </a:lnTo>
                          <a:lnTo>
                            <a:pt x="11" y="8003"/>
                          </a:lnTo>
                          <a:lnTo>
                            <a:pt x="0" y="7990"/>
                          </a:lnTo>
                          <a:lnTo>
                            <a:pt x="15" y="7906"/>
                          </a:lnTo>
                          <a:lnTo>
                            <a:pt x="30" y="7820"/>
                          </a:lnTo>
                          <a:lnTo>
                            <a:pt x="47" y="7736"/>
                          </a:lnTo>
                          <a:lnTo>
                            <a:pt x="63" y="7652"/>
                          </a:lnTo>
                          <a:lnTo>
                            <a:pt x="81" y="7570"/>
                          </a:lnTo>
                          <a:lnTo>
                            <a:pt x="99" y="7486"/>
                          </a:lnTo>
                          <a:lnTo>
                            <a:pt x="117" y="7403"/>
                          </a:lnTo>
                          <a:lnTo>
                            <a:pt x="136" y="7319"/>
                          </a:lnTo>
                          <a:lnTo>
                            <a:pt x="175" y="7155"/>
                          </a:lnTo>
                          <a:lnTo>
                            <a:pt x="215" y="6990"/>
                          </a:lnTo>
                          <a:lnTo>
                            <a:pt x="257" y="6826"/>
                          </a:lnTo>
                          <a:lnTo>
                            <a:pt x="299" y="6663"/>
                          </a:lnTo>
                          <a:lnTo>
                            <a:pt x="342" y="6499"/>
                          </a:lnTo>
                          <a:lnTo>
                            <a:pt x="386" y="6336"/>
                          </a:lnTo>
                          <a:lnTo>
                            <a:pt x="429" y="6173"/>
                          </a:lnTo>
                          <a:lnTo>
                            <a:pt x="472" y="6009"/>
                          </a:lnTo>
                          <a:lnTo>
                            <a:pt x="515" y="5844"/>
                          </a:lnTo>
                          <a:lnTo>
                            <a:pt x="557" y="5681"/>
                          </a:lnTo>
                          <a:lnTo>
                            <a:pt x="598" y="5516"/>
                          </a:lnTo>
                          <a:lnTo>
                            <a:pt x="637" y="5351"/>
                          </a:lnTo>
                          <a:lnTo>
                            <a:pt x="644" y="5340"/>
                          </a:lnTo>
                          <a:lnTo>
                            <a:pt x="650" y="5330"/>
                          </a:lnTo>
                          <a:lnTo>
                            <a:pt x="656" y="5318"/>
                          </a:lnTo>
                          <a:lnTo>
                            <a:pt x="660" y="5306"/>
                          </a:lnTo>
                          <a:lnTo>
                            <a:pt x="669" y="5279"/>
                          </a:lnTo>
                          <a:lnTo>
                            <a:pt x="676" y="5250"/>
                          </a:lnTo>
                          <a:lnTo>
                            <a:pt x="688" y="5192"/>
                          </a:lnTo>
                          <a:lnTo>
                            <a:pt x="701" y="5135"/>
                          </a:lnTo>
                          <a:lnTo>
                            <a:pt x="784" y="4841"/>
                          </a:lnTo>
                          <a:lnTo>
                            <a:pt x="869" y="4547"/>
                          </a:lnTo>
                          <a:lnTo>
                            <a:pt x="954" y="4253"/>
                          </a:lnTo>
                          <a:lnTo>
                            <a:pt x="1040" y="3958"/>
                          </a:lnTo>
                          <a:lnTo>
                            <a:pt x="1126" y="3663"/>
                          </a:lnTo>
                          <a:lnTo>
                            <a:pt x="1214" y="3367"/>
                          </a:lnTo>
                          <a:lnTo>
                            <a:pt x="1301" y="3071"/>
                          </a:lnTo>
                          <a:lnTo>
                            <a:pt x="1388" y="2774"/>
                          </a:lnTo>
                          <a:lnTo>
                            <a:pt x="1475" y="2477"/>
                          </a:lnTo>
                          <a:lnTo>
                            <a:pt x="1562" y="2179"/>
                          </a:lnTo>
                          <a:lnTo>
                            <a:pt x="1648" y="1882"/>
                          </a:lnTo>
                          <a:lnTo>
                            <a:pt x="1734" y="1583"/>
                          </a:lnTo>
                          <a:lnTo>
                            <a:pt x="1819" y="1285"/>
                          </a:lnTo>
                          <a:lnTo>
                            <a:pt x="1904" y="987"/>
                          </a:lnTo>
                          <a:lnTo>
                            <a:pt x="1987" y="688"/>
                          </a:lnTo>
                          <a:lnTo>
                            <a:pt x="2069" y="390"/>
                          </a:lnTo>
                          <a:lnTo>
                            <a:pt x="2073" y="363"/>
                          </a:lnTo>
                          <a:lnTo>
                            <a:pt x="2077" y="337"/>
                          </a:lnTo>
                          <a:lnTo>
                            <a:pt x="2082" y="310"/>
                          </a:lnTo>
                          <a:lnTo>
                            <a:pt x="2087" y="285"/>
                          </a:lnTo>
                          <a:lnTo>
                            <a:pt x="2093" y="259"/>
                          </a:lnTo>
                          <a:lnTo>
                            <a:pt x="2100" y="234"/>
                          </a:lnTo>
                          <a:lnTo>
                            <a:pt x="2107" y="209"/>
                          </a:lnTo>
                          <a:lnTo>
                            <a:pt x="2115" y="185"/>
                          </a:lnTo>
                          <a:lnTo>
                            <a:pt x="2132" y="135"/>
                          </a:lnTo>
                          <a:lnTo>
                            <a:pt x="2149" y="89"/>
                          </a:lnTo>
                          <a:lnTo>
                            <a:pt x="2167" y="44"/>
                          </a:lnTo>
                          <a:lnTo>
                            <a:pt x="2185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9" name=""/>
                    <p:cNvSpPr/>
                    <p:nvPr/>
                  </p:nvSpPr>
                  <p:spPr>
                    <a:xfrm>
                      <a:off x="504360" y="3034800"/>
                      <a:ext cx="282240" cy="57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1" h="3836">
                          <a:moveTo>
                            <a:pt x="1711" y="0"/>
                          </a:moveTo>
                          <a:lnTo>
                            <a:pt x="1704" y="34"/>
                          </a:lnTo>
                          <a:lnTo>
                            <a:pt x="1696" y="70"/>
                          </a:lnTo>
                          <a:lnTo>
                            <a:pt x="1687" y="104"/>
                          </a:lnTo>
                          <a:lnTo>
                            <a:pt x="1678" y="137"/>
                          </a:lnTo>
                          <a:lnTo>
                            <a:pt x="1659" y="205"/>
                          </a:lnTo>
                          <a:lnTo>
                            <a:pt x="1639" y="272"/>
                          </a:lnTo>
                          <a:lnTo>
                            <a:pt x="1621" y="340"/>
                          </a:lnTo>
                          <a:lnTo>
                            <a:pt x="1604" y="407"/>
                          </a:lnTo>
                          <a:lnTo>
                            <a:pt x="1596" y="442"/>
                          </a:lnTo>
                          <a:lnTo>
                            <a:pt x="1589" y="476"/>
                          </a:lnTo>
                          <a:lnTo>
                            <a:pt x="1583" y="512"/>
                          </a:lnTo>
                          <a:lnTo>
                            <a:pt x="1579" y="548"/>
                          </a:lnTo>
                          <a:lnTo>
                            <a:pt x="1502" y="616"/>
                          </a:lnTo>
                          <a:lnTo>
                            <a:pt x="1426" y="685"/>
                          </a:lnTo>
                          <a:lnTo>
                            <a:pt x="1350" y="757"/>
                          </a:lnTo>
                          <a:lnTo>
                            <a:pt x="1275" y="830"/>
                          </a:lnTo>
                          <a:lnTo>
                            <a:pt x="1200" y="907"/>
                          </a:lnTo>
                          <a:lnTo>
                            <a:pt x="1127" y="985"/>
                          </a:lnTo>
                          <a:lnTo>
                            <a:pt x="1054" y="1064"/>
                          </a:lnTo>
                          <a:lnTo>
                            <a:pt x="982" y="1145"/>
                          </a:lnTo>
                          <a:lnTo>
                            <a:pt x="911" y="1229"/>
                          </a:lnTo>
                          <a:lnTo>
                            <a:pt x="842" y="1314"/>
                          </a:lnTo>
                          <a:lnTo>
                            <a:pt x="808" y="1358"/>
                          </a:lnTo>
                          <a:lnTo>
                            <a:pt x="774" y="1403"/>
                          </a:lnTo>
                          <a:lnTo>
                            <a:pt x="741" y="1448"/>
                          </a:lnTo>
                          <a:lnTo>
                            <a:pt x="708" y="1493"/>
                          </a:lnTo>
                          <a:lnTo>
                            <a:pt x="676" y="1538"/>
                          </a:lnTo>
                          <a:lnTo>
                            <a:pt x="644" y="1584"/>
                          </a:lnTo>
                          <a:lnTo>
                            <a:pt x="612" y="1631"/>
                          </a:lnTo>
                          <a:lnTo>
                            <a:pt x="581" y="1679"/>
                          </a:lnTo>
                          <a:lnTo>
                            <a:pt x="550" y="1725"/>
                          </a:lnTo>
                          <a:lnTo>
                            <a:pt x="520" y="1775"/>
                          </a:lnTo>
                          <a:lnTo>
                            <a:pt x="490" y="1823"/>
                          </a:lnTo>
                          <a:lnTo>
                            <a:pt x="461" y="1872"/>
                          </a:lnTo>
                          <a:lnTo>
                            <a:pt x="456" y="1899"/>
                          </a:lnTo>
                          <a:lnTo>
                            <a:pt x="452" y="1926"/>
                          </a:lnTo>
                          <a:lnTo>
                            <a:pt x="448" y="1953"/>
                          </a:lnTo>
                          <a:lnTo>
                            <a:pt x="445" y="1980"/>
                          </a:lnTo>
                          <a:lnTo>
                            <a:pt x="443" y="2007"/>
                          </a:lnTo>
                          <a:lnTo>
                            <a:pt x="442" y="2034"/>
                          </a:lnTo>
                          <a:lnTo>
                            <a:pt x="441" y="2061"/>
                          </a:lnTo>
                          <a:lnTo>
                            <a:pt x="440" y="2088"/>
                          </a:lnTo>
                          <a:lnTo>
                            <a:pt x="441" y="2140"/>
                          </a:lnTo>
                          <a:lnTo>
                            <a:pt x="443" y="2194"/>
                          </a:lnTo>
                          <a:lnTo>
                            <a:pt x="447" y="2247"/>
                          </a:lnTo>
                          <a:lnTo>
                            <a:pt x="453" y="2299"/>
                          </a:lnTo>
                          <a:lnTo>
                            <a:pt x="466" y="2404"/>
                          </a:lnTo>
                          <a:lnTo>
                            <a:pt x="481" y="2508"/>
                          </a:lnTo>
                          <a:lnTo>
                            <a:pt x="488" y="2559"/>
                          </a:lnTo>
                          <a:lnTo>
                            <a:pt x="495" y="2610"/>
                          </a:lnTo>
                          <a:lnTo>
                            <a:pt x="502" y="2661"/>
                          </a:lnTo>
                          <a:lnTo>
                            <a:pt x="507" y="2712"/>
                          </a:lnTo>
                          <a:lnTo>
                            <a:pt x="516" y="2743"/>
                          </a:lnTo>
                          <a:lnTo>
                            <a:pt x="526" y="2775"/>
                          </a:lnTo>
                          <a:lnTo>
                            <a:pt x="536" y="2806"/>
                          </a:lnTo>
                          <a:lnTo>
                            <a:pt x="547" y="2836"/>
                          </a:lnTo>
                          <a:lnTo>
                            <a:pt x="559" y="2868"/>
                          </a:lnTo>
                          <a:lnTo>
                            <a:pt x="571" y="2898"/>
                          </a:lnTo>
                          <a:lnTo>
                            <a:pt x="584" y="2928"/>
                          </a:lnTo>
                          <a:lnTo>
                            <a:pt x="598" y="2956"/>
                          </a:lnTo>
                          <a:lnTo>
                            <a:pt x="612" y="2985"/>
                          </a:lnTo>
                          <a:lnTo>
                            <a:pt x="627" y="3013"/>
                          </a:lnTo>
                          <a:lnTo>
                            <a:pt x="642" y="3038"/>
                          </a:lnTo>
                          <a:lnTo>
                            <a:pt x="658" y="3065"/>
                          </a:lnTo>
                          <a:lnTo>
                            <a:pt x="675" y="3089"/>
                          </a:lnTo>
                          <a:lnTo>
                            <a:pt x="693" y="3113"/>
                          </a:lnTo>
                          <a:lnTo>
                            <a:pt x="711" y="3136"/>
                          </a:lnTo>
                          <a:lnTo>
                            <a:pt x="729" y="3157"/>
                          </a:lnTo>
                          <a:lnTo>
                            <a:pt x="720" y="3200"/>
                          </a:lnTo>
                          <a:lnTo>
                            <a:pt x="710" y="3244"/>
                          </a:lnTo>
                          <a:lnTo>
                            <a:pt x="699" y="3286"/>
                          </a:lnTo>
                          <a:lnTo>
                            <a:pt x="687" y="3329"/>
                          </a:lnTo>
                          <a:lnTo>
                            <a:pt x="663" y="3413"/>
                          </a:lnTo>
                          <a:lnTo>
                            <a:pt x="638" y="3497"/>
                          </a:lnTo>
                          <a:lnTo>
                            <a:pt x="612" y="3581"/>
                          </a:lnTo>
                          <a:lnTo>
                            <a:pt x="586" y="3665"/>
                          </a:lnTo>
                          <a:lnTo>
                            <a:pt x="561" y="3751"/>
                          </a:lnTo>
                          <a:lnTo>
                            <a:pt x="536" y="3836"/>
                          </a:lnTo>
                          <a:lnTo>
                            <a:pt x="501" y="3796"/>
                          </a:lnTo>
                          <a:lnTo>
                            <a:pt x="467" y="3754"/>
                          </a:lnTo>
                          <a:lnTo>
                            <a:pt x="434" y="3709"/>
                          </a:lnTo>
                          <a:lnTo>
                            <a:pt x="403" y="3664"/>
                          </a:lnTo>
                          <a:lnTo>
                            <a:pt x="372" y="3616"/>
                          </a:lnTo>
                          <a:lnTo>
                            <a:pt x="342" y="3566"/>
                          </a:lnTo>
                          <a:lnTo>
                            <a:pt x="314" y="3515"/>
                          </a:lnTo>
                          <a:lnTo>
                            <a:pt x="287" y="3463"/>
                          </a:lnTo>
                          <a:lnTo>
                            <a:pt x="261" y="3409"/>
                          </a:lnTo>
                          <a:lnTo>
                            <a:pt x="236" y="3355"/>
                          </a:lnTo>
                          <a:lnTo>
                            <a:pt x="212" y="3298"/>
                          </a:lnTo>
                          <a:lnTo>
                            <a:pt x="189" y="3239"/>
                          </a:lnTo>
                          <a:lnTo>
                            <a:pt x="168" y="3181"/>
                          </a:lnTo>
                          <a:lnTo>
                            <a:pt x="148" y="3121"/>
                          </a:lnTo>
                          <a:lnTo>
                            <a:pt x="129" y="3059"/>
                          </a:lnTo>
                          <a:lnTo>
                            <a:pt x="111" y="2998"/>
                          </a:lnTo>
                          <a:lnTo>
                            <a:pt x="94" y="2935"/>
                          </a:lnTo>
                          <a:lnTo>
                            <a:pt x="79" y="2871"/>
                          </a:lnTo>
                          <a:lnTo>
                            <a:pt x="65" y="2806"/>
                          </a:lnTo>
                          <a:lnTo>
                            <a:pt x="53" y="2740"/>
                          </a:lnTo>
                          <a:lnTo>
                            <a:pt x="41" y="2674"/>
                          </a:lnTo>
                          <a:lnTo>
                            <a:pt x="31" y="2607"/>
                          </a:lnTo>
                          <a:lnTo>
                            <a:pt x="23" y="2539"/>
                          </a:lnTo>
                          <a:lnTo>
                            <a:pt x="15" y="2472"/>
                          </a:lnTo>
                          <a:lnTo>
                            <a:pt x="10" y="2404"/>
                          </a:lnTo>
                          <a:lnTo>
                            <a:pt x="5" y="2335"/>
                          </a:lnTo>
                          <a:lnTo>
                            <a:pt x="2" y="2266"/>
                          </a:lnTo>
                          <a:lnTo>
                            <a:pt x="0" y="2197"/>
                          </a:lnTo>
                          <a:lnTo>
                            <a:pt x="0" y="2127"/>
                          </a:lnTo>
                          <a:lnTo>
                            <a:pt x="1" y="2058"/>
                          </a:lnTo>
                          <a:lnTo>
                            <a:pt x="4" y="1989"/>
                          </a:lnTo>
                          <a:lnTo>
                            <a:pt x="8" y="1920"/>
                          </a:lnTo>
                          <a:lnTo>
                            <a:pt x="6" y="1854"/>
                          </a:lnTo>
                          <a:lnTo>
                            <a:pt x="7" y="1793"/>
                          </a:lnTo>
                          <a:lnTo>
                            <a:pt x="11" y="1734"/>
                          </a:lnTo>
                          <a:lnTo>
                            <a:pt x="17" y="1679"/>
                          </a:lnTo>
                          <a:lnTo>
                            <a:pt x="26" y="1628"/>
                          </a:lnTo>
                          <a:lnTo>
                            <a:pt x="37" y="1578"/>
                          </a:lnTo>
                          <a:lnTo>
                            <a:pt x="50" y="1530"/>
                          </a:lnTo>
                          <a:lnTo>
                            <a:pt x="66" y="1487"/>
                          </a:lnTo>
                          <a:lnTo>
                            <a:pt x="83" y="1445"/>
                          </a:lnTo>
                          <a:lnTo>
                            <a:pt x="103" y="1404"/>
                          </a:lnTo>
                          <a:lnTo>
                            <a:pt x="124" y="1367"/>
                          </a:lnTo>
                          <a:lnTo>
                            <a:pt x="146" y="1331"/>
                          </a:lnTo>
                          <a:lnTo>
                            <a:pt x="170" y="1296"/>
                          </a:lnTo>
                          <a:lnTo>
                            <a:pt x="196" y="1263"/>
                          </a:lnTo>
                          <a:lnTo>
                            <a:pt x="222" y="1232"/>
                          </a:lnTo>
                          <a:lnTo>
                            <a:pt x="250" y="1202"/>
                          </a:lnTo>
                          <a:lnTo>
                            <a:pt x="278" y="1172"/>
                          </a:lnTo>
                          <a:lnTo>
                            <a:pt x="307" y="1143"/>
                          </a:lnTo>
                          <a:lnTo>
                            <a:pt x="337" y="1116"/>
                          </a:lnTo>
                          <a:lnTo>
                            <a:pt x="367" y="1088"/>
                          </a:lnTo>
                          <a:lnTo>
                            <a:pt x="429" y="1034"/>
                          </a:lnTo>
                          <a:lnTo>
                            <a:pt x="491" y="980"/>
                          </a:lnTo>
                          <a:lnTo>
                            <a:pt x="522" y="952"/>
                          </a:lnTo>
                          <a:lnTo>
                            <a:pt x="552" y="925"/>
                          </a:lnTo>
                          <a:lnTo>
                            <a:pt x="582" y="895"/>
                          </a:lnTo>
                          <a:lnTo>
                            <a:pt x="611" y="865"/>
                          </a:lnTo>
                          <a:lnTo>
                            <a:pt x="640" y="835"/>
                          </a:lnTo>
                          <a:lnTo>
                            <a:pt x="668" y="803"/>
                          </a:lnTo>
                          <a:lnTo>
                            <a:pt x="695" y="769"/>
                          </a:lnTo>
                          <a:lnTo>
                            <a:pt x="721" y="734"/>
                          </a:lnTo>
                          <a:lnTo>
                            <a:pt x="781" y="692"/>
                          </a:lnTo>
                          <a:lnTo>
                            <a:pt x="841" y="647"/>
                          </a:lnTo>
                          <a:lnTo>
                            <a:pt x="902" y="602"/>
                          </a:lnTo>
                          <a:lnTo>
                            <a:pt x="962" y="554"/>
                          </a:lnTo>
                          <a:lnTo>
                            <a:pt x="1024" y="508"/>
                          </a:lnTo>
                          <a:lnTo>
                            <a:pt x="1086" y="458"/>
                          </a:lnTo>
                          <a:lnTo>
                            <a:pt x="1147" y="409"/>
                          </a:lnTo>
                          <a:lnTo>
                            <a:pt x="1209" y="361"/>
                          </a:lnTo>
                          <a:lnTo>
                            <a:pt x="1271" y="311"/>
                          </a:lnTo>
                          <a:lnTo>
                            <a:pt x="1333" y="263"/>
                          </a:lnTo>
                          <a:lnTo>
                            <a:pt x="1395" y="215"/>
                          </a:lnTo>
                          <a:lnTo>
                            <a:pt x="1458" y="169"/>
                          </a:lnTo>
                          <a:lnTo>
                            <a:pt x="1521" y="124"/>
                          </a:lnTo>
                          <a:lnTo>
                            <a:pt x="1584" y="80"/>
                          </a:lnTo>
                          <a:lnTo>
                            <a:pt x="1648" y="38"/>
                          </a:lnTo>
                          <a:lnTo>
                            <a:pt x="1711" y="0"/>
                          </a:lnTo>
                          <a:close/>
                        </a:path>
                      </a:pathLst>
                    </a:cu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0" name=""/>
                    <p:cNvSpPr/>
                    <p:nvPr/>
                  </p:nvSpPr>
                  <p:spPr>
                    <a:xfrm>
                      <a:off x="718560" y="3159360"/>
                      <a:ext cx="433800" cy="124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25" h="8361">
                          <a:moveTo>
                            <a:pt x="2625" y="82"/>
                          </a:moveTo>
                          <a:lnTo>
                            <a:pt x="2541" y="317"/>
                          </a:lnTo>
                          <a:lnTo>
                            <a:pt x="2455" y="551"/>
                          </a:lnTo>
                          <a:lnTo>
                            <a:pt x="2368" y="782"/>
                          </a:lnTo>
                          <a:lnTo>
                            <a:pt x="2280" y="1013"/>
                          </a:lnTo>
                          <a:lnTo>
                            <a:pt x="2192" y="1242"/>
                          </a:lnTo>
                          <a:lnTo>
                            <a:pt x="2103" y="1470"/>
                          </a:lnTo>
                          <a:lnTo>
                            <a:pt x="2013" y="1698"/>
                          </a:lnTo>
                          <a:lnTo>
                            <a:pt x="1924" y="1926"/>
                          </a:lnTo>
                          <a:lnTo>
                            <a:pt x="1834" y="2153"/>
                          </a:lnTo>
                          <a:lnTo>
                            <a:pt x="1744" y="2380"/>
                          </a:lnTo>
                          <a:lnTo>
                            <a:pt x="1655" y="2608"/>
                          </a:lnTo>
                          <a:lnTo>
                            <a:pt x="1567" y="2836"/>
                          </a:lnTo>
                          <a:lnTo>
                            <a:pt x="1478" y="3066"/>
                          </a:lnTo>
                          <a:lnTo>
                            <a:pt x="1391" y="3295"/>
                          </a:lnTo>
                          <a:lnTo>
                            <a:pt x="1305" y="3526"/>
                          </a:lnTo>
                          <a:lnTo>
                            <a:pt x="1220" y="3758"/>
                          </a:lnTo>
                          <a:lnTo>
                            <a:pt x="1152" y="4036"/>
                          </a:lnTo>
                          <a:lnTo>
                            <a:pt x="1082" y="4310"/>
                          </a:lnTo>
                          <a:lnTo>
                            <a:pt x="1012" y="4586"/>
                          </a:lnTo>
                          <a:lnTo>
                            <a:pt x="941" y="4860"/>
                          </a:lnTo>
                          <a:lnTo>
                            <a:pt x="870" y="5135"/>
                          </a:lnTo>
                          <a:lnTo>
                            <a:pt x="798" y="5407"/>
                          </a:lnTo>
                          <a:lnTo>
                            <a:pt x="725" y="5682"/>
                          </a:lnTo>
                          <a:lnTo>
                            <a:pt x="653" y="5955"/>
                          </a:lnTo>
                          <a:lnTo>
                            <a:pt x="581" y="6229"/>
                          </a:lnTo>
                          <a:lnTo>
                            <a:pt x="509" y="6503"/>
                          </a:lnTo>
                          <a:lnTo>
                            <a:pt x="438" y="6778"/>
                          </a:lnTo>
                          <a:lnTo>
                            <a:pt x="367" y="7052"/>
                          </a:lnTo>
                          <a:lnTo>
                            <a:pt x="297" y="7326"/>
                          </a:lnTo>
                          <a:lnTo>
                            <a:pt x="229" y="7604"/>
                          </a:lnTo>
                          <a:lnTo>
                            <a:pt x="161" y="7880"/>
                          </a:lnTo>
                          <a:lnTo>
                            <a:pt x="95" y="8157"/>
                          </a:lnTo>
                          <a:lnTo>
                            <a:pt x="87" y="8169"/>
                          </a:lnTo>
                          <a:lnTo>
                            <a:pt x="81" y="8181"/>
                          </a:lnTo>
                          <a:lnTo>
                            <a:pt x="76" y="8193"/>
                          </a:lnTo>
                          <a:lnTo>
                            <a:pt x="71" y="8206"/>
                          </a:lnTo>
                          <a:lnTo>
                            <a:pt x="64" y="8233"/>
                          </a:lnTo>
                          <a:lnTo>
                            <a:pt x="58" y="8260"/>
                          </a:lnTo>
                          <a:lnTo>
                            <a:pt x="52" y="8289"/>
                          </a:lnTo>
                          <a:lnTo>
                            <a:pt x="45" y="8314"/>
                          </a:lnTo>
                          <a:lnTo>
                            <a:pt x="40" y="8328"/>
                          </a:lnTo>
                          <a:lnTo>
                            <a:pt x="35" y="8340"/>
                          </a:lnTo>
                          <a:lnTo>
                            <a:pt x="28" y="8350"/>
                          </a:lnTo>
                          <a:lnTo>
                            <a:pt x="20" y="8361"/>
                          </a:lnTo>
                          <a:lnTo>
                            <a:pt x="0" y="8331"/>
                          </a:lnTo>
                          <a:lnTo>
                            <a:pt x="18" y="8277"/>
                          </a:lnTo>
                          <a:lnTo>
                            <a:pt x="36" y="8221"/>
                          </a:lnTo>
                          <a:lnTo>
                            <a:pt x="53" y="8168"/>
                          </a:lnTo>
                          <a:lnTo>
                            <a:pt x="70" y="8112"/>
                          </a:lnTo>
                          <a:lnTo>
                            <a:pt x="102" y="8001"/>
                          </a:lnTo>
                          <a:lnTo>
                            <a:pt x="133" y="7890"/>
                          </a:lnTo>
                          <a:lnTo>
                            <a:pt x="163" y="7776"/>
                          </a:lnTo>
                          <a:lnTo>
                            <a:pt x="192" y="7664"/>
                          </a:lnTo>
                          <a:lnTo>
                            <a:pt x="220" y="7550"/>
                          </a:lnTo>
                          <a:lnTo>
                            <a:pt x="247" y="7436"/>
                          </a:lnTo>
                          <a:lnTo>
                            <a:pt x="274" y="7322"/>
                          </a:lnTo>
                          <a:lnTo>
                            <a:pt x="302" y="7208"/>
                          </a:lnTo>
                          <a:lnTo>
                            <a:pt x="329" y="7094"/>
                          </a:lnTo>
                          <a:lnTo>
                            <a:pt x="357" y="6980"/>
                          </a:lnTo>
                          <a:lnTo>
                            <a:pt x="387" y="6866"/>
                          </a:lnTo>
                          <a:lnTo>
                            <a:pt x="417" y="6754"/>
                          </a:lnTo>
                          <a:lnTo>
                            <a:pt x="448" y="6643"/>
                          </a:lnTo>
                          <a:lnTo>
                            <a:pt x="481" y="6532"/>
                          </a:lnTo>
                          <a:lnTo>
                            <a:pt x="499" y="6449"/>
                          </a:lnTo>
                          <a:lnTo>
                            <a:pt x="518" y="6368"/>
                          </a:lnTo>
                          <a:lnTo>
                            <a:pt x="536" y="6287"/>
                          </a:lnTo>
                          <a:lnTo>
                            <a:pt x="556" y="6206"/>
                          </a:lnTo>
                          <a:lnTo>
                            <a:pt x="595" y="6045"/>
                          </a:lnTo>
                          <a:lnTo>
                            <a:pt x="636" y="5884"/>
                          </a:lnTo>
                          <a:lnTo>
                            <a:pt x="679" y="5725"/>
                          </a:lnTo>
                          <a:lnTo>
                            <a:pt x="721" y="5565"/>
                          </a:lnTo>
                          <a:lnTo>
                            <a:pt x="765" y="5407"/>
                          </a:lnTo>
                          <a:lnTo>
                            <a:pt x="809" y="5248"/>
                          </a:lnTo>
                          <a:lnTo>
                            <a:pt x="852" y="5090"/>
                          </a:lnTo>
                          <a:lnTo>
                            <a:pt x="895" y="4932"/>
                          </a:lnTo>
                          <a:lnTo>
                            <a:pt x="938" y="4773"/>
                          </a:lnTo>
                          <a:lnTo>
                            <a:pt x="980" y="4614"/>
                          </a:lnTo>
                          <a:lnTo>
                            <a:pt x="1021" y="4455"/>
                          </a:lnTo>
                          <a:lnTo>
                            <a:pt x="1060" y="4296"/>
                          </a:lnTo>
                          <a:lnTo>
                            <a:pt x="1079" y="4217"/>
                          </a:lnTo>
                          <a:lnTo>
                            <a:pt x="1098" y="4136"/>
                          </a:lnTo>
                          <a:lnTo>
                            <a:pt x="1116" y="4055"/>
                          </a:lnTo>
                          <a:lnTo>
                            <a:pt x="1133" y="3976"/>
                          </a:lnTo>
                          <a:lnTo>
                            <a:pt x="1174" y="3847"/>
                          </a:lnTo>
                          <a:lnTo>
                            <a:pt x="1216" y="3721"/>
                          </a:lnTo>
                          <a:lnTo>
                            <a:pt x="1258" y="3593"/>
                          </a:lnTo>
                          <a:lnTo>
                            <a:pt x="1302" y="3467"/>
                          </a:lnTo>
                          <a:lnTo>
                            <a:pt x="1346" y="3341"/>
                          </a:lnTo>
                          <a:lnTo>
                            <a:pt x="1390" y="3217"/>
                          </a:lnTo>
                          <a:lnTo>
                            <a:pt x="1435" y="3093"/>
                          </a:lnTo>
                          <a:lnTo>
                            <a:pt x="1481" y="2968"/>
                          </a:lnTo>
                          <a:lnTo>
                            <a:pt x="1575" y="2721"/>
                          </a:lnTo>
                          <a:lnTo>
                            <a:pt x="1670" y="2473"/>
                          </a:lnTo>
                          <a:lnTo>
                            <a:pt x="1766" y="2227"/>
                          </a:lnTo>
                          <a:lnTo>
                            <a:pt x="1863" y="1983"/>
                          </a:lnTo>
                          <a:lnTo>
                            <a:pt x="1961" y="1737"/>
                          </a:lnTo>
                          <a:lnTo>
                            <a:pt x="2059" y="1493"/>
                          </a:lnTo>
                          <a:lnTo>
                            <a:pt x="2156" y="1247"/>
                          </a:lnTo>
                          <a:lnTo>
                            <a:pt x="2253" y="1000"/>
                          </a:lnTo>
                          <a:lnTo>
                            <a:pt x="2349" y="752"/>
                          </a:lnTo>
                          <a:lnTo>
                            <a:pt x="2443" y="503"/>
                          </a:lnTo>
                          <a:lnTo>
                            <a:pt x="2489" y="379"/>
                          </a:lnTo>
                          <a:lnTo>
                            <a:pt x="2535" y="253"/>
                          </a:lnTo>
                          <a:lnTo>
                            <a:pt x="2580" y="127"/>
                          </a:lnTo>
                          <a:lnTo>
                            <a:pt x="2625" y="0"/>
                          </a:lnTo>
                          <a:lnTo>
                            <a:pt x="2625" y="8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1" name=""/>
                    <p:cNvSpPr/>
                    <p:nvPr/>
                  </p:nvSpPr>
                  <p:spPr>
                    <a:xfrm>
                      <a:off x="597960" y="3391200"/>
                      <a:ext cx="259920" cy="88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6" h="5954">
                          <a:moveTo>
                            <a:pt x="1576" y="0"/>
                          </a:moveTo>
                          <a:lnTo>
                            <a:pt x="1555" y="78"/>
                          </a:lnTo>
                          <a:lnTo>
                            <a:pt x="1535" y="158"/>
                          </a:lnTo>
                          <a:lnTo>
                            <a:pt x="1516" y="239"/>
                          </a:lnTo>
                          <a:lnTo>
                            <a:pt x="1498" y="318"/>
                          </a:lnTo>
                          <a:lnTo>
                            <a:pt x="1480" y="399"/>
                          </a:lnTo>
                          <a:lnTo>
                            <a:pt x="1462" y="482"/>
                          </a:lnTo>
                          <a:lnTo>
                            <a:pt x="1445" y="563"/>
                          </a:lnTo>
                          <a:lnTo>
                            <a:pt x="1427" y="643"/>
                          </a:lnTo>
                          <a:lnTo>
                            <a:pt x="1409" y="724"/>
                          </a:lnTo>
                          <a:lnTo>
                            <a:pt x="1391" y="805"/>
                          </a:lnTo>
                          <a:lnTo>
                            <a:pt x="1372" y="885"/>
                          </a:lnTo>
                          <a:lnTo>
                            <a:pt x="1352" y="964"/>
                          </a:lnTo>
                          <a:lnTo>
                            <a:pt x="1330" y="1042"/>
                          </a:lnTo>
                          <a:lnTo>
                            <a:pt x="1308" y="1119"/>
                          </a:lnTo>
                          <a:lnTo>
                            <a:pt x="1284" y="1194"/>
                          </a:lnTo>
                          <a:lnTo>
                            <a:pt x="1259" y="1267"/>
                          </a:lnTo>
                          <a:lnTo>
                            <a:pt x="1232" y="1359"/>
                          </a:lnTo>
                          <a:lnTo>
                            <a:pt x="1206" y="1450"/>
                          </a:lnTo>
                          <a:lnTo>
                            <a:pt x="1179" y="1540"/>
                          </a:lnTo>
                          <a:lnTo>
                            <a:pt x="1152" y="1631"/>
                          </a:lnTo>
                          <a:lnTo>
                            <a:pt x="1125" y="1723"/>
                          </a:lnTo>
                          <a:lnTo>
                            <a:pt x="1098" y="1814"/>
                          </a:lnTo>
                          <a:lnTo>
                            <a:pt x="1070" y="1904"/>
                          </a:lnTo>
                          <a:lnTo>
                            <a:pt x="1042" y="1996"/>
                          </a:lnTo>
                          <a:lnTo>
                            <a:pt x="1014" y="2087"/>
                          </a:lnTo>
                          <a:lnTo>
                            <a:pt x="986" y="2177"/>
                          </a:lnTo>
                          <a:lnTo>
                            <a:pt x="958" y="2269"/>
                          </a:lnTo>
                          <a:lnTo>
                            <a:pt x="930" y="2359"/>
                          </a:lnTo>
                          <a:lnTo>
                            <a:pt x="902" y="2450"/>
                          </a:lnTo>
                          <a:lnTo>
                            <a:pt x="874" y="2540"/>
                          </a:lnTo>
                          <a:lnTo>
                            <a:pt x="845" y="2630"/>
                          </a:lnTo>
                          <a:lnTo>
                            <a:pt x="817" y="2721"/>
                          </a:lnTo>
                          <a:lnTo>
                            <a:pt x="762" y="2918"/>
                          </a:lnTo>
                          <a:lnTo>
                            <a:pt x="708" y="3117"/>
                          </a:lnTo>
                          <a:lnTo>
                            <a:pt x="656" y="3317"/>
                          </a:lnTo>
                          <a:lnTo>
                            <a:pt x="605" y="3518"/>
                          </a:lnTo>
                          <a:lnTo>
                            <a:pt x="556" y="3720"/>
                          </a:lnTo>
                          <a:lnTo>
                            <a:pt x="507" y="3922"/>
                          </a:lnTo>
                          <a:lnTo>
                            <a:pt x="460" y="4125"/>
                          </a:lnTo>
                          <a:lnTo>
                            <a:pt x="413" y="4329"/>
                          </a:lnTo>
                          <a:lnTo>
                            <a:pt x="365" y="4531"/>
                          </a:lnTo>
                          <a:lnTo>
                            <a:pt x="319" y="4735"/>
                          </a:lnTo>
                          <a:lnTo>
                            <a:pt x="273" y="4939"/>
                          </a:lnTo>
                          <a:lnTo>
                            <a:pt x="226" y="5143"/>
                          </a:lnTo>
                          <a:lnTo>
                            <a:pt x="180" y="5345"/>
                          </a:lnTo>
                          <a:lnTo>
                            <a:pt x="133" y="5548"/>
                          </a:lnTo>
                          <a:lnTo>
                            <a:pt x="85" y="5750"/>
                          </a:lnTo>
                          <a:lnTo>
                            <a:pt x="37" y="5952"/>
                          </a:lnTo>
                          <a:lnTo>
                            <a:pt x="26" y="5952"/>
                          </a:lnTo>
                          <a:lnTo>
                            <a:pt x="14" y="5954"/>
                          </a:lnTo>
                          <a:lnTo>
                            <a:pt x="9" y="5954"/>
                          </a:lnTo>
                          <a:lnTo>
                            <a:pt x="5" y="5951"/>
                          </a:lnTo>
                          <a:lnTo>
                            <a:pt x="3" y="5949"/>
                          </a:lnTo>
                          <a:lnTo>
                            <a:pt x="2" y="5946"/>
                          </a:lnTo>
                          <a:lnTo>
                            <a:pt x="0" y="5943"/>
                          </a:lnTo>
                          <a:lnTo>
                            <a:pt x="0" y="5939"/>
                          </a:lnTo>
                          <a:lnTo>
                            <a:pt x="72" y="5642"/>
                          </a:lnTo>
                          <a:lnTo>
                            <a:pt x="144" y="5345"/>
                          </a:lnTo>
                          <a:lnTo>
                            <a:pt x="215" y="5048"/>
                          </a:lnTo>
                          <a:lnTo>
                            <a:pt x="286" y="4751"/>
                          </a:lnTo>
                          <a:lnTo>
                            <a:pt x="357" y="4455"/>
                          </a:lnTo>
                          <a:lnTo>
                            <a:pt x="430" y="4159"/>
                          </a:lnTo>
                          <a:lnTo>
                            <a:pt x="502" y="3862"/>
                          </a:lnTo>
                          <a:lnTo>
                            <a:pt x="575" y="3567"/>
                          </a:lnTo>
                          <a:lnTo>
                            <a:pt x="650" y="3273"/>
                          </a:lnTo>
                          <a:lnTo>
                            <a:pt x="726" y="2979"/>
                          </a:lnTo>
                          <a:lnTo>
                            <a:pt x="765" y="2834"/>
                          </a:lnTo>
                          <a:lnTo>
                            <a:pt x="805" y="2688"/>
                          </a:lnTo>
                          <a:lnTo>
                            <a:pt x="845" y="2543"/>
                          </a:lnTo>
                          <a:lnTo>
                            <a:pt x="886" y="2398"/>
                          </a:lnTo>
                          <a:lnTo>
                            <a:pt x="927" y="2254"/>
                          </a:lnTo>
                          <a:lnTo>
                            <a:pt x="969" y="2108"/>
                          </a:lnTo>
                          <a:lnTo>
                            <a:pt x="1012" y="1966"/>
                          </a:lnTo>
                          <a:lnTo>
                            <a:pt x="1055" y="1822"/>
                          </a:lnTo>
                          <a:lnTo>
                            <a:pt x="1100" y="1679"/>
                          </a:lnTo>
                          <a:lnTo>
                            <a:pt x="1145" y="1537"/>
                          </a:lnTo>
                          <a:lnTo>
                            <a:pt x="1191" y="1396"/>
                          </a:lnTo>
                          <a:lnTo>
                            <a:pt x="1238" y="1255"/>
                          </a:lnTo>
                          <a:lnTo>
                            <a:pt x="1252" y="1218"/>
                          </a:lnTo>
                          <a:lnTo>
                            <a:pt x="1265" y="1179"/>
                          </a:lnTo>
                          <a:lnTo>
                            <a:pt x="1277" y="1141"/>
                          </a:lnTo>
                          <a:lnTo>
                            <a:pt x="1289" y="1102"/>
                          </a:lnTo>
                          <a:lnTo>
                            <a:pt x="1300" y="1063"/>
                          </a:lnTo>
                          <a:lnTo>
                            <a:pt x="1311" y="1024"/>
                          </a:lnTo>
                          <a:lnTo>
                            <a:pt x="1321" y="985"/>
                          </a:lnTo>
                          <a:lnTo>
                            <a:pt x="1331" y="945"/>
                          </a:lnTo>
                          <a:lnTo>
                            <a:pt x="1349" y="865"/>
                          </a:lnTo>
                          <a:lnTo>
                            <a:pt x="1366" y="786"/>
                          </a:lnTo>
                          <a:lnTo>
                            <a:pt x="1382" y="705"/>
                          </a:lnTo>
                          <a:lnTo>
                            <a:pt x="1398" y="624"/>
                          </a:lnTo>
                          <a:lnTo>
                            <a:pt x="1414" y="543"/>
                          </a:lnTo>
                          <a:lnTo>
                            <a:pt x="1430" y="464"/>
                          </a:lnTo>
                          <a:lnTo>
                            <a:pt x="1447" y="384"/>
                          </a:lnTo>
                          <a:lnTo>
                            <a:pt x="1465" y="305"/>
                          </a:lnTo>
                          <a:lnTo>
                            <a:pt x="1475" y="266"/>
                          </a:lnTo>
                          <a:lnTo>
                            <a:pt x="1485" y="227"/>
                          </a:lnTo>
                          <a:lnTo>
                            <a:pt x="1495" y="188"/>
                          </a:lnTo>
                          <a:lnTo>
                            <a:pt x="1506" y="150"/>
                          </a:lnTo>
                          <a:lnTo>
                            <a:pt x="1518" y="111"/>
                          </a:lnTo>
                          <a:lnTo>
                            <a:pt x="1530" y="74"/>
                          </a:lnTo>
                          <a:lnTo>
                            <a:pt x="1542" y="36"/>
                          </a:lnTo>
                          <a:lnTo>
                            <a:pt x="1556" y="0"/>
                          </a:lnTo>
                          <a:lnTo>
                            <a:pt x="1576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2" name=""/>
                    <p:cNvSpPr/>
                    <p:nvPr/>
                  </p:nvSpPr>
                  <p:spPr>
                    <a:xfrm>
                      <a:off x="424440" y="3567600"/>
                      <a:ext cx="90360" cy="7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8" h="505">
                          <a:moveTo>
                            <a:pt x="548" y="402"/>
                          </a:moveTo>
                          <a:lnTo>
                            <a:pt x="412" y="505"/>
                          </a:lnTo>
                          <a:lnTo>
                            <a:pt x="393" y="469"/>
                          </a:lnTo>
                          <a:lnTo>
                            <a:pt x="374" y="435"/>
                          </a:lnTo>
                          <a:lnTo>
                            <a:pt x="354" y="400"/>
                          </a:lnTo>
                          <a:lnTo>
                            <a:pt x="333" y="367"/>
                          </a:lnTo>
                          <a:lnTo>
                            <a:pt x="311" y="334"/>
                          </a:lnTo>
                          <a:lnTo>
                            <a:pt x="288" y="304"/>
                          </a:lnTo>
                          <a:lnTo>
                            <a:pt x="264" y="274"/>
                          </a:lnTo>
                          <a:lnTo>
                            <a:pt x="239" y="247"/>
                          </a:lnTo>
                          <a:lnTo>
                            <a:pt x="214" y="222"/>
                          </a:lnTo>
                          <a:lnTo>
                            <a:pt x="187" y="199"/>
                          </a:lnTo>
                          <a:lnTo>
                            <a:pt x="173" y="189"/>
                          </a:lnTo>
                          <a:lnTo>
                            <a:pt x="159" y="180"/>
                          </a:lnTo>
                          <a:lnTo>
                            <a:pt x="144" y="171"/>
                          </a:lnTo>
                          <a:lnTo>
                            <a:pt x="129" y="163"/>
                          </a:lnTo>
                          <a:lnTo>
                            <a:pt x="114" y="156"/>
                          </a:lnTo>
                          <a:lnTo>
                            <a:pt x="99" y="148"/>
                          </a:lnTo>
                          <a:lnTo>
                            <a:pt x="83" y="144"/>
                          </a:lnTo>
                          <a:lnTo>
                            <a:pt x="67" y="139"/>
                          </a:lnTo>
                          <a:lnTo>
                            <a:pt x="51" y="135"/>
                          </a:lnTo>
                          <a:lnTo>
                            <a:pt x="34" y="132"/>
                          </a:lnTo>
                          <a:lnTo>
                            <a:pt x="17" y="130"/>
                          </a:lnTo>
                          <a:lnTo>
                            <a:pt x="0" y="129"/>
                          </a:lnTo>
                          <a:lnTo>
                            <a:pt x="0" y="117"/>
                          </a:lnTo>
                          <a:lnTo>
                            <a:pt x="2" y="105"/>
                          </a:lnTo>
                          <a:lnTo>
                            <a:pt x="5" y="93"/>
                          </a:lnTo>
                          <a:lnTo>
                            <a:pt x="10" y="84"/>
                          </a:lnTo>
                          <a:lnTo>
                            <a:pt x="16" y="73"/>
                          </a:lnTo>
                          <a:lnTo>
                            <a:pt x="23" y="64"/>
                          </a:lnTo>
                          <a:lnTo>
                            <a:pt x="31" y="55"/>
                          </a:lnTo>
                          <a:lnTo>
                            <a:pt x="40" y="48"/>
                          </a:lnTo>
                          <a:lnTo>
                            <a:pt x="59" y="33"/>
                          </a:lnTo>
                          <a:lnTo>
                            <a:pt x="78" y="21"/>
                          </a:lnTo>
                          <a:lnTo>
                            <a:pt x="97" y="9"/>
                          </a:lnTo>
                          <a:lnTo>
                            <a:pt x="115" y="0"/>
                          </a:lnTo>
                          <a:lnTo>
                            <a:pt x="132" y="1"/>
                          </a:lnTo>
                          <a:lnTo>
                            <a:pt x="148" y="3"/>
                          </a:lnTo>
                          <a:lnTo>
                            <a:pt x="165" y="6"/>
                          </a:lnTo>
                          <a:lnTo>
                            <a:pt x="181" y="10"/>
                          </a:lnTo>
                          <a:lnTo>
                            <a:pt x="198" y="15"/>
                          </a:lnTo>
                          <a:lnTo>
                            <a:pt x="214" y="21"/>
                          </a:lnTo>
                          <a:lnTo>
                            <a:pt x="230" y="27"/>
                          </a:lnTo>
                          <a:lnTo>
                            <a:pt x="246" y="34"/>
                          </a:lnTo>
                          <a:lnTo>
                            <a:pt x="262" y="42"/>
                          </a:lnTo>
                          <a:lnTo>
                            <a:pt x="278" y="51"/>
                          </a:lnTo>
                          <a:lnTo>
                            <a:pt x="293" y="60"/>
                          </a:lnTo>
                          <a:lnTo>
                            <a:pt x="308" y="69"/>
                          </a:lnTo>
                          <a:lnTo>
                            <a:pt x="323" y="81"/>
                          </a:lnTo>
                          <a:lnTo>
                            <a:pt x="338" y="91"/>
                          </a:lnTo>
                          <a:lnTo>
                            <a:pt x="353" y="103"/>
                          </a:lnTo>
                          <a:lnTo>
                            <a:pt x="367" y="115"/>
                          </a:lnTo>
                          <a:lnTo>
                            <a:pt x="381" y="129"/>
                          </a:lnTo>
                          <a:lnTo>
                            <a:pt x="395" y="144"/>
                          </a:lnTo>
                          <a:lnTo>
                            <a:pt x="408" y="157"/>
                          </a:lnTo>
                          <a:lnTo>
                            <a:pt x="421" y="174"/>
                          </a:lnTo>
                          <a:lnTo>
                            <a:pt x="434" y="189"/>
                          </a:lnTo>
                          <a:lnTo>
                            <a:pt x="446" y="205"/>
                          </a:lnTo>
                          <a:lnTo>
                            <a:pt x="458" y="222"/>
                          </a:lnTo>
                          <a:lnTo>
                            <a:pt x="470" y="240"/>
                          </a:lnTo>
                          <a:lnTo>
                            <a:pt x="481" y="258"/>
                          </a:lnTo>
                          <a:lnTo>
                            <a:pt x="492" y="277"/>
                          </a:lnTo>
                          <a:lnTo>
                            <a:pt x="502" y="297"/>
                          </a:lnTo>
                          <a:lnTo>
                            <a:pt x="512" y="316"/>
                          </a:lnTo>
                          <a:lnTo>
                            <a:pt x="522" y="337"/>
                          </a:lnTo>
                          <a:lnTo>
                            <a:pt x="531" y="358"/>
                          </a:lnTo>
                          <a:lnTo>
                            <a:pt x="540" y="379"/>
                          </a:lnTo>
                          <a:lnTo>
                            <a:pt x="548" y="40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440" bIns="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3" name=""/>
                    <p:cNvSpPr/>
                    <p:nvPr/>
                  </p:nvSpPr>
                  <p:spPr>
                    <a:xfrm>
                      <a:off x="509400" y="3571560"/>
                      <a:ext cx="70560" cy="5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9" h="336">
                          <a:moveTo>
                            <a:pt x="429" y="214"/>
                          </a:moveTo>
                          <a:lnTo>
                            <a:pt x="408" y="219"/>
                          </a:lnTo>
                          <a:lnTo>
                            <a:pt x="387" y="223"/>
                          </a:lnTo>
                          <a:lnTo>
                            <a:pt x="365" y="228"/>
                          </a:lnTo>
                          <a:lnTo>
                            <a:pt x="344" y="235"/>
                          </a:lnTo>
                          <a:lnTo>
                            <a:pt x="300" y="249"/>
                          </a:lnTo>
                          <a:lnTo>
                            <a:pt x="257" y="265"/>
                          </a:lnTo>
                          <a:lnTo>
                            <a:pt x="213" y="283"/>
                          </a:lnTo>
                          <a:lnTo>
                            <a:pt x="170" y="301"/>
                          </a:lnTo>
                          <a:lnTo>
                            <a:pt x="126" y="319"/>
                          </a:lnTo>
                          <a:lnTo>
                            <a:pt x="83" y="336"/>
                          </a:lnTo>
                          <a:lnTo>
                            <a:pt x="76" y="321"/>
                          </a:lnTo>
                          <a:lnTo>
                            <a:pt x="69" y="306"/>
                          </a:lnTo>
                          <a:lnTo>
                            <a:pt x="59" y="291"/>
                          </a:lnTo>
                          <a:lnTo>
                            <a:pt x="50" y="274"/>
                          </a:lnTo>
                          <a:lnTo>
                            <a:pt x="40" y="259"/>
                          </a:lnTo>
                          <a:lnTo>
                            <a:pt x="30" y="243"/>
                          </a:lnTo>
                          <a:lnTo>
                            <a:pt x="21" y="226"/>
                          </a:lnTo>
                          <a:lnTo>
                            <a:pt x="13" y="210"/>
                          </a:lnTo>
                          <a:lnTo>
                            <a:pt x="6" y="193"/>
                          </a:lnTo>
                          <a:lnTo>
                            <a:pt x="2" y="177"/>
                          </a:lnTo>
                          <a:lnTo>
                            <a:pt x="1" y="168"/>
                          </a:lnTo>
                          <a:lnTo>
                            <a:pt x="0" y="159"/>
                          </a:lnTo>
                          <a:lnTo>
                            <a:pt x="0" y="151"/>
                          </a:lnTo>
                          <a:lnTo>
                            <a:pt x="1" y="142"/>
                          </a:lnTo>
                          <a:lnTo>
                            <a:pt x="2" y="133"/>
                          </a:lnTo>
                          <a:lnTo>
                            <a:pt x="5" y="124"/>
                          </a:lnTo>
                          <a:lnTo>
                            <a:pt x="9" y="115"/>
                          </a:lnTo>
                          <a:lnTo>
                            <a:pt x="13" y="108"/>
                          </a:lnTo>
                          <a:lnTo>
                            <a:pt x="19" y="99"/>
                          </a:lnTo>
                          <a:lnTo>
                            <a:pt x="25" y="90"/>
                          </a:lnTo>
                          <a:lnTo>
                            <a:pt x="33" y="81"/>
                          </a:lnTo>
                          <a:lnTo>
                            <a:pt x="42" y="72"/>
                          </a:lnTo>
                          <a:lnTo>
                            <a:pt x="54" y="61"/>
                          </a:lnTo>
                          <a:lnTo>
                            <a:pt x="66" y="51"/>
                          </a:lnTo>
                          <a:lnTo>
                            <a:pt x="78" y="42"/>
                          </a:lnTo>
                          <a:lnTo>
                            <a:pt x="91" y="33"/>
                          </a:lnTo>
                          <a:lnTo>
                            <a:pt x="104" y="25"/>
                          </a:lnTo>
                          <a:lnTo>
                            <a:pt x="118" y="19"/>
                          </a:lnTo>
                          <a:lnTo>
                            <a:pt x="132" y="13"/>
                          </a:lnTo>
                          <a:lnTo>
                            <a:pt x="146" y="9"/>
                          </a:lnTo>
                          <a:lnTo>
                            <a:pt x="160" y="6"/>
                          </a:lnTo>
                          <a:lnTo>
                            <a:pt x="175" y="3"/>
                          </a:lnTo>
                          <a:lnTo>
                            <a:pt x="189" y="0"/>
                          </a:lnTo>
                          <a:lnTo>
                            <a:pt x="204" y="0"/>
                          </a:lnTo>
                          <a:lnTo>
                            <a:pt x="218" y="0"/>
                          </a:lnTo>
                          <a:lnTo>
                            <a:pt x="233" y="1"/>
                          </a:lnTo>
                          <a:lnTo>
                            <a:pt x="247" y="3"/>
                          </a:lnTo>
                          <a:lnTo>
                            <a:pt x="262" y="7"/>
                          </a:lnTo>
                          <a:lnTo>
                            <a:pt x="276" y="12"/>
                          </a:lnTo>
                          <a:lnTo>
                            <a:pt x="290" y="16"/>
                          </a:lnTo>
                          <a:lnTo>
                            <a:pt x="303" y="24"/>
                          </a:lnTo>
                          <a:lnTo>
                            <a:pt x="316" y="31"/>
                          </a:lnTo>
                          <a:lnTo>
                            <a:pt x="329" y="40"/>
                          </a:lnTo>
                          <a:lnTo>
                            <a:pt x="341" y="49"/>
                          </a:lnTo>
                          <a:lnTo>
                            <a:pt x="353" y="61"/>
                          </a:lnTo>
                          <a:lnTo>
                            <a:pt x="365" y="73"/>
                          </a:lnTo>
                          <a:lnTo>
                            <a:pt x="375" y="87"/>
                          </a:lnTo>
                          <a:lnTo>
                            <a:pt x="385" y="100"/>
                          </a:lnTo>
                          <a:lnTo>
                            <a:pt x="395" y="117"/>
                          </a:lnTo>
                          <a:lnTo>
                            <a:pt x="403" y="133"/>
                          </a:lnTo>
                          <a:lnTo>
                            <a:pt x="411" y="153"/>
                          </a:lnTo>
                          <a:lnTo>
                            <a:pt x="418" y="172"/>
                          </a:lnTo>
                          <a:lnTo>
                            <a:pt x="424" y="192"/>
                          </a:lnTo>
                          <a:lnTo>
                            <a:pt x="429" y="214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" bIns="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4" name=""/>
                    <p:cNvSpPr/>
                    <p:nvPr/>
                  </p:nvSpPr>
                  <p:spPr>
                    <a:xfrm>
                      <a:off x="388080" y="3598920"/>
                      <a:ext cx="95040" cy="8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7" h="568">
                          <a:moveTo>
                            <a:pt x="577" y="308"/>
                          </a:moveTo>
                          <a:lnTo>
                            <a:pt x="571" y="325"/>
                          </a:lnTo>
                          <a:lnTo>
                            <a:pt x="563" y="341"/>
                          </a:lnTo>
                          <a:lnTo>
                            <a:pt x="554" y="358"/>
                          </a:lnTo>
                          <a:lnTo>
                            <a:pt x="542" y="374"/>
                          </a:lnTo>
                          <a:lnTo>
                            <a:pt x="517" y="406"/>
                          </a:lnTo>
                          <a:lnTo>
                            <a:pt x="488" y="437"/>
                          </a:lnTo>
                          <a:lnTo>
                            <a:pt x="459" y="469"/>
                          </a:lnTo>
                          <a:lnTo>
                            <a:pt x="432" y="502"/>
                          </a:lnTo>
                          <a:lnTo>
                            <a:pt x="420" y="518"/>
                          </a:lnTo>
                          <a:lnTo>
                            <a:pt x="409" y="533"/>
                          </a:lnTo>
                          <a:lnTo>
                            <a:pt x="400" y="551"/>
                          </a:lnTo>
                          <a:lnTo>
                            <a:pt x="393" y="568"/>
                          </a:lnTo>
                          <a:lnTo>
                            <a:pt x="371" y="536"/>
                          </a:lnTo>
                          <a:lnTo>
                            <a:pt x="350" y="505"/>
                          </a:lnTo>
                          <a:lnTo>
                            <a:pt x="327" y="475"/>
                          </a:lnTo>
                          <a:lnTo>
                            <a:pt x="305" y="446"/>
                          </a:lnTo>
                          <a:lnTo>
                            <a:pt x="281" y="418"/>
                          </a:lnTo>
                          <a:lnTo>
                            <a:pt x="258" y="391"/>
                          </a:lnTo>
                          <a:lnTo>
                            <a:pt x="234" y="364"/>
                          </a:lnTo>
                          <a:lnTo>
                            <a:pt x="209" y="338"/>
                          </a:lnTo>
                          <a:lnTo>
                            <a:pt x="185" y="314"/>
                          </a:lnTo>
                          <a:lnTo>
                            <a:pt x="159" y="292"/>
                          </a:lnTo>
                          <a:lnTo>
                            <a:pt x="134" y="271"/>
                          </a:lnTo>
                          <a:lnTo>
                            <a:pt x="108" y="251"/>
                          </a:lnTo>
                          <a:lnTo>
                            <a:pt x="82" y="234"/>
                          </a:lnTo>
                          <a:lnTo>
                            <a:pt x="55" y="219"/>
                          </a:lnTo>
                          <a:lnTo>
                            <a:pt x="28" y="204"/>
                          </a:lnTo>
                          <a:lnTo>
                            <a:pt x="0" y="192"/>
                          </a:lnTo>
                          <a:lnTo>
                            <a:pt x="1" y="175"/>
                          </a:lnTo>
                          <a:lnTo>
                            <a:pt x="3" y="160"/>
                          </a:lnTo>
                          <a:lnTo>
                            <a:pt x="6" y="145"/>
                          </a:lnTo>
                          <a:lnTo>
                            <a:pt x="10" y="129"/>
                          </a:lnTo>
                          <a:lnTo>
                            <a:pt x="14" y="114"/>
                          </a:lnTo>
                          <a:lnTo>
                            <a:pt x="19" y="99"/>
                          </a:lnTo>
                          <a:lnTo>
                            <a:pt x="25" y="84"/>
                          </a:lnTo>
                          <a:lnTo>
                            <a:pt x="32" y="70"/>
                          </a:lnTo>
                          <a:lnTo>
                            <a:pt x="39" y="58"/>
                          </a:lnTo>
                          <a:lnTo>
                            <a:pt x="47" y="46"/>
                          </a:lnTo>
                          <a:lnTo>
                            <a:pt x="55" y="36"/>
                          </a:lnTo>
                          <a:lnTo>
                            <a:pt x="64" y="27"/>
                          </a:lnTo>
                          <a:lnTo>
                            <a:pt x="73" y="19"/>
                          </a:lnTo>
                          <a:lnTo>
                            <a:pt x="83" y="13"/>
                          </a:lnTo>
                          <a:lnTo>
                            <a:pt x="94" y="9"/>
                          </a:lnTo>
                          <a:lnTo>
                            <a:pt x="104" y="6"/>
                          </a:lnTo>
                          <a:lnTo>
                            <a:pt x="121" y="3"/>
                          </a:lnTo>
                          <a:lnTo>
                            <a:pt x="138" y="1"/>
                          </a:lnTo>
                          <a:lnTo>
                            <a:pt x="155" y="0"/>
                          </a:lnTo>
                          <a:lnTo>
                            <a:pt x="172" y="0"/>
                          </a:lnTo>
                          <a:lnTo>
                            <a:pt x="188" y="1"/>
                          </a:lnTo>
                          <a:lnTo>
                            <a:pt x="205" y="3"/>
                          </a:lnTo>
                          <a:lnTo>
                            <a:pt x="222" y="4"/>
                          </a:lnTo>
                          <a:lnTo>
                            <a:pt x="239" y="7"/>
                          </a:lnTo>
                          <a:lnTo>
                            <a:pt x="256" y="12"/>
                          </a:lnTo>
                          <a:lnTo>
                            <a:pt x="272" y="16"/>
                          </a:lnTo>
                          <a:lnTo>
                            <a:pt x="289" y="21"/>
                          </a:lnTo>
                          <a:lnTo>
                            <a:pt x="305" y="28"/>
                          </a:lnTo>
                          <a:lnTo>
                            <a:pt x="321" y="34"/>
                          </a:lnTo>
                          <a:lnTo>
                            <a:pt x="337" y="42"/>
                          </a:lnTo>
                          <a:lnTo>
                            <a:pt x="353" y="51"/>
                          </a:lnTo>
                          <a:lnTo>
                            <a:pt x="369" y="60"/>
                          </a:lnTo>
                          <a:lnTo>
                            <a:pt x="384" y="69"/>
                          </a:lnTo>
                          <a:lnTo>
                            <a:pt x="400" y="81"/>
                          </a:lnTo>
                          <a:lnTo>
                            <a:pt x="414" y="91"/>
                          </a:lnTo>
                          <a:lnTo>
                            <a:pt x="429" y="103"/>
                          </a:lnTo>
                          <a:lnTo>
                            <a:pt x="443" y="117"/>
                          </a:lnTo>
                          <a:lnTo>
                            <a:pt x="458" y="130"/>
                          </a:lnTo>
                          <a:lnTo>
                            <a:pt x="471" y="145"/>
                          </a:lnTo>
                          <a:lnTo>
                            <a:pt x="485" y="160"/>
                          </a:lnTo>
                          <a:lnTo>
                            <a:pt x="498" y="175"/>
                          </a:lnTo>
                          <a:lnTo>
                            <a:pt x="510" y="193"/>
                          </a:lnTo>
                          <a:lnTo>
                            <a:pt x="523" y="210"/>
                          </a:lnTo>
                          <a:lnTo>
                            <a:pt x="535" y="228"/>
                          </a:lnTo>
                          <a:lnTo>
                            <a:pt x="546" y="247"/>
                          </a:lnTo>
                          <a:lnTo>
                            <a:pt x="557" y="266"/>
                          </a:lnTo>
                          <a:lnTo>
                            <a:pt x="567" y="287"/>
                          </a:lnTo>
                          <a:lnTo>
                            <a:pt x="577" y="308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800" bIns="37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5" name=""/>
                    <p:cNvSpPr/>
                    <p:nvPr/>
                  </p:nvSpPr>
                  <p:spPr>
                    <a:xfrm>
                      <a:off x="345240" y="3618720"/>
                      <a:ext cx="241200" cy="16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1" h="1113">
                          <a:moveTo>
                            <a:pt x="1461" y="0"/>
                          </a:moveTo>
                          <a:lnTo>
                            <a:pt x="1450" y="55"/>
                          </a:lnTo>
                          <a:lnTo>
                            <a:pt x="1437" y="110"/>
                          </a:lnTo>
                          <a:lnTo>
                            <a:pt x="1424" y="166"/>
                          </a:lnTo>
                          <a:lnTo>
                            <a:pt x="1410" y="220"/>
                          </a:lnTo>
                          <a:lnTo>
                            <a:pt x="1395" y="275"/>
                          </a:lnTo>
                          <a:lnTo>
                            <a:pt x="1379" y="331"/>
                          </a:lnTo>
                          <a:lnTo>
                            <a:pt x="1363" y="386"/>
                          </a:lnTo>
                          <a:lnTo>
                            <a:pt x="1346" y="442"/>
                          </a:lnTo>
                          <a:lnTo>
                            <a:pt x="1311" y="551"/>
                          </a:lnTo>
                          <a:lnTo>
                            <a:pt x="1276" y="662"/>
                          </a:lnTo>
                          <a:lnTo>
                            <a:pt x="1242" y="772"/>
                          </a:lnTo>
                          <a:lnTo>
                            <a:pt x="1210" y="883"/>
                          </a:lnTo>
                          <a:lnTo>
                            <a:pt x="1150" y="916"/>
                          </a:lnTo>
                          <a:lnTo>
                            <a:pt x="1088" y="949"/>
                          </a:lnTo>
                          <a:lnTo>
                            <a:pt x="1023" y="983"/>
                          </a:lnTo>
                          <a:lnTo>
                            <a:pt x="956" y="1015"/>
                          </a:lnTo>
                          <a:lnTo>
                            <a:pt x="922" y="1030"/>
                          </a:lnTo>
                          <a:lnTo>
                            <a:pt x="888" y="1043"/>
                          </a:lnTo>
                          <a:lnTo>
                            <a:pt x="854" y="1057"/>
                          </a:lnTo>
                          <a:lnTo>
                            <a:pt x="819" y="1069"/>
                          </a:lnTo>
                          <a:lnTo>
                            <a:pt x="784" y="1081"/>
                          </a:lnTo>
                          <a:lnTo>
                            <a:pt x="749" y="1090"/>
                          </a:lnTo>
                          <a:lnTo>
                            <a:pt x="714" y="1099"/>
                          </a:lnTo>
                          <a:lnTo>
                            <a:pt x="679" y="1104"/>
                          </a:lnTo>
                          <a:lnTo>
                            <a:pt x="645" y="1109"/>
                          </a:lnTo>
                          <a:lnTo>
                            <a:pt x="610" y="1112"/>
                          </a:lnTo>
                          <a:lnTo>
                            <a:pt x="575" y="1113"/>
                          </a:lnTo>
                          <a:lnTo>
                            <a:pt x="541" y="1112"/>
                          </a:lnTo>
                          <a:lnTo>
                            <a:pt x="507" y="1109"/>
                          </a:lnTo>
                          <a:lnTo>
                            <a:pt x="474" y="1103"/>
                          </a:lnTo>
                          <a:lnTo>
                            <a:pt x="440" y="1096"/>
                          </a:lnTo>
                          <a:lnTo>
                            <a:pt x="408" y="1084"/>
                          </a:lnTo>
                          <a:lnTo>
                            <a:pt x="376" y="1070"/>
                          </a:lnTo>
                          <a:lnTo>
                            <a:pt x="344" y="1054"/>
                          </a:lnTo>
                          <a:lnTo>
                            <a:pt x="313" y="1033"/>
                          </a:lnTo>
                          <a:lnTo>
                            <a:pt x="283" y="1010"/>
                          </a:lnTo>
                          <a:lnTo>
                            <a:pt x="254" y="983"/>
                          </a:lnTo>
                          <a:lnTo>
                            <a:pt x="225" y="953"/>
                          </a:lnTo>
                          <a:lnTo>
                            <a:pt x="198" y="920"/>
                          </a:lnTo>
                          <a:lnTo>
                            <a:pt x="171" y="883"/>
                          </a:lnTo>
                          <a:lnTo>
                            <a:pt x="138" y="803"/>
                          </a:lnTo>
                          <a:lnTo>
                            <a:pt x="102" y="722"/>
                          </a:lnTo>
                          <a:lnTo>
                            <a:pt x="85" y="682"/>
                          </a:lnTo>
                          <a:lnTo>
                            <a:pt x="68" y="640"/>
                          </a:lnTo>
                          <a:lnTo>
                            <a:pt x="52" y="598"/>
                          </a:lnTo>
                          <a:lnTo>
                            <a:pt x="38" y="554"/>
                          </a:lnTo>
                          <a:lnTo>
                            <a:pt x="32" y="532"/>
                          </a:lnTo>
                          <a:lnTo>
                            <a:pt x="26" y="509"/>
                          </a:lnTo>
                          <a:lnTo>
                            <a:pt x="20" y="487"/>
                          </a:lnTo>
                          <a:lnTo>
                            <a:pt x="15" y="464"/>
                          </a:lnTo>
                          <a:lnTo>
                            <a:pt x="11" y="442"/>
                          </a:lnTo>
                          <a:lnTo>
                            <a:pt x="7" y="418"/>
                          </a:lnTo>
                          <a:lnTo>
                            <a:pt x="4" y="395"/>
                          </a:lnTo>
                          <a:lnTo>
                            <a:pt x="2" y="371"/>
                          </a:lnTo>
                          <a:lnTo>
                            <a:pt x="1" y="347"/>
                          </a:lnTo>
                          <a:lnTo>
                            <a:pt x="0" y="323"/>
                          </a:lnTo>
                          <a:lnTo>
                            <a:pt x="1" y="299"/>
                          </a:lnTo>
                          <a:lnTo>
                            <a:pt x="2" y="274"/>
                          </a:lnTo>
                          <a:lnTo>
                            <a:pt x="4" y="250"/>
                          </a:lnTo>
                          <a:lnTo>
                            <a:pt x="8" y="224"/>
                          </a:lnTo>
                          <a:lnTo>
                            <a:pt x="12" y="199"/>
                          </a:lnTo>
                          <a:lnTo>
                            <a:pt x="18" y="173"/>
                          </a:lnTo>
                          <a:lnTo>
                            <a:pt x="31" y="160"/>
                          </a:lnTo>
                          <a:lnTo>
                            <a:pt x="44" y="149"/>
                          </a:lnTo>
                          <a:lnTo>
                            <a:pt x="57" y="139"/>
                          </a:lnTo>
                          <a:lnTo>
                            <a:pt x="70" y="131"/>
                          </a:lnTo>
                          <a:lnTo>
                            <a:pt x="84" y="125"/>
                          </a:lnTo>
                          <a:lnTo>
                            <a:pt x="97" y="119"/>
                          </a:lnTo>
                          <a:lnTo>
                            <a:pt x="110" y="116"/>
                          </a:lnTo>
                          <a:lnTo>
                            <a:pt x="123" y="113"/>
                          </a:lnTo>
                          <a:lnTo>
                            <a:pt x="137" y="113"/>
                          </a:lnTo>
                          <a:lnTo>
                            <a:pt x="150" y="113"/>
                          </a:lnTo>
                          <a:lnTo>
                            <a:pt x="163" y="113"/>
                          </a:lnTo>
                          <a:lnTo>
                            <a:pt x="177" y="116"/>
                          </a:lnTo>
                          <a:lnTo>
                            <a:pt x="190" y="119"/>
                          </a:lnTo>
                          <a:lnTo>
                            <a:pt x="203" y="122"/>
                          </a:lnTo>
                          <a:lnTo>
                            <a:pt x="217" y="127"/>
                          </a:lnTo>
                          <a:lnTo>
                            <a:pt x="230" y="133"/>
                          </a:lnTo>
                          <a:lnTo>
                            <a:pt x="256" y="145"/>
                          </a:lnTo>
                          <a:lnTo>
                            <a:pt x="283" y="160"/>
                          </a:lnTo>
                          <a:lnTo>
                            <a:pt x="309" y="176"/>
                          </a:lnTo>
                          <a:lnTo>
                            <a:pt x="334" y="193"/>
                          </a:lnTo>
                          <a:lnTo>
                            <a:pt x="385" y="226"/>
                          </a:lnTo>
                          <a:lnTo>
                            <a:pt x="433" y="256"/>
                          </a:lnTo>
                          <a:lnTo>
                            <a:pt x="444" y="262"/>
                          </a:lnTo>
                          <a:lnTo>
                            <a:pt x="454" y="269"/>
                          </a:lnTo>
                          <a:lnTo>
                            <a:pt x="464" y="278"/>
                          </a:lnTo>
                          <a:lnTo>
                            <a:pt x="473" y="287"/>
                          </a:lnTo>
                          <a:lnTo>
                            <a:pt x="481" y="299"/>
                          </a:lnTo>
                          <a:lnTo>
                            <a:pt x="490" y="310"/>
                          </a:lnTo>
                          <a:lnTo>
                            <a:pt x="498" y="323"/>
                          </a:lnTo>
                          <a:lnTo>
                            <a:pt x="505" y="335"/>
                          </a:lnTo>
                          <a:lnTo>
                            <a:pt x="534" y="389"/>
                          </a:lnTo>
                          <a:lnTo>
                            <a:pt x="561" y="442"/>
                          </a:lnTo>
                          <a:lnTo>
                            <a:pt x="568" y="452"/>
                          </a:lnTo>
                          <a:lnTo>
                            <a:pt x="575" y="464"/>
                          </a:lnTo>
                          <a:lnTo>
                            <a:pt x="582" y="473"/>
                          </a:lnTo>
                          <a:lnTo>
                            <a:pt x="589" y="482"/>
                          </a:lnTo>
                          <a:lnTo>
                            <a:pt x="596" y="490"/>
                          </a:lnTo>
                          <a:lnTo>
                            <a:pt x="604" y="496"/>
                          </a:lnTo>
                          <a:lnTo>
                            <a:pt x="612" y="502"/>
                          </a:lnTo>
                          <a:lnTo>
                            <a:pt x="620" y="505"/>
                          </a:lnTo>
                          <a:lnTo>
                            <a:pt x="629" y="506"/>
                          </a:lnTo>
                          <a:lnTo>
                            <a:pt x="638" y="506"/>
                          </a:lnTo>
                          <a:lnTo>
                            <a:pt x="647" y="503"/>
                          </a:lnTo>
                          <a:lnTo>
                            <a:pt x="657" y="499"/>
                          </a:lnTo>
                          <a:lnTo>
                            <a:pt x="667" y="493"/>
                          </a:lnTo>
                          <a:lnTo>
                            <a:pt x="678" y="484"/>
                          </a:lnTo>
                          <a:lnTo>
                            <a:pt x="690" y="473"/>
                          </a:lnTo>
                          <a:lnTo>
                            <a:pt x="702" y="458"/>
                          </a:lnTo>
                          <a:lnTo>
                            <a:pt x="721" y="431"/>
                          </a:lnTo>
                          <a:lnTo>
                            <a:pt x="741" y="406"/>
                          </a:lnTo>
                          <a:lnTo>
                            <a:pt x="761" y="380"/>
                          </a:lnTo>
                          <a:lnTo>
                            <a:pt x="782" y="355"/>
                          </a:lnTo>
                          <a:lnTo>
                            <a:pt x="802" y="332"/>
                          </a:lnTo>
                          <a:lnTo>
                            <a:pt x="823" y="308"/>
                          </a:lnTo>
                          <a:lnTo>
                            <a:pt x="844" y="287"/>
                          </a:lnTo>
                          <a:lnTo>
                            <a:pt x="866" y="266"/>
                          </a:lnTo>
                          <a:lnTo>
                            <a:pt x="887" y="245"/>
                          </a:lnTo>
                          <a:lnTo>
                            <a:pt x="909" y="226"/>
                          </a:lnTo>
                          <a:lnTo>
                            <a:pt x="931" y="208"/>
                          </a:lnTo>
                          <a:lnTo>
                            <a:pt x="954" y="190"/>
                          </a:lnTo>
                          <a:lnTo>
                            <a:pt x="977" y="173"/>
                          </a:lnTo>
                          <a:lnTo>
                            <a:pt x="1000" y="157"/>
                          </a:lnTo>
                          <a:lnTo>
                            <a:pt x="1023" y="142"/>
                          </a:lnTo>
                          <a:lnTo>
                            <a:pt x="1046" y="127"/>
                          </a:lnTo>
                          <a:lnTo>
                            <a:pt x="1070" y="113"/>
                          </a:lnTo>
                          <a:lnTo>
                            <a:pt x="1094" y="100"/>
                          </a:lnTo>
                          <a:lnTo>
                            <a:pt x="1119" y="88"/>
                          </a:lnTo>
                          <a:lnTo>
                            <a:pt x="1143" y="78"/>
                          </a:lnTo>
                          <a:lnTo>
                            <a:pt x="1168" y="67"/>
                          </a:lnTo>
                          <a:lnTo>
                            <a:pt x="1193" y="57"/>
                          </a:lnTo>
                          <a:lnTo>
                            <a:pt x="1219" y="48"/>
                          </a:lnTo>
                          <a:lnTo>
                            <a:pt x="1245" y="40"/>
                          </a:lnTo>
                          <a:lnTo>
                            <a:pt x="1271" y="33"/>
                          </a:lnTo>
                          <a:lnTo>
                            <a:pt x="1297" y="25"/>
                          </a:lnTo>
                          <a:lnTo>
                            <a:pt x="1323" y="19"/>
                          </a:lnTo>
                          <a:lnTo>
                            <a:pt x="1350" y="15"/>
                          </a:lnTo>
                          <a:lnTo>
                            <a:pt x="1405" y="6"/>
                          </a:lnTo>
                          <a:lnTo>
                            <a:pt x="1461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6" name=""/>
                    <p:cNvSpPr/>
                    <p:nvPr/>
                  </p:nvSpPr>
                  <p:spPr>
                    <a:xfrm>
                      <a:off x="1027080" y="3700080"/>
                      <a:ext cx="74520" cy="16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1" h="1083">
                          <a:moveTo>
                            <a:pt x="433" y="48"/>
                          </a:moveTo>
                          <a:lnTo>
                            <a:pt x="424" y="53"/>
                          </a:lnTo>
                          <a:lnTo>
                            <a:pt x="415" y="59"/>
                          </a:lnTo>
                          <a:lnTo>
                            <a:pt x="407" y="66"/>
                          </a:lnTo>
                          <a:lnTo>
                            <a:pt x="399" y="74"/>
                          </a:lnTo>
                          <a:lnTo>
                            <a:pt x="391" y="83"/>
                          </a:lnTo>
                          <a:lnTo>
                            <a:pt x="384" y="92"/>
                          </a:lnTo>
                          <a:lnTo>
                            <a:pt x="377" y="102"/>
                          </a:lnTo>
                          <a:lnTo>
                            <a:pt x="370" y="114"/>
                          </a:lnTo>
                          <a:lnTo>
                            <a:pt x="358" y="138"/>
                          </a:lnTo>
                          <a:lnTo>
                            <a:pt x="348" y="165"/>
                          </a:lnTo>
                          <a:lnTo>
                            <a:pt x="338" y="194"/>
                          </a:lnTo>
                          <a:lnTo>
                            <a:pt x="330" y="225"/>
                          </a:lnTo>
                          <a:lnTo>
                            <a:pt x="322" y="257"/>
                          </a:lnTo>
                          <a:lnTo>
                            <a:pt x="315" y="291"/>
                          </a:lnTo>
                          <a:lnTo>
                            <a:pt x="310" y="324"/>
                          </a:lnTo>
                          <a:lnTo>
                            <a:pt x="304" y="359"/>
                          </a:lnTo>
                          <a:lnTo>
                            <a:pt x="296" y="428"/>
                          </a:lnTo>
                          <a:lnTo>
                            <a:pt x="289" y="494"/>
                          </a:lnTo>
                          <a:lnTo>
                            <a:pt x="294" y="542"/>
                          </a:lnTo>
                          <a:lnTo>
                            <a:pt x="301" y="589"/>
                          </a:lnTo>
                          <a:lnTo>
                            <a:pt x="306" y="613"/>
                          </a:lnTo>
                          <a:lnTo>
                            <a:pt x="311" y="637"/>
                          </a:lnTo>
                          <a:lnTo>
                            <a:pt x="317" y="661"/>
                          </a:lnTo>
                          <a:lnTo>
                            <a:pt x="324" y="684"/>
                          </a:lnTo>
                          <a:lnTo>
                            <a:pt x="332" y="705"/>
                          </a:lnTo>
                          <a:lnTo>
                            <a:pt x="341" y="724"/>
                          </a:lnTo>
                          <a:lnTo>
                            <a:pt x="351" y="744"/>
                          </a:lnTo>
                          <a:lnTo>
                            <a:pt x="362" y="760"/>
                          </a:lnTo>
                          <a:lnTo>
                            <a:pt x="375" y="775"/>
                          </a:lnTo>
                          <a:lnTo>
                            <a:pt x="389" y="789"/>
                          </a:lnTo>
                          <a:lnTo>
                            <a:pt x="396" y="795"/>
                          </a:lnTo>
                          <a:lnTo>
                            <a:pt x="404" y="801"/>
                          </a:lnTo>
                          <a:lnTo>
                            <a:pt x="413" y="805"/>
                          </a:lnTo>
                          <a:lnTo>
                            <a:pt x="422" y="808"/>
                          </a:lnTo>
                          <a:lnTo>
                            <a:pt x="427" y="808"/>
                          </a:lnTo>
                          <a:lnTo>
                            <a:pt x="433" y="808"/>
                          </a:lnTo>
                          <a:lnTo>
                            <a:pt x="438" y="811"/>
                          </a:lnTo>
                          <a:lnTo>
                            <a:pt x="442" y="814"/>
                          </a:lnTo>
                          <a:lnTo>
                            <a:pt x="446" y="819"/>
                          </a:lnTo>
                          <a:lnTo>
                            <a:pt x="449" y="825"/>
                          </a:lnTo>
                          <a:lnTo>
                            <a:pt x="451" y="831"/>
                          </a:lnTo>
                          <a:lnTo>
                            <a:pt x="450" y="840"/>
                          </a:lnTo>
                          <a:lnTo>
                            <a:pt x="447" y="856"/>
                          </a:lnTo>
                          <a:lnTo>
                            <a:pt x="442" y="871"/>
                          </a:lnTo>
                          <a:lnTo>
                            <a:pt x="436" y="886"/>
                          </a:lnTo>
                          <a:lnTo>
                            <a:pt x="430" y="900"/>
                          </a:lnTo>
                          <a:lnTo>
                            <a:pt x="423" y="913"/>
                          </a:lnTo>
                          <a:lnTo>
                            <a:pt x="416" y="927"/>
                          </a:lnTo>
                          <a:lnTo>
                            <a:pt x="408" y="939"/>
                          </a:lnTo>
                          <a:lnTo>
                            <a:pt x="399" y="949"/>
                          </a:lnTo>
                          <a:lnTo>
                            <a:pt x="363" y="994"/>
                          </a:lnTo>
                          <a:lnTo>
                            <a:pt x="326" y="1038"/>
                          </a:lnTo>
                          <a:lnTo>
                            <a:pt x="316" y="1048"/>
                          </a:lnTo>
                          <a:lnTo>
                            <a:pt x="306" y="1056"/>
                          </a:lnTo>
                          <a:lnTo>
                            <a:pt x="296" y="1062"/>
                          </a:lnTo>
                          <a:lnTo>
                            <a:pt x="287" y="1066"/>
                          </a:lnTo>
                          <a:lnTo>
                            <a:pt x="278" y="1068"/>
                          </a:lnTo>
                          <a:lnTo>
                            <a:pt x="269" y="1069"/>
                          </a:lnTo>
                          <a:lnTo>
                            <a:pt x="260" y="1069"/>
                          </a:lnTo>
                          <a:lnTo>
                            <a:pt x="252" y="1069"/>
                          </a:lnTo>
                          <a:lnTo>
                            <a:pt x="235" y="1068"/>
                          </a:lnTo>
                          <a:lnTo>
                            <a:pt x="218" y="1069"/>
                          </a:lnTo>
                          <a:lnTo>
                            <a:pt x="210" y="1069"/>
                          </a:lnTo>
                          <a:lnTo>
                            <a:pt x="201" y="1072"/>
                          </a:lnTo>
                          <a:lnTo>
                            <a:pt x="192" y="1075"/>
                          </a:lnTo>
                          <a:lnTo>
                            <a:pt x="182" y="1081"/>
                          </a:lnTo>
                          <a:lnTo>
                            <a:pt x="168" y="1083"/>
                          </a:lnTo>
                          <a:lnTo>
                            <a:pt x="155" y="1083"/>
                          </a:lnTo>
                          <a:lnTo>
                            <a:pt x="142" y="1080"/>
                          </a:lnTo>
                          <a:lnTo>
                            <a:pt x="131" y="1077"/>
                          </a:lnTo>
                          <a:lnTo>
                            <a:pt x="120" y="1071"/>
                          </a:lnTo>
                          <a:lnTo>
                            <a:pt x="110" y="1063"/>
                          </a:lnTo>
                          <a:lnTo>
                            <a:pt x="101" y="1056"/>
                          </a:lnTo>
                          <a:lnTo>
                            <a:pt x="92" y="1045"/>
                          </a:lnTo>
                          <a:lnTo>
                            <a:pt x="83" y="1035"/>
                          </a:lnTo>
                          <a:lnTo>
                            <a:pt x="75" y="1023"/>
                          </a:lnTo>
                          <a:lnTo>
                            <a:pt x="67" y="1011"/>
                          </a:lnTo>
                          <a:lnTo>
                            <a:pt x="59" y="997"/>
                          </a:lnTo>
                          <a:lnTo>
                            <a:pt x="44" y="969"/>
                          </a:lnTo>
                          <a:lnTo>
                            <a:pt x="29" y="939"/>
                          </a:lnTo>
                          <a:lnTo>
                            <a:pt x="24" y="912"/>
                          </a:lnTo>
                          <a:lnTo>
                            <a:pt x="19" y="885"/>
                          </a:lnTo>
                          <a:lnTo>
                            <a:pt x="15" y="856"/>
                          </a:lnTo>
                          <a:lnTo>
                            <a:pt x="11" y="829"/>
                          </a:lnTo>
                          <a:lnTo>
                            <a:pt x="8" y="801"/>
                          </a:lnTo>
                          <a:lnTo>
                            <a:pt x="6" y="774"/>
                          </a:lnTo>
                          <a:lnTo>
                            <a:pt x="3" y="745"/>
                          </a:lnTo>
                          <a:lnTo>
                            <a:pt x="2" y="717"/>
                          </a:lnTo>
                          <a:lnTo>
                            <a:pt x="1" y="688"/>
                          </a:lnTo>
                          <a:lnTo>
                            <a:pt x="0" y="660"/>
                          </a:lnTo>
                          <a:lnTo>
                            <a:pt x="0" y="631"/>
                          </a:lnTo>
                          <a:lnTo>
                            <a:pt x="0" y="603"/>
                          </a:lnTo>
                          <a:lnTo>
                            <a:pt x="1" y="574"/>
                          </a:lnTo>
                          <a:lnTo>
                            <a:pt x="3" y="546"/>
                          </a:lnTo>
                          <a:lnTo>
                            <a:pt x="5" y="519"/>
                          </a:lnTo>
                          <a:lnTo>
                            <a:pt x="8" y="491"/>
                          </a:lnTo>
                          <a:lnTo>
                            <a:pt x="11" y="462"/>
                          </a:lnTo>
                          <a:lnTo>
                            <a:pt x="14" y="435"/>
                          </a:lnTo>
                          <a:lnTo>
                            <a:pt x="18" y="408"/>
                          </a:lnTo>
                          <a:lnTo>
                            <a:pt x="23" y="381"/>
                          </a:lnTo>
                          <a:lnTo>
                            <a:pt x="29" y="354"/>
                          </a:lnTo>
                          <a:lnTo>
                            <a:pt x="34" y="327"/>
                          </a:lnTo>
                          <a:lnTo>
                            <a:pt x="41" y="302"/>
                          </a:lnTo>
                          <a:lnTo>
                            <a:pt x="48" y="276"/>
                          </a:lnTo>
                          <a:lnTo>
                            <a:pt x="55" y="251"/>
                          </a:lnTo>
                          <a:lnTo>
                            <a:pt x="63" y="227"/>
                          </a:lnTo>
                          <a:lnTo>
                            <a:pt x="72" y="203"/>
                          </a:lnTo>
                          <a:lnTo>
                            <a:pt x="81" y="179"/>
                          </a:lnTo>
                          <a:lnTo>
                            <a:pt x="91" y="156"/>
                          </a:lnTo>
                          <a:lnTo>
                            <a:pt x="102" y="134"/>
                          </a:lnTo>
                          <a:lnTo>
                            <a:pt x="113" y="111"/>
                          </a:lnTo>
                          <a:lnTo>
                            <a:pt x="124" y="90"/>
                          </a:lnTo>
                          <a:lnTo>
                            <a:pt x="131" y="81"/>
                          </a:lnTo>
                          <a:lnTo>
                            <a:pt x="138" y="72"/>
                          </a:lnTo>
                          <a:lnTo>
                            <a:pt x="146" y="63"/>
                          </a:lnTo>
                          <a:lnTo>
                            <a:pt x="153" y="56"/>
                          </a:lnTo>
                          <a:lnTo>
                            <a:pt x="169" y="42"/>
                          </a:lnTo>
                          <a:lnTo>
                            <a:pt x="185" y="32"/>
                          </a:lnTo>
                          <a:lnTo>
                            <a:pt x="202" y="23"/>
                          </a:lnTo>
                          <a:lnTo>
                            <a:pt x="220" y="15"/>
                          </a:lnTo>
                          <a:lnTo>
                            <a:pt x="238" y="11"/>
                          </a:lnTo>
                          <a:lnTo>
                            <a:pt x="257" y="6"/>
                          </a:lnTo>
                          <a:lnTo>
                            <a:pt x="276" y="3"/>
                          </a:lnTo>
                          <a:lnTo>
                            <a:pt x="295" y="2"/>
                          </a:lnTo>
                          <a:lnTo>
                            <a:pt x="314" y="2"/>
                          </a:lnTo>
                          <a:lnTo>
                            <a:pt x="334" y="0"/>
                          </a:lnTo>
                          <a:lnTo>
                            <a:pt x="374" y="0"/>
                          </a:lnTo>
                          <a:lnTo>
                            <a:pt x="413" y="0"/>
                          </a:lnTo>
                          <a:lnTo>
                            <a:pt x="433" y="48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7" name=""/>
                    <p:cNvSpPr/>
                    <p:nvPr/>
                  </p:nvSpPr>
                  <p:spPr>
                    <a:xfrm>
                      <a:off x="986760" y="3804120"/>
                      <a:ext cx="216360" cy="36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09" h="2454">
                          <a:moveTo>
                            <a:pt x="306" y="403"/>
                          </a:moveTo>
                          <a:lnTo>
                            <a:pt x="326" y="409"/>
                          </a:lnTo>
                          <a:lnTo>
                            <a:pt x="345" y="418"/>
                          </a:lnTo>
                          <a:lnTo>
                            <a:pt x="363" y="429"/>
                          </a:lnTo>
                          <a:lnTo>
                            <a:pt x="380" y="442"/>
                          </a:lnTo>
                          <a:lnTo>
                            <a:pt x="396" y="456"/>
                          </a:lnTo>
                          <a:lnTo>
                            <a:pt x="412" y="471"/>
                          </a:lnTo>
                          <a:lnTo>
                            <a:pt x="426" y="487"/>
                          </a:lnTo>
                          <a:lnTo>
                            <a:pt x="440" y="505"/>
                          </a:lnTo>
                          <a:lnTo>
                            <a:pt x="452" y="525"/>
                          </a:lnTo>
                          <a:lnTo>
                            <a:pt x="464" y="547"/>
                          </a:lnTo>
                          <a:lnTo>
                            <a:pt x="475" y="570"/>
                          </a:lnTo>
                          <a:lnTo>
                            <a:pt x="485" y="594"/>
                          </a:lnTo>
                          <a:lnTo>
                            <a:pt x="495" y="619"/>
                          </a:lnTo>
                          <a:lnTo>
                            <a:pt x="504" y="646"/>
                          </a:lnTo>
                          <a:lnTo>
                            <a:pt x="512" y="675"/>
                          </a:lnTo>
                          <a:lnTo>
                            <a:pt x="519" y="706"/>
                          </a:lnTo>
                          <a:lnTo>
                            <a:pt x="528" y="736"/>
                          </a:lnTo>
                          <a:lnTo>
                            <a:pt x="537" y="768"/>
                          </a:lnTo>
                          <a:lnTo>
                            <a:pt x="544" y="798"/>
                          </a:lnTo>
                          <a:lnTo>
                            <a:pt x="551" y="829"/>
                          </a:lnTo>
                          <a:lnTo>
                            <a:pt x="556" y="861"/>
                          </a:lnTo>
                          <a:lnTo>
                            <a:pt x="562" y="892"/>
                          </a:lnTo>
                          <a:lnTo>
                            <a:pt x="566" y="923"/>
                          </a:lnTo>
                          <a:lnTo>
                            <a:pt x="570" y="955"/>
                          </a:lnTo>
                          <a:lnTo>
                            <a:pt x="574" y="986"/>
                          </a:lnTo>
                          <a:lnTo>
                            <a:pt x="576" y="1018"/>
                          </a:lnTo>
                          <a:lnTo>
                            <a:pt x="578" y="1049"/>
                          </a:lnTo>
                          <a:lnTo>
                            <a:pt x="580" y="1081"/>
                          </a:lnTo>
                          <a:lnTo>
                            <a:pt x="582" y="1145"/>
                          </a:lnTo>
                          <a:lnTo>
                            <a:pt x="583" y="1210"/>
                          </a:lnTo>
                          <a:lnTo>
                            <a:pt x="582" y="1274"/>
                          </a:lnTo>
                          <a:lnTo>
                            <a:pt x="580" y="1340"/>
                          </a:lnTo>
                          <a:lnTo>
                            <a:pt x="577" y="1406"/>
                          </a:lnTo>
                          <a:lnTo>
                            <a:pt x="574" y="1472"/>
                          </a:lnTo>
                          <a:lnTo>
                            <a:pt x="566" y="1607"/>
                          </a:lnTo>
                          <a:lnTo>
                            <a:pt x="560" y="1744"/>
                          </a:lnTo>
                          <a:lnTo>
                            <a:pt x="564" y="1751"/>
                          </a:lnTo>
                          <a:lnTo>
                            <a:pt x="569" y="1759"/>
                          </a:lnTo>
                          <a:lnTo>
                            <a:pt x="574" y="1765"/>
                          </a:lnTo>
                          <a:lnTo>
                            <a:pt x="578" y="1769"/>
                          </a:lnTo>
                          <a:lnTo>
                            <a:pt x="583" y="1772"/>
                          </a:lnTo>
                          <a:lnTo>
                            <a:pt x="587" y="1774"/>
                          </a:lnTo>
                          <a:lnTo>
                            <a:pt x="591" y="1775"/>
                          </a:lnTo>
                          <a:lnTo>
                            <a:pt x="595" y="1775"/>
                          </a:lnTo>
                          <a:lnTo>
                            <a:pt x="604" y="1772"/>
                          </a:lnTo>
                          <a:lnTo>
                            <a:pt x="612" y="1768"/>
                          </a:lnTo>
                          <a:lnTo>
                            <a:pt x="619" y="1760"/>
                          </a:lnTo>
                          <a:lnTo>
                            <a:pt x="627" y="1751"/>
                          </a:lnTo>
                          <a:lnTo>
                            <a:pt x="643" y="1729"/>
                          </a:lnTo>
                          <a:lnTo>
                            <a:pt x="658" y="1708"/>
                          </a:lnTo>
                          <a:lnTo>
                            <a:pt x="666" y="1699"/>
                          </a:lnTo>
                          <a:lnTo>
                            <a:pt x="675" y="1691"/>
                          </a:lnTo>
                          <a:lnTo>
                            <a:pt x="683" y="1685"/>
                          </a:lnTo>
                          <a:lnTo>
                            <a:pt x="692" y="1684"/>
                          </a:lnTo>
                          <a:lnTo>
                            <a:pt x="713" y="1678"/>
                          </a:lnTo>
                          <a:lnTo>
                            <a:pt x="733" y="1673"/>
                          </a:lnTo>
                          <a:lnTo>
                            <a:pt x="754" y="1670"/>
                          </a:lnTo>
                          <a:lnTo>
                            <a:pt x="774" y="1667"/>
                          </a:lnTo>
                          <a:lnTo>
                            <a:pt x="795" y="1666"/>
                          </a:lnTo>
                          <a:lnTo>
                            <a:pt x="815" y="1666"/>
                          </a:lnTo>
                          <a:lnTo>
                            <a:pt x="835" y="1667"/>
                          </a:lnTo>
                          <a:lnTo>
                            <a:pt x="856" y="1669"/>
                          </a:lnTo>
                          <a:lnTo>
                            <a:pt x="876" y="1670"/>
                          </a:lnTo>
                          <a:lnTo>
                            <a:pt x="896" y="1675"/>
                          </a:lnTo>
                          <a:lnTo>
                            <a:pt x="916" y="1678"/>
                          </a:lnTo>
                          <a:lnTo>
                            <a:pt x="936" y="1684"/>
                          </a:lnTo>
                          <a:lnTo>
                            <a:pt x="955" y="1690"/>
                          </a:lnTo>
                          <a:lnTo>
                            <a:pt x="975" y="1696"/>
                          </a:lnTo>
                          <a:lnTo>
                            <a:pt x="995" y="1703"/>
                          </a:lnTo>
                          <a:lnTo>
                            <a:pt x="1014" y="1712"/>
                          </a:lnTo>
                          <a:lnTo>
                            <a:pt x="1052" y="1732"/>
                          </a:lnTo>
                          <a:lnTo>
                            <a:pt x="1090" y="1753"/>
                          </a:lnTo>
                          <a:lnTo>
                            <a:pt x="1127" y="1777"/>
                          </a:lnTo>
                          <a:lnTo>
                            <a:pt x="1164" y="1804"/>
                          </a:lnTo>
                          <a:lnTo>
                            <a:pt x="1199" y="1832"/>
                          </a:lnTo>
                          <a:lnTo>
                            <a:pt x="1234" y="1863"/>
                          </a:lnTo>
                          <a:lnTo>
                            <a:pt x="1268" y="1895"/>
                          </a:lnTo>
                          <a:lnTo>
                            <a:pt x="1301" y="1929"/>
                          </a:lnTo>
                          <a:lnTo>
                            <a:pt x="1304" y="1946"/>
                          </a:lnTo>
                          <a:lnTo>
                            <a:pt x="1306" y="1961"/>
                          </a:lnTo>
                          <a:lnTo>
                            <a:pt x="1307" y="1977"/>
                          </a:lnTo>
                          <a:lnTo>
                            <a:pt x="1308" y="1992"/>
                          </a:lnTo>
                          <a:lnTo>
                            <a:pt x="1309" y="2021"/>
                          </a:lnTo>
                          <a:lnTo>
                            <a:pt x="1307" y="2049"/>
                          </a:lnTo>
                          <a:lnTo>
                            <a:pt x="1304" y="2076"/>
                          </a:lnTo>
                          <a:lnTo>
                            <a:pt x="1299" y="2102"/>
                          </a:lnTo>
                          <a:lnTo>
                            <a:pt x="1292" y="2127"/>
                          </a:lnTo>
                          <a:lnTo>
                            <a:pt x="1284" y="2151"/>
                          </a:lnTo>
                          <a:lnTo>
                            <a:pt x="1275" y="2175"/>
                          </a:lnTo>
                          <a:lnTo>
                            <a:pt x="1264" y="2198"/>
                          </a:lnTo>
                          <a:lnTo>
                            <a:pt x="1252" y="2219"/>
                          </a:lnTo>
                          <a:lnTo>
                            <a:pt x="1240" y="2240"/>
                          </a:lnTo>
                          <a:lnTo>
                            <a:pt x="1226" y="2261"/>
                          </a:lnTo>
                          <a:lnTo>
                            <a:pt x="1212" y="2280"/>
                          </a:lnTo>
                          <a:lnTo>
                            <a:pt x="1198" y="2300"/>
                          </a:lnTo>
                          <a:lnTo>
                            <a:pt x="1183" y="2319"/>
                          </a:lnTo>
                          <a:lnTo>
                            <a:pt x="1135" y="2339"/>
                          </a:lnTo>
                          <a:lnTo>
                            <a:pt x="1085" y="2360"/>
                          </a:lnTo>
                          <a:lnTo>
                            <a:pt x="1034" y="2379"/>
                          </a:lnTo>
                          <a:lnTo>
                            <a:pt x="981" y="2399"/>
                          </a:lnTo>
                          <a:lnTo>
                            <a:pt x="927" y="2415"/>
                          </a:lnTo>
                          <a:lnTo>
                            <a:pt x="872" y="2430"/>
                          </a:lnTo>
                          <a:lnTo>
                            <a:pt x="844" y="2436"/>
                          </a:lnTo>
                          <a:lnTo>
                            <a:pt x="817" y="2442"/>
                          </a:lnTo>
                          <a:lnTo>
                            <a:pt x="789" y="2447"/>
                          </a:lnTo>
                          <a:lnTo>
                            <a:pt x="761" y="2450"/>
                          </a:lnTo>
                          <a:lnTo>
                            <a:pt x="734" y="2453"/>
                          </a:lnTo>
                          <a:lnTo>
                            <a:pt x="706" y="2454"/>
                          </a:lnTo>
                          <a:lnTo>
                            <a:pt x="679" y="2454"/>
                          </a:lnTo>
                          <a:lnTo>
                            <a:pt x="652" y="2454"/>
                          </a:lnTo>
                          <a:lnTo>
                            <a:pt x="625" y="2451"/>
                          </a:lnTo>
                          <a:lnTo>
                            <a:pt x="598" y="2448"/>
                          </a:lnTo>
                          <a:lnTo>
                            <a:pt x="571" y="2442"/>
                          </a:lnTo>
                          <a:lnTo>
                            <a:pt x="545" y="2436"/>
                          </a:lnTo>
                          <a:lnTo>
                            <a:pt x="520" y="2427"/>
                          </a:lnTo>
                          <a:lnTo>
                            <a:pt x="495" y="2418"/>
                          </a:lnTo>
                          <a:lnTo>
                            <a:pt x="470" y="2406"/>
                          </a:lnTo>
                          <a:lnTo>
                            <a:pt x="446" y="2393"/>
                          </a:lnTo>
                          <a:lnTo>
                            <a:pt x="422" y="2378"/>
                          </a:lnTo>
                          <a:lnTo>
                            <a:pt x="399" y="2360"/>
                          </a:lnTo>
                          <a:lnTo>
                            <a:pt x="377" y="2340"/>
                          </a:lnTo>
                          <a:lnTo>
                            <a:pt x="355" y="2319"/>
                          </a:lnTo>
                          <a:lnTo>
                            <a:pt x="337" y="2295"/>
                          </a:lnTo>
                          <a:lnTo>
                            <a:pt x="320" y="2271"/>
                          </a:lnTo>
                          <a:lnTo>
                            <a:pt x="304" y="2246"/>
                          </a:lnTo>
                          <a:lnTo>
                            <a:pt x="288" y="2220"/>
                          </a:lnTo>
                          <a:lnTo>
                            <a:pt x="273" y="2195"/>
                          </a:lnTo>
                          <a:lnTo>
                            <a:pt x="259" y="2168"/>
                          </a:lnTo>
                          <a:lnTo>
                            <a:pt x="246" y="2139"/>
                          </a:lnTo>
                          <a:lnTo>
                            <a:pt x="233" y="2112"/>
                          </a:lnTo>
                          <a:lnTo>
                            <a:pt x="220" y="2084"/>
                          </a:lnTo>
                          <a:lnTo>
                            <a:pt x="208" y="2054"/>
                          </a:lnTo>
                          <a:lnTo>
                            <a:pt x="197" y="2025"/>
                          </a:lnTo>
                          <a:lnTo>
                            <a:pt x="186" y="1994"/>
                          </a:lnTo>
                          <a:lnTo>
                            <a:pt x="166" y="1934"/>
                          </a:lnTo>
                          <a:lnTo>
                            <a:pt x="147" y="1871"/>
                          </a:lnTo>
                          <a:lnTo>
                            <a:pt x="130" y="1807"/>
                          </a:lnTo>
                          <a:lnTo>
                            <a:pt x="115" y="1742"/>
                          </a:lnTo>
                          <a:lnTo>
                            <a:pt x="100" y="1676"/>
                          </a:lnTo>
                          <a:lnTo>
                            <a:pt x="87" y="1609"/>
                          </a:lnTo>
                          <a:lnTo>
                            <a:pt x="61" y="1475"/>
                          </a:lnTo>
                          <a:lnTo>
                            <a:pt x="37" y="1342"/>
                          </a:lnTo>
                          <a:lnTo>
                            <a:pt x="31" y="1298"/>
                          </a:lnTo>
                          <a:lnTo>
                            <a:pt x="25" y="1255"/>
                          </a:lnTo>
                          <a:lnTo>
                            <a:pt x="19" y="1211"/>
                          </a:lnTo>
                          <a:lnTo>
                            <a:pt x="15" y="1166"/>
                          </a:lnTo>
                          <a:lnTo>
                            <a:pt x="10" y="1123"/>
                          </a:lnTo>
                          <a:lnTo>
                            <a:pt x="7" y="1078"/>
                          </a:lnTo>
                          <a:lnTo>
                            <a:pt x="4" y="1033"/>
                          </a:lnTo>
                          <a:lnTo>
                            <a:pt x="2" y="989"/>
                          </a:lnTo>
                          <a:lnTo>
                            <a:pt x="1" y="944"/>
                          </a:lnTo>
                          <a:lnTo>
                            <a:pt x="0" y="899"/>
                          </a:lnTo>
                          <a:lnTo>
                            <a:pt x="1" y="855"/>
                          </a:lnTo>
                          <a:lnTo>
                            <a:pt x="1" y="810"/>
                          </a:lnTo>
                          <a:lnTo>
                            <a:pt x="3" y="766"/>
                          </a:lnTo>
                          <a:lnTo>
                            <a:pt x="5" y="721"/>
                          </a:lnTo>
                          <a:lnTo>
                            <a:pt x="8" y="678"/>
                          </a:lnTo>
                          <a:lnTo>
                            <a:pt x="12" y="634"/>
                          </a:lnTo>
                          <a:lnTo>
                            <a:pt x="17" y="591"/>
                          </a:lnTo>
                          <a:lnTo>
                            <a:pt x="22" y="547"/>
                          </a:lnTo>
                          <a:lnTo>
                            <a:pt x="28" y="504"/>
                          </a:lnTo>
                          <a:lnTo>
                            <a:pt x="35" y="462"/>
                          </a:lnTo>
                          <a:lnTo>
                            <a:pt x="43" y="420"/>
                          </a:lnTo>
                          <a:lnTo>
                            <a:pt x="51" y="378"/>
                          </a:lnTo>
                          <a:lnTo>
                            <a:pt x="61" y="337"/>
                          </a:lnTo>
                          <a:lnTo>
                            <a:pt x="71" y="297"/>
                          </a:lnTo>
                          <a:lnTo>
                            <a:pt x="82" y="258"/>
                          </a:lnTo>
                          <a:lnTo>
                            <a:pt x="93" y="219"/>
                          </a:lnTo>
                          <a:lnTo>
                            <a:pt x="106" y="180"/>
                          </a:lnTo>
                          <a:lnTo>
                            <a:pt x="119" y="142"/>
                          </a:lnTo>
                          <a:lnTo>
                            <a:pt x="134" y="105"/>
                          </a:lnTo>
                          <a:lnTo>
                            <a:pt x="149" y="69"/>
                          </a:lnTo>
                          <a:lnTo>
                            <a:pt x="165" y="34"/>
                          </a:lnTo>
                          <a:lnTo>
                            <a:pt x="182" y="0"/>
                          </a:lnTo>
                          <a:lnTo>
                            <a:pt x="189" y="52"/>
                          </a:lnTo>
                          <a:lnTo>
                            <a:pt x="196" y="109"/>
                          </a:lnTo>
                          <a:lnTo>
                            <a:pt x="200" y="138"/>
                          </a:lnTo>
                          <a:lnTo>
                            <a:pt x="205" y="166"/>
                          </a:lnTo>
                          <a:lnTo>
                            <a:pt x="210" y="195"/>
                          </a:lnTo>
                          <a:lnTo>
                            <a:pt x="216" y="223"/>
                          </a:lnTo>
                          <a:lnTo>
                            <a:pt x="222" y="250"/>
                          </a:lnTo>
                          <a:lnTo>
                            <a:pt x="230" y="277"/>
                          </a:lnTo>
                          <a:lnTo>
                            <a:pt x="239" y="301"/>
                          </a:lnTo>
                          <a:lnTo>
                            <a:pt x="249" y="325"/>
                          </a:lnTo>
                          <a:lnTo>
                            <a:pt x="255" y="337"/>
                          </a:lnTo>
                          <a:lnTo>
                            <a:pt x="261" y="348"/>
                          </a:lnTo>
                          <a:lnTo>
                            <a:pt x="267" y="358"/>
                          </a:lnTo>
                          <a:lnTo>
                            <a:pt x="274" y="369"/>
                          </a:lnTo>
                          <a:lnTo>
                            <a:pt x="281" y="378"/>
                          </a:lnTo>
                          <a:lnTo>
                            <a:pt x="289" y="387"/>
                          </a:lnTo>
                          <a:lnTo>
                            <a:pt x="297" y="396"/>
                          </a:lnTo>
                          <a:lnTo>
                            <a:pt x="306" y="40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8" name=""/>
                    <p:cNvSpPr/>
                    <p:nvPr/>
                  </p:nvSpPr>
                  <p:spPr>
                    <a:xfrm>
                      <a:off x="1069560" y="3866400"/>
                      <a:ext cx="3168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" h="354">
                          <a:moveTo>
                            <a:pt x="193" y="254"/>
                          </a:moveTo>
                          <a:lnTo>
                            <a:pt x="81" y="354"/>
                          </a:lnTo>
                          <a:lnTo>
                            <a:pt x="0" y="38"/>
                          </a:lnTo>
                          <a:lnTo>
                            <a:pt x="8" y="39"/>
                          </a:lnTo>
                          <a:lnTo>
                            <a:pt x="15" y="38"/>
                          </a:lnTo>
                          <a:lnTo>
                            <a:pt x="22" y="35"/>
                          </a:lnTo>
                          <a:lnTo>
                            <a:pt x="29" y="30"/>
                          </a:lnTo>
                          <a:lnTo>
                            <a:pt x="43" y="21"/>
                          </a:lnTo>
                          <a:lnTo>
                            <a:pt x="57" y="11"/>
                          </a:lnTo>
                          <a:lnTo>
                            <a:pt x="63" y="6"/>
                          </a:lnTo>
                          <a:lnTo>
                            <a:pt x="70" y="3"/>
                          </a:lnTo>
                          <a:lnTo>
                            <a:pt x="76" y="0"/>
                          </a:lnTo>
                          <a:lnTo>
                            <a:pt x="82" y="0"/>
                          </a:lnTo>
                          <a:lnTo>
                            <a:pt x="89" y="3"/>
                          </a:lnTo>
                          <a:lnTo>
                            <a:pt x="95" y="8"/>
                          </a:lnTo>
                          <a:lnTo>
                            <a:pt x="101" y="15"/>
                          </a:lnTo>
                          <a:lnTo>
                            <a:pt x="107" y="24"/>
                          </a:lnTo>
                          <a:lnTo>
                            <a:pt x="113" y="39"/>
                          </a:lnTo>
                          <a:lnTo>
                            <a:pt x="119" y="53"/>
                          </a:lnTo>
                          <a:lnTo>
                            <a:pt x="126" y="66"/>
                          </a:lnTo>
                          <a:lnTo>
                            <a:pt x="133" y="78"/>
                          </a:lnTo>
                          <a:lnTo>
                            <a:pt x="148" y="104"/>
                          </a:lnTo>
                          <a:lnTo>
                            <a:pt x="163" y="128"/>
                          </a:lnTo>
                          <a:lnTo>
                            <a:pt x="170" y="141"/>
                          </a:lnTo>
                          <a:lnTo>
                            <a:pt x="176" y="155"/>
                          </a:lnTo>
                          <a:lnTo>
                            <a:pt x="182" y="168"/>
                          </a:lnTo>
                          <a:lnTo>
                            <a:pt x="186" y="183"/>
                          </a:lnTo>
                          <a:lnTo>
                            <a:pt x="190" y="200"/>
                          </a:lnTo>
                          <a:lnTo>
                            <a:pt x="192" y="216"/>
                          </a:lnTo>
                          <a:lnTo>
                            <a:pt x="194" y="234"/>
                          </a:lnTo>
                          <a:lnTo>
                            <a:pt x="193" y="254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9" name=""/>
                    <p:cNvSpPr/>
                    <p:nvPr/>
                  </p:nvSpPr>
                  <p:spPr>
                    <a:xfrm>
                      <a:off x="1085040" y="3908520"/>
                      <a:ext cx="89280" cy="7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1" h="534">
                          <a:moveTo>
                            <a:pt x="522" y="219"/>
                          </a:moveTo>
                          <a:lnTo>
                            <a:pt x="525" y="247"/>
                          </a:lnTo>
                          <a:lnTo>
                            <a:pt x="529" y="277"/>
                          </a:lnTo>
                          <a:lnTo>
                            <a:pt x="533" y="306"/>
                          </a:lnTo>
                          <a:lnTo>
                            <a:pt x="538" y="336"/>
                          </a:lnTo>
                          <a:lnTo>
                            <a:pt x="539" y="349"/>
                          </a:lnTo>
                          <a:lnTo>
                            <a:pt x="541" y="364"/>
                          </a:lnTo>
                          <a:lnTo>
                            <a:pt x="541" y="379"/>
                          </a:lnTo>
                          <a:lnTo>
                            <a:pt x="541" y="394"/>
                          </a:lnTo>
                          <a:lnTo>
                            <a:pt x="540" y="408"/>
                          </a:lnTo>
                          <a:lnTo>
                            <a:pt x="538" y="423"/>
                          </a:lnTo>
                          <a:lnTo>
                            <a:pt x="535" y="438"/>
                          </a:lnTo>
                          <a:lnTo>
                            <a:pt x="531" y="453"/>
                          </a:lnTo>
                          <a:lnTo>
                            <a:pt x="515" y="444"/>
                          </a:lnTo>
                          <a:lnTo>
                            <a:pt x="499" y="435"/>
                          </a:lnTo>
                          <a:lnTo>
                            <a:pt x="483" y="427"/>
                          </a:lnTo>
                          <a:lnTo>
                            <a:pt x="467" y="421"/>
                          </a:lnTo>
                          <a:lnTo>
                            <a:pt x="450" y="417"/>
                          </a:lnTo>
                          <a:lnTo>
                            <a:pt x="434" y="414"/>
                          </a:lnTo>
                          <a:lnTo>
                            <a:pt x="417" y="409"/>
                          </a:lnTo>
                          <a:lnTo>
                            <a:pt x="401" y="408"/>
                          </a:lnTo>
                          <a:lnTo>
                            <a:pt x="385" y="406"/>
                          </a:lnTo>
                          <a:lnTo>
                            <a:pt x="368" y="406"/>
                          </a:lnTo>
                          <a:lnTo>
                            <a:pt x="352" y="406"/>
                          </a:lnTo>
                          <a:lnTo>
                            <a:pt x="335" y="408"/>
                          </a:lnTo>
                          <a:lnTo>
                            <a:pt x="302" y="412"/>
                          </a:lnTo>
                          <a:lnTo>
                            <a:pt x="269" y="418"/>
                          </a:lnTo>
                          <a:lnTo>
                            <a:pt x="237" y="427"/>
                          </a:lnTo>
                          <a:lnTo>
                            <a:pt x="204" y="439"/>
                          </a:lnTo>
                          <a:lnTo>
                            <a:pt x="172" y="453"/>
                          </a:lnTo>
                          <a:lnTo>
                            <a:pt x="141" y="466"/>
                          </a:lnTo>
                          <a:lnTo>
                            <a:pt x="110" y="483"/>
                          </a:lnTo>
                          <a:lnTo>
                            <a:pt x="79" y="499"/>
                          </a:lnTo>
                          <a:lnTo>
                            <a:pt x="50" y="517"/>
                          </a:lnTo>
                          <a:lnTo>
                            <a:pt x="20" y="534"/>
                          </a:lnTo>
                          <a:lnTo>
                            <a:pt x="22" y="508"/>
                          </a:lnTo>
                          <a:lnTo>
                            <a:pt x="22" y="483"/>
                          </a:lnTo>
                          <a:lnTo>
                            <a:pt x="23" y="459"/>
                          </a:lnTo>
                          <a:lnTo>
                            <a:pt x="22" y="433"/>
                          </a:lnTo>
                          <a:lnTo>
                            <a:pt x="20" y="385"/>
                          </a:lnTo>
                          <a:lnTo>
                            <a:pt x="17" y="336"/>
                          </a:lnTo>
                          <a:lnTo>
                            <a:pt x="13" y="289"/>
                          </a:lnTo>
                          <a:lnTo>
                            <a:pt x="8" y="241"/>
                          </a:lnTo>
                          <a:lnTo>
                            <a:pt x="4" y="193"/>
                          </a:lnTo>
                          <a:lnTo>
                            <a:pt x="0" y="146"/>
                          </a:lnTo>
                          <a:lnTo>
                            <a:pt x="30" y="120"/>
                          </a:lnTo>
                          <a:lnTo>
                            <a:pt x="60" y="93"/>
                          </a:lnTo>
                          <a:lnTo>
                            <a:pt x="89" y="66"/>
                          </a:lnTo>
                          <a:lnTo>
                            <a:pt x="120" y="42"/>
                          </a:lnTo>
                          <a:lnTo>
                            <a:pt x="135" y="30"/>
                          </a:lnTo>
                          <a:lnTo>
                            <a:pt x="151" y="21"/>
                          </a:lnTo>
                          <a:lnTo>
                            <a:pt x="167" y="14"/>
                          </a:lnTo>
                          <a:lnTo>
                            <a:pt x="183" y="6"/>
                          </a:lnTo>
                          <a:lnTo>
                            <a:pt x="200" y="2"/>
                          </a:lnTo>
                          <a:lnTo>
                            <a:pt x="218" y="0"/>
                          </a:lnTo>
                          <a:lnTo>
                            <a:pt x="236" y="0"/>
                          </a:lnTo>
                          <a:lnTo>
                            <a:pt x="254" y="3"/>
                          </a:lnTo>
                          <a:lnTo>
                            <a:pt x="291" y="17"/>
                          </a:lnTo>
                          <a:lnTo>
                            <a:pt x="330" y="32"/>
                          </a:lnTo>
                          <a:lnTo>
                            <a:pt x="350" y="39"/>
                          </a:lnTo>
                          <a:lnTo>
                            <a:pt x="369" y="48"/>
                          </a:lnTo>
                          <a:lnTo>
                            <a:pt x="389" y="57"/>
                          </a:lnTo>
                          <a:lnTo>
                            <a:pt x="408" y="69"/>
                          </a:lnTo>
                          <a:lnTo>
                            <a:pt x="426" y="81"/>
                          </a:lnTo>
                          <a:lnTo>
                            <a:pt x="444" y="95"/>
                          </a:lnTo>
                          <a:lnTo>
                            <a:pt x="460" y="110"/>
                          </a:lnTo>
                          <a:lnTo>
                            <a:pt x="476" y="126"/>
                          </a:lnTo>
                          <a:lnTo>
                            <a:pt x="483" y="137"/>
                          </a:lnTo>
                          <a:lnTo>
                            <a:pt x="490" y="146"/>
                          </a:lnTo>
                          <a:lnTo>
                            <a:pt x="496" y="156"/>
                          </a:lnTo>
                          <a:lnTo>
                            <a:pt x="502" y="168"/>
                          </a:lnTo>
                          <a:lnTo>
                            <a:pt x="508" y="180"/>
                          </a:lnTo>
                          <a:lnTo>
                            <a:pt x="513" y="192"/>
                          </a:lnTo>
                          <a:lnTo>
                            <a:pt x="518" y="205"/>
                          </a:lnTo>
                          <a:lnTo>
                            <a:pt x="522" y="219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0" name=""/>
                    <p:cNvSpPr/>
                    <p:nvPr/>
                  </p:nvSpPr>
                  <p:spPr>
                    <a:xfrm>
                      <a:off x="1088280" y="3979080"/>
                      <a:ext cx="108720" cy="8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0" h="544">
                          <a:moveTo>
                            <a:pt x="552" y="91"/>
                          </a:moveTo>
                          <a:lnTo>
                            <a:pt x="565" y="111"/>
                          </a:lnTo>
                          <a:lnTo>
                            <a:pt x="578" y="130"/>
                          </a:lnTo>
                          <a:lnTo>
                            <a:pt x="591" y="151"/>
                          </a:lnTo>
                          <a:lnTo>
                            <a:pt x="603" y="172"/>
                          </a:lnTo>
                          <a:lnTo>
                            <a:pt x="614" y="195"/>
                          </a:lnTo>
                          <a:lnTo>
                            <a:pt x="625" y="217"/>
                          </a:lnTo>
                          <a:lnTo>
                            <a:pt x="634" y="241"/>
                          </a:lnTo>
                          <a:lnTo>
                            <a:pt x="642" y="264"/>
                          </a:lnTo>
                          <a:lnTo>
                            <a:pt x="649" y="289"/>
                          </a:lnTo>
                          <a:lnTo>
                            <a:pt x="655" y="313"/>
                          </a:lnTo>
                          <a:lnTo>
                            <a:pt x="658" y="340"/>
                          </a:lnTo>
                          <a:lnTo>
                            <a:pt x="660" y="366"/>
                          </a:lnTo>
                          <a:lnTo>
                            <a:pt x="660" y="379"/>
                          </a:lnTo>
                          <a:lnTo>
                            <a:pt x="660" y="394"/>
                          </a:lnTo>
                          <a:lnTo>
                            <a:pt x="659" y="408"/>
                          </a:lnTo>
                          <a:lnTo>
                            <a:pt x="658" y="421"/>
                          </a:lnTo>
                          <a:lnTo>
                            <a:pt x="656" y="436"/>
                          </a:lnTo>
                          <a:lnTo>
                            <a:pt x="654" y="451"/>
                          </a:lnTo>
                          <a:lnTo>
                            <a:pt x="650" y="465"/>
                          </a:lnTo>
                          <a:lnTo>
                            <a:pt x="647" y="480"/>
                          </a:lnTo>
                          <a:lnTo>
                            <a:pt x="644" y="484"/>
                          </a:lnTo>
                          <a:lnTo>
                            <a:pt x="641" y="487"/>
                          </a:lnTo>
                          <a:lnTo>
                            <a:pt x="637" y="490"/>
                          </a:lnTo>
                          <a:lnTo>
                            <a:pt x="633" y="492"/>
                          </a:lnTo>
                          <a:lnTo>
                            <a:pt x="623" y="493"/>
                          </a:lnTo>
                          <a:lnTo>
                            <a:pt x="614" y="495"/>
                          </a:lnTo>
                          <a:lnTo>
                            <a:pt x="609" y="496"/>
                          </a:lnTo>
                          <a:lnTo>
                            <a:pt x="605" y="499"/>
                          </a:lnTo>
                          <a:lnTo>
                            <a:pt x="602" y="502"/>
                          </a:lnTo>
                          <a:lnTo>
                            <a:pt x="599" y="505"/>
                          </a:lnTo>
                          <a:lnTo>
                            <a:pt x="597" y="511"/>
                          </a:lnTo>
                          <a:lnTo>
                            <a:pt x="596" y="517"/>
                          </a:lnTo>
                          <a:lnTo>
                            <a:pt x="596" y="526"/>
                          </a:lnTo>
                          <a:lnTo>
                            <a:pt x="598" y="537"/>
                          </a:lnTo>
                          <a:lnTo>
                            <a:pt x="586" y="541"/>
                          </a:lnTo>
                          <a:lnTo>
                            <a:pt x="574" y="544"/>
                          </a:lnTo>
                          <a:lnTo>
                            <a:pt x="563" y="544"/>
                          </a:lnTo>
                          <a:lnTo>
                            <a:pt x="552" y="541"/>
                          </a:lnTo>
                          <a:lnTo>
                            <a:pt x="541" y="538"/>
                          </a:lnTo>
                          <a:lnTo>
                            <a:pt x="530" y="532"/>
                          </a:lnTo>
                          <a:lnTo>
                            <a:pt x="520" y="525"/>
                          </a:lnTo>
                          <a:lnTo>
                            <a:pt x="509" y="517"/>
                          </a:lnTo>
                          <a:lnTo>
                            <a:pt x="488" y="499"/>
                          </a:lnTo>
                          <a:lnTo>
                            <a:pt x="467" y="481"/>
                          </a:lnTo>
                          <a:lnTo>
                            <a:pt x="457" y="472"/>
                          </a:lnTo>
                          <a:lnTo>
                            <a:pt x="446" y="463"/>
                          </a:lnTo>
                          <a:lnTo>
                            <a:pt x="435" y="456"/>
                          </a:lnTo>
                          <a:lnTo>
                            <a:pt x="425" y="450"/>
                          </a:lnTo>
                          <a:lnTo>
                            <a:pt x="369" y="436"/>
                          </a:lnTo>
                          <a:lnTo>
                            <a:pt x="314" y="426"/>
                          </a:lnTo>
                          <a:lnTo>
                            <a:pt x="287" y="423"/>
                          </a:lnTo>
                          <a:lnTo>
                            <a:pt x="260" y="420"/>
                          </a:lnTo>
                          <a:lnTo>
                            <a:pt x="234" y="418"/>
                          </a:lnTo>
                          <a:lnTo>
                            <a:pt x="207" y="417"/>
                          </a:lnTo>
                          <a:lnTo>
                            <a:pt x="181" y="418"/>
                          </a:lnTo>
                          <a:lnTo>
                            <a:pt x="155" y="420"/>
                          </a:lnTo>
                          <a:lnTo>
                            <a:pt x="129" y="423"/>
                          </a:lnTo>
                          <a:lnTo>
                            <a:pt x="103" y="427"/>
                          </a:lnTo>
                          <a:lnTo>
                            <a:pt x="77" y="435"/>
                          </a:lnTo>
                          <a:lnTo>
                            <a:pt x="51" y="442"/>
                          </a:lnTo>
                          <a:lnTo>
                            <a:pt x="26" y="451"/>
                          </a:lnTo>
                          <a:lnTo>
                            <a:pt x="0" y="463"/>
                          </a:lnTo>
                          <a:lnTo>
                            <a:pt x="12" y="165"/>
                          </a:lnTo>
                          <a:lnTo>
                            <a:pt x="25" y="148"/>
                          </a:lnTo>
                          <a:lnTo>
                            <a:pt x="39" y="133"/>
                          </a:lnTo>
                          <a:lnTo>
                            <a:pt x="54" y="118"/>
                          </a:lnTo>
                          <a:lnTo>
                            <a:pt x="68" y="103"/>
                          </a:lnTo>
                          <a:lnTo>
                            <a:pt x="84" y="91"/>
                          </a:lnTo>
                          <a:lnTo>
                            <a:pt x="100" y="79"/>
                          </a:lnTo>
                          <a:lnTo>
                            <a:pt x="116" y="67"/>
                          </a:lnTo>
                          <a:lnTo>
                            <a:pt x="132" y="57"/>
                          </a:lnTo>
                          <a:lnTo>
                            <a:pt x="149" y="46"/>
                          </a:lnTo>
                          <a:lnTo>
                            <a:pt x="167" y="39"/>
                          </a:lnTo>
                          <a:lnTo>
                            <a:pt x="184" y="30"/>
                          </a:lnTo>
                          <a:lnTo>
                            <a:pt x="202" y="24"/>
                          </a:lnTo>
                          <a:lnTo>
                            <a:pt x="220" y="16"/>
                          </a:lnTo>
                          <a:lnTo>
                            <a:pt x="238" y="12"/>
                          </a:lnTo>
                          <a:lnTo>
                            <a:pt x="256" y="7"/>
                          </a:lnTo>
                          <a:lnTo>
                            <a:pt x="274" y="4"/>
                          </a:lnTo>
                          <a:lnTo>
                            <a:pt x="293" y="1"/>
                          </a:lnTo>
                          <a:lnTo>
                            <a:pt x="311" y="0"/>
                          </a:lnTo>
                          <a:lnTo>
                            <a:pt x="329" y="0"/>
                          </a:lnTo>
                          <a:lnTo>
                            <a:pt x="348" y="1"/>
                          </a:lnTo>
                          <a:lnTo>
                            <a:pt x="366" y="3"/>
                          </a:lnTo>
                          <a:lnTo>
                            <a:pt x="384" y="4"/>
                          </a:lnTo>
                          <a:lnTo>
                            <a:pt x="402" y="9"/>
                          </a:lnTo>
                          <a:lnTo>
                            <a:pt x="420" y="13"/>
                          </a:lnTo>
                          <a:lnTo>
                            <a:pt x="437" y="19"/>
                          </a:lnTo>
                          <a:lnTo>
                            <a:pt x="455" y="27"/>
                          </a:lnTo>
                          <a:lnTo>
                            <a:pt x="472" y="34"/>
                          </a:lnTo>
                          <a:lnTo>
                            <a:pt x="488" y="43"/>
                          </a:lnTo>
                          <a:lnTo>
                            <a:pt x="505" y="54"/>
                          </a:lnTo>
                          <a:lnTo>
                            <a:pt x="521" y="64"/>
                          </a:lnTo>
                          <a:lnTo>
                            <a:pt x="536" y="78"/>
                          </a:lnTo>
                          <a:lnTo>
                            <a:pt x="552" y="91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560" bIns="34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1" name=""/>
                    <p:cNvSpPr/>
                    <p:nvPr/>
                  </p:nvSpPr>
                  <p:spPr>
                    <a:xfrm>
                      <a:off x="419760" y="4239360"/>
                      <a:ext cx="430200" cy="74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06" h="5005">
                          <a:moveTo>
                            <a:pt x="559" y="261"/>
                          </a:moveTo>
                          <a:lnTo>
                            <a:pt x="586" y="330"/>
                          </a:lnTo>
                          <a:lnTo>
                            <a:pt x="611" y="402"/>
                          </a:lnTo>
                          <a:lnTo>
                            <a:pt x="635" y="476"/>
                          </a:lnTo>
                          <a:lnTo>
                            <a:pt x="658" y="549"/>
                          </a:lnTo>
                          <a:lnTo>
                            <a:pt x="680" y="621"/>
                          </a:lnTo>
                          <a:lnTo>
                            <a:pt x="701" y="690"/>
                          </a:lnTo>
                          <a:lnTo>
                            <a:pt x="721" y="755"/>
                          </a:lnTo>
                          <a:lnTo>
                            <a:pt x="741" y="815"/>
                          </a:lnTo>
                          <a:lnTo>
                            <a:pt x="749" y="809"/>
                          </a:lnTo>
                          <a:lnTo>
                            <a:pt x="756" y="803"/>
                          </a:lnTo>
                          <a:lnTo>
                            <a:pt x="763" y="795"/>
                          </a:lnTo>
                          <a:lnTo>
                            <a:pt x="771" y="786"/>
                          </a:lnTo>
                          <a:lnTo>
                            <a:pt x="785" y="768"/>
                          </a:lnTo>
                          <a:lnTo>
                            <a:pt x="799" y="747"/>
                          </a:lnTo>
                          <a:lnTo>
                            <a:pt x="828" y="702"/>
                          </a:lnTo>
                          <a:lnTo>
                            <a:pt x="857" y="653"/>
                          </a:lnTo>
                          <a:lnTo>
                            <a:pt x="872" y="629"/>
                          </a:lnTo>
                          <a:lnTo>
                            <a:pt x="887" y="605"/>
                          </a:lnTo>
                          <a:lnTo>
                            <a:pt x="903" y="582"/>
                          </a:lnTo>
                          <a:lnTo>
                            <a:pt x="919" y="563"/>
                          </a:lnTo>
                          <a:lnTo>
                            <a:pt x="936" y="543"/>
                          </a:lnTo>
                          <a:lnTo>
                            <a:pt x="954" y="528"/>
                          </a:lnTo>
                          <a:lnTo>
                            <a:pt x="963" y="522"/>
                          </a:lnTo>
                          <a:lnTo>
                            <a:pt x="973" y="516"/>
                          </a:lnTo>
                          <a:lnTo>
                            <a:pt x="982" y="512"/>
                          </a:lnTo>
                          <a:lnTo>
                            <a:pt x="992" y="507"/>
                          </a:lnTo>
                          <a:lnTo>
                            <a:pt x="1015" y="497"/>
                          </a:lnTo>
                          <a:lnTo>
                            <a:pt x="1037" y="489"/>
                          </a:lnTo>
                          <a:lnTo>
                            <a:pt x="1059" y="485"/>
                          </a:lnTo>
                          <a:lnTo>
                            <a:pt x="1079" y="482"/>
                          </a:lnTo>
                          <a:lnTo>
                            <a:pt x="1099" y="482"/>
                          </a:lnTo>
                          <a:lnTo>
                            <a:pt x="1117" y="483"/>
                          </a:lnTo>
                          <a:lnTo>
                            <a:pt x="1136" y="486"/>
                          </a:lnTo>
                          <a:lnTo>
                            <a:pt x="1153" y="492"/>
                          </a:lnTo>
                          <a:lnTo>
                            <a:pt x="1170" y="500"/>
                          </a:lnTo>
                          <a:lnTo>
                            <a:pt x="1186" y="509"/>
                          </a:lnTo>
                          <a:lnTo>
                            <a:pt x="1202" y="519"/>
                          </a:lnTo>
                          <a:lnTo>
                            <a:pt x="1218" y="530"/>
                          </a:lnTo>
                          <a:lnTo>
                            <a:pt x="1232" y="543"/>
                          </a:lnTo>
                          <a:lnTo>
                            <a:pt x="1247" y="557"/>
                          </a:lnTo>
                          <a:lnTo>
                            <a:pt x="1261" y="572"/>
                          </a:lnTo>
                          <a:lnTo>
                            <a:pt x="1275" y="588"/>
                          </a:lnTo>
                          <a:lnTo>
                            <a:pt x="1303" y="623"/>
                          </a:lnTo>
                          <a:lnTo>
                            <a:pt x="1329" y="659"/>
                          </a:lnTo>
                          <a:lnTo>
                            <a:pt x="1356" y="696"/>
                          </a:lnTo>
                          <a:lnTo>
                            <a:pt x="1383" y="734"/>
                          </a:lnTo>
                          <a:lnTo>
                            <a:pt x="1410" y="770"/>
                          </a:lnTo>
                          <a:lnTo>
                            <a:pt x="1439" y="806"/>
                          </a:lnTo>
                          <a:lnTo>
                            <a:pt x="1453" y="822"/>
                          </a:lnTo>
                          <a:lnTo>
                            <a:pt x="1468" y="837"/>
                          </a:lnTo>
                          <a:lnTo>
                            <a:pt x="1485" y="852"/>
                          </a:lnTo>
                          <a:lnTo>
                            <a:pt x="1501" y="867"/>
                          </a:lnTo>
                          <a:lnTo>
                            <a:pt x="1517" y="903"/>
                          </a:lnTo>
                          <a:lnTo>
                            <a:pt x="1533" y="940"/>
                          </a:lnTo>
                          <a:lnTo>
                            <a:pt x="1547" y="978"/>
                          </a:lnTo>
                          <a:lnTo>
                            <a:pt x="1559" y="1015"/>
                          </a:lnTo>
                          <a:lnTo>
                            <a:pt x="1583" y="1090"/>
                          </a:lnTo>
                          <a:lnTo>
                            <a:pt x="1606" y="1165"/>
                          </a:lnTo>
                          <a:lnTo>
                            <a:pt x="1628" y="1239"/>
                          </a:lnTo>
                          <a:lnTo>
                            <a:pt x="1653" y="1314"/>
                          </a:lnTo>
                          <a:lnTo>
                            <a:pt x="1666" y="1351"/>
                          </a:lnTo>
                          <a:lnTo>
                            <a:pt x="1681" y="1389"/>
                          </a:lnTo>
                          <a:lnTo>
                            <a:pt x="1697" y="1426"/>
                          </a:lnTo>
                          <a:lnTo>
                            <a:pt x="1714" y="1464"/>
                          </a:lnTo>
                          <a:lnTo>
                            <a:pt x="1728" y="1450"/>
                          </a:lnTo>
                          <a:lnTo>
                            <a:pt x="1741" y="1438"/>
                          </a:lnTo>
                          <a:lnTo>
                            <a:pt x="1755" y="1425"/>
                          </a:lnTo>
                          <a:lnTo>
                            <a:pt x="1770" y="1414"/>
                          </a:lnTo>
                          <a:lnTo>
                            <a:pt x="1799" y="1393"/>
                          </a:lnTo>
                          <a:lnTo>
                            <a:pt x="1830" y="1374"/>
                          </a:lnTo>
                          <a:lnTo>
                            <a:pt x="1862" y="1357"/>
                          </a:lnTo>
                          <a:lnTo>
                            <a:pt x="1895" y="1344"/>
                          </a:lnTo>
                          <a:lnTo>
                            <a:pt x="1911" y="1338"/>
                          </a:lnTo>
                          <a:lnTo>
                            <a:pt x="1928" y="1333"/>
                          </a:lnTo>
                          <a:lnTo>
                            <a:pt x="1945" y="1329"/>
                          </a:lnTo>
                          <a:lnTo>
                            <a:pt x="1962" y="1326"/>
                          </a:lnTo>
                          <a:lnTo>
                            <a:pt x="1979" y="1323"/>
                          </a:lnTo>
                          <a:lnTo>
                            <a:pt x="1996" y="1321"/>
                          </a:lnTo>
                          <a:lnTo>
                            <a:pt x="2013" y="1320"/>
                          </a:lnTo>
                          <a:lnTo>
                            <a:pt x="2030" y="1320"/>
                          </a:lnTo>
                          <a:lnTo>
                            <a:pt x="2046" y="1321"/>
                          </a:lnTo>
                          <a:lnTo>
                            <a:pt x="2063" y="1323"/>
                          </a:lnTo>
                          <a:lnTo>
                            <a:pt x="2080" y="1324"/>
                          </a:lnTo>
                          <a:lnTo>
                            <a:pt x="2097" y="1329"/>
                          </a:lnTo>
                          <a:lnTo>
                            <a:pt x="2113" y="1332"/>
                          </a:lnTo>
                          <a:lnTo>
                            <a:pt x="2129" y="1338"/>
                          </a:lnTo>
                          <a:lnTo>
                            <a:pt x="2145" y="1344"/>
                          </a:lnTo>
                          <a:lnTo>
                            <a:pt x="2161" y="1351"/>
                          </a:lnTo>
                          <a:lnTo>
                            <a:pt x="2177" y="1359"/>
                          </a:lnTo>
                          <a:lnTo>
                            <a:pt x="2192" y="1368"/>
                          </a:lnTo>
                          <a:lnTo>
                            <a:pt x="2207" y="1378"/>
                          </a:lnTo>
                          <a:lnTo>
                            <a:pt x="2222" y="1390"/>
                          </a:lnTo>
                          <a:lnTo>
                            <a:pt x="2240" y="1401"/>
                          </a:lnTo>
                          <a:lnTo>
                            <a:pt x="2258" y="1413"/>
                          </a:lnTo>
                          <a:lnTo>
                            <a:pt x="2275" y="1425"/>
                          </a:lnTo>
                          <a:lnTo>
                            <a:pt x="2291" y="1438"/>
                          </a:lnTo>
                          <a:lnTo>
                            <a:pt x="2307" y="1453"/>
                          </a:lnTo>
                          <a:lnTo>
                            <a:pt x="2323" y="1468"/>
                          </a:lnTo>
                          <a:lnTo>
                            <a:pt x="2338" y="1483"/>
                          </a:lnTo>
                          <a:lnTo>
                            <a:pt x="2353" y="1501"/>
                          </a:lnTo>
                          <a:lnTo>
                            <a:pt x="2367" y="1518"/>
                          </a:lnTo>
                          <a:lnTo>
                            <a:pt x="2381" y="1536"/>
                          </a:lnTo>
                          <a:lnTo>
                            <a:pt x="2394" y="1555"/>
                          </a:lnTo>
                          <a:lnTo>
                            <a:pt x="2407" y="1575"/>
                          </a:lnTo>
                          <a:lnTo>
                            <a:pt x="2432" y="1615"/>
                          </a:lnTo>
                          <a:lnTo>
                            <a:pt x="2455" y="1657"/>
                          </a:lnTo>
                          <a:lnTo>
                            <a:pt x="2477" y="1701"/>
                          </a:lnTo>
                          <a:lnTo>
                            <a:pt x="2498" y="1746"/>
                          </a:lnTo>
                          <a:lnTo>
                            <a:pt x="2518" y="1791"/>
                          </a:lnTo>
                          <a:lnTo>
                            <a:pt x="2537" y="1837"/>
                          </a:lnTo>
                          <a:lnTo>
                            <a:pt x="2573" y="1930"/>
                          </a:lnTo>
                          <a:lnTo>
                            <a:pt x="2606" y="2021"/>
                          </a:lnTo>
                          <a:lnTo>
                            <a:pt x="2597" y="2021"/>
                          </a:lnTo>
                          <a:lnTo>
                            <a:pt x="2486" y="2189"/>
                          </a:lnTo>
                          <a:lnTo>
                            <a:pt x="2376" y="2359"/>
                          </a:lnTo>
                          <a:lnTo>
                            <a:pt x="2266" y="2531"/>
                          </a:lnTo>
                          <a:lnTo>
                            <a:pt x="2157" y="2705"/>
                          </a:lnTo>
                          <a:lnTo>
                            <a:pt x="2048" y="2881"/>
                          </a:lnTo>
                          <a:lnTo>
                            <a:pt x="1941" y="3059"/>
                          </a:lnTo>
                          <a:lnTo>
                            <a:pt x="1888" y="3150"/>
                          </a:lnTo>
                          <a:lnTo>
                            <a:pt x="1835" y="3240"/>
                          </a:lnTo>
                          <a:lnTo>
                            <a:pt x="1782" y="3332"/>
                          </a:lnTo>
                          <a:lnTo>
                            <a:pt x="1730" y="3425"/>
                          </a:lnTo>
                          <a:lnTo>
                            <a:pt x="1678" y="3518"/>
                          </a:lnTo>
                          <a:lnTo>
                            <a:pt x="1627" y="3611"/>
                          </a:lnTo>
                          <a:lnTo>
                            <a:pt x="1576" y="3705"/>
                          </a:lnTo>
                          <a:lnTo>
                            <a:pt x="1525" y="3800"/>
                          </a:lnTo>
                          <a:lnTo>
                            <a:pt x="1475" y="3896"/>
                          </a:lnTo>
                          <a:lnTo>
                            <a:pt x="1425" y="3993"/>
                          </a:lnTo>
                          <a:lnTo>
                            <a:pt x="1376" y="4090"/>
                          </a:lnTo>
                          <a:lnTo>
                            <a:pt x="1328" y="4188"/>
                          </a:lnTo>
                          <a:lnTo>
                            <a:pt x="1280" y="4287"/>
                          </a:lnTo>
                          <a:lnTo>
                            <a:pt x="1233" y="4387"/>
                          </a:lnTo>
                          <a:lnTo>
                            <a:pt x="1186" y="4488"/>
                          </a:lnTo>
                          <a:lnTo>
                            <a:pt x="1140" y="4590"/>
                          </a:lnTo>
                          <a:lnTo>
                            <a:pt x="1095" y="4693"/>
                          </a:lnTo>
                          <a:lnTo>
                            <a:pt x="1050" y="4797"/>
                          </a:lnTo>
                          <a:lnTo>
                            <a:pt x="1006" y="4900"/>
                          </a:lnTo>
                          <a:lnTo>
                            <a:pt x="963" y="5005"/>
                          </a:lnTo>
                          <a:lnTo>
                            <a:pt x="940" y="4964"/>
                          </a:lnTo>
                          <a:lnTo>
                            <a:pt x="915" y="4924"/>
                          </a:lnTo>
                          <a:lnTo>
                            <a:pt x="889" y="4885"/>
                          </a:lnTo>
                          <a:lnTo>
                            <a:pt x="862" y="4849"/>
                          </a:lnTo>
                          <a:lnTo>
                            <a:pt x="848" y="4831"/>
                          </a:lnTo>
                          <a:lnTo>
                            <a:pt x="834" y="4813"/>
                          </a:lnTo>
                          <a:lnTo>
                            <a:pt x="819" y="4797"/>
                          </a:lnTo>
                          <a:lnTo>
                            <a:pt x="804" y="4780"/>
                          </a:lnTo>
                          <a:lnTo>
                            <a:pt x="789" y="4765"/>
                          </a:lnTo>
                          <a:lnTo>
                            <a:pt x="773" y="4750"/>
                          </a:lnTo>
                          <a:lnTo>
                            <a:pt x="757" y="4737"/>
                          </a:lnTo>
                          <a:lnTo>
                            <a:pt x="741" y="4725"/>
                          </a:lnTo>
                          <a:lnTo>
                            <a:pt x="725" y="4713"/>
                          </a:lnTo>
                          <a:lnTo>
                            <a:pt x="708" y="4701"/>
                          </a:lnTo>
                          <a:lnTo>
                            <a:pt x="691" y="4690"/>
                          </a:lnTo>
                          <a:lnTo>
                            <a:pt x="673" y="4681"/>
                          </a:lnTo>
                          <a:lnTo>
                            <a:pt x="656" y="4674"/>
                          </a:lnTo>
                          <a:lnTo>
                            <a:pt x="638" y="4668"/>
                          </a:lnTo>
                          <a:lnTo>
                            <a:pt x="619" y="4662"/>
                          </a:lnTo>
                          <a:lnTo>
                            <a:pt x="601" y="4657"/>
                          </a:lnTo>
                          <a:lnTo>
                            <a:pt x="582" y="4654"/>
                          </a:lnTo>
                          <a:lnTo>
                            <a:pt x="563" y="4653"/>
                          </a:lnTo>
                          <a:lnTo>
                            <a:pt x="543" y="4653"/>
                          </a:lnTo>
                          <a:lnTo>
                            <a:pt x="523" y="4653"/>
                          </a:lnTo>
                          <a:lnTo>
                            <a:pt x="503" y="4656"/>
                          </a:lnTo>
                          <a:lnTo>
                            <a:pt x="483" y="4660"/>
                          </a:lnTo>
                          <a:lnTo>
                            <a:pt x="462" y="4665"/>
                          </a:lnTo>
                          <a:lnTo>
                            <a:pt x="441" y="4672"/>
                          </a:lnTo>
                          <a:lnTo>
                            <a:pt x="424" y="4689"/>
                          </a:lnTo>
                          <a:lnTo>
                            <a:pt x="407" y="4704"/>
                          </a:lnTo>
                          <a:lnTo>
                            <a:pt x="399" y="4713"/>
                          </a:lnTo>
                          <a:lnTo>
                            <a:pt x="390" y="4722"/>
                          </a:lnTo>
                          <a:lnTo>
                            <a:pt x="382" y="4731"/>
                          </a:lnTo>
                          <a:lnTo>
                            <a:pt x="375" y="4741"/>
                          </a:lnTo>
                          <a:lnTo>
                            <a:pt x="372" y="4609"/>
                          </a:lnTo>
                          <a:lnTo>
                            <a:pt x="368" y="4477"/>
                          </a:lnTo>
                          <a:lnTo>
                            <a:pt x="364" y="4345"/>
                          </a:lnTo>
                          <a:lnTo>
                            <a:pt x="359" y="4213"/>
                          </a:lnTo>
                          <a:lnTo>
                            <a:pt x="353" y="4083"/>
                          </a:lnTo>
                          <a:lnTo>
                            <a:pt x="347" y="3952"/>
                          </a:lnTo>
                          <a:lnTo>
                            <a:pt x="340" y="3824"/>
                          </a:lnTo>
                          <a:lnTo>
                            <a:pt x="333" y="3693"/>
                          </a:lnTo>
                          <a:lnTo>
                            <a:pt x="325" y="3564"/>
                          </a:lnTo>
                          <a:lnTo>
                            <a:pt x="316" y="3435"/>
                          </a:lnTo>
                          <a:lnTo>
                            <a:pt x="307" y="3308"/>
                          </a:lnTo>
                          <a:lnTo>
                            <a:pt x="297" y="3179"/>
                          </a:lnTo>
                          <a:lnTo>
                            <a:pt x="277" y="2924"/>
                          </a:lnTo>
                          <a:lnTo>
                            <a:pt x="255" y="2671"/>
                          </a:lnTo>
                          <a:lnTo>
                            <a:pt x="231" y="2417"/>
                          </a:lnTo>
                          <a:lnTo>
                            <a:pt x="206" y="2164"/>
                          </a:lnTo>
                          <a:lnTo>
                            <a:pt x="181" y="1912"/>
                          </a:lnTo>
                          <a:lnTo>
                            <a:pt x="154" y="1659"/>
                          </a:lnTo>
                          <a:lnTo>
                            <a:pt x="128" y="1407"/>
                          </a:lnTo>
                          <a:lnTo>
                            <a:pt x="100" y="1155"/>
                          </a:lnTo>
                          <a:lnTo>
                            <a:pt x="73" y="903"/>
                          </a:lnTo>
                          <a:lnTo>
                            <a:pt x="46" y="650"/>
                          </a:lnTo>
                          <a:lnTo>
                            <a:pt x="0" y="75"/>
                          </a:lnTo>
                          <a:lnTo>
                            <a:pt x="37" y="59"/>
                          </a:lnTo>
                          <a:lnTo>
                            <a:pt x="76" y="44"/>
                          </a:lnTo>
                          <a:lnTo>
                            <a:pt x="116" y="30"/>
                          </a:lnTo>
                          <a:lnTo>
                            <a:pt x="157" y="18"/>
                          </a:lnTo>
                          <a:lnTo>
                            <a:pt x="177" y="14"/>
                          </a:lnTo>
                          <a:lnTo>
                            <a:pt x="198" y="9"/>
                          </a:lnTo>
                          <a:lnTo>
                            <a:pt x="218" y="5"/>
                          </a:lnTo>
                          <a:lnTo>
                            <a:pt x="239" y="3"/>
                          </a:lnTo>
                          <a:lnTo>
                            <a:pt x="259" y="0"/>
                          </a:lnTo>
                          <a:lnTo>
                            <a:pt x="280" y="0"/>
                          </a:lnTo>
                          <a:lnTo>
                            <a:pt x="300" y="0"/>
                          </a:lnTo>
                          <a:lnTo>
                            <a:pt x="320" y="2"/>
                          </a:lnTo>
                          <a:lnTo>
                            <a:pt x="339" y="5"/>
                          </a:lnTo>
                          <a:lnTo>
                            <a:pt x="358" y="9"/>
                          </a:lnTo>
                          <a:lnTo>
                            <a:pt x="377" y="15"/>
                          </a:lnTo>
                          <a:lnTo>
                            <a:pt x="395" y="23"/>
                          </a:lnTo>
                          <a:lnTo>
                            <a:pt x="413" y="32"/>
                          </a:lnTo>
                          <a:lnTo>
                            <a:pt x="430" y="42"/>
                          </a:lnTo>
                          <a:lnTo>
                            <a:pt x="447" y="54"/>
                          </a:lnTo>
                          <a:lnTo>
                            <a:pt x="463" y="69"/>
                          </a:lnTo>
                          <a:lnTo>
                            <a:pt x="478" y="84"/>
                          </a:lnTo>
                          <a:lnTo>
                            <a:pt x="492" y="104"/>
                          </a:lnTo>
                          <a:lnTo>
                            <a:pt x="506" y="123"/>
                          </a:lnTo>
                          <a:lnTo>
                            <a:pt x="518" y="146"/>
                          </a:lnTo>
                          <a:lnTo>
                            <a:pt x="530" y="171"/>
                          </a:lnTo>
                          <a:lnTo>
                            <a:pt x="541" y="198"/>
                          </a:lnTo>
                          <a:lnTo>
                            <a:pt x="551" y="228"/>
                          </a:lnTo>
                          <a:lnTo>
                            <a:pt x="559" y="261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2" name=""/>
                    <p:cNvSpPr/>
                    <p:nvPr/>
                  </p:nvSpPr>
                  <p:spPr>
                    <a:xfrm>
                      <a:off x="540360" y="5358600"/>
                      <a:ext cx="792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18">
                          <a:moveTo>
                            <a:pt x="49" y="3"/>
                          </a:moveTo>
                          <a:lnTo>
                            <a:pt x="47" y="7"/>
                          </a:lnTo>
                          <a:lnTo>
                            <a:pt x="45" y="10"/>
                          </a:lnTo>
                          <a:lnTo>
                            <a:pt x="42" y="13"/>
                          </a:lnTo>
                          <a:lnTo>
                            <a:pt x="40" y="15"/>
                          </a:lnTo>
                          <a:lnTo>
                            <a:pt x="34" y="16"/>
                          </a:lnTo>
                          <a:lnTo>
                            <a:pt x="27" y="18"/>
                          </a:lnTo>
                          <a:lnTo>
                            <a:pt x="20" y="18"/>
                          </a:lnTo>
                          <a:lnTo>
                            <a:pt x="13" y="16"/>
                          </a:lnTo>
                          <a:lnTo>
                            <a:pt x="6" y="18"/>
                          </a:lnTo>
                          <a:lnTo>
                            <a:pt x="0" y="18"/>
                          </a:lnTo>
                          <a:lnTo>
                            <a:pt x="12" y="10"/>
                          </a:lnTo>
                          <a:lnTo>
                            <a:pt x="24" y="3"/>
                          </a:lnTo>
                          <a:lnTo>
                            <a:pt x="30" y="1"/>
                          </a:lnTo>
                          <a:lnTo>
                            <a:pt x="36" y="0"/>
                          </a:lnTo>
                          <a:lnTo>
                            <a:pt x="42" y="0"/>
                          </a:lnTo>
                          <a:lnTo>
                            <a:pt x="49" y="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3" name=""/>
                    <p:cNvSpPr/>
                    <p:nvPr/>
                  </p:nvSpPr>
                  <p:spPr>
                    <a:xfrm>
                      <a:off x="720000" y="5433480"/>
                      <a:ext cx="140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" h="33">
                          <a:moveTo>
                            <a:pt x="87" y="0"/>
                          </a:moveTo>
                          <a:lnTo>
                            <a:pt x="66" y="13"/>
                          </a:lnTo>
                          <a:lnTo>
                            <a:pt x="46" y="25"/>
                          </a:lnTo>
                          <a:lnTo>
                            <a:pt x="35" y="30"/>
                          </a:lnTo>
                          <a:lnTo>
                            <a:pt x="24" y="31"/>
                          </a:lnTo>
                          <a:lnTo>
                            <a:pt x="13" y="33"/>
                          </a:lnTo>
                          <a:lnTo>
                            <a:pt x="0" y="31"/>
                          </a:lnTo>
                          <a:lnTo>
                            <a:pt x="23" y="19"/>
                          </a:lnTo>
                          <a:lnTo>
                            <a:pt x="44" y="9"/>
                          </a:lnTo>
                          <a:lnTo>
                            <a:pt x="54" y="4"/>
                          </a:lnTo>
                          <a:lnTo>
                            <a:pt x="64" y="1"/>
                          </a:lnTo>
                          <a:lnTo>
                            <a:pt x="75" y="0"/>
                          </a:lnTo>
                          <a:lnTo>
                            <a:pt x="87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4" name=""/>
                    <p:cNvSpPr/>
                    <p:nvPr/>
                  </p:nvSpPr>
                  <p:spPr>
                    <a:xfrm>
                      <a:off x="707040" y="5439240"/>
                      <a:ext cx="972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35">
                          <a:moveTo>
                            <a:pt x="61" y="3"/>
                          </a:moveTo>
                          <a:lnTo>
                            <a:pt x="47" y="17"/>
                          </a:lnTo>
                          <a:lnTo>
                            <a:pt x="33" y="27"/>
                          </a:lnTo>
                          <a:lnTo>
                            <a:pt x="26" y="30"/>
                          </a:lnTo>
                          <a:lnTo>
                            <a:pt x="18" y="33"/>
                          </a:lnTo>
                          <a:lnTo>
                            <a:pt x="10" y="35"/>
                          </a:lnTo>
                          <a:lnTo>
                            <a:pt x="0" y="33"/>
                          </a:lnTo>
                          <a:lnTo>
                            <a:pt x="8" y="30"/>
                          </a:lnTo>
                          <a:lnTo>
                            <a:pt x="14" y="24"/>
                          </a:lnTo>
                          <a:lnTo>
                            <a:pt x="21" y="17"/>
                          </a:lnTo>
                          <a:lnTo>
                            <a:pt x="27" y="11"/>
                          </a:lnTo>
                          <a:lnTo>
                            <a:pt x="34" y="5"/>
                          </a:lnTo>
                          <a:lnTo>
                            <a:pt x="42" y="2"/>
                          </a:lnTo>
                          <a:lnTo>
                            <a:pt x="46" y="0"/>
                          </a:lnTo>
                          <a:lnTo>
                            <a:pt x="51" y="0"/>
                          </a:lnTo>
                          <a:lnTo>
                            <a:pt x="56" y="2"/>
                          </a:lnTo>
                          <a:lnTo>
                            <a:pt x="61" y="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08:38:35Z</dcterms:created>
  <dc:creator>sa</dc:creator>
  <dc:description/>
  <dc:language>en-US</dc:language>
  <cp:lastModifiedBy>  </cp:lastModifiedBy>
  <dcterms:modified xsi:type="dcterms:W3CDTF">2008-03-23T12:51:19Z</dcterms:modified>
  <cp:revision>2</cp:revision>
  <dc:subject/>
  <dc:title>الشريحة 1</dc:title>
</cp:coreProperties>
</file>